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32516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cccc"/>
                </a:solidFill>
                <a:latin typeface="Times New Roman"/>
              </a:rPr>
              <a:t>Design Patterns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ilder Pattern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code example shows how to construct “Building” objects using Build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re are several different Building representations provided by ConcreteBuild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uilding properti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uilding Material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Function statemen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umber of room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nters (simple objects) living in those room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uctural Pattern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reat, we've built our objec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w, how are these objects supposed to be grouped together and structured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osite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pose objects into a tree structur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ets users interact with a grouping of objects the same way they would with a single object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reat for part-whole hierarchi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reat if you do not want to have to deal with the difference between an object and a composition (different members, iteration, etc.)</a:t>
            </a: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osite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ponent (Graphic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terface for objects in composi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rovides default behavior for interface common to all class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clares interface for accessing and managing child compon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ea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presents leaf objects in composition; has no childre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fines behavior for primitive objects in the composi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osite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posit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fines behavior for components having childre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tores child compon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mplements child related operations in Component interfac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li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nipulates objects in composition through the Component interfac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osite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icture goes her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440" y="1800360"/>
            <a:ext cx="986796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osite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fines a clear class hierarchy of primitive objects and composite objec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akes the client simple, since both primitives and composites are treated the sam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akes very easy to add new kinds of componen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akes design overly general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kes it hard to constrain components of composite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osite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mplementation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ximizing the Component interfac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ince user interacts with everything through Component interface, this must have all needed functionality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his makes available to Leaf objects functions that don't make sense being there (child operations for the composite.)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akes it difficult to expand functionality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llow Nesting Composites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hild Ordering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osite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added a Composite class “Street” implementing the Structure interfa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You can see that the Street objects are being interacted with the same as the Leaf objec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istRenters() on a Street lists all the renters in all the buildings on that stree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ehavioral Pattern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ith Composite, objects will become more and more complex as functionality is add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lus, functionality might not be consistent as different components are add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's better to sidestep the problem by just separating the functionality from the objec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at is a Design Pattern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igning software is har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t sure would be great if there were some way to know if the way I'm designing this program is going to work out or not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ign Patterns help software design by providing tested solutions for common problem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rouped into Creational, Structural, and Behaviora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isitors are objects that represent operations on elements in an object structur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is lets us implement new functionality without having to change the class of the elemen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reat for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n object structure containing many different classes of objects, with differing interface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Allows operations that change behavior depending on object in question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hen many distinct and unrelated operations need to be performed on an object structur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hen the classes of the object structure rarely chang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isitor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clares a “visit” operation for each class of ConcreteElement in the object structur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creteVisit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mplements each operation declared by Visitor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le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fines an “accept” operation that takes a visitor as an argumen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creteEle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mplements the “accept” opera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bjectStructur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n enumerate elem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y  provide interface for visitor to visit elem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y be Composite or collection of object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icture goes her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09600"/>
            <a:ext cx="758196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sequenc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kes adding new operations easy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athers related operations and seperates unrelated one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dding new ConcreteElement classes is hard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Each new ConcreteElement is a new operation in every single ConcreteVisitor class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kes traversing hierarchies easy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isitor pattern is often implemented using Double Dispat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First, the user calls an accept operation on the object, using the visitor as the parameter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hen, the object's accept operation will call the visitor's visit operation, passing itself as the parameter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While Visitors must have visit operations for every class, objects only have to have one accept operation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ssures that correct visit operation will be performed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isito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n abstract visitor class has been added, along with changing “Renter” to implement the visitor interface. A prospective renter can now search an entire street for a place to stay (It chooses the first open space it finds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uilder and Street both implement accept(), allowing a visitor to visit that structur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ign Patterns can save you a lot of time and effort by giving standard names and definitions to common design problem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ut by the same token, don't rush into picking patterns without thinking about the overall program and how each pattern would relate to another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his would have saved me sooooo many hours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ilde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A Creational Pattern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Separates the construction of an object from its representation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The Construction Process can be used for many different representations of an object.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ilde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reat for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en the algorithm for creating an object must be independent of the representation (Set build order, sufficiently complicated, etc.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en the construction process has to be able to create different representations of the object that's being construct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ilde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uild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pecifies the interface for creating parts of the objec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creteBuild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fines a specific representation of the objec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nstructs parts of the object by implementing the Builder Interfac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Keeps track of and provides a way to access the newly created objec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ilde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rector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nstructs the object using the Builder Interface, through a ConcreteBuilder implementation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akes sure that parts are built in the correct order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presents the object under construction.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oncreteBuilder builds the internal represenation, defines the process by which it is assembled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cludes classes of internal parts, and interfaces for assembling parts into final product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ilde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98298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ilde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sequenc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llows for variation in the product's internal representa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solates code for construction and representa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ives finer control over the construction proces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ilder Patter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mplementation issu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nstruction interface: must be general enough to allow construction of all kinds of representations of the produc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