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A2B78-FFBA-44FB-8ED3-99443F7F4C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50483-529C-4CA5-B682-4AAFD49462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A5AB6-BACA-4843-B013-C556BFDDBD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9B928-3C15-47E8-91B4-5552BEF647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BA92C-0F7A-46F7-B5B3-885BBC231B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5F2F9-4B07-4153-9F9B-19504B4BB4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2846E-89DF-470F-8C4F-679A5013F6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F31AC-E0E7-4F91-97D5-41495ED093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CF1C2-7488-43A0-94E1-6A9522DE23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E78B9-4346-42E1-BEF8-57412DAA86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1D237-8F28-4F99-8B54-CA0CB2D77D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ED2F5-7EB6-400B-AE44-316C355BC1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01CD9-A854-45A1-87C1-DF4A283616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8DB46-9EC2-4C1A-8F50-DC7F54C386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7AABB-5C5D-4297-BD59-9544113BF6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EE812-8C40-429B-BC2E-8FE1BEA45C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C8ACB-0C99-4880-9324-5B4AEFE0A4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5F702-F165-4B17-A8C1-2CC61D9FAF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A0640-4753-4507-A17D-4178810BDE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3C61B-7090-49FC-92F4-BC94E67953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B5D03-0AC5-4872-AACC-A785003188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A38DD-430E-48B1-926C-CF6A4344C0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CD417-5F00-47D7-B721-41DA78D488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633C4-6272-4029-969A-E5496F1911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CCD2-FCF7-4D84-A8F7-9E1DA41166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8AB3-E683-4488-9A91-58C834CAF8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7: Security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143000"/>
            <a:ext cx="7772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ncient Ciphers to Modern Cryptosystem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ecret-key Cryptography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ublic-key Cryptography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ryptanalysi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Key Agreement Protocol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Key Managemen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 Cryptography Extension (JCE)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8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assword-Based Encoding with JCE|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8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corator Design Patter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igital Signatur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10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ublic-key Infrastructure, Certificates and Certification Authoriti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10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 Keystores and keytool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1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 Policy Fil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1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igital Signatures for Java Cod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3   Secret-key Cryptography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7" name=""/>
          <p:cNvSpPr/>
          <p:nvPr/>
        </p:nvSpPr>
        <p:spPr>
          <a:xfrm>
            <a:off x="1456920" y="4572000"/>
            <a:ext cx="568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7.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ing a session key with a key distribution cen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07_02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4700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4   Public-key Cryptograph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ublic-key Crypt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ublic-ke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distributed)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rivate-key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kept secre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blic-key decrypts private-key and vice-ver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utationally infeasible to deduce private-key from public-k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receiver’s public-key and sender’s private key are both used, both parties are authenti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S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ost common public-key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by most Fortune 1000 and e-commerce busin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etty Good Privacy (PG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crypts e-mails and files using “web of trust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4   Public-key Cryptography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2" name=""/>
          <p:cNvSpPr/>
          <p:nvPr/>
        </p:nvSpPr>
        <p:spPr>
          <a:xfrm>
            <a:off x="845640" y="4800600"/>
            <a:ext cx="67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7.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rypting and decrypting a message using public-key cryptograph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07_03" descr=""/>
          <p:cNvPicPr/>
          <p:nvPr/>
        </p:nvPicPr>
        <p:blipFill>
          <a:blip r:embed="rId1"/>
          <a:stretch/>
        </p:blipFill>
        <p:spPr>
          <a:xfrm>
            <a:off x="2195640" y="2247840"/>
            <a:ext cx="47512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4   Public-key Cryptography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5" name=""/>
          <p:cNvSpPr/>
          <p:nvPr/>
        </p:nvSpPr>
        <p:spPr>
          <a:xfrm>
            <a:off x="1989000" y="4876920"/>
            <a:ext cx="466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7.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 with a public-key algorith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07_04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46627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5   Cryptanalysi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if keys are secret, it is possible to compromise the security of a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ryptanaly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rying to decrypt ciphertext without knowledge of the decryption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yptanalytic attac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acks can be reduced if proper key management structures are in place and keys use expiration d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6   Key Agreement Protocol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-key algorithms not efficient for large amounts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rge computing power requirements slow commun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ey Agreement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wo parties exchange keys over unsecure medi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igital envelop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symmetric secret key encrypted using public-key encry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6   Key  Agreement Protocol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2" name=""/>
          <p:cNvSpPr/>
          <p:nvPr/>
        </p:nvSpPr>
        <p:spPr>
          <a:xfrm>
            <a:off x="2900880" y="4952880"/>
            <a:ext cx="33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7.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 digital envelop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07_05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47008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7   Key Manage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recy of private keys crucial to system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oor key manageme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mishandling of private ke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ey genera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process by which keys cre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be as random as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rute-force crack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decrypting message using every possible decryption k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8   Java Cryptography Extension (JCE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Cryptography Extension (J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Java applications with various security faci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r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ret-key encry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-key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ie-Hell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ustomizable levels of encryption throug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encryption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ous key siz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chitecture is provider-ba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ers add algorithms by adding providers’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8.1   Password-Based Encoding with J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EncipherDecip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monstrates Password-Based Encryption (PB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randomize sets of generated keys, u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 of bytes call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7 Security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"/>
          <p:cNvSpPr/>
          <p:nvPr/>
        </p:nvSpPr>
        <p:spPr>
          <a:xfrm>
            <a:off x="634680" y="1219320"/>
            <a:ext cx="8037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1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uthentic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13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Kerbero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13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ingle Sign-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13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 Authentication and Authorization Service (JAAS)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1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ecure Sockets Layer (SSL)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14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 Secure Socket Extension (JSSE)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1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 Language Security and Secure Cod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1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ernet and World Wide Web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EnciphyerDeciph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pplication for demonstrating Password-Based Encryptio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28-3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3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28-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cipherDeciph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s a frame that allows users to specif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password and a file name. Contents writt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 an Editor Pane can be encrypted and writt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 a file, or encrypted contents can be read fro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file and decryp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security.j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security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security.spec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sun.crypto.provider.SunJ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crypt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crypto.spec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cipherDeciph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alt for password-based encryption-decryption algorith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y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salt =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y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xf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y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x3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y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x0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y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x2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y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xb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y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xc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y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xe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y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x7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teration 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terationCoun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6324480" y="5486400"/>
            <a:ext cx="1600200" cy="337320"/>
            <a:chOff x="6324480" y="5486400"/>
            <a:chExt cx="1600200" cy="337320"/>
          </a:xfrm>
        </p:grpSpPr>
        <p:sp>
          <p:nvSpPr>
            <p:cNvPr id="133" name=""/>
            <p:cNvSpPr/>
            <p:nvPr/>
          </p:nvSpPr>
          <p:spPr>
            <a:xfrm flipH="1">
              <a:off x="6324480" y="563868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81680" y="5486400"/>
              <a:ext cx="1143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a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038120" y="6248520"/>
            <a:ext cx="2972160" cy="337320"/>
            <a:chOff x="4038120" y="6248520"/>
            <a:chExt cx="2972160" cy="337320"/>
          </a:xfrm>
        </p:grpSpPr>
        <p:sp>
          <p:nvSpPr>
            <p:cNvPr id="136" name=""/>
            <p:cNvSpPr/>
            <p:nvPr/>
          </p:nvSpPr>
          <p:spPr>
            <a:xfrm flipH="1">
              <a:off x="4038120" y="6400800"/>
              <a:ext cx="73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00600" y="6248520"/>
              <a:ext cx="22096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teration cou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038120" y="5790960"/>
            <a:ext cx="4343760" cy="657000"/>
            <a:chOff x="4038120" y="5790960"/>
            <a:chExt cx="4343760" cy="657000"/>
          </a:xfrm>
        </p:grpSpPr>
        <p:sp>
          <p:nvSpPr>
            <p:cNvPr id="139" name=""/>
            <p:cNvSpPr/>
            <p:nvPr/>
          </p:nvSpPr>
          <p:spPr>
            <a:xfrm flipH="1" flipV="1">
              <a:off x="5409720" y="5790960"/>
              <a:ext cx="1119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53080" y="5867280"/>
              <a:ext cx="1828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andomize sets of generated ke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4038120" y="6019920"/>
              <a:ext cx="2514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EnciphyerDeciph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pplication for demonstrating Password-Based Encryptio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4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r input componen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passwordTextFie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fileNameTextFie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EditorPane fileContentsEditorPa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ram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cipherDeciph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security provi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curity.addProvid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nJC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main fr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iz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Tit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cryption and Decryption Examp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struct top 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top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pPanel.setBorder( BorderFactory.createLineBord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lor.black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pPanel.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rderLayout()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anel where password and file name labels will be plac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labels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abelsPanel.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idLayo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Label passwordLab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asswor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Label fileNameLab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File Nam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abelsPanel.add( fileNameLab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abelsPanel.add( passwordLab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pPanel.add( labels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W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800240" y="1828800"/>
            <a:ext cx="2972160" cy="1310760"/>
            <a:chOff x="4800240" y="1828800"/>
            <a:chExt cx="2972160" cy="1310760"/>
          </a:xfrm>
        </p:grpSpPr>
        <p:sp>
          <p:nvSpPr>
            <p:cNvPr id="145" name=""/>
            <p:cNvSpPr/>
            <p:nvPr/>
          </p:nvSpPr>
          <p:spPr>
            <a:xfrm flipH="1">
              <a:off x="4800240" y="1981080"/>
              <a:ext cx="73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62720" y="1828800"/>
              <a:ext cx="22096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security provider implementation. Provides system with various algorithm implementa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EnciphyerDeciph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pplication for demonstrating Password-Based Encryp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anel where password and file name textfields plac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textFields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xtFieldsPanel.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idLayo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sswordTextFiel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sswordFiel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NameTextFiel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xtFieldsPanel.add( fileNameTextFie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xtFieldsPanel.add( passwordTextFie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pPanel.add( textFields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struct middle 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middle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iddlePanel.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rderLayou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struct and place title label for contents 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Label fileContentsLab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ContentsLabel.setTex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File Content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iddlePanel.add( fileContentsLab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R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and place editor pane within scroll 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ContentsEditorPa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Editor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iddlePanel.add(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fileContentsEditorPane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struct bottom 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bottom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encrypt 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encryptButt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crypt and Write to Fi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cryptButton.addAction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EnciphyerDeciph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pplication for demonstrating Password-Based Encryp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encryptAndWriteToFil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ttomPanel.add( encrypt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decrypt 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decryptButt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ad from File and Decryp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cryptButton.addAction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eadFromFileAndDecryp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ttomPanel.add( decrypt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main frame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contentPane = ( JPanel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rderLayou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top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R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middle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bottom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OU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EnciphyerDeciph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pplication for demonstrating Password-Based Encryption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47-14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51-15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5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58-15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6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65-16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btain contents from editor pane and encryp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cryptAndWriteToFil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btain user in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originalText = fileContentsEditorPane.get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password = passwordTextField.get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fileName = fileNameTextField.get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ecret key and get cipher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pher ciph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password based encryption key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BEKeySpec keySpec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BEKeySpec( password.toCharArray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btain instance for secret key fa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cretKeyFactory keyFactor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cretKeyFactory.getInstan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BEWithMD5AndD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nerate secret key for encry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cretKey secretKey = keyFactory.generateSecret( keySpec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pecifies parameters used with password based encry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BEParameterSpec parameterSpec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BEParameterSpec( salt, iterationCou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btain cipher instance 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ipher = Cipher.getInstan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BEWithMD5AndD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nitialize cipher in encrypt m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ipher.init( Ciphe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NCRYPT_MO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ecretKey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arameterSpec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5562720" y="2971800"/>
            <a:ext cx="3429000" cy="1310760"/>
            <a:chOff x="5562720" y="2971800"/>
            <a:chExt cx="3429000" cy="1310760"/>
          </a:xfrm>
        </p:grpSpPr>
        <p:sp>
          <p:nvSpPr>
            <p:cNvPr id="154" name=""/>
            <p:cNvSpPr/>
            <p:nvPr/>
          </p:nvSpPr>
          <p:spPr>
            <a:xfrm flipH="1">
              <a:off x="5562720" y="3124080"/>
              <a:ext cx="73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324480" y="2971800"/>
              <a:ext cx="26672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BEKeySpe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stance acts as wrapper for array of characters that represents password for encrypting and decrypting array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y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095520" y="4114440"/>
            <a:ext cx="2896200" cy="1510200"/>
            <a:chOff x="6095520" y="4114440"/>
            <a:chExt cx="2896200" cy="1510200"/>
          </a:xfrm>
        </p:grpSpPr>
        <p:sp>
          <p:nvSpPr>
            <p:cNvPr id="157" name=""/>
            <p:cNvSpPr/>
            <p:nvPr/>
          </p:nvSpPr>
          <p:spPr>
            <a:xfrm flipH="1" flipV="1">
              <a:off x="6095520" y="4114440"/>
              <a:ext cx="16765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77120" y="480060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reference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cretKeyFacto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generates secret ke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257800" y="3809880"/>
            <a:ext cx="2743200" cy="685800"/>
            <a:chOff x="5257800" y="3809880"/>
            <a:chExt cx="2743200" cy="685800"/>
          </a:xfrm>
        </p:grpSpPr>
        <p:sp>
          <p:nvSpPr>
            <p:cNvPr id="160" name=""/>
            <p:cNvSpPr/>
            <p:nvPr/>
          </p:nvSpPr>
          <p:spPr>
            <a:xfrm flipH="1">
              <a:off x="5257800" y="3962520"/>
              <a:ext cx="5097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791320" y="380988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nerate secret key from passwor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y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r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638320" y="5029200"/>
            <a:ext cx="3353400" cy="580680"/>
            <a:chOff x="5638320" y="5029200"/>
            <a:chExt cx="3353400" cy="580680"/>
          </a:xfrm>
        </p:grpSpPr>
        <p:sp>
          <p:nvSpPr>
            <p:cNvPr id="163" name=""/>
            <p:cNvSpPr/>
            <p:nvPr/>
          </p:nvSpPr>
          <p:spPr>
            <a:xfrm flipH="1">
              <a:off x="5638320" y="51814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19920" y="502920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ains randomization information (salt, iteration coun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019920" y="5715000"/>
            <a:ext cx="2971800" cy="824040"/>
            <a:chOff x="6019920" y="5715000"/>
            <a:chExt cx="2971800" cy="824040"/>
          </a:xfrm>
        </p:grpSpPr>
        <p:sp>
          <p:nvSpPr>
            <p:cNvPr id="166" name=""/>
            <p:cNvSpPr/>
            <p:nvPr/>
          </p:nvSpPr>
          <p:spPr>
            <a:xfrm flipH="1">
              <a:off x="6019920" y="5867280"/>
              <a:ext cx="73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81680" y="5715000"/>
              <a:ext cx="22100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BEWithMD5AndD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lgorith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562720" y="6248520"/>
            <a:ext cx="3429000" cy="337320"/>
            <a:chOff x="5562720" y="6248520"/>
            <a:chExt cx="3429000" cy="337320"/>
          </a:xfrm>
        </p:grpSpPr>
        <p:sp>
          <p:nvSpPr>
            <p:cNvPr id="169" name=""/>
            <p:cNvSpPr/>
            <p:nvPr/>
          </p:nvSpPr>
          <p:spPr>
            <a:xfrm flipH="1">
              <a:off x="5562720" y="6400800"/>
              <a:ext cx="73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4480" y="624852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ializ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ph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s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EnciphyerDeciph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pplication for demonstrating Password-Based Encryptio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70-17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76-17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82-18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88-19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94-19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NoSuchAlgorithm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oSuchAlgorithm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InvalidKeySpec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validKeySpec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InvalidKey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validKey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NoSuchPadding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oSuchPadding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InvalidAlgorithmParameter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validAlgorithmParameter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rray of by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y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outputArray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343040" y="1143000"/>
            <a:ext cx="3810240" cy="565920"/>
            <a:chOff x="4343040" y="1143000"/>
            <a:chExt cx="3810240" cy="565920"/>
          </a:xfrm>
        </p:grpSpPr>
        <p:sp>
          <p:nvSpPr>
            <p:cNvPr id="174" name=""/>
            <p:cNvSpPr/>
            <p:nvPr/>
          </p:nvSpPr>
          <p:spPr>
            <a:xfrm flipH="1" flipV="1">
              <a:off x="4343040" y="1143000"/>
              <a:ext cx="15764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43600" y="1371600"/>
              <a:ext cx="22096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lgorithm does not ex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105160" y="2286000"/>
            <a:ext cx="3353040" cy="1615680"/>
            <a:chOff x="5105160" y="2286000"/>
            <a:chExt cx="3353040" cy="1615680"/>
          </a:xfrm>
        </p:grpSpPr>
        <p:sp>
          <p:nvSpPr>
            <p:cNvPr id="177" name=""/>
            <p:cNvSpPr/>
            <p:nvPr/>
          </p:nvSpPr>
          <p:spPr>
            <a:xfrm flipH="1" flipV="1">
              <a:off x="5105160" y="2286000"/>
              <a:ext cx="11192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48520" y="2590920"/>
              <a:ext cx="22096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alid key specification is sent to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nerateSecr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cretKeyFact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028840" y="3124080"/>
            <a:ext cx="2972160" cy="824040"/>
            <a:chOff x="5028840" y="3124080"/>
            <a:chExt cx="2972160" cy="824040"/>
          </a:xfrm>
        </p:grpSpPr>
        <p:sp>
          <p:nvSpPr>
            <p:cNvPr id="180" name=""/>
            <p:cNvSpPr/>
            <p:nvPr/>
          </p:nvSpPr>
          <p:spPr>
            <a:xfrm flipH="1">
              <a:off x="5028840" y="3276720"/>
              <a:ext cx="73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91320" y="3124080"/>
              <a:ext cx="2209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alid key handed to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i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p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028840" y="4267080"/>
            <a:ext cx="3810240" cy="337320"/>
            <a:chOff x="5028840" y="4267080"/>
            <a:chExt cx="3810240" cy="337320"/>
          </a:xfrm>
        </p:grpSpPr>
        <p:sp>
          <p:nvSpPr>
            <p:cNvPr id="183" name=""/>
            <p:cNvSpPr/>
            <p:nvPr/>
          </p:nvSpPr>
          <p:spPr>
            <a:xfrm flipH="1">
              <a:off x="5028840" y="4419720"/>
              <a:ext cx="73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91320" y="4267080"/>
              <a:ext cx="30477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alid padding scheme specif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5028840" y="5410080"/>
            <a:ext cx="3962880" cy="580680"/>
            <a:chOff x="5028840" y="5410080"/>
            <a:chExt cx="3962880" cy="580680"/>
          </a:xfrm>
        </p:grpSpPr>
        <p:sp>
          <p:nvSpPr>
            <p:cNvPr id="186" name=""/>
            <p:cNvSpPr/>
            <p:nvPr/>
          </p:nvSpPr>
          <p:spPr>
            <a:xfrm flipH="1">
              <a:off x="5028840" y="5562720"/>
              <a:ext cx="73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91320" y="541008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alid algorithm parameters handed to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i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p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EnciphyerDeciph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pplication for demonstrating Password-Based Encryption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0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1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227-22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2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2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232-2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Array = originalText.getByte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O-8859-1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UnsupportedEncoding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nsupportedEncoding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FileOutputStre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 fil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( file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OutputStream fileOutputStream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leOutputStream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OutputStream( fi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CipherOutputStre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pherOutputStream ou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pherOutputStream( fileOutputStream, ciph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rite contents to file and clo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write( outputArra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flush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590920" y="685440"/>
            <a:ext cx="3657600" cy="1647720"/>
            <a:chOff x="2590920" y="685440"/>
            <a:chExt cx="3657600" cy="1647720"/>
          </a:xfrm>
        </p:grpSpPr>
        <p:sp>
          <p:nvSpPr>
            <p:cNvPr id="191" name=""/>
            <p:cNvSpPr/>
            <p:nvPr/>
          </p:nvSpPr>
          <p:spPr>
            <a:xfrm flipV="1">
              <a:off x="4038480" y="68544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590920" y="1752480"/>
              <a:ext cx="3657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vert user input into array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y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conforming to ISO-8859-1 standa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419720" y="3276720"/>
            <a:ext cx="4572000" cy="641880"/>
            <a:chOff x="4419720" y="3276720"/>
            <a:chExt cx="4572000" cy="641880"/>
          </a:xfrm>
        </p:grpSpPr>
        <p:sp>
          <p:nvSpPr>
            <p:cNvPr id="194" name=""/>
            <p:cNvSpPr/>
            <p:nvPr/>
          </p:nvSpPr>
          <p:spPr>
            <a:xfrm flipH="1" flipV="1">
              <a:off x="4419720" y="3276720"/>
              <a:ext cx="814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57800" y="3581280"/>
              <a:ext cx="3733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tantiate output stream to selected 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876920" y="4419720"/>
            <a:ext cx="3581280" cy="580680"/>
            <a:chOff x="4876920" y="4419720"/>
            <a:chExt cx="3581280" cy="580680"/>
          </a:xfrm>
        </p:grpSpPr>
        <p:sp>
          <p:nvSpPr>
            <p:cNvPr id="197" name=""/>
            <p:cNvSpPr/>
            <p:nvPr/>
          </p:nvSpPr>
          <p:spPr>
            <a:xfrm flipH="1">
              <a:off x="4876920" y="4724280"/>
              <a:ext cx="8380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15000" y="441972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tantiate decora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hipherOutputStre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572000" y="5257440"/>
            <a:ext cx="3581280" cy="871200"/>
            <a:chOff x="4572000" y="5257440"/>
            <a:chExt cx="3581280" cy="871200"/>
          </a:xfrm>
        </p:grpSpPr>
        <p:sp>
          <p:nvSpPr>
            <p:cNvPr id="200" name=""/>
            <p:cNvSpPr/>
            <p:nvPr/>
          </p:nvSpPr>
          <p:spPr>
            <a:xfrm flipH="1" flipV="1">
              <a:off x="4572000" y="5257440"/>
              <a:ext cx="9669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62720" y="5791320"/>
              <a:ext cx="25905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orates output stre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4191120" y="5257440"/>
            <a:ext cx="3047760" cy="947160"/>
            <a:chOff x="4191120" y="5257440"/>
            <a:chExt cx="3047760" cy="947160"/>
          </a:xfrm>
        </p:grpSpPr>
        <p:sp>
          <p:nvSpPr>
            <p:cNvPr id="203" name=""/>
            <p:cNvSpPr/>
            <p:nvPr/>
          </p:nvSpPr>
          <p:spPr>
            <a:xfrm flipV="1">
              <a:off x="5562720" y="52574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91120" y="5867280"/>
              <a:ext cx="30477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ph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to encod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y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047760" y="6171840"/>
            <a:ext cx="2819520" cy="337680"/>
            <a:chOff x="3047760" y="6171840"/>
            <a:chExt cx="2819520" cy="337680"/>
          </a:xfrm>
        </p:grpSpPr>
        <p:sp>
          <p:nvSpPr>
            <p:cNvPr id="206" name=""/>
            <p:cNvSpPr/>
            <p:nvPr/>
          </p:nvSpPr>
          <p:spPr>
            <a:xfrm flipH="1" flipV="1">
              <a:off x="3047760" y="6171840"/>
              <a:ext cx="5094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81280" y="617220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rite to file and clo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EnciphyerDeciph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pplication for demonstrating Password-Based Encryp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IO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tain bytes read from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ector fileByt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ec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ad contents from file to show user encrypted 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leInputStream i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InputStream( fi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ad bytes from stre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y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ten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.available()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tents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y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in.rea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fileBytes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yte( contents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EnciphyerDeciph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pplication for demonstrating Password-Based Encryp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byte array from contents in Vector fileBy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y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encrypted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y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fileBytes.size()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fileBytes.size()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ncryptedText[ i ]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( Byte ) fileBytes.elementAt( i ) ).byteValu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pdate Editor Pane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ContentsEditorPane.setTex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( encryptedText )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btain contents from file and decryp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adFromFileAndDecryp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sed to rebuild byte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ector fileByt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ec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btain user in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password = passwordTextField.get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fileName = fileNameTextField.get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ecret ke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pher ciph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password based encryption key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BEKeySpec keySpec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BEKeySpec( password.toCharArray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btain instance for secret key fa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cretKeyFactory keyFactor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cretKeyFactory.getInstan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BEWithMD5AndD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EnciphyerDeciph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pplication for demonstrating Password-Based Encryption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31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313-1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nerate secret key for encry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cretKey secretKey = keyFactory.generateSecret( keySpec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pecifies parameters used with password based encry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BEParameterSpec parameterSpec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BEParameterSpec( salt, iterationCount 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btain cipher instance referenc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ipher = Cipher.getInstan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BEWithMD5AndD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nitialize cipher in decrypt m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ipher.init( Ciphe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ECRYPT_MO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ecretKey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arameterSpec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NoSuchAlgorithm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oSuchAlgorithm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InvalidKeySpec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validKeySpec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InvalidKey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validKey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5257440" y="2057040"/>
            <a:ext cx="3277080" cy="794880"/>
            <a:chOff x="5257440" y="2057040"/>
            <a:chExt cx="3277080" cy="794880"/>
          </a:xfrm>
        </p:grpSpPr>
        <p:sp>
          <p:nvSpPr>
            <p:cNvPr id="215" name=""/>
            <p:cNvSpPr/>
            <p:nvPr/>
          </p:nvSpPr>
          <p:spPr>
            <a:xfrm flipH="1" flipV="1">
              <a:off x="5257440" y="2057040"/>
              <a:ext cx="585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867280" y="251460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instanc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p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648320" y="2590560"/>
            <a:ext cx="3809880" cy="870840"/>
            <a:chOff x="4648320" y="2590560"/>
            <a:chExt cx="3809880" cy="870840"/>
          </a:xfrm>
        </p:grpSpPr>
        <p:sp>
          <p:nvSpPr>
            <p:cNvPr id="218" name=""/>
            <p:cNvSpPr/>
            <p:nvPr/>
          </p:nvSpPr>
          <p:spPr>
            <a:xfrm flipH="1" flipV="1">
              <a:off x="4648320" y="2590560"/>
              <a:ext cx="1195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67280" y="3124080"/>
              <a:ext cx="2590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ialize to decrypt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for Internet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umers buying products, trading stocks and banking onl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dit-card, social security and confidential business information exchang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urity attac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theft and hacker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reless transmissions easier to inter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e transaction fundament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rivac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no third par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ntegrit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information unalte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proving ident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on-repudia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legal proof of message receiv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EnciphyerDeciph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pplication for demonstrating Password-Based Encryptio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351-35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354-35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36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NoSuchPadding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oSuchPadding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InvalidAlgorithmParameter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validAlgorithmParameter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ad and decrypt contents from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le fil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( file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leInputStream fileInputStream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InputStream( fi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ipherInputStream i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pherInputStream( fileInputStream, ciph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ad bytes from stre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y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tents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y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in.rea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ntents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fileBytes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yte( contents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tents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y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in.rea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571640" y="3200400"/>
            <a:ext cx="3277080" cy="337320"/>
            <a:chOff x="4571640" y="3200400"/>
            <a:chExt cx="3277080" cy="337320"/>
          </a:xfrm>
        </p:grpSpPr>
        <p:sp>
          <p:nvSpPr>
            <p:cNvPr id="223" name=""/>
            <p:cNvSpPr/>
            <p:nvPr/>
          </p:nvSpPr>
          <p:spPr>
            <a:xfrm flipH="1">
              <a:off x="4571640" y="3352680"/>
              <a:ext cx="10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38680" y="3200400"/>
              <a:ext cx="22100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input stre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181120" y="4191120"/>
            <a:ext cx="3734280" cy="565920"/>
            <a:chOff x="5181120" y="4191120"/>
            <a:chExt cx="3734280" cy="565920"/>
          </a:xfrm>
        </p:grpSpPr>
        <p:sp>
          <p:nvSpPr>
            <p:cNvPr id="226" name=""/>
            <p:cNvSpPr/>
            <p:nvPr/>
          </p:nvSpPr>
          <p:spPr>
            <a:xfrm flipH="1" flipV="1">
              <a:off x="5181120" y="4191120"/>
              <a:ext cx="6620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67280" y="4419720"/>
              <a:ext cx="3048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input stream deco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105520" y="5181480"/>
            <a:ext cx="3124080" cy="337320"/>
            <a:chOff x="5105520" y="5181480"/>
            <a:chExt cx="3124080" cy="337320"/>
          </a:xfrm>
        </p:grpSpPr>
        <p:sp>
          <p:nvSpPr>
            <p:cNvPr id="229" name=""/>
            <p:cNvSpPr/>
            <p:nvPr/>
          </p:nvSpPr>
          <p:spPr>
            <a:xfrm flipH="1">
              <a:off x="5105520" y="5334120"/>
              <a:ext cx="73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67280" y="5181480"/>
              <a:ext cx="2362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ad decrypted cont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EnciphyerDeciph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pplication for demonstrating Password-Based Encryp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4952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byte array from contents in Vector fileBy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y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decrypted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y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fileBytes.size()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fileBytes.size()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cryptedText[ i ]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( Byte )fileBytes.elementAt( i ) ).byteValu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pdate Editor Pane conten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ContentsEditorPane.setTex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( decryptedText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frame and displ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[] args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cipherDecipher crypto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cipherDeciph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ypto.vali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ypto.setVisib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8.1   Password-Based Encoding with JC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34" name="BeforeEncryption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235" name="AfterEncryption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686600" y="5575320"/>
            <a:ext cx="607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7.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cipherDecip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fore and after encrypting cont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8.2   Decorator Design Patter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cypherDeciph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s D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corator design patter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orator design pattern is “chaining” two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need create additional classes to extend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ipherOutput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corat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Output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ipherOutputStrea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akes reference 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put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decorate any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put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ipherInput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corat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Input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ipherInputStrea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akes reference 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put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decorate any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put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9   Digital Signat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gital signatu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vide authentication and integrity in public-key crypt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ash fun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calculation assign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ash valu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mess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ce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llis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two messages with same hash value is statistically insignific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gital signature, hash function and encrypted message sent to recei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essage integr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recalculated message hash value matches that sent in signature, verifies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imestamp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solves non-repudiation probl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imestamping agen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o only sees encrypted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igital Signature Algorith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standard for digital signat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152280" y="75960"/>
            <a:ext cx="9524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vantGarde"/>
              </a:rPr>
              <a:t>7.10   Public-key Infrastructure, Certificates and Certification Authorities</a:t>
            </a:r>
            <a:endParaRPr b="1" lang="en-US" sz="2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ublic-key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grates public-key cryptography with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igital certificate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ertification authorities (CA’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certificate: identifies user, issued by certification authority (such as VeriSig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certificates stored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ertificate reposi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ertificate authority hierarch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oot certification author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nternet Policy Registration Authority (IPRA), signs certificates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licy creation authorit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o set policies for obtaining digital certific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icy creation authorities sign for CA’s who sign for individuals and organiz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ings use public-key cryptograph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vantGarde"/>
              </a:rPr>
              <a:t>7.10   Public-key Infrastructure, Certificates and Certification Authorities (cont.)</a:t>
            </a:r>
            <a:endParaRPr b="1" lang="en-US" sz="2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ing keys necessary for maintain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gital certificates have expiration d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celed and revoked certificates placed o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ertificate revocation list (CR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uring authent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eck certificate with CRL (inconvenien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Online Certificate Status Protoco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(OCSP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lidates certificates in real-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KI and digital certificate transactions are more secure than phone line, mail or even credit-card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vantGarde"/>
              </a:rPr>
              <a:t>7.10   Public-key Infrastructure, Certificates and Certification Authorities (cont.)</a:t>
            </a:r>
            <a:endParaRPr b="1" lang="en-US" sz="26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46" name="07_06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5610240" cy="48117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77960" y="5943600"/>
            <a:ext cx="699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7.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rtion of the VeriSign digital certificate. (Courtesy of VeriSign, In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0.1   Java Keystores and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keytool</a:t>
            </a:r>
            <a:endParaRPr b="1" lang="en-US" sz="30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provides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keytoo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t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ing k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ing k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eyst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ository for storing public and private k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ying stored keys requires use of pass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keystore located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ome/user/.key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and line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-genke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oduces private and public key pai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-expor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xport a certific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-impor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mport certificate from trusted sour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-li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list all contents of keyst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-alia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&lt;alias_na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dentify public and private pair for later u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0.1   Java Keystores and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keytoo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keytoo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-generated certificates identified throug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commonName (CN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organizationUnit (OU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organizationName (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ocalityName (L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stateName (S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country (C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   Introduc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twork stays in operation continuously and are becoming wirel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main security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va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g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-repudi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0.1   Java Keystores and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keytoo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enerate a public and private key 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eytool –genkey –alias MyCertific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tain digital certificate from certificate authori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eytool –certreq –alias MyCertificate –file myRequest.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mit certificate file to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llow authority’s steps on Web si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enerate certificate other users may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eytool –export –alias MyCertificate –file myCertificate.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1   Java Policy Fi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s for Java security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ava Sand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tected environment in which Java applications ru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must grant application resource per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Sandbox security model comprised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ytecode verifi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loa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urity mana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ranted on basis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ecurity poli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rised of varying levels of access to system resour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examp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ing to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ing to identified port on host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1   Java Policy Fil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licy files declare permissions explicit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mission not declared explicitly, permission not gra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-wide policy loaded automatically by J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poli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ocated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b/secur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ld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ular applications can specify custom security policy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compromise original system-wide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1   Java Policy Fil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1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uthorizedFileWrit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writes to file using a security manager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26-3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uthorizedFileWrit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uthorizedFileWriter writes to file using a security manag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ermissions must be given via policy fil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security.policyfi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275a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275a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uthorizedFileWrit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aunch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[] arg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reate and set security 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setSecurityManag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urityManag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eck command-line arguments for proper u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.length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rr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age: java com.deitel.advjhtp1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curity.policyfile.AuthorizedFileWriter file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bod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write fileBody to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file =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fileBody =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write fileBody to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FileWri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FileWriter fileWri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Writer( fi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fileWriter.write( fileBod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562360" y="2133720"/>
            <a:ext cx="3200760" cy="824040"/>
            <a:chOff x="5562360" y="2133720"/>
            <a:chExt cx="3200760" cy="824040"/>
          </a:xfrm>
        </p:grpSpPr>
        <p:sp>
          <p:nvSpPr>
            <p:cNvPr id="264" name=""/>
            <p:cNvSpPr/>
            <p:nvPr/>
          </p:nvSpPr>
          <p:spPr>
            <a:xfrm flipH="1">
              <a:off x="5562360" y="2286000"/>
              <a:ext cx="966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53080" y="2133720"/>
              <a:ext cx="22100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curityManag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tects against unauthorized ac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638680" y="5105520"/>
            <a:ext cx="2514600" cy="609480"/>
            <a:chOff x="5638680" y="5105520"/>
            <a:chExt cx="2514600" cy="609480"/>
          </a:xfrm>
        </p:grpSpPr>
        <p:sp>
          <p:nvSpPr>
            <p:cNvPr id="267" name=""/>
            <p:cNvSpPr/>
            <p:nvPr/>
          </p:nvSpPr>
          <p:spPr>
            <a:xfrm flipH="1">
              <a:off x="5638680" y="5257800"/>
              <a:ext cx="8906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553080" y="5105520"/>
              <a:ext cx="1600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rite to 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1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uthorizedFileWrit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writes to file using a security manager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2666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fileWriter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handle IO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io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o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1   Java Policy Fi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uthorized.poli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grants write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ilePermissio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for file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authorized.tx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mmandlin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 –Djava.security.policy=authorized.policy com.deitel.advjhtp1.security.policyfile.AuthorizedFileWriter “authorized.txt” “Policy file authorized.policy granted file write permission for file authorized.txt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command line specifies different file, permission is deni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11 Policy file grants permission to write to fil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uthorized.txt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600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uthorized.polic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licy file that grants file write permiss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nly to file "authorized.txt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gra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ermis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FilePermi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uthorized.t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rit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219320" y="1600200"/>
            <a:ext cx="1981080" cy="1738440"/>
            <a:chOff x="1219320" y="1600200"/>
            <a:chExt cx="1981080" cy="1738440"/>
          </a:xfrm>
        </p:grpSpPr>
        <p:sp>
          <p:nvSpPr>
            <p:cNvPr id="276" name=""/>
            <p:cNvSpPr/>
            <p:nvPr/>
          </p:nvSpPr>
          <p:spPr>
            <a:xfrm flipV="1">
              <a:off x="2209680" y="1600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19320" y="2514600"/>
              <a:ext cx="19810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uthorize write permission to fi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uthorized.t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1   Java Policy Fil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base_authorized.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ra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:/myclass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debase writ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lePermiss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 fi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base_authorized.tx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andl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java –Djava.security.policy=codebase_authorized.policy com.deitel.advjhtp1.security.policyfile.AuthorizedFileWriter “codebase_authorized.txt” “Policy file codebase_authorized.policy granted file write permission for file codebase_authorized.txt to codebase c:/myclasses.”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code executing from different codebase, permission deni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12 Policy file grants permission to the specified codebas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523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debase_authorized.polic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licy file that grants write permission to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le "codebase_authorized.txt" for codebase "C:/myclasses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gra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deb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:/C:/myclass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ermis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FilePermi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debase_authorized.t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rit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990720" y="1600200"/>
            <a:ext cx="2209680" cy="1281240"/>
            <a:chOff x="990720" y="1600200"/>
            <a:chExt cx="2209680" cy="1281240"/>
          </a:xfrm>
        </p:grpSpPr>
        <p:sp>
          <p:nvSpPr>
            <p:cNvPr id="283" name=""/>
            <p:cNvSpPr/>
            <p:nvPr/>
          </p:nvSpPr>
          <p:spPr>
            <a:xfrm flipV="1">
              <a:off x="2057400" y="1600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90720" y="2057400"/>
              <a:ext cx="2209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uthorizes write permission to codeba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:/mycla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2   Ancient Ciphers to Modern Cryptosyste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rypt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ipher/cryptosyste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algorithm) encrypts mess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lainte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unencrypt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ipherte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encrypt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used by sender and receiver to encrypt and decrypt mess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cient Cip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ubstitution cipher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given letter replaced by different let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ransposition cipher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letter ordering shif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estricted algorithm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security relies on keeping encryption algorithm secr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2   Digital Signatures for Java Cod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ng applets with special per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sign applets with digital signat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s users to verify applet originated from truste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TreePanel displays tree of user’s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va sandbox does not allow default file access from appl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sign appl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 Plug-in prompts user of digital sign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grants per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store applet in JAR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2   Digital Signatures for Java Cod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13 Applet that browses a user’s local filesystem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leTreeApp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JApplet that browses files on the local file syste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a FileTreePanel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security.signatur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security.signatures.FileTreePan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TreeApp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pple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JApp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rootDirectory from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rootDirectory = JOptionPane.showInput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ease enter a directory nam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FileTreePanel for browsing user's hard driv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TreePanel 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TreePanel( rootDirector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etContentPane().add( pan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2   Digital Signatures for Java Cod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Plug-in supports RSA-signed app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nerate RSA keypai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eytool –genkey –keyalg RSA –alias MyCertific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ort digital signature to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eytool –export –alias MyCertificate –file myCertificate.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 to keyst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eytool –import –alias MyTrustedCertificate –keystore cacerts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–file myCertificate.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acert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is complete path to keysto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gn applet’s JAR file with digital signa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arsigner FileTreeApplet.jar MyCertific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 Java Plug-in instead of Web browser’s JV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tmlconverter signedApplet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15 HTML file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leTreeApplet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505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TreeApplet Signed Apple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1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 Brows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apple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m.deitel.advjhtp1.security.signatures.FileTreeApplet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rchiv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TreeApplet.ja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idt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40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heigh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0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apple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600200" y="2743200"/>
            <a:ext cx="2057400" cy="1251720"/>
            <a:chOff x="1600200" y="2743200"/>
            <a:chExt cx="2057400" cy="1251720"/>
          </a:xfrm>
        </p:grpSpPr>
        <p:sp>
          <p:nvSpPr>
            <p:cNvPr id="297" name=""/>
            <p:cNvSpPr/>
            <p:nvPr/>
          </p:nvSpPr>
          <p:spPr>
            <a:xfrm flipV="1">
              <a:off x="2590920" y="2743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00200" y="365760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gned applet jar 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2   Digital Signatures for Java Cod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300" name="signedappletIE_a" descr=""/>
          <p:cNvPicPr/>
          <p:nvPr/>
        </p:nvPicPr>
        <p:blipFill>
          <a:blip r:embed="rId1"/>
          <a:stretch/>
        </p:blipFill>
        <p:spPr>
          <a:xfrm>
            <a:off x="1967040" y="2209680"/>
            <a:ext cx="5209920" cy="24386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531440" y="4876920"/>
            <a:ext cx="598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7.1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Plug-in security warning when loading a signed appl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2   Digital Signatures for Java Cod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303" name="signedappletIE_b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2810160" cy="1209600"/>
          </a:xfrm>
          <a:prstGeom prst="rect">
            <a:avLst/>
          </a:prstGeom>
          <a:ln w="0">
            <a:noFill/>
          </a:ln>
        </p:spPr>
      </p:pic>
      <p:pic>
        <p:nvPicPr>
          <p:cNvPr id="304" name="signedappletIE_c" descr=""/>
          <p:cNvPicPr/>
          <p:nvPr/>
        </p:nvPicPr>
        <p:blipFill>
          <a:blip r:embed="rId2"/>
          <a:stretch/>
        </p:blipFill>
        <p:spPr>
          <a:xfrm>
            <a:off x="4114800" y="1447920"/>
            <a:ext cx="4457880" cy="371448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1990440" y="5423040"/>
            <a:ext cx="625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7.1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eTreeAppl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rows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\jdk1.3.1\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recto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3   Authentic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authentication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trict access to certain aspects of a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 users to connect to a netwo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gulate resources available to users on netwo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ava Authentication and Authorization Service (JA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d on plug-in framewo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erbero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ingle sign-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mplement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3.1   Kerbero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s secret key crypt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beros 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enticates client’s id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ar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icket Granting Serv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T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ilar to key distribution ce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enticates client’s rights to access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ubmits user name and password to Kerberos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 returns Ticket-Granting Ticket (TG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ed with client’s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decrypts TG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request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rvice tick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y sending decrypted TGT to T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 authorizes client with renewable service ti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3.2   Single Sign-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 sign-on allows users to log into different servers once with single pass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typ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station login scri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n script sends password to each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es password on workst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entication server scri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enticate users with central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e authenticated, non-reusable token identifies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2   Ancient Ciphers to Modern Cryptosystem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ital crypto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gorithms based o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its/block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inary 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computer dat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ey lengt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stronger encryption for longer ke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 government used to limit key length of exported crypto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ulations now less strin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3.3   Java Authentication and Authorization Service (JAAS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rotects applications from unauthorized user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ased on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luggable Authentication Module (PAM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rts multiple authentication 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fferent authentication systems may be comb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an control access b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verns access to resources on user poli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ociates user to group, bases policies on group privile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ole-based security polic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ilar to group poli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like group policies, no default policies ex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s obtain privileges to needed applications based on intended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18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uthenticateNT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uses th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TLoginModule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to authenticate a user and invoke 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rivilegedAction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20-2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3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uthenticateN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uthenticates a user using the NTLoginModule and perform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WriteFileAction PrivilegedAc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security.jaa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curity.auth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curity.auth.login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uthenticateNT {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aunch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[] arg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uthenticate user and perform Privileged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LoginContext for AuthenticateNT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ginContext loginContex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ginContex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uthenticat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erform log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ginContext.logi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login executes without exceptions, log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was 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gin Successfu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Subject now associated with Login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ubject subject = loginContext.getSubjec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isplay Subject detai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subjec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257800" y="3733920"/>
            <a:ext cx="3505320" cy="1067400"/>
            <a:chOff x="5257800" y="3733920"/>
            <a:chExt cx="3505320" cy="1067400"/>
          </a:xfrm>
        </p:grpSpPr>
        <p:sp>
          <p:nvSpPr>
            <p:cNvPr id="317" name=""/>
            <p:cNvSpPr/>
            <p:nvPr/>
          </p:nvSpPr>
          <p:spPr>
            <a:xfrm flipH="1">
              <a:off x="5257800" y="388620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05720" y="3733920"/>
              <a:ext cx="20574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gin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nam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uthenticat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3581280" y="4419720"/>
            <a:ext cx="3048120" cy="337320"/>
            <a:chOff x="3581280" y="4419720"/>
            <a:chExt cx="3048120" cy="337320"/>
          </a:xfrm>
        </p:grpSpPr>
        <p:sp>
          <p:nvSpPr>
            <p:cNvPr id="320" name=""/>
            <p:cNvSpPr/>
            <p:nvPr/>
          </p:nvSpPr>
          <p:spPr>
            <a:xfrm flipH="1">
              <a:off x="3581280" y="4572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114800" y="4419720"/>
              <a:ext cx="2514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egin authentication 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562720" y="5257800"/>
            <a:ext cx="3429000" cy="1067400"/>
            <a:chOff x="5562720" y="5257800"/>
            <a:chExt cx="3429000" cy="1067400"/>
          </a:xfrm>
        </p:grpSpPr>
        <p:sp>
          <p:nvSpPr>
            <p:cNvPr id="323" name=""/>
            <p:cNvSpPr/>
            <p:nvPr/>
          </p:nvSpPr>
          <p:spPr>
            <a:xfrm flipH="1">
              <a:off x="5562720" y="58672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7120" y="5257800"/>
              <a:ext cx="25146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ubje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represents particular user or entity (this particular case, user currently logged i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343400" y="4800600"/>
            <a:ext cx="2590920" cy="1797480"/>
            <a:chOff x="4343400" y="4800600"/>
            <a:chExt cx="2590920" cy="1797480"/>
          </a:xfrm>
        </p:grpSpPr>
        <p:sp>
          <p:nvSpPr>
            <p:cNvPr id="326" name=""/>
            <p:cNvSpPr/>
            <p:nvPr/>
          </p:nvSpPr>
          <p:spPr>
            <a:xfrm flipH="1">
              <a:off x="4343400" y="64008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76920" y="4800600"/>
              <a:ext cx="205740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int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ubje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information includ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ncip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(represent different role or identities a user assumes during particular log sessio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18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uthenticateNT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uses th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TLoginModule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to authenticate a user and invoke 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rivilegedAction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3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4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352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erform the WriteFileAction as current Su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ubject.doAs( subject, new WriteFileAction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g out current Su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ginContext.logout(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loggin 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LoginException login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gin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0" name=""/>
          <p:cNvSpPr/>
          <p:nvPr/>
        </p:nvSpPr>
        <p:spPr>
          <a:xfrm>
            <a:off x="152280" y="3657600"/>
            <a:ext cx="6782040" cy="301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gin Success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ubjec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cipal: NTUserPrincipa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erName: san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cipal: NTDomainPrincipa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mainName DEI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cipal: NTSidUserPrincipa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TSid:  S-1-5-21-1275210071-1682526488-1343024091-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cipal: NTSidPrimaryGroupPrincipa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TSid:  S-1-5-21-1275210071-1682526488-1343024091-5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cipal: NTSidGroupPrincipa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TSid:  S-1-5-21-1275210071-1682526488-1343024091-5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4495680" y="762120"/>
            <a:ext cx="4267440" cy="1342440"/>
            <a:chOff x="4495680" y="762120"/>
            <a:chExt cx="4267440" cy="1342440"/>
          </a:xfrm>
        </p:grpSpPr>
        <p:sp>
          <p:nvSpPr>
            <p:cNvPr id="332" name=""/>
            <p:cNvSpPr/>
            <p:nvPr/>
          </p:nvSpPr>
          <p:spPr>
            <a:xfrm flipH="1" flipV="1">
              <a:off x="4495680" y="762120"/>
              <a:ext cx="6098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105520" y="1523880"/>
              <a:ext cx="3657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ke request using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ubje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iledged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s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3581280" y="914400"/>
            <a:ext cx="2590920" cy="580680"/>
            <a:chOff x="3581280" y="914400"/>
            <a:chExt cx="2590920" cy="580680"/>
          </a:xfrm>
        </p:grpSpPr>
        <p:sp>
          <p:nvSpPr>
            <p:cNvPr id="335" name=""/>
            <p:cNvSpPr/>
            <p:nvPr/>
          </p:nvSpPr>
          <p:spPr>
            <a:xfrm flipH="1">
              <a:off x="3581280" y="10666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114800" y="914400"/>
              <a:ext cx="2057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g out from curr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gin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18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uthenticateNT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uses th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TLoginModule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to authenticate a user and invoke 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rivilegedAction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4495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cipal: NTSidGroupPrincipal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TSid:  S-1-1-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cipal: NTSidGroupPrincipal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TSid:  S-1-5-32-54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cipal: NTSidGroupPrincipal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TSid:  S-1-5-32-54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cipal: NTSidGroupPrincipal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TSid:  S-1-5-5-0-3964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cipal: NTSidGroupPrincipal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TSid:  S-1-2-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cipal: NTSidGroupPrincipal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TSid:  S-1-5-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cipal: NTSidGroupPrincipal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TSid:  S-1-5-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redential: NTNumericCredential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: 89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1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riteFileAction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s 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rivilegedAction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or writing a simple text fil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riteFileAction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riteFileAction is a PrivilegedAction implementation tha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imply writes a file to the local file syste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security.jaa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security.PrivilegedA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riteFileActio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vilegedActio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erform the Privileged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 run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ttempt to write a message to the specified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le fil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: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vilegedFile.t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leWriter fileWri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Writer( fi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write message to File and close FileWri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leWriter.wri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lcome to JAAS!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leWriter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riting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io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o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ru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5486400" y="2133720"/>
            <a:ext cx="2743200" cy="809280"/>
            <a:chOff x="5486400" y="2133720"/>
            <a:chExt cx="2743200" cy="809280"/>
          </a:xfrm>
        </p:grpSpPr>
        <p:sp>
          <p:nvSpPr>
            <p:cNvPr id="342" name=""/>
            <p:cNvSpPr/>
            <p:nvPr/>
          </p:nvSpPr>
          <p:spPr>
            <a:xfrm flipH="1" flipV="1">
              <a:off x="5486400" y="213372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943600" y="236232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s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ileged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20 Configuration file for authentication using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TLoginModul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219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as.config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figures JAAS to use NTLoginModu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or authentic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uthenticate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m.sun.security.auth.module.NTLoginModul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quir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bug=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3124080" y="1218960"/>
            <a:ext cx="1905120" cy="1738440"/>
            <a:chOff x="3124080" y="1218960"/>
            <a:chExt cx="1905120" cy="1738440"/>
          </a:xfrm>
        </p:grpSpPr>
        <p:sp>
          <p:nvSpPr>
            <p:cNvPr id="347" name=""/>
            <p:cNvSpPr/>
            <p:nvPr/>
          </p:nvSpPr>
          <p:spPr>
            <a:xfrm flipV="1">
              <a:off x="4038480" y="1218960"/>
              <a:ext cx="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24080" y="2133360"/>
              <a:ext cx="1905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bject must authenticate wit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TLoginMo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21 JAAS policy file for granting permissions to 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rincipal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nd codebase.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6-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9-1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2209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as.polic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licy file defining the permissions for the named Princip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gra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deB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:D:/JavaProjects/advjhtp1/src/-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cipal com.sun.security.auth.NTUserPrincipal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nt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ermis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FilePermission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:/privilegedFile.t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rit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ermis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FilePermission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:/privilegedFile.t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a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3505320" y="1066320"/>
            <a:ext cx="1676160" cy="2014200"/>
            <a:chOff x="3505320" y="1066320"/>
            <a:chExt cx="1676160" cy="2014200"/>
          </a:xfrm>
        </p:grpSpPr>
        <p:sp>
          <p:nvSpPr>
            <p:cNvPr id="352" name=""/>
            <p:cNvSpPr/>
            <p:nvPr/>
          </p:nvSpPr>
          <p:spPr>
            <a:xfrm flipV="1">
              <a:off x="4419720" y="106632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05320" y="2743200"/>
              <a:ext cx="16761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rget su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04920" y="1523880"/>
            <a:ext cx="3047760" cy="2104920"/>
            <a:chOff x="304920" y="1523880"/>
            <a:chExt cx="3047760" cy="2104920"/>
          </a:xfrm>
        </p:grpSpPr>
        <p:sp>
          <p:nvSpPr>
            <p:cNvPr id="355" name=""/>
            <p:cNvSpPr/>
            <p:nvPr/>
          </p:nvSpPr>
          <p:spPr>
            <a:xfrm flipV="1">
              <a:off x="1523880" y="1523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04920" y="3048120"/>
              <a:ext cx="3047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rant write permission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:/privilegedFile.t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380880" y="2057400"/>
            <a:ext cx="2819520" cy="2714040"/>
            <a:chOff x="380880" y="2057400"/>
            <a:chExt cx="2819520" cy="2714040"/>
          </a:xfrm>
        </p:grpSpPr>
        <p:sp>
          <p:nvSpPr>
            <p:cNvPr id="358" name=""/>
            <p:cNvSpPr/>
            <p:nvPr/>
          </p:nvSpPr>
          <p:spPr>
            <a:xfrm flipV="1">
              <a:off x="1447920" y="205740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0880" y="4190760"/>
              <a:ext cx="2819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rant read permission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:/privilegedFile.t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914400" y="761760"/>
            <a:ext cx="2057400" cy="3552840"/>
            <a:chOff x="914400" y="761760"/>
            <a:chExt cx="2057400" cy="3552840"/>
          </a:xfrm>
        </p:grpSpPr>
        <p:sp>
          <p:nvSpPr>
            <p:cNvPr id="361" name=""/>
            <p:cNvSpPr/>
            <p:nvPr/>
          </p:nvSpPr>
          <p:spPr>
            <a:xfrm flipV="1">
              <a:off x="1752480" y="76176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914400" y="3733920"/>
              <a:ext cx="2057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debase to which apply permissio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22 Policy file for JAAS applicatio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5-1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.polic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licy file that grants AllPermi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 JAAS modules and specific permis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 the D:\Projects\Java codebas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gra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deb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:/D:/jdk1.3.1/jre/lib/ext/jaas.ja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ermis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security.AllPermis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gra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deb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:/D:/JavaProjects/advjhtp1/src/-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ermis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curity.auth.AuthPermiss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reateLoginCon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ermis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curity.auth.AuthPermission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oA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ermis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FilePermission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:/privilegedFile.t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rit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ermis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FilePermission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:/privilegedFile.t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a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4571640" y="1294920"/>
            <a:ext cx="4420080" cy="657360"/>
            <a:chOff x="4571640" y="1294920"/>
            <a:chExt cx="4420080" cy="657360"/>
          </a:xfrm>
        </p:grpSpPr>
        <p:sp>
          <p:nvSpPr>
            <p:cNvPr id="366" name=""/>
            <p:cNvSpPr/>
            <p:nvPr/>
          </p:nvSpPr>
          <p:spPr>
            <a:xfrm flipH="1" flipV="1">
              <a:off x="4571640" y="1294920"/>
              <a:ext cx="10666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638680" y="1371600"/>
              <a:ext cx="3353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ables JAAS to perform authentication on behalf of 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943600" y="2362320"/>
            <a:ext cx="2895480" cy="1067400"/>
            <a:chOff x="5943600" y="2362320"/>
            <a:chExt cx="2895480" cy="1067400"/>
          </a:xfrm>
        </p:grpSpPr>
        <p:sp>
          <p:nvSpPr>
            <p:cNvPr id="369" name=""/>
            <p:cNvSpPr/>
            <p:nvPr/>
          </p:nvSpPr>
          <p:spPr>
            <a:xfrm flipH="1">
              <a:off x="5943600" y="25146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77120" y="2362320"/>
              <a:ext cx="23619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rants permission to execu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ileged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using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2590920" y="3048120"/>
            <a:ext cx="4343400" cy="1799640"/>
            <a:chOff x="2590920" y="3048120"/>
            <a:chExt cx="4343400" cy="1799640"/>
          </a:xfrm>
        </p:grpSpPr>
        <p:sp>
          <p:nvSpPr>
            <p:cNvPr id="372" name=""/>
            <p:cNvSpPr/>
            <p:nvPr/>
          </p:nvSpPr>
          <p:spPr>
            <a:xfrm flipH="1" flipV="1">
              <a:off x="2666520" y="3048120"/>
              <a:ext cx="12193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86200" y="4267080"/>
              <a:ext cx="3048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mission to read and write fi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:/privilegedFile.t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2590920" y="3580920"/>
              <a:ext cx="12952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3.3   Java Authentication and Authorization Service (JAAS)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execut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uthenticat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ava –Djava.security.policy==java.polic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Djava.security.auth.policy==jaas.polic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Djava.security.auth.login.config==jaas.confi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m.deitel.advjhtp1.security.jaas.Authentica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4   Secure Sockets Layer (SSL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onproprietary protoco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sed to secure communications between comput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mplem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blic-key technology using RSA algorith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gital certificat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authenticat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protect private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not require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3   Secret-key Cryptograph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ymmetric/secret-key crypt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key encrypts and decrypts mess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secure method to transfer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authentication because same key used on both 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er needs separate secret key for each 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ey distribution center (KDC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es secret key with users in networ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ssion ke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secret keys to sender and 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ssion key used for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keys and less couriers for transactions, but security depends on security on K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4   Secure Sockets Layer (SSL)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ends message to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 responds with digital certifi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and server negotiate session k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ublic key cryptography for negot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e keys established, communication proc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encryp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transmi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decrypted at receiving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ily sec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int-to-po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n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4.1   Java Secure Socket Extension (JSSE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SL encryption integrated into Java through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Java Secure Socket Extension (JSEE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ures passage of information between two client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se of SSL connections transparent to us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2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ginServ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uses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SLServerSocket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or secure communicatio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ginServ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ginServer uses an SSLServerSocket to demonstrate JSSE'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SL implement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security.js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et.ss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ginServ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ORRECT_USER_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ORRECT_PASSWOR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owToProgra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SLServerSocket serverSocke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ginServ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ginServ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SLServerSocketFactory for building SSLServerSocke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SLServerSocketFactory socketFactor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SSLServerSocketFactory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SLServerSocketFactory.getDefault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SLServerSocket on specified po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verSocket = ( SSLServerSocke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ocketFactory.createServerSocke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07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LoginServ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105160" y="4572000"/>
            <a:ext cx="2590920" cy="337320"/>
            <a:chOff x="5105160" y="4572000"/>
            <a:chExt cx="2590920" cy="337320"/>
          </a:xfrm>
        </p:grpSpPr>
        <p:sp>
          <p:nvSpPr>
            <p:cNvPr id="386" name=""/>
            <p:cNvSpPr/>
            <p:nvPr/>
          </p:nvSpPr>
          <p:spPr>
            <a:xfrm flipH="1">
              <a:off x="5105160" y="47242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638680" y="457200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s factory 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333760" y="5334120"/>
            <a:ext cx="2590920" cy="337320"/>
            <a:chOff x="5333760" y="5334120"/>
            <a:chExt cx="2590920" cy="337320"/>
          </a:xfrm>
        </p:grpSpPr>
        <p:sp>
          <p:nvSpPr>
            <p:cNvPr id="389" name=""/>
            <p:cNvSpPr/>
            <p:nvPr/>
          </p:nvSpPr>
          <p:spPr>
            <a:xfrm flipH="1">
              <a:off x="5333760" y="54864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867280" y="533412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SSL soc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2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ginServ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uses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SLServerSocket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or secure communicatio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4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49-5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57-5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60-6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art server and listen for cli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Serv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erpetually listen for cli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wait for client connection and check login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err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aiting for connection..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reate new SSLSocket for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SLSocket socke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( SSLSocket ) serverSocket.accep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open BufferedReader for reading data from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BufferedReader inpu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edRead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putStreamReader( socket.getInputStream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open PrintWriter for writing data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intWriter outpu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Wri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StreamWri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socket.getOutputStream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tring userName = input.readLi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tring password = input.readLi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Name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ORRECT_USER_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amp;&amp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password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ORRECT_PASSWOR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outp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lcome,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user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outp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gin Failed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5334120" y="2590920"/>
            <a:ext cx="3581280" cy="337320"/>
            <a:chOff x="5334120" y="2590920"/>
            <a:chExt cx="3581280" cy="337320"/>
          </a:xfrm>
        </p:grpSpPr>
        <p:sp>
          <p:nvSpPr>
            <p:cNvPr id="394" name=""/>
            <p:cNvSpPr/>
            <p:nvPr/>
          </p:nvSpPr>
          <p:spPr>
            <a:xfrm flipH="1">
              <a:off x="5334120" y="2743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095880" y="2590920"/>
              <a:ext cx="28195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cepts new client 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5181120" y="3657600"/>
            <a:ext cx="3657960" cy="809280"/>
            <a:chOff x="5181120" y="3657600"/>
            <a:chExt cx="3657960" cy="809280"/>
          </a:xfrm>
        </p:grpSpPr>
        <p:sp>
          <p:nvSpPr>
            <p:cNvPr id="397" name=""/>
            <p:cNvSpPr/>
            <p:nvPr/>
          </p:nvSpPr>
          <p:spPr>
            <a:xfrm flipH="1" flipV="1">
              <a:off x="6248160" y="365760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781680" y="3886200"/>
              <a:ext cx="2057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input and output strea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5181120" y="4038480"/>
              <a:ext cx="1600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5333760" y="4648320"/>
            <a:ext cx="3048120" cy="824040"/>
            <a:chOff x="5333760" y="4648320"/>
            <a:chExt cx="3048120" cy="824040"/>
          </a:xfrm>
        </p:grpSpPr>
        <p:sp>
          <p:nvSpPr>
            <p:cNvPr id="401" name=""/>
            <p:cNvSpPr/>
            <p:nvPr/>
          </p:nvSpPr>
          <p:spPr>
            <a:xfrm flipH="1">
              <a:off x="5333760" y="48006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867280" y="464832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ad first two lines of text. Details of encryption hidden from develop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6172200" y="5257800"/>
            <a:ext cx="2590920" cy="580680"/>
            <a:chOff x="6172200" y="5257800"/>
            <a:chExt cx="2590920" cy="580680"/>
          </a:xfrm>
        </p:grpSpPr>
        <p:sp>
          <p:nvSpPr>
            <p:cNvPr id="404" name=""/>
            <p:cNvSpPr/>
            <p:nvPr/>
          </p:nvSpPr>
          <p:spPr>
            <a:xfrm flipH="1">
              <a:off x="6172200" y="54100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705720" y="5257800"/>
              <a:ext cx="2057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rify user name and passwo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2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ginServ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uses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SLServerSocket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or secure communicatio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71-7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lean up streams and SSLSock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put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nput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ocket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exception communicating with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io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o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run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ecut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oginServer serv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ginServ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ver.runServ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3962160" y="914400"/>
            <a:ext cx="2590920" cy="337320"/>
            <a:chOff x="3962160" y="914400"/>
            <a:chExt cx="2590920" cy="337320"/>
          </a:xfrm>
        </p:grpSpPr>
        <p:sp>
          <p:nvSpPr>
            <p:cNvPr id="409" name=""/>
            <p:cNvSpPr/>
            <p:nvPr/>
          </p:nvSpPr>
          <p:spPr>
            <a:xfrm flipH="1">
              <a:off x="3962160" y="10666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495680" y="91440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ose all strea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24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inClient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ommunicates wit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ginServ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via SSL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22-2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26-2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31-3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ginClien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ginClient uses an SSLSocket to transmit fake log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formation to LoginServ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security.js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et.ss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ginClie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ginClie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ginClien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pen SSLSocket connection to server and send log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btain SSLSocketFactory for creating SSLSocke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SLSocketFactory socketFactor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SSLSocketFactory ) SSLSocketFactory.getDefaul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SSLSocket from fa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SLSocket socke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SSLSocket ) socketFactory.createSocke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lho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07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PrintWriter for sending login to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Writer outpu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Wri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StreamWriter( socket.getOutputStream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6324480" y="4114800"/>
            <a:ext cx="2590920" cy="580680"/>
            <a:chOff x="6324480" y="4114800"/>
            <a:chExt cx="2590920" cy="580680"/>
          </a:xfrm>
        </p:grpSpPr>
        <p:sp>
          <p:nvSpPr>
            <p:cNvPr id="414" name=""/>
            <p:cNvSpPr/>
            <p:nvPr/>
          </p:nvSpPr>
          <p:spPr>
            <a:xfrm flipH="1">
              <a:off x="6324480" y="42670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58000" y="4114800"/>
              <a:ext cx="2057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SSL socket fact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943600" y="4952880"/>
            <a:ext cx="2590920" cy="337320"/>
            <a:chOff x="5943600" y="4952880"/>
            <a:chExt cx="2590920" cy="337320"/>
          </a:xfrm>
        </p:grpSpPr>
        <p:sp>
          <p:nvSpPr>
            <p:cNvPr id="417" name=""/>
            <p:cNvSpPr/>
            <p:nvPr/>
          </p:nvSpPr>
          <p:spPr>
            <a:xfrm flipH="1">
              <a:off x="59436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77120" y="495288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SSL soc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6400800" y="5715000"/>
            <a:ext cx="2590920" cy="337320"/>
            <a:chOff x="6400800" y="5715000"/>
            <a:chExt cx="2590920" cy="337320"/>
          </a:xfrm>
        </p:grpSpPr>
        <p:sp>
          <p:nvSpPr>
            <p:cNvPr id="420" name=""/>
            <p:cNvSpPr/>
            <p:nvPr/>
          </p:nvSpPr>
          <p:spPr>
            <a:xfrm flipH="1">
              <a:off x="6400800" y="5867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34320" y="571500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output stre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24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inClient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ommunicates wit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ginServ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via SSL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3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4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51-5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5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61-6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rompt user for user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userName = JOptionPane.showInput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User Nam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nd user name to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.println( user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rompt user for passw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password = JOptionPane.showInput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Password: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nd password to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.println( passwor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.flush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BufferedReader for reading server respon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edReader inpu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edRead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putStreamReader( socket.getInputStream 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ad response from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response = input.readLi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isplay response to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showMessag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respon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lean up streams and SSLSock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put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ocket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4114800" y="2362320"/>
            <a:ext cx="2819520" cy="337320"/>
            <a:chOff x="4114800" y="2362320"/>
            <a:chExt cx="2819520" cy="337320"/>
          </a:xfrm>
        </p:grpSpPr>
        <p:sp>
          <p:nvSpPr>
            <p:cNvPr id="425" name=""/>
            <p:cNvSpPr/>
            <p:nvPr/>
          </p:nvSpPr>
          <p:spPr>
            <a:xfrm flipH="1">
              <a:off x="4114800" y="25146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48320" y="236232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nd password to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6248160" y="3352680"/>
            <a:ext cx="2590920" cy="337320"/>
            <a:chOff x="6248160" y="3352680"/>
            <a:chExt cx="2590920" cy="337320"/>
          </a:xfrm>
        </p:grpSpPr>
        <p:sp>
          <p:nvSpPr>
            <p:cNvPr id="428" name=""/>
            <p:cNvSpPr/>
            <p:nvPr/>
          </p:nvSpPr>
          <p:spPr>
            <a:xfrm flipH="1">
              <a:off x="6248160" y="35053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781680" y="335268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input stre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4952880" y="4038480"/>
            <a:ext cx="2590920" cy="337320"/>
            <a:chOff x="4952880" y="4038480"/>
            <a:chExt cx="2590920" cy="337320"/>
          </a:xfrm>
        </p:grpSpPr>
        <p:sp>
          <p:nvSpPr>
            <p:cNvPr id="431" name=""/>
            <p:cNvSpPr/>
            <p:nvPr/>
          </p:nvSpPr>
          <p:spPr>
            <a:xfrm flipH="1">
              <a:off x="4952880" y="4191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486400" y="403848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server 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4038480" y="1066680"/>
            <a:ext cx="2743200" cy="337320"/>
            <a:chOff x="4038480" y="1066680"/>
            <a:chExt cx="2743200" cy="337320"/>
          </a:xfrm>
        </p:grpSpPr>
        <p:sp>
          <p:nvSpPr>
            <p:cNvPr id="434" name=""/>
            <p:cNvSpPr/>
            <p:nvPr/>
          </p:nvSpPr>
          <p:spPr>
            <a:xfrm flipH="1">
              <a:off x="4038480" y="1219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572000" y="1066680"/>
              <a:ext cx="22096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nd user name to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038480" y="5334120"/>
            <a:ext cx="2590920" cy="337320"/>
            <a:chOff x="4038480" y="5334120"/>
            <a:chExt cx="2590920" cy="337320"/>
          </a:xfrm>
        </p:grpSpPr>
        <p:sp>
          <p:nvSpPr>
            <p:cNvPr id="437" name=""/>
            <p:cNvSpPr/>
            <p:nvPr/>
          </p:nvSpPr>
          <p:spPr>
            <a:xfrm flipH="1">
              <a:off x="4038480" y="5486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572000" y="533412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ose all strea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24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inClient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ommunicates wit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ginServ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via SSL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352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ommunicating with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io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o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xit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l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LoginClie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ecut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ginCli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4.1   Java Secure Socket Extension (JSSE)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42" name="ssl_a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2809800" cy="1209600"/>
          </a:xfrm>
          <a:prstGeom prst="rect">
            <a:avLst/>
          </a:prstGeom>
          <a:ln w="0">
            <a:noFill/>
          </a:ln>
        </p:spPr>
      </p:pic>
      <p:pic>
        <p:nvPicPr>
          <p:cNvPr id="443" name="ssl_b" descr=""/>
          <p:cNvPicPr/>
          <p:nvPr/>
        </p:nvPicPr>
        <p:blipFill>
          <a:blip r:embed="rId2"/>
          <a:stretch/>
        </p:blipFill>
        <p:spPr>
          <a:xfrm>
            <a:off x="1371600" y="2514600"/>
            <a:ext cx="2809800" cy="1209600"/>
          </a:xfrm>
          <a:prstGeom prst="rect">
            <a:avLst/>
          </a:prstGeom>
          <a:ln w="0">
            <a:noFill/>
          </a:ln>
        </p:spPr>
      </p:pic>
      <p:pic>
        <p:nvPicPr>
          <p:cNvPr id="444" name="ssl_c" descr=""/>
          <p:cNvPicPr/>
          <p:nvPr/>
        </p:nvPicPr>
        <p:blipFill>
          <a:blip r:embed="rId3"/>
          <a:stretch/>
        </p:blipFill>
        <p:spPr>
          <a:xfrm>
            <a:off x="1523880" y="3809880"/>
            <a:ext cx="2571840" cy="1123920"/>
          </a:xfrm>
          <a:prstGeom prst="rect">
            <a:avLst/>
          </a:prstGeom>
          <a:ln w="0">
            <a:noFill/>
          </a:ln>
        </p:spPr>
      </p:pic>
      <p:pic>
        <p:nvPicPr>
          <p:cNvPr id="445" name="ssl_d" descr=""/>
          <p:cNvPicPr/>
          <p:nvPr/>
        </p:nvPicPr>
        <p:blipFill>
          <a:blip r:embed="rId4"/>
          <a:stretch/>
        </p:blipFill>
        <p:spPr>
          <a:xfrm>
            <a:off x="4572000" y="1219320"/>
            <a:ext cx="2809800" cy="1209600"/>
          </a:xfrm>
          <a:prstGeom prst="rect">
            <a:avLst/>
          </a:prstGeom>
          <a:ln w="0">
            <a:noFill/>
          </a:ln>
        </p:spPr>
      </p:pic>
      <p:pic>
        <p:nvPicPr>
          <p:cNvPr id="446" name="ssl_e" descr=""/>
          <p:cNvPicPr/>
          <p:nvPr/>
        </p:nvPicPr>
        <p:blipFill>
          <a:blip r:embed="rId5"/>
          <a:stretch/>
        </p:blipFill>
        <p:spPr>
          <a:xfrm>
            <a:off x="4572000" y="2514600"/>
            <a:ext cx="2809800" cy="1209600"/>
          </a:xfrm>
          <a:prstGeom prst="rect">
            <a:avLst/>
          </a:prstGeom>
          <a:ln w="0">
            <a:noFill/>
          </a:ln>
        </p:spPr>
      </p:pic>
      <p:pic>
        <p:nvPicPr>
          <p:cNvPr id="447" name="ssl_f" descr=""/>
          <p:cNvPicPr/>
          <p:nvPr/>
        </p:nvPicPr>
        <p:blipFill>
          <a:blip r:embed="rId6"/>
          <a:stretch/>
        </p:blipFill>
        <p:spPr>
          <a:xfrm>
            <a:off x="4724280" y="3809880"/>
            <a:ext cx="2571840" cy="11239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2065680" y="5423040"/>
            <a:ext cx="511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7.2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sample executions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inCli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4.1   Java Secure Socket Extension (JSSE)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SL require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gin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se certific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keyt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eytool –genkey –keystore SSLStore –alias SSLCertific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execut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gin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y keystore contin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oginServ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’s certific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ava –Djavax.net.ssl.keyStore=SSLStor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Djavax.net.ssl.keyStorePassword=passwor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.deitel.advjhtp1.security.jsse.Login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sswo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keystore pass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execut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gin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y keystore contin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oginClie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’s certific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ava –Djavax.net.ssl.trustStore=SSLStor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Djavax.net.ssl.trustStorePassword=passwor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.deitel.advjhtp1.security.jsse.Login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sswo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uststore pass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3   Secret-key Cryptography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 Encryption Standard (D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lock ciph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creates bit groups from message and applies algorithm to whole blo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 standard set by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merican National Standards Institute (ANSI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 years, no loner considered sec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S Cracker Machin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veloped to crack DES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ple DES (3DES) replaced 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ree DES systems in row with unique secret k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vanced Encryption Standard (AES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new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ation Institute of Standards and Technology (NIST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urrently evaluating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ijndae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 A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5   Java Language Security and Secure Cod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language provides security other languages l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.g., JVM ensures memory beyond end of array not re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compiler performs security checks comp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 do not read from uninitialized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 modifiers ensure method access righ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tects illegal casts between data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ytecode ver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sures that byte codes do not perform illegal op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5   Java Language Security and Secure Cod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VM performs remaining integrity che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ecks remaining cast op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-bounds chec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lass loader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se separat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amesp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ents malicious code from interacting with saf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va security mana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s access permission checks while code is ru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3   Secret-key Cryptography (cont.)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" name=""/>
          <p:cNvSpPr/>
          <p:nvPr/>
        </p:nvSpPr>
        <p:spPr>
          <a:xfrm>
            <a:off x="1231560" y="4648320"/>
            <a:ext cx="65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7.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rypting and decrypting a message using a symmetric secret ke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07_01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47516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5:53:05Z</dcterms:created>
  <dc:creator>nick</dc:creator>
  <dc:description/>
  <dc:language>en-US</dc:language>
  <cp:lastModifiedBy>Kyle Lomeli</cp:lastModifiedBy>
  <dcterms:modified xsi:type="dcterms:W3CDTF">2002-01-31T15:22:03Z</dcterms:modified>
  <cp:revision>153</cp:revision>
  <dc:subject/>
  <dc:title>PowerPoint Presentation</dc:title>
</cp:coreProperties>
</file>