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F247-523C-45DD-9C78-3B007DB01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A43B-6591-4A71-B81A-FF868B58A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AB4A-A250-47A8-9F59-221733194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76DE-1CA7-48D4-923B-6FAD74907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9D2E-0C9B-4291-B401-D78579F8FB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838D-5D3F-4A08-86BA-3A853AABD0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C77A-D09E-4756-8370-B877CBFBE5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DA10-BFAA-41CA-9382-5EC0306D60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84DF5-8DDF-4450-808C-BB78F2BE26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69CA-3CDF-442A-A063-7FD73EDE23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4A5B-D92B-4B85-B14E-F40368DA3D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39FE-045E-4A9B-B53D-08B06E535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558A2-00F6-4CE8-AD60-CEF1C3886E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1003-F94B-4B4C-B98C-F1D4576DA4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72DE-CA26-4B2B-AAB0-FCCAEF08E9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A8B6-00B8-4232-9304-83EAEAB769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7EEF-60B2-46EB-A6FD-CC99B1F60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0DFE-1FA7-4FD6-BFF5-773BCC23D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FAE8-8600-4014-A9F9-BDF617EE5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2973-87DD-4330-91AD-9C2FDD578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3F35-2F63-45BA-823A-E538420A7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86FA-AE86-47DC-9282-697D05829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7B64-D14A-45B0-8790-B513E42BF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F16B-3045-4965-B2B8-CE2B6265A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F9C9-1153-442D-A519-5ACA055AA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6E02-C0CC-447E-B3AC-112B55A68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29: Introduction to Web Services and SOAP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9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9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imple Object Access Protocol (SOAP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9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AP Weath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3   SOAP Weather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 Weathe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ification of RMI-based Weather Service (Chapter 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OAP RPC instead of Java RM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information from server to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9.5: WeatherServic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 provides a method to retrieve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formation from the National Weather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oap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UR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 weatherInformation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Bean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eather information from N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WeatherCondition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weather information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tional Weather Service Travelers Forecast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new URL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iwin.nws.noaa.gov/iwin/us/traveler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p text input stream to read Web page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Reader i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treamReader( url.openStrea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elps determine starting point of data on Web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parat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AV1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separator string in Web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.readLine().startsWith( separato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h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352320" y="1143000"/>
            <a:ext cx="5182200" cy="1067400"/>
            <a:chOff x="3352320" y="1143000"/>
            <a:chExt cx="5182200" cy="1067400"/>
          </a:xfrm>
        </p:grpSpPr>
        <p:sp>
          <p:nvSpPr>
            <p:cNvPr id="148" name=""/>
            <p:cNvSpPr/>
            <p:nvPr/>
          </p:nvSpPr>
          <p:spPr>
            <a:xfrm>
              <a:off x="5029200" y="1143000"/>
              <a:ext cx="3505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WeatherInfor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Service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through SOAP R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352320" y="167652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6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rings representing headers on Travelers Foreca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eb page for daytime and nighttime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ayH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           WEA     HI/LO   WEA     HI/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ightH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           WEA     LO/HI   WEA     LO/HI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inputLin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header that begins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Line = in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putLine.equals( dayHeader )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!inputLine.equals( nightHead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Inform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WeatherBeans containing weather data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ore in weatherInformation 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Line = in.readLin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first city'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e portion of inputLine containing relevant dat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s 28 characters long. If the line length is not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east 28 characters long, then done process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Line.length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repare strings for WeatherBean for each city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First 16 characters are city name. Next, si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aracters are weather description. Next si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aracters are HI/LO or LO/HI temperat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Information.ad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Information.ad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105520" y="5715000"/>
            <a:ext cx="3733560" cy="824040"/>
            <a:chOff x="5105520" y="5715000"/>
            <a:chExt cx="3733560" cy="824040"/>
          </a:xfrm>
        </p:grpSpPr>
        <p:sp>
          <p:nvSpPr>
            <p:cNvPr id="153" name=""/>
            <p:cNvSpPr/>
            <p:nvPr/>
          </p:nvSpPr>
          <p:spPr>
            <a:xfrm>
              <a:off x="6324480" y="57150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parsed from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veler’s Foreca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eb pag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105520" y="6095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5-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Information.ad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Line = in.readLin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next city'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connection to NWS Web ser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 information upda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failure to connect to National Weathe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java.net.ConnectException conne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other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ementation for WeatherService interfac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 getWeatherInforma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WeatherCondition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Inform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267080" y="5029200"/>
            <a:ext cx="4419720" cy="732960"/>
            <a:chOff x="4267080" y="5029200"/>
            <a:chExt cx="4419720" cy="732960"/>
          </a:xfrm>
        </p:grpSpPr>
        <p:sp>
          <p:nvSpPr>
            <p:cNvPr id="158" name=""/>
            <p:cNvSpPr/>
            <p:nvPr/>
          </p:nvSpPr>
          <p:spPr>
            <a:xfrm>
              <a:off x="5181480" y="51814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WeatherInfor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made available to remote 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4267080" y="50292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-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9.6: WeatherService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Client accesses the WeatherService rem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bject via SOAP to retrieve weather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oap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apache.soa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apache.soap.rpc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Service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( String serv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AP WeatherService 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server and get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RL of remote SOAP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" + server + ":8080/soap/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let/rpcrou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248520" y="4800600"/>
            <a:ext cx="2438280" cy="914400"/>
            <a:chOff x="6248520" y="4800600"/>
            <a:chExt cx="2438280" cy="914400"/>
          </a:xfrm>
        </p:grpSpPr>
        <p:sp>
          <p:nvSpPr>
            <p:cNvPr id="163" name=""/>
            <p:cNvSpPr/>
            <p:nvPr/>
          </p:nvSpPr>
          <p:spPr>
            <a:xfrm flipH="1">
              <a:off x="6248520" y="510552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48006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OAP service’s U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5-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9-55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8-65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uild SOAP RPC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l remoteMetho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l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TargetObjectURI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rn:xml-weather-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ame of remote method to be invo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Method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WeatherInform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EncodingStyleURI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S_URI_SOAP_EN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voke remot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response = remoteMethod.invoke( url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.generatedFaul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ault fault = response.getFaul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 FAILED:\nFault Code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fault.getFaultCod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ault String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fault.getFault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eter result = response.getReturn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ector weatherStrings = ( Vecto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ult.ge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weather information from resul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 weatherInformation = createBean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eatherStrin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419360" y="457200"/>
            <a:ext cx="3962520" cy="580680"/>
            <a:chOff x="4419360" y="457200"/>
            <a:chExt cx="3962520" cy="580680"/>
          </a:xfrm>
        </p:grpSpPr>
        <p:sp>
          <p:nvSpPr>
            <p:cNvPr id="168" name=""/>
            <p:cNvSpPr/>
            <p:nvPr/>
          </p:nvSpPr>
          <p:spPr>
            <a:xfrm>
              <a:off x="6400800" y="4572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set its U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419360" y="7621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257800" y="1295280"/>
            <a:ext cx="3657600" cy="1067400"/>
            <a:chOff x="5257800" y="1295280"/>
            <a:chExt cx="3657600" cy="1067400"/>
          </a:xfrm>
        </p:grpSpPr>
        <p:sp>
          <p:nvSpPr>
            <p:cNvPr id="171" name=""/>
            <p:cNvSpPr/>
            <p:nvPr/>
          </p:nvSpPr>
          <p:spPr>
            <a:xfrm>
              <a:off x="6248520" y="1295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remot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WeatherInfo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store returned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257800" y="190512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95880" y="3809520"/>
            <a:ext cx="2743200" cy="581040"/>
            <a:chOff x="6095880" y="3809520"/>
            <a:chExt cx="2743200" cy="581040"/>
          </a:xfrm>
        </p:grpSpPr>
        <p:sp>
          <p:nvSpPr>
            <p:cNvPr id="174" name=""/>
            <p:cNvSpPr/>
            <p:nvPr/>
          </p:nvSpPr>
          <p:spPr>
            <a:xfrm>
              <a:off x="7086600" y="380988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message if error occu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95880" y="380952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876560" y="4876560"/>
            <a:ext cx="3886560" cy="1220040"/>
            <a:chOff x="4876560" y="4876560"/>
            <a:chExt cx="3886560" cy="1220040"/>
          </a:xfrm>
        </p:grpSpPr>
        <p:sp>
          <p:nvSpPr>
            <p:cNvPr id="177" name=""/>
            <p:cNvSpPr/>
            <p:nvPr/>
          </p:nvSpPr>
          <p:spPr>
            <a:xfrm>
              <a:off x="6934320" y="5029200"/>
              <a:ext cx="1828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remote method’s returned value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no problems occu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790960" y="487656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257440" y="5562720"/>
              <a:ext cx="1676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4876560" y="5181120"/>
              <a:ext cx="2057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WeatherListModel for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Model weatherLis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( weatherInform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JList, set its CellRenderer and add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lay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List weatherJ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weatherLis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JList.setCellRender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eatherCellRender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ContentPane()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ScrollPane( weatherJLis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bad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malformedUR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lformedUR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SOAP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OAPException soap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ap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eatherService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List of WeatherBeans from Vector of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createBeans( Vector weatherStrin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33760" y="5486040"/>
            <a:ext cx="3657960" cy="581040"/>
            <a:chOff x="5333760" y="5486040"/>
            <a:chExt cx="3657960" cy="581040"/>
          </a:xfrm>
        </p:grpSpPr>
        <p:sp>
          <p:nvSpPr>
            <p:cNvPr id="184" name=""/>
            <p:cNvSpPr/>
            <p:nvPr/>
          </p:nvSpPr>
          <p:spPr>
            <a:xfrm>
              <a:off x="6324480" y="5486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ver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5333760" y="5486040"/>
              <a:ext cx="990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4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( weatherStrings.size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 i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Bea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tring ) weatherStrings.elementAt( i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tring ) weatherStrings.elementAt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tring ) weatherStrings.elementAt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WeatherService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ServiceClient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no server IP address or host name specified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"localhost"; otherwise use specified h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h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and display application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DefaultCloseOperation(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Resiz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3   SOAP Weather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89" name="soap1" descr=""/>
          <p:cNvPicPr/>
          <p:nvPr/>
        </p:nvPicPr>
        <p:blipFill>
          <a:blip r:embed="rId1"/>
          <a:stretch/>
        </p:blipFill>
        <p:spPr>
          <a:xfrm>
            <a:off x="1062000" y="1019160"/>
            <a:ext cx="7018200" cy="481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671200" y="5943600"/>
            <a:ext cx="36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9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pache SOAP Adm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3   SOAP Weather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2" name="soap3" descr=""/>
          <p:cNvPicPr/>
          <p:nvPr/>
        </p:nvPicPr>
        <p:blipFill>
          <a:blip r:embed="rId1"/>
          <a:stretch/>
        </p:blipFill>
        <p:spPr>
          <a:xfrm>
            <a:off x="2666880" y="914400"/>
            <a:ext cx="3818160" cy="4694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379880" y="5715000"/>
            <a:ext cx="63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9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che SOAP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e Deployment Descriptor Templ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 Object Access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ote interoper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among different software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XML communication in man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oses public interfaces usable by Web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3   SOAP Weather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5" name="weatherservice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381120" cy="2800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71920" y="4876920"/>
            <a:ext cx="39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9.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AP WeatherService Cl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2   Simple Object Access Protocol (SOAP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TTP-XML-based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application to communicate over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XML documents calle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AP message contain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 message’s content and intended recip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ility to make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mote Procedure Ca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P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to another machine to run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-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9.1: SimpleServic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ation for the requested method on th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Servic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getWelcome( String messag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SOAP!\nHere is your messag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00040" y="609480"/>
            <a:ext cx="5639040" cy="580680"/>
            <a:chOff x="3200040" y="609480"/>
            <a:chExt cx="5639040" cy="580680"/>
          </a:xfrm>
        </p:grpSpPr>
        <p:sp>
          <p:nvSpPr>
            <p:cNvPr id="96" name=""/>
            <p:cNvSpPr/>
            <p:nvPr/>
          </p:nvSpPr>
          <p:spPr>
            <a:xfrm>
              <a:off x="6553080" y="6094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mple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sides on a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200040" y="9144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943600" y="1371240"/>
            <a:ext cx="2895480" cy="1586520"/>
            <a:chOff x="5943600" y="1371240"/>
            <a:chExt cx="2895480" cy="1586520"/>
          </a:xfrm>
        </p:grpSpPr>
        <p:sp>
          <p:nvSpPr>
            <p:cNvPr id="99" name=""/>
            <p:cNvSpPr/>
            <p:nvPr/>
          </p:nvSpPr>
          <p:spPr>
            <a:xfrm>
              <a:off x="5943600" y="21337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invoked; this method is made available to remote 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6171840" y="1371240"/>
              <a:ext cx="1219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2   Simple Object Access Protocol (SOAP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2" name="soap2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79124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20720" y="5943600"/>
            <a:ext cx="397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9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AP package administration to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2   Simple Object Access Protocol (SOAP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5" name="soap4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951440" cy="4422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25280" y="5867280"/>
            <a:ext cx="373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9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deployed serv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making a SOAP request (part 1)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-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7-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9.4 : GetMessag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hat makes a SOAP RP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Jav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apache.soa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apache.soap.rpc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essag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 String args[]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encodingStyleURI = 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S_URI_SOAP_EN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message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messa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anks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SOAP remote procedure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localhost:8080/soap/servlet/rpcrou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uild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l remoteMetho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l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TargetObjectURI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rn:xml-simple-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440" y="2362320"/>
            <a:ext cx="5105880" cy="337320"/>
            <a:chOff x="2971440" y="2362320"/>
            <a:chExt cx="5105880" cy="337320"/>
          </a:xfrm>
        </p:grpSpPr>
        <p:sp>
          <p:nvSpPr>
            <p:cNvPr id="110" name=""/>
            <p:cNvSpPr/>
            <p:nvPr/>
          </p:nvSpPr>
          <p:spPr>
            <a:xfrm>
              <a:off x="6324480" y="236232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 for the R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71440" y="25146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200400" y="1143000"/>
            <a:ext cx="5334120" cy="914400"/>
            <a:chOff x="3200400" y="1143000"/>
            <a:chExt cx="5334120" cy="914400"/>
          </a:xfrm>
        </p:grpSpPr>
        <p:sp>
          <p:nvSpPr>
            <p:cNvPr id="113" name=""/>
            <p:cNvSpPr/>
            <p:nvPr/>
          </p:nvSpPr>
          <p:spPr>
            <a:xfrm>
              <a:off x="5943600" y="114300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AP-implementation AP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200400" y="1295280"/>
              <a:ext cx="2743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019920" y="3048120"/>
            <a:ext cx="2514600" cy="824040"/>
            <a:chOff x="6019920" y="3048120"/>
            <a:chExt cx="2514600" cy="824040"/>
          </a:xfrm>
        </p:grpSpPr>
        <p:sp>
          <p:nvSpPr>
            <p:cNvPr id="116" name=""/>
            <p:cNvSpPr/>
            <p:nvPr/>
          </p:nvSpPr>
          <p:spPr>
            <a:xfrm>
              <a:off x="6858000" y="304812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encoding style used for SOAP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6019920" y="327636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714640" y="4267080"/>
            <a:ext cx="2972160" cy="838440"/>
            <a:chOff x="5714640" y="4267080"/>
            <a:chExt cx="2972160" cy="838440"/>
          </a:xfrm>
        </p:grpSpPr>
        <p:sp>
          <p:nvSpPr>
            <p:cNvPr id="119" name=""/>
            <p:cNvSpPr/>
            <p:nvPr/>
          </p:nvSpPr>
          <p:spPr>
            <a:xfrm>
              <a:off x="6477120" y="42670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URL of server to which the client sends the SOAP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714640" y="46483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495680" y="5715000"/>
            <a:ext cx="3962520" cy="580680"/>
            <a:chOff x="4495680" y="5715000"/>
            <a:chExt cx="3962520" cy="580680"/>
          </a:xfrm>
        </p:grpSpPr>
        <p:sp>
          <p:nvSpPr>
            <p:cNvPr id="122" name=""/>
            <p:cNvSpPr/>
            <p:nvPr/>
          </p:nvSpPr>
          <p:spPr>
            <a:xfrm>
              <a:off x="6477120" y="57150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set its U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495680" y="601992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making a SOAP reques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0-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1-5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0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ame of remote method to be invo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Method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Welco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EncodingStyleURI( encodingStyleUR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parameters for remot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Vector paramet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ameters.addEl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mess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Params( paramete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respon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voke remot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= remoteMethod.invoke( url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e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.generatedFaul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ault fault = response.getFaul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 FAILED:\nFault Code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fault.getFaultCode()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ault String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fault.getFault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eter result = response.getReturn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isplay result of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result.ge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52520" y="1447920"/>
            <a:ext cx="3810600" cy="1067400"/>
            <a:chOff x="4952520" y="1447920"/>
            <a:chExt cx="3810600" cy="1067400"/>
          </a:xfrm>
        </p:grpSpPr>
        <p:sp>
          <p:nvSpPr>
            <p:cNvPr id="127" name=""/>
            <p:cNvSpPr/>
            <p:nvPr/>
          </p:nvSpPr>
          <p:spPr>
            <a:xfrm>
              <a:off x="6629400" y="1447920"/>
              <a:ext cx="2133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parameters used to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Welc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mple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952520" y="19810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3760" y="2666880"/>
            <a:ext cx="3429360" cy="1067400"/>
            <a:chOff x="5333760" y="2666880"/>
            <a:chExt cx="3429360" cy="1067400"/>
          </a:xfrm>
        </p:grpSpPr>
        <p:sp>
          <p:nvSpPr>
            <p:cNvPr id="130" name=""/>
            <p:cNvSpPr/>
            <p:nvPr/>
          </p:nvSpPr>
          <p:spPr>
            <a:xfrm>
              <a:off x="6781680" y="2666880"/>
              <a:ext cx="1981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Welc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store returned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5333760" y="281952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019560" y="4038120"/>
            <a:ext cx="2743560" cy="581040"/>
            <a:chOff x="6019560" y="4038120"/>
            <a:chExt cx="2743560" cy="581040"/>
          </a:xfrm>
        </p:grpSpPr>
        <p:sp>
          <p:nvSpPr>
            <p:cNvPr id="133" name=""/>
            <p:cNvSpPr/>
            <p:nvPr/>
          </p:nvSpPr>
          <p:spPr>
            <a:xfrm>
              <a:off x="7010280" y="403848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message if error occu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6019560" y="4038120"/>
              <a:ext cx="990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409720" y="4952880"/>
            <a:ext cx="3353400" cy="824040"/>
            <a:chOff x="5409720" y="4952880"/>
            <a:chExt cx="3353400" cy="824040"/>
          </a:xfrm>
        </p:grpSpPr>
        <p:sp>
          <p:nvSpPr>
            <p:cNvPr id="136" name=""/>
            <p:cNvSpPr/>
            <p:nvPr/>
          </p:nvSpPr>
          <p:spPr>
            <a:xfrm>
              <a:off x="6553080" y="495288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remote method’s returned value if no problems occu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791320" y="502884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09720" y="533412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making a SOAP request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743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malformed URL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malformedUR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lformedUR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OAP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OAPException soap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 messag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oap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3200400"/>
            <a:ext cx="693396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GetMessag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 to SOAP!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re is your message: Thanks!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4114800"/>
            <a:ext cx="693396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GetMessage "my message”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 to SOAP!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re is your message: my mess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29T17:29:17Z</dcterms:modified>
  <cp:revision>41</cp:revision>
  <dc:subject/>
  <dc:title>Chapter 29: Introduction to Web Services and SOAP</dc:title>
</cp:coreProperties>
</file>