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3359-F0BC-4407-9B03-FCB4C611A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F0CA-235D-4C5B-978E-E2E8962F4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554B-9E13-478B-B2BD-AD4684F7F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D2FB-AB11-4899-BA02-1EFC2EECD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C609-D023-4608-841A-2BC4FBA54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8E0F-7455-40A1-AC0D-385725613E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9E2D-2BD3-4772-9A0C-7ECAE01F55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2B44-307E-4A91-846A-DC91D9EC81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61F7-FB66-4FDE-A612-E6BA79DE6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9022-68CD-4AFC-872E-067A735E55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B87F-16C5-44AA-8C6F-F0E3412E2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F4F9-3896-4554-9C97-E07B8AD01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85EB-E6A0-4401-A452-EE8116E57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53C1-F65A-411E-BFC3-DB9D60AA1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A02B-A8EE-46F2-9090-CBE6CF499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8E41-76FB-4493-BFB7-B2F3BAA363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F017-BF44-43B9-8C6A-57D41CE53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3BD4-644A-489A-9B9A-F4996569F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E05C-8369-42DE-B8E9-F87AB5E76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6990-A730-41D3-BE38-8A6B08F3C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AD77-D8E5-4694-8F17-EECA34CA0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33BD-3DEC-474A-B554-A16481D3D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5A63-8F42-418C-A1A0-B3118EAA3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28E-A1D0-4640-BE5A-2809D7443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CC5-B83A-4276-81C8-C8F36AD76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81D-FD32-4BD5-98DE-E540A5C8B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jiro.com/overview/" TargetMode="External"/><Relationship Id="rId2" Type="http://schemas.openxmlformats.org/officeDocument/2006/relationships/hyperlink" Target="http://www.jiro.com/education/recipes/" TargetMode="External"/><Relationship Id="rId3" Type="http://schemas.openxmlformats.org/officeDocument/2006/relationships/hyperlink" Target="http://www.jiro.com/education/recipes/service/" TargetMode="External"/><Relationship Id="rId4" Type="http://schemas.openxmlformats.org/officeDocument/2006/relationships/hyperlink" Target="http://www.sce.carleton.ca/netmanage/NMfor90s/SimpleNM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5 - Jiro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838080"/>
            <a:ext cx="807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rting Jiro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vs. Stat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-Service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cating the Static Services with Clas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rviceFind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hedulin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Service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-Service Usag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agement Polic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licy–Management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9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tting It All Togeth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Management op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66294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Managem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cheduledTask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3240" y="2895480"/>
            <a:ext cx="2514960" cy="990720"/>
            <a:chOff x="5943240" y="2895480"/>
            <a:chExt cx="2514960" cy="990720"/>
          </a:xfrm>
        </p:grpSpPr>
        <p:sp>
          <p:nvSpPr>
            <p:cNvPr id="109" name=""/>
            <p:cNvSpPr/>
            <p:nvPr/>
          </p:nvSpPr>
          <p:spPr>
            <a:xfrm>
              <a:off x="7162920" y="289548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943240" y="312408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617220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Management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chedules turn-on and turn-off pr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iodically and issues a log message to Log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error events happ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Log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cheduling.Schedulin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cheduling.Scheduling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tart 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create a 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0958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observ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cket turnOff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cket turnOn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 service started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printer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printer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print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event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thi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90960" y="3124080"/>
            <a:ext cx="1981440" cy="337320"/>
            <a:chOff x="5790960" y="3124080"/>
            <a:chExt cx="1981440" cy="337320"/>
          </a:xfrm>
        </p:grpSpPr>
        <p:sp>
          <p:nvSpPr>
            <p:cNvPr id="116" name=""/>
            <p:cNvSpPr/>
            <p:nvPr/>
          </p:nvSpPr>
          <p:spPr>
            <a:xfrm>
              <a:off x="6477120" y="31240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790960" y="32767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410080" y="4648320"/>
            <a:ext cx="2743200" cy="457200"/>
            <a:chOff x="5410080" y="4648320"/>
            <a:chExt cx="2743200" cy="457200"/>
          </a:xfrm>
        </p:grpSpPr>
        <p:sp>
          <p:nvSpPr>
            <p:cNvPr id="119" name=""/>
            <p:cNvSpPr/>
            <p:nvPr/>
          </p:nvSpPr>
          <p:spPr>
            <a:xfrm>
              <a:off x="6400800" y="46483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410080" y="4800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1480" y="5791320"/>
            <a:ext cx="2667240" cy="380880"/>
            <a:chOff x="5181480" y="5791320"/>
            <a:chExt cx="2667240" cy="380880"/>
          </a:xfrm>
        </p:grpSpPr>
        <p:sp>
          <p:nvSpPr>
            <p:cNvPr id="122" name=""/>
            <p:cNvSpPr/>
            <p:nvPr/>
          </p:nvSpPr>
          <p:spPr>
            <a:xfrm>
              <a:off x="6248520" y="5791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181480" y="6019920"/>
              <a:ext cx="1067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subscribe to print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5 schedule turn-off ac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65530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an observing listener to even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pic ".Printer.Erro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serverLease = eventService.subscribeOb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observer listener'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renewUnti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serv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schedul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ingService scheduling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Schedulin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schedule for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is turned off at 8:00PM every frid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egorianCalendar calend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gorianCalend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start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end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onthsOff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N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EBR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R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R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GU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PT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CTO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V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ysOfWeekOff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I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hoursOff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inutesOff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2720" y="1371240"/>
            <a:ext cx="1523880" cy="1510200"/>
            <a:chOff x="5562720" y="1371240"/>
            <a:chExt cx="1523880" cy="1510200"/>
          </a:xfrm>
        </p:grpSpPr>
        <p:sp>
          <p:nvSpPr>
            <p:cNvPr id="127" name=""/>
            <p:cNvSpPr/>
            <p:nvPr/>
          </p:nvSpPr>
          <p:spPr>
            <a:xfrm>
              <a:off x="5562720" y="2057400"/>
              <a:ext cx="152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event with topic “.Printer.Erro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019920" y="137124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295280"/>
            <a:ext cx="1143000" cy="1447920"/>
            <a:chOff x="533520" y="1295280"/>
            <a:chExt cx="1143000" cy="1447920"/>
          </a:xfrm>
        </p:grpSpPr>
        <p:sp>
          <p:nvSpPr>
            <p:cNvPr id="130" name=""/>
            <p:cNvSpPr/>
            <p:nvPr/>
          </p:nvSpPr>
          <p:spPr>
            <a:xfrm>
              <a:off x="533520" y="1295280"/>
              <a:ext cx="1143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chedul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2133720"/>
              <a:ext cx="490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320" y="3733920"/>
            <a:ext cx="3048480" cy="1310760"/>
            <a:chOff x="5638320" y="3733920"/>
            <a:chExt cx="3048480" cy="1310760"/>
          </a:xfrm>
        </p:grpSpPr>
        <p:sp>
          <p:nvSpPr>
            <p:cNvPr id="133" name=""/>
            <p:cNvSpPr/>
            <p:nvPr/>
          </p:nvSpPr>
          <p:spPr>
            <a:xfrm>
              <a:off x="6934320" y="3733920"/>
              <a:ext cx="1752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n off printer at 8:00pm every Friday between Aug 27, 2001 and Aug 27, 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638320" y="4419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6 schedule turn-on ac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662940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schedule for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e turnOffSchedu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newRepeatedDateSchedu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Date, endDate, monthsOff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ysOfWeekOff, hoursOff, minutesOff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lendar.getTimeZon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message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 turnOff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Off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handback object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Off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f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chedule task and get the Ticket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ffPrinter = schedulingService.scheduleTask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, turnOffMessage, turnOffSchedu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Of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schedule for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is turned on at 7:00AM every Mon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gorianCalend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15000" y="1371600"/>
            <a:ext cx="2590920" cy="732960"/>
            <a:chOff x="5715000" y="1371600"/>
            <a:chExt cx="2590920" cy="732960"/>
          </a:xfrm>
        </p:grpSpPr>
        <p:sp>
          <p:nvSpPr>
            <p:cNvPr id="138" name=""/>
            <p:cNvSpPr/>
            <p:nvPr/>
          </p:nvSpPr>
          <p:spPr>
            <a:xfrm>
              <a:off x="6553080" y="15238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urn-off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715000" y="13716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714640" y="2666880"/>
            <a:ext cx="2591280" cy="457200"/>
            <a:chOff x="5714640" y="2666880"/>
            <a:chExt cx="2591280" cy="457200"/>
          </a:xfrm>
        </p:grpSpPr>
        <p:sp>
          <p:nvSpPr>
            <p:cNvPr id="141" name=""/>
            <p:cNvSpPr/>
            <p:nvPr/>
          </p:nvSpPr>
          <p:spPr>
            <a:xfrm>
              <a:off x="6781680" y="266688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4640" y="28195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52880" y="4724280"/>
            <a:ext cx="3124440" cy="1310760"/>
            <a:chOff x="4952880" y="4724280"/>
            <a:chExt cx="3124440" cy="1310760"/>
          </a:xfrm>
        </p:grpSpPr>
        <p:sp>
          <p:nvSpPr>
            <p:cNvPr id="144" name=""/>
            <p:cNvSpPr/>
            <p:nvPr/>
          </p:nvSpPr>
          <p:spPr>
            <a:xfrm>
              <a:off x="6324480" y="4724280"/>
              <a:ext cx="175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n on printer at 7:00pm every Monday between Aug 27, 2001 and Aug 27, 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5410080"/>
              <a:ext cx="1371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43600" y="3505320"/>
            <a:ext cx="2666880" cy="838080"/>
            <a:chOff x="5943600" y="3505320"/>
            <a:chExt cx="2666880" cy="838080"/>
          </a:xfrm>
        </p:grpSpPr>
        <p:sp>
          <p:nvSpPr>
            <p:cNvPr id="147" name=""/>
            <p:cNvSpPr/>
            <p:nvPr/>
          </p:nvSpPr>
          <p:spPr>
            <a:xfrm>
              <a:off x="6934320" y="35053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icket for turn-off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943600" y="38098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onthsOn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N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EBR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R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R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GU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PT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CTO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V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ysOfWeekOn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ON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hoursOn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inutesOn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schedule for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e turnOnSchedu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newRepeatedDateSchedu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Date, endDate, months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ysOfWeekOn, hoursOn, minutes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lendar.getTimeZon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message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 turnOn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On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handback object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chedule task and get the Ticket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nPrinter = schedulingService.scheduleTask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, turnOnMessage, turnOnSchedu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86040" y="2666880"/>
            <a:ext cx="2819880" cy="580680"/>
            <a:chOff x="5486040" y="2666880"/>
            <a:chExt cx="2819880" cy="580680"/>
          </a:xfrm>
        </p:grpSpPr>
        <p:sp>
          <p:nvSpPr>
            <p:cNvPr id="152" name=""/>
            <p:cNvSpPr/>
            <p:nvPr/>
          </p:nvSpPr>
          <p:spPr>
            <a:xfrm>
              <a:off x="6553080" y="26668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urn-on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486040" y="2895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62720" y="4114800"/>
            <a:ext cx="2361960" cy="533520"/>
            <a:chOff x="5562720" y="4114800"/>
            <a:chExt cx="2361960" cy="533520"/>
          </a:xfrm>
        </p:grpSpPr>
        <p:sp>
          <p:nvSpPr>
            <p:cNvPr id="155" name=""/>
            <p:cNvSpPr/>
            <p:nvPr/>
          </p:nvSpPr>
          <p:spPr>
            <a:xfrm>
              <a:off x="6400800" y="411480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562720" y="426708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5257800"/>
            <a:ext cx="2667240" cy="685800"/>
            <a:chOff x="5638680" y="5257800"/>
            <a:chExt cx="2667240" cy="685800"/>
          </a:xfrm>
        </p:grpSpPr>
        <p:sp>
          <p:nvSpPr>
            <p:cNvPr id="158" name=""/>
            <p:cNvSpPr/>
            <p:nvPr/>
          </p:nvSpPr>
          <p:spPr>
            <a:xfrm>
              <a:off x="6629400" y="52578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icket for turn-on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638680" y="5562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ancel scheduled tas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560" y="60948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chedulling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scheduling tasks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hedulling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scheduled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cheduledTask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cel turn-on and turn-off printer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ffPrinter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nPrinter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canceling task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ancel scheduled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ncel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62520" y="3429000"/>
            <a:ext cx="2590560" cy="337320"/>
            <a:chOff x="3962520" y="3429000"/>
            <a:chExt cx="2590560" cy="337320"/>
          </a:xfrm>
        </p:grpSpPr>
        <p:sp>
          <p:nvSpPr>
            <p:cNvPr id="163" name=""/>
            <p:cNvSpPr/>
            <p:nvPr/>
          </p:nvSpPr>
          <p:spPr>
            <a:xfrm>
              <a:off x="5181480" y="34290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t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962520" y="3581280"/>
              <a:ext cx="1218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nagement op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5790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aper to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( int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Adding paper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replenishPaperTray(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nter's pages cou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getPaperIn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getPendingPrintJobs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nagement ope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Receive event and scheduling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2481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ing pending print jobs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ubStr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DynamicService.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urce = sourc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bString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 subString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Handler( remote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formTask( remote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95320" y="4952880"/>
            <a:ext cx="3048480" cy="990720"/>
            <a:chOff x="4495320" y="4952880"/>
            <a:chExt cx="3048480" cy="990720"/>
          </a:xfrm>
        </p:grpSpPr>
        <p:sp>
          <p:nvSpPr>
            <p:cNvPr id="170" name=""/>
            <p:cNvSpPr/>
            <p:nvPr/>
          </p:nvSpPr>
          <p:spPr>
            <a:xfrm>
              <a:off x="5638680" y="49528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 and take corresponding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724280" y="5257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95320" y="54864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Perform scheduled tas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670572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toner to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Adding toner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add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task when scheduled time arr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formTask(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rform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ask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y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remoteEvent.getRegistrationObject().g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ff printer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f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.setOff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n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urn-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.set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erforming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performing tasks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erform scheduled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rform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23920" y="3276720"/>
            <a:ext cx="2972160" cy="1067400"/>
            <a:chOff x="4723920" y="3276720"/>
            <a:chExt cx="2972160" cy="1067400"/>
          </a:xfrm>
        </p:grpSpPr>
        <p:sp>
          <p:nvSpPr>
            <p:cNvPr id="176" name=""/>
            <p:cNvSpPr/>
            <p:nvPr/>
          </p:nvSpPr>
          <p:spPr>
            <a:xfrm>
              <a:off x="5943600" y="3276720"/>
              <a:ext cx="1752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turn-on or turn-off activity based on 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723920" y="35809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52880" y="38098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distributed resources, networks,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iz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and interope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to develop and easy to deplo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ly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 Handle printer ev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Handl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th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,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rint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th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posting log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vent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95320" y="4038480"/>
            <a:ext cx="1981800" cy="580680"/>
            <a:chOff x="4495320" y="4038480"/>
            <a:chExt cx="1981800" cy="580680"/>
          </a:xfrm>
        </p:grpSpPr>
        <p:sp>
          <p:nvSpPr>
            <p:cNvPr id="182" name=""/>
            <p:cNvSpPr/>
            <p:nvPr/>
          </p:nvSpPr>
          <p:spPr>
            <a:xfrm>
              <a:off x="5334120" y="403848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printer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95320" y="434340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562360" y="1980720"/>
            <a:ext cx="3200760" cy="1524600"/>
            <a:chOff x="5562360" y="1980720"/>
            <a:chExt cx="3200760" cy="1524600"/>
          </a:xfrm>
        </p:grpSpPr>
        <p:sp>
          <p:nvSpPr>
            <p:cNvPr id="185" name=""/>
            <p:cNvSpPr/>
            <p:nvPr/>
          </p:nvSpPr>
          <p:spPr>
            <a:xfrm>
              <a:off x="7543800" y="251460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lo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866920" y="198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629400" y="26668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562360" y="266688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 Declare dynamic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5333760" cy="2438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952520" y="1371600"/>
            <a:ext cx="2743560" cy="1067400"/>
            <a:chOff x="4952520" y="1371600"/>
            <a:chExt cx="2743560" cy="1067400"/>
          </a:xfrm>
        </p:grpSpPr>
        <p:sp>
          <p:nvSpPr>
            <p:cNvPr id="192" name=""/>
            <p:cNvSpPr/>
            <p:nvPr/>
          </p:nvSpPr>
          <p:spPr>
            <a:xfrm>
              <a:off x="5715000" y="137160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is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52520" y="19051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409720" y="3200040"/>
            <a:ext cx="2667600" cy="1768320"/>
            <a:chOff x="5409720" y="3200040"/>
            <a:chExt cx="2667600" cy="1768320"/>
          </a:xfrm>
        </p:grpSpPr>
        <p:sp>
          <p:nvSpPr>
            <p:cNvPr id="195" name=""/>
            <p:cNvSpPr/>
            <p:nvPr/>
          </p:nvSpPr>
          <p:spPr>
            <a:xfrm>
              <a:off x="6248520" y="3657600"/>
              <a:ext cx="1828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y object for the dynamic service, client use this Entry to locate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409720" y="3200040"/>
              <a:ext cx="838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Listen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Forwar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5486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EventListener.java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listener that listens for event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d by a printer.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PrinterEventListener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eventListener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EventListener constructor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RemoteEventListener listener )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port the stub object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RemoteObject.exportObject(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exporting stub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EventListener constructo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the notification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orward notification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.notify( remoteEvent 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3352680"/>
            <a:ext cx="2286000" cy="533520"/>
            <a:chOff x="4800600" y="3352680"/>
            <a:chExt cx="2286000" cy="533520"/>
          </a:xfrm>
        </p:grpSpPr>
        <p:sp>
          <p:nvSpPr>
            <p:cNvPr id="200" name=""/>
            <p:cNvSpPr/>
            <p:nvPr/>
          </p:nvSpPr>
          <p:spPr>
            <a:xfrm>
              <a:off x="5791320" y="33526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rt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600" y="35053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571640" y="5715000"/>
            <a:ext cx="2286360" cy="580680"/>
            <a:chOff x="4571640" y="5715000"/>
            <a:chExt cx="2286360" cy="580680"/>
          </a:xfrm>
        </p:grpSpPr>
        <p:sp>
          <p:nvSpPr>
            <p:cNvPr id="203" name=""/>
            <p:cNvSpPr/>
            <p:nvPr/>
          </p:nvSpPr>
          <p:spPr>
            <a:xfrm>
              <a:off x="5715000" y="57150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71640" y="60199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 Stat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1 Locating the Static Services with Clas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rviceF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ice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 convenient way to locate static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or each stat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2 Event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publis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ubscr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le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-of-Responsibility design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top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rror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lone ev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09624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ErrorEv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events issued by a pr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ne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ErrorEv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Object source, String top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 ( source, top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n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clo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source, getTopic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114440" y="1981080"/>
            <a:ext cx="3962880" cy="824040"/>
            <a:chOff x="4114440" y="1981080"/>
            <a:chExt cx="3962880" cy="824040"/>
          </a:xfrm>
        </p:grpSpPr>
        <p:sp>
          <p:nvSpPr>
            <p:cNvPr id="214" name=""/>
            <p:cNvSpPr/>
            <p:nvPr/>
          </p:nvSpPr>
          <p:spPr>
            <a:xfrm>
              <a:off x="5181480" y="19810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Cloneable so that the event service can make multiple copies of the event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114440" y="2438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428640" y="3886200"/>
            <a:ext cx="2819880" cy="457200"/>
            <a:chOff x="3428640" y="3886200"/>
            <a:chExt cx="2819880" cy="457200"/>
          </a:xfrm>
        </p:grpSpPr>
        <p:sp>
          <p:nvSpPr>
            <p:cNvPr id="217" name=""/>
            <p:cNvSpPr/>
            <p:nvPr/>
          </p:nvSpPr>
          <p:spPr>
            <a:xfrm>
              <a:off x="4495680" y="388620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ne event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428640" y="40384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imulates a printer device on a netwo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printerSt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50 sheets of paper in tra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00% full of i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Service 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tor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60199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ventService at given management do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=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s execution of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Aliv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life-cycle of the printer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) if offline, it pauses and wa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2) if online, handles one print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 loop withi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Aliv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24120" y="1295280"/>
            <a:ext cx="2439000" cy="824040"/>
            <a:chOff x="6324120" y="1295280"/>
            <a:chExt cx="2439000" cy="824040"/>
          </a:xfrm>
        </p:grpSpPr>
        <p:sp>
          <p:nvSpPr>
            <p:cNvPr id="224" name=""/>
            <p:cNvSpPr/>
            <p:nvPr/>
          </p:nvSpPr>
          <p:spPr>
            <a:xfrm>
              <a:off x="7086600" y="12952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rvice using class ServiceFi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4120" y="1752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will be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aits for printer becom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ai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wa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Proces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rm up the printer, print top print job from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ck and adjust paper values and ton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rm up printer for incoming batch of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ro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F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a three-tier architecture of management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existing industry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 to Jini and 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60958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&amp;&amp; ( paperInTray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nerCartridg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( !isPaperJam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getNex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12 seconds to print a norma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ach print job uses 10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InTray( paperInTray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ake sure no referrences are left dangl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ing printing proc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Printing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current printed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486040" y="1066680"/>
            <a:ext cx="2134080" cy="337320"/>
            <a:chOff x="5486040" y="1066680"/>
            <a:chExt cx="2134080" cy="337320"/>
          </a:xfrm>
        </p:grpSpPr>
        <p:sp>
          <p:nvSpPr>
            <p:cNvPr id="231" name=""/>
            <p:cNvSpPr/>
            <p:nvPr/>
          </p:nvSpPr>
          <p:spPr>
            <a:xfrm>
              <a:off x="6095880" y="106668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ing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5486040" y="11426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419720" y="2286000"/>
            <a:ext cx="3047760" cy="580680"/>
            <a:chOff x="4419720" y="2286000"/>
            <a:chExt cx="3047760" cy="580680"/>
          </a:xfrm>
        </p:grpSpPr>
        <p:sp>
          <p:nvSpPr>
            <p:cNvPr id="234" name=""/>
            <p:cNvSpPr/>
            <p:nvPr/>
          </p:nvSpPr>
          <p:spPr>
            <a:xfrm>
              <a:off x="6095880" y="22860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printer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419720" y="2590920"/>
              <a:ext cx="16761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647676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paper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InT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perInTray = newValu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paper tray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perInTray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: out of paper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umber of pages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724280" y="1294920"/>
            <a:ext cx="3276720" cy="1296360"/>
            <a:chOff x="4724280" y="1294920"/>
            <a:chExt cx="3276720" cy="1296360"/>
          </a:xfrm>
        </p:grpSpPr>
        <p:sp>
          <p:nvSpPr>
            <p:cNvPr id="239" name=""/>
            <p:cNvSpPr/>
            <p:nvPr/>
          </p:nvSpPr>
          <p:spPr>
            <a:xfrm>
              <a:off x="6248520" y="1523880"/>
              <a:ext cx="1752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paper count and if paper tray is low fire out-of-pap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724280" y="129492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0199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toner available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every print job, toner levels drop 1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tonerCartridg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toner is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nerCartridge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low toner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paper j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random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paper jam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mount of toner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181120" y="1904760"/>
            <a:ext cx="3505680" cy="976680"/>
            <a:chOff x="5181120" y="1904760"/>
            <a:chExt cx="3505680" cy="976680"/>
          </a:xfrm>
        </p:grpSpPr>
        <p:sp>
          <p:nvSpPr>
            <p:cNvPr id="244" name=""/>
            <p:cNvSpPr/>
            <p:nvPr/>
          </p:nvSpPr>
          <p:spPr>
            <a:xfrm>
              <a:off x="6858000" y="20574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oner level and if toner is low fire low-ton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181120" y="19047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23920" y="3276720"/>
            <a:ext cx="3505680" cy="824040"/>
            <a:chOff x="4723920" y="3276720"/>
            <a:chExt cx="3505680" cy="824040"/>
          </a:xfrm>
        </p:grpSpPr>
        <p:sp>
          <p:nvSpPr>
            <p:cNvPr id="247" name=""/>
            <p:cNvSpPr/>
            <p:nvPr/>
          </p:nvSpPr>
          <p:spPr>
            <a:xfrm>
              <a:off x="6324480" y="32767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e paper jam and if paper jam fire paper-jam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723920" y="365760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8088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enishe amount of paper in paper tray to specif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St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add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aper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pages to printer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PaperInTray ( paperInTray + paperStack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tes a random number of print jobs with varying 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ulatePrint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OfJob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 (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umOfJobs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ck.add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_JOB_ID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to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adding toner . . 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ck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43240" y="1066320"/>
            <a:ext cx="1981440" cy="657360"/>
            <a:chOff x="5943240" y="1066320"/>
            <a:chExt cx="1981440" cy="657360"/>
          </a:xfrm>
        </p:grpSpPr>
        <p:sp>
          <p:nvSpPr>
            <p:cNvPr id="252" name=""/>
            <p:cNvSpPr/>
            <p:nvPr/>
          </p:nvSpPr>
          <p:spPr>
            <a:xfrm>
              <a:off x="6629400" y="114300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943240" y="10663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360" y="3886200"/>
            <a:ext cx="2286360" cy="914400"/>
            <a:chOff x="4419360" y="3886200"/>
            <a:chExt cx="2286360" cy="914400"/>
          </a:xfrm>
        </p:grpSpPr>
        <p:sp>
          <p:nvSpPr>
            <p:cNvPr id="255" name=""/>
            <p:cNvSpPr/>
            <p:nvPr/>
          </p:nvSpPr>
          <p:spPr>
            <a:xfrm>
              <a:off x="5562720" y="38862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ill to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419360" y="411480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1722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ext print job in stack, populating the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ex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.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opulatePrintStack (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imulates absence of print job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thread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next print j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topmost queued re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ex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xtJob = ( String ) printerStack.p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extPrint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ll jobs yet to be pri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Job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[] temp = printerStack.toArray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temp.length ]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pendingJob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ndingJobs [ i ] = ( String ) temp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Job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ter status to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setting onlin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waiting st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ter status to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f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setting offlin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191120" y="2514600"/>
            <a:ext cx="2590560" cy="1037880"/>
            <a:chOff x="4191120" y="2514600"/>
            <a:chExt cx="2590560" cy="1037880"/>
          </a:xfrm>
        </p:grpSpPr>
        <p:sp>
          <p:nvSpPr>
            <p:cNvPr id="262" name=""/>
            <p:cNvSpPr/>
            <p:nvPr/>
          </p:nvSpPr>
          <p:spPr>
            <a:xfrm>
              <a:off x="5562720" y="297180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pending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191120" y="25146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Fire printer event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647712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r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Event( String 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event to Even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rrorEvent 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DynamicService.printer.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Message=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erro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rinter.Erro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err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.post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ost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ing ev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re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876560" y="2437920"/>
            <a:ext cx="3886560" cy="824400"/>
            <a:chOff x="4876560" y="2437920"/>
            <a:chExt cx="3886560" cy="824400"/>
          </a:xfrm>
        </p:grpSpPr>
        <p:sp>
          <p:nvSpPr>
            <p:cNvPr id="267" name=""/>
            <p:cNvSpPr/>
            <p:nvPr/>
          </p:nvSpPr>
          <p:spPr>
            <a:xfrm>
              <a:off x="6019920" y="2438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event source and topic-“.Printer.Error.”+erro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4876560" y="24379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43040" y="3200040"/>
            <a:ext cx="3810240" cy="489960"/>
            <a:chOff x="4343040" y="3200040"/>
            <a:chExt cx="3810240" cy="489960"/>
          </a:xfrm>
        </p:grpSpPr>
        <p:sp>
          <p:nvSpPr>
            <p:cNvPr id="270" name=""/>
            <p:cNvSpPr/>
            <p:nvPr/>
          </p:nvSpPr>
          <p:spPr>
            <a:xfrm>
              <a:off x="5486400" y="3352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 an event to Event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4343040" y="32000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3 Lo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a lo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izable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categ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lo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3 Lo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 = value pair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lo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log –doma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irodo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ce file for PrinterManagementImp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4572000" cy="91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Event = {0} event occurred on {1}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TurnOffPrinter = Turn off the printer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TurnOnPrinter = Turn on the pr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erManagementImpl.propertie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876920" y="1600200"/>
            <a:ext cx="2209680" cy="609480"/>
            <a:chOff x="4876920" y="1600200"/>
            <a:chExt cx="2209680" cy="609480"/>
          </a:xfrm>
        </p:grpSpPr>
        <p:sp>
          <p:nvSpPr>
            <p:cNvPr id="280" name=""/>
            <p:cNvSpPr/>
            <p:nvPr/>
          </p:nvSpPr>
          <p:spPr>
            <a:xfrm>
              <a:off x="5715000" y="16002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urce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876920" y="1752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2 Instal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ro Runtime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ro Technology Software Development Kit (SD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of Java v 1.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ment domai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ly identified on the loc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4 Schedulin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utur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RepeatedDate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e repeated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perform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7 Dynamic Service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rvice 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i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iro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deployment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pac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depl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8" name="DeployIgniter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419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7.1 Dynamic Service Us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a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iate the dynamic service (first time u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ManagementSt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lookup service to find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namicServiceF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 management conso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Client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81680" y="838080"/>
            <a:ext cx="23623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Star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obtain station addre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655344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ManagementStar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i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Management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( String domai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 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ation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ionAddress station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onAddress( domai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181480" y="4343400"/>
            <a:ext cx="2362320" cy="533520"/>
            <a:chOff x="5181480" y="4343400"/>
            <a:chExt cx="2362320" cy="533520"/>
          </a:xfrm>
        </p:grpSpPr>
        <p:sp>
          <p:nvSpPr>
            <p:cNvPr id="294" name=""/>
            <p:cNvSpPr/>
            <p:nvPr/>
          </p:nvSpPr>
          <p:spPr>
            <a:xfrm>
              <a:off x="5638680" y="43434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81480" y="45720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90760" y="5257800"/>
            <a:ext cx="3200760" cy="533520"/>
            <a:chOff x="4190760" y="5257800"/>
            <a:chExt cx="3200760" cy="533520"/>
          </a:xfrm>
        </p:grpSpPr>
        <p:sp>
          <p:nvSpPr>
            <p:cNvPr id="297" name=""/>
            <p:cNvSpPr/>
            <p:nvPr/>
          </p:nvSpPr>
          <p:spPr>
            <a:xfrm>
              <a:off x="5257800" y="52578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tatio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190760" y="54100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instantiate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6294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ies of dynamic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start th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ment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proxies and starting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PrinterManagementStarter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Starter printerManagementStar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62520" y="304920"/>
            <a:ext cx="2895480" cy="838080"/>
            <a:chOff x="3962520" y="304920"/>
            <a:chExt cx="2895480" cy="838080"/>
          </a:xfrm>
        </p:grpSpPr>
        <p:sp>
          <p:nvSpPr>
            <p:cNvPr id="302" name=""/>
            <p:cNvSpPr/>
            <p:nvPr/>
          </p:nvSpPr>
          <p:spPr>
            <a:xfrm>
              <a:off x="5334120" y="30492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962520" y="609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ynamicServiceFin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ynamicServiceFin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iscovers lookup service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s dynamic service prox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Service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sFou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gistrar[] registra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ent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ynamicServiceF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, Entry[] serviceEntrie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 = serviceEnt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Discovery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181480" y="5105520"/>
            <a:ext cx="2895840" cy="838080"/>
            <a:chOff x="5181480" y="5105520"/>
            <a:chExt cx="2895840" cy="838080"/>
          </a:xfrm>
        </p:grpSpPr>
        <p:sp>
          <p:nvSpPr>
            <p:cNvPr id="307" name=""/>
            <p:cNvSpPr/>
            <p:nvPr/>
          </p:nvSpPr>
          <p:spPr>
            <a:xfrm>
              <a:off x="6172200" y="5105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814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discover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wait until find lookup service(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563904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domain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th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ver lookup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Discovery.addDiscoveryListene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until woken up by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aiting for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it for lookup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ynamicServiceF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29200" y="1295280"/>
            <a:ext cx="1981080" cy="809280"/>
            <a:chOff x="5029200" y="1295280"/>
            <a:chExt cx="1981080" cy="809280"/>
          </a:xfrm>
        </p:grpSpPr>
        <p:sp>
          <p:nvSpPr>
            <p:cNvPr id="312" name=""/>
            <p:cNvSpPr/>
            <p:nvPr/>
          </p:nvSpPr>
          <p:spPr>
            <a:xfrm>
              <a:off x="5486400" y="15238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029200" y="1295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43400" y="3886200"/>
            <a:ext cx="2971800" cy="580680"/>
            <a:chOff x="4343400" y="3886200"/>
            <a:chExt cx="2971800" cy="580680"/>
          </a:xfrm>
        </p:grpSpPr>
        <p:sp>
          <p:nvSpPr>
            <p:cNvPr id="315" name=""/>
            <p:cNvSpPr/>
            <p:nvPr/>
          </p:nvSpPr>
          <p:spPr>
            <a:xfrm>
              <a:off x="5715000" y="38862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it until find lookup service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4343400" y="419076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lookup service registra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gnore invalid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ookup dynamic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new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 up all waiting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invali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lookup service to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Template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service = registra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lookup( temp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prox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019920" y="3505320"/>
            <a:ext cx="2361960" cy="580680"/>
            <a:chOff x="6019920" y="3505320"/>
            <a:chExt cx="2361960" cy="580680"/>
          </a:xfrm>
        </p:grpSpPr>
        <p:sp>
          <p:nvSpPr>
            <p:cNvPr id="320" name=""/>
            <p:cNvSpPr/>
            <p:nvPr/>
          </p:nvSpPr>
          <p:spPr>
            <a:xfrm>
              <a:off x="6934320" y="3505320"/>
              <a:ext cx="1447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920" y="38098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800240" y="4343400"/>
            <a:ext cx="3200760" cy="732960"/>
            <a:chOff x="4800240" y="4343400"/>
            <a:chExt cx="3200760" cy="732960"/>
          </a:xfrm>
        </p:grpSpPr>
        <p:sp>
          <p:nvSpPr>
            <p:cNvPr id="323" name=""/>
            <p:cNvSpPr/>
            <p:nvPr/>
          </p:nvSpPr>
          <p:spPr>
            <a:xfrm>
              <a:off x="6400800" y="44956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4800240" y="434340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71440" y="1676520"/>
            <a:ext cx="4038840" cy="656640"/>
            <a:chOff x="2971440" y="1676520"/>
            <a:chExt cx="4038840" cy="656640"/>
          </a:xfrm>
        </p:grpSpPr>
        <p:sp>
          <p:nvSpPr>
            <p:cNvPr id="326" name=""/>
            <p:cNvSpPr/>
            <p:nvPr/>
          </p:nvSpPr>
          <p:spPr>
            <a:xfrm>
              <a:off x="4191120" y="1752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ke up all waiting threads when discover a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2971440" y="16765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Client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dynamic service and management policies, and call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iro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3 Starting Ji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event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StatusTextAre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EventTextAre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observ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( String domai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RO Printer Management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reference to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rinterManagementProxy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event service as an observ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Observ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Statu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statu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34120" y="2895480"/>
            <a:ext cx="2666880" cy="609840"/>
            <a:chOff x="5334120" y="2895480"/>
            <a:chExt cx="2666880" cy="609840"/>
          </a:xfrm>
        </p:grpSpPr>
        <p:sp>
          <p:nvSpPr>
            <p:cNvPr id="333" name=""/>
            <p:cNvSpPr/>
            <p:nvPr/>
          </p:nvSpPr>
          <p:spPr>
            <a:xfrm>
              <a:off x="6095880" y="28954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334120" y="30481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05520" y="5181480"/>
            <a:ext cx="3200400" cy="838440"/>
            <a:chOff x="5105520" y="5181480"/>
            <a:chExt cx="3200400" cy="838440"/>
          </a:xfrm>
        </p:grpSpPr>
        <p:sp>
          <p:nvSpPr>
            <p:cNvPr id="336" name=""/>
            <p:cNvSpPr/>
            <p:nvPr/>
          </p:nvSpPr>
          <p:spPr>
            <a:xfrm>
              <a:off x="5943600" y="51814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panel displays printer status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105520" y="5486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28240" y="7596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getViewport()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add( statu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heck Statu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heckStatus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Statu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Statu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heckStatu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Remove Jammed Pape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ncelJobs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 Pending Print Jo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celJob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ncelJob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648320" y="2438280"/>
            <a:ext cx="3657600" cy="337320"/>
            <a:chOff x="4648320" y="2438280"/>
            <a:chExt cx="3657600" cy="337320"/>
          </a:xfrm>
        </p:grpSpPr>
        <p:sp>
          <p:nvSpPr>
            <p:cNvPr id="341" name=""/>
            <p:cNvSpPr/>
            <p:nvPr/>
          </p:nvSpPr>
          <p:spPr>
            <a:xfrm>
              <a:off x="6019920" y="2438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heck Statu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48320" y="2590920"/>
              <a:ext cx="1371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4952880"/>
            <a:ext cx="4267080" cy="337320"/>
            <a:chOff x="4572000" y="4952880"/>
            <a:chExt cx="4267080" cy="337320"/>
          </a:xfrm>
        </p:grpSpPr>
        <p:sp>
          <p:nvSpPr>
            <p:cNvPr id="344" name=""/>
            <p:cNvSpPr/>
            <p:nvPr/>
          </p:nvSpPr>
          <p:spPr>
            <a:xfrm>
              <a:off x="5486400" y="49528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572000" y="49528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4767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ree buttons to th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heckStatu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ancelJob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Eve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event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getViewport().ad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add( event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e t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Status: ---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s: ---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all the panels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Statu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Even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952880" y="1981080"/>
            <a:ext cx="3505320" cy="685800"/>
            <a:chOff x="4952880" y="1981080"/>
            <a:chExt cx="3505320" cy="685800"/>
          </a:xfrm>
        </p:grpSpPr>
        <p:sp>
          <p:nvSpPr>
            <p:cNvPr id="349" name=""/>
            <p:cNvSpPr/>
            <p:nvPr/>
          </p:nvSpPr>
          <p:spPr>
            <a:xfrm>
              <a:off x="6019920" y="19810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panel display printer ev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52880" y="23623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 check printer stat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088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lease observer listener and cancel scheduled tas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window 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lease listener and cancel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easeRenewalManager.remove( observ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leasing observer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erminate th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print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StatusButtonAction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Remain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629400" y="1219320"/>
            <a:ext cx="1828800" cy="824040"/>
            <a:chOff x="6629400" y="1219320"/>
            <a:chExt cx="1828800" cy="824040"/>
          </a:xfrm>
        </p:grpSpPr>
        <p:sp>
          <p:nvSpPr>
            <p:cNvPr id="354" name=""/>
            <p:cNvSpPr/>
            <p:nvPr/>
          </p:nvSpPr>
          <p:spPr>
            <a:xfrm>
              <a:off x="7543800" y="1219320"/>
              <a:ext cx="914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ease observer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629400" y="15238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0760" y="5715000"/>
            <a:ext cx="2819520" cy="718200"/>
            <a:chOff x="4190760" y="5715000"/>
            <a:chExt cx="2819520" cy="718200"/>
          </a:xfrm>
        </p:grpSpPr>
        <p:sp>
          <p:nvSpPr>
            <p:cNvPr id="357" name=""/>
            <p:cNvSpPr/>
            <p:nvPr/>
          </p:nvSpPr>
          <p:spPr>
            <a:xfrm>
              <a:off x="5181480" y="6095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4190760" y="57150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62560" y="838080"/>
            <a:ext cx="1981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heck printer statu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status from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304920"/>
            <a:ext cx="70102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nage printer remo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on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Online = printerManagementProxy.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paper jam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printerManagementProxy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ing is pring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rinting = printerManagementProxy.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Remaining = printerManagementProxy.getPaperIn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Job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get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lling dynamic servic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online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N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FF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248520" y="2666880"/>
            <a:ext cx="2666880" cy="580680"/>
            <a:chOff x="6248520" y="2666880"/>
            <a:chExt cx="2666880" cy="580680"/>
          </a:xfrm>
        </p:grpSpPr>
        <p:sp>
          <p:nvSpPr>
            <p:cNvPr id="362" name=""/>
            <p:cNvSpPr/>
            <p:nvPr/>
          </p:nvSpPr>
          <p:spPr>
            <a:xfrm>
              <a:off x="7467480" y="26668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tatus from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248520" y="2743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67080" y="5410080"/>
            <a:ext cx="2362320" cy="533520"/>
            <a:chOff x="4267080" y="5410080"/>
            <a:chExt cx="2362320" cy="533520"/>
          </a:xfrm>
        </p:grpSpPr>
        <p:sp>
          <p:nvSpPr>
            <p:cNvPr id="365" name=""/>
            <p:cNvSpPr/>
            <p:nvPr/>
          </p:nvSpPr>
          <p:spPr>
            <a:xfrm>
              <a:off x="5181480" y="5410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67080" y="5562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Cancel print job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64008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aper jam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aperJam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 jammed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aper Jam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rinting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rint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currently printing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not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paper tray condi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paper tray ha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paperRemaining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ges remain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 of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pending job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pendingJob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Statu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JobsButtonAction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86400" y="1980720"/>
            <a:ext cx="2362320" cy="337680"/>
            <a:chOff x="5486400" y="1980720"/>
            <a:chExt cx="2362320" cy="337680"/>
          </a:xfrm>
        </p:grpSpPr>
        <p:sp>
          <p:nvSpPr>
            <p:cNvPr id="370" name=""/>
            <p:cNvSpPr/>
            <p:nvPr/>
          </p:nvSpPr>
          <p:spPr>
            <a:xfrm>
              <a:off x="6400800" y="1981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486400" y="19807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952520" y="5334120"/>
            <a:ext cx="3200760" cy="489600"/>
            <a:chOff x="4952520" y="5334120"/>
            <a:chExt cx="3200760" cy="489600"/>
          </a:xfrm>
        </p:grpSpPr>
        <p:sp>
          <p:nvSpPr>
            <p:cNvPr id="373" name=""/>
            <p:cNvSpPr/>
            <p:nvPr/>
          </p:nvSpPr>
          <p:spPr>
            <a:xfrm>
              <a:off x="6553080" y="54864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952520" y="533412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let DynamicServiceFinder get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 Subscribe to event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1 get event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4767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ancelJob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 fo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berObserver( String domai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print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876560" y="2895480"/>
            <a:ext cx="2438640" cy="580680"/>
            <a:chOff x="4876560" y="2895480"/>
            <a:chExt cx="2438640" cy="580680"/>
          </a:xfrm>
        </p:grpSpPr>
        <p:sp>
          <p:nvSpPr>
            <p:cNvPr id="378" name=""/>
            <p:cNvSpPr/>
            <p:nvPr/>
          </p:nvSpPr>
          <p:spPr>
            <a:xfrm>
              <a:off x="5867280" y="28954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876560" y="297144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419360" y="3886200"/>
            <a:ext cx="4496040" cy="732960"/>
            <a:chOff x="4419360" y="3886200"/>
            <a:chExt cx="4496040" cy="732960"/>
          </a:xfrm>
        </p:grpSpPr>
        <p:sp>
          <p:nvSpPr>
            <p:cNvPr id="381" name=""/>
            <p:cNvSpPr/>
            <p:nvPr/>
          </p:nvSpPr>
          <p:spPr>
            <a:xfrm>
              <a:off x="6477120" y="4038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419360" y="388620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724280" y="5791320"/>
            <a:ext cx="3048120" cy="457200"/>
            <a:chOff x="4724280" y="5791320"/>
            <a:chExt cx="3048120" cy="457200"/>
          </a:xfrm>
        </p:grpSpPr>
        <p:sp>
          <p:nvSpPr>
            <p:cNvPr id="384" name=""/>
            <p:cNvSpPr/>
            <p:nvPr/>
          </p:nvSpPr>
          <p:spPr>
            <a:xfrm>
              <a:off x="6172200" y="5791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724280" y="60199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2 subscribe to printer ev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.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66294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an observing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vent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Imp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serverLease = eventService.subscribeOb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serv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ubscribing to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utput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EVENT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( String ) event.getSour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printerEventTextArea, outpu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PrinterClientGUI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410080" y="1218960"/>
            <a:ext cx="2438640" cy="1114200"/>
            <a:chOff x="5410080" y="1218960"/>
            <a:chExt cx="2438640" cy="1114200"/>
          </a:xfrm>
        </p:grpSpPr>
        <p:sp>
          <p:nvSpPr>
            <p:cNvPr id="389" name=""/>
            <p:cNvSpPr/>
            <p:nvPr/>
          </p:nvSpPr>
          <p:spPr>
            <a:xfrm>
              <a:off x="5410080" y="1752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events and renew listener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5715000" y="12189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171840" y="3429000"/>
            <a:ext cx="2438640" cy="580680"/>
            <a:chOff x="6171840" y="3429000"/>
            <a:chExt cx="2438640" cy="580680"/>
          </a:xfrm>
        </p:grpSpPr>
        <p:sp>
          <p:nvSpPr>
            <p:cNvPr id="392" name=""/>
            <p:cNvSpPr/>
            <p:nvPr/>
          </p:nvSpPr>
          <p:spPr>
            <a:xfrm>
              <a:off x="7238880" y="34290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71840" y="365760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1. Inner 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xtAppen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4767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ClientGUI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appends text to 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using SwingUtil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s invokeLater or invokeAndWait as it modif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Appe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JTextArea area, String new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 = new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 = 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new text in J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append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setCaretPosi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xtAppend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724280" y="2209680"/>
            <a:ext cx="4114800" cy="580680"/>
            <a:chOff x="4724280" y="2209680"/>
            <a:chExt cx="4114800" cy="580680"/>
          </a:xfrm>
        </p:grpSpPr>
        <p:sp>
          <p:nvSpPr>
            <p:cNvPr id="397" name=""/>
            <p:cNvSpPr/>
            <p:nvPr/>
          </p:nvSpPr>
          <p:spPr>
            <a:xfrm>
              <a:off x="6095880" y="22096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Appe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ends tex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4724280" y="228564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1" name="checkStatus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3 Starting Ji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8" name="IgniterInitial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210200" cy="1648080"/>
          </a:xfrm>
          <a:prstGeom prst="rect">
            <a:avLst/>
          </a:prstGeom>
          <a:ln w="0">
            <a:noFill/>
          </a:ln>
        </p:spPr>
      </p:pic>
      <p:pic>
        <p:nvPicPr>
          <p:cNvPr id="99" name="IgniterStart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421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4" name="outofPaperIgnit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10200" cy="3638520"/>
          </a:xfrm>
          <a:prstGeom prst="rect">
            <a:avLst/>
          </a:prstGeom>
          <a:ln w="0">
            <a:noFill/>
          </a:ln>
        </p:spPr>
      </p:pic>
      <p:pic>
        <p:nvPicPr>
          <p:cNvPr id="405" name="outofPaperGUI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572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 Management Polic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handle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ion of a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e-grain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ofPaperPolic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647712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ofPaperPolic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ofPaperPolicy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601992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ofPaperPolicyImpl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vents generated by printer by registe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 responsibl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reference to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reference to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printer out-of-paper policy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listen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ofPap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as an responsible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he OutofPap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dynamic service entry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 = getPrinterManagementProx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responsibl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Leas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rvice.subscribeResponsibleBefo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.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EventListe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476760" y="3505320"/>
            <a:ext cx="2362320" cy="580680"/>
            <a:chOff x="6476760" y="3505320"/>
            <a:chExt cx="2362320" cy="580680"/>
          </a:xfrm>
        </p:grpSpPr>
        <p:sp>
          <p:nvSpPr>
            <p:cNvPr id="415" name=""/>
            <p:cNvSpPr/>
            <p:nvPr/>
          </p:nvSpPr>
          <p:spPr>
            <a:xfrm>
              <a:off x="708660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476760" y="3809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876920" y="4572000"/>
            <a:ext cx="3276360" cy="685800"/>
            <a:chOff x="4876920" y="4572000"/>
            <a:chExt cx="3276360" cy="685800"/>
          </a:xfrm>
        </p:grpSpPr>
        <p:sp>
          <p:nvSpPr>
            <p:cNvPr id="418" name=""/>
            <p:cNvSpPr/>
            <p:nvPr/>
          </p:nvSpPr>
          <p:spPr>
            <a:xfrm>
              <a:off x="6553080" y="4648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638680" y="4572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876920" y="495288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866920" y="5410080"/>
            <a:ext cx="2896200" cy="824040"/>
            <a:chOff x="5866920" y="5410080"/>
            <a:chExt cx="2896200" cy="824040"/>
          </a:xfrm>
        </p:grpSpPr>
        <p:sp>
          <p:nvSpPr>
            <p:cNvPr id="422" name=""/>
            <p:cNvSpPr/>
            <p:nvPr/>
          </p:nvSpPr>
          <p:spPr>
            <a:xfrm>
              <a:off x="6705720" y="54100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out-of-paper policy as responsible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66920" y="586728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top the polic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starting polic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arting LowToner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star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ofPap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OutofPap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ping OutofPap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pir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cancel( listen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stopp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952520" y="4572000"/>
            <a:ext cx="3277080" cy="838080"/>
            <a:chOff x="4952520" y="4572000"/>
            <a:chExt cx="3277080" cy="838080"/>
          </a:xfrm>
        </p:grpSpPr>
        <p:sp>
          <p:nvSpPr>
            <p:cNvPr id="427" name=""/>
            <p:cNvSpPr/>
            <p:nvPr/>
          </p:nvSpPr>
          <p:spPr>
            <a:xfrm>
              <a:off x="6095880" y="4572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ire listener’s lease to stop the poli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952520" y="487692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identify event sour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canceling le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OutofPaper 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NotHandle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source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Object =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getting event sourc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 sour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333760" y="2514600"/>
            <a:ext cx="3429360" cy="489600"/>
            <a:chOff x="5333760" y="2514600"/>
            <a:chExt cx="3429360" cy="489600"/>
          </a:xfrm>
        </p:grpSpPr>
        <p:sp>
          <p:nvSpPr>
            <p:cNvPr id="432" name=""/>
            <p:cNvSpPr/>
            <p:nvPr/>
          </p:nvSpPr>
          <p:spPr>
            <a:xfrm>
              <a:off x="6400800" y="2666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333760" y="2514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334120" y="4038480"/>
            <a:ext cx="2743200" cy="337320"/>
            <a:chOff x="5334120" y="4038480"/>
            <a:chExt cx="2743200" cy="337320"/>
          </a:xfrm>
        </p:grpSpPr>
        <p:sp>
          <p:nvSpPr>
            <p:cNvPr id="435" name=""/>
            <p:cNvSpPr/>
            <p:nvPr/>
          </p:nvSpPr>
          <p:spPr>
            <a:xfrm>
              <a:off x="6095880" y="40384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334120" y="41911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automatic handle out-of-pap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6294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itely no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sourceObject instanceof String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r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sourc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erify origin of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.deitel.advjhtp1.jiro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Service.printer.ErrorMessage=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fPaperPolicy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dling OutofPaperEven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plenish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addPa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the log message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ofPaperPolicyImpl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257800" y="3505320"/>
            <a:ext cx="2743200" cy="580680"/>
            <a:chOff x="5257800" y="3505320"/>
            <a:chExt cx="2743200" cy="580680"/>
          </a:xfrm>
        </p:grpSpPr>
        <p:sp>
          <p:nvSpPr>
            <p:cNvPr id="440" name=""/>
            <p:cNvSpPr/>
            <p:nvPr/>
          </p:nvSpPr>
          <p:spPr>
            <a:xfrm>
              <a:off x="624852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c handle out-of-pap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257800" y="380988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86400" y="5410080"/>
            <a:ext cx="2971800" cy="457200"/>
            <a:chOff x="5486400" y="5410080"/>
            <a:chExt cx="2971800" cy="457200"/>
          </a:xfrm>
        </p:grpSpPr>
        <p:sp>
          <p:nvSpPr>
            <p:cNvPr id="443" name=""/>
            <p:cNvSpPr/>
            <p:nvPr/>
          </p:nvSpPr>
          <p:spPr>
            <a:xfrm>
              <a:off x="6400800" y="54100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486400" y="56386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19920" y="2133720"/>
            <a:ext cx="2971800" cy="337320"/>
            <a:chOff x="6019920" y="2133720"/>
            <a:chExt cx="2971800" cy="337320"/>
          </a:xfrm>
        </p:grpSpPr>
        <p:sp>
          <p:nvSpPr>
            <p:cNvPr id="446" name=""/>
            <p:cNvSpPr/>
            <p:nvPr/>
          </p:nvSpPr>
          <p:spPr>
            <a:xfrm>
              <a:off x="6934320" y="2133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ty origin of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019920" y="228600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70572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OutofPaper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g action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posting log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 even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fPaperPolic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handling OutofPap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sponsible listener requir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not handling 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47960" y="1599840"/>
            <a:ext cx="3581640" cy="337680"/>
            <a:chOff x="4647960" y="1599840"/>
            <a:chExt cx="3581640" cy="337680"/>
          </a:xfrm>
        </p:grpSpPr>
        <p:sp>
          <p:nvSpPr>
            <p:cNvPr id="451" name=""/>
            <p:cNvSpPr/>
            <p:nvPr/>
          </p:nvSpPr>
          <p:spPr>
            <a:xfrm>
              <a:off x="5715000" y="16002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event handled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4647960" y="15998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410080" y="4876560"/>
            <a:ext cx="3353040" cy="413640"/>
            <a:chOff x="5410080" y="4876560"/>
            <a:chExt cx="3353040" cy="413640"/>
          </a:xfrm>
        </p:grpSpPr>
        <p:sp>
          <p:nvSpPr>
            <p:cNvPr id="454" name=""/>
            <p:cNvSpPr/>
            <p:nvPr/>
          </p:nvSpPr>
          <p:spPr>
            <a:xfrm>
              <a:off x="6400800" y="4952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event from out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5410080" y="4876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et DynamicServiceFinder get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Implement getLookupEntries to declare the class as dynamic servi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rce fi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s prox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fma.domai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s class as dynamic service during deplo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vate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6019920"/>
            <a:ext cx="4800600" cy="55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 = Added paper to {0} on {1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operty file for OutofPaperPolicyIm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800600" y="1294920"/>
            <a:ext cx="1905120" cy="581040"/>
            <a:chOff x="4800600" y="1294920"/>
            <a:chExt cx="1905120" cy="581040"/>
          </a:xfrm>
        </p:grpSpPr>
        <p:sp>
          <p:nvSpPr>
            <p:cNvPr id="460" name=""/>
            <p:cNvSpPr/>
            <p:nvPr/>
          </p:nvSpPr>
          <p:spPr>
            <a:xfrm>
              <a:off x="5257800" y="12952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4800600" y="129492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095880" y="3123720"/>
            <a:ext cx="3048120" cy="581040"/>
            <a:chOff x="6095880" y="3123720"/>
            <a:chExt cx="3048120" cy="581040"/>
          </a:xfrm>
        </p:grpSpPr>
        <p:sp>
          <p:nvSpPr>
            <p:cNvPr id="463" name=""/>
            <p:cNvSpPr/>
            <p:nvPr/>
          </p:nvSpPr>
          <p:spPr>
            <a:xfrm>
              <a:off x="6705720" y="31240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095880" y="31237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952520" y="4647960"/>
            <a:ext cx="3886560" cy="657000"/>
            <a:chOff x="4952520" y="4647960"/>
            <a:chExt cx="3886560" cy="657000"/>
          </a:xfrm>
        </p:grpSpPr>
        <p:sp>
          <p:nvSpPr>
            <p:cNvPr id="466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e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952520" y="4647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4 Dynamic vs. Stat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ize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dynamic and 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wTonerPolic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64767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LowTonerPolic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wTonerPolicy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0958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TonerPolicyImpl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vents generated by printer by regist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 responsibl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reference to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reference to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printer low-toner policy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listen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wTon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as an responsible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the LowTon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dynamic service entry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 = getPrinterManagementProx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responsibl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Leas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rvice.subscribeResponsibleBefo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.Low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EventListe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29040" y="3505320"/>
            <a:ext cx="2209680" cy="580680"/>
            <a:chOff x="6629040" y="3505320"/>
            <a:chExt cx="2209680" cy="580680"/>
          </a:xfrm>
        </p:grpSpPr>
        <p:sp>
          <p:nvSpPr>
            <p:cNvPr id="475" name=""/>
            <p:cNvSpPr/>
            <p:nvPr/>
          </p:nvSpPr>
          <p:spPr>
            <a:xfrm>
              <a:off x="708624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29040" y="3809880"/>
              <a:ext cx="456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05160" y="4572000"/>
            <a:ext cx="3048120" cy="685800"/>
            <a:chOff x="5105160" y="4572000"/>
            <a:chExt cx="3048120" cy="685800"/>
          </a:xfrm>
        </p:grpSpPr>
        <p:sp>
          <p:nvSpPr>
            <p:cNvPr id="478" name=""/>
            <p:cNvSpPr/>
            <p:nvPr/>
          </p:nvSpPr>
          <p:spPr>
            <a:xfrm>
              <a:off x="6553080" y="4648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715000" y="45720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105160" y="49528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866920" y="5410080"/>
            <a:ext cx="2896200" cy="824040"/>
            <a:chOff x="5866920" y="5410080"/>
            <a:chExt cx="2896200" cy="824040"/>
          </a:xfrm>
        </p:grpSpPr>
        <p:sp>
          <p:nvSpPr>
            <p:cNvPr id="482" name=""/>
            <p:cNvSpPr/>
            <p:nvPr/>
          </p:nvSpPr>
          <p:spPr>
            <a:xfrm>
              <a:off x="6705720" y="54100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out-of-paper policy as responsible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866920" y="5791320"/>
              <a:ext cx="838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top the polic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64767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starting policy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ing 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started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owTon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OutofPaper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 the LowTon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pir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cancel( listen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stopp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409720" y="4495680"/>
            <a:ext cx="2743560" cy="762120"/>
            <a:chOff x="5409720" y="4495680"/>
            <a:chExt cx="2743560" cy="762120"/>
          </a:xfrm>
        </p:grpSpPr>
        <p:sp>
          <p:nvSpPr>
            <p:cNvPr id="487" name=""/>
            <p:cNvSpPr/>
            <p:nvPr/>
          </p:nvSpPr>
          <p:spPr>
            <a:xfrm>
              <a:off x="6095880" y="44956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ire listener’s lease to stop the poli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409720" y="48006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identify event sour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5530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canceling lease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NotHandle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source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Object =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getting event source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 sour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409720" y="2209680"/>
            <a:ext cx="3582000" cy="381240"/>
            <a:chOff x="5409720" y="2209680"/>
            <a:chExt cx="3582000" cy="381240"/>
          </a:xfrm>
        </p:grpSpPr>
        <p:sp>
          <p:nvSpPr>
            <p:cNvPr id="492" name=""/>
            <p:cNvSpPr/>
            <p:nvPr/>
          </p:nvSpPr>
          <p:spPr>
            <a:xfrm>
              <a:off x="6629400" y="22096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409720" y="23623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34120" y="4038480"/>
            <a:ext cx="2743200" cy="337320"/>
            <a:chOff x="5334120" y="4038480"/>
            <a:chExt cx="2743200" cy="337320"/>
          </a:xfrm>
        </p:grpSpPr>
        <p:sp>
          <p:nvSpPr>
            <p:cNvPr id="495" name=""/>
            <p:cNvSpPr/>
            <p:nvPr/>
          </p:nvSpPr>
          <p:spPr>
            <a:xfrm>
              <a:off x="6095880" y="40384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334120" y="41911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automatic handle low-ton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itely no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sourceObject instanceof String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r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sourc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erify origin of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Service.printer.ErrorMessage=LowTon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handling LowTon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plenish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add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the log message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wTonerPolicyImpl.cla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arams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05160" y="3505320"/>
            <a:ext cx="2895840" cy="685800"/>
            <a:chOff x="5105160" y="3505320"/>
            <a:chExt cx="2895840" cy="685800"/>
          </a:xfrm>
        </p:grpSpPr>
        <p:sp>
          <p:nvSpPr>
            <p:cNvPr id="500" name=""/>
            <p:cNvSpPr/>
            <p:nvPr/>
          </p:nvSpPr>
          <p:spPr>
            <a:xfrm>
              <a:off x="624852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c handle low-ton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105160" y="38862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181480" y="5105520"/>
            <a:ext cx="3048120" cy="337320"/>
            <a:chOff x="5181480" y="5105520"/>
            <a:chExt cx="3048120" cy="337320"/>
          </a:xfrm>
        </p:grpSpPr>
        <p:sp>
          <p:nvSpPr>
            <p:cNvPr id="503" name=""/>
            <p:cNvSpPr/>
            <p:nvPr/>
          </p:nvSpPr>
          <p:spPr>
            <a:xfrm>
              <a:off x="6172200" y="51055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181480" y="5257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943240" y="1905120"/>
            <a:ext cx="3048480" cy="457200"/>
            <a:chOff x="5943240" y="1905120"/>
            <a:chExt cx="3048480" cy="457200"/>
          </a:xfrm>
        </p:grpSpPr>
        <p:sp>
          <p:nvSpPr>
            <p:cNvPr id="506" name=""/>
            <p:cNvSpPr/>
            <p:nvPr/>
          </p:nvSpPr>
          <p:spPr>
            <a:xfrm>
              <a:off x="7010280" y="190512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origin of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43240" y="205740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5530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LowToner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g action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taking action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k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 even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wTon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handling OutofPap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sponsible listener requir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not handling 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724280" y="1371600"/>
            <a:ext cx="3048120" cy="565920"/>
            <a:chOff x="4724280" y="1371600"/>
            <a:chExt cx="3048120" cy="565920"/>
          </a:xfrm>
        </p:grpSpPr>
        <p:sp>
          <p:nvSpPr>
            <p:cNvPr id="511" name=""/>
            <p:cNvSpPr/>
            <p:nvPr/>
          </p:nvSpPr>
          <p:spPr>
            <a:xfrm>
              <a:off x="5715000" y="1600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4724280" y="13716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962160" y="4038480"/>
            <a:ext cx="3810240" cy="457200"/>
            <a:chOff x="3962160" y="4038480"/>
            <a:chExt cx="3810240" cy="457200"/>
          </a:xfrm>
        </p:grpSpPr>
        <p:sp>
          <p:nvSpPr>
            <p:cNvPr id="514" name=""/>
            <p:cNvSpPr/>
            <p:nvPr/>
          </p:nvSpPr>
          <p:spPr>
            <a:xfrm>
              <a:off x="5410080" y="4038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event from our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962160" y="4191120"/>
              <a:ext cx="1447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et DynamicServiceFinder get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Implement getLookupEntries to declare the class as dynamic servi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rce fi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s prox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fma.domai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s class as dynamic service during deplo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5943600"/>
            <a:ext cx="4648320" cy="55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Action = Added toner to {0} on {1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operty file for LowTonerPolicyIm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571640" y="1294920"/>
            <a:ext cx="2134080" cy="581040"/>
            <a:chOff x="4571640" y="1294920"/>
            <a:chExt cx="2134080" cy="581040"/>
          </a:xfrm>
        </p:grpSpPr>
        <p:sp>
          <p:nvSpPr>
            <p:cNvPr id="520" name=""/>
            <p:cNvSpPr/>
            <p:nvPr/>
          </p:nvSpPr>
          <p:spPr>
            <a:xfrm>
              <a:off x="5257800" y="12952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4571640" y="12949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19560" y="3124080"/>
            <a:ext cx="3124440" cy="1266480"/>
            <a:chOff x="6019560" y="3124080"/>
            <a:chExt cx="3124440" cy="1266480"/>
          </a:xfrm>
        </p:grpSpPr>
        <p:sp>
          <p:nvSpPr>
            <p:cNvPr id="523" name=""/>
            <p:cNvSpPr/>
            <p:nvPr/>
          </p:nvSpPr>
          <p:spPr>
            <a:xfrm>
              <a:off x="6705720" y="3809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6019560" y="3124080"/>
              <a:ext cx="68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876920" y="4724280"/>
            <a:ext cx="3962160" cy="580680"/>
            <a:chOff x="4876920" y="4724280"/>
            <a:chExt cx="3962160" cy="580680"/>
          </a:xfrm>
        </p:grpSpPr>
        <p:sp>
          <p:nvSpPr>
            <p:cNvPr id="526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e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876920" y="47242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management policies with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art Ji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management policies with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JAR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pack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deplo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management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5 Dynam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ro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 dynamic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access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Faç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çad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dynamic servic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7524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685800" y="3505320"/>
          <a:ext cx="7769160" cy="45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99072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85800" y="365760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liciesStar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obtain station addre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oliciesStar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i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nagement polic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licies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( String domai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ofPaperPolicy paperPolicy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wTonerPolicy tonerPolicy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ation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ionAddress station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onAddress( domai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4648320"/>
            <a:ext cx="2971800" cy="380880"/>
            <a:chOff x="5410080" y="4648320"/>
            <a:chExt cx="2971800" cy="380880"/>
          </a:xfrm>
        </p:grpSpPr>
        <p:sp>
          <p:nvSpPr>
            <p:cNvPr id="549" name=""/>
            <p:cNvSpPr/>
            <p:nvPr/>
          </p:nvSpPr>
          <p:spPr>
            <a:xfrm>
              <a:off x="6477120" y="464832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410080" y="48006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419360" y="5486400"/>
            <a:ext cx="3581640" cy="380880"/>
            <a:chOff x="4419360" y="5486400"/>
            <a:chExt cx="3581640" cy="380880"/>
          </a:xfrm>
        </p:grpSpPr>
        <p:sp>
          <p:nvSpPr>
            <p:cNvPr id="552" name=""/>
            <p:cNvSpPr/>
            <p:nvPr/>
          </p:nvSpPr>
          <p:spPr>
            <a:xfrm>
              <a:off x="5867280" y="54864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tatio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419360" y="5715000"/>
              <a:ext cx="144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instantiate management polici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ies of management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Policy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nerPolicy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proxies and starting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licies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PoliciesStarter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liciesStarter policiesStar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324120" y="1218960"/>
            <a:ext cx="2134080" cy="1510200"/>
            <a:chOff x="6324120" y="1218960"/>
            <a:chExt cx="2134080" cy="1510200"/>
          </a:xfrm>
        </p:grpSpPr>
        <p:sp>
          <p:nvSpPr>
            <p:cNvPr id="557" name=""/>
            <p:cNvSpPr/>
            <p:nvPr/>
          </p:nvSpPr>
          <p:spPr>
            <a:xfrm>
              <a:off x="7162920" y="1905120"/>
              <a:ext cx="1295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management poli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324120" y="1218960"/>
              <a:ext cx="8384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1523880"/>
            <a:ext cx="6629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outofPaperIgniter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209840" cy="3638520"/>
          </a:xfrm>
          <a:prstGeom prst="rect">
            <a:avLst/>
          </a:prstGeom>
          <a:ln w="0">
            <a:noFill/>
          </a:ln>
        </p:spPr>
      </p:pic>
      <p:pic>
        <p:nvPicPr>
          <p:cNvPr id="563" name="addPaperIgniter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ewlog tool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6" name="viewLog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859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ewlog tool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9" name="viewLogOne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9 Closing Notes on the Printer Management Solu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y point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cons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0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ro.com/documentcenter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jiro.com/overview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jweb-001.jiro.com/faq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jiro.com/education/recipes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jiro.com/education/recipes/servic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www.sce.carleton.ca/netmanage/NMfor90s/SimpleNM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jweb-001.jiro.com/cgi-bin/Ultimate.cgi?action=in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5.1 Dynamic-Service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ubli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object implementing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ookup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Event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3:45:20Z</dcterms:created>
  <dc:creator>zhang</dc:creator>
  <dc:description/>
  <dc:language>en-US</dc:language>
  <cp:lastModifiedBy>zhang</cp:lastModifiedBy>
  <dcterms:modified xsi:type="dcterms:W3CDTF">2000-08-31T21:16:57Z</dcterms:modified>
  <cp:revision>198</cp:revision>
  <dc:subject/>
  <dc:title>Chapter 25 - Jiro</dc:title>
</cp:coreProperties>
</file>