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62F3-3459-413E-9ADD-B1F7C0550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E661-22D2-407B-9363-DB8D1D36F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A46F-2B20-4726-85FD-3F60ED9AD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223B-D072-4099-9814-31D82A3B9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4F40-4617-458B-9510-ADD0C1E2F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D84A-0FC3-4785-A8D7-7FBCA0FEA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7F94-491A-4A9C-9373-483CC029C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33DB-C644-4D62-92AA-22EF2BD957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7E01-0AB7-48D9-9D1D-43129A954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B502-095E-461F-83C7-1BD4046DC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277C-48B9-450E-8211-3AA6C0CA5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15E1-A948-4DBB-A11D-9C83E142E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687B-9AFB-4DAB-9D3C-ABB75FB71E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0A05-3CF1-4FF1-87ED-D0A5069E3B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D692-76EA-4517-A2B2-FD13E66C0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4FCE-CB24-4F04-963F-2ACA54ECD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B768-BAB9-48F2-BECF-2ABD1B32C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FA34-7215-467A-BEC7-E441901E9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684D-F251-47F4-9E71-455C1CAEA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886A-3984-4A56-877A-DE5CEE386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B4EB-78A8-4106-81B9-080F3EFD9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AE1B-546C-46C3-AA20-382C43329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10F7-4B3A-4CD2-8A5D-D0E843CE2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8E51-E2C8-41F0-BD69-CFD8B2225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AC8-2C5F-4D09-9788-2C61FE5AF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C93-720D-492B-91AE-80988446E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7: Enterprise Java Case Study: Architectural Overview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Booksto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ystem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erprise Java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ity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ful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let Controller 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XSLT Presentatio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2   Stateful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sessio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s customer’s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business-logic component in Deite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 Servlet Controller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-tier interface between client and 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the controller in MVC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 with EJB business-logic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client requests (via HTTP and W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as X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XML documents through XSL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presentation for each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 XSLT Presentation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ppropriate presentation for each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ervlet employs XS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XS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X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W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c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file generat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atalo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rodu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sb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sb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blisher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blish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uthor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uth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ric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ric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g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g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ag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s/xmlhtp1.jp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m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edia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di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quanti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quanti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rodu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talo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43400" y="1752480"/>
            <a:ext cx="4114800" cy="1357560"/>
            <a:chOff x="4343400" y="1752480"/>
            <a:chExt cx="4114800" cy="1357560"/>
          </a:xfrm>
        </p:grpSpPr>
        <p:sp>
          <p:nvSpPr>
            <p:cNvPr id="120" name=""/>
            <p:cNvSpPr/>
            <p:nvPr/>
          </p:nvSpPr>
          <p:spPr>
            <a:xfrm>
              <a:off x="5257800" y="2286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 document marks up a product, including the product’s ISBN, title, author, publisher and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343400" y="1752480"/>
              <a:ext cx="914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ductDetails.xsl     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SLT stylesheet for transforming content generated b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GetProductServlet into XHTML.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include template for processing error ele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X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emplate for product ele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xml: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-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link r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copy navigation header into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xsl:for-each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( '/XSLT/XHTML/navigation.xml' 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copy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048120"/>
            <a:ext cx="28195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XHT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create div element with details of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able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mg class = "bookCover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{image}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title} cover image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&lt;!-- AddToCart butt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la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xml:la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 --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link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r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lef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logotiny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al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amp; Associates, Inc. logo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sty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div style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ition: relative; bottom: -5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Search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&gt;&lt;input type="text" size="15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Strin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input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viga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able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AllProduct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Product Catalog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Create Account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Log in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Shopping Cart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OrderHistor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Order History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XML How to Program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by Deitel, Deitel, Nieto, Lin &amp;amp; Sadhu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al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 How to Program cover image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xmlhtp1.jp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bookstore e-business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VC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roductDetails_XHTM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21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W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W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titl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rev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Description: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 colum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2880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W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W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$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ard tit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 How to Progra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o lab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go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ostfield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o lab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 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able tit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olum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352680"/>
            <a:ext cx="2971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L document contains little formatting information, because display capabilities are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roductDetails_WML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MarkUp/html-spec/html-spec_toc.ht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c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-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"author"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by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19112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cHT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!-- create div element with details of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img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"publisher"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&lt;!-- AddToCart butt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form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MarkUp/html-spec/html-spec_toc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META http-equiv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conten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; charset=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 --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 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xmlhtp1.jpg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8" name="productDetails_cHTML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2895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 Deitel Bookst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functionality for commercial on-lin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roduct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ustomer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customers to view previous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unctionality for several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L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TML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ti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data for application (RDB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business logic and controller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interactions between information and client 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’s user interface (e.g., Web brow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35360" y="3105000"/>
            <a:ext cx="3471840" cy="65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705120" cy="83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15560" y="4572000"/>
            <a:ext cx="51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7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tier application model in Deitel Books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666880" y="1066680"/>
            <a:ext cx="4419360" cy="4800600"/>
            <a:chOff x="2666880" y="1066680"/>
            <a:chExt cx="4419360" cy="4800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666880" y="1066680"/>
              <a:ext cx="355860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6276240" y="1909440"/>
              <a:ext cx="785520" cy="34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6276240" y="3103200"/>
              <a:ext cx="810000" cy="9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33360" y="6095880"/>
            <a:ext cx="66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7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architecture of Deitel Bookstore Enterprise Java case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 Enterprise Java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business logic and database abstraction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sessio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 customer’s 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object-based interface to 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JB business logic to create an on-lin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1   Entity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bject-based interface to 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object stored in application’s relational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-car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1  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ntity EJB has corresponding model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properties for each entity EJB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 has correspo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proper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31T13:50:26Z</dcterms:modified>
  <cp:revision>44</cp:revision>
  <dc:subject/>
  <dc:title>Chapter 17: Enterprise Java Case Study: Architectural Overview</dc:title>
</cp:coreProperties>
</file>