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3750-82AA-4DDA-BB80-13004EDED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2BB8-4C5E-4DF9-A8FF-FA1EC2923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FC02-10F5-4F1F-B35C-02C8A66C7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AD38-75A0-414A-99A2-32D1EA855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3102-7D4F-403F-9BD3-2A8B031C81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FBF0-C1BC-4231-B1B8-A1D7041128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C396-9599-4E44-8D34-7CE8CCD1A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E47B-956E-40DC-A23A-7FBA37B00E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46CD-E79C-44BE-AF34-045B3422A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67A3-4E80-4897-8641-6C2E127C6C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016B-C15D-47D5-81F9-78B0EBB44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210C-56F6-47ED-BE3E-3A8B9D38C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E393-903B-4360-935E-7C48C44FA9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B201-D85E-46FA-B0DE-B992F5C7E4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180C-1C41-46EC-935D-7792EB3E93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C524-80EA-41CD-8515-90939D80D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1D2C-84EA-45F9-BC03-42B07E559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2FCB-8616-4C1D-91B9-BFC31E6EF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A428-DB77-469B-9941-D4FDAA3FB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42FA-101F-4166-9D83-774AAC8BC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5CE6-F666-496C-B1F9-AC5A00FFA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1A24-09A2-4B70-90BE-CB6E66B6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B769-8451-4494-827E-A509C7B75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5233-ADD9-4C50-B0A2-0CBEF1DE3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F04F-8201-420E-931A-AD3B8C311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9FE-3E05-4003-ADA3-E4405619C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6: Java Beans Component Model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Beans in Forte for Java Community Edi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eparing a Class to be a JavaBea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a JavaBean: Java Archive Fil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Bean Proper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ound Proper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dexed Properties and Custom Ev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izing JavaBeans for Builder Tool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pertyEdi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iz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18" name="Forteexplorer8" descr=""/>
          <p:cNvPicPr/>
          <p:nvPr/>
        </p:nvPicPr>
        <p:blipFill>
          <a:blip r:embed="rId1"/>
          <a:stretch/>
        </p:blipFill>
        <p:spPr>
          <a:xfrm>
            <a:off x="2905200" y="2709720"/>
            <a:ext cx="3333600" cy="143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7080" y="4646520"/>
            <a:ext cx="569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 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ize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89" name="Fortecustomizerdialog" descr=""/>
          <p:cNvPicPr/>
          <p:nvPr/>
        </p:nvPicPr>
        <p:blipFill>
          <a:blip r:embed="rId1"/>
          <a:stretch/>
        </p:blipFill>
        <p:spPr>
          <a:xfrm>
            <a:off x="2928960" y="2957400"/>
            <a:ext cx="3286080" cy="9432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989360" y="4568760"/>
            <a:ext cx="50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izer Dia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43000" y="2286000"/>
            <a:ext cx="6926400" cy="2457360"/>
            <a:chOff x="1143000" y="2286000"/>
            <a:chExt cx="6926400" cy="2457360"/>
          </a:xfrm>
        </p:grpSpPr>
        <p:pic>
          <p:nvPicPr>
            <p:cNvPr id="122" name="Fortefilemenubar" descr=""/>
            <p:cNvPicPr/>
            <p:nvPr/>
          </p:nvPicPr>
          <p:blipFill>
            <a:blip r:embed="rId1"/>
            <a:stretch/>
          </p:blipFill>
          <p:spPr>
            <a:xfrm>
              <a:off x="1143000" y="2286000"/>
              <a:ext cx="6926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Fortefilemenubarselected" descr=""/>
            <p:cNvPicPr/>
            <p:nvPr/>
          </p:nvPicPr>
          <p:blipFill>
            <a:blip r:embed="rId2"/>
            <a:stretch/>
          </p:blipFill>
          <p:spPr>
            <a:xfrm>
              <a:off x="1143000" y="2743200"/>
              <a:ext cx="1743120" cy="20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3207240" y="50277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26" name="fortenew" descr=""/>
          <p:cNvPicPr/>
          <p:nvPr/>
        </p:nvPicPr>
        <p:blipFill>
          <a:blip r:embed="rId1"/>
          <a:stretch/>
        </p:blipFill>
        <p:spPr>
          <a:xfrm>
            <a:off x="1674720" y="1695600"/>
            <a:ext cx="5792760" cy="3466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74800" y="5332320"/>
            <a:ext cx="41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...- Template Choos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29" name="Forteguieditor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67360" cy="467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9360" y="5865840"/>
            <a:ext cx="33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UI Edi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2" name="Fortecomponentinspector1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2571840" cy="4038480"/>
          </a:xfrm>
          <a:prstGeom prst="rect">
            <a:avLst/>
          </a:prstGeom>
          <a:ln w="0">
            <a:noFill/>
          </a:ln>
        </p:spPr>
      </p:pic>
      <p:pic>
        <p:nvPicPr>
          <p:cNvPr id="133" name="Forteformwindow1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68800" y="5713560"/>
            <a:ext cx="48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6" name="Fortesourceeditor1" descr=""/>
          <p:cNvPicPr/>
          <p:nvPr/>
        </p:nvPicPr>
        <p:blipFill>
          <a:blip r:embed="rId1"/>
          <a:stretch/>
        </p:blipFill>
        <p:spPr>
          <a:xfrm>
            <a:off x="2381400" y="1424160"/>
            <a:ext cx="4381200" cy="4009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51000" y="5560920"/>
            <a:ext cx="317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 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9" name="Fortecomponentpalettebeans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22160" y="4646520"/>
            <a:ext cx="44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2" name="Fortecomponentpalletelogoanim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4720" y="4502160"/>
            <a:ext cx="30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c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5" name="Fortelogoanimator" descr=""/>
          <p:cNvPicPr/>
          <p:nvPr/>
        </p:nvPicPr>
        <p:blipFill>
          <a:blip r:embed="rId1"/>
          <a:stretch/>
        </p:blipFill>
        <p:spPr>
          <a:xfrm>
            <a:off x="3143160" y="247644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141640" y="4879800"/>
            <a:ext cx="52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i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8" name="Fortecomponentinspector2" descr=""/>
          <p:cNvPicPr/>
          <p:nvPr/>
        </p:nvPicPr>
        <p:blipFill>
          <a:blip r:embed="rId1"/>
          <a:stretch/>
        </p:blipFill>
        <p:spPr>
          <a:xfrm>
            <a:off x="3286080" y="1409760"/>
            <a:ext cx="2571840" cy="4038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06080" y="5638680"/>
            <a:ext cx="66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i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rapid application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ing predefined softwa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ponent assemb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e through well-defined services (i.e.,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e code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1" name="Fortecomponentinspectormenu2" descr=""/>
          <p:cNvPicPr/>
          <p:nvPr/>
        </p:nvPicPr>
        <p:blipFill>
          <a:blip r:embed="rId1"/>
          <a:stretch/>
        </p:blipFill>
        <p:spPr>
          <a:xfrm>
            <a:off x="3776760" y="1581120"/>
            <a:ext cx="1590480" cy="3695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28320" y="5484960"/>
            <a:ext cx="70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op down-menu for the background proper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4" name="Fortelogoanimator2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Fortecomponentinspector3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2571840" cy="403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63880" y="5791320"/>
            <a:ext cx="54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ckgrou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or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8" name="Forteexplorer4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52432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68800" y="4424400"/>
            <a:ext cx="46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Wind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ed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33720" y="1676520"/>
            <a:ext cx="4357080" cy="3467160"/>
            <a:chOff x="2133720" y="1676520"/>
            <a:chExt cx="4357080" cy="3467160"/>
          </a:xfrm>
        </p:grpSpPr>
        <p:pic>
          <p:nvPicPr>
            <p:cNvPr id="162" name="Forteexplorer3" descr=""/>
            <p:cNvPicPr/>
            <p:nvPr/>
          </p:nvPicPr>
          <p:blipFill>
            <a:blip r:embed="rId1"/>
            <a:stretch/>
          </p:blipFill>
          <p:spPr>
            <a:xfrm>
              <a:off x="2133720" y="1676520"/>
              <a:ext cx="252396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Forteexplorermenu1" descr=""/>
            <p:cNvPicPr/>
            <p:nvPr/>
          </p:nvPicPr>
          <p:blipFill>
            <a:blip r:embed="rId2"/>
            <a:stretch/>
          </p:blipFill>
          <p:spPr>
            <a:xfrm>
              <a:off x="3852720" y="2486160"/>
              <a:ext cx="15332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Forteexplorermenu2" descr=""/>
            <p:cNvPicPr/>
            <p:nvPr/>
          </p:nvPicPr>
          <p:blipFill>
            <a:blip r:embed="rId3"/>
            <a:stretch/>
          </p:blipFill>
          <p:spPr>
            <a:xfrm>
              <a:off x="5376600" y="2714760"/>
              <a:ext cx="111420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2217240" y="5338800"/>
            <a:ext cx="49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wLay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67" name="Fortecomponentpaletteswing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92604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447280" y="403704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w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0" name="Fortecomponentpalettebutton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446920" y="4646520"/>
            <a:ext cx="47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c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3" name="Forteformwindow2" descr=""/>
          <p:cNvPicPr/>
          <p:nvPr/>
        </p:nvPicPr>
        <p:blipFill>
          <a:blip r:embed="rId1"/>
          <a:stretch/>
        </p:blipFill>
        <p:spPr>
          <a:xfrm>
            <a:off x="3143160" y="247644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91760" y="4807080"/>
            <a:ext cx="48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Wind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6" name="Fortecomponentpalettetext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2571480" cy="403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73360" y="541656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ing text propert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Forteformwindow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0" name="Fortecomponentpaletteselection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51480" y="464652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 Selection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3" name="Fortecomponentpaletteconnection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23240" y="4646520"/>
            <a:ext cx="47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 Connection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e for Java Community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builder tool for assembling JavaBe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ing and manipulating 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ns must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tal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being mani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being installed, beans can be insert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6" name="Fortecomponentpaletteconnection2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54600" y="4570560"/>
            <a:ext cx="33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9" name="Forteformwindow4" descr=""/>
          <p:cNvPicPr/>
          <p:nvPr/>
        </p:nvPicPr>
        <p:blipFill>
          <a:blip r:embed="rId1"/>
          <a:stretch/>
        </p:blipFill>
        <p:spPr>
          <a:xfrm>
            <a:off x="3143160" y="247644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15080" y="4952880"/>
            <a:ext cx="48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2" name="Forteconnectionwizard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584440" cy="4506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48240" y="5867280"/>
            <a:ext cx="353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5" name="Forteconnectionwizard2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584440" cy="4505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73720" y="5943600"/>
            <a:ext cx="40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8" name="Forteconnectionwizard3" descr=""/>
          <p:cNvPicPr/>
          <p:nvPr/>
        </p:nvPicPr>
        <p:blipFill>
          <a:blip r:embed="rId1"/>
          <a:stretch/>
        </p:blipFill>
        <p:spPr>
          <a:xfrm>
            <a:off x="2905200" y="1047600"/>
            <a:ext cx="3333600" cy="4762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35400" y="5943600"/>
            <a:ext cx="63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rtAni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target compon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124080" y="1676520"/>
            <a:ext cx="2795760" cy="3105000"/>
            <a:chOff x="3124080" y="1676520"/>
            <a:chExt cx="2795760" cy="3105000"/>
          </a:xfrm>
        </p:grpSpPr>
        <p:pic>
          <p:nvPicPr>
            <p:cNvPr id="202" name="Forteexplorer6" descr=""/>
            <p:cNvPicPr/>
            <p:nvPr/>
          </p:nvPicPr>
          <p:blipFill>
            <a:blip r:embed="rId1"/>
            <a:stretch/>
          </p:blipFill>
          <p:spPr>
            <a:xfrm>
              <a:off x="3124080" y="1676520"/>
              <a:ext cx="252432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Forteexplorermenu3" descr=""/>
            <p:cNvPicPr/>
            <p:nvPr/>
          </p:nvPicPr>
          <p:blipFill>
            <a:blip r:embed="rId2"/>
            <a:stretch/>
          </p:blipFill>
          <p:spPr>
            <a:xfrm>
              <a:off x="4309920" y="2105280"/>
              <a:ext cx="1609920" cy="26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2446200" y="5181480"/>
            <a:ext cx="42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6" name="Forterunningtab" descr=""/>
          <p:cNvPicPr/>
          <p:nvPr/>
        </p:nvPicPr>
        <p:blipFill>
          <a:blip r:embed="rId1"/>
          <a:stretch/>
        </p:blipFill>
        <p:spPr>
          <a:xfrm>
            <a:off x="1103400" y="1476360"/>
            <a:ext cx="6935760" cy="3905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70240" y="5638680"/>
            <a:ext cx="43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imationWind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nn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  Preparing a Class to be a JavaBea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oAnim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oAnimator.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34: LogoAnim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oAnimator is a JavaBean containing an animated log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,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mages[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Imag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urrent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 animationTi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images and start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[ totalImages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animation fr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s.length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= LogAnimator.class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s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Anima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723920" y="1752480"/>
            <a:ext cx="4039200" cy="1143000"/>
            <a:chOff x="4723920" y="1752480"/>
            <a:chExt cx="4039200" cy="1143000"/>
          </a:xfrm>
        </p:grpSpPr>
        <p:sp>
          <p:nvSpPr>
            <p:cNvPr id="213" name=""/>
            <p:cNvSpPr/>
            <p:nvPr/>
          </p:nvSpPr>
          <p:spPr>
            <a:xfrm>
              <a:off x="6781680" y="17524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JavaBeans must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rializ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723920" y="2133720"/>
              <a:ext cx="2057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43400" y="990720"/>
            <a:ext cx="4495680" cy="1676160"/>
            <a:chOff x="4343400" y="990720"/>
            <a:chExt cx="4495680" cy="1676160"/>
          </a:xfrm>
        </p:grpSpPr>
        <p:sp>
          <p:nvSpPr>
            <p:cNvPr id="216" name=""/>
            <p:cNvSpPr/>
            <p:nvPr/>
          </p:nvSpPr>
          <p:spPr>
            <a:xfrm>
              <a:off x="5638680" y="9907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making it a GUI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43400" y="1295280"/>
              <a:ext cx="1295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581280" y="2895480"/>
            <a:ext cx="5181840" cy="2438640"/>
            <a:chOff x="3581280" y="2895480"/>
            <a:chExt cx="5181840" cy="2438640"/>
          </a:xfrm>
        </p:grpSpPr>
        <p:sp>
          <p:nvSpPr>
            <p:cNvPr id="219" name=""/>
            <p:cNvSpPr/>
            <p:nvPr/>
          </p:nvSpPr>
          <p:spPr>
            <a:xfrm>
              <a:off x="6019920" y="2895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, which contains 30 PNG image that comprise the animated 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581280" y="32767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572000" y="327672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800240" y="3276720"/>
              <a:ext cx="12193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-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2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nder one frame of the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current animation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s[ currentImage ].pain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Image = ( currentImag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totalImag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imer that drives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Anima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animationTimer is null, restart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nimationTim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Im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imationTi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imationTim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from last image displa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animationTimer.isRunning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imationTimer.re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aint when Timer even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action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05160" y="3124080"/>
            <a:ext cx="3657960" cy="1067400"/>
            <a:chOff x="5105160" y="3124080"/>
            <a:chExt cx="3657960" cy="1067400"/>
          </a:xfrm>
        </p:grpSpPr>
        <p:sp>
          <p:nvSpPr>
            <p:cNvPr id="226" name=""/>
            <p:cNvSpPr/>
            <p:nvPr/>
          </p:nvSpPr>
          <p:spPr>
            <a:xfrm>
              <a:off x="6629400" y="312408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ry 50 milli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1051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67280" y="1600200"/>
            <a:ext cx="2819520" cy="580680"/>
            <a:chOff x="5867280" y="1600200"/>
            <a:chExt cx="2819520" cy="580680"/>
          </a:xfrm>
        </p:grpSpPr>
        <p:sp>
          <p:nvSpPr>
            <p:cNvPr id="229" name=""/>
            <p:cNvSpPr/>
            <p:nvPr/>
          </p:nvSpPr>
          <p:spPr>
            <a:xfrm>
              <a:off x="6781680" y="16002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next frame of ani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867280" y="1905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943600" y="5334120"/>
            <a:ext cx="2819520" cy="580680"/>
            <a:chOff x="5943600" y="5334120"/>
            <a:chExt cx="2819520" cy="580680"/>
          </a:xfrm>
        </p:grpSpPr>
        <p:sp>
          <p:nvSpPr>
            <p:cNvPr id="232" name=""/>
            <p:cNvSpPr/>
            <p:nvPr/>
          </p:nvSpPr>
          <p:spPr>
            <a:xfrm>
              <a:off x="6858000" y="53341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aint screen every 50 milli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94360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4" name="ForteMainScreen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648400" cy="4780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69160" y="6095880"/>
            <a:ext cx="42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for Java Community Edition 2.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7-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Timer that drives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Anima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imationTimer.st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imation preferred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imation minimum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bean as standalon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ogoAnim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Animator ani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Frame with title "Animation tes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tor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ogoAnimator to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getContentPane().add( anim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62160" y="1752480"/>
            <a:ext cx="4800960" cy="1433880"/>
            <a:chOff x="3962160" y="1752480"/>
            <a:chExt cx="4800960" cy="1433880"/>
          </a:xfrm>
        </p:grpSpPr>
        <p:sp>
          <p:nvSpPr>
            <p:cNvPr id="237" name=""/>
            <p:cNvSpPr/>
            <p:nvPr/>
          </p:nvSpPr>
          <p:spPr>
            <a:xfrm>
              <a:off x="5867280" y="236232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yout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these two methods to determine how to s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114800" y="1752480"/>
              <a:ext cx="1752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962160" y="274320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window size and validate 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LogoAnim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  Preparing a Class to be a JavaBea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3" name="Fortesourceeditor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5008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140920" y="6095880"/>
            <a:ext cx="49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 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   Creating a JavaBean: Java Archive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rchiv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known as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JavaBe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 manifest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JAR-fil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IFEST.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d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A-I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ory in JA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ifest.t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914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-Class: com.deitel.advjhtp1.beans.LogoAnim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m/deitel/advjhtp1/beans/LogoAnimator.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-Bean: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029200" y="457200"/>
            <a:ext cx="3809880" cy="1357560"/>
            <a:chOff x="5029200" y="457200"/>
            <a:chExt cx="3809880" cy="1357560"/>
          </a:xfrm>
        </p:grpSpPr>
        <p:sp>
          <p:nvSpPr>
            <p:cNvPr id="250" name=""/>
            <p:cNvSpPr/>
            <p:nvPr/>
          </p:nvSpPr>
          <p:spPr>
            <a:xfrm>
              <a:off x="5029200" y="990720"/>
              <a:ext cx="3809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virtual machines can execute the application in this JAR file direc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5257440" y="457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133720" y="914040"/>
            <a:ext cx="5943600" cy="1876320"/>
            <a:chOff x="2133720" y="914040"/>
            <a:chExt cx="5943600" cy="1876320"/>
          </a:xfrm>
        </p:grpSpPr>
        <p:sp>
          <p:nvSpPr>
            <p:cNvPr id="253" name=""/>
            <p:cNvSpPr/>
            <p:nvPr/>
          </p:nvSpPr>
          <p:spPr>
            <a:xfrm>
              <a:off x="5181480" y="22096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treated as a Jav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133720" y="914040"/>
              <a:ext cx="30477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   Creating a JavaBean: Java Archiv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6" name="Fortejarpackager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88320" cy="4562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88640" y="5867280"/>
            <a:ext cx="52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.j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   Creating a JavaBean: Java Archiv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9" name="Fortejarpackager4" descr=""/>
          <p:cNvPicPr/>
          <p:nvPr/>
        </p:nvPicPr>
        <p:blipFill>
          <a:blip r:embed="rId1"/>
          <a:stretch/>
        </p:blipFill>
        <p:spPr>
          <a:xfrm>
            <a:off x="1527120" y="1147680"/>
            <a:ext cx="6087960" cy="4562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91760" y="5943600"/>
            <a:ext cx="44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ife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AR Pack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  JavaBean Proper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c attribute of a Java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/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pair of th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er tool inspects bean methods for thes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known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er exposes that pair of methods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to expos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Background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 col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 getBackgrou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roper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imationDel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39: LogoAnimator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oAnimator2 extends LogoAnimator to inclu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imationDelay property and implements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nimationDelay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nimationDe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imationTimer.setDelay( del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imationDelay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nimationDe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imationTimer.getDe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LogoAnimator in JFrame for tes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ogoAnimato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Animator2 ani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181480" y="2209680"/>
            <a:ext cx="3810240" cy="580680"/>
            <a:chOff x="5181480" y="2209680"/>
            <a:chExt cx="3810240" cy="580680"/>
          </a:xfrm>
        </p:grpSpPr>
        <p:sp>
          <p:nvSpPr>
            <p:cNvPr id="266" name=""/>
            <p:cNvSpPr/>
            <p:nvPr/>
          </p:nvSpPr>
          <p:spPr>
            <a:xfrm>
              <a:off x="5791320" y="2209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user to modify the rate of ani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181480" y="25146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733920" y="3200400"/>
            <a:ext cx="4800600" cy="1266480"/>
            <a:chOff x="3733920" y="3200400"/>
            <a:chExt cx="4800600" cy="1266480"/>
          </a:xfrm>
        </p:grpSpPr>
        <p:sp>
          <p:nvSpPr>
            <p:cNvPr id="269" name=""/>
            <p:cNvSpPr/>
            <p:nvPr/>
          </p:nvSpPr>
          <p:spPr>
            <a:xfrm>
              <a:off x="5867280" y="3886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imationDe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648320" y="320040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733920" y="41911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roper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imationDel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Frame and add LogoAnimator2 to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tor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getContentPane().add( anim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LogoAnimato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9320" y="2819520"/>
            <a:ext cx="6897600" cy="1504800"/>
            <a:chOff x="1219320" y="2819520"/>
            <a:chExt cx="6897600" cy="1504800"/>
          </a:xfrm>
        </p:grpSpPr>
        <p:pic>
          <p:nvPicPr>
            <p:cNvPr id="98" name="Fortetoolsmenubar" descr=""/>
            <p:cNvPicPr/>
            <p:nvPr/>
          </p:nvPicPr>
          <p:blipFill>
            <a:blip r:embed="rId1"/>
            <a:stretch/>
          </p:blipFill>
          <p:spPr>
            <a:xfrm>
              <a:off x="1219320" y="2819520"/>
              <a:ext cx="689760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Fortetoolsmenubarselected" descr=""/>
            <p:cNvPicPr/>
            <p:nvPr/>
          </p:nvPicPr>
          <p:blipFill>
            <a:blip r:embed="rId2"/>
            <a:stretch/>
          </p:blipFill>
          <p:spPr>
            <a:xfrm>
              <a:off x="3276720" y="3200400"/>
              <a:ext cx="189540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2448000" y="479916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 New JavaBean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  JavaBean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5" name="Forteformwindow5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276" name="Fortecomponentinspector4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438640" cy="40575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60760" y="5715000"/>
            <a:ext cx="61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n with proper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Del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ed in Forte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Bean notifies other objects when property valu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mplished via standard Java event-handl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beans.PropertyChange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ns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beans.PropertyChange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41: SliderField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 provides a slider to adjust the anima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eed of LogoAnimator2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 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 boxContai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to support bound property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 changeSuppo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liderField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pertyChangeSupport for bound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0040" y="2362320"/>
            <a:ext cx="5563080" cy="1371600"/>
            <a:chOff x="3200040" y="2362320"/>
            <a:chExt cx="5563080" cy="1371600"/>
          </a:xfrm>
        </p:grpSpPr>
        <p:sp>
          <p:nvSpPr>
            <p:cNvPr id="283" name=""/>
            <p:cNvSpPr/>
            <p:nvPr/>
          </p:nvSpPr>
          <p:spPr>
            <a:xfrm>
              <a:off x="5791320" y="23623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changes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is updated automatically with the new value (and vice vers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200040" y="2895480"/>
              <a:ext cx="2590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952880" y="4343400"/>
            <a:ext cx="3886200" cy="1219320"/>
            <a:chOff x="4952880" y="4343400"/>
            <a:chExt cx="3886200" cy="1219320"/>
          </a:xfrm>
        </p:grpSpPr>
        <p:sp>
          <p:nvSpPr>
            <p:cNvPr id="286" name=""/>
            <p:cNvSpPr/>
            <p:nvPr/>
          </p:nvSpPr>
          <p:spPr>
            <a:xfrm>
              <a:off x="5867280" y="43434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Sup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the listener registration and notification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952880" y="4724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029200" y="472428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slider and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slider.getValue()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ox layout and add slider and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BoxLayou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_AX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add( 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add( Box.createHorizontalStr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add( 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oxContai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hangeListener for J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addChange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state change for J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Changed( ChangeEvent 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CurrentValue( slider.ge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ChangeListen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05320" y="2971800"/>
            <a:ext cx="5257800" cy="580680"/>
            <a:chOff x="3505320" y="2971800"/>
            <a:chExt cx="5257800" cy="580680"/>
          </a:xfrm>
        </p:grpSpPr>
        <p:sp>
          <p:nvSpPr>
            <p:cNvPr id="292" name=""/>
            <p:cNvSpPr/>
            <p:nvPr/>
          </p:nvSpPr>
          <p:spPr>
            <a:xfrm>
              <a:off x="5791320" y="29718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505320" y="3276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2880" y="4572000"/>
            <a:ext cx="3810240" cy="1524600"/>
            <a:chOff x="4952880" y="4572000"/>
            <a:chExt cx="3810240" cy="1524600"/>
          </a:xfrm>
        </p:grpSpPr>
        <p:sp>
          <p:nvSpPr>
            <p:cNvPr id="295" name=""/>
            <p:cNvSpPr/>
            <p:nvPr/>
          </p:nvSpPr>
          <p:spPr>
            <a:xfrm>
              <a:off x="4952880" y="502920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changes,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5410080" y="45720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3-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for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action for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ction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CurrentValu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ger.parseInt( field.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liderField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add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 remove 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remove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429000" y="228600"/>
            <a:ext cx="5257800" cy="580680"/>
            <a:chOff x="3429000" y="228600"/>
            <a:chExt cx="5257800" cy="580680"/>
          </a:xfrm>
        </p:grpSpPr>
        <p:sp>
          <p:nvSpPr>
            <p:cNvPr id="300" name=""/>
            <p:cNvSpPr/>
            <p:nvPr/>
          </p:nvSpPr>
          <p:spPr>
            <a:xfrm>
              <a:off x="5715000" y="228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429000" y="533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105520" y="1600200"/>
            <a:ext cx="3809880" cy="1905480"/>
            <a:chOff x="5105520" y="1600200"/>
            <a:chExt cx="3809880" cy="1905480"/>
          </a:xfrm>
        </p:grpSpPr>
        <p:sp>
          <p:nvSpPr>
            <p:cNvPr id="303" name=""/>
            <p:cNvSpPr/>
            <p:nvPr/>
          </p:nvSpPr>
          <p:spPr>
            <a:xfrm>
              <a:off x="5105520" y="243828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changes,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5409720" y="160020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19360" y="4038480"/>
            <a:ext cx="4496040" cy="1219320"/>
            <a:chOff x="4419360" y="4038480"/>
            <a:chExt cx="4496040" cy="1219320"/>
          </a:xfrm>
        </p:grpSpPr>
        <p:sp>
          <p:nvSpPr>
            <p:cNvPr id="306" name=""/>
            <p:cNvSpPr/>
            <p:nvPr/>
          </p:nvSpPr>
          <p:spPr>
            <a:xfrm>
              <a:off x="6400800" y="4038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to support the registr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4419360" y="411480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723920" y="4495680"/>
              <a:ext cx="1676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7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imum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inimum( minimum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lider.getValue() &lt; slider.getMinimum() )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lider.setValue( slider.getMinimu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eld.setText( String.valueOf( slider.getVa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imum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.getMinimum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aximum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aximum( maximum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lider.getValue() &gt; slider.getMaximum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lider.setValue( slider.getMaximu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eld.setText( String.valueOf( slider.getVa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aximum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.getMaximum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504960" y="533520"/>
            <a:ext cx="5258160" cy="1904760"/>
            <a:chOff x="3504960" y="533520"/>
            <a:chExt cx="5258160" cy="1904760"/>
          </a:xfrm>
        </p:grpSpPr>
        <p:sp>
          <p:nvSpPr>
            <p:cNvPr id="312" name=""/>
            <p:cNvSpPr/>
            <p:nvPr/>
          </p:nvSpPr>
          <p:spPr>
            <a:xfrm>
              <a:off x="5867280" y="6094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4800240" y="53352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504960" y="914400"/>
              <a:ext cx="23619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504960" y="3657600"/>
            <a:ext cx="5258160" cy="1905120"/>
            <a:chOff x="3504960" y="3657600"/>
            <a:chExt cx="5258160" cy="1905120"/>
          </a:xfrm>
        </p:grpSpPr>
        <p:sp>
          <p:nvSpPr>
            <p:cNvPr id="316" name=""/>
            <p:cNvSpPr/>
            <p:nvPr/>
          </p:nvSpPr>
          <p:spPr>
            <a:xfrm>
              <a:off x="5867280" y="373392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4800240" y="36576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504960" y="4038480"/>
              <a:ext cx="236196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1-1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rren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Value = curre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Value = cur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nge slider and textfiel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Value( curre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setText( String.valueOf( current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Property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firePropertyChan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 Integer( oldValu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current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urren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.getValu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eldWid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eld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setColumns( colum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505320" y="685800"/>
            <a:ext cx="5257440" cy="3809880"/>
            <a:chOff x="3505320" y="685800"/>
            <a:chExt cx="5257440" cy="3809880"/>
          </a:xfrm>
        </p:grpSpPr>
        <p:sp>
          <p:nvSpPr>
            <p:cNvPr id="322" name=""/>
            <p:cNvSpPr/>
            <p:nvPr/>
          </p:nvSpPr>
          <p:spPr>
            <a:xfrm>
              <a:off x="5987880" y="3124080"/>
              <a:ext cx="2774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4600080" y="685800"/>
              <a:ext cx="138708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505320" y="3429000"/>
              <a:ext cx="2482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6720" y="3809520"/>
            <a:ext cx="4648320" cy="1220400"/>
            <a:chOff x="4266720" y="3809520"/>
            <a:chExt cx="4648320" cy="1220400"/>
          </a:xfrm>
        </p:grpSpPr>
        <p:sp>
          <p:nvSpPr>
            <p:cNvPr id="326" name=""/>
            <p:cNvSpPr/>
            <p:nvPr/>
          </p:nvSpPr>
          <p:spPr>
            <a:xfrm>
              <a:off x="5241600" y="3962520"/>
              <a:ext cx="3673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bound property, because it notifies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 (via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PropertyChan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266720" y="3809520"/>
              <a:ext cx="974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648320" y="5334120"/>
            <a:ext cx="3429000" cy="580680"/>
            <a:chOff x="4648320" y="5334120"/>
            <a:chExt cx="3429000" cy="580680"/>
          </a:xfrm>
        </p:grpSpPr>
        <p:sp>
          <p:nvSpPr>
            <p:cNvPr id="329" name=""/>
            <p:cNvSpPr/>
            <p:nvPr/>
          </p:nvSpPr>
          <p:spPr>
            <a:xfrm>
              <a:off x="5523840" y="5334120"/>
              <a:ext cx="2553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648320" y="5638680"/>
              <a:ext cx="8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eldWid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ieldWidth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.getColumn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 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Container.getMinimum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Container.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liderField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352680" y="304920"/>
            <a:ext cx="4572000" cy="580680"/>
            <a:chOff x="3352680" y="304920"/>
            <a:chExt cx="4572000" cy="580680"/>
          </a:xfrm>
        </p:grpSpPr>
        <p:sp>
          <p:nvSpPr>
            <p:cNvPr id="334" name=""/>
            <p:cNvSpPr/>
            <p:nvPr/>
          </p:nvSpPr>
          <p:spPr>
            <a:xfrm>
              <a:off x="5257800" y="304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52680" y="6094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fest file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m/deitel/advjhtp1/beans/SliderFieldPanel.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-Bean: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057040" y="762120"/>
            <a:ext cx="6096240" cy="1113840"/>
            <a:chOff x="2057040" y="762120"/>
            <a:chExt cx="6096240" cy="1113840"/>
          </a:xfrm>
        </p:grpSpPr>
        <p:sp>
          <p:nvSpPr>
            <p:cNvPr id="339" name=""/>
            <p:cNvSpPr/>
            <p:nvPr/>
          </p:nvSpPr>
          <p:spPr>
            <a:xfrm>
              <a:off x="4952880" y="1295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treated as a Jav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2057040" y="762120"/>
              <a:ext cx="2895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2" name="comp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343" name="comp2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438640" cy="1809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684080" y="4419720"/>
            <a:ext cx="60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roperti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2" name="Forteinstalljavabean" descr=""/>
          <p:cNvPicPr/>
          <p:nvPr/>
        </p:nvPicPr>
        <p:blipFill>
          <a:blip r:embed="rId1"/>
          <a:stretch/>
        </p:blipFill>
        <p:spPr>
          <a:xfrm>
            <a:off x="2152800" y="1871640"/>
            <a:ext cx="4838400" cy="311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00160" y="518004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 JavaBe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6" name="Forteconnectionwizard4" descr=""/>
          <p:cNvPicPr/>
          <p:nvPr/>
        </p:nvPicPr>
        <p:blipFill>
          <a:blip r:embed="rId1"/>
          <a:stretch/>
        </p:blipFill>
        <p:spPr>
          <a:xfrm>
            <a:off x="2905200" y="2014560"/>
            <a:ext cx="3333600" cy="28288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673360" y="5181480"/>
            <a:ext cx="38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pertyChan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9" name="Forteconnectionwizard5" descr=""/>
          <p:cNvPicPr/>
          <p:nvPr/>
        </p:nvPicPr>
        <p:blipFill>
          <a:blip r:embed="rId1"/>
          <a:stretch/>
        </p:blipFill>
        <p:spPr>
          <a:xfrm>
            <a:off x="2905200" y="2414520"/>
            <a:ext cx="3333600" cy="2028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62560" y="480060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Del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2" name="Forteconnectionwizard6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81400" cy="3486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7720" y="541008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und Propert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5" name="Forteexecuted" descr=""/>
          <p:cNvPicPr/>
          <p:nvPr/>
        </p:nvPicPr>
        <p:blipFill>
          <a:blip r:embed="rId1"/>
          <a:stretch/>
        </p:blipFill>
        <p:spPr>
          <a:xfrm>
            <a:off x="3295800" y="2819520"/>
            <a:ext cx="2552400" cy="1218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32520" y="4495680"/>
            <a:ext cx="62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Fr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standard prop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primitiv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dex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de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functionality not provided by standard Java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util.Event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ener interface exten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util.Event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Ev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-event class indicating a color chang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48 ColorEv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Event is an EventObject subclass that indicat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in col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Ev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sets colo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Event( Object source,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ethod for colo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lor( Color new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= new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thod for colo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lo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819160" y="2057400"/>
            <a:ext cx="5867640" cy="580680"/>
            <a:chOff x="2819160" y="2057400"/>
            <a:chExt cx="5867640" cy="580680"/>
          </a:xfrm>
        </p:grpSpPr>
        <p:sp>
          <p:nvSpPr>
            <p:cNvPr id="364" name=""/>
            <p:cNvSpPr/>
            <p:nvPr/>
          </p:nvSpPr>
          <p:spPr>
            <a:xfrm>
              <a:off x="5715000" y="20574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resent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819160" y="23623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047760" y="4267080"/>
            <a:ext cx="5562720" cy="1342800"/>
            <a:chOff x="3047760" y="4267080"/>
            <a:chExt cx="5562720" cy="1342800"/>
          </a:xfrm>
        </p:grpSpPr>
        <p:sp>
          <p:nvSpPr>
            <p:cNvPr id="367" name=""/>
            <p:cNvSpPr/>
            <p:nvPr/>
          </p:nvSpPr>
          <p:spPr>
            <a:xfrm>
              <a:off x="6400800" y="5029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4343040" y="4267080"/>
              <a:ext cx="20574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047760" y="53341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Listen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for receiv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Chang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tification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-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49 Color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 listener is the interface for custom event ColorEv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olorChanged ColorEvent to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Changed( ColorEvent color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face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409720" y="1523880"/>
            <a:ext cx="3429360" cy="1310760"/>
            <a:chOff x="5409720" y="1523880"/>
            <a:chExt cx="3429360" cy="1310760"/>
          </a:xfrm>
        </p:grpSpPr>
        <p:sp>
          <p:nvSpPr>
            <p:cNvPr id="373" name=""/>
            <p:cNvSpPr/>
            <p:nvPr/>
          </p:nvSpPr>
          <p:spPr>
            <a:xfrm>
              <a:off x="6248520" y="1523880"/>
              <a:ext cx="25905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 listener interface that calls registered listen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cribing the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56236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5409720" y="175248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0 ColorSlider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SliderPanel contains 3 SliderFieldPanels connected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exed property redGreenBlue that adjusts the red, g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blue colors of an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Slider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redLabel, greenLabel, blue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 redSlider, greenSlider, blue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labelPanel, slider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redGreenB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 listen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for ColorSlide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SliderPan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redGreenB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GreenB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24080" y="1143000"/>
            <a:ext cx="5639040" cy="2209680"/>
            <a:chOff x="3124080" y="1143000"/>
            <a:chExt cx="5639040" cy="2209680"/>
          </a:xfrm>
        </p:grpSpPr>
        <p:sp>
          <p:nvSpPr>
            <p:cNvPr id="379" name=""/>
            <p:cNvSpPr/>
            <p:nvPr/>
          </p:nvSpPr>
          <p:spPr>
            <a:xfrm>
              <a:off x="5029200" y="114300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Slider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JavaBean that issu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hen sliders change color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124080" y="1600200"/>
              <a:ext cx="19051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428640" y="4571640"/>
            <a:ext cx="5029560" cy="1676880"/>
            <a:chOff x="3428640" y="4571640"/>
            <a:chExt cx="5029560" cy="1676880"/>
          </a:xfrm>
        </p:grpSpPr>
        <p:sp>
          <p:nvSpPr>
            <p:cNvPr id="382" name=""/>
            <p:cNvSpPr/>
            <p:nvPr/>
          </p:nvSpPr>
          <p:spPr>
            <a:xfrm>
              <a:off x="6019920" y="50292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he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495680" y="5334120"/>
              <a:ext cx="1524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3428640" y="4571640"/>
              <a:ext cx="2590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gui components for red 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Min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Max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gui components for green 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Min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Max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gui components for blue 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Min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Max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ayout and add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.add( red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.add( green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.add( blu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.add( red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.add( green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.add( blue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labe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slid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419720" y="838080"/>
            <a:ext cx="4343400" cy="2057400"/>
            <a:chOff x="4419720" y="838080"/>
            <a:chExt cx="4343400" cy="2057400"/>
          </a:xfrm>
        </p:grpSpPr>
        <p:sp>
          <p:nvSpPr>
            <p:cNvPr id="388" name=""/>
            <p:cNvSpPr/>
            <p:nvPr/>
          </p:nvSpPr>
          <p:spPr>
            <a:xfrm>
              <a:off x="609588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he red, green and b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724280" y="18288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571640" y="1828800"/>
              <a:ext cx="1523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4197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5" name="Forteselectjavabean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409920" cy="2990880"/>
          </a:xfrm>
          <a:prstGeom prst="rect">
            <a:avLst/>
          </a:prstGeom>
          <a:ln w="0">
            <a:noFill/>
          </a:ln>
        </p:spPr>
      </p:pic>
      <p:pic>
        <p:nvPicPr>
          <p:cNvPr id="106" name="Fortepalettecategory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409920" cy="2990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63520" y="5027760"/>
            <a:ext cx="53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JavaBe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lette Categ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1-8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8-1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pertyChangeListener for red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propertyChange for red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( PropertyChange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perty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RedGreenB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dSlider.getCurre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pertyChangeListener for green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addPropertyChange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propertyChange for green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( PropertyChange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perty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RedGreenB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reenSlider.getCurre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PropertyChangeListen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572000" y="609120"/>
            <a:ext cx="4267080" cy="1448280"/>
            <a:chOff x="4572000" y="609120"/>
            <a:chExt cx="4267080" cy="1448280"/>
          </a:xfrm>
        </p:grpSpPr>
        <p:sp>
          <p:nvSpPr>
            <p:cNvPr id="395" name=""/>
            <p:cNvSpPr/>
            <p:nvPr/>
          </p:nvSpPr>
          <p:spPr>
            <a:xfrm>
              <a:off x="6400800" y="9144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4572000" y="609120"/>
              <a:ext cx="1828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800240" y="144792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47960" y="3733920"/>
            <a:ext cx="4267440" cy="1447560"/>
            <a:chOff x="4647960" y="3733920"/>
            <a:chExt cx="4267440" cy="1447560"/>
          </a:xfrm>
        </p:grpSpPr>
        <p:sp>
          <p:nvSpPr>
            <p:cNvPr id="399" name=""/>
            <p:cNvSpPr/>
            <p:nvPr/>
          </p:nvSpPr>
          <p:spPr>
            <a:xfrm>
              <a:off x="6248520" y="4038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een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een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4647960" y="373392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181480" y="457200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5-1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pertyChangeListener for blue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propertyChange for blue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( PropertyChange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perty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RedGreenB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lueSlider.getCurre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lorSlider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Color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Listener color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ers must be accessed atomic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s.add( color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648320" y="609120"/>
            <a:ext cx="4267080" cy="1448280"/>
            <a:chOff x="4648320" y="609120"/>
            <a:chExt cx="4267080" cy="1448280"/>
          </a:xfrm>
        </p:grpSpPr>
        <p:sp>
          <p:nvSpPr>
            <p:cNvPr id="405" name=""/>
            <p:cNvSpPr/>
            <p:nvPr/>
          </p:nvSpPr>
          <p:spPr>
            <a:xfrm>
              <a:off x="6400800" y="9144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lue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lue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648320" y="609120"/>
              <a:ext cx="1752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952880" y="14479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5-1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1-1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Color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Listener color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ers must be accessed by one thread on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s.remove( color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re Colo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ColorChang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ers must be accessed atomic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listener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Color with values of redGreenB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 create new ColorEvent with color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GreenBlu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dGreenBlu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dGreenBlu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Event colorEv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Ev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all registered ColorListeners of Color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Listener colorListener = ( Color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Listener.colorChanged( color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733920" y="1828800"/>
            <a:ext cx="4724280" cy="580680"/>
            <a:chOff x="3733920" y="1828800"/>
            <a:chExt cx="4724280" cy="580680"/>
          </a:xfrm>
        </p:grpSpPr>
        <p:sp>
          <p:nvSpPr>
            <p:cNvPr id="411" name=""/>
            <p:cNvSpPr/>
            <p:nvPr/>
          </p:nvSpPr>
          <p:spPr>
            <a:xfrm>
              <a:off x="5943600" y="18288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733920" y="21337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790960" y="5334120"/>
            <a:ext cx="3124440" cy="580680"/>
            <a:chOff x="5790960" y="5334120"/>
            <a:chExt cx="3124440" cy="580680"/>
          </a:xfrm>
        </p:grpSpPr>
        <p:sp>
          <p:nvSpPr>
            <p:cNvPr id="414" name=""/>
            <p:cNvSpPr/>
            <p:nvPr/>
          </p:nvSpPr>
          <p:spPr>
            <a:xfrm>
              <a:off x="6324480" y="5334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-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olor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790960" y="5638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943240" y="3581280"/>
            <a:ext cx="2895840" cy="1219320"/>
            <a:chOff x="5943240" y="3581280"/>
            <a:chExt cx="2895840" cy="1219320"/>
          </a:xfrm>
        </p:grpSpPr>
        <p:sp>
          <p:nvSpPr>
            <p:cNvPr id="417" name=""/>
            <p:cNvSpPr/>
            <p:nvPr/>
          </p:nvSpPr>
          <p:spPr>
            <a:xfrm flipH="1">
              <a:off x="5943240" y="411480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7220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to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9-1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redGreenB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RedGreenBlu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GreenB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redGreenBlue index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dGreenB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GreenBlue[ inde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redGreenB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edGreenB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ra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GreenBlue =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redGreenBlue index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edGreenB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GreenBlue[ index ] =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Color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lorSlide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657240" y="609480"/>
            <a:ext cx="4800960" cy="3124440"/>
            <a:chOff x="3657240" y="609480"/>
            <a:chExt cx="4800960" cy="3124440"/>
          </a:xfrm>
        </p:grpSpPr>
        <p:sp>
          <p:nvSpPr>
            <p:cNvPr id="422" name=""/>
            <p:cNvSpPr/>
            <p:nvPr/>
          </p:nvSpPr>
          <p:spPr>
            <a:xfrm>
              <a:off x="6248520" y="1523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indexed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657240" y="609480"/>
              <a:ext cx="2590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4495320" y="1676520"/>
              <a:ext cx="1752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8006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34120" y="1981080"/>
              <a:ext cx="91440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fest file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avaBea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m/deitel/advjhtp1/beans/ColorSliderPanel.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-Bean: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040" y="762120"/>
            <a:ext cx="6096240" cy="1113840"/>
            <a:chOff x="2057040" y="762120"/>
            <a:chExt cx="6096240" cy="1113840"/>
          </a:xfrm>
        </p:grpSpPr>
        <p:sp>
          <p:nvSpPr>
            <p:cNvPr id="430" name=""/>
            <p:cNvSpPr/>
            <p:nvPr/>
          </p:nvSpPr>
          <p:spPr>
            <a:xfrm>
              <a:off x="4952880" y="1295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Slider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treated as a Jav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2057040" y="762120"/>
              <a:ext cx="2895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3" name="Forteconnectionwizard8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09920" cy="307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457280" y="5029200"/>
            <a:ext cx="611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Chan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Wiz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6" name="Forteconnectionwizard9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33960" cy="2124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231200" y="4572000"/>
            <a:ext cx="66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Backgrou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for targe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9" name="Forteconnectionwizard10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181760" cy="34862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140920" y="5334120"/>
            <a:ext cx="47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ing user code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2" name="Fortecolorslider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933640" cy="1619280"/>
          </a:xfrm>
          <a:prstGeom prst="rect">
            <a:avLst/>
          </a:prstGeom>
          <a:ln w="0">
            <a:noFill/>
          </a:ln>
        </p:spPr>
      </p:pic>
      <p:pic>
        <p:nvPicPr>
          <p:cNvPr id="443" name="Fortecolorslider2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934000" cy="1619280"/>
          </a:xfrm>
          <a:prstGeom prst="rect">
            <a:avLst/>
          </a:prstGeom>
          <a:ln w="0">
            <a:noFill/>
          </a:ln>
        </p:spPr>
      </p:pic>
      <p:pic>
        <p:nvPicPr>
          <p:cNvPr id="444" name="Fortecolorslider3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2933640" cy="1619280"/>
          </a:xfrm>
          <a:prstGeom prst="rect">
            <a:avLst/>
          </a:prstGeom>
          <a:ln w="0">
            <a:noFill/>
          </a:ln>
        </p:spPr>
      </p:pic>
      <p:pic>
        <p:nvPicPr>
          <p:cNvPr id="445" name="Fortecolorslider4" descr=""/>
          <p:cNvPicPr/>
          <p:nvPr/>
        </p:nvPicPr>
        <p:blipFill>
          <a:blip r:embed="rId4"/>
          <a:stretch/>
        </p:blipFill>
        <p:spPr>
          <a:xfrm>
            <a:off x="4952880" y="3505320"/>
            <a:ext cx="2934000" cy="16192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90960" y="5486400"/>
            <a:ext cx="83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hange the background color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  Customizing JavaBeans for Builder Too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ing exposed sets of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ly class that implement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an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b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ean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to builder tool how to present customiz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9" name="fortecomponentpalette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638680" y="1447920"/>
            <a:ext cx="1828800" cy="1600200"/>
            <a:chOff x="5638680" y="1447920"/>
            <a:chExt cx="1828800" cy="1600200"/>
          </a:xfrm>
        </p:grpSpPr>
        <p:sp>
          <p:nvSpPr>
            <p:cNvPr id="111" name=""/>
            <p:cNvSpPr/>
            <p:nvPr/>
          </p:nvSpPr>
          <p:spPr>
            <a:xfrm>
              <a:off x="5638680" y="1447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nent Palet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1828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45760" y="4876920"/>
            <a:ext cx="80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ooltip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vaBe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6 SliderFieldPanelBeanInfo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BeanInfo is the BeanInfo 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BeanInfo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BeanInf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beanCla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FieldPanel.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general description of 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anDescriptor getBeanDescrip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eanDescriptor descrip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anDescrip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eanClass, SliderFieldPanelCustomiz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or.setDisplay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lider Fie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or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slider bar to change a numerical propert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bea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 g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Ki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267080" y="1143000"/>
            <a:ext cx="4114800" cy="1219320"/>
            <a:chOff x="4267080" y="1143000"/>
            <a:chExt cx="4114800" cy="1219320"/>
          </a:xfrm>
        </p:grpSpPr>
        <p:sp>
          <p:nvSpPr>
            <p:cNvPr id="452" name=""/>
            <p:cNvSpPr/>
            <p:nvPr/>
          </p:nvSpPr>
          <p:spPr>
            <a:xfrm>
              <a:off x="5181480" y="1143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Bean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Bean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ean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267080" y="160020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647960" y="2819520"/>
            <a:ext cx="4343760" cy="761760"/>
            <a:chOff x="4647960" y="2819520"/>
            <a:chExt cx="4343760" cy="761760"/>
          </a:xfrm>
        </p:grpSpPr>
        <p:sp>
          <p:nvSpPr>
            <p:cNvPr id="455" name=""/>
            <p:cNvSpPr/>
            <p:nvPr/>
          </p:nvSpPr>
          <p:spPr>
            <a:xfrm>
              <a:off x="5257800" y="281952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ean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urn JavaBean’s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647960" y="3124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266720" y="5562720"/>
            <a:ext cx="4343760" cy="580680"/>
            <a:chOff x="4266720" y="5562720"/>
            <a:chExt cx="4343760" cy="580680"/>
          </a:xfrm>
        </p:grpSpPr>
        <p:sp>
          <p:nvSpPr>
            <p:cNvPr id="458" name=""/>
            <p:cNvSpPr/>
            <p:nvPr/>
          </p:nvSpPr>
          <p:spPr>
            <a:xfrm>
              <a:off x="5867280" y="55627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appropriate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266720" y="5867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conKin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COLOR_16x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1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COLOR_32x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2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MONO_16x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3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MONO_32x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4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rray of MethodDescriptors for public get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class SliderField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thodDescriptor[] getMethodDescriptor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MethodDescrip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Min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Min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334120" y="5181480"/>
            <a:ext cx="3504960" cy="824040"/>
            <a:chOff x="5334120" y="5181480"/>
            <a:chExt cx="3504960" cy="824040"/>
          </a:xfrm>
        </p:grpSpPr>
        <p:sp>
          <p:nvSpPr>
            <p:cNvPr id="463" name=""/>
            <p:cNvSpPr/>
            <p:nvPr/>
          </p:nvSpPr>
          <p:spPr>
            <a:xfrm flipH="1" flipV="1">
              <a:off x="5334120" y="533376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72200" y="5181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s a specific method exposed to the builder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0-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Max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Max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Current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Curren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FieldWidth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FieldWid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[] descriptors = { getMinimum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MaximumValue, getCurrentValue, getFieldWidth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StackTrace if NoSuchMethodException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MethodException metho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StackTrace if SecurityException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curityException security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urity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028840" y="533520"/>
            <a:ext cx="3962880" cy="1371600"/>
            <a:chOff x="5028840" y="533520"/>
            <a:chExt cx="3962880" cy="1371600"/>
          </a:xfrm>
        </p:grpSpPr>
        <p:sp>
          <p:nvSpPr>
            <p:cNvPr id="468" name=""/>
            <p:cNvSpPr/>
            <p:nvPr/>
          </p:nvSpPr>
          <p:spPr>
            <a:xfrm flipH="1">
              <a:off x="5028840" y="9144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38680" y="533520"/>
              <a:ext cx="335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b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 for propert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05160" y="914400"/>
              <a:ext cx="533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5181480" y="60912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8-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opertyDescript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Descriptor[] getPropertyDescriptor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PropertyDescrip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eldWid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fieldWidth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eldWid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eldWidth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of the text fiel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current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Value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 value of slid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max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ximumValue.setPropertyEditorClas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aximumValueEdito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ximumValue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value of slid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min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inimumValue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 value of slid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inimumValue.setPropertyEditorClas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inimumValueEdito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114440" y="609480"/>
            <a:ext cx="4648680" cy="824040"/>
            <a:chOff x="4114440" y="609480"/>
            <a:chExt cx="4648680" cy="824040"/>
          </a:xfrm>
        </p:grpSpPr>
        <p:sp>
          <p:nvSpPr>
            <p:cNvPr id="475" name=""/>
            <p:cNvSpPr/>
            <p:nvPr/>
          </p:nvSpPr>
          <p:spPr>
            <a:xfrm flipH="1" flipV="1">
              <a:off x="4114440" y="685800"/>
              <a:ext cx="2057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72200" y="60948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represents specific properties exposed to the builder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562360" y="2133360"/>
            <a:ext cx="3429360" cy="3429360"/>
            <a:chOff x="5562360" y="2133360"/>
            <a:chExt cx="3429360" cy="3429360"/>
          </a:xfrm>
        </p:grpSpPr>
        <p:sp>
          <p:nvSpPr>
            <p:cNvPr id="478" name=""/>
            <p:cNvSpPr/>
            <p:nvPr/>
          </p:nvSpPr>
          <p:spPr>
            <a:xfrm flipH="1" flipV="1">
              <a:off x="5866920" y="2133360"/>
              <a:ext cx="6858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53080" y="2514600"/>
              <a:ext cx="24386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-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be exposed to the builder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17220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562360" y="312408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866920" y="3124080"/>
              <a:ext cx="6858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PropertyChangeEvent occurs for this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Value.setBou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descriptors[] = { fieldWidth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Value, maximumValue, minimumValue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RuntimeException if Introspection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rosp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( 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rrentValue property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efaultPropertyInde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EventSetDescriptor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SetDescriptor[] getEventSetDescriptor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EventSetDescrip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tDescriptor chang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SetDescriptor( beanCla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pertyCh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beans.PropertyChangeListener.class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pertyCh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266720" y="533520"/>
            <a:ext cx="4648680" cy="580680"/>
            <a:chOff x="4266720" y="533520"/>
            <a:chExt cx="4648680" cy="580680"/>
          </a:xfrm>
        </p:grpSpPr>
        <p:sp>
          <p:nvSpPr>
            <p:cNvPr id="486" name=""/>
            <p:cNvSpPr/>
            <p:nvPr/>
          </p:nvSpPr>
          <p:spPr>
            <a:xfrm flipH="1" flipV="1">
              <a:off x="4266720" y="5335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0800" y="5335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-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bound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191120" y="2895480"/>
            <a:ext cx="4343400" cy="1067400"/>
            <a:chOff x="4191120" y="2895480"/>
            <a:chExt cx="4343400" cy="1067400"/>
          </a:xfrm>
        </p:grpSpPr>
        <p:sp>
          <p:nvSpPr>
            <p:cNvPr id="489" name=""/>
            <p:cNvSpPr/>
            <p:nvPr/>
          </p:nvSpPr>
          <p:spPr>
            <a:xfrm flipH="1">
              <a:off x="4191120" y="3429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89548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cate that the property at position 1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i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257800" y="4343400"/>
            <a:ext cx="3657600" cy="1067400"/>
            <a:chOff x="5257800" y="4343400"/>
            <a:chExt cx="3657600" cy="1067400"/>
          </a:xfrm>
        </p:grpSpPr>
        <p:sp>
          <p:nvSpPr>
            <p:cNvPr id="492" name=""/>
            <p:cNvSpPr/>
            <p:nvPr/>
          </p:nvSpPr>
          <p:spPr>
            <a:xfrm flipH="1" flipV="1">
              <a:off x="5257800" y="47242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5880" y="4343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ventSet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describe to a builder tool the events supports by this 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vent description and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nged.setShortDescri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perty change event for currentValu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nged.setDisplay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liderFieldPanel value chang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tDescriptor[] descriptors = { changed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RuntimeException if Introspection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rosp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( 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pertyChange event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efaultEventInde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d class SliderFieldPanelBean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962520" y="3276720"/>
            <a:ext cx="4343400" cy="1067400"/>
            <a:chOff x="3962520" y="3276720"/>
            <a:chExt cx="4343400" cy="1067400"/>
          </a:xfrm>
        </p:grpSpPr>
        <p:sp>
          <p:nvSpPr>
            <p:cNvPr id="497" name=""/>
            <p:cNvSpPr/>
            <p:nvPr/>
          </p:nvSpPr>
          <p:spPr>
            <a:xfrm flipH="1">
              <a:off x="3962520" y="3809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1320" y="32767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cate that the event at position 0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ventSet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i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  Customizing JavaBeans for Builder Tool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0" name="Fortecomponentinspector7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438640" cy="2905200"/>
          </a:xfrm>
          <a:prstGeom prst="rect">
            <a:avLst/>
          </a:prstGeom>
          <a:ln w="0">
            <a:noFill/>
          </a:ln>
        </p:spPr>
      </p:pic>
      <p:pic>
        <p:nvPicPr>
          <p:cNvPr id="501" name="Forteconnectionwizard7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3333960" cy="27622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227600" y="5105520"/>
            <a:ext cx="68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nd events exposed b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pertyEditor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s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how a property is edited inside the editor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for further custom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8 MaximumValueEdi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umValueEditor is the PropertyEditor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umValue property of the SliderFieldPanel bea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ValueEdi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Editor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max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Object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Value = ( Integer )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Valu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 from text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sText( String 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code may throw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ximumValue = Integer.decod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504960" y="457200"/>
            <a:ext cx="4953240" cy="1295280"/>
            <a:chOff x="3504960" y="457200"/>
            <a:chExt cx="4953240" cy="1295280"/>
          </a:xfrm>
        </p:grpSpPr>
        <p:sp>
          <p:nvSpPr>
            <p:cNvPr id="508" name=""/>
            <p:cNvSpPr/>
            <p:nvPr/>
          </p:nvSpPr>
          <p:spPr>
            <a:xfrm flipH="1">
              <a:off x="3504960" y="83808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19920" y="457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2057400"/>
            <a:ext cx="5029200" cy="580680"/>
            <a:chOff x="3657600" y="2057400"/>
            <a:chExt cx="5029200" cy="580680"/>
          </a:xfrm>
        </p:grpSpPr>
        <p:sp>
          <p:nvSpPr>
            <p:cNvPr id="511" name=""/>
            <p:cNvSpPr/>
            <p:nvPr/>
          </p:nvSpPr>
          <p:spPr>
            <a:xfrm flipH="1" flipV="1">
              <a:off x="3657600" y="2209680"/>
              <a:ext cx="2209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67280" y="20574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ores the value selected in the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266720" y="3123720"/>
            <a:ext cx="4039200" cy="657360"/>
            <a:chOff x="4266720" y="3123720"/>
            <a:chExt cx="4039200" cy="657360"/>
          </a:xfrm>
        </p:grpSpPr>
        <p:sp>
          <p:nvSpPr>
            <p:cNvPr id="514" name=""/>
            <p:cNvSpPr/>
            <p:nvPr/>
          </p:nvSpPr>
          <p:spPr>
            <a:xfrm flipH="1" flipV="1">
              <a:off x="4266720" y="312372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24480" y="32004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decode thr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numberForma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As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array for pull-down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T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aximumValue property as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s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nitialization string for Java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JavaInitializationStr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MaximumValueEdi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724280" y="1295280"/>
            <a:ext cx="3886200" cy="914400"/>
            <a:chOff x="4724280" y="1295280"/>
            <a:chExt cx="3886200" cy="914400"/>
          </a:xfrm>
        </p:grpSpPr>
        <p:sp>
          <p:nvSpPr>
            <p:cNvPr id="519" name=""/>
            <p:cNvSpPr/>
            <p:nvPr/>
          </p:nvSpPr>
          <p:spPr>
            <a:xfrm flipH="1">
              <a:off x="4724280" y="160020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2200" y="12952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array of all tags that appear in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15" name="Forteexplorer7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333960" cy="1438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91760" y="4646520"/>
            <a:ext cx="46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e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9 MinimumValueEdi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nimumValueEditor is the PropertyEditor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nimumValue property of the SliderFieldPanel bea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ValueEdi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Editor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min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Object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Value = ( Integer )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value of property min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Valu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 from text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sText( String 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code may throw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inimumValue = Integer.decod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038120" y="457200"/>
            <a:ext cx="4572360" cy="1219320"/>
            <a:chOff x="4038120" y="457200"/>
            <a:chExt cx="4572360" cy="1219320"/>
          </a:xfrm>
        </p:grpSpPr>
        <p:sp>
          <p:nvSpPr>
            <p:cNvPr id="524" name=""/>
            <p:cNvSpPr/>
            <p:nvPr/>
          </p:nvSpPr>
          <p:spPr>
            <a:xfrm flipH="1">
              <a:off x="4038120" y="838080"/>
              <a:ext cx="2133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72200" y="457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809520" y="2057400"/>
            <a:ext cx="5029560" cy="580680"/>
            <a:chOff x="3809520" y="2057400"/>
            <a:chExt cx="5029560" cy="580680"/>
          </a:xfrm>
        </p:grpSpPr>
        <p:sp>
          <p:nvSpPr>
            <p:cNvPr id="527" name=""/>
            <p:cNvSpPr/>
            <p:nvPr/>
          </p:nvSpPr>
          <p:spPr>
            <a:xfrm flipH="1" flipV="1">
              <a:off x="3809520" y="2209680"/>
              <a:ext cx="22100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19920" y="205740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ores the value selected in the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267080" y="3123720"/>
            <a:ext cx="4267440" cy="657360"/>
            <a:chOff x="4267080" y="3123720"/>
            <a:chExt cx="4267440" cy="657360"/>
          </a:xfrm>
        </p:grpSpPr>
        <p:sp>
          <p:nvSpPr>
            <p:cNvPr id="530" name=""/>
            <p:cNvSpPr/>
            <p:nvPr/>
          </p:nvSpPr>
          <p:spPr>
            <a:xfrm flipH="1" flipV="1">
              <a:off x="4267080" y="3123720"/>
              <a:ext cx="2286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53080" y="32004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3-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decode thr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numberForma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array for pull-down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T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Value property as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s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nitialization string for Java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JavaInitializationStr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MinimumValueEdi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724280" y="1143000"/>
            <a:ext cx="3886200" cy="914400"/>
            <a:chOff x="4724280" y="1143000"/>
            <a:chExt cx="3886200" cy="914400"/>
          </a:xfrm>
        </p:grpSpPr>
        <p:sp>
          <p:nvSpPr>
            <p:cNvPr id="535" name=""/>
            <p:cNvSpPr/>
            <p:nvPr/>
          </p:nvSpPr>
          <p:spPr>
            <a:xfrm flipH="1">
              <a:off x="4724280" y="14479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11430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array of all tags that appear in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pertyEdi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38" name="Fortecomponentinspector8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438280" cy="2895840"/>
          </a:xfrm>
          <a:prstGeom prst="rect">
            <a:avLst/>
          </a:prstGeom>
          <a:ln w="0">
            <a:noFill/>
          </a:ln>
        </p:spPr>
      </p:pic>
      <p:pic>
        <p:nvPicPr>
          <p:cNvPr id="539" name="Fortecomponentinspector9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438280" cy="28958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20280" y="4952880"/>
            <a:ext cx="80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Value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imumValue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l-down menus in For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pertyEdi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42" name="Forteformwindow6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55276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Forteformwindow7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2552760" cy="12193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228320" y="5486400"/>
            <a:ext cx="67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constrained b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iz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customized interface for setting bean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manipulating beans that cannot be edited in standard property she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62 SliderFieldPanelCustomiz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Customizer is the Customizer 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Customiz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iz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maximumCombo, minimumComb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minimumLabel, maximum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 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 changeSuppo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LU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Customiz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pertyChangeSupport to handle Property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bels for maximum and minimum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 Slider Valu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Slider Valu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885840" y="1447920"/>
            <a:ext cx="4800960" cy="1371600"/>
            <a:chOff x="3885840" y="1447920"/>
            <a:chExt cx="4800960" cy="1371600"/>
          </a:xfrm>
        </p:grpSpPr>
        <p:sp>
          <p:nvSpPr>
            <p:cNvPr id="550" name=""/>
            <p:cNvSpPr/>
            <p:nvPr/>
          </p:nvSpPr>
          <p:spPr>
            <a:xfrm flipH="1">
              <a:off x="3885840" y="198108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144792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es that 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iz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provide a no-argument constructor, so the builder tool can instantiate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476760" y="4038480"/>
            <a:ext cx="2514960" cy="580680"/>
            <a:chOff x="6476760" y="4038480"/>
            <a:chExt cx="2514960" cy="580680"/>
          </a:xfrm>
        </p:grpSpPr>
        <p:sp>
          <p:nvSpPr>
            <p:cNvPr id="553" name=""/>
            <p:cNvSpPr/>
            <p:nvPr/>
          </p:nvSpPr>
          <p:spPr>
            <a:xfrm flipH="1">
              <a:off x="6476760" y="4343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0280" y="4038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 of all tags that appear in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791320" y="4952880"/>
            <a:ext cx="3047760" cy="1067400"/>
            <a:chOff x="5791320" y="4952880"/>
            <a:chExt cx="3047760" cy="1067400"/>
          </a:xfrm>
        </p:grpSpPr>
        <p:sp>
          <p:nvSpPr>
            <p:cNvPr id="556" name=""/>
            <p:cNvSpPr/>
            <p:nvPr/>
          </p:nvSpPr>
          <p:spPr>
            <a:xfrm>
              <a:off x="6705720" y="4952880"/>
              <a:ext cx="2133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-Sup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the listener registration and notification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791320" y="548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bo boxes adjust maximum and minimum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Combo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Combo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Combo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Combo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to minimumValue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Combo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action of minimum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Minimum( minimumCombo.getSelectedIndex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to maximumValue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Combo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action of maximum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Maximum( maximumCombo.getSelectedIndex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800600" y="533520"/>
            <a:ext cx="4114800" cy="824040"/>
            <a:chOff x="4800600" y="533520"/>
            <a:chExt cx="4114800" cy="824040"/>
          </a:xfrm>
        </p:grpSpPr>
        <p:sp>
          <p:nvSpPr>
            <p:cNvPr id="561" name=""/>
            <p:cNvSpPr/>
            <p:nvPr/>
          </p:nvSpPr>
          <p:spPr>
            <a:xfrm>
              <a:off x="5638680" y="53352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be se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 incr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800600" y="914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4800600" y="6091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038480" y="1600200"/>
            <a:ext cx="4724640" cy="580680"/>
            <a:chOff x="4038480" y="1600200"/>
            <a:chExt cx="4724640" cy="580680"/>
          </a:xfrm>
        </p:grpSpPr>
        <p:sp>
          <p:nvSpPr>
            <p:cNvPr id="565" name=""/>
            <p:cNvSpPr/>
            <p:nvPr/>
          </p:nvSpPr>
          <p:spPr>
            <a:xfrm>
              <a:off x="5410080" y="16002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bo box,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038480" y="167616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114800" y="4343400"/>
            <a:ext cx="4724280" cy="580680"/>
            <a:chOff x="4114800" y="4343400"/>
            <a:chExt cx="4724280" cy="580680"/>
          </a:xfrm>
        </p:grpSpPr>
        <p:sp>
          <p:nvSpPr>
            <p:cNvPr id="568" name=""/>
            <p:cNvSpPr/>
            <p:nvPr/>
          </p:nvSpPr>
          <p:spPr>
            <a:xfrm>
              <a:off x="5486400" y="43434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bo box,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4114800" y="441936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8-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inimum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inimumCombo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aximum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aximumCombo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customize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bject( Object bea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 = ( SliderFieldPanel ) 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pertyChangeListener with PropertyChangeSup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add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pertyChangeListener with PropertyChangeSup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remove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Value = slider.getMinimum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= Integer.parseInt( VALUES[ inde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267080" y="1295280"/>
            <a:ext cx="3810240" cy="824040"/>
            <a:chOff x="4267080" y="1295280"/>
            <a:chExt cx="3810240" cy="824040"/>
          </a:xfrm>
        </p:grpSpPr>
        <p:sp>
          <p:nvSpPr>
            <p:cNvPr id="573" name=""/>
            <p:cNvSpPr/>
            <p:nvPr/>
          </p:nvSpPr>
          <p:spPr>
            <a:xfrm>
              <a:off x="5334120" y="1295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n argument an instance of the JavaBean being instantia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267080" y="1676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4-10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5-1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inimumValue( new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firePropertyChan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oldValue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Value = slider.getMaximum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= Integer.parseInt( VALUES[ inde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aximumValue( new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firePropertyChan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oldValue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liderFieldPanelCustomiz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790960" y="152280"/>
            <a:ext cx="3048120" cy="824040"/>
            <a:chOff x="5790960" y="152280"/>
            <a:chExt cx="3048120" cy="824040"/>
          </a:xfrm>
        </p:grpSpPr>
        <p:sp>
          <p:nvSpPr>
            <p:cNvPr id="578" name=""/>
            <p:cNvSpPr/>
            <p:nvPr/>
          </p:nvSpPr>
          <p:spPr>
            <a:xfrm>
              <a:off x="6324480" y="152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790960" y="533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790960" y="2133720"/>
            <a:ext cx="3048120" cy="824040"/>
            <a:chOff x="5790960" y="2133720"/>
            <a:chExt cx="3048120" cy="824040"/>
          </a:xfrm>
        </p:grpSpPr>
        <p:sp>
          <p:nvSpPr>
            <p:cNvPr id="581" name=""/>
            <p:cNvSpPr/>
            <p:nvPr/>
          </p:nvSpPr>
          <p:spPr>
            <a:xfrm>
              <a:off x="6324480" y="21337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790960" y="2514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ize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352680" y="914400"/>
            <a:ext cx="3286080" cy="4876920"/>
            <a:chOff x="3352680" y="914400"/>
            <a:chExt cx="3286080" cy="4876920"/>
          </a:xfrm>
        </p:grpSpPr>
        <p:pic>
          <p:nvPicPr>
            <p:cNvPr id="585" name="Fortecomponentinspector10" descr=""/>
            <p:cNvPicPr/>
            <p:nvPr/>
          </p:nvPicPr>
          <p:blipFill>
            <a:blip r:embed="rId1"/>
            <a:stretch/>
          </p:blipFill>
          <p:spPr>
            <a:xfrm>
              <a:off x="3352680" y="914400"/>
              <a:ext cx="2438640" cy="40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netbeans3" descr=""/>
            <p:cNvPicPr/>
            <p:nvPr/>
          </p:nvPicPr>
          <p:blipFill>
            <a:blip r:embed="rId2"/>
            <a:stretch/>
          </p:blipFill>
          <p:spPr>
            <a:xfrm>
              <a:off x="4952880" y="1876680"/>
              <a:ext cx="1685880" cy="39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1688760" y="5867280"/>
            <a:ext cx="58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iz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8:20Z</dcterms:modified>
  <cp:revision>120</cp:revision>
  <dc:subject/>
  <dc:title>Chapter 6: Java Beans Component Model</dc:title>
</cp:coreProperties>
</file>