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557D-CE1D-4093-9E3C-DDCDF33E0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2C13-216F-42CA-89D4-E9F7230BA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E5DD-6CC4-4AE2-BB62-B7BF5B756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1764-636F-4D63-A30C-F85833A20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1D5A-4D3F-4B33-97B5-744FF900EF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1BD0-9BFB-4837-8AF7-D403CCC3A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FCFB-C180-403F-B877-84C2F16673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EE07-6AF6-495E-B466-A8082D1D2A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C637-85B3-4E08-B2B4-F22380F057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0E85-F0B3-4512-BC9C-592A664F3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78D3-EB95-414A-89B0-37DD16094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6E10-D2FA-4474-A557-F47B4BB05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D6C7-39FF-4B5B-AC6D-972C3953C3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F9A5-CE70-4A1A-9A77-D09459D8E1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4946-6F4B-4023-A6D0-A5039628A6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9FA3-714D-4F36-9931-4E34B6676D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FAEE-B45F-404A-B10B-FABC91864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4F79-2CA5-4D0E-8606-635606CF9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E93E-3182-4C8E-8B65-D3A7E7D2D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6B29-4A6F-4A9B-9B6C-E9FF9CF71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C552-8CBD-4238-8EC0-7C1A04683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8F0E-902A-4C24-9B0B-148C4C60A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BD00-8D2B-47BD-BB1E-73417F448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B726-6106-49E3-B79D-4F458BDB1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88C3-D256-4C4A-9D60-028D5B754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B0F6-1000-4340-BFDA-9ED076642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8 Enterprise Java Case Study: Presentation and Controller Logic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696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XML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Base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hopping Cart Servl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To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iew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moveFrom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Update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eckou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duct Catalog Servl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etAllProducts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etProduc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Search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er Management Servl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gister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ogin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iewOrderHistory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iewOrder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etPasswordHint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5-2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2-2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7-3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7-2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error element containing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buildErrorMessage( Document docum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messag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rro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error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essa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error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essage text and append to messa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rrorMessag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messag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message element to erro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rror.appendChild( error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rr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list of ClientModel Objects for deliv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ropriate content to each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buildClient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validating DocumentBuilder for client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Builder builder = getDocumentBuil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 Array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client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ame of XML document containing cli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formation from Servlet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lientXML = getServletContext().getIni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_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00600" y="380880"/>
            <a:ext cx="4190760" cy="580680"/>
            <a:chOff x="4800600" y="380880"/>
            <a:chExt cx="4190760" cy="580680"/>
          </a:xfrm>
        </p:grpSpPr>
        <p:sp>
          <p:nvSpPr>
            <p:cNvPr id="181" name=""/>
            <p:cNvSpPr/>
            <p:nvPr/>
          </p:nvSpPr>
          <p:spPr>
            <a:xfrm>
              <a:off x="5499000" y="380880"/>
              <a:ext cx="3492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onstructing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an error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00600" y="6854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0960" y="990720"/>
            <a:ext cx="3200400" cy="580680"/>
            <a:chOff x="5790960" y="990720"/>
            <a:chExt cx="3200400" cy="580680"/>
          </a:xfrm>
        </p:grpSpPr>
        <p:sp>
          <p:nvSpPr>
            <p:cNvPr id="184" name=""/>
            <p:cNvSpPr/>
            <p:nvPr/>
          </p:nvSpPr>
          <p:spPr>
            <a:xfrm>
              <a:off x="632448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n erro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provided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79096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14800" y="1523880"/>
            <a:ext cx="3962160" cy="580680"/>
            <a:chOff x="4114800" y="1523880"/>
            <a:chExt cx="3962160" cy="580680"/>
          </a:xfrm>
        </p:grpSpPr>
        <p:sp>
          <p:nvSpPr>
            <p:cNvPr id="187" name=""/>
            <p:cNvSpPr/>
            <p:nvPr/>
          </p:nvSpPr>
          <p:spPr>
            <a:xfrm>
              <a:off x="4775040" y="1523880"/>
              <a:ext cx="3301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contain the actual error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14800" y="18284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91120" y="2286000"/>
            <a:ext cx="4343040" cy="824040"/>
            <a:chOff x="4191120" y="2286000"/>
            <a:chExt cx="4343040" cy="824040"/>
          </a:xfrm>
        </p:grpSpPr>
        <p:sp>
          <p:nvSpPr>
            <p:cNvPr id="190" name=""/>
            <p:cNvSpPr/>
            <p:nvPr/>
          </p:nvSpPr>
          <p:spPr>
            <a:xfrm>
              <a:off x="4914720" y="2286000"/>
              <a:ext cx="3619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de that contains the text of the error message and append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d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191120" y="2590560"/>
              <a:ext cx="72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343400" y="2971800"/>
            <a:ext cx="3352320" cy="580680"/>
            <a:chOff x="4343400" y="2971800"/>
            <a:chExt cx="3352320" cy="580680"/>
          </a:xfrm>
        </p:grpSpPr>
        <p:sp>
          <p:nvSpPr>
            <p:cNvPr id="193" name=""/>
            <p:cNvSpPr/>
            <p:nvPr/>
          </p:nvSpPr>
          <p:spPr>
            <a:xfrm>
              <a:off x="4902120" y="2971800"/>
              <a:ext cx="2793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343400" y="327636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57240" y="4267080"/>
            <a:ext cx="3657600" cy="824040"/>
            <a:chOff x="3657240" y="4267080"/>
            <a:chExt cx="3657600" cy="824040"/>
          </a:xfrm>
        </p:grpSpPr>
        <p:sp>
          <p:nvSpPr>
            <p:cNvPr id="196" name=""/>
            <p:cNvSpPr/>
            <p:nvPr/>
          </p:nvSpPr>
          <p:spPr>
            <a:xfrm>
              <a:off x="4267080" y="426708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by reading client information from an XML configuration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657240" y="4571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562720" y="5257800"/>
            <a:ext cx="3352680" cy="1143000"/>
            <a:chOff x="5562720" y="5257800"/>
            <a:chExt cx="3352680" cy="1143000"/>
          </a:xfrm>
        </p:grpSpPr>
        <p:sp>
          <p:nvSpPr>
            <p:cNvPr id="199" name=""/>
            <p:cNvSpPr/>
            <p:nvPr/>
          </p:nvSpPr>
          <p:spPr>
            <a:xfrm>
              <a:off x="5562720" y="52578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name of the configuration file from an initialization parameter in the servle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400440" y="6095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PasswordHin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PasswordHin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remember their passw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asswordHin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asswordHintServlet allows a customer to retrieve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st passwor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sswordHin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ssword hint from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ustom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ustomer with given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asswordHint element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hintEl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H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text of passwordHint to XM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ntElement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.getPasswordHin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passwordHint elemen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hint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562360" y="990720"/>
            <a:ext cx="3124440" cy="1067400"/>
            <a:chOff x="5562360" y="990720"/>
            <a:chExt cx="3124440" cy="1067400"/>
          </a:xfrm>
        </p:grpSpPr>
        <p:sp>
          <p:nvSpPr>
            <p:cNvPr id="686" name=""/>
            <p:cNvSpPr/>
            <p:nvPr/>
          </p:nvSpPr>
          <p:spPr>
            <a:xfrm>
              <a:off x="6229800" y="990720"/>
              <a:ext cx="245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 up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and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remote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562360" y="129528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33760" y="3505320"/>
            <a:ext cx="3352680" cy="1067400"/>
            <a:chOff x="5333760" y="3505320"/>
            <a:chExt cx="3352680" cy="1067400"/>
          </a:xfrm>
        </p:grpSpPr>
        <p:sp>
          <p:nvSpPr>
            <p:cNvPr id="689" name=""/>
            <p:cNvSpPr/>
            <p:nvPr/>
          </p:nvSpPr>
          <p:spPr>
            <a:xfrm>
              <a:off x="6049800" y="3505320"/>
              <a:ext cx="2636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 EJB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PasswordH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hint the user entered when registering on the si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333760" y="38098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876560" y="4038480"/>
            <a:ext cx="2361960" cy="580680"/>
            <a:chOff x="4876560" y="4038480"/>
            <a:chExt cx="2361960" cy="580680"/>
          </a:xfrm>
        </p:grpSpPr>
        <p:sp>
          <p:nvSpPr>
            <p:cNvPr id="692" name=""/>
            <p:cNvSpPr/>
            <p:nvPr/>
          </p:nvSpPr>
          <p:spPr>
            <a:xfrm>
              <a:off x="5379480" y="4038480"/>
              <a:ext cx="1859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hint to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4876560" y="43434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customer was found with us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ID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XHTML_GetPasswordHint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5720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cHTML_GetPasswordHint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2895480" cy="4991040"/>
          </a:xfrm>
          <a:prstGeom prst="rect">
            <a:avLst/>
          </a:prstGeom>
          <a:ln w="0">
            <a:noFill/>
          </a:ln>
        </p:spPr>
      </p:pic>
      <p:pic>
        <p:nvPicPr>
          <p:cNvPr id="700" name="WML_GetPasswordHint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21909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4-2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9-2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3-2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0-3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clients from XML document and build Clien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InputStream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clientXM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sourceAs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XM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ars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clients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ilder.parse( clientXM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odeList of client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List clientElemen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sDocument.getElementsByTag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ength of client Node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Length = clientElements.getLength(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NodeList of client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ist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next cli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cli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Element ) clientElements.item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gent Element from cli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agentElement = ( Ele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.getElementsByTag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item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gent Element's child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 agent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ext ) agentElement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952880" y="990720"/>
            <a:ext cx="2666880" cy="580680"/>
            <a:chOff x="4952880" y="990720"/>
            <a:chExt cx="2666880" cy="580680"/>
          </a:xfrm>
        </p:grpSpPr>
        <p:sp>
          <p:nvSpPr>
            <p:cNvPr id="204" name=""/>
            <p:cNvSpPr/>
            <p:nvPr/>
          </p:nvSpPr>
          <p:spPr>
            <a:xfrm>
              <a:off x="5397120" y="990720"/>
              <a:ext cx="2222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configuration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952880" y="129528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267080" y="1905120"/>
            <a:ext cx="3962160" cy="580680"/>
            <a:chOff x="4267080" y="1905120"/>
            <a:chExt cx="3962160" cy="580680"/>
          </a:xfrm>
        </p:grpSpPr>
        <p:sp>
          <p:nvSpPr>
            <p:cNvPr id="207" name=""/>
            <p:cNvSpPr/>
            <p:nvPr/>
          </p:nvSpPr>
          <p:spPr>
            <a:xfrm>
              <a:off x="4927320" y="1905120"/>
              <a:ext cx="3301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the XML configuration file and buil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in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67080" y="220968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790960" y="2666880"/>
            <a:ext cx="3200400" cy="580680"/>
            <a:chOff x="5790960" y="2666880"/>
            <a:chExt cx="3200400" cy="580680"/>
          </a:xfrm>
        </p:grpSpPr>
        <p:sp>
          <p:nvSpPr>
            <p:cNvPr id="210" name=""/>
            <p:cNvSpPr/>
            <p:nvPr/>
          </p:nvSpPr>
          <p:spPr>
            <a:xfrm>
              <a:off x="632448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i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rom the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790960" y="29714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81120" y="3886200"/>
            <a:ext cx="3429000" cy="1067400"/>
            <a:chOff x="5181120" y="3886200"/>
            <a:chExt cx="3429000" cy="1067400"/>
          </a:xfrm>
        </p:grpSpPr>
        <p:sp>
          <p:nvSpPr>
            <p:cNvPr id="213" name=""/>
            <p:cNvSpPr/>
            <p:nvPr/>
          </p:nvSpPr>
          <p:spPr>
            <a:xfrm>
              <a:off x="5752800" y="3886200"/>
              <a:ext cx="2857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XML configuration file and add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181120" y="41907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value of agent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agent = agentText.getNod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contentTyp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typeElement = ( Ele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.getElementsByTag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item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contentType Element's child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 type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ext ) typeElement.getFirstChild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value of contentType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type = typeText.getNodeValue(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XSLPath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pathElement = ( Ele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.getElementsByTag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SLPa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item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Text node child of XSL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 path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ext ) pathElement.getFirstChild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value of XSLPath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path = pathText.getNodeValu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new ClientModel with userAgent, content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d XSLPath for this cli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List.add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( agent, type, path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6-3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SAXException when pars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AXException sax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x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IO exception when read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newly creating list of Clien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buildClie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lientModel for given User-Agent HTTP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 getClientModel( String head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clie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client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lientModel whose userAgent property i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tring of given User-Agent HTTP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Model client = ( Clien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his ClientModel's userAgent property is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tring of the User-Agent HTTP header, return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 reference to the Clien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eader.indexOf( client.getUserAgent() 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638320" y="3124080"/>
            <a:ext cx="2590920" cy="824040"/>
            <a:chOff x="5638320" y="3124080"/>
            <a:chExt cx="2590920" cy="824040"/>
          </a:xfrm>
        </p:grpSpPr>
        <p:sp>
          <p:nvSpPr>
            <p:cNvPr id="220" name=""/>
            <p:cNvSpPr/>
            <p:nvPr/>
          </p:nvSpPr>
          <p:spPr>
            <a:xfrm>
              <a:off x="6070320" y="3124080"/>
              <a:ext cx="2158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matche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638320" y="3428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4-3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default ClientModel if no others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AULT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HTML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Clien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86040" y="457200"/>
            <a:ext cx="3048480" cy="1067400"/>
            <a:chOff x="5486040" y="457200"/>
            <a:chExt cx="3048480" cy="1067400"/>
          </a:xfrm>
        </p:grpSpPr>
        <p:sp>
          <p:nvSpPr>
            <p:cNvPr id="225" name=""/>
            <p:cNvSpPr/>
            <p:nvPr/>
          </p:nvSpPr>
          <p:spPr>
            <a:xfrm>
              <a:off x="5994360" y="457200"/>
              <a:ext cx="2540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a generic XHTM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default if no other matc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86040" y="76176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 Configuration file for enabling support for various client types (clients.xml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clients SYSTE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advjhtp1/clients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lient configuration file for the Deitel Bookstor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client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Microsoft Internet Explorer version 5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soft Internet Explorer 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zilla/4.0 (compatible; MSIE 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Microsoft Internet Explorer version 6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soft Internet Explorer 6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zilla/4.0 (compatible; MSIE 6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Netscape version 4.7x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tscape 4.7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zilla/4.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Mozilla/Netscape version 6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zilla/Netscape 6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ecko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 Configuration file for enabling support for various client types (clients.xml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Phone.com WML browser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nwave SDK Brows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.Browser/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vnd.wap.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W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Nokia WML browser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kia WAP Toolkit Brows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kia-WA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vnd.wap.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W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Pixo iMode browser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ixo Brows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xo-Brows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c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lient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3 DTD for clients.xm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lients.dtd      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TD for specifying Bookstore client typ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+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Ag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SLPath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ATTLIS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DATA #REQUIRE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Ag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#PCDATA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#PCDATA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SLPath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#PCDATA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4 ClientModel for representing supported cli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Model is a utility class for determining the prop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ent-Type and path for XSL files for each type of cli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pported by the Bookstore appl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Ag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ntent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XSL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Model constructor for initializing data me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( String agent, String type, String pa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UserAgent( ag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ontentType( ty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XSLPath( 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serAgent substr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Agent( String ag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Agent = ag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rAgent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UserAg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Ag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48320" y="4952880"/>
            <a:ext cx="3098520" cy="1067040"/>
            <a:chOff x="4648320" y="4952880"/>
            <a:chExt cx="3098520" cy="1067040"/>
          </a:xfrm>
        </p:grpSpPr>
        <p:sp>
          <p:nvSpPr>
            <p:cNvPr id="236" name=""/>
            <p:cNvSpPr/>
            <p:nvPr/>
          </p:nvSpPr>
          <p:spPr>
            <a:xfrm>
              <a:off x="5867280" y="5181480"/>
              <a:ext cx="1879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723920" y="49528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8320" y="54864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4 ClientModel for representing supported cli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ntent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ntentType( String typ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Type = 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ntent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ntentTyp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XS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SLPath( String pa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SLPath = 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S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XSLPath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SL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724280" y="761760"/>
            <a:ext cx="3276360" cy="1066680"/>
            <a:chOff x="4724280" y="761760"/>
            <a:chExt cx="3276360" cy="1066680"/>
          </a:xfrm>
        </p:grpSpPr>
        <p:sp>
          <p:nvSpPr>
            <p:cNvPr id="242" name=""/>
            <p:cNvSpPr/>
            <p:nvPr/>
          </p:nvSpPr>
          <p:spPr>
            <a:xfrm>
              <a:off x="6013080" y="990360"/>
              <a:ext cx="1987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804200" y="761760"/>
              <a:ext cx="1208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724280" y="1295280"/>
              <a:ext cx="128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419720" y="2895480"/>
            <a:ext cx="3098520" cy="1067040"/>
            <a:chOff x="4419720" y="2895480"/>
            <a:chExt cx="3098520" cy="1067040"/>
          </a:xfrm>
        </p:grpSpPr>
        <p:sp>
          <p:nvSpPr>
            <p:cNvPr id="246" name=""/>
            <p:cNvSpPr/>
            <p:nvPr/>
          </p:nvSpPr>
          <p:spPr>
            <a:xfrm>
              <a:off x="5638680" y="3124080"/>
              <a:ext cx="1879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SL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4495320" y="2895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419720" y="34290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user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servlets in the Deitel Bookstor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the output from the request to the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 transform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 Shopping Cart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-car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 th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 items for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items in a virtual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o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 Shopping Cart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170080" y="1990800"/>
            <a:ext cx="4803840" cy="2876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48640" y="5257800"/>
            <a:ext cx="803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8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of client requests and data returned in the Deitel Bookstore for XHTML cli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To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ML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a product to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To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ToCartServlet adds a Product to the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ttpSession Object for this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stomer's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ppingCart shoppingCar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hoppingCar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SBN parameter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hoppingCart and add Product to be purcha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hoppingCart if Customer does not have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ject object = 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hopping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ast Object reference to ShoppingCartHo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Home shoppingCartHome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ShoppingCar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object, ShoppingCar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ShoppingCart using ShoppingCartHo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 = shoppingCart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ore ShoppingCart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hoppingC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roduct to Customer's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.addProduct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direct Customer to ViewCartServlet to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257440" y="228600"/>
            <a:ext cx="3657600" cy="824040"/>
            <a:chOff x="5257440" y="228600"/>
            <a:chExt cx="3657600" cy="824040"/>
          </a:xfrm>
        </p:grpSpPr>
        <p:sp>
          <p:nvSpPr>
            <p:cNvPr id="261" name=""/>
            <p:cNvSpPr/>
            <p:nvPr/>
          </p:nvSpPr>
          <p:spPr>
            <a:xfrm>
              <a:off x="6037200" y="228600"/>
              <a:ext cx="2877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ference to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servle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257440" y="5335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562360" y="4267080"/>
            <a:ext cx="3352680" cy="824040"/>
            <a:chOff x="5562360" y="4267080"/>
            <a:chExt cx="3352680" cy="824040"/>
          </a:xfrm>
        </p:grpSpPr>
        <p:sp>
          <p:nvSpPr>
            <p:cNvPr id="264" name=""/>
            <p:cNvSpPr/>
            <p:nvPr/>
          </p:nvSpPr>
          <p:spPr>
            <a:xfrm>
              <a:off x="6278400" y="4267080"/>
              <a:ext cx="263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ome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562360" y="45720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867280" y="4800600"/>
            <a:ext cx="2971440" cy="824040"/>
            <a:chOff x="5867280" y="4800600"/>
            <a:chExt cx="2971440" cy="824040"/>
          </a:xfrm>
        </p:grpSpPr>
        <p:sp>
          <p:nvSpPr>
            <p:cNvPr id="267" name=""/>
            <p:cNvSpPr/>
            <p:nvPr/>
          </p:nvSpPr>
          <p:spPr>
            <a:xfrm>
              <a:off x="6501600" y="48006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servle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later u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867280" y="5105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419720" y="5486400"/>
            <a:ext cx="4267080" cy="824040"/>
            <a:chOff x="4419720" y="5486400"/>
            <a:chExt cx="4267080" cy="824040"/>
          </a:xfrm>
        </p:grpSpPr>
        <p:sp>
          <p:nvSpPr>
            <p:cNvPr id="270" name=""/>
            <p:cNvSpPr/>
            <p:nvPr/>
          </p:nvSpPr>
          <p:spPr>
            <a:xfrm>
              <a:off x="5330880" y="5486400"/>
              <a:ext cx="335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with the product’s ISBN as an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419720" y="57913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00600" y="6248520"/>
            <a:ext cx="4267080" cy="580680"/>
            <a:chOff x="4800600" y="6248520"/>
            <a:chExt cx="4267080" cy="580680"/>
          </a:xfrm>
        </p:grpSpPr>
        <p:sp>
          <p:nvSpPr>
            <p:cNvPr id="273" name=""/>
            <p:cNvSpPr/>
            <p:nvPr/>
          </p:nvSpPr>
          <p:spPr>
            <a:xfrm>
              <a:off x="5638680" y="6248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Redir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direct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800600" y="6553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9-9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2-1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ShoppingCar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hoppingCart EJB was no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in 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ShoppingCar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 could not be cre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Product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81480" y="762120"/>
            <a:ext cx="3733560" cy="824040"/>
            <a:chOff x="5181480" y="762120"/>
            <a:chExt cx="3733560" cy="824040"/>
          </a:xfrm>
        </p:grpSpPr>
        <p:sp>
          <p:nvSpPr>
            <p:cNvPr id="278" name=""/>
            <p:cNvSpPr/>
            <p:nvPr/>
          </p:nvSpPr>
          <p:spPr>
            <a:xfrm>
              <a:off x="5978520" y="762120"/>
              <a:ext cx="293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s not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181480" y="106668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181480" y="3352680"/>
            <a:ext cx="3200040" cy="824040"/>
            <a:chOff x="5181480" y="3352680"/>
            <a:chExt cx="3200040" cy="824040"/>
          </a:xfrm>
        </p:grpSpPr>
        <p:sp>
          <p:nvSpPr>
            <p:cNvPr id="281" name=""/>
            <p:cNvSpPr/>
            <p:nvPr/>
          </p:nvSpPr>
          <p:spPr>
            <a:xfrm>
              <a:off x="5864760" y="3352680"/>
              <a:ext cx="25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creating the customer’s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181480" y="36576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562720" y="4876920"/>
            <a:ext cx="3429000" cy="1143000"/>
            <a:chOff x="5562720" y="4876920"/>
            <a:chExt cx="3429000" cy="1143000"/>
          </a:xfrm>
        </p:grpSpPr>
        <p:sp>
          <p:nvSpPr>
            <p:cNvPr id="284" name=""/>
            <p:cNvSpPr/>
            <p:nvPr/>
          </p:nvSpPr>
          <p:spPr>
            <a:xfrm>
              <a:off x="5562720" y="48769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NotFound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given ISBN could not be found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095520" y="57150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5, 98, 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57800" y="762120"/>
            <a:ext cx="2971440" cy="824040"/>
            <a:chOff x="5257800" y="762120"/>
            <a:chExt cx="2971440" cy="824040"/>
          </a:xfrm>
        </p:grpSpPr>
        <p:sp>
          <p:nvSpPr>
            <p:cNvPr id="289" name=""/>
            <p:cNvSpPr/>
            <p:nvPr/>
          </p:nvSpPr>
          <p:spPr>
            <a:xfrm>
              <a:off x="5892120" y="7621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nds the cont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257800" y="10666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ew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the shopping cart’s cont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7 ViewCartServlet for viewing contents of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CartServlet presents the contents of the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ew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stomer's ShoppingCart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ppingCart shoppingCar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hoppingCar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040" y="6095880"/>
            <a:ext cx="2362680" cy="580680"/>
            <a:chOff x="5486040" y="6095880"/>
            <a:chExt cx="2362680" cy="580680"/>
          </a:xfrm>
        </p:grpSpPr>
        <p:sp>
          <p:nvSpPr>
            <p:cNvPr id="296" name=""/>
            <p:cNvSpPr/>
            <p:nvPr/>
          </p:nvSpPr>
          <p:spPr>
            <a:xfrm>
              <a:off x="5991480" y="6095880"/>
              <a:ext cx="185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486040" y="64008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7 ViewCartServlet for viewing contents of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ild XML document with contents of ShoppingCar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art element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 = ( Element )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otal cost of Products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uble total = shoppingCart.getTot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umberFormat for local curr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 price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umberFormat.getCurrency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ormat total price for ShoppingCart and add 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s an attribute of element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ceFormatter.format( tota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order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.getContent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an element for each 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Products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rderProductModel ) orderProducts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867280" y="990720"/>
            <a:ext cx="3200400" cy="1067400"/>
            <a:chOff x="5867280" y="990720"/>
            <a:chExt cx="3200400" cy="1067400"/>
          </a:xfrm>
        </p:grpSpPr>
        <p:sp>
          <p:nvSpPr>
            <p:cNvPr id="301" name=""/>
            <p:cNvSpPr/>
            <p:nvPr/>
          </p:nvSpPr>
          <p:spPr>
            <a:xfrm>
              <a:off x="6549480" y="990720"/>
              <a:ext cx="2518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building the XML document that describes the customer’s shopping cart by creating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867280" y="12952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160" y="1676520"/>
            <a:ext cx="3352680" cy="580680"/>
            <a:chOff x="5105160" y="1676520"/>
            <a:chExt cx="3352680" cy="580680"/>
          </a:xfrm>
        </p:grpSpPr>
        <p:sp>
          <p:nvSpPr>
            <p:cNvPr id="304" name=""/>
            <p:cNvSpPr/>
            <p:nvPr/>
          </p:nvSpPr>
          <p:spPr>
            <a:xfrm>
              <a:off x="5821200" y="1676520"/>
              <a:ext cx="2636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total price for the items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105160" y="19814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419360" y="2209680"/>
            <a:ext cx="4572000" cy="824040"/>
            <a:chOff x="4419360" y="2209680"/>
            <a:chExt cx="4572000" cy="824040"/>
          </a:xfrm>
        </p:grpSpPr>
        <p:sp>
          <p:nvSpPr>
            <p:cNvPr id="307" name=""/>
            <p:cNvSpPr/>
            <p:nvPr/>
          </p:nvSpPr>
          <p:spPr>
            <a:xfrm>
              <a:off x="5394240" y="2209680"/>
              <a:ext cx="359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at the total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ppend the formatted total to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419360" y="251460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76920" y="4800600"/>
            <a:ext cx="3733200" cy="824040"/>
            <a:chOff x="4876920" y="4800600"/>
            <a:chExt cx="3733200" cy="824040"/>
          </a:xfrm>
        </p:grpSpPr>
        <p:sp>
          <p:nvSpPr>
            <p:cNvPr id="310" name=""/>
            <p:cNvSpPr/>
            <p:nvPr/>
          </p:nvSpPr>
          <p:spPr>
            <a:xfrm>
              <a:off x="5673960" y="4800600"/>
              <a:ext cx="293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876920" y="51055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562720" y="5638680"/>
            <a:ext cx="3504600" cy="1067400"/>
            <a:chOff x="5562720" y="5638680"/>
            <a:chExt cx="3504600" cy="1067400"/>
          </a:xfrm>
        </p:grpSpPr>
        <p:sp>
          <p:nvSpPr>
            <p:cNvPr id="313" name=""/>
            <p:cNvSpPr/>
            <p:nvPr/>
          </p:nvSpPr>
          <p:spPr>
            <a:xfrm>
              <a:off x="6309720" y="5638680"/>
              <a:ext cx="2757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n XML element that describ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562720" y="594360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XML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Base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Servlet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initialization and utility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XML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T trans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7 ViewCartServlet for viewing contents of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r ShoppingCart is empt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181120" y="228600"/>
            <a:ext cx="3353040" cy="580680"/>
            <a:chOff x="5181120" y="228600"/>
            <a:chExt cx="3353040" cy="580680"/>
          </a:xfrm>
        </p:grpSpPr>
        <p:sp>
          <p:nvSpPr>
            <p:cNvPr id="318" name=""/>
            <p:cNvSpPr/>
            <p:nvPr/>
          </p:nvSpPr>
          <p:spPr>
            <a:xfrm>
              <a:off x="5897160" y="228600"/>
              <a:ext cx="263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an error message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181120" y="5335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952880" y="1905120"/>
            <a:ext cx="3428640" cy="1067400"/>
            <a:chOff x="4952880" y="1905120"/>
            <a:chExt cx="3428640" cy="1067400"/>
          </a:xfrm>
        </p:grpSpPr>
        <p:sp>
          <p:nvSpPr>
            <p:cNvPr id="321" name=""/>
            <p:cNvSpPr/>
            <p:nvPr/>
          </p:nvSpPr>
          <p:spPr>
            <a:xfrm>
              <a:off x="5684760" y="1905120"/>
              <a:ext cx="269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ransforms the XML content using XSLT and present that cont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952880" y="22096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-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mit-xml-declara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system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publi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include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/XSLT/X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ml:la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ang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Online 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/default.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for-each sel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cument( '/XSLT/XHTML/navigation.xml' )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copy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Shopping Cart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19920" y="990720"/>
            <a:ext cx="2971440" cy="580680"/>
            <a:chOff x="6019920" y="990720"/>
            <a:chExt cx="2971440" cy="580680"/>
          </a:xfrm>
        </p:grpSpPr>
        <p:sp>
          <p:nvSpPr>
            <p:cNvPr id="326" name=""/>
            <p:cNvSpPr/>
            <p:nvPr/>
          </p:nvSpPr>
          <p:spPr>
            <a:xfrm>
              <a:off x="6654240" y="99072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output parameters for the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019920" y="129564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028840" y="1676520"/>
            <a:ext cx="3886560" cy="580680"/>
            <a:chOff x="5028840" y="1676520"/>
            <a:chExt cx="3886560" cy="580680"/>
          </a:xfrm>
        </p:grpSpPr>
        <p:sp>
          <p:nvSpPr>
            <p:cNvPr id="329" name=""/>
            <p:cNvSpPr/>
            <p:nvPr/>
          </p:nvSpPr>
          <p:spPr>
            <a:xfrm>
              <a:off x="5859000" y="1676520"/>
              <a:ext cx="305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ludes templat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.xs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ransforming error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028840" y="198144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410080" y="4038480"/>
            <a:ext cx="3505320" cy="580680"/>
            <a:chOff x="5410080" y="4038480"/>
            <a:chExt cx="3505320" cy="580680"/>
          </a:xfrm>
        </p:grpSpPr>
        <p:sp>
          <p:nvSpPr>
            <p:cNvPr id="332" name=""/>
            <p:cNvSpPr/>
            <p:nvPr/>
          </p:nvSpPr>
          <p:spPr>
            <a:xfrm>
              <a:off x="6158520" y="4038480"/>
              <a:ext cx="275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a navigation header from an external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10080" y="434340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9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(s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apply-templ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Your total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@tot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roduct?ISBN=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86200" y="76320"/>
            <a:ext cx="2971440" cy="824040"/>
            <a:chOff x="3886200" y="76320"/>
            <a:chExt cx="2971440" cy="824040"/>
          </a:xfrm>
        </p:grpSpPr>
        <p:sp>
          <p:nvSpPr>
            <p:cNvPr id="337" name=""/>
            <p:cNvSpPr/>
            <p:nvPr/>
          </p:nvSpPr>
          <p:spPr>
            <a:xfrm>
              <a:off x="4520520" y="763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a template that populates a table with product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886200" y="3808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943600" y="3733920"/>
            <a:ext cx="2971440" cy="1067400"/>
            <a:chOff x="5943600" y="3733920"/>
            <a:chExt cx="2971440" cy="1067400"/>
          </a:xfrm>
        </p:grpSpPr>
        <p:sp>
          <p:nvSpPr>
            <p:cNvPr id="340" name=""/>
            <p:cNvSpPr/>
            <p:nvPr/>
          </p:nvSpPr>
          <p:spPr>
            <a:xfrm>
              <a:off x="6577920" y="3733920"/>
              <a:ext cx="2337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rm enables the customer to check out from the online store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943600" y="40384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419360" y="5486400"/>
            <a:ext cx="4647960" cy="824040"/>
            <a:chOff x="4419360" y="5486400"/>
            <a:chExt cx="4647960" cy="824040"/>
          </a:xfrm>
        </p:grpSpPr>
        <p:sp>
          <p:nvSpPr>
            <p:cNvPr id="343" name=""/>
            <p:cNvSpPr/>
            <p:nvPr/>
          </p:nvSpPr>
          <p:spPr>
            <a:xfrm>
              <a:off x="5410440" y="5486400"/>
              <a:ext cx="365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template extracts each product’s information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e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XML document and creates a table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19360" y="579132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0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4-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quantity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alig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From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791320" y="1676520"/>
            <a:ext cx="3276000" cy="824040"/>
            <a:chOff x="5791320" y="1676520"/>
            <a:chExt cx="3276000" cy="824040"/>
          </a:xfrm>
        </p:grpSpPr>
        <p:sp>
          <p:nvSpPr>
            <p:cNvPr id="348" name=""/>
            <p:cNvSpPr/>
            <p:nvPr/>
          </p:nvSpPr>
          <p:spPr>
            <a:xfrm>
              <a:off x="6490800" y="1676520"/>
              <a:ext cx="25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user to change the quantity of the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791320" y="198108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72200" y="3352680"/>
            <a:ext cx="2514240" cy="1067400"/>
            <a:chOff x="6172200" y="3352680"/>
            <a:chExt cx="2514240" cy="1067400"/>
          </a:xfrm>
        </p:grpSpPr>
        <p:sp>
          <p:nvSpPr>
            <p:cNvPr id="351" name=""/>
            <p:cNvSpPr/>
            <p:nvPr/>
          </p:nvSpPr>
          <p:spPr>
            <a:xfrm>
              <a:off x="6709680" y="3352680"/>
              <a:ext cx="197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user to remove the product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172200" y="365760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viewcart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4501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9 ViewCartServlet XSL transformation for I-mode browsers (c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http://www.w3.org/MarkUp/html-spec/html-spec_toc.ht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HTML 2.0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c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Online 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Shopping Car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total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@tot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(s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648320" y="4952880"/>
            <a:ext cx="2971440" cy="580680"/>
            <a:chOff x="4648320" y="4952880"/>
            <a:chExt cx="2971440" cy="580680"/>
          </a:xfrm>
        </p:grpSpPr>
        <p:sp>
          <p:nvSpPr>
            <p:cNvPr id="358" name=""/>
            <p:cNvSpPr/>
            <p:nvPr/>
          </p:nvSpPr>
          <p:spPr>
            <a:xfrm>
              <a:off x="5282640" y="495288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he total cost of products in the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648320" y="5257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9 ViewCartServlet XSL transformation for I-mode browsers (c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u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apply-templat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u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li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roduct?ISBN=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r/&gt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quantity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343400" y="380880"/>
            <a:ext cx="4267080" cy="824040"/>
            <a:chOff x="4343400" y="380880"/>
            <a:chExt cx="4267080" cy="824040"/>
          </a:xfrm>
        </p:grpSpPr>
        <p:sp>
          <p:nvSpPr>
            <p:cNvPr id="363" name=""/>
            <p:cNvSpPr/>
            <p:nvPr/>
          </p:nvSpPr>
          <p:spPr>
            <a:xfrm>
              <a:off x="5254560" y="380880"/>
              <a:ext cx="335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sl:temp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s to produce an unordered list of product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343400" y="68580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943240" y="1523880"/>
            <a:ext cx="2819880" cy="1067400"/>
            <a:chOff x="5943240" y="1523880"/>
            <a:chExt cx="2819880" cy="1067400"/>
          </a:xfrm>
        </p:grpSpPr>
        <p:sp>
          <p:nvSpPr>
            <p:cNvPr id="366" name=""/>
            <p:cNvSpPr/>
            <p:nvPr/>
          </p:nvSpPr>
          <p:spPr>
            <a:xfrm>
              <a:off x="6705720" y="152388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customer to check out of the online store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943240" y="1828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791320" y="5181480"/>
            <a:ext cx="3276000" cy="1067400"/>
            <a:chOff x="5791320" y="5181480"/>
            <a:chExt cx="3276000" cy="1067400"/>
          </a:xfrm>
        </p:grpSpPr>
        <p:sp>
          <p:nvSpPr>
            <p:cNvPr id="369" name=""/>
            <p:cNvSpPr/>
            <p:nvPr/>
          </p:nvSpPr>
          <p:spPr>
            <a:xfrm>
              <a:off x="6490800" y="5181480"/>
              <a:ext cx="25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customer to update the quantity of a particular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791320" y="54864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9 ViewCartServlet XSL transformation for I-mode browsers (c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From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r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li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3" name="cHTML_ViewCart" descr=""/>
          <p:cNvPicPr/>
          <p:nvPr/>
        </p:nvPicPr>
        <p:blipFill>
          <a:blip r:embed="rId1"/>
          <a:stretch/>
        </p:blipFill>
        <p:spPr>
          <a:xfrm>
            <a:off x="2349360" y="2438280"/>
            <a:ext cx="2376720" cy="409572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6171840" y="228600"/>
            <a:ext cx="2819520" cy="1067400"/>
            <a:chOff x="6171840" y="228600"/>
            <a:chExt cx="2819520" cy="1067400"/>
          </a:xfrm>
        </p:grpSpPr>
        <p:sp>
          <p:nvSpPr>
            <p:cNvPr id="375" name=""/>
            <p:cNvSpPr/>
            <p:nvPr/>
          </p:nvSpPr>
          <p:spPr>
            <a:xfrm>
              <a:off x="6774840" y="228600"/>
              <a:ext cx="221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customer to remove a product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171840" y="5335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4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WML/erro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rev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&lt;e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m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total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@tot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able colum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for-each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486400" y="3505320"/>
            <a:ext cx="2743200" cy="824040"/>
            <a:chOff x="5486400" y="3505320"/>
            <a:chExt cx="2743200" cy="824040"/>
          </a:xfrm>
        </p:grpSpPr>
        <p:sp>
          <p:nvSpPr>
            <p:cNvPr id="380" name=""/>
            <p:cNvSpPr/>
            <p:nvPr/>
          </p:nvSpPr>
          <p:spPr>
            <a:xfrm>
              <a:off x="6070320" y="3505320"/>
              <a:ext cx="2159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the user to check out of the online store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86400" y="380988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715000" y="4648320"/>
            <a:ext cx="3200040" cy="580680"/>
            <a:chOff x="5715000" y="4648320"/>
            <a:chExt cx="3200040" cy="580680"/>
          </a:xfrm>
        </p:grpSpPr>
        <p:sp>
          <p:nvSpPr>
            <p:cNvPr id="383" name=""/>
            <p:cNvSpPr/>
            <p:nvPr/>
          </p:nvSpPr>
          <p:spPr>
            <a:xfrm>
              <a:off x="6398280" y="4648320"/>
              <a:ext cx="251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k up the list of products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715000" y="49532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4-6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5-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ISBN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xsl:for-each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prev/&gt;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nge Qua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tion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quant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ew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inpu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mptyo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forma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409720" y="3276720"/>
            <a:ext cx="2667600" cy="580680"/>
            <a:chOff x="5409720" y="3276720"/>
            <a:chExt cx="2667600" cy="580680"/>
          </a:xfrm>
        </p:grpSpPr>
        <p:sp>
          <p:nvSpPr>
            <p:cNvPr id="388" name=""/>
            <p:cNvSpPr/>
            <p:nvPr/>
          </p:nvSpPr>
          <p:spPr>
            <a:xfrm>
              <a:off x="5979600" y="3276720"/>
              <a:ext cx="209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information about a single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409720" y="358164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876560" y="5486400"/>
            <a:ext cx="3886560" cy="824040"/>
            <a:chOff x="4876560" y="5486400"/>
            <a:chExt cx="3886560" cy="824040"/>
          </a:xfrm>
        </p:grpSpPr>
        <p:sp>
          <p:nvSpPr>
            <p:cNvPr id="391" name=""/>
            <p:cNvSpPr/>
            <p:nvPr/>
          </p:nvSpPr>
          <p:spPr>
            <a:xfrm>
              <a:off x="5706720" y="5486400"/>
              <a:ext cx="305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n interface for changing the quantity of a particular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876560" y="57913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Servlet is a base class for servlets that gener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 documents and perform XSL transforma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SAX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y for creating DocumentBuil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Factory build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y for creating Transform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erFactory transform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XSL file that presents servlet's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XSL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ostfield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prev/&gt;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WML_ViewCart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21909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moveFrom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From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products from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18.11 RemoveFromCartServlet for removing products from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From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FromCartServlet removes a Product from the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Product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ISBN of Product to be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181480" y="5105520"/>
            <a:ext cx="3632400" cy="1222200"/>
            <a:chOff x="5181480" y="5105520"/>
            <a:chExt cx="3632400" cy="1222200"/>
          </a:xfrm>
        </p:grpSpPr>
        <p:sp>
          <p:nvSpPr>
            <p:cNvPr id="402" name=""/>
            <p:cNvSpPr/>
            <p:nvPr/>
          </p:nvSpPr>
          <p:spPr>
            <a:xfrm>
              <a:off x="5181480" y="5105520"/>
              <a:ext cx="3632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ISBN of the product that the customer would like to remove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638320" y="5943600"/>
              <a:ext cx="12956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18.11 RemoveFromCartServlet for removing products from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oppingCart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 shoppingCar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hoppingCar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ShoppingCart is not null, remove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.removeProduct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direct Customer to ViewCartServlet to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638680" y="609480"/>
            <a:ext cx="2971440" cy="824040"/>
            <a:chOff x="5638680" y="609480"/>
            <a:chExt cx="2971440" cy="824040"/>
          </a:xfrm>
        </p:grpSpPr>
        <p:sp>
          <p:nvSpPr>
            <p:cNvPr id="407" name=""/>
            <p:cNvSpPr/>
            <p:nvPr/>
          </p:nvSpPr>
          <p:spPr>
            <a:xfrm>
              <a:off x="6273000" y="60948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638680" y="9144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952880" y="1523880"/>
            <a:ext cx="4038480" cy="824040"/>
            <a:chOff x="4952880" y="1523880"/>
            <a:chExt cx="4038480" cy="824040"/>
          </a:xfrm>
        </p:grpSpPr>
        <p:sp>
          <p:nvSpPr>
            <p:cNvPr id="410" name=""/>
            <p:cNvSpPr/>
            <p:nvPr/>
          </p:nvSpPr>
          <p:spPr>
            <a:xfrm>
              <a:off x="5815080" y="1523880"/>
              <a:ext cx="317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is no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952880" y="182880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76560" y="2209680"/>
            <a:ext cx="3657600" cy="1067400"/>
            <a:chOff x="4876560" y="2209680"/>
            <a:chExt cx="3657600" cy="1067400"/>
          </a:xfrm>
        </p:grpSpPr>
        <p:sp>
          <p:nvSpPr>
            <p:cNvPr id="413" name=""/>
            <p:cNvSpPr/>
            <p:nvPr/>
          </p:nvSpPr>
          <p:spPr>
            <a:xfrm>
              <a:off x="5657760" y="2209680"/>
              <a:ext cx="2876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results of removing the product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876560" y="25146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095880" y="3124080"/>
            <a:ext cx="2971440" cy="1067400"/>
            <a:chOff x="6095880" y="3124080"/>
            <a:chExt cx="2971440" cy="1067400"/>
          </a:xfrm>
        </p:grpSpPr>
        <p:sp>
          <p:nvSpPr>
            <p:cNvPr id="416" name=""/>
            <p:cNvSpPr/>
            <p:nvPr/>
          </p:nvSpPr>
          <p:spPr>
            <a:xfrm>
              <a:off x="6730200" y="3124080"/>
              <a:ext cx="2337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exception and generate an error message to inform the user of the probl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095880" y="34290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Update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the quantities of products in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2 UpdateCartServlet for updating quantities of products in shopping cart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CartServlet updates the quantity of a Product in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's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quantity of given 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oppingCart from se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2 UpdateCartServlet for updating quantities of products in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 shoppingCart = ( ShoppingCar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numeration of parameter 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umeration parameters = request.getParameterNam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quantity for each ISBN par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ameters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ISBN of Product to be upd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ISBN = ( String ) parameters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new quantity for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Quantity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quest.getParameter( ISB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quantity in ShoppingCart for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.setProductQuantity( ISB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newQuant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direct Customer to ViewCartServlet to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562360" y="228600"/>
            <a:ext cx="2819520" cy="824040"/>
            <a:chOff x="5562360" y="228600"/>
            <a:chExt cx="2819520" cy="824040"/>
          </a:xfrm>
        </p:grpSpPr>
        <p:sp>
          <p:nvSpPr>
            <p:cNvPr id="425" name=""/>
            <p:cNvSpPr/>
            <p:nvPr/>
          </p:nvSpPr>
          <p:spPr>
            <a:xfrm>
              <a:off x="6164640" y="228600"/>
              <a:ext cx="221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562360" y="5335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00800" y="990720"/>
            <a:ext cx="2666880" cy="1310760"/>
            <a:chOff x="6400800" y="990720"/>
            <a:chExt cx="2666880" cy="1310760"/>
          </a:xfrm>
        </p:grpSpPr>
        <p:sp>
          <p:nvSpPr>
            <p:cNvPr id="428" name=""/>
            <p:cNvSpPr/>
            <p:nvPr/>
          </p:nvSpPr>
          <p:spPr>
            <a:xfrm>
              <a:off x="6969240" y="990720"/>
              <a:ext cx="2098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umer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parameter nam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400800" y="12952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029200" y="2590920"/>
            <a:ext cx="4038120" cy="580680"/>
            <a:chOff x="5029200" y="2590920"/>
            <a:chExt cx="4038120" cy="580680"/>
          </a:xfrm>
        </p:grpSpPr>
        <p:sp>
          <p:nvSpPr>
            <p:cNvPr id="431" name=""/>
            <p:cNvSpPr/>
            <p:nvPr/>
          </p:nvSpPr>
          <p:spPr>
            <a:xfrm>
              <a:off x="5891400" y="2590920"/>
              <a:ext cx="317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Quanti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produc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029200" y="28958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257800" y="3505320"/>
            <a:ext cx="3276360" cy="580680"/>
            <a:chOff x="5257800" y="3505320"/>
            <a:chExt cx="3276360" cy="580680"/>
          </a:xfrm>
        </p:grpSpPr>
        <p:sp>
          <p:nvSpPr>
            <p:cNvPr id="434" name=""/>
            <p:cNvSpPr/>
            <p:nvPr/>
          </p:nvSpPr>
          <p:spPr>
            <a:xfrm>
              <a:off x="5957280" y="3505320"/>
              <a:ext cx="257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quantity for each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257800" y="381024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800600" y="4572000"/>
            <a:ext cx="3428640" cy="824040"/>
            <a:chOff x="4800600" y="4572000"/>
            <a:chExt cx="3428640" cy="824040"/>
          </a:xfrm>
        </p:grpSpPr>
        <p:sp>
          <p:nvSpPr>
            <p:cNvPr id="437" name=""/>
            <p:cNvSpPr/>
            <p:nvPr/>
          </p:nvSpPr>
          <p:spPr>
            <a:xfrm>
              <a:off x="5532480" y="4572000"/>
              <a:ext cx="269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how the updates to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4800600" y="48769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2 UpdateCartServlet for updating quantities of products in shopping c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heckou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eckou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te the customer’s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8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Model List for determining client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clien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 ServletConfig confi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superclass's init method for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.init( confi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InitParameter to set XSL file for transform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d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XSLFileName( config.getIni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SL_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ocumentBuild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ilderFactory = DocumentBuilderFactory.newInstan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Transform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erFactory =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RIResolver for resolving relative paths in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erFactory.setURIResol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IResolv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solve href as relative to Servlet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urce resolve( String href, String ba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rvletContext context = getServlet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 url = context.getResource( h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reate StreamSource to read document from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url.openStream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48320" y="914400"/>
            <a:ext cx="2514240" cy="580680"/>
            <a:chOff x="4648320" y="914400"/>
            <a:chExt cx="2514240" cy="580680"/>
          </a:xfrm>
        </p:grpSpPr>
        <p:sp>
          <p:nvSpPr>
            <p:cNvPr id="98" name=""/>
            <p:cNvSpPr/>
            <p:nvPr/>
          </p:nvSpPr>
          <p:spPr>
            <a:xfrm>
              <a:off x="5185080" y="914400"/>
              <a:ext cx="197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itializes the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48320" y="12193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00440" y="2438280"/>
            <a:ext cx="2362680" cy="1554120"/>
            <a:chOff x="6400440" y="2438280"/>
            <a:chExt cx="2362680" cy="1554120"/>
          </a:xfrm>
        </p:grpSpPr>
        <p:sp>
          <p:nvSpPr>
            <p:cNvPr id="101" name=""/>
            <p:cNvSpPr/>
            <p:nvPr/>
          </p:nvSpPr>
          <p:spPr>
            <a:xfrm>
              <a:off x="6903720" y="2438280"/>
              <a:ext cx="1859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the name of the XSL transformation that will transform the servlet’s content for each client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00440" y="27432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172200" y="2971800"/>
            <a:ext cx="2895480" cy="1554120"/>
            <a:chOff x="6172200" y="2971800"/>
            <a:chExt cx="2895480" cy="1554120"/>
          </a:xfrm>
        </p:grpSpPr>
        <p:sp>
          <p:nvSpPr>
            <p:cNvPr id="104" name=""/>
            <p:cNvSpPr/>
            <p:nvPr/>
          </p:nvSpPr>
          <p:spPr>
            <a:xfrm>
              <a:off x="6629400" y="2971800"/>
              <a:ext cx="24382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, which will be used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building XML doc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72200" y="3276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171840" y="3505320"/>
            <a:ext cx="2895480" cy="1310760"/>
            <a:chOff x="6171840" y="3505320"/>
            <a:chExt cx="2895480" cy="1310760"/>
          </a:xfrm>
        </p:grpSpPr>
        <p:sp>
          <p:nvSpPr>
            <p:cNvPr id="107" name=""/>
            <p:cNvSpPr/>
            <p:nvPr/>
          </p:nvSpPr>
          <p:spPr>
            <a:xfrm>
              <a:off x="6791040" y="3505320"/>
              <a:ext cx="2276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which instanc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erform XSL transform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171840" y="38098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43400" y="4038480"/>
            <a:ext cx="4724280" cy="824040"/>
            <a:chOff x="4343400" y="4038480"/>
            <a:chExt cx="4724280" cy="824040"/>
          </a:xfrm>
        </p:grpSpPr>
        <p:sp>
          <p:nvSpPr>
            <p:cNvPr id="110" name=""/>
            <p:cNvSpPr/>
            <p:nvPr/>
          </p:nvSpPr>
          <p:spPr>
            <a:xfrm>
              <a:off x="4800600" y="4038480"/>
              <a:ext cx="4267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IResol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olve relative URIs in XSL doc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343400" y="434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91320" y="5715000"/>
            <a:ext cx="3276000" cy="824040"/>
            <a:chOff x="5791320" y="5715000"/>
            <a:chExt cx="3276000" cy="824040"/>
          </a:xfrm>
        </p:grpSpPr>
        <p:sp>
          <p:nvSpPr>
            <p:cNvPr id="113" name=""/>
            <p:cNvSpPr/>
            <p:nvPr/>
          </p:nvSpPr>
          <p:spPr>
            <a:xfrm>
              <a:off x="6490800" y="5715000"/>
              <a:ext cx="25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s the relative URI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Re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791320" y="60199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Ou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OutServlet allows a Customer to checkout of the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to purchase the Products in the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ou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stomer's userID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( Str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038480" y="5715000"/>
            <a:ext cx="3428640" cy="580680"/>
            <a:chOff x="4038480" y="5715000"/>
            <a:chExt cx="3428640" cy="580680"/>
          </a:xfrm>
        </p:grpSpPr>
        <p:sp>
          <p:nvSpPr>
            <p:cNvPr id="446" name=""/>
            <p:cNvSpPr/>
            <p:nvPr/>
          </p:nvSpPr>
          <p:spPr>
            <a:xfrm>
              <a:off x="4770360" y="571500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038480" y="60199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hoppingCart and check 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oppingCart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 shoppingCart = ( ShoppingCar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Customer has a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r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 is empt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userID is neither null nor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userID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userID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 checkout method to plac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 order = shoppingCart.checkout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orderID for Customer's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teger orderID = ( Integer ) order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o to ViewOrder to show comple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Order?orderI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serID was null, indicating Customer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ot logged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are not logged i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appendChild( buildErrorMessage( docum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rror )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86400" y="762120"/>
            <a:ext cx="3504960" cy="824040"/>
            <a:chOff x="5486400" y="762120"/>
            <a:chExt cx="3504960" cy="824040"/>
          </a:xfrm>
        </p:grpSpPr>
        <p:sp>
          <p:nvSpPr>
            <p:cNvPr id="451" name=""/>
            <p:cNvSpPr/>
            <p:nvPr/>
          </p:nvSpPr>
          <p:spPr>
            <a:xfrm>
              <a:off x="6233400" y="762120"/>
              <a:ext cx="275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remote reference to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sess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486400" y="10666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19920" y="2971800"/>
            <a:ext cx="2971440" cy="824040"/>
            <a:chOff x="6019920" y="2971800"/>
            <a:chExt cx="2971440" cy="824040"/>
          </a:xfrm>
        </p:grpSpPr>
        <p:sp>
          <p:nvSpPr>
            <p:cNvPr id="454" name=""/>
            <p:cNvSpPr/>
            <p:nvPr/>
          </p:nvSpPr>
          <p:spPr>
            <a:xfrm>
              <a:off x="6654240" y="29718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checkout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019920" y="32767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553080" y="3505320"/>
            <a:ext cx="2438280" cy="580680"/>
            <a:chOff x="6553080" y="3505320"/>
            <a:chExt cx="2438280" cy="580680"/>
          </a:xfrm>
        </p:grpSpPr>
        <p:sp>
          <p:nvSpPr>
            <p:cNvPr id="457" name=""/>
            <p:cNvSpPr/>
            <p:nvPr/>
          </p:nvSpPr>
          <p:spPr>
            <a:xfrm>
              <a:off x="7073640" y="3505320"/>
              <a:ext cx="191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553080" y="381024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943600" y="4038480"/>
            <a:ext cx="2438280" cy="580680"/>
            <a:chOff x="5943600" y="4038480"/>
            <a:chExt cx="2438280" cy="580680"/>
          </a:xfrm>
        </p:grpSpPr>
        <p:sp>
          <p:nvSpPr>
            <p:cNvPr id="460" name=""/>
            <p:cNvSpPr/>
            <p:nvPr/>
          </p:nvSpPr>
          <p:spPr>
            <a:xfrm>
              <a:off x="6464160" y="4038480"/>
              <a:ext cx="191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Order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943600" y="434340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181480" y="4648320"/>
            <a:ext cx="3428640" cy="824040"/>
            <a:chOff x="5181480" y="4648320"/>
            <a:chExt cx="3428640" cy="824040"/>
          </a:xfrm>
        </p:grpSpPr>
        <p:sp>
          <p:nvSpPr>
            <p:cNvPr id="463" name=""/>
            <p:cNvSpPr/>
            <p:nvPr/>
          </p:nvSpPr>
          <p:spPr>
            <a:xfrm>
              <a:off x="5913360" y="4648320"/>
              <a:ext cx="269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s an error message indicating that the customer is not logg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181480" y="49528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095880" y="990720"/>
            <a:ext cx="2743200" cy="580680"/>
            <a:chOff x="6095880" y="990720"/>
            <a:chExt cx="2743200" cy="580680"/>
          </a:xfrm>
        </p:grpSpPr>
        <p:sp>
          <p:nvSpPr>
            <p:cNvPr id="468" name=""/>
            <p:cNvSpPr/>
            <p:nvPr/>
          </p:nvSpPr>
          <p:spPr>
            <a:xfrm>
              <a:off x="6681600" y="990720"/>
              <a:ext cx="215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exception if the shopping cart is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095880" y="129564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XHTML_Checkout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6869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cHTML_Checkout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895480" cy="4991400"/>
          </a:xfrm>
          <a:prstGeom prst="rect">
            <a:avLst/>
          </a:prstGeom>
          <a:ln w="0">
            <a:noFill/>
          </a:ln>
        </p:spPr>
      </p:pic>
      <p:pic>
        <p:nvPicPr>
          <p:cNvPr id="474" name="WML_Checkout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 Product Catalog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catalog 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n online cat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AllProducts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Search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AllProducts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AllProducts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a list of products available o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AllProducts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AllProductsServlet retrieves a list of all Produc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vailable in the store and presents the list to the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llProducts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Product cat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8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Home interface to find all Produ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Iterator for Product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Home.findAllProduct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oot of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El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catalog Elemen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each Product to th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s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 product = ( Produ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products.nex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roduc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ProductModel for current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an XML element to document for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Ele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Model.getXML( document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333760" y="380880"/>
            <a:ext cx="3657600" cy="824040"/>
            <a:chOff x="5333760" y="380880"/>
            <a:chExt cx="3657600" cy="824040"/>
          </a:xfrm>
        </p:grpSpPr>
        <p:sp>
          <p:nvSpPr>
            <p:cNvPr id="484" name=""/>
            <p:cNvSpPr/>
            <p:nvPr/>
          </p:nvSpPr>
          <p:spPr>
            <a:xfrm>
              <a:off x="6114960" y="380880"/>
              <a:ext cx="287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, which represents a product in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33760" y="6858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952520" y="2057400"/>
            <a:ext cx="4114800" cy="1067400"/>
            <a:chOff x="4952520" y="2057400"/>
            <a:chExt cx="4114800" cy="1067400"/>
          </a:xfrm>
        </p:grpSpPr>
        <p:sp>
          <p:nvSpPr>
            <p:cNvPr id="487" name=""/>
            <p:cNvSpPr/>
            <p:nvPr/>
          </p:nvSpPr>
          <p:spPr>
            <a:xfrm>
              <a:off x="5829840" y="2057400"/>
              <a:ext cx="3237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AllProduc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s, each of which represents a single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952520" y="236232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419360" y="4038480"/>
            <a:ext cx="4572000" cy="824040"/>
            <a:chOff x="4419360" y="4038480"/>
            <a:chExt cx="4572000" cy="824040"/>
          </a:xfrm>
        </p:grpSpPr>
        <p:sp>
          <p:nvSpPr>
            <p:cNvPr id="490" name=""/>
            <p:cNvSpPr/>
            <p:nvPr/>
          </p:nvSpPr>
          <p:spPr>
            <a:xfrm>
              <a:off x="5395680" y="4038480"/>
              <a:ext cx="35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products to build an XML document that contains information about each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419360" y="434340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419360" y="5181480"/>
            <a:ext cx="2819520" cy="580680"/>
            <a:chOff x="4419360" y="5181480"/>
            <a:chExt cx="2819520" cy="580680"/>
          </a:xfrm>
        </p:grpSpPr>
        <p:sp>
          <p:nvSpPr>
            <p:cNvPr id="493" name=""/>
            <p:cNvSpPr/>
            <p:nvPr/>
          </p:nvSpPr>
          <p:spPr>
            <a:xfrm>
              <a:off x="5021640" y="5181480"/>
              <a:ext cx="221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419360" y="54864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572000" y="5867280"/>
            <a:ext cx="2743200" cy="580680"/>
            <a:chOff x="4572000" y="5867280"/>
            <a:chExt cx="2743200" cy="580680"/>
          </a:xfrm>
        </p:grpSpPr>
        <p:sp>
          <p:nvSpPr>
            <p:cNvPr id="496" name=""/>
            <p:cNvSpPr/>
            <p:nvPr/>
          </p:nvSpPr>
          <p:spPr>
            <a:xfrm>
              <a:off x="5157720" y="5867280"/>
              <a:ext cx="215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each product’s XML descri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572000" y="617220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8-100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a Product cannot be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roducts found in the stor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724280" y="5029200"/>
            <a:ext cx="2971440" cy="824040"/>
            <a:chOff x="4724280" y="5029200"/>
            <a:chExt cx="2971440" cy="824040"/>
          </a:xfrm>
        </p:grpSpPr>
        <p:sp>
          <p:nvSpPr>
            <p:cNvPr id="501" name=""/>
            <p:cNvSpPr/>
            <p:nvPr/>
          </p:nvSpPr>
          <p:spPr>
            <a:xfrm>
              <a:off x="5357520" y="5029200"/>
              <a:ext cx="2338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all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lock presents the content to the client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724280" y="5334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8-107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s obtaining referenced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setURIResolv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Model Array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List = buildClient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ocumentBuilder instance for building XML doc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 getDocumentBuil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idat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idation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ilderFactory.setValidating( validat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new DocumentBuilder to the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ilderFactory.newDocumentBuilder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67080" y="3581280"/>
            <a:ext cx="4267080" cy="824040"/>
            <a:chOff x="4267080" y="3581280"/>
            <a:chExt cx="4267080" cy="824040"/>
          </a:xfrm>
        </p:grpSpPr>
        <p:sp>
          <p:nvSpPr>
            <p:cNvPr id="118" name=""/>
            <p:cNvSpPr/>
            <p:nvPr/>
          </p:nvSpPr>
          <p:spPr>
            <a:xfrm>
              <a:off x="5178240" y="3581280"/>
              <a:ext cx="335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parsing and creating XML doc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267080" y="388620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38680" y="228600"/>
            <a:ext cx="2971800" cy="824040"/>
            <a:chOff x="5638680" y="228600"/>
            <a:chExt cx="2971800" cy="824040"/>
          </a:xfrm>
        </p:grpSpPr>
        <p:sp>
          <p:nvSpPr>
            <p:cNvPr id="121" name=""/>
            <p:cNvSpPr/>
            <p:nvPr/>
          </p:nvSpPr>
          <p:spPr>
            <a:xfrm>
              <a:off x="6274080" y="228600"/>
              <a:ext cx="233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Des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638680" y="533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XHTML_GetAllProducts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558144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cHTML_GetAllProducts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2895840" cy="4991040"/>
          </a:xfrm>
          <a:prstGeom prst="rect">
            <a:avLst/>
          </a:prstGeom>
          <a:ln w="0">
            <a:noFill/>
          </a:ln>
        </p:spPr>
      </p:pic>
      <p:pic>
        <p:nvPicPr>
          <p:cNvPr id="507" name="WML_GetAllProducts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Produc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Produc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information about a 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roduc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roductServlet retrieves the details of a Product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sents them to the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oduc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SBN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XML document with Product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Home interface to find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Product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 produ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Home.findByPrimaryKey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XML document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 rootNod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sto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root Elemen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N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 details as a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uild an XML document with Product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Nod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952520" y="1676520"/>
            <a:ext cx="3353040" cy="580680"/>
            <a:chOff x="4952520" y="1676520"/>
            <a:chExt cx="3353040" cy="580680"/>
          </a:xfrm>
        </p:grpSpPr>
        <p:sp>
          <p:nvSpPr>
            <p:cNvPr id="515" name=""/>
            <p:cNvSpPr/>
            <p:nvPr/>
          </p:nvSpPr>
          <p:spPr>
            <a:xfrm>
              <a:off x="5668560" y="1676520"/>
              <a:ext cx="263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952520" y="19814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495680" y="2590920"/>
            <a:ext cx="4267080" cy="824040"/>
            <a:chOff x="4495680" y="2590920"/>
            <a:chExt cx="4267080" cy="824040"/>
          </a:xfrm>
        </p:grpSpPr>
        <p:sp>
          <p:nvSpPr>
            <p:cNvPr id="518" name=""/>
            <p:cNvSpPr/>
            <p:nvPr/>
          </p:nvSpPr>
          <p:spPr>
            <a:xfrm>
              <a:off x="5405040" y="2590920"/>
              <a:ext cx="3357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the given ISB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4495680" y="289548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190760" y="4648320"/>
            <a:ext cx="4876560" cy="824040"/>
            <a:chOff x="4190760" y="4648320"/>
            <a:chExt cx="4876560" cy="824040"/>
          </a:xfrm>
        </p:grpSpPr>
        <p:sp>
          <p:nvSpPr>
            <p:cNvPr id="521" name=""/>
            <p:cNvSpPr/>
            <p:nvPr/>
          </p:nvSpPr>
          <p:spPr>
            <a:xfrm>
              <a:off x="5232240" y="4648320"/>
              <a:ext cx="3835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details of the product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us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nerate the XML content for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190760" y="4952880"/>
              <a:ext cx="10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Product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 in our stor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XHTML_GetProduct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5814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cHTML_GetProduct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895480" cy="5010120"/>
          </a:xfrm>
          <a:prstGeom prst="rect">
            <a:avLst/>
          </a:prstGeom>
          <a:ln w="0">
            <a:noFill/>
          </a:ln>
        </p:spPr>
      </p:pic>
      <p:pic>
        <p:nvPicPr>
          <p:cNvPr id="529" name="WML_GetProduct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Search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SearchServ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the database for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Search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SearchServlet allows a Customer to search throug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tore for a particular 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Search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searchString from the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earch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257440" y="6022800"/>
            <a:ext cx="2819520" cy="580680"/>
            <a:chOff x="5257440" y="6022800"/>
            <a:chExt cx="2819520" cy="580680"/>
          </a:xfrm>
        </p:grpSpPr>
        <p:sp>
          <p:nvSpPr>
            <p:cNvPr id="535" name=""/>
            <p:cNvSpPr/>
            <p:nvPr/>
          </p:nvSpPr>
          <p:spPr>
            <a:xfrm>
              <a:off x="5859720" y="6022800"/>
              <a:ext cx="221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257440" y="63277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0-1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6-12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0-1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8-13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on-validating par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 getDocumentBuil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ocumentBuil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XSL file name for transforming servlet's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SLFileName( String fi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SLFileName =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SL file name for transforming servlet's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XSLFil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SL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 XML document to client using provided respon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after transforming XML document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-specific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XML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, Document docu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session, create if not exta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lientModel from sessio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Model client = ( Clien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Mod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560" y="762120"/>
            <a:ext cx="4115160" cy="824040"/>
            <a:chOff x="4876560" y="762120"/>
            <a:chExt cx="4115160" cy="824040"/>
          </a:xfrm>
        </p:grpSpPr>
        <p:sp>
          <p:nvSpPr>
            <p:cNvPr id="126" name=""/>
            <p:cNvSpPr/>
            <p:nvPr/>
          </p:nvSpPr>
          <p:spPr>
            <a:xfrm>
              <a:off x="5562720" y="7621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o create a non-validating XML par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876560" y="1066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9520" y="2209680"/>
            <a:ext cx="5185080" cy="1067040"/>
            <a:chOff x="3809520" y="2209680"/>
            <a:chExt cx="5185080" cy="1067040"/>
          </a:xfrm>
        </p:grpSpPr>
        <p:sp>
          <p:nvSpPr>
            <p:cNvPr id="129" name=""/>
            <p:cNvSpPr/>
            <p:nvPr/>
          </p:nvSpPr>
          <p:spPr>
            <a:xfrm>
              <a:off x="6477120" y="2362320"/>
              <a:ext cx="2517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SL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5181120" y="220968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809520" y="2819520"/>
              <a:ext cx="2667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409720" y="4419720"/>
            <a:ext cx="3429000" cy="1067400"/>
            <a:chOff x="5409720" y="4419720"/>
            <a:chExt cx="3429000" cy="1067400"/>
          </a:xfrm>
        </p:grpSpPr>
        <p:sp>
          <p:nvSpPr>
            <p:cNvPr id="133" name=""/>
            <p:cNvSpPr/>
            <p:nvPr/>
          </p:nvSpPr>
          <p:spPr>
            <a:xfrm>
              <a:off x="5981400" y="4419720"/>
              <a:ext cx="2857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s which type of client is accessing the servlet and invokes method transform to perform an XSL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409720" y="472428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48320" y="5867280"/>
            <a:ext cx="2514600" cy="580680"/>
            <a:chOff x="4648320" y="5867280"/>
            <a:chExt cx="2514600" cy="580680"/>
          </a:xfrm>
        </p:grpSpPr>
        <p:sp>
          <p:nvSpPr>
            <p:cNvPr id="136" name=""/>
            <p:cNvSpPr/>
            <p:nvPr/>
          </p:nvSpPr>
          <p:spPr>
            <a:xfrm>
              <a:off x="5067360" y="5867280"/>
              <a:ext cx="209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648320" y="617184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Product using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Product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s that match search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products = productHome.findByTit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archString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atalog docum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 rootNode =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 list of matching produ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s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 product = ( Produ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products.nex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roduct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Model productModel =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XML element to the document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urrent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Nod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562720" y="2590920"/>
            <a:ext cx="3200040" cy="824040"/>
            <a:chOff x="5562720" y="2590920"/>
            <a:chExt cx="3200040" cy="824040"/>
          </a:xfrm>
        </p:grpSpPr>
        <p:sp>
          <p:nvSpPr>
            <p:cNvPr id="540" name=""/>
            <p:cNvSpPr/>
            <p:nvPr/>
          </p:nvSpPr>
          <p:spPr>
            <a:xfrm>
              <a:off x="6246000" y="2590920"/>
              <a:ext cx="25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terate through the list of products returned by the searc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562720" y="28954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343040" y="4038480"/>
            <a:ext cx="4419720" cy="580680"/>
            <a:chOff x="4343040" y="4038480"/>
            <a:chExt cx="4419720" cy="580680"/>
          </a:xfrm>
        </p:grpSpPr>
        <p:sp>
          <p:nvSpPr>
            <p:cNvPr id="543" name=""/>
            <p:cNvSpPr/>
            <p:nvPr/>
          </p:nvSpPr>
          <p:spPr>
            <a:xfrm>
              <a:off x="5286960" y="4038480"/>
              <a:ext cx="3475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an XML representation to the XML document for each product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343040" y="4343400"/>
              <a:ext cx="94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Product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roducts match your search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XHTML_ProductSearch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5581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WML_ProductSearch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2190600" cy="5629320"/>
          </a:xfrm>
          <a:prstGeom prst="rect">
            <a:avLst/>
          </a:prstGeom>
          <a:ln w="0">
            <a:noFill/>
          </a:ln>
        </p:spPr>
      </p:pic>
      <p:pic>
        <p:nvPicPr>
          <p:cNvPr id="551" name="cHTML_ProductSearch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28958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 Customer Management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gister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er regis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in p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OrderHistory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history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ostPassword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ind passw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gister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registration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ervlet processes the Customer registration for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register a new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ustomerModel to store registration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 customer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867280" y="6022800"/>
            <a:ext cx="2971440" cy="580680"/>
            <a:chOff x="5867280" y="6022800"/>
            <a:chExt cx="2971440" cy="580680"/>
          </a:xfrm>
        </p:grpSpPr>
        <p:sp>
          <p:nvSpPr>
            <p:cNvPr id="559" name=""/>
            <p:cNvSpPr/>
            <p:nvPr/>
          </p:nvSpPr>
          <p:spPr>
            <a:xfrm>
              <a:off x="6501600" y="602280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867280" y="63277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roperties of CustomerModel using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ssed through request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UserID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Password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PasswordHint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H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Fir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La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redit card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CreditCard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CreditCardNumber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CreditCardExpirationDa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Expiration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Model for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Model billingAddr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Fir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La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486400" y="457200"/>
            <a:ext cx="3504960" cy="1067400"/>
            <a:chOff x="5486400" y="457200"/>
            <a:chExt cx="3504960" cy="1067400"/>
          </a:xfrm>
        </p:grpSpPr>
        <p:sp>
          <p:nvSpPr>
            <p:cNvPr id="564" name=""/>
            <p:cNvSpPr/>
            <p:nvPr/>
          </p:nvSpPr>
          <p:spPr>
            <a:xfrm>
              <a:off x="6233400" y="457200"/>
              <a:ext cx="2757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parameter values received from the client to populate the model with details about the custom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486400" y="7621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StreetAddressLine1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Street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StreetAddressLine2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Street2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Cit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illingAddressCit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Stat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Sta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ZipCod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illingAddress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Countr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PhoneNumber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Phone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BillingAddress( billing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Model for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Model shippingAddr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Fir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Fir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La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StreetAddressLine1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Street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StreetAddressLine2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Street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Cit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hippingAddress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Stat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Sta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ZipCod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Countr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PhoneNumber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Phone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ShippingAddress( shippingAddress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Customer EJB and create new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ustom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6171840" y="4952880"/>
            <a:ext cx="2895480" cy="824040"/>
            <a:chOff x="6171840" y="4952880"/>
            <a:chExt cx="2895480" cy="824040"/>
          </a:xfrm>
        </p:grpSpPr>
        <p:sp>
          <p:nvSpPr>
            <p:cNvPr id="571" name=""/>
            <p:cNvSpPr/>
            <p:nvPr/>
          </p:nvSpPr>
          <p:spPr>
            <a:xfrm>
              <a:off x="6791040" y="4952880"/>
              <a:ext cx="227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s up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, which represents a customer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171840" y="52578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9-16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lient is null, get new ClientModel for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-Agent and store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getClientModel( userAg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Mod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lient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client.getContentTyp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p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ild file nam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xslFile = client.getXSLPath() + getXSLFile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InputStream for XSL docu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 xs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ervletContext().getResourceAsStream( xsl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form XML document using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( document, xslStream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lush and close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rite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476760" y="609480"/>
            <a:ext cx="2210040" cy="580680"/>
            <a:chOff x="6476760" y="609480"/>
            <a:chExt cx="2210040" cy="580680"/>
          </a:xfrm>
        </p:grpSpPr>
        <p:sp>
          <p:nvSpPr>
            <p:cNvPr id="141" name=""/>
            <p:cNvSpPr/>
            <p:nvPr/>
          </p:nvSpPr>
          <p:spPr>
            <a:xfrm>
              <a:off x="6845400" y="609480"/>
              <a:ext cx="1841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clien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476760" y="9140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52520" y="762120"/>
            <a:ext cx="3657600" cy="824040"/>
            <a:chOff x="4952520" y="762120"/>
            <a:chExt cx="3657600" cy="824040"/>
          </a:xfrm>
        </p:grpSpPr>
        <p:sp>
          <p:nvSpPr>
            <p:cNvPr id="144" name=""/>
            <p:cNvSpPr/>
            <p:nvPr/>
          </p:nvSpPr>
          <p:spPr>
            <a:xfrm>
              <a:off x="5562360" y="76212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client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520" y="1066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4640" y="990720"/>
            <a:ext cx="3200400" cy="580680"/>
            <a:chOff x="5714640" y="990720"/>
            <a:chExt cx="3200400" cy="580680"/>
          </a:xfrm>
        </p:grpSpPr>
        <p:sp>
          <p:nvSpPr>
            <p:cNvPr id="147" name=""/>
            <p:cNvSpPr/>
            <p:nvPr/>
          </p:nvSpPr>
          <p:spPr>
            <a:xfrm>
              <a:off x="624816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ater u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71464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43600" y="1676520"/>
            <a:ext cx="2895480" cy="1554120"/>
            <a:chOff x="5943600" y="1676520"/>
            <a:chExt cx="2895480" cy="1554120"/>
          </a:xfrm>
        </p:grpSpPr>
        <p:sp>
          <p:nvSpPr>
            <p:cNvPr id="150" name=""/>
            <p:cNvSpPr/>
            <p:nvPr/>
          </p:nvSpPr>
          <p:spPr>
            <a:xfrm>
              <a:off x="6781680" y="1676520"/>
              <a:ext cx="2057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content type for the clien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onfigu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3600" y="1981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24480" y="2819520"/>
            <a:ext cx="2743200" cy="824040"/>
            <a:chOff x="6324480" y="2819520"/>
            <a:chExt cx="2743200" cy="824040"/>
          </a:xfrm>
        </p:grpSpPr>
        <p:sp>
          <p:nvSpPr>
            <p:cNvPr id="153" name=""/>
            <p:cNvSpPr/>
            <p:nvPr/>
          </p:nvSpPr>
          <p:spPr>
            <a:xfrm>
              <a:off x="6781680" y="28195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s the complete relative path for the XSL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244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714640" y="3352680"/>
            <a:ext cx="2819520" cy="580680"/>
            <a:chOff x="5714640" y="3352680"/>
            <a:chExt cx="2819520" cy="580680"/>
          </a:xfrm>
        </p:grpSpPr>
        <p:sp>
          <p:nvSpPr>
            <p:cNvPr id="156" name=""/>
            <p:cNvSpPr/>
            <p:nvPr/>
          </p:nvSpPr>
          <p:spPr>
            <a:xfrm>
              <a:off x="6184800" y="3352680"/>
              <a:ext cx="2349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SL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14640" y="36572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029200" y="4038480"/>
            <a:ext cx="3352320" cy="824040"/>
            <a:chOff x="5029200" y="4038480"/>
            <a:chExt cx="3352320" cy="824040"/>
          </a:xfrm>
        </p:grpSpPr>
        <p:sp>
          <p:nvSpPr>
            <p:cNvPr id="159" name=""/>
            <p:cNvSpPr/>
            <p:nvPr/>
          </p:nvSpPr>
          <p:spPr>
            <a:xfrm>
              <a:off x="5587920" y="4038480"/>
              <a:ext cx="2793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transformation and send the resul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029200" y="434304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7-15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2-1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Customer using the CustomerModel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ustomer's registration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create( customer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Model = customer.getCustomerModel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questDispatcher for Login serv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Dispatcher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questDispatch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Log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serID and password for Login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User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Passwor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orward user to Login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in 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800600" y="380880"/>
            <a:ext cx="3962160" cy="1310760"/>
            <a:chOff x="4800600" y="380880"/>
            <a:chExt cx="3962160" cy="1310760"/>
          </a:xfrm>
        </p:grpSpPr>
        <p:sp>
          <p:nvSpPr>
            <p:cNvPr id="576" name=""/>
            <p:cNvSpPr/>
            <p:nvPr/>
          </p:nvSpPr>
          <p:spPr>
            <a:xfrm>
              <a:off x="5646600" y="380880"/>
              <a:ext cx="31161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customer registration in the database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s an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800600" y="6858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81120" y="3352680"/>
            <a:ext cx="3886560" cy="580680"/>
            <a:chOff x="5181120" y="3352680"/>
            <a:chExt cx="3886560" cy="580680"/>
          </a:xfrm>
        </p:grpSpPr>
        <p:sp>
          <p:nvSpPr>
            <p:cNvPr id="579" name=""/>
            <p:cNvSpPr/>
            <p:nvPr/>
          </p:nvSpPr>
          <p:spPr>
            <a:xfrm>
              <a:off x="6011280" y="3352680"/>
              <a:ext cx="305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the custom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in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g into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181120" y="36576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105520" y="4267080"/>
            <a:ext cx="3200040" cy="1310760"/>
            <a:chOff x="5105520" y="4267080"/>
            <a:chExt cx="3200040" cy="1310760"/>
          </a:xfrm>
        </p:grpSpPr>
        <p:sp>
          <p:nvSpPr>
            <p:cNvPr id="582" name=""/>
            <p:cNvSpPr/>
            <p:nvPr/>
          </p:nvSpPr>
          <p:spPr>
            <a:xfrm>
              <a:off x="5788800" y="4267080"/>
              <a:ext cx="2516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ndicate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could not be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105520" y="45720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5-1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could not be cre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181480" y="228600"/>
            <a:ext cx="2971440" cy="824040"/>
            <a:chOff x="5181480" y="228600"/>
            <a:chExt cx="2971440" cy="824040"/>
          </a:xfrm>
        </p:grpSpPr>
        <p:sp>
          <p:nvSpPr>
            <p:cNvPr id="587" name=""/>
            <p:cNvSpPr/>
            <p:nvPr/>
          </p:nvSpPr>
          <p:spPr>
            <a:xfrm>
              <a:off x="5815800" y="2286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a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ould not be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181480" y="533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Login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er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let that logs an existing Customer into the si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assword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Customer EJB to authenticate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ustom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ustomer with given userID and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Login( userID,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Model for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Model customer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.getCustom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serID in Customer's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Session()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User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gin XM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login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log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Customer's first nam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first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Name.appendChild( document.createTextN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Fir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523880"/>
            <a:ext cx="2971440" cy="824040"/>
            <a:chOff x="5562720" y="1523880"/>
            <a:chExt cx="2971440" cy="824040"/>
          </a:xfrm>
        </p:grpSpPr>
        <p:sp>
          <p:nvSpPr>
            <p:cNvPr id="596" name=""/>
            <p:cNvSpPr/>
            <p:nvPr/>
          </p:nvSpPr>
          <p:spPr>
            <a:xfrm>
              <a:off x="6197040" y="152388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5562720" y="1828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4120" y="2438280"/>
            <a:ext cx="3733200" cy="1310760"/>
            <a:chOff x="5334120" y="2438280"/>
            <a:chExt cx="3733200" cy="1310760"/>
          </a:xfrm>
        </p:grpSpPr>
        <p:sp>
          <p:nvSpPr>
            <p:cNvPr id="599" name=""/>
            <p:cNvSpPr/>
            <p:nvPr/>
          </p:nvSpPr>
          <p:spPr>
            <a:xfrm>
              <a:off x="6131160" y="2438280"/>
              <a:ext cx="29361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Lo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turns a remote reference to the Customer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wo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user provi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334120" y="274320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095520" y="4648320"/>
            <a:ext cx="2667600" cy="1310760"/>
            <a:chOff x="6095520" y="4648320"/>
            <a:chExt cx="2667600" cy="1310760"/>
          </a:xfrm>
        </p:grpSpPr>
        <p:sp>
          <p:nvSpPr>
            <p:cNvPr id="602" name=""/>
            <p:cNvSpPr/>
            <p:nvPr/>
          </p:nvSpPr>
          <p:spPr>
            <a:xfrm>
              <a:off x="6665400" y="4648320"/>
              <a:ext cx="20977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a simple XML document that indicates the customer has successfully logged into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095520" y="495288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5-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.appendChild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userID and password enter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re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181480" y="914400"/>
            <a:ext cx="3733560" cy="824040"/>
            <a:chOff x="5181480" y="914400"/>
            <a:chExt cx="3733560" cy="824040"/>
          </a:xfrm>
        </p:grpSpPr>
        <p:sp>
          <p:nvSpPr>
            <p:cNvPr id="607" name=""/>
            <p:cNvSpPr/>
            <p:nvPr/>
          </p:nvSpPr>
          <p:spPr>
            <a:xfrm>
              <a:off x="5978520" y="914400"/>
              <a:ext cx="293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annot be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81480" y="12193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57800" y="2971800"/>
            <a:ext cx="3200400" cy="1067400"/>
            <a:chOff x="5257800" y="2971800"/>
            <a:chExt cx="3200400" cy="1067400"/>
          </a:xfrm>
        </p:grpSpPr>
        <p:sp>
          <p:nvSpPr>
            <p:cNvPr id="610" name=""/>
            <p:cNvSpPr/>
            <p:nvPr/>
          </p:nvSpPr>
          <p:spPr>
            <a:xfrm>
              <a:off x="5940000" y="2971800"/>
              <a:ext cx="2518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er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ound that match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wo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user ente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57800" y="32767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XHTML_Login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55720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cHTML_Login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895840" cy="5010120"/>
          </a:xfrm>
          <a:prstGeom prst="rect">
            <a:avLst/>
          </a:prstGeom>
          <a:ln w="0">
            <a:noFill/>
          </a:ln>
        </p:spPr>
      </p:pic>
      <p:pic>
        <p:nvPicPr>
          <p:cNvPr id="616" name="WML_Login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ewOrderHistory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OrderHistory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orders information in det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History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HistoryServlet presents a list of previous Or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ewOrderHistory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2-20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2-1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9-1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 XML document using provided XSLT InputStrea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write resulting document to provided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( Document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 xslStream, PrintWriter 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former and apply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MSource for sourc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m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Sourc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slSour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xs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Result for transformat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resul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 for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 xsl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ransform and deliver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xmlSource,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transform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transform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23920" y="457200"/>
            <a:ext cx="4267440" cy="1067400"/>
            <a:chOff x="4723920" y="457200"/>
            <a:chExt cx="4267440" cy="1067400"/>
          </a:xfrm>
        </p:grpSpPr>
        <p:sp>
          <p:nvSpPr>
            <p:cNvPr id="164" name=""/>
            <p:cNvSpPr/>
            <p:nvPr/>
          </p:nvSpPr>
          <p:spPr>
            <a:xfrm>
              <a:off x="5435280" y="457200"/>
              <a:ext cx="3556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s the given XSL transformation on the given XML document, and writes the result of the transformation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723920" y="76176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1676520"/>
            <a:ext cx="2590920" cy="580680"/>
            <a:chOff x="5638320" y="1676520"/>
            <a:chExt cx="2590920" cy="580680"/>
          </a:xfrm>
        </p:grpSpPr>
        <p:sp>
          <p:nvSpPr>
            <p:cNvPr id="167" name=""/>
            <p:cNvSpPr/>
            <p:nvPr/>
          </p:nvSpPr>
          <p:spPr>
            <a:xfrm>
              <a:off x="6070320" y="1676520"/>
              <a:ext cx="2158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38320" y="1981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85840" y="2209680"/>
            <a:ext cx="2590920" cy="580680"/>
            <a:chOff x="3885840" y="2209680"/>
            <a:chExt cx="2590920" cy="580680"/>
          </a:xfrm>
        </p:grpSpPr>
        <p:sp>
          <p:nvSpPr>
            <p:cNvPr id="170" name=""/>
            <p:cNvSpPr/>
            <p:nvPr/>
          </p:nvSpPr>
          <p:spPr>
            <a:xfrm>
              <a:off x="4317840" y="2209680"/>
              <a:ext cx="2158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S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885840" y="25142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10080" y="3581280"/>
            <a:ext cx="3352680" cy="824040"/>
            <a:chOff x="5410080" y="3581280"/>
            <a:chExt cx="3352680" cy="824040"/>
          </a:xfrm>
        </p:grpSpPr>
        <p:sp>
          <p:nvSpPr>
            <p:cNvPr id="173" name=""/>
            <p:cNvSpPr/>
            <p:nvPr/>
          </p:nvSpPr>
          <p:spPr>
            <a:xfrm>
              <a:off x="5968800" y="3581280"/>
              <a:ext cx="2793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410080" y="388584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410080" y="4267080"/>
            <a:ext cx="3504960" cy="1310760"/>
            <a:chOff x="5410080" y="4267080"/>
            <a:chExt cx="3504960" cy="1310760"/>
          </a:xfrm>
        </p:grpSpPr>
        <p:sp>
          <p:nvSpPr>
            <p:cNvPr id="176" name=""/>
            <p:cNvSpPr/>
            <p:nvPr/>
          </p:nvSpPr>
          <p:spPr>
            <a:xfrm>
              <a:off x="5994000" y="4267080"/>
              <a:ext cx="2921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XSL transformation o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writes the result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10080" y="457164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6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( Str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ild order history using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Custom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ustomer with given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orderHistor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Node = ( Element )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His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orderHis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.getOrderHistory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p through Order history and add XM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 XML document for each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History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Model order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rderModel ) orderHistory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Nod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48320" y="2971800"/>
            <a:ext cx="2666520" cy="580680"/>
            <a:chOff x="4648320" y="2971800"/>
            <a:chExt cx="2666520" cy="580680"/>
          </a:xfrm>
        </p:grpSpPr>
        <p:sp>
          <p:nvSpPr>
            <p:cNvPr id="624" name=""/>
            <p:cNvSpPr/>
            <p:nvPr/>
          </p:nvSpPr>
          <p:spPr>
            <a:xfrm>
              <a:off x="5217480" y="2971800"/>
              <a:ext cx="2097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648320" y="32767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724280" y="4419720"/>
            <a:ext cx="3200040" cy="580680"/>
            <a:chOff x="4724280" y="4419720"/>
            <a:chExt cx="3200040" cy="580680"/>
          </a:xfrm>
        </p:grpSpPr>
        <p:sp>
          <p:nvSpPr>
            <p:cNvPr id="627" name=""/>
            <p:cNvSpPr/>
            <p:nvPr/>
          </p:nvSpPr>
          <p:spPr>
            <a:xfrm>
              <a:off x="5407560" y="4419720"/>
              <a:ext cx="251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customer’s order his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724280" y="47246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724280" y="5334120"/>
            <a:ext cx="3504960" cy="824040"/>
            <a:chOff x="4724280" y="5334120"/>
            <a:chExt cx="3504960" cy="824040"/>
          </a:xfrm>
        </p:grpSpPr>
        <p:sp>
          <p:nvSpPr>
            <p:cNvPr id="630" name=""/>
            <p:cNvSpPr/>
            <p:nvPr/>
          </p:nvSpPr>
          <p:spPr>
            <a:xfrm>
              <a:off x="5471280" y="5334120"/>
              <a:ext cx="275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p through the order history and build the XML document to pres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4724280" y="56386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2-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3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has no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OrderHistoryException history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story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story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with us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ID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486040" y="1143000"/>
            <a:ext cx="3556440" cy="3352680"/>
            <a:chOff x="5486040" y="1143000"/>
            <a:chExt cx="3556440" cy="3352680"/>
          </a:xfrm>
        </p:grpSpPr>
        <p:sp>
          <p:nvSpPr>
            <p:cNvPr id="635" name=""/>
            <p:cNvSpPr/>
            <p:nvPr/>
          </p:nvSpPr>
          <p:spPr>
            <a:xfrm>
              <a:off x="6705720" y="2057400"/>
              <a:ext cx="233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exceptions and build an error message to display to the custom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095880" y="1143000"/>
              <a:ext cx="6098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562360" y="2514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486040" y="2514600"/>
              <a:ext cx="1219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41" name="XHTML_ViewOrderHistory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68598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cHTML_ViewOrderHistory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895480" cy="4991400"/>
          </a:xfrm>
          <a:prstGeom prst="rect">
            <a:avLst/>
          </a:prstGeom>
          <a:ln w="0">
            <a:noFill/>
          </a:ln>
        </p:spPr>
      </p:pic>
      <p:pic>
        <p:nvPicPr>
          <p:cNvPr id="644" name="WML_ViewOrderHistory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2190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ewOrder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Order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s the details of an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Servlet presents the contents of a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ewOrder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4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3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Order EJB and get details of Order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Home orderHome = ( Ord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Ord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ID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Order with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 order = orderHome.findByPrimaryKey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 details as an OrderModel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 orderModel = order.getOrd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 details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d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4800600" y="1676520"/>
            <a:ext cx="2971440" cy="824040"/>
            <a:chOff x="4800600" y="1676520"/>
            <a:chExt cx="2971440" cy="824040"/>
          </a:xfrm>
        </p:grpSpPr>
        <p:sp>
          <p:nvSpPr>
            <p:cNvPr id="652" name=""/>
            <p:cNvSpPr/>
            <p:nvPr/>
          </p:nvSpPr>
          <p:spPr>
            <a:xfrm>
              <a:off x="5434920" y="16765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800600" y="19810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495320" y="2666880"/>
            <a:ext cx="3581640" cy="580680"/>
            <a:chOff x="4495320" y="2666880"/>
            <a:chExt cx="3581640" cy="580680"/>
          </a:xfrm>
        </p:grpSpPr>
        <p:sp>
          <p:nvSpPr>
            <p:cNvPr id="655" name=""/>
            <p:cNvSpPr/>
            <p:nvPr/>
          </p:nvSpPr>
          <p:spPr>
            <a:xfrm>
              <a:off x="5260320" y="2666880"/>
              <a:ext cx="2816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4495320" y="29718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248160" y="3352680"/>
            <a:ext cx="2819520" cy="1554120"/>
            <a:chOff x="6248160" y="3352680"/>
            <a:chExt cx="2819520" cy="1554120"/>
          </a:xfrm>
        </p:grpSpPr>
        <p:sp>
          <p:nvSpPr>
            <p:cNvPr id="658" name=""/>
            <p:cNvSpPr/>
            <p:nvPr/>
          </p:nvSpPr>
          <p:spPr>
            <a:xfrm>
              <a:off x="6850440" y="3352680"/>
              <a:ext cx="221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48160" y="36576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791320" y="3886200"/>
            <a:ext cx="2971440" cy="1067400"/>
            <a:chOff x="5791320" y="3886200"/>
            <a:chExt cx="2971440" cy="1067400"/>
          </a:xfrm>
        </p:grpSpPr>
        <p:sp>
          <p:nvSpPr>
            <p:cNvPr id="661" name=""/>
            <p:cNvSpPr/>
            <p:nvPr/>
          </p:nvSpPr>
          <p:spPr>
            <a:xfrm>
              <a:off x="6425640" y="3886200"/>
              <a:ext cx="2337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ppend its XML representation to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91320" y="4191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181120" y="5486400"/>
            <a:ext cx="3581640" cy="1067400"/>
            <a:chOff x="5181120" y="5486400"/>
            <a:chExt cx="3581640" cy="1067400"/>
          </a:xfrm>
        </p:grpSpPr>
        <p:sp>
          <p:nvSpPr>
            <p:cNvPr id="664" name=""/>
            <p:cNvSpPr/>
            <p:nvPr/>
          </p:nvSpPr>
          <p:spPr>
            <a:xfrm>
              <a:off x="5944680" y="5486400"/>
              <a:ext cx="2818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thrown from method lookup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annot be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181120" y="57913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Ord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 Order with ord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orderID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723920" y="1143000"/>
            <a:ext cx="3124800" cy="1310760"/>
            <a:chOff x="4723920" y="1143000"/>
            <a:chExt cx="3124800" cy="1310760"/>
          </a:xfrm>
        </p:grpSpPr>
        <p:sp>
          <p:nvSpPr>
            <p:cNvPr id="669" name=""/>
            <p:cNvSpPr/>
            <p:nvPr/>
          </p:nvSpPr>
          <p:spPr>
            <a:xfrm>
              <a:off x="5390280" y="1143000"/>
              <a:ext cx="2458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er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thrown by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an Order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723920" y="14479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1120" y="3352680"/>
            <a:ext cx="2667600" cy="580680"/>
            <a:chOff x="5181120" y="3352680"/>
            <a:chExt cx="2667600" cy="580680"/>
          </a:xfrm>
        </p:grpSpPr>
        <p:sp>
          <p:nvSpPr>
            <p:cNvPr id="672" name=""/>
            <p:cNvSpPr/>
            <p:nvPr/>
          </p:nvSpPr>
          <p:spPr>
            <a:xfrm>
              <a:off x="5751000" y="3352680"/>
              <a:ext cx="209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s the XML docum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181120" y="36576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XHTML_ViewOrder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6869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cHTML_ViewOrder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895480" cy="4991040"/>
          </a:xfrm>
          <a:prstGeom prst="rect">
            <a:avLst/>
          </a:prstGeom>
          <a:ln w="0">
            <a:noFill/>
          </a:ln>
        </p:spPr>
      </p:pic>
      <p:pic>
        <p:nvPicPr>
          <p:cNvPr id="678" name="WML_ViewOrder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2-01T21:07:39Z</dcterms:modified>
  <cp:revision>116</cp:revision>
  <dc:subject/>
  <dc:title>PowerPoint Presentation</dc:title>
</cp:coreProperties>
</file>