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4.xml.rels" ContentType="application/vnd.openxmlformats-package.relationships+xml"/>
  <Override PartName="/ppt/slides/_rels/slide54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32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52.xml" ContentType="application/vnd.openxmlformats-officedocument.presentationml.slide+xml"/>
  <Override PartName="/ppt/slides/slide14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0F1D-B58B-48F4-9B11-73C094329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5C73-39AC-4F41-ABF3-15608016C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2820-F412-4442-AF24-8ACA1C61F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D769-FDA6-4132-80CF-4BB82757B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EAD9C-56AC-4EB4-BFE4-BE1D34FB25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4533-FA65-44FF-8A22-E3BE45E09C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BBE4-EC67-4216-829E-B107B122F8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FD5A-4A1D-4017-AA92-23EF2CAE6D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4F82-D0D3-4A6E-ADAE-FA41BB8F29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2D8A-098E-4F86-B5F1-BBC0A725C8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07BD0-22B7-4041-8A77-97D1C72B55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8BFF-C2FA-4868-91F8-4DDBD5F83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50FF-E9F5-4E08-BFF9-7C3BC0984A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6CD99-0482-4AF1-89F4-8799DABAF0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8E09-7E11-4BD6-8D11-A36A214188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4A210-A77B-47B6-9ACE-83CB8749AE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1270-A57C-482B-BF08-87F1A918F8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45FC-C832-4A65-8A8A-954FC1AE9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CA8B-AB89-4E1B-B21A-1961B119F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DFC9-C13E-4487-96DC-F58CF621E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A835-24E5-470B-A4D0-F6733C75E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A7E7-A5ED-49EA-93A8-FA4F77F06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0C9B-1149-457A-9863-ADDE1176B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B4D0-AF4E-466A-8D0E-A675B2E62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0378-9106-431D-B8E1-F44D68E42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A49E-5A20-4BD5-97A9-71CF597FF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5: Case Study: Java 2D GUI Application with Design Patter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pplication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yShap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 Hierarch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itel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rawingMode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itel Drawing View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itel Drawing Controller Logic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yShapeControll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for Processing User Inpu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yShapeControll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Factory Method Design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atter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g-and-Drop Controll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rawingInternalFra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ompon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ZoomDialog, A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Ic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omponen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itelDraw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0-1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y1 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1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1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y2 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2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2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artX 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tartX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artY 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tart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endX 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EndX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endY 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End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200040" y="609120"/>
            <a:ext cx="4126320" cy="5563080"/>
            <a:chOff x="3200040" y="609120"/>
            <a:chExt cx="4126320" cy="5563080"/>
          </a:xfrm>
        </p:grpSpPr>
        <p:sp>
          <p:nvSpPr>
            <p:cNvPr id="160" name=""/>
            <p:cNvSpPr/>
            <p:nvPr/>
          </p:nvSpPr>
          <p:spPr>
            <a:xfrm>
              <a:off x="5257800" y="2666880"/>
              <a:ext cx="2068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get methods for each individual x- and y- coordinat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3200040" y="609120"/>
              <a:ext cx="20574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352680" y="3124080"/>
              <a:ext cx="190512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rawingInternalFra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ompon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for viewing and modifying draw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-document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ingInternalFra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ingInternalFrame is a JInternalFrame subclass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Drawing drawing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dn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view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controll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InternalFra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InternalFr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ffsets to stagger new windo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Offse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Offse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nFrame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VC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 drawing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View drawingVie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 myShape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AndDropController dragAndDrop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Factory shapeControllerFac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le management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ileChooser fileChoos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absoluteFilePa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ToolBar toolB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ialog zoomDialog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s for save, zoom, move, etc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saveAction, saveAsAction, zoomAc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veAction, fillAction, gradient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ingInternalFra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InternalFrame( String tit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titl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-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( ++openFrameCount )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ndow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O_NOTHING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DrawingView for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View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View( drawing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6-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0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DrawingInternalFrame as a DrawingModel Ob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.addOb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yShapeControllerFactory for creating MyShapeControll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Controller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ShapeControllerFactory.get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DragAndDropController for drag and drop ope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gAndDropControll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ew DragAndDropController( drawing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default DragSource for current plat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gSource dragSource = DragSource.getDefaultDragSour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DragGestureRecognizer to regis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gAndDropController as DragGestur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gSource.createDefaultDragGestureRecognizer( drawingView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nD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CTION_COPY_OR_M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gAndDropControll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able drawingView to accept drop operations, u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gAndDropController as DropTarget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View.setDropTarge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Target( drawingView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nD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CTION_COPY_OR_M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gAndDropControll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drawingView to viewPanel, put viewPanel 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JScrollPane and add JScrollPane to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view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ewPanel.add( drawingView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viewPanel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4723920" y="1600200"/>
            <a:ext cx="4267440" cy="580680"/>
            <a:chOff x="4723920" y="1600200"/>
            <a:chExt cx="4267440" cy="580680"/>
          </a:xfrm>
        </p:grpSpPr>
        <p:sp>
          <p:nvSpPr>
            <p:cNvPr id="776" name=""/>
            <p:cNvSpPr/>
            <p:nvPr/>
          </p:nvSpPr>
          <p:spPr>
            <a:xfrm>
              <a:off x="5423040" y="1600200"/>
              <a:ext cx="3568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gAndDrop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controls drag-and-drop oper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4723920" y="1981080"/>
              <a:ext cx="69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5334120" y="2895120"/>
            <a:ext cx="3487680" cy="1387440"/>
            <a:chOff x="5334120" y="2895120"/>
            <a:chExt cx="3487680" cy="1387440"/>
          </a:xfrm>
        </p:grpSpPr>
        <p:sp>
          <p:nvSpPr>
            <p:cNvPr id="779" name=""/>
            <p:cNvSpPr/>
            <p:nvPr/>
          </p:nvSpPr>
          <p:spPr>
            <a:xfrm>
              <a:off x="6095880" y="2971800"/>
              <a:ext cx="2725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static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DefaultDrag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g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the host platform’s defaul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g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5334120" y="289512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4723920" y="3657600"/>
            <a:ext cx="3886200" cy="1143360"/>
            <a:chOff x="4723920" y="3657600"/>
            <a:chExt cx="3886200" cy="1143360"/>
          </a:xfrm>
        </p:grpSpPr>
        <p:sp>
          <p:nvSpPr>
            <p:cNvPr id="782" name=""/>
            <p:cNvSpPr/>
            <p:nvPr/>
          </p:nvSpPr>
          <p:spPr>
            <a:xfrm>
              <a:off x="5572800" y="3733560"/>
              <a:ext cx="3037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gAndDrop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the listener for drag gestures that occur insid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4723920" y="3657600"/>
              <a:ext cx="8485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571640" y="4648320"/>
            <a:ext cx="4496040" cy="900000"/>
            <a:chOff x="4571640" y="4648320"/>
            <a:chExt cx="4496040" cy="900000"/>
          </a:xfrm>
        </p:grpSpPr>
        <p:sp>
          <p:nvSpPr>
            <p:cNvPr id="785" name=""/>
            <p:cNvSpPr/>
            <p:nvPr/>
          </p:nvSpPr>
          <p:spPr>
            <a:xfrm>
              <a:off x="5181480" y="4724280"/>
              <a:ext cx="3886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nabl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ccept dropped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 flipV="1">
              <a:off x="4571640" y="46483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6-12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Chooser and set its FileFil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Choo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ileChoo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Chooser.setFileFilt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FileFilt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how/hide ZoomDialog when frame activated/deactiv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InternalFram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when DrawingInternalFrame activated, mak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ssociated zoomDialog 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Activa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ternalFrame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zoomDialog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zoomDialog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when DrawingInternalFrame is deactivated, mak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ssociated zoomDialog in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Deactiva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ternalFrame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zoomDialog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zoomDialog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InternalFram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gger each DrawingInternalFrame to prevent it fro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scuring other InternalFr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ocation( xOffset * openFrameCoun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yOffset * openFrameCou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733560" y="1219320"/>
            <a:ext cx="5257440" cy="1386720"/>
            <a:chOff x="3733560" y="1219320"/>
            <a:chExt cx="5257440" cy="1386720"/>
          </a:xfrm>
        </p:grpSpPr>
        <p:sp>
          <p:nvSpPr>
            <p:cNvPr id="790" name=""/>
            <p:cNvSpPr/>
            <p:nvPr/>
          </p:nvSpPr>
          <p:spPr>
            <a:xfrm>
              <a:off x="4881960" y="1295280"/>
              <a:ext cx="4109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nalFram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mak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ZoomDialo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isible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ctivated and hid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ZoomDialo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deactiv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flipV="1">
              <a:off x="3733560" y="1219320"/>
              <a:ext cx="11480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1-14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new DrawingToolBar to NORTH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Tool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ame of first MyShape that shapeControll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pports and create MyShapeContro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hape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ControllerFactory.getSupportedShapes()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MyShapeControll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ControllerFactory.newMyShapeControll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awingModel, shapeName )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DrawingInternalFrame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rawingInternalFra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rawingInternalFrame Save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getSaveAc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Action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rawingInternalFrame Save As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getSaveAsAc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AsAction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3809520" y="1828800"/>
            <a:ext cx="5094720" cy="580680"/>
            <a:chOff x="3809520" y="1828800"/>
            <a:chExt cx="5094720" cy="580680"/>
          </a:xfrm>
        </p:grpSpPr>
        <p:sp>
          <p:nvSpPr>
            <p:cNvPr id="795" name=""/>
            <p:cNvSpPr/>
            <p:nvPr/>
          </p:nvSpPr>
          <p:spPr>
            <a:xfrm>
              <a:off x="5867280" y="1828800"/>
              <a:ext cx="3036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flipV="1">
              <a:off x="3809520" y="198108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7-19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aved flag for current drawing and update 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itle to indicate saved state to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a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Save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av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ved = drawingSav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rrent DrawingInternalFrame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title = getTit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drawing is not saved and title does not end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 asterisk, add asterisk to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title.endsWi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amp;&amp; !isSaved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Title( titl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title ends with * and drawing has been saved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* from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itle.endsWi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amp;&amp; isSaved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tTitle( titl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itle.length(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able save actions if drawing not sa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SaveAction().setEnabled( !isSave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value of sav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Save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3428640" y="914400"/>
            <a:ext cx="3657600" cy="1143360"/>
            <a:chOff x="3428640" y="914400"/>
            <a:chExt cx="3657600" cy="1143360"/>
          </a:xfrm>
        </p:grpSpPr>
        <p:sp>
          <p:nvSpPr>
            <p:cNvPr id="800" name=""/>
            <p:cNvSpPr/>
            <p:nvPr/>
          </p:nvSpPr>
          <p:spPr>
            <a:xfrm>
              <a:off x="4227840" y="990360"/>
              <a:ext cx="2858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Sav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s an asterisk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title if propert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v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3428640" y="914400"/>
              <a:ext cx="7988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updates from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( Observable observable, Object objec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aved property to false to indicate th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ingModel has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a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leName for current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leName( String fi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Name = fi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DrawingInternalFrame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Title( fil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leName for current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le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ull path (absoluteFilePath) for current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AbsoluteFilePath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oluteFilePath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ull path (absoluteFilePath) for current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bsoluteFilePath( String path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bsoluteFilePath = path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9-29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3-2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rawingModel for current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 get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JInternalFrame and ZoomDialog tit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tle( String tit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setTitle( tit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zoomDialog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zoomDialog.setTitle( tit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yShapeController for handling user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yShapeControll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ontroller controll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old MyShapeContro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yShapeControll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move mouse listen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View.removeMous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yShapeController.getMouseListen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View.removeMouseMo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yShapeController.getMouseMotionListen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yShapeController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ontroller = 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4038120" y="2819520"/>
            <a:ext cx="4555080" cy="824040"/>
            <a:chOff x="4038120" y="2819520"/>
            <a:chExt cx="4555080" cy="824040"/>
          </a:xfrm>
        </p:grpSpPr>
        <p:sp>
          <p:nvSpPr>
            <p:cNvPr id="807" name=""/>
            <p:cNvSpPr/>
            <p:nvPr/>
          </p:nvSpPr>
          <p:spPr>
            <a:xfrm>
              <a:off x="5257800" y="2819520"/>
              <a:ext cx="3335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controlling mouse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4038120" y="32767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181480" y="4343400"/>
            <a:ext cx="3810240" cy="1067400"/>
            <a:chOff x="5181480" y="4343400"/>
            <a:chExt cx="3810240" cy="1067400"/>
          </a:xfrm>
        </p:grpSpPr>
        <p:sp>
          <p:nvSpPr>
            <p:cNvPr id="810" name=""/>
            <p:cNvSpPr/>
            <p:nvPr/>
          </p:nvSpPr>
          <p:spPr>
            <a:xfrm>
              <a:off x="6553080" y="4343400"/>
              <a:ext cx="2438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the previou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us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useMotionList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5181480" y="4495320"/>
              <a:ext cx="1371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5257800" y="487692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5-3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MyShapeController to handle mous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View.addMous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ShapeController.getMouseListen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View.addMouseMo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ShapeController.getMouseMotionListener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new MyShapeController with currently sel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ing properties (stroke size, color, fill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ontroller.setStrokeSize( toolBar.getStroke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ontroller.setPrimaryCol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Bar.getPrimaryColo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ontroller.setSecondaryCol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Bar.getSecondaryColo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ontroller.setDragMode( toolBar.getDragMod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ontroller.setShapeFill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Bar.getShapeFille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ontroller.setUseGradi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Bar.getUseGradien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MyShapeContro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DrawingInternalFrame; return false if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as not saved and user canceled the close 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s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047760" y="5181480"/>
            <a:ext cx="4952880" cy="1067400"/>
            <a:chOff x="3047760" y="5181480"/>
            <a:chExt cx="4952880" cy="1067400"/>
          </a:xfrm>
        </p:grpSpPr>
        <p:sp>
          <p:nvSpPr>
            <p:cNvPr id="816" name=""/>
            <p:cNvSpPr/>
            <p:nvPr/>
          </p:nvSpPr>
          <p:spPr>
            <a:xfrm>
              <a:off x="4374000" y="5181480"/>
              <a:ext cx="3626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prompts the user to save the drawing i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s been modified since the last sa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047760" y="5638680"/>
              <a:ext cx="132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9-14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8-18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ve MyShape by given off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veByOffSe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Point1( getX1() + x, getY1() +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Point2( getX2() + x, getY2() +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tartPoint( getStartX() + x, getStartY() +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EndPoint( getEndX() + x, getEndY() +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default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olor( Color colo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tartColor( colo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efault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Colo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tartColor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imary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artColor( Color colo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Color = colo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imary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StartColo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Colo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648320" y="609480"/>
            <a:ext cx="3200040" cy="824040"/>
            <a:chOff x="4648320" y="609480"/>
            <a:chExt cx="3200040" cy="824040"/>
          </a:xfrm>
        </p:grpSpPr>
        <p:sp>
          <p:nvSpPr>
            <p:cNvPr id="166" name=""/>
            <p:cNvSpPr/>
            <p:nvPr/>
          </p:nvSpPr>
          <p:spPr>
            <a:xfrm>
              <a:off x="5334480" y="609480"/>
              <a:ext cx="2513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veByOff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ov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the given x and y offset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648320" y="91440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657240" y="2590920"/>
            <a:ext cx="4648680" cy="3200400"/>
            <a:chOff x="3657240" y="2590920"/>
            <a:chExt cx="4648680" cy="3200400"/>
          </a:xfrm>
        </p:grpSpPr>
        <p:sp>
          <p:nvSpPr>
            <p:cNvPr id="169" name=""/>
            <p:cNvSpPr/>
            <p:nvPr/>
          </p:nvSpPr>
          <p:spPr>
            <a:xfrm>
              <a:off x="6172200" y="342900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set and get methods for each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col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4267080" y="2590920"/>
              <a:ext cx="19051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657240" y="3809880"/>
              <a:ext cx="25146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9-3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drawing not saved, prompt user to sa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Saved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JOptionPane confirmation dialog to all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ser to save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 = JOptionPane.showInternalConfirm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drawing in this window has bee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dified.  Would you like to save changes?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 Chang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YES_NO_CANCEL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QUES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user selects Yes, save drawing and clos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==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YES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aveDraw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turn true to indicate frame clo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user selects No, close frame without sav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==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user selects Cancel, do not save or clo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frame was not clo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drawing has been saved, close 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4495680" y="2819520"/>
            <a:ext cx="4419720" cy="1600200"/>
            <a:chOff x="4495680" y="2819520"/>
            <a:chExt cx="4419720" cy="1600200"/>
          </a:xfrm>
        </p:grpSpPr>
        <p:sp>
          <p:nvSpPr>
            <p:cNvPr id="821" name=""/>
            <p:cNvSpPr/>
            <p:nvPr/>
          </p:nvSpPr>
          <p:spPr>
            <a:xfrm>
              <a:off x="6400800" y="32767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ve the drawing if the user selec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otherwise exit without sav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 flipV="1">
              <a:off x="4572000" y="281952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4495680" y="3733920"/>
              <a:ext cx="1905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37-37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los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pen existing drawing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nDrawing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pen JFileChooser Open 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 = fileChooser.showOpen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user selected valid file, open an Input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retrieve the saved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== fileChoos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PPROVE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selecte fil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Chooser.getSelectedFile().getAbsolutePa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shapes List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lection shape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awingFileReaderWriter.readFile( fil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shapes in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Model.setShapes( shap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fileNam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FileName( fileChooser.getSelectedFile().ge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absoluteFilePath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AbsoluteFilePath( fil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sav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Sa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504960" y="838080"/>
            <a:ext cx="3353040" cy="580680"/>
            <a:chOff x="3504960" y="838080"/>
            <a:chExt cx="3353040" cy="580680"/>
          </a:xfrm>
        </p:grpSpPr>
        <p:sp>
          <p:nvSpPr>
            <p:cNvPr id="827" name=""/>
            <p:cNvSpPr/>
            <p:nvPr/>
          </p:nvSpPr>
          <p:spPr>
            <a:xfrm>
              <a:off x="4402800" y="838080"/>
              <a:ext cx="2455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s an existing drawing from the file syste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504960" y="1295280"/>
              <a:ext cx="89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77-39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8-38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true to indicate successful file op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false to indicate file open fai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open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ave current drawing to fi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Drawing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bsolute path to which file should be sa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fileName = getAbsoluteFilePa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fileName is null or empty, call saveDrawingA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le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fileNam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veDrawingA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drawing to given file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FileReaderWriter.writeFile( drawingModel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sav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Sa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save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3276360" y="2133720"/>
            <a:ext cx="3370680" cy="337320"/>
            <a:chOff x="3276360" y="2133720"/>
            <a:chExt cx="3370680" cy="337320"/>
          </a:xfrm>
        </p:grpSpPr>
        <p:sp>
          <p:nvSpPr>
            <p:cNvPr id="832" name=""/>
            <p:cNvSpPr/>
            <p:nvPr/>
          </p:nvSpPr>
          <p:spPr>
            <a:xfrm>
              <a:off x="4191120" y="2133720"/>
              <a:ext cx="2455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ves the current draw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3276360" y="2362320"/>
              <a:ext cx="89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257440" y="4038480"/>
            <a:ext cx="3734280" cy="1067400"/>
            <a:chOff x="5257440" y="4038480"/>
            <a:chExt cx="3734280" cy="1067400"/>
          </a:xfrm>
        </p:grpSpPr>
        <p:sp>
          <p:nvSpPr>
            <p:cNvPr id="835" name=""/>
            <p:cNvSpPr/>
            <p:nvPr/>
          </p:nvSpPr>
          <p:spPr>
            <a:xfrm>
              <a:off x="5943600" y="403848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static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rite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FileReaderWri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ave the draw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257440" y="4495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8-4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mpt user for file name and save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DrawingA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JFileChooser Save 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 = fileChooser.showSav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user selected a file, save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== fileChoos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PPROVE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absoluteFilePath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AbsoluteFilePath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Chooser.getSelectedFile().getAbsolutePa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fileNam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FileName( fileChooser.getSelectedFile().ge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rite drawing to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FileReaderWriter.writeFile( drawingModel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AbsoluteFilePa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sav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Sa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aveDrawingA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zoom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ZoomDialog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zoomDialog is null, create 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zoomDialog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zoomDialo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ialog( getModel(), getTitl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28640" y="76320"/>
            <a:ext cx="4114800" cy="824040"/>
            <a:chOff x="3428640" y="76320"/>
            <a:chExt cx="4114800" cy="824040"/>
          </a:xfrm>
        </p:grpSpPr>
        <p:sp>
          <p:nvSpPr>
            <p:cNvPr id="840" name=""/>
            <p:cNvSpPr/>
            <p:nvPr/>
          </p:nvSpPr>
          <p:spPr>
            <a:xfrm>
              <a:off x="4530240" y="76320"/>
              <a:ext cx="301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FileChoo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ave dialog to prompt the user for a file in which to save the draw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428640" y="533520"/>
              <a:ext cx="110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46-72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61-4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extant zoomDialog 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zoomDialog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ose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os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ose associated zoom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zoomDialog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zoomDialog.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oolBar subclass for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ToolBa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r interface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Icon gradientIc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primaryColorPanel, secondaryColorPan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primaryColorButton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secondaryColorButt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 shapeChoice, strokeSize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ggleButton gradientButton, fillButton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ggleButton moveButton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ingToolBa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ToolBa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ComboBox for choosing current shape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Choi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apeControllerFactory.getSupportedShapes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Choice.setToolTip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ose 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3885840" y="3429000"/>
            <a:ext cx="4724640" cy="1310760"/>
            <a:chOff x="3885840" y="3429000"/>
            <a:chExt cx="4724640" cy="1310760"/>
          </a:xfrm>
        </p:grpSpPr>
        <p:sp>
          <p:nvSpPr>
            <p:cNvPr id="845" name=""/>
            <p:cNvSpPr/>
            <p:nvPr/>
          </p:nvSpPr>
          <p:spPr>
            <a:xfrm>
              <a:off x="4983120" y="3429000"/>
              <a:ext cx="36273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GUI components for saving drawings, select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ype to draw, and modifying the curr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propertie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3885840" y="3429000"/>
              <a:ext cx="1096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191120" y="4876920"/>
            <a:ext cx="4876560" cy="1143000"/>
            <a:chOff x="4191120" y="4876920"/>
            <a:chExt cx="4876560" cy="1143000"/>
          </a:xfrm>
        </p:grpSpPr>
        <p:sp>
          <p:nvSpPr>
            <p:cNvPr id="848" name=""/>
            <p:cNvSpPr/>
            <p:nvPr/>
          </p:nvSpPr>
          <p:spPr>
            <a:xfrm>
              <a:off x="5105520" y="4876920"/>
              <a:ext cx="3962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pul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apeCho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Combo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e array of shape types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ppor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4191120" y="525780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76-47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85-50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hen shapeChoice changes, get new MyShapeControll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rom MyShapeControll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Choice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get selected shape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tring class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shapeChoice.getSelectedItem(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etMyShapeControll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shapeControllerFactory.newMyShapeControll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drawingModel, classNam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all to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ComboBox for selecting stroke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okeSizeChoi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7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okeSizeChoice.setToolTip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ose Line Wid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stroke size property to selecte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okeSizeChoice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{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yShapeController.setStroke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getStroke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4572000" y="1447920"/>
            <a:ext cx="3862440" cy="990360"/>
            <a:chOff x="4572000" y="1447920"/>
            <a:chExt cx="3862440" cy="990360"/>
          </a:xfrm>
        </p:grpSpPr>
        <p:sp>
          <p:nvSpPr>
            <p:cNvPr id="853" name=""/>
            <p:cNvSpPr/>
            <p:nvPr/>
          </p:nvSpPr>
          <p:spPr>
            <a:xfrm>
              <a:off x="5867280" y="1447920"/>
              <a:ext cx="2567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n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specified shape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4572000" y="1905120"/>
              <a:ext cx="1295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4571640" y="3581280"/>
            <a:ext cx="4267080" cy="580680"/>
            <a:chOff x="4571640" y="3581280"/>
            <a:chExt cx="4267080" cy="580680"/>
          </a:xfrm>
        </p:grpSpPr>
        <p:sp>
          <p:nvSpPr>
            <p:cNvPr id="856" name=""/>
            <p:cNvSpPr/>
            <p:nvPr/>
          </p:nvSpPr>
          <p:spPr>
            <a:xfrm>
              <a:off x="5714280" y="358128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Combo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electing the stroke size for sha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571640" y="4038480"/>
              <a:ext cx="11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04-5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ToggleButton for filling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l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ggle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l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l 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L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yShapeController.setShapeFill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getShapeFille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lButton.setAction( fill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GradientIcon to display gradient sett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adient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Icon( Color.black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lor.whi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ToggleButton to enable/disable grad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adient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ggleButton( gradientIcon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adient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radientIc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 Grad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G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yShapeController.setUseGradi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getUseGradien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1143000"/>
            <a:ext cx="3504960" cy="824040"/>
            <a:chOff x="5486400" y="1143000"/>
            <a:chExt cx="3504960" cy="824040"/>
          </a:xfrm>
        </p:grpSpPr>
        <p:sp>
          <p:nvSpPr>
            <p:cNvPr id="861" name=""/>
            <p:cNvSpPr/>
            <p:nvPr/>
          </p:nvSpPr>
          <p:spPr>
            <a:xfrm>
              <a:off x="6424560" y="1143000"/>
              <a:ext cx="2566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oggle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creating shapes that use gradi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5486400" y="1600200"/>
              <a:ext cx="9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45-5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adientButton.setAction( gradien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Panel to display primary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maryColor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maryColorPanel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maryColorPanel.setOpaq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maryColorPanel.setBackground( Color.bl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Button for changing color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maryColor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maryColorButton.add( primaryColor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JColorChooser for selecting startColo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maryColor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olor color = JColorChooser.show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DrawingInternalFra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primaryColorPanel.getBackgrou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lo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primaryColorPanel.setBackground(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gradientIcon.setStartColor(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myShapeController.setPrimaryColor(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ctionListener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4724280" y="1676520"/>
            <a:ext cx="3276360" cy="824040"/>
            <a:chOff x="4724280" y="1676520"/>
            <a:chExt cx="3276360" cy="824040"/>
          </a:xfrm>
        </p:grpSpPr>
        <p:sp>
          <p:nvSpPr>
            <p:cNvPr id="866" name=""/>
            <p:cNvSpPr/>
            <p:nvPr/>
          </p:nvSpPr>
          <p:spPr>
            <a:xfrm>
              <a:off x="5601240" y="1676520"/>
              <a:ext cx="2399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elect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rt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ha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724280" y="2133720"/>
              <a:ext cx="87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77-6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Panel to display secondary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aryColor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aryColorPanel.setPreferredSiz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aryColorPanel.setOpaq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aryColorPanel.setBackground( Color.whit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Button for changing secondary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aryColor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aryColorButton.add( secondaryColor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JColorChooser for selecting endColo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aryColor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olor color = JColorChooser.show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DrawingInternalFra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secondaryColorPanel.getBackgrou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lo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secondaryColorPanel.setBackground(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gradientIcon.setEndColor(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myShapeController.setSecondaryCol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ctionListener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5105520" y="1371600"/>
            <a:ext cx="3276000" cy="824040"/>
            <a:chOff x="5105520" y="1371600"/>
            <a:chExt cx="3276000" cy="824040"/>
          </a:xfrm>
        </p:grpSpPr>
        <p:sp>
          <p:nvSpPr>
            <p:cNvPr id="871" name=""/>
            <p:cNvSpPr/>
            <p:nvPr/>
          </p:nvSpPr>
          <p:spPr>
            <a:xfrm>
              <a:off x="5982480" y="1371600"/>
              <a:ext cx="2399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elect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d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ha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105520" y="1828800"/>
              <a:ext cx="87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03-64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ction for saving draw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con save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awingInternalFra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save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ve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aveIc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 Draw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S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aveDrawing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ction for saving drawings as given fil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con saveAs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awingInternalFra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saveAs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veAs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 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aveAsIc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 Drawing 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aveDrawingAs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ction for displaying zoom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con zoom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awingInternalFrame.class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zoom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4343400" y="533520"/>
            <a:ext cx="4675320" cy="5105160"/>
            <a:chOff x="4343400" y="533520"/>
            <a:chExt cx="4675320" cy="5105160"/>
          </a:xfrm>
        </p:grpSpPr>
        <p:sp>
          <p:nvSpPr>
            <p:cNvPr id="876" name=""/>
            <p:cNvSpPr/>
            <p:nvPr/>
          </p:nvSpPr>
          <p:spPr>
            <a:xfrm>
              <a:off x="6172200" y="2514600"/>
              <a:ext cx="2846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saving drawings and display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associ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ZoomDialo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flipV="1">
              <a:off x="4724280" y="533520"/>
              <a:ext cx="144792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495320" y="31240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4343400" y="3124080"/>
              <a:ext cx="18288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84-19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6-2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condary drawing color (for gradient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dColor( Color col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Color = colo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condary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EndColo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Colo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able/disable gradient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UseGrad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radi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dient = useGradie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gradient enabled/disabl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radie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troke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rokeSiz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okeSize = siz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troke = new BasicStroke( strok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roke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troke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okeSiz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86200" y="2590920"/>
            <a:ext cx="5105520" cy="1310760"/>
            <a:chOff x="3886200" y="2590920"/>
            <a:chExt cx="5105520" cy="1310760"/>
          </a:xfrm>
        </p:grpSpPr>
        <p:sp>
          <p:nvSpPr>
            <p:cNvPr id="175" name=""/>
            <p:cNvSpPr/>
            <p:nvPr/>
          </p:nvSpPr>
          <p:spPr>
            <a:xfrm>
              <a:off x="6248520" y="2590920"/>
              <a:ext cx="2743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set and get method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Grad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, which, if true, draws the shape using a color grad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486040" y="27432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886200" y="3276720"/>
              <a:ext cx="2362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724280" y="4952520"/>
            <a:ext cx="3657600" cy="1219680"/>
            <a:chOff x="4724280" y="4952520"/>
            <a:chExt cx="3657600" cy="1219680"/>
          </a:xfrm>
        </p:grpSpPr>
        <p:sp>
          <p:nvSpPr>
            <p:cNvPr id="179" name=""/>
            <p:cNvSpPr/>
            <p:nvPr/>
          </p:nvSpPr>
          <p:spPr>
            <a:xfrm>
              <a:off x="5791320" y="533412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set and get methods for propert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oke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4800600" y="4952520"/>
              <a:ext cx="99072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724280" y="5599080"/>
              <a:ext cx="106704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45-6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zoom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oo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zoomIc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ow Zoom 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Z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howZoomDialog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ToggleButton for setting drag and drop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ve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ggleButt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con move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awingInternalFra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move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ve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ve 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M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yShapeController.setDragMod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getDragMod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ragAndDropController.setDragMod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getDragMod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veButton.setAction( mov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4572000" y="1752480"/>
            <a:ext cx="3504960" cy="824040"/>
            <a:chOff x="4572000" y="1752480"/>
            <a:chExt cx="3504960" cy="824040"/>
          </a:xfrm>
        </p:grpSpPr>
        <p:sp>
          <p:nvSpPr>
            <p:cNvPr id="883" name=""/>
            <p:cNvSpPr/>
            <p:nvPr/>
          </p:nvSpPr>
          <p:spPr>
            <a:xfrm>
              <a:off x="5510160" y="1752480"/>
              <a:ext cx="2566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oggle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enabling drag m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572000" y="2209680"/>
              <a:ext cx="9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Actions, buttons, etc. to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sav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saveAs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zoomAction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Separator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shapeChoi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strokeSizeChoi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primaryColor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secondaryColor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gradien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fillButton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moveButton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able floa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Floa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rawingToolBa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rrently selected stroke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troke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selectedItem = strokeSizeChoice.getSelectedIte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.parseFloat( selectedItem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rrent shape fille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hapeFille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Button.isSelect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rrent use gradient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UseGradi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Button.isSelect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rimary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PrimaryCol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maryColorPanel.getBackgroun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condary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SecondaryCol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aryColorPanel.getBackgroun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rrent drag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ragMod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veButton.isSelect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rawingToolBar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4 DrawingFileFilter is a FileFilter subclass that enables users to select Deitel Drawing files from JFileChooser dialo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ingFileFil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ingFileFilter is a FileFilter subclass for selec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Drawing files in a JFileChooser dialo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Fi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filechoos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FileFil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Fil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ring to use in JFileChooser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DESCRIP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Drawing Files (*.dd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le extensions for DeitelDrawing fi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EXTEN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d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escription for DeitelDrawing fi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Descrip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RI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given File has proper exten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ept( File fi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le.getName().toLowerCase().endsWith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TENSION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4495320" y="4648320"/>
            <a:ext cx="4267440" cy="824040"/>
            <a:chOff x="4495320" y="4648320"/>
            <a:chExt cx="4267440" cy="824040"/>
          </a:xfrm>
        </p:grpSpPr>
        <p:sp>
          <p:nvSpPr>
            <p:cNvPr id="892" name=""/>
            <p:cNvSpPr/>
            <p:nvPr/>
          </p:nvSpPr>
          <p:spPr>
            <a:xfrm>
              <a:off x="5637960" y="4648320"/>
              <a:ext cx="3124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ly if the given File matches the filename extension for Deitel Drawing fi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495320" y="5105520"/>
              <a:ext cx="11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8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ZoomDialog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, Action and Icon Compon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ZoomDia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Dialo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la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Mod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5 ZoomDialog for displaying DrawingModels in a scalable view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ZoomDialog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ZoomDialog is a JDialog subclass that shows a zoomed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f a DrawingMode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view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ialog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Dialog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rawingView drawingVie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Fact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ZoomDialog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ialog( DrawingModel model, String tit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ZoomDialog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Title( tit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ZoomDrawingView for using default zoomFa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View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rawingView( model, zoomFact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ZoomDrawingView to Content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drawingView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ize ZoomDialog to fit ZoomDrawingView's preferred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5 ZoomDialog for displaying DrawingModels in a scalable view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05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ZoomDialog 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JDialog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tle( String tit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setTitle( titl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[Zoom]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6 AbstractDrawingAction abstract base class for 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-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stractDrawingActio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stractDrawingAction is an Action implementation th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vides set and get methods for common Action properti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AbstractDrawingAction with given name,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scription and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String name, Icon ic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escription, Integer mnemonic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Name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mallIcon( ic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hortDescription( descri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Mnemonic( mnemoni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tio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tion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mallIcon( Icon ic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c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4724280" y="3048120"/>
            <a:ext cx="3962160" cy="824040"/>
            <a:chOff x="4724280" y="3048120"/>
            <a:chExt cx="3962160" cy="824040"/>
          </a:xfrm>
        </p:grpSpPr>
        <p:sp>
          <p:nvSpPr>
            <p:cNvPr id="903" name=""/>
            <p:cNvSpPr/>
            <p:nvPr/>
          </p:nvSpPr>
          <p:spPr>
            <a:xfrm>
              <a:off x="5784840" y="3048120"/>
              <a:ext cx="2901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as arguments the nam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description and mnemonic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724280" y="3505320"/>
              <a:ext cx="10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6 AbstractDrawingAction abstract base class for 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tion short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hortDescription( String descrip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escri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tion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nemonic( Integer mnemonic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mnemoni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bstract actionPerformed method to be implemen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y concrete subcl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3962160" y="3428640"/>
            <a:ext cx="3962520" cy="1053000"/>
            <a:chOff x="3962160" y="3428640"/>
            <a:chExt cx="3962520" cy="1053000"/>
          </a:xfrm>
        </p:grpSpPr>
        <p:sp>
          <p:nvSpPr>
            <p:cNvPr id="908" name=""/>
            <p:cNvSpPr/>
            <p:nvPr/>
          </p:nvSpPr>
          <p:spPr>
            <a:xfrm>
              <a:off x="4911840" y="3657600"/>
              <a:ext cx="3012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Perform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marked abstract to require an implementation in each sub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3962160" y="3428640"/>
              <a:ext cx="94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7 GradientIcon implementation of interface Icon that draws a gradien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radientIco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radientIcon is an Icon implementation that draws a 16 x 1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radientfrom startColor to endCol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paint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Ic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lors to use for grad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start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end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radientIc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Icon( Color start, Color en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tartColor( 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EndColor( e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gradient start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artColor( Color star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Color = star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gradient start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StartCol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9-21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2-22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8-24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ll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lled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led = fil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ll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ille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bstract draw method to be implemented by subcl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 draw actual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( Graphics2D g2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the Point2D falls within this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tai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oint2D poi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figure Graphics2D context for known drawing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figureGraphicsContext( Graphics2D g2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troke for draw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urrentStrok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Strok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icStroke( getStroke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setStroke( currentStrok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419360" y="914400"/>
            <a:ext cx="4572360" cy="990720"/>
            <a:chOff x="4419360" y="914400"/>
            <a:chExt cx="4572360" cy="990720"/>
          </a:xfrm>
        </p:grpSpPr>
        <p:sp>
          <p:nvSpPr>
            <p:cNvPr id="185" name=""/>
            <p:cNvSpPr/>
            <p:nvPr/>
          </p:nvSpPr>
          <p:spPr>
            <a:xfrm>
              <a:off x="5105520" y="914400"/>
              <a:ext cx="3886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set and get methods for propert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l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specifies whether the shape should be filled or drawn as an out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419360" y="9144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419360" y="1371600"/>
              <a:ext cx="685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952880" y="3124080"/>
            <a:ext cx="4038840" cy="685800"/>
            <a:chOff x="4952880" y="3124080"/>
            <a:chExt cx="4038840" cy="685800"/>
          </a:xfrm>
        </p:grpSpPr>
        <p:sp>
          <p:nvSpPr>
            <p:cNvPr id="189" name=""/>
            <p:cNvSpPr/>
            <p:nvPr/>
          </p:nvSpPr>
          <p:spPr>
            <a:xfrm>
              <a:off x="6477120" y="31240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contai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4952880" y="3276360"/>
              <a:ext cx="1524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562720" y="342900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572000" y="4495680"/>
            <a:ext cx="4191120" cy="1067400"/>
            <a:chOff x="4572000" y="4495680"/>
            <a:chExt cx="4191120" cy="1067400"/>
          </a:xfrm>
        </p:grpSpPr>
        <p:sp>
          <p:nvSpPr>
            <p:cNvPr id="193" name=""/>
            <p:cNvSpPr/>
            <p:nvPr/>
          </p:nvSpPr>
          <p:spPr>
            <a:xfrm>
              <a:off x="5562720" y="4495680"/>
              <a:ext cx="3200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figureGraphics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figures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drawing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4572000" y="449568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7 GradientIcon implementation of interface Icon that draws a grad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2-7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gradient end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dColor( Color en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Color = e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gradient end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EndCol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con wid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conWidth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con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conHeigh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icon at given location on given 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Icon( Component component, Graphics g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Graphics2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2D = ( Graphics2D ) 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4952880" y="3352680"/>
            <a:ext cx="4038840" cy="1752840"/>
            <a:chOff x="4952880" y="3352680"/>
            <a:chExt cx="4038840" cy="1752840"/>
          </a:xfrm>
        </p:grpSpPr>
        <p:sp>
          <p:nvSpPr>
            <p:cNvPr id="915" name=""/>
            <p:cNvSpPr/>
            <p:nvPr/>
          </p:nvSpPr>
          <p:spPr>
            <a:xfrm>
              <a:off x="4952880" y="3352680"/>
              <a:ext cx="4038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int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raws a filled rectangle, using a Java2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dientPa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dient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rt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d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095880" y="441972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7 GradientIcon implementation of interface Icon that draws a gradien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GradientPa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setPaint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Paint( x, y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StartColor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EndColor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ll rectangle with grad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fillRect( x, y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19" name="gradienticon" descr=""/>
          <p:cNvPicPr/>
          <p:nvPr/>
        </p:nvPicPr>
        <p:blipFill>
          <a:blip r:embed="rId1"/>
          <a:stretch/>
        </p:blipFill>
        <p:spPr>
          <a:xfrm>
            <a:off x="2819520" y="35053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685800" y="32004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ientIc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Toggle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209680" y="350532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9 DeitelDrawing Appl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itel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-document-interface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Drawing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Drawing is a drawing program that uses, MVC,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ple-document interface and Java2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bea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itelDrawing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 menuB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 fileMenu, helpMenu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newAction, openAc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, about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 saveMenuItem, saveAsMenuIte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 toolB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toolBarPanel, frameToolBarPan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DesktopPane desktop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lashScreen splash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0-67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itelDrawing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itelDrawing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Draw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icon for JFrame's upper-left-hand cor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Icon 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itelDrawing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icon.p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IconImage( icon.getIm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owSplashScreen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hide window when close button clic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ndow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O_NOTHING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DesktopPane for MD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ktop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Desktop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how contents when dragging JInternalFr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ktopPane.setDragMode( JDesktop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IVE_DRAG_M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tion for creating new draw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con new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itelDrawing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new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ew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ewIc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e New Draw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reateNewWindow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5257800" y="4038480"/>
            <a:ext cx="3505320" cy="1143000"/>
            <a:chOff x="5257800" y="4038480"/>
            <a:chExt cx="3505320" cy="1143000"/>
          </a:xfrm>
        </p:grpSpPr>
        <p:sp>
          <p:nvSpPr>
            <p:cNvPr id="929" name=""/>
            <p:cNvSpPr/>
            <p:nvPr/>
          </p:nvSpPr>
          <p:spPr>
            <a:xfrm>
              <a:off x="5257800" y="403848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Drawing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creating new drawing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248160" y="4648320"/>
              <a:ext cx="9903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3-8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6-9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tion for opening existing draw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con open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itelDrawing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open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n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p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penIc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pen Existing Draw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O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awingInternalFrame frame = createNewWindow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frame.openDrawing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ram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tion for exiting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con exit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itelDrawing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exit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itIc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 Appl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X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Application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tion for opening About 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con about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itelDrawing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about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105520" y="228600"/>
            <a:ext cx="3504960" cy="1143000"/>
            <a:chOff x="5105520" y="228600"/>
            <a:chExt cx="3504960" cy="1143000"/>
          </a:xfrm>
        </p:grpSpPr>
        <p:sp>
          <p:nvSpPr>
            <p:cNvPr id="934" name=""/>
            <p:cNvSpPr/>
            <p:nvPr/>
          </p:nvSpPr>
          <p:spPr>
            <a:xfrm>
              <a:off x="5105520" y="228600"/>
              <a:ext cx="3504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Drawing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opening existing drawing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095880" y="838440"/>
              <a:ext cx="9900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5181480" y="3124080"/>
            <a:ext cx="3505320" cy="1143000"/>
            <a:chOff x="5181480" y="3124080"/>
            <a:chExt cx="3505320" cy="1143000"/>
          </a:xfrm>
        </p:grpSpPr>
        <p:sp>
          <p:nvSpPr>
            <p:cNvPr id="937" name=""/>
            <p:cNvSpPr/>
            <p:nvPr/>
          </p:nvSpPr>
          <p:spPr>
            <a:xfrm>
              <a:off x="5181480" y="312408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Drawing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exiting the applicatio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171840" y="3733920"/>
              <a:ext cx="9903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2-11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bout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o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boutIc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out Appl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DeitelDrawing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Drawing v1.0.\n Copyrigh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002. Deitel &amp; Associates, In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 menu and set its mnemon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Help menu and set its mnemon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elp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elp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H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New Drawing and Open Drawing actions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le menu and remove their ic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newAction ).se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openAction ).se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MenuItems for saving drawings; thes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JMenuItems will invoke the save Actions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urrent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veMenuIte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veAsMenuIte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 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ave, Save As and Close JMenuItems to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saveMenu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saveAsMenu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5486400" y="685800"/>
            <a:ext cx="3505320" cy="1738440"/>
            <a:chOff x="5486400" y="685800"/>
            <a:chExt cx="3505320" cy="1738440"/>
          </a:xfrm>
        </p:grpSpPr>
        <p:sp>
          <p:nvSpPr>
            <p:cNvPr id="942" name=""/>
            <p:cNvSpPr/>
            <p:nvPr/>
          </p:nvSpPr>
          <p:spPr>
            <a:xfrm>
              <a:off x="5486400" y="1600200"/>
              <a:ext cx="350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Drawing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isplaying information about the applicatio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flipV="1">
              <a:off x="5866920" y="685800"/>
              <a:ext cx="1600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Exit action to File menu and remove its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exitAction ).se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bout action to Help menu and remove its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elpMenu.add ( aboutAction ).se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File and Help menus to JMenu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( file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( help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Frame's JMenu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pplication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JToolBar floa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setFloa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New Drawing and Open Drawing actions to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new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open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Exit action to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exi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bout action to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abou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toolBar and desktopPane to Content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desktopPane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WindowListener for windowClosing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xitApplication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it for SplashScreen to go aw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plashScreen.isVisible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interrupted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terrupted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initial JFrame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sition application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WindowOnScree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6-24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application 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, empty drawing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NewWindow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itelDrawing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InternalFrame createNewWindow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InternalFrame fr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InternalFr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titled Draw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istener for InternalFram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addInternalFram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InternalFrameListen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DrawingInternalFrame opaq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Opaq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DrawingInternalFrame to desktop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ktopPane.add( fr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DrawingInternalFrame 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lect new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rame.setSelect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4343400" y="838080"/>
            <a:ext cx="3352680" cy="1143000"/>
            <a:chOff x="4343400" y="838080"/>
            <a:chExt cx="3352680" cy="1143000"/>
          </a:xfrm>
        </p:grpSpPr>
        <p:sp>
          <p:nvSpPr>
            <p:cNvPr id="951" name=""/>
            <p:cNvSpPr/>
            <p:nvPr/>
          </p:nvSpPr>
          <p:spPr>
            <a:xfrm>
              <a:off x="4343400" y="83808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NewWind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290560" y="1447920"/>
              <a:ext cx="947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0-3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5-29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gradient selected, create new GradientPaint sta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 x1, y1 with color1 and ending at x2, y2 with color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Gradient() 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2D.setPaint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Pa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getStartX()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getStartY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tartColor()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getEndX()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getEndY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EndColor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no gradient selected, use primary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2D.setPaint( getColor(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Shape XML repres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shapeElement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Elements for x and y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X1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Y1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X2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876560" y="2590920"/>
            <a:ext cx="4114800" cy="580680"/>
            <a:chOff x="4876560" y="2590920"/>
            <a:chExt cx="4114800" cy="580680"/>
          </a:xfrm>
        </p:grpSpPr>
        <p:sp>
          <p:nvSpPr>
            <p:cNvPr id="198" name=""/>
            <p:cNvSpPr/>
            <p:nvPr/>
          </p:nvSpPr>
          <p:spPr>
            <a:xfrm>
              <a:off x="5759280" y="2590920"/>
              <a:ext cx="3232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duces an XML representation of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876560" y="2895840"/>
              <a:ext cx="88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419360" y="4038480"/>
            <a:ext cx="3657960" cy="824040"/>
            <a:chOff x="4419360" y="4038480"/>
            <a:chExt cx="3657960" cy="824040"/>
          </a:xfrm>
        </p:grpSpPr>
        <p:sp>
          <p:nvSpPr>
            <p:cNvPr id="201" name=""/>
            <p:cNvSpPr/>
            <p:nvPr/>
          </p:nvSpPr>
          <p:spPr>
            <a:xfrm>
              <a:off x="5204160" y="4038480"/>
              <a:ext cx="2873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the x- and y-coordinates and add them as childre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419360" y="434340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0-28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selecting DrawingInternalFr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pertyVetoException veto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veto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reference to newly created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ternalFrameAdapter to listen for InternalFram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InternalFrameListen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Adap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DrawingInternalFrame is closing disab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ropriate A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Closin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rnalFrame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InternalFrame fr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DrawingInternalFrame ) event.getSour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rame closes successfully, disable Save menu item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rame.close() ) {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aveMenuItem.setAct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aveAsMenuItem.setAct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DrawingInternalFrame is activated, make its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visible and set JMenuItems to DrawingInternalFrame A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Activa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rnalFrame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InternalFrame fr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DrawingInternalFrame ) event.getSour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4572000" y="609480"/>
            <a:ext cx="4114800" cy="1676520"/>
            <a:chOff x="4572000" y="609480"/>
            <a:chExt cx="4114800" cy="1676520"/>
          </a:xfrm>
        </p:grpSpPr>
        <p:sp>
          <p:nvSpPr>
            <p:cNvPr id="956" name=""/>
            <p:cNvSpPr/>
            <p:nvPr/>
          </p:nvSpPr>
          <p:spPr>
            <a:xfrm>
              <a:off x="4572000" y="609480"/>
              <a:ext cx="4114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InternalFram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isten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nalFrameClo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nalFrameActiva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ssag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5181480" y="167652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9-3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9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saveMenuItem to DrawingInternalFrame's save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veMenuItem.setAction( frame.getSaveAc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veMenuItem.se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saveAsMenuItem to DrawingInternalFrame'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aveA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veAsMenuItem.setAction( frame.getSaveAsAc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veAsMenuItem.se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each DrawingInternalFrame to let user save drawing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n exi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pplica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rray of JInternalFrames from desktop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InternalFrame frames[] = desktopPane.getAllFram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keep track of DrawingInternalFrames that do not clo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lFramesClos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lect and close each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frames.length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InternalFrame nextFr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DrawingInternalFrame ) frames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lect current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xtFrame.setSelect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when selecting DrawingInternalFr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pertyVetoException veto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veto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657600" y="1600200"/>
            <a:ext cx="3733920" cy="1371600"/>
            <a:chOff x="3657600" y="1600200"/>
            <a:chExt cx="3733920" cy="1371600"/>
          </a:xfrm>
        </p:grpSpPr>
        <p:sp>
          <p:nvSpPr>
            <p:cNvPr id="961" name=""/>
            <p:cNvSpPr/>
            <p:nvPr/>
          </p:nvSpPr>
          <p:spPr>
            <a:xfrm>
              <a:off x="3657600" y="1600200"/>
              <a:ext cx="3733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pplic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mpts the user to save any unsaved drawings before the application exi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4101840" y="2438280"/>
              <a:ext cx="12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5181480" y="2286000"/>
            <a:ext cx="3810240" cy="1143000"/>
            <a:chOff x="5181480" y="2286000"/>
            <a:chExt cx="3810240" cy="1143000"/>
          </a:xfrm>
        </p:grpSpPr>
        <p:sp>
          <p:nvSpPr>
            <p:cNvPr id="964" name=""/>
            <p:cNvSpPr/>
            <p:nvPr/>
          </p:nvSpPr>
          <p:spPr>
            <a:xfrm>
              <a:off x="5181480" y="2286000"/>
              <a:ext cx="3810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AllFram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Desktop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appli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6172200" y="31240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DrawingInternalFrame and update allFramesClo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lFramesClosed = allFramesClosed &amp;&amp; nextFram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 application only if all frames were clo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llFramesClose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xit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application's splash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SplashScree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mageIcon for log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con logo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deitellogo.p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create new JLabel for log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logo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logoIc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JLabel background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goLabel.setBackground( Color.whi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plash screen b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goLabel.setBor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teBor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lor.black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logoLabel opaq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goLabel.setOpaq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plashScreen for log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lashScre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lashScreen( logoLabel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how SplashScreen for 3 sec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lashScreen.showSplas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howSplash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enter application window on user's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enterWindowOnScree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Dimension of user's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mension screenDimens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kit.getDefaultToolkit().getScreen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screen width and height and application wid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height to center application on user's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getSize().wid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getSize().he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( screenDimension.width - width 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( screenDimension.height - height 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lace application window at screen's ce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ounds( x, y, width, heigh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itelDraw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9 SplashScreen class for displaying a logo while the application load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2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plashScree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plashScreen implements static method showSplash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ing a splash scree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lashScree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Window windo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 tim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lashScree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lashScreen( Component compon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JWindow for splash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ndow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Window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provided component to J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ndow.getContentPane().add( compon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user to dismiss SplashScreen by clicking mo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ndow.addMous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3352680" y="3886200"/>
            <a:ext cx="3657600" cy="580680"/>
            <a:chOff x="3352680" y="3886200"/>
            <a:chExt cx="3657600" cy="580680"/>
          </a:xfrm>
        </p:grpSpPr>
        <p:sp>
          <p:nvSpPr>
            <p:cNvPr id="973" name=""/>
            <p:cNvSpPr/>
            <p:nvPr/>
          </p:nvSpPr>
          <p:spPr>
            <a:xfrm>
              <a:off x="4267080" y="38862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Wind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which to display the given compon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3352680" y="41911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9 SplashScreen class for displaying a logo while the application load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6-5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1-8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when user presses mouse in SplashScree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ide and dispose J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Pressed( Mouse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indow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indow.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Mous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ize JWindow for given 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ndow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ser's screen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mension screenDimens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kit.getDefaultToolkit().getScreen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culate x and y coordinates to center splash scree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window.getSize().wid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window.getSize().he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( screenDimension.width - width 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( screenDimension.height - height 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he bounds of the window to center it on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ndow.setBounds( x, y, width, heigh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plashScreen constructo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w splash screen for given de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Splas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ay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the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ndow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4343400" y="2438280"/>
            <a:ext cx="3505320" cy="1143000"/>
            <a:chOff x="4343400" y="2438280"/>
            <a:chExt cx="3505320" cy="1143000"/>
          </a:xfrm>
        </p:grpSpPr>
        <p:sp>
          <p:nvSpPr>
            <p:cNvPr id="978" name=""/>
            <p:cNvSpPr/>
            <p:nvPr/>
          </p:nvSpPr>
          <p:spPr>
            <a:xfrm>
              <a:off x="4343400" y="243828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ent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plash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Wind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the user’s scre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5333760" y="3048120"/>
              <a:ext cx="9903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4343400" y="5181480"/>
            <a:ext cx="4572000" cy="824040"/>
            <a:chOff x="4343400" y="5181480"/>
            <a:chExt cx="4572000" cy="824040"/>
          </a:xfrm>
        </p:grpSpPr>
        <p:sp>
          <p:nvSpPr>
            <p:cNvPr id="981" name=""/>
            <p:cNvSpPr/>
            <p:nvPr/>
          </p:nvSpPr>
          <p:spPr>
            <a:xfrm>
              <a:off x="5181480" y="5181480"/>
              <a:ext cx="3733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wSplas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as an integer argument the number of milliseconds for which to displa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plash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434340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9 SplashScreen class for displaying a logo while the application load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ate and start a new Timer to remove Splash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fter specified de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m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( delay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ide and dispose of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indow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indow.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imer.sto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mer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howSplas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SplashScreen window is 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Visibl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.isVisib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9 SplashScreen class for displaying a logo while the application load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splashscreen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59259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96-299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Y2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X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StartX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StartY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EndX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EndY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Element for gradient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Grad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useGradient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562360" y="4800600"/>
            <a:ext cx="3047760" cy="580680"/>
            <a:chOff x="5562360" y="4800600"/>
            <a:chExt cx="3047760" cy="580680"/>
          </a:xfrm>
        </p:grpSpPr>
        <p:sp>
          <p:nvSpPr>
            <p:cNvPr id="206" name=""/>
            <p:cNvSpPr/>
            <p:nvPr/>
          </p:nvSpPr>
          <p:spPr>
            <a:xfrm>
              <a:off x="6216120" y="4800600"/>
              <a:ext cx="2394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Grad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562360" y="5105520"/>
              <a:ext cx="65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2-32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30-333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XML element for start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 color = getStartCol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color.getRed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re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color.getGreen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color.getBlu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XML element for end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 = getEndCol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color.getRed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re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color.getGreen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color.getBlu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trokeSiz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okeSiz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StrokeSize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fill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isFilled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El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952520" y="1447920"/>
            <a:ext cx="2590920" cy="580680"/>
            <a:chOff x="4952520" y="1447920"/>
            <a:chExt cx="2590920" cy="580680"/>
          </a:xfrm>
        </p:grpSpPr>
        <p:sp>
          <p:nvSpPr>
            <p:cNvPr id="211" name=""/>
            <p:cNvSpPr/>
            <p:nvPr/>
          </p:nvSpPr>
          <p:spPr>
            <a:xfrm>
              <a:off x="5508360" y="1447920"/>
              <a:ext cx="2035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l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952520" y="175284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028840" y="5486400"/>
            <a:ext cx="2819880" cy="337320"/>
            <a:chOff x="5028840" y="5486400"/>
            <a:chExt cx="2819880" cy="337320"/>
          </a:xfrm>
        </p:grpSpPr>
        <p:sp>
          <p:nvSpPr>
            <p:cNvPr id="214" name=""/>
            <p:cNvSpPr/>
            <p:nvPr/>
          </p:nvSpPr>
          <p:spPr>
            <a:xfrm>
              <a:off x="5562720" y="54864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028840" y="563868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XM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-2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-2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5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9-46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Lin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Line is a MyShape subclass that represents a li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Lin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MyLine object on given Graphics2D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( Graphics2D g2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Graphics2D (gradient, color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figureGraphicsContext( g2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Line2D.Flo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 li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2D.Float( getX1(), getY1(), getX2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Y2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draw( li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if MyLine contains given Point2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ains( Point2D poi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oint1 and Point2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1 = getX1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2 = getX2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1 = getY1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2 = getY2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170240" y="2057400"/>
            <a:ext cx="4516200" cy="580680"/>
            <a:chOff x="4170240" y="2057400"/>
            <a:chExt cx="4516200" cy="580680"/>
          </a:xfrm>
        </p:grpSpPr>
        <p:sp>
          <p:nvSpPr>
            <p:cNvPr id="221" name=""/>
            <p:cNvSpPr/>
            <p:nvPr/>
          </p:nvSpPr>
          <p:spPr>
            <a:xfrm>
              <a:off x="5138640" y="2057400"/>
              <a:ext cx="3547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was decla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170240" y="2362320"/>
              <a:ext cx="9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38680" y="3809880"/>
            <a:ext cx="3353040" cy="824040"/>
            <a:chOff x="5638680" y="3809880"/>
            <a:chExt cx="3353040" cy="824040"/>
          </a:xfrm>
        </p:grpSpPr>
        <p:sp>
          <p:nvSpPr>
            <p:cNvPr id="224" name=""/>
            <p:cNvSpPr/>
            <p:nvPr/>
          </p:nvSpPr>
          <p:spPr>
            <a:xfrm>
              <a:off x="6359400" y="3809880"/>
              <a:ext cx="263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2D.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L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x- and y-coordin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638680" y="419112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895480" y="4419720"/>
            <a:ext cx="3504960" cy="824040"/>
            <a:chOff x="2895480" y="4419720"/>
            <a:chExt cx="3504960" cy="824040"/>
          </a:xfrm>
        </p:grpSpPr>
        <p:sp>
          <p:nvSpPr>
            <p:cNvPr id="227" name=""/>
            <p:cNvSpPr/>
            <p:nvPr/>
          </p:nvSpPr>
          <p:spPr>
            <a:xfrm>
              <a:off x="3647160" y="4419720"/>
              <a:ext cx="2753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the line o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x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895480" y="472428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648320" y="5181480"/>
            <a:ext cx="4266720" cy="824040"/>
            <a:chOff x="4648320" y="5181480"/>
            <a:chExt cx="4266720" cy="824040"/>
          </a:xfrm>
        </p:grpSpPr>
        <p:sp>
          <p:nvSpPr>
            <p:cNvPr id="230" name=""/>
            <p:cNvSpPr/>
            <p:nvPr/>
          </p:nvSpPr>
          <p:spPr>
            <a:xfrm>
              <a:off x="5564520" y="5181480"/>
              <a:ext cx="3350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tai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culates the line’s slope to determine if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on the 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8320" y="548640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9-5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s slope of 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ope = ( y2 - y1 ) / ( x2 - x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s slope from point argument and Point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loat realSlop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( point.getY() - y1 ) / ( point.getX() - x1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true if slope and realSlope are close in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.abs( realSlope - slope )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Line XML repres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shapeEl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( document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y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L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El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34" name="lines" descr=""/>
          <p:cNvPicPr/>
          <p:nvPr/>
        </p:nvPicPr>
        <p:blipFill>
          <a:blip r:embed="rId1"/>
          <a:stretch/>
        </p:blipFill>
        <p:spPr>
          <a:xfrm>
            <a:off x="1905120" y="4230720"/>
            <a:ext cx="3504960" cy="262728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4876560" y="2438280"/>
            <a:ext cx="4114800" cy="824040"/>
            <a:chOff x="4876560" y="2438280"/>
            <a:chExt cx="4114800" cy="824040"/>
          </a:xfrm>
        </p:grpSpPr>
        <p:sp>
          <p:nvSpPr>
            <p:cNvPr id="236" name=""/>
            <p:cNvSpPr/>
            <p:nvPr/>
          </p:nvSpPr>
          <p:spPr>
            <a:xfrm>
              <a:off x="5759280" y="2438280"/>
              <a:ext cx="3232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the defaul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876560" y="2743200"/>
              <a:ext cx="88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 GUI 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ng GUI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2D graph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5 MyRectangle subclass of class MyShape that represents a rectangl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-3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-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MyRectangl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MyRectangle is a MyShape subclass that represent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rectangle, including an implementation of the draw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or drawing the rectangle on a Graphics2D contex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.deitel.advjhtp1.drawing.model.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yRectang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y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draw MyRectangle on given Graphics2D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raw( Graphics2D g2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configure Graphics2D (gradient, color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configureGraphicsContext( g2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create Rectangle2D for drawing MyRectang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Shape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ctangle2D.Float( getLeftX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getLeftY(), getWidth(), getHeigh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if shape is filled, draw filled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isFilled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g2D.fill( 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g2D.draw( 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169880" y="2971800"/>
            <a:ext cx="3983400" cy="1067400"/>
            <a:chOff x="4169880" y="2971800"/>
            <a:chExt cx="3983400" cy="1067400"/>
          </a:xfrm>
        </p:grpSpPr>
        <p:sp>
          <p:nvSpPr>
            <p:cNvPr id="241" name=""/>
            <p:cNvSpPr/>
            <p:nvPr/>
          </p:nvSpPr>
          <p:spPr>
            <a:xfrm>
              <a:off x="5024520" y="2971800"/>
              <a:ext cx="3128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takes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the graphics context on which to dra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Rectang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169880" y="3276720"/>
              <a:ext cx="85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952880" y="4267080"/>
            <a:ext cx="2971440" cy="580680"/>
            <a:chOff x="4952880" y="4267080"/>
            <a:chExt cx="2971440" cy="580680"/>
          </a:xfrm>
        </p:grpSpPr>
        <p:sp>
          <p:nvSpPr>
            <p:cNvPr id="244" name=""/>
            <p:cNvSpPr/>
            <p:nvPr/>
          </p:nvSpPr>
          <p:spPr>
            <a:xfrm>
              <a:off x="5590080" y="4267080"/>
              <a:ext cx="2334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ctangle2D.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952880" y="457200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276720" y="5029200"/>
            <a:ext cx="5333760" cy="1067400"/>
            <a:chOff x="3276720" y="5029200"/>
            <a:chExt cx="5333760" cy="1067400"/>
          </a:xfrm>
        </p:grpSpPr>
        <p:sp>
          <p:nvSpPr>
            <p:cNvPr id="247" name=""/>
            <p:cNvSpPr/>
            <p:nvPr/>
          </p:nvSpPr>
          <p:spPr>
            <a:xfrm>
              <a:off x="4114800" y="5029200"/>
              <a:ext cx="4495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Rectang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filled property is set, draw a filled rectangle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otherwise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the rectangle’s out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276720" y="53341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5 MyRectangle subclass of class MyShape that represents a rectangl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4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3-4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point falls within MyRectang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ains( Point2D poi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ctangle2D.Float rectang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2D.Floa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LeftX(), getLeftY(), getWidth(), getHeigh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.contains( poi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ML representation of MyRectang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shapeEl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(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y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Rectang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El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51" name="rectangles" descr=""/>
          <p:cNvPicPr/>
          <p:nvPr/>
        </p:nvPicPr>
        <p:blipFill>
          <a:blip r:embed="rId1"/>
          <a:stretch/>
        </p:blipFill>
        <p:spPr>
          <a:xfrm>
            <a:off x="1447920" y="3602160"/>
            <a:ext cx="4343400" cy="325584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4571640" y="228600"/>
            <a:ext cx="4343400" cy="1554120"/>
            <a:chOff x="4571640" y="228600"/>
            <a:chExt cx="4343400" cy="1554120"/>
          </a:xfrm>
        </p:grpSpPr>
        <p:sp>
          <p:nvSpPr>
            <p:cNvPr id="253" name=""/>
            <p:cNvSpPr/>
            <p:nvPr/>
          </p:nvSpPr>
          <p:spPr>
            <a:xfrm>
              <a:off x="5503320" y="228600"/>
              <a:ext cx="34117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tai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ctangle2D.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tai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ctangle2D.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termine whether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alls with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Rectang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571640" y="533520"/>
              <a:ext cx="93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800240" y="1905120"/>
            <a:ext cx="3352680" cy="824040"/>
            <a:chOff x="4800240" y="1905120"/>
            <a:chExt cx="3352680" cy="824040"/>
          </a:xfrm>
        </p:grpSpPr>
        <p:sp>
          <p:nvSpPr>
            <p:cNvPr id="256" name=""/>
            <p:cNvSpPr/>
            <p:nvPr/>
          </p:nvSpPr>
          <p:spPr>
            <a:xfrm>
              <a:off x="5519520" y="1905120"/>
              <a:ext cx="2633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n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presen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Rectang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800240" y="22096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6 MyOval subclass of class MyShape that represents an ova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-2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-2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-2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-3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Ova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Oval is a MyShape subclass that represents an ova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Ova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MyOval on given Graphics2D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( Graphics2D g2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Graphics2D (gradient, color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figureGraphicsContext( g2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Ellipse2D for drawing ov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lipse2D.Float( getLeftX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LeftY(), getWidth(), getHeigh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shape is filled, draw filled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Filled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2D.fill( 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2D.draw( shape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point falls inside MyOv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ains( Point2D poi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lipse2D.Float ellip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lipse2D.Floa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LeftX(), getLeftY(), getWidth(), getHeigh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114440" y="2590920"/>
            <a:ext cx="4648320" cy="580680"/>
            <a:chOff x="4114440" y="2590920"/>
            <a:chExt cx="4648320" cy="580680"/>
          </a:xfrm>
        </p:grpSpPr>
        <p:sp>
          <p:nvSpPr>
            <p:cNvPr id="261" name=""/>
            <p:cNvSpPr/>
            <p:nvPr/>
          </p:nvSpPr>
          <p:spPr>
            <a:xfrm>
              <a:off x="5111640" y="2590920"/>
              <a:ext cx="3651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raw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Ov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on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x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114440" y="2895840"/>
              <a:ext cx="9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952520" y="3886200"/>
            <a:ext cx="3886200" cy="580680"/>
            <a:chOff x="4952520" y="3886200"/>
            <a:chExt cx="3886200" cy="580680"/>
          </a:xfrm>
        </p:grpSpPr>
        <p:sp>
          <p:nvSpPr>
            <p:cNvPr id="264" name=""/>
            <p:cNvSpPr/>
            <p:nvPr/>
          </p:nvSpPr>
          <p:spPr>
            <a:xfrm>
              <a:off x="5786280" y="3886200"/>
              <a:ext cx="3052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lipse2D.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 for draw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Ov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4952520" y="419112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00400" y="4648320"/>
            <a:ext cx="5333760" cy="1067400"/>
            <a:chOff x="3200400" y="4648320"/>
            <a:chExt cx="5333760" cy="1067400"/>
          </a:xfrm>
        </p:grpSpPr>
        <p:sp>
          <p:nvSpPr>
            <p:cNvPr id="267" name=""/>
            <p:cNvSpPr/>
            <p:nvPr/>
          </p:nvSpPr>
          <p:spPr>
            <a:xfrm>
              <a:off x="4038480" y="4648320"/>
              <a:ext cx="4495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Ov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l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 is set, draw a filled rectangle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otherwise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the oval’s out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20040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648320" y="5029200"/>
            <a:ext cx="4190760" cy="1554120"/>
            <a:chOff x="4648320" y="5029200"/>
            <a:chExt cx="4190760" cy="1554120"/>
          </a:xfrm>
        </p:grpSpPr>
        <p:sp>
          <p:nvSpPr>
            <p:cNvPr id="270" name=""/>
            <p:cNvSpPr/>
            <p:nvPr/>
          </p:nvSpPr>
          <p:spPr>
            <a:xfrm>
              <a:off x="5638680" y="5029200"/>
              <a:ext cx="32004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tai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lipse2D.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tai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lipse2D.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termine whether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alls with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Ov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648320" y="6019920"/>
              <a:ext cx="93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6 MyOval subclass of class MyShape that represents an ova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1-4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51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lipse.contains( poi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Oval XML repres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shapeEl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(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y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Ov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El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74" name="ovals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5335560" cy="400068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4876560" y="990720"/>
            <a:ext cx="3352680" cy="824040"/>
            <a:chOff x="4876560" y="990720"/>
            <a:chExt cx="3352680" cy="824040"/>
          </a:xfrm>
        </p:grpSpPr>
        <p:sp>
          <p:nvSpPr>
            <p:cNvPr id="276" name=""/>
            <p:cNvSpPr/>
            <p:nvPr/>
          </p:nvSpPr>
          <p:spPr>
            <a:xfrm>
              <a:off x="5595840" y="990720"/>
              <a:ext cx="2633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n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presen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Ov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876560" y="12952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7 MyText subclass of class MyShape that represents a string of tex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6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3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Tex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Text is a MyShape subclass that represents styled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a draw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fo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Tex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yText properties (font, font size, text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ributedString attributed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on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derlin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ldSelect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alicSelect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MyText on given Graphics2D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( Graphics2D g2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Graphics2D (gradient, color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figureGraphicsContext( g2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ttributedString for drawing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ttributedString = new AttributedString( tex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267080" y="4800600"/>
            <a:ext cx="4648320" cy="580680"/>
            <a:chOff x="4267080" y="4800600"/>
            <a:chExt cx="4648320" cy="580680"/>
          </a:xfrm>
        </p:grpSpPr>
        <p:sp>
          <p:nvSpPr>
            <p:cNvPr id="281" name=""/>
            <p:cNvSpPr/>
            <p:nvPr/>
          </p:nvSpPr>
          <p:spPr>
            <a:xfrm>
              <a:off x="4876920" y="4800600"/>
              <a:ext cx="4038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raw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us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.text.Attributed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267080" y="5105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638320" y="5867280"/>
            <a:ext cx="2819520" cy="580680"/>
            <a:chOff x="5638320" y="5867280"/>
            <a:chExt cx="2819520" cy="580680"/>
          </a:xfrm>
        </p:grpSpPr>
        <p:sp>
          <p:nvSpPr>
            <p:cNvPr id="284" name=""/>
            <p:cNvSpPr/>
            <p:nvPr/>
          </p:nvSpPr>
          <p:spPr>
            <a:xfrm>
              <a:off x="6243120" y="5867280"/>
              <a:ext cx="2214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ttributed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638320" y="617220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7 MyText subclass of class MyShape that represents a string of tex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6-5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ttributedString F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ttributedString.addAttribute( TextAttribut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ttributedString Font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ttributedString.addAttribute( TextAttribute.SIZ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( fontSiz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selected, set bold, italic and underli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boldSelect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ributedString.addAttribute( TextAttribut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Attribut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EIGHT_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alicSelect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ributedString.addAttribute( TextAttribut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STU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Attribut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STURE_OBLIQ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derlin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ributedString.addAttribute( TextAttribut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NDERL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Attribut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NDERLINE_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ttributedString Col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ttributedString.addAttribute( TextAttribut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GR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olo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ttributedCharacterIterator for Attributed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ttributedCharacterIterator characterIterat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ributedString.get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string using AttributedCharacterIt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drawString( characterIterator, getX1(), getY1(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76920" y="685800"/>
            <a:ext cx="4157640" cy="3581280"/>
            <a:chOff x="4876920" y="685800"/>
            <a:chExt cx="4157640" cy="3581280"/>
          </a:xfrm>
        </p:grpSpPr>
        <p:sp>
          <p:nvSpPr>
            <p:cNvPr id="289" name=""/>
            <p:cNvSpPr/>
            <p:nvPr/>
          </p:nvSpPr>
          <p:spPr>
            <a:xfrm>
              <a:off x="6705720" y="2057400"/>
              <a:ext cx="2328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ttributed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attributes, including the font, size, bold, italic,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5486040" y="685800"/>
              <a:ext cx="12193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181480" y="1447560"/>
              <a:ext cx="15242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876920" y="2285640"/>
              <a:ext cx="1828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952520" y="2590920"/>
              <a:ext cx="1752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257800" y="2590920"/>
              <a:ext cx="144792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105160" y="2590920"/>
              <a:ext cx="1600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638680" y="4572000"/>
            <a:ext cx="3353040" cy="1143000"/>
            <a:chOff x="5638680" y="4572000"/>
            <a:chExt cx="3353040" cy="1143000"/>
          </a:xfrm>
        </p:grpSpPr>
        <p:sp>
          <p:nvSpPr>
            <p:cNvPr id="297" name=""/>
            <p:cNvSpPr/>
            <p:nvPr/>
          </p:nvSpPr>
          <p:spPr>
            <a:xfrm>
              <a:off x="6172200" y="457200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ttributed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the graphics contex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638680" y="5105520"/>
              <a:ext cx="53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7 MyText subclass of class MyShape that represents a string of tex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5-14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false because MyText objects contain no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ains( Point2D poi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yText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ext( String my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 = my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ext contained in My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yText Font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ontSiz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ntSize = siz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Text Font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FontSiz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Siz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yText Fon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ont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ntName = 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276720" y="1752120"/>
            <a:ext cx="4538520" cy="4267800"/>
            <a:chOff x="3276720" y="1752120"/>
            <a:chExt cx="4538520" cy="4267800"/>
          </a:xfrm>
        </p:grpSpPr>
        <p:sp>
          <p:nvSpPr>
            <p:cNvPr id="302" name=""/>
            <p:cNvSpPr/>
            <p:nvPr/>
          </p:nvSpPr>
          <p:spPr>
            <a:xfrm>
              <a:off x="5486400" y="3124080"/>
              <a:ext cx="23288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set and get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ies, including its test, font, size, bold, italic and underline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4266720" y="1752120"/>
              <a:ext cx="12193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3276720" y="2742840"/>
              <a:ext cx="22096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191120" y="38098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4419360" y="3809880"/>
              <a:ext cx="106668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276720" y="3809880"/>
              <a:ext cx="22096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7 MyText subclass of class MyShape that represents a string of tex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5-14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Text Fon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ont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yText underlin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UnderlineSelect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Underline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nderlined = textUnderlin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Text underlin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UnderlineSelecte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derlin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yText bol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BoldSelect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Bol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ldSelected = textBol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Text bol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oldSelecte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ldSelect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yText italic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talicSelect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Italic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alicSelected = textItalic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429000" y="685800"/>
            <a:ext cx="5529240" cy="5486400"/>
            <a:chOff x="3429000" y="685800"/>
            <a:chExt cx="5529240" cy="5486400"/>
          </a:xfrm>
        </p:grpSpPr>
        <p:sp>
          <p:nvSpPr>
            <p:cNvPr id="311" name=""/>
            <p:cNvSpPr/>
            <p:nvPr/>
          </p:nvSpPr>
          <p:spPr>
            <a:xfrm>
              <a:off x="6629400" y="2743200"/>
              <a:ext cx="23288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set and get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ies, including its test, font, size, bold, italic and underline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3429000" y="685800"/>
              <a:ext cx="32004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3886200" y="2057400"/>
              <a:ext cx="2743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4267080" y="2895480"/>
              <a:ext cx="2362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638680" y="3429000"/>
              <a:ext cx="99072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886200" y="3429000"/>
              <a:ext cx="27432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5334120" y="342900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7 MyText subclass of class MyShape that represents a string of tex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7-18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3-18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Text italic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ItalicSelecte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alicSelect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Text XML repres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shapeEl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(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y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ex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getText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ontSiz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ntSiz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fontSize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ontNam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n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fontName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underline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derli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underlined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028840" y="1676520"/>
            <a:ext cx="3352680" cy="824040"/>
            <a:chOff x="5028840" y="1676520"/>
            <a:chExt cx="3352680" cy="824040"/>
          </a:xfrm>
        </p:grpSpPr>
        <p:sp>
          <p:nvSpPr>
            <p:cNvPr id="321" name=""/>
            <p:cNvSpPr/>
            <p:nvPr/>
          </p:nvSpPr>
          <p:spPr>
            <a:xfrm>
              <a:off x="5748120" y="1676520"/>
              <a:ext cx="2633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n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presen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028840" y="19810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952520" y="3429000"/>
            <a:ext cx="3929400" cy="2819520"/>
            <a:chOff x="4952520" y="3429000"/>
            <a:chExt cx="3929400" cy="2819520"/>
          </a:xfrm>
        </p:grpSpPr>
        <p:sp>
          <p:nvSpPr>
            <p:cNvPr id="324" name=""/>
            <p:cNvSpPr/>
            <p:nvPr/>
          </p:nvSpPr>
          <p:spPr>
            <a:xfrm>
              <a:off x="6553080" y="4343400"/>
              <a:ext cx="2328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represent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specific proper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4952520" y="3429000"/>
              <a:ext cx="1600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5105160" y="4267080"/>
              <a:ext cx="1447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5257800" y="480060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486040" y="4800600"/>
              <a:ext cx="10666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7 MyText subclass of class MyShape that represents a string of tex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3-18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ol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boldSelected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talic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tali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italicSelected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Element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XML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105160" y="1142640"/>
            <a:ext cx="3929400" cy="1067040"/>
            <a:chOff x="5105160" y="1142640"/>
            <a:chExt cx="3929400" cy="1067040"/>
          </a:xfrm>
        </p:grpSpPr>
        <p:sp>
          <p:nvSpPr>
            <p:cNvPr id="332" name=""/>
            <p:cNvSpPr/>
            <p:nvPr/>
          </p:nvSpPr>
          <p:spPr>
            <a:xfrm>
              <a:off x="6705720" y="1371600"/>
              <a:ext cx="2328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represent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specific proper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5105160" y="114264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105160" y="1828800"/>
              <a:ext cx="1600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 Application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tel Drawing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-view-controller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2D grpahics A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g-and-drop A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7 MyText subclass of class MyShape that represents a string of tex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text_a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4000320" cy="1390680"/>
          </a:xfrm>
          <a:prstGeom prst="rect">
            <a:avLst/>
          </a:prstGeom>
          <a:ln w="0">
            <a:noFill/>
          </a:ln>
        </p:spPr>
      </p:pic>
      <p:pic>
        <p:nvPicPr>
          <p:cNvPr id="337" name="text_b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6097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8 MyImage subclass of class MyShape that represents a JPEG image in a drawin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Imag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Image is a MyShape subclass that contains a JPEG im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image.codec.jpe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Imag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im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image on given Graphics2D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( Graphics2D g2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image on Graphics2D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drawImage( getImage(), getX1(), getY1()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Point falls within My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ains( Point2D poi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ctangle2D.Float rectang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2D.Floa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X1(), getY1(), getWidth(), getHeigh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.contains( poi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095520" y="4267080"/>
            <a:ext cx="2667600" cy="1310760"/>
            <a:chOff x="6095520" y="4267080"/>
            <a:chExt cx="2667600" cy="1310760"/>
          </a:xfrm>
        </p:grpSpPr>
        <p:sp>
          <p:nvSpPr>
            <p:cNvPr id="341" name=""/>
            <p:cNvSpPr/>
            <p:nvPr/>
          </p:nvSpPr>
          <p:spPr>
            <a:xfrm>
              <a:off x="6667920" y="4267080"/>
              <a:ext cx="2095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095520" y="457200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724280" y="4952880"/>
            <a:ext cx="3428640" cy="1067400"/>
            <a:chOff x="4724280" y="4952880"/>
            <a:chExt cx="3428640" cy="1067400"/>
          </a:xfrm>
        </p:grpSpPr>
        <p:sp>
          <p:nvSpPr>
            <p:cNvPr id="344" name=""/>
            <p:cNvSpPr/>
            <p:nvPr/>
          </p:nvSpPr>
          <p:spPr>
            <a:xfrm>
              <a:off x="5459400" y="4952880"/>
              <a:ext cx="2693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tai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ctangle2D.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of the same dimensions a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724280" y="525780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8 MyImage subclass of class MyShape that represents a JPEG image in a drawin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3-6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9-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Image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getImag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lename for loading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le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image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 fi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InputStream inputStrea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InputStream( 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code JPEG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PEGImageDecoder deco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PEGCodec.createJPEGDecoder( inputStrea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 = decoder.decodeAsBufferedImage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Point2( getX1() + image.getWidth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Y1() + image.getHeigh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reading image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fileName if try is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Name =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495320" y="1295280"/>
            <a:ext cx="4420080" cy="824040"/>
            <a:chOff x="4495320" y="1295280"/>
            <a:chExt cx="4420080" cy="824040"/>
          </a:xfrm>
        </p:grpSpPr>
        <p:sp>
          <p:nvSpPr>
            <p:cNvPr id="349" name=""/>
            <p:cNvSpPr/>
            <p:nvPr/>
          </p:nvSpPr>
          <p:spPr>
            <a:xfrm>
              <a:off x="5181480" y="1295280"/>
              <a:ext cx="3733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Fil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the nam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the MyImage object’s im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495320" y="1600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419360" y="2666880"/>
            <a:ext cx="4572360" cy="1371600"/>
            <a:chOff x="4419360" y="2666880"/>
            <a:chExt cx="4572360" cy="1371600"/>
          </a:xfrm>
        </p:grpSpPr>
        <p:sp>
          <p:nvSpPr>
            <p:cNvPr id="352" name=""/>
            <p:cNvSpPr/>
            <p:nvPr/>
          </p:nvSpPr>
          <p:spPr>
            <a:xfrm>
              <a:off x="6019920" y="2666880"/>
              <a:ext cx="29718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Input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decod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JPEG image us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codeAsBuffered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EGImageDeco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4419360" y="2819160"/>
              <a:ext cx="1600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181120" y="3352680"/>
              <a:ext cx="8384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8 MyImage subclass of class MyShape that represents a JPEG image in a drawin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8-9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mage file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le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Image XML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shapeEl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(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y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Im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nam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FileNam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El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57" name="images" descr=""/>
          <p:cNvPicPr/>
          <p:nvPr/>
        </p:nvPicPr>
        <p:blipFill>
          <a:blip r:embed="rId1"/>
          <a:stretch/>
        </p:blipFill>
        <p:spPr>
          <a:xfrm>
            <a:off x="2438280" y="4305240"/>
            <a:ext cx="3276720" cy="245592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4876560" y="1295280"/>
            <a:ext cx="3352680" cy="824040"/>
            <a:chOff x="4876560" y="1295280"/>
            <a:chExt cx="3352680" cy="824040"/>
          </a:xfrm>
        </p:grpSpPr>
        <p:sp>
          <p:nvSpPr>
            <p:cNvPr id="359" name=""/>
            <p:cNvSpPr/>
            <p:nvPr/>
          </p:nvSpPr>
          <p:spPr>
            <a:xfrm>
              <a:off x="5595840" y="1295280"/>
              <a:ext cx="2633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n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presen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4876560" y="16002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4 Deitel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rawing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rawing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ploys the model-view-controller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s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9 DrawingModel Observable class that represents a drawing containing multiple MyShap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rawing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rawingModel is the model for a DeitelDrawing painting. I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provides methods for adding and removing shapes from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raw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.deitel.advjhtp1.drawing.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rawing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serv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shapes contained in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llection 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no-argu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rawing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sha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rayLis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add shape to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Shape( MyShape shap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add new shape to list of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shapes.add( 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send model changed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fireModelChang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952520" y="2209680"/>
            <a:ext cx="4114800" cy="1067400"/>
            <a:chOff x="4952520" y="2209680"/>
            <a:chExt cx="4114800" cy="1067400"/>
          </a:xfrm>
        </p:grpSpPr>
        <p:sp>
          <p:nvSpPr>
            <p:cNvPr id="366" name=""/>
            <p:cNvSpPr/>
            <p:nvPr/>
          </p:nvSpPr>
          <p:spPr>
            <a:xfrm>
              <a:off x="5835240" y="2209680"/>
              <a:ext cx="3232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ll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register as listeners for change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4952520" y="2514600"/>
              <a:ext cx="88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047760" y="5486400"/>
            <a:ext cx="5333760" cy="824040"/>
            <a:chOff x="3047760" y="5486400"/>
            <a:chExt cx="5333760" cy="824040"/>
          </a:xfrm>
        </p:grpSpPr>
        <p:sp>
          <p:nvSpPr>
            <p:cNvPr id="369" name=""/>
            <p:cNvSpPr/>
            <p:nvPr/>
          </p:nvSpPr>
          <p:spPr>
            <a:xfrm>
              <a:off x="4191840" y="5486400"/>
              <a:ext cx="418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privat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eModel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f additions to, and deletions from,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047760" y="5791320"/>
              <a:ext cx="11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9 DrawingModel Observable class that represents a drawing containing multiple MyShap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5-4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shape from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Shape( MyShape shap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shape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s.remove( 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odel changed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ModelChang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ollection of shapes in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getShap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s.unmodifiableCollection( shapes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ollection of shapes in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hapes( Collection newShape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py Collection into new Array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s = new ArrayList( newShapes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odel changed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ModelChang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the current ArrayList of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ea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s = new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odel changed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ModelChang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657600" y="2057400"/>
            <a:ext cx="5180760" cy="1067400"/>
            <a:chOff x="3657600" y="2057400"/>
            <a:chExt cx="5180760" cy="1067400"/>
          </a:xfrm>
        </p:grpSpPr>
        <p:sp>
          <p:nvSpPr>
            <p:cNvPr id="374" name=""/>
            <p:cNvSpPr/>
            <p:nvPr/>
          </p:nvSpPr>
          <p:spPr>
            <a:xfrm>
              <a:off x="4768560" y="2057400"/>
              <a:ext cx="4069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static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nmodifiable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nmodifi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 to the shap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7600" y="2362320"/>
              <a:ext cx="111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9 DrawingModel Observable class that represents a drawing containing multiple MyShap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0-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model changed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ModelChange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odel changed fl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Chang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Observers that model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tifyObserver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809520" y="228600"/>
            <a:ext cx="5181840" cy="824040"/>
            <a:chOff x="3809520" y="228600"/>
            <a:chExt cx="5181840" cy="824040"/>
          </a:xfrm>
        </p:grpSpPr>
        <p:sp>
          <p:nvSpPr>
            <p:cNvPr id="379" name=""/>
            <p:cNvSpPr/>
            <p:nvPr/>
          </p:nvSpPr>
          <p:spPr>
            <a:xfrm>
              <a:off x="4921200" y="228600"/>
              <a:ext cx="4070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eModel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mark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809520" y="53352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047760" y="1295280"/>
            <a:ext cx="3581640" cy="824040"/>
            <a:chOff x="3047760" y="1295280"/>
            <a:chExt cx="3581640" cy="824040"/>
          </a:xfrm>
        </p:grpSpPr>
        <p:sp>
          <p:nvSpPr>
            <p:cNvPr id="382" name=""/>
            <p:cNvSpPr/>
            <p:nvPr/>
          </p:nvSpPr>
          <p:spPr>
            <a:xfrm>
              <a:off x="3818520" y="1295280"/>
              <a:ext cx="2810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s a notification to each registered Observer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047760" y="160020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-8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ingFileReaderWri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ingFileReaderWriter defines static methods for re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writing DeitelDrawing files on dis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parser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strea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xml.sax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FileReaderWri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rite drawing to file with given file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File( DrawingModel drawingModel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file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pen file for writing and save drawing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BuilderFactory builderFactory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BuilderFactory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791320" y="3505320"/>
            <a:ext cx="3205080" cy="1752480"/>
            <a:chOff x="5791320" y="3505320"/>
            <a:chExt cx="3205080" cy="1752480"/>
          </a:xfrm>
        </p:grpSpPr>
        <p:sp>
          <p:nvSpPr>
            <p:cNvPr id="387" name=""/>
            <p:cNvSpPr/>
            <p:nvPr/>
          </p:nvSpPr>
          <p:spPr>
            <a:xfrm>
              <a:off x="5791320" y="3505320"/>
              <a:ext cx="3205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rite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as argument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he file name to whic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uld be sav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6171840" y="457200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4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3-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7-5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8-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Builder buil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uilderFactory.newDocumentBuil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 document = builder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hapes element to contain all My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shapesEl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shapesEle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iterator = drawingModel.getShapes(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opulate shapes element with shape element for ea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yShape in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hile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yShape shape = ( MyShape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apesElement.appendChild( shape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se Transformer to write shapes XML document to a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Factory transformer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erFactory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 transfor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erFactory.newTransform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pecify the shapes.dtd Document Typ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.setOutputProperty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Key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OCTYPE_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s.dt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.transfor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MSource( document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amResul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OutputStrea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ileName ) )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800600" y="228600"/>
            <a:ext cx="3200400" cy="580680"/>
            <a:chOff x="4800600" y="228600"/>
            <a:chExt cx="3200400" cy="580680"/>
          </a:xfrm>
        </p:grpSpPr>
        <p:sp>
          <p:nvSpPr>
            <p:cNvPr id="392" name=""/>
            <p:cNvSpPr/>
            <p:nvPr/>
          </p:nvSpPr>
          <p:spPr>
            <a:xfrm>
              <a:off x="5486040" y="228600"/>
              <a:ext cx="2514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new XML DOM object in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800600" y="5335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191120" y="1371600"/>
            <a:ext cx="4266720" cy="580680"/>
            <a:chOff x="4191120" y="1371600"/>
            <a:chExt cx="4266720" cy="580680"/>
          </a:xfrm>
        </p:grpSpPr>
        <p:sp>
          <p:nvSpPr>
            <p:cNvPr id="395" name=""/>
            <p:cNvSpPr/>
            <p:nvPr/>
          </p:nvSpPr>
          <p:spPr>
            <a:xfrm>
              <a:off x="5106240" y="1371600"/>
              <a:ext cx="3351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s the root of the XML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91120" y="167652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266720" y="2819520"/>
            <a:ext cx="4419720" cy="1067400"/>
            <a:chOff x="4266720" y="2819520"/>
            <a:chExt cx="4419720" cy="1067400"/>
          </a:xfrm>
        </p:grpSpPr>
        <p:sp>
          <p:nvSpPr>
            <p:cNvPr id="398" name=""/>
            <p:cNvSpPr/>
            <p:nvPr/>
          </p:nvSpPr>
          <p:spPr>
            <a:xfrm>
              <a:off x="5214960" y="2819520"/>
              <a:ext cx="3471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e throug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shapes, and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its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presen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4266720" y="3124080"/>
              <a:ext cx="94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105160" y="4800600"/>
            <a:ext cx="3124440" cy="824040"/>
            <a:chOff x="5105160" y="4800600"/>
            <a:chExt cx="3124440" cy="824040"/>
          </a:xfrm>
        </p:grpSpPr>
        <p:sp>
          <p:nvSpPr>
            <p:cNvPr id="401" name=""/>
            <p:cNvSpPr/>
            <p:nvPr/>
          </p:nvSpPr>
          <p:spPr>
            <a:xfrm>
              <a:off x="5775480" y="4800600"/>
              <a:ext cx="2454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or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utput the XML document to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5105160" y="510552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 Application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33520" y="457200"/>
            <a:ext cx="7772040" cy="5577480"/>
            <a:chOff x="533520" y="457200"/>
            <a:chExt cx="7772040" cy="5577480"/>
          </a:xfrm>
        </p:grpSpPr>
        <p:pic>
          <p:nvPicPr>
            <p:cNvPr id="95" name="application_overview_a" descr=""/>
            <p:cNvPicPr/>
            <p:nvPr/>
          </p:nvPicPr>
          <p:blipFill>
            <a:blip r:embed="rId1"/>
            <a:stretch/>
          </p:blipFill>
          <p:spPr>
            <a:xfrm>
              <a:off x="1396800" y="1567800"/>
              <a:ext cx="5253120" cy="379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"/>
            <p:cNvGrpSpPr/>
            <p:nvPr/>
          </p:nvGrpSpPr>
          <p:grpSpPr>
            <a:xfrm>
              <a:off x="533520" y="457200"/>
              <a:ext cx="1798920" cy="1942920"/>
              <a:chOff x="533520" y="457200"/>
              <a:chExt cx="1798920" cy="1942920"/>
            </a:xfrm>
          </p:grpSpPr>
          <p:sp>
            <p:nvSpPr>
              <p:cNvPr id="97" name=""/>
              <p:cNvSpPr/>
              <p:nvPr/>
            </p:nvSpPr>
            <p:spPr>
              <a:xfrm>
                <a:off x="533520" y="457200"/>
                <a:ext cx="1798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itle showing file name to which drawing was sav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68800" y="1150920"/>
                <a:ext cx="647640" cy="124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764080" y="804240"/>
              <a:ext cx="2806560" cy="1803960"/>
              <a:chOff x="2764080" y="804240"/>
              <a:chExt cx="2806560" cy="1803960"/>
            </a:xfrm>
          </p:grpSpPr>
          <p:sp>
            <p:nvSpPr>
              <p:cNvPr id="100" name=""/>
              <p:cNvSpPr/>
              <p:nvPr/>
            </p:nvSpPr>
            <p:spPr>
              <a:xfrm>
                <a:off x="2764080" y="804240"/>
                <a:ext cx="28065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rawingIntenalFram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 in multiple-document interfa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15360" y="1289880"/>
                <a:ext cx="143640" cy="104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915360" y="1289880"/>
                <a:ext cx="503640" cy="13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491360" y="734760"/>
              <a:ext cx="3525840" cy="2289960"/>
              <a:chOff x="4491360" y="734760"/>
              <a:chExt cx="3525840" cy="2289960"/>
            </a:xfrm>
          </p:grpSpPr>
          <p:sp>
            <p:nvSpPr>
              <p:cNvPr id="104" name=""/>
              <p:cNvSpPr/>
              <p:nvPr/>
            </p:nvSpPr>
            <p:spPr>
              <a:xfrm>
                <a:off x="5714640" y="734760"/>
                <a:ext cx="23025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JTOOLBar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with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Actions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or modify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yShap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proper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4491360" y="1428840"/>
                <a:ext cx="1367280" cy="159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252800" y="4968360"/>
              <a:ext cx="2014920" cy="997200"/>
              <a:chOff x="1252800" y="4968360"/>
              <a:chExt cx="2014920" cy="997200"/>
            </a:xfrm>
          </p:grpSpPr>
          <p:sp>
            <p:nvSpPr>
              <p:cNvPr id="107" name=""/>
              <p:cNvSpPr/>
              <p:nvPr/>
            </p:nvSpPr>
            <p:spPr>
              <a:xfrm>
                <a:off x="1252800" y="5384880"/>
                <a:ext cx="2014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yRectangl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illed with grad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116080" y="4968360"/>
                <a:ext cx="575640" cy="4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67000" y="5037840"/>
              <a:ext cx="2158920" cy="996840"/>
              <a:chOff x="5067000" y="5037840"/>
              <a:chExt cx="2158920" cy="996840"/>
            </a:xfrm>
          </p:grpSpPr>
          <p:sp>
            <p:nvSpPr>
              <p:cNvPr id="110" name=""/>
              <p:cNvSpPr/>
              <p:nvPr/>
            </p:nvSpPr>
            <p:spPr>
              <a:xfrm>
                <a:off x="5283000" y="5454000"/>
                <a:ext cx="1942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yOv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drawn with grad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5067000" y="5037840"/>
                <a:ext cx="431640" cy="41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483720" y="5176440"/>
              <a:ext cx="1583280" cy="789120"/>
              <a:chOff x="3483720" y="5176440"/>
              <a:chExt cx="1583280" cy="789120"/>
            </a:xfrm>
          </p:grpSpPr>
          <p:sp>
            <p:nvSpPr>
              <p:cNvPr id="113" name=""/>
              <p:cNvSpPr/>
              <p:nvPr/>
            </p:nvSpPr>
            <p:spPr>
              <a:xfrm>
                <a:off x="3483720" y="5384880"/>
                <a:ext cx="1583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yLin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rawn with grad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4131360" y="5176440"/>
                <a:ext cx="7200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5" name="application_overview_b" descr=""/>
            <p:cNvPicPr/>
            <p:nvPr/>
          </p:nvPicPr>
          <p:blipFill>
            <a:blip r:embed="rId2"/>
            <a:stretch/>
          </p:blipFill>
          <p:spPr>
            <a:xfrm>
              <a:off x="6794280" y="3927600"/>
              <a:ext cx="1511280" cy="128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7315200" y="2057400"/>
            <a:ext cx="1676520" cy="2057400"/>
            <a:chOff x="7315200" y="2057400"/>
            <a:chExt cx="1676520" cy="2057400"/>
          </a:xfrm>
        </p:grpSpPr>
        <p:sp>
          <p:nvSpPr>
            <p:cNvPr id="117" name=""/>
            <p:cNvSpPr/>
            <p:nvPr/>
          </p:nvSpPr>
          <p:spPr>
            <a:xfrm>
              <a:off x="7315200" y="2057400"/>
              <a:ext cx="1676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ZoomDialo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wing scaled draw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848720" y="28954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28600" y="601992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5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tel Drawing application showing randomly drawn shapes  (Exercise 5.8) and a ZoomDrawingView (Fig. 5.13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2-1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0-10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building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rserConfigurationException pars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rs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transforming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formerException transform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opening FileOutput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FileNotFoundException file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write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pen existing drawing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readFile( String file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shapes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llection of MyShapes read from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lection sha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BuilderFactory builderFactory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BuilderFactory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ilderFactory.setValidat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714640" y="3886200"/>
            <a:ext cx="2819520" cy="824040"/>
            <a:chOff x="5714640" y="3886200"/>
            <a:chExt cx="2819520" cy="824040"/>
          </a:xfrm>
        </p:grpSpPr>
        <p:sp>
          <p:nvSpPr>
            <p:cNvPr id="406" name=""/>
            <p:cNvSpPr/>
            <p:nvPr/>
          </p:nvSpPr>
          <p:spPr>
            <a:xfrm>
              <a:off x="6319440" y="3886200"/>
              <a:ext cx="2214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ad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oads a drawing from an XML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714640" y="41911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257440" y="5334120"/>
            <a:ext cx="3581280" cy="824040"/>
            <a:chOff x="5257440" y="5334120"/>
            <a:chExt cx="3581280" cy="824040"/>
          </a:xfrm>
        </p:grpSpPr>
        <p:sp>
          <p:nvSpPr>
            <p:cNvPr id="409" name=""/>
            <p:cNvSpPr/>
            <p:nvPr/>
          </p:nvSpPr>
          <p:spPr>
            <a:xfrm>
              <a:off x="6025680" y="5334120"/>
              <a:ext cx="2813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cumentBuil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parse the XML document with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257440" y="563868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5-11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Builder buil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uilderFactory.newDocumentBuil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 document = builder.pars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( fileNam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all shape elements in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deList list = document.getElementsByTag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MyShape from each shape element in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list.getLength(); i++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lement element = ( Element ) list.item( i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yShape shape = getShapeFromElement( element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apes.add( shape 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DocumentBuil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rserConfigurationException pars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rs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parsing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AXException sax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x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reading Document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715000" y="152280"/>
            <a:ext cx="3276720" cy="1447920"/>
            <a:chOff x="5715000" y="152280"/>
            <a:chExt cx="3276720" cy="1447920"/>
          </a:xfrm>
        </p:grpSpPr>
        <p:sp>
          <p:nvSpPr>
            <p:cNvPr id="414" name=""/>
            <p:cNvSpPr/>
            <p:nvPr/>
          </p:nvSpPr>
          <p:spPr>
            <a:xfrm>
              <a:off x="5715000" y="152280"/>
              <a:ext cx="3276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ElementsByTag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cu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in the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781320" y="12193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3520" y="685800"/>
            <a:ext cx="4027320" cy="1447920"/>
            <a:chOff x="533520" y="685800"/>
            <a:chExt cx="4027320" cy="1447920"/>
          </a:xfrm>
        </p:grpSpPr>
        <p:sp>
          <p:nvSpPr>
            <p:cNvPr id="417" name=""/>
            <p:cNvSpPr/>
            <p:nvPr/>
          </p:nvSpPr>
          <p:spPr>
            <a:xfrm>
              <a:off x="533520" y="685800"/>
              <a:ext cx="4027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 each sha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ShapeFrom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1523880"/>
              <a:ext cx="4572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657600" y="2438280"/>
            <a:ext cx="3048120" cy="580680"/>
            <a:chOff x="3657600" y="2438280"/>
            <a:chExt cx="3048120" cy="580680"/>
          </a:xfrm>
        </p:grpSpPr>
        <p:sp>
          <p:nvSpPr>
            <p:cNvPr id="420" name=""/>
            <p:cNvSpPr/>
            <p:nvPr/>
          </p:nvSpPr>
          <p:spPr>
            <a:xfrm>
              <a:off x="4311360" y="2438280"/>
              <a:ext cx="2394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shap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657600" y="274320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5-28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0-2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read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MyShape using properties specified in given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getShapeFromElement( Element ele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MyShape type (e.g., MyLine, MyRectangle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type = element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y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ppropriate MyShape subclass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L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Rectang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Rectang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Ov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Ov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MyText reference for setting MyText-specif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perties, including fontSize, text, etc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Text textShape  = ( MyText ) sha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text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tring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733560" y="1371600"/>
            <a:ext cx="5251680" cy="900360"/>
            <a:chOff x="3733560" y="1371600"/>
            <a:chExt cx="5251680" cy="900360"/>
          </a:xfrm>
        </p:grpSpPr>
        <p:sp>
          <p:nvSpPr>
            <p:cNvPr id="425" name=""/>
            <p:cNvSpPr/>
            <p:nvPr/>
          </p:nvSpPr>
          <p:spPr>
            <a:xfrm>
              <a:off x="5334120" y="1447920"/>
              <a:ext cx="365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ShapeFrom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ilds an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 instance for the given sha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3733560" y="1371600"/>
              <a:ext cx="1600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486400" y="5562720"/>
            <a:ext cx="2819520" cy="838080"/>
            <a:chOff x="5486400" y="5562720"/>
            <a:chExt cx="2819520" cy="838080"/>
          </a:xfrm>
        </p:grpSpPr>
        <p:sp>
          <p:nvSpPr>
            <p:cNvPr id="428" name=""/>
            <p:cNvSpPr/>
            <p:nvPr/>
          </p:nvSpPr>
          <p:spPr>
            <a:xfrm>
              <a:off x="6270480" y="5562720"/>
              <a:ext cx="2035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values specific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486400" y="5867280"/>
              <a:ext cx="784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0-2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Shape.setText( tex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fontSiz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Siz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ntSiz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Shape.setFontSize( font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fontNam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ontNam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tring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n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Shape.setFontName( fon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underlin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derlined = getBooleanValueFromChildElem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derli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Shape.setUnderlineSelected( underline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bol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ld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Boolean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Shape.setBoldSelected( bo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italic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alic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Boolean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tali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Shape.setItalicSelected( italic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876920" y="1371600"/>
            <a:ext cx="4168800" cy="4114800"/>
            <a:chOff x="4876920" y="1371600"/>
            <a:chExt cx="4168800" cy="4114800"/>
          </a:xfrm>
        </p:grpSpPr>
        <p:sp>
          <p:nvSpPr>
            <p:cNvPr id="433" name=""/>
            <p:cNvSpPr/>
            <p:nvPr/>
          </p:nvSpPr>
          <p:spPr>
            <a:xfrm>
              <a:off x="7010280" y="2971800"/>
              <a:ext cx="2035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values specific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4876920" y="1371600"/>
              <a:ext cx="213336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4876920" y="2514240"/>
              <a:ext cx="21333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632412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5028840" y="3276720"/>
              <a:ext cx="19810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5028840" y="3276720"/>
              <a:ext cx="198108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6-21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6-27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typ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Im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Im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MyImage reference for setting MyImage-specif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leNam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Image imageShape = ( MyImage ) sha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Name = getStringValueFromChildEl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Shape.setFileName( fil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properties common to all MyShapes, including x1, y1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x2, y2, startColor, endColor, etc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x1 and y1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1 =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1 =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Point1( x1, y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x2 and y2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2 =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2 =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Point2( x2, y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tartX and startY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X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StartPoint( startX, start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333760" y="685800"/>
            <a:ext cx="2819160" cy="838080"/>
            <a:chOff x="5333760" y="685800"/>
            <a:chExt cx="2819160" cy="838080"/>
          </a:xfrm>
        </p:grpSpPr>
        <p:sp>
          <p:nvSpPr>
            <p:cNvPr id="442" name=""/>
            <p:cNvSpPr/>
            <p:nvPr/>
          </p:nvSpPr>
          <p:spPr>
            <a:xfrm>
              <a:off x="6117840" y="685800"/>
              <a:ext cx="2035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values specific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333760" y="990360"/>
              <a:ext cx="783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019920" y="3581280"/>
            <a:ext cx="2949480" cy="2362320"/>
            <a:chOff x="6019920" y="3581280"/>
            <a:chExt cx="2949480" cy="2362320"/>
          </a:xfrm>
        </p:grpSpPr>
        <p:sp>
          <p:nvSpPr>
            <p:cNvPr id="445" name=""/>
            <p:cNvSpPr/>
            <p:nvPr/>
          </p:nvSpPr>
          <p:spPr>
            <a:xfrm>
              <a:off x="6781680" y="4343400"/>
              <a:ext cx="2187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values that apply to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6171840" y="3581280"/>
              <a:ext cx="6094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095520" y="4648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4648320"/>
              <a:ext cx="7617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endX and endY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X =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Y =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EndPoint( endX, end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tartColor and endColor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 startCol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olor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StartColor( start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 endCol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olor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EndColor( end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seGradient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radient = getBooleanValueFromChildElem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Grad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UseGradient( useGrad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trokeSiz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okeSize = getFloatValueFromChildEl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okeSiz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StrokeSize( strok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fill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Boolean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Filled( fil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419360" y="1066680"/>
            <a:ext cx="4626360" cy="5029200"/>
            <a:chOff x="4419360" y="1066680"/>
            <a:chExt cx="4626360" cy="5029200"/>
          </a:xfrm>
        </p:grpSpPr>
        <p:sp>
          <p:nvSpPr>
            <p:cNvPr id="452" name=""/>
            <p:cNvSpPr/>
            <p:nvPr/>
          </p:nvSpPr>
          <p:spPr>
            <a:xfrm>
              <a:off x="6858000" y="3276720"/>
              <a:ext cx="2187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values that apply to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4495680" y="1066680"/>
              <a:ext cx="236232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4495680" y="3048120"/>
              <a:ext cx="2362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72000" y="3505320"/>
              <a:ext cx="2286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4419360" y="2209320"/>
              <a:ext cx="243828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495680" y="3505320"/>
              <a:ext cx="2362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4419360" y="3505320"/>
              <a:ext cx="243828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5-29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9-29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9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1-3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ShapeFrom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nt value from child element with give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ntValueFromChildElement( Element paren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hildElement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odeList for Elements of given childElemen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List childNodes = parent.getElementsByTagNam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Elemen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ext Node from zeroth chil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 childTextNode = childNodes.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getFirstChi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rse int value from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.parseInt( childTextNode.getNodeValue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IntValueFromChild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loat value from child element with give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FloatValueFromChildEl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parent, String childElement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odeList for Elements of given childElemen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List childNodes = parent.getElementsByTagNam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Elemen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ext Node from zeroth chil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 childTextNode = childNodes.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getFirstChi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rse float value from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.parseFloat( childTextNode.getNodeValue()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800600" y="152280"/>
            <a:ext cx="4191120" cy="1219320"/>
            <a:chOff x="4800600" y="152280"/>
            <a:chExt cx="4191120" cy="1219320"/>
          </a:xfrm>
        </p:grpSpPr>
        <p:sp>
          <p:nvSpPr>
            <p:cNvPr id="462" name=""/>
            <p:cNvSpPr/>
            <p:nvPr/>
          </p:nvSpPr>
          <p:spPr>
            <a:xfrm>
              <a:off x="4800600" y="152280"/>
              <a:ext cx="419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IntValueFromChild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utility method for obtaining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 from a particular chil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630400" y="990720"/>
              <a:ext cx="1303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866920" y="1371600"/>
            <a:ext cx="3124440" cy="838080"/>
            <a:chOff x="5866920" y="1371600"/>
            <a:chExt cx="3124440" cy="838080"/>
          </a:xfrm>
        </p:grpSpPr>
        <p:sp>
          <p:nvSpPr>
            <p:cNvPr id="465" name=""/>
            <p:cNvSpPr/>
            <p:nvPr/>
          </p:nvSpPr>
          <p:spPr>
            <a:xfrm>
              <a:off x="6735960" y="1371600"/>
              <a:ext cx="2255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ode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Elements with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ildElemen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866920" y="1676160"/>
              <a:ext cx="8686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181480" y="1981080"/>
            <a:ext cx="3200040" cy="838080"/>
            <a:chOff x="5181480" y="1981080"/>
            <a:chExt cx="3200040" cy="838080"/>
          </a:xfrm>
        </p:grpSpPr>
        <p:sp>
          <p:nvSpPr>
            <p:cNvPr id="468" name=""/>
            <p:cNvSpPr/>
            <p:nvPr/>
          </p:nvSpPr>
          <p:spPr>
            <a:xfrm>
              <a:off x="6071400" y="1981080"/>
              <a:ext cx="2310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hild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181480" y="2285640"/>
              <a:ext cx="889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419720" y="2971800"/>
            <a:ext cx="4571640" cy="1219320"/>
            <a:chOff x="4419720" y="2971800"/>
            <a:chExt cx="4571640" cy="1219320"/>
          </a:xfrm>
        </p:grpSpPr>
        <p:sp>
          <p:nvSpPr>
            <p:cNvPr id="471" name=""/>
            <p:cNvSpPr/>
            <p:nvPr/>
          </p:nvSpPr>
          <p:spPr>
            <a:xfrm>
              <a:off x="4419720" y="2971800"/>
              <a:ext cx="4571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FloatValueFromChild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utility method for obtaining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 from a particular chil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325120" y="3810240"/>
              <a:ext cx="1422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17-34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FloatValueFromChild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boolean value from child element with give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ooleanValueFromChildEl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parent, String childElement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odeList for Elements of given childElemen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List childNodes = parent.getElementsByTagNam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Elemen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 childTextNode = childNodes.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getFirstChi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rse boolean value from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.valueOf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TextNode.getNodeValue() ).booleanValue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BooleanValueFromChild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ring value from child element with give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tringValueFromChildEl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parent, String childElement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odeList for Elements of given childElemen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List childNodes = parent.getElementsByTagNam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Elemen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ext Node from zeroth chil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 childTextNode = childNodes.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getFirstChi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String value of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ildTextNode.getNodeValue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StringValueFromChildElem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943240" y="914040"/>
            <a:ext cx="3034080" cy="2895840"/>
            <a:chOff x="5943240" y="914040"/>
            <a:chExt cx="3034080" cy="2895840"/>
          </a:xfrm>
        </p:grpSpPr>
        <p:sp>
          <p:nvSpPr>
            <p:cNvPr id="476" name=""/>
            <p:cNvSpPr/>
            <p:nvPr/>
          </p:nvSpPr>
          <p:spPr>
            <a:xfrm>
              <a:off x="7162920" y="2133720"/>
              <a:ext cx="1814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values of other data ty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943240" y="2438280"/>
              <a:ext cx="1219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>
              <a:off x="6019560" y="914040"/>
              <a:ext cx="11430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olor value from child element with give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ColorValueFromChildEl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parent, String childElement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odeList for Elements of given childElemen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List childNodes = parent.getElementsByTagNam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Elemen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zeroth chil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childElement = ( Element ) childNodes.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red, green and blue attribut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d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Element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en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Element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re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e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Element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Color for given red, green and blu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( red, green, blue )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ColorValueFromChild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638320" y="228600"/>
            <a:ext cx="2958120" cy="580680"/>
            <a:chOff x="5638320" y="228600"/>
            <a:chExt cx="2958120" cy="580680"/>
          </a:xfrm>
        </p:grpSpPr>
        <p:sp>
          <p:nvSpPr>
            <p:cNvPr id="482" name=""/>
            <p:cNvSpPr/>
            <p:nvPr/>
          </p:nvSpPr>
          <p:spPr>
            <a:xfrm>
              <a:off x="6781680" y="228600"/>
              <a:ext cx="1814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values of other data ty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5638320" y="533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1 Sample XML document generated by DrawingFileReaderWrit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coding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shapes SYSTEM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s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hap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hape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Lin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start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start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end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end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useGradi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Grad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rokeSiz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rokeSiz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il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il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sha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hape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Rectang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4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3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4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end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3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useGradi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Grad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rokeSiz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rokeSiz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il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il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ha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 Application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21" name="application_overview_c" descr=""/>
          <p:cNvPicPr/>
          <p:nvPr/>
        </p:nvPicPr>
        <p:blipFill>
          <a:blip r:embed="rId1"/>
          <a:stretch/>
        </p:blipFill>
        <p:spPr>
          <a:xfrm>
            <a:off x="1785960" y="1138320"/>
            <a:ext cx="5572080" cy="458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143080" y="5791320"/>
            <a:ext cx="459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5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-scale view of drawing from Fig. 5.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1 Sample XML document generated by DrawingFileReaderWrit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hape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Ova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useGradi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Grad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strokeSiz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rokeSiz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il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il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ha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hape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useGradi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Grad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start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rokeSiz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rokeSiz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il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il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ex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 to Deitel Drawing!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ex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ntSiz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ntSiz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nt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ansSeri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nt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underline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nderline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talic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talic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1 Sample XML document generated by DrawingFileReaderWrit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ha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hape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Ova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4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9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9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4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useGradi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Grad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1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rokeSiz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rokeSiz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il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il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sha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hap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5 Deitel Drawing View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rawin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d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interf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2 DrawingView class for displaying MyShapes in a DrawingModel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ingView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ingView is a view of a DrawingModel that draws shapes u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Java2D API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vie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View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el for which this is a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 drawing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DrawingView for given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View( DrawingModel 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 = 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background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ackground( Colo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able double buffering to reduce screen flick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oubleBuffer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2 DrawingView class for displaying MyShapes in a Drawing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-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0-6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6-8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DrawingModel for view to given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odel( DrawingModel mode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rawingModel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Model.deleteOb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 = model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view as observer of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del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del.addOb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pa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rawingModel associated with this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 get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aint view when update received from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( Observable observable, Object objec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pai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verridden paintComponent method for drawing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Component( Graphics 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l superclass paint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876560" y="228600"/>
            <a:ext cx="4115160" cy="1310760"/>
            <a:chOff x="4876560" y="228600"/>
            <a:chExt cx="4115160" cy="1310760"/>
          </a:xfrm>
        </p:grpSpPr>
        <p:sp>
          <p:nvSpPr>
            <p:cNvPr id="497" name=""/>
            <p:cNvSpPr/>
            <p:nvPr/>
          </p:nvSpPr>
          <p:spPr>
            <a:xfrm>
              <a:off x="5410080" y="228600"/>
              <a:ext cx="35816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irst remov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he exis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n register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876560" y="914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743200" y="4876560"/>
            <a:ext cx="4191120" cy="581040"/>
            <a:chOff x="2743200" y="4876560"/>
            <a:chExt cx="4191120" cy="581040"/>
          </a:xfrm>
        </p:grpSpPr>
        <p:sp>
          <p:nvSpPr>
            <p:cNvPr id="500" name=""/>
            <p:cNvSpPr/>
            <p:nvPr/>
          </p:nvSpPr>
          <p:spPr>
            <a:xfrm>
              <a:off x="3733920" y="48769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invoked each tim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hang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743200" y="487656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648320" y="5105520"/>
            <a:ext cx="4267080" cy="1310760"/>
            <a:chOff x="4648320" y="5105520"/>
            <a:chExt cx="4267080" cy="1310760"/>
          </a:xfrm>
        </p:grpSpPr>
        <p:sp>
          <p:nvSpPr>
            <p:cNvPr id="503" name=""/>
            <p:cNvSpPr/>
            <p:nvPr/>
          </p:nvSpPr>
          <p:spPr>
            <a:xfrm>
              <a:off x="5562720" y="5105520"/>
              <a:ext cx="33526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intCompon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figur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xt for high-quality, anti-aliased drawing and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sha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4648320" y="5791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2 DrawingView class for displaying MyShapes in a Drawing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7-9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Graphics2D object for given Graphic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2D = ( Graphics2D ) 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able anti-aliasing to smooth jagged li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setRenderingHint( RenderingHi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KEY_ANTIALIA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nderingHi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LUE_ANTIALIAS_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able high-quality rendering in Graphics2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setRenderingHint( RenderingHi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KEY_RENDE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nderingHi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LUE_RENDER_QUALIT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all shapes in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Shapes( g2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shapes in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Shapes( Graphics2D g2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erator for shapes in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drawingModel.getShapes(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each MyShape in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terator.hasNext() ) {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Shape shape = ( MyShape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.draw( g2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eferred size for this 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648320" y="2743200"/>
            <a:ext cx="3809880" cy="1067400"/>
            <a:chOff x="4648320" y="2743200"/>
            <a:chExt cx="3809880" cy="1067400"/>
          </a:xfrm>
        </p:grpSpPr>
        <p:sp>
          <p:nvSpPr>
            <p:cNvPr id="508" name=""/>
            <p:cNvSpPr/>
            <p:nvPr/>
          </p:nvSpPr>
          <p:spPr>
            <a:xfrm>
              <a:off x="5486400" y="274320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get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Collec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tained from th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648320" y="3276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2 DrawingView class for displaying MyShapes in a Drawing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9-123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ist on preferred size for this 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ist on preferred size for this 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ax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DrawingView as Observer of DrawingModel wh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ingView obtains screen 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Notif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addNotify(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.addOb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DrawingView as Observer of DrawingModel wh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ingView loses screen 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Notif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removeNotify(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.deleteOb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124080" y="2895120"/>
            <a:ext cx="5943600" cy="1448280"/>
            <a:chOff x="3124080" y="2895120"/>
            <a:chExt cx="5943600" cy="1448280"/>
          </a:xfrm>
        </p:grpSpPr>
        <p:sp>
          <p:nvSpPr>
            <p:cNvPr id="513" name=""/>
            <p:cNvSpPr/>
            <p:nvPr/>
          </p:nvSpPr>
          <p:spPr>
            <a:xfrm>
              <a:off x="4495680" y="3124080"/>
              <a:ext cx="4572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Notif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veNotif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and dele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n Observer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tains and discards its screen resources, respective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3124080" y="289512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352320" y="358128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3 ZoomDrawingView subclass of DrawingView for displaying scaled MyShapes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ZoomDrawingView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ZoomDrawingView is a subclass of DrawingView that sc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view of the drawing using the given scale fact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vie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rawingView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View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actor for scaling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leFactor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leFac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orm for scaling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ffineTransform scaleTransfor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ZoomDrawingView with given model and defa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cale fa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rawingView( DrawingModel 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odel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ZoomDrawingView with given model and scale fa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rawingView( DrawingModel model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odel, scale, sca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3 ZoomDrawingView subclass of DrawingView for displaying scaled MyShap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6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8-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ZoomDrawingView with given model and sepa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x and y scale fa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rawingView( DrawingModel model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leX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le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l DrawingView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cale factor for this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caleFactors( scaleX, scale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isten for component resize events to adjust sca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Component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onentAdapter(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when view is resized, update scale fa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onentResized( Component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getSize().wid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getSize().he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calculate new scale fa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X = width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Y = height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tScaleFactors( factorX, factor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ZoomDrawingView con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4038120" y="838080"/>
            <a:ext cx="4725000" cy="1143720"/>
            <a:chOff x="4038120" y="838080"/>
            <a:chExt cx="4725000" cy="1143720"/>
          </a:xfrm>
        </p:grpSpPr>
        <p:sp>
          <p:nvSpPr>
            <p:cNvPr id="521" name=""/>
            <p:cNvSpPr/>
            <p:nvPr/>
          </p:nvSpPr>
          <p:spPr>
            <a:xfrm>
              <a:off x="5256360" y="914400"/>
              <a:ext cx="3506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as argument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he factors by whic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ffineTrans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uld scale points along the x- and y-ax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4038120" y="838080"/>
              <a:ext cx="12178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038480" y="2133720"/>
            <a:ext cx="3657240" cy="824040"/>
            <a:chOff x="4038480" y="2133720"/>
            <a:chExt cx="3657240" cy="824040"/>
          </a:xfrm>
        </p:grpSpPr>
        <p:sp>
          <p:nvSpPr>
            <p:cNvPr id="524" name=""/>
            <p:cNvSpPr/>
            <p:nvPr/>
          </p:nvSpPr>
          <p:spPr>
            <a:xfrm>
              <a:off x="4842720" y="2133720"/>
              <a:ext cx="2853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ponen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onymous inner clas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Zoom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4038480" y="2666880"/>
              <a:ext cx="80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3 ZoomDrawingView subclass of DrawingView for displaying scaled MyShap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0-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0-8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7-8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shapes using scaled Graphics2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Shapes( Graphics2D g2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Graphics2D object trans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setTransform( scaleTransfor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shapes on scaled Graphics2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drawShapes( g2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cale factors for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caleFactor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le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le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cale fa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aleFactorX = scal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aleFactorY = scal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ffineTransform with given scale fa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aleTransform = AffineTransform.getScaleInstan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caleFactorX, scaleFactor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eferred size for this 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ault size is 320 x 240; scale using scaleFa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scaleFactorX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scaleFactorY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572000" y="76320"/>
            <a:ext cx="3809880" cy="824040"/>
            <a:chOff x="4572000" y="76320"/>
            <a:chExt cx="3809880" cy="824040"/>
          </a:xfrm>
        </p:grpSpPr>
        <p:sp>
          <p:nvSpPr>
            <p:cNvPr id="529" name=""/>
            <p:cNvSpPr/>
            <p:nvPr/>
          </p:nvSpPr>
          <p:spPr>
            <a:xfrm>
              <a:off x="5410080" y="7632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verrid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572000" y="6094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419720" y="533520"/>
            <a:ext cx="4647960" cy="1067400"/>
            <a:chOff x="4419720" y="533520"/>
            <a:chExt cx="4647960" cy="1067400"/>
          </a:xfrm>
        </p:grpSpPr>
        <p:sp>
          <p:nvSpPr>
            <p:cNvPr id="532" name=""/>
            <p:cNvSpPr/>
            <p:nvPr/>
          </p:nvSpPr>
          <p:spPr>
            <a:xfrm>
              <a:off x="5181480" y="533520"/>
              <a:ext cx="3886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Trans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a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use the provid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ffineTrans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cale the draw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419720" y="1066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504960" y="2514240"/>
            <a:ext cx="5410440" cy="581040"/>
            <a:chOff x="3504960" y="2514240"/>
            <a:chExt cx="5410440" cy="581040"/>
          </a:xfrm>
        </p:grpSpPr>
        <p:sp>
          <p:nvSpPr>
            <p:cNvPr id="535" name=""/>
            <p:cNvSpPr/>
            <p:nvPr/>
          </p:nvSpPr>
          <p:spPr>
            <a:xfrm>
              <a:off x="4114800" y="2514600"/>
              <a:ext cx="4800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ScaleFacto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s the scale factors to use for the x- and y-ax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3504960" y="251424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4190760" y="3809520"/>
            <a:ext cx="4572360" cy="581040"/>
            <a:chOff x="4190760" y="3809520"/>
            <a:chExt cx="4572360" cy="581040"/>
          </a:xfrm>
        </p:grpSpPr>
        <p:sp>
          <p:nvSpPr>
            <p:cNvPr id="538" name=""/>
            <p:cNvSpPr/>
            <p:nvPr/>
          </p:nvSpPr>
          <p:spPr>
            <a:xfrm>
              <a:off x="4800600" y="3809880"/>
              <a:ext cx="3962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ffineTrans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s to scale the draw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4190760" y="3809520"/>
              <a:ext cx="579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yShap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ot of the shape-class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Rect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3 ZoomDrawingView subclass of DrawingView for displaying scaled MyShap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zoom_a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1600200" cy="1409760"/>
          </a:xfrm>
          <a:prstGeom prst="rect">
            <a:avLst/>
          </a:prstGeom>
          <a:ln w="0">
            <a:noFill/>
          </a:ln>
        </p:spPr>
      </p:pic>
      <p:pic>
        <p:nvPicPr>
          <p:cNvPr id="542" name="zoom_b" descr=""/>
          <p:cNvPicPr/>
          <p:nvPr/>
        </p:nvPicPr>
        <p:blipFill>
          <a:blip r:embed="rId2"/>
          <a:stretch/>
        </p:blipFill>
        <p:spPr>
          <a:xfrm>
            <a:off x="3276720" y="1066680"/>
            <a:ext cx="3257280" cy="1409760"/>
          </a:xfrm>
          <a:prstGeom prst="rect">
            <a:avLst/>
          </a:prstGeom>
          <a:ln w="0">
            <a:noFill/>
          </a:ln>
        </p:spPr>
      </p:pic>
      <p:pic>
        <p:nvPicPr>
          <p:cNvPr id="543" name="zoom_c" descr=""/>
          <p:cNvPicPr/>
          <p:nvPr/>
        </p:nvPicPr>
        <p:blipFill>
          <a:blip r:embed="rId3"/>
          <a:stretch/>
        </p:blipFill>
        <p:spPr>
          <a:xfrm>
            <a:off x="1523880" y="3200400"/>
            <a:ext cx="1105200" cy="2762280"/>
          </a:xfrm>
          <a:prstGeom prst="rect">
            <a:avLst/>
          </a:prstGeom>
          <a:ln w="0">
            <a:noFill/>
          </a:ln>
        </p:spPr>
      </p:pic>
      <p:pic>
        <p:nvPicPr>
          <p:cNvPr id="544" name="zoom_d" descr=""/>
          <p:cNvPicPr/>
          <p:nvPr/>
        </p:nvPicPr>
        <p:blipFill>
          <a:blip r:embed="rId4"/>
          <a:stretch/>
        </p:blipFill>
        <p:spPr>
          <a:xfrm>
            <a:off x="3581280" y="3048120"/>
            <a:ext cx="272412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 Deitel Drawing Controller Log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contro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hapeContro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gAndDropContro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.1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yShapeController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for Processing User In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input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use (primary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4 MyShapeController abstract base class for controllers that handle mouse inpu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ShapeControl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ShapeController is an abstract base class that repres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controller for painting shap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 drawing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mary and secondary Colors for drawing and grad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primaryColor = Color.bl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secondaryColor = Color.whi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ass object for creating new MyShape-subclass inst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 shapeCla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mmon MyShape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rad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oke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dicates whether the user has specified drag mode;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ue, MyShapeController should ignore mous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Mod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Listener mouse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MotionListener mouseMotion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4 MyShapeController abstract base class for controllers that handle mouse inpu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8-6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yShapeControll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( DrawingModel model,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la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DrawingModel to contro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 = mode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yShape sub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Class = myShapeCla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isten for mous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use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hen mouse button pressed, create new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Pressed( Mouse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f not in dragMode, start new shape 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iven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dragMod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artShape( event.getX(), event.get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hen mouse button released, set shape's fina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Released( Mouse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f not in dragMode, finish drawing current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dragMod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ndShape( event.getX(), event.get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724280" y="1981080"/>
            <a:ext cx="3581280" cy="824040"/>
            <a:chOff x="4724280" y="1981080"/>
            <a:chExt cx="3581280" cy="824040"/>
          </a:xfrm>
        </p:grpSpPr>
        <p:sp>
          <p:nvSpPr>
            <p:cNvPr id="554" name=""/>
            <p:cNvSpPr/>
            <p:nvPr/>
          </p:nvSpPr>
          <p:spPr>
            <a:xfrm>
              <a:off x="5311080" y="1981080"/>
              <a:ext cx="2994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us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listen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usePress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useReleas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v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4724280" y="2514240"/>
              <a:ext cx="5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867280" y="3429000"/>
            <a:ext cx="2895480" cy="824040"/>
            <a:chOff x="5867280" y="3429000"/>
            <a:chExt cx="2895480" cy="824040"/>
          </a:xfrm>
        </p:grpSpPr>
        <p:sp>
          <p:nvSpPr>
            <p:cNvPr id="557" name=""/>
            <p:cNvSpPr/>
            <p:nvPr/>
          </p:nvSpPr>
          <p:spPr>
            <a:xfrm>
              <a:off x="6342840" y="3429000"/>
              <a:ext cx="2419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s drawing a new shape at the location where the mouse press occurred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867280" y="3962160"/>
              <a:ext cx="47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638680" y="5105520"/>
            <a:ext cx="2971440" cy="824040"/>
            <a:chOff x="5638680" y="5105520"/>
            <a:chExt cx="2971440" cy="824040"/>
          </a:xfrm>
        </p:grpSpPr>
        <p:sp>
          <p:nvSpPr>
            <p:cNvPr id="560" name=""/>
            <p:cNvSpPr/>
            <p:nvPr/>
          </p:nvSpPr>
          <p:spPr>
            <a:xfrm>
              <a:off x="6125400" y="5105520"/>
              <a:ext cx="2484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d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mplete the currently drawn sha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638680" y="5638680"/>
              <a:ext cx="48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4 MyShapeController abstract base class for controllers that handle mouse inpu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0-8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isten for mouse motion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useMotion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Motion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hen mouse is dragged, set coordinates for curr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hape's Point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Dragged( Mouse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f not in dragMode, modify current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dragMod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odifyShape( event.getX(), event.get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yShapeControll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imary color (start color for gradien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imaryColor( Color colo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maryColor = colo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imary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PrimaryCol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mary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condary color (end color for gradient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condaryColor( Color col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condaryColor = colo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962160" y="2133360"/>
            <a:ext cx="4953240" cy="1143720"/>
            <a:chOff x="3962160" y="2133360"/>
            <a:chExt cx="4953240" cy="1143720"/>
          </a:xfrm>
        </p:grpSpPr>
        <p:sp>
          <p:nvSpPr>
            <p:cNvPr id="565" name=""/>
            <p:cNvSpPr/>
            <p:nvPr/>
          </p:nvSpPr>
          <p:spPr>
            <a:xfrm>
              <a:off x="5538960" y="2209680"/>
              <a:ext cx="3376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 the user drags the mouse,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useMo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dif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modify the shape currently being draw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3962160" y="2133360"/>
              <a:ext cx="1576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4 MyShapeController abstract base class for controllers that handle mouse inpu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condary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SecondaryCol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ary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ll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hapeFil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lShape = fil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hape fi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hapeFille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Sha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gradient when paint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UseGrad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Gradient = gradie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use grad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UseGradi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rad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drag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DragM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gMode = drag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4 MyShapeController abstract base class for controllers that handle mouse inpu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1-18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5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troke size for li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rokeSiz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ok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okeSize = strok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roke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troke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okeSiz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instance of current MyShape sub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createNewShap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instance of current MyShape sub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Shape shape = ( MyShape ) shapeClass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MyShape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.setFilled( fill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.setUseGradient( useGrad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.setStrokeSize( getStroke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.setStartColor( getPrimaryColo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.setEndColor( getSecondaryColo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reference to newly created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stantiat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tiationException instance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stance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114800" y="2362320"/>
            <a:ext cx="4191120" cy="1067400"/>
            <a:chOff x="4114800" y="2362320"/>
            <a:chExt cx="4191120" cy="1067400"/>
          </a:xfrm>
        </p:grpSpPr>
        <p:sp>
          <p:nvSpPr>
            <p:cNvPr id="572" name=""/>
            <p:cNvSpPr/>
            <p:nvPr/>
          </p:nvSpPr>
          <p:spPr>
            <a:xfrm>
              <a:off x="4801680" y="2362320"/>
              <a:ext cx="3504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New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S Java’s reflection mechanism to create new instanc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es as the user adds new shapes to a draw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114800" y="2895480"/>
              <a:ext cx="68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733560" y="3733560"/>
            <a:ext cx="4953240" cy="900360"/>
            <a:chOff x="3733560" y="3733560"/>
            <a:chExt cx="4953240" cy="900360"/>
          </a:xfrm>
        </p:grpSpPr>
        <p:sp>
          <p:nvSpPr>
            <p:cNvPr id="575" name=""/>
            <p:cNvSpPr/>
            <p:nvPr/>
          </p:nvSpPr>
          <p:spPr>
            <a:xfrm>
              <a:off x="5310360" y="3809880"/>
              <a:ext cx="3376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ewInst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a new instance of the specifi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 flipV="1">
              <a:off x="3733560" y="3733560"/>
              <a:ext cx="1576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4 MyShapeController abstract base class for controllers that handle mouse inpu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access exception instantiat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llegalAccessException access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ccess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New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ShapeController's Mous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Listener getMouseListe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ShapeController's MouseMo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MotionListener getMouseMotionListe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Motion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given shape to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ShapeToModel( MyShape shap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.addShape( 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given shape from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ShapeFromModel( MyShape shap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.removeShape( 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4 MyShapeController abstract base class for controllers that handle mouse inpu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7-2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new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current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ish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334120" y="533160"/>
            <a:ext cx="3654360" cy="1143360"/>
            <a:chOff x="5334120" y="533160"/>
            <a:chExt cx="3654360" cy="1143360"/>
          </a:xfrm>
        </p:grpSpPr>
        <p:sp>
          <p:nvSpPr>
            <p:cNvPr id="582" name=""/>
            <p:cNvSpPr/>
            <p:nvPr/>
          </p:nvSpPr>
          <p:spPr>
            <a:xfrm>
              <a:off x="6248520" y="685800"/>
              <a:ext cx="2739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abstract methods that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 must imp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5486040" y="1066680"/>
              <a:ext cx="76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5334120" y="533160"/>
              <a:ext cx="914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5334120" y="1066680"/>
              <a:ext cx="9144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35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Shap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Shape is an abstract base class that represents a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be drawn in the DeitelDrawing applic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Point2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yShape properties (coordinates, colors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y1, x2, y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X, startY, endX, end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startColor = Color.bl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endColor = Color.whi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okeSiz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oke currentStrok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 coordinate of left cor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LeftX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1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y coordinate of left cor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Lef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1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7760" y="5029200"/>
            <a:ext cx="4572360" cy="1067400"/>
            <a:chOff x="3047760" y="5029200"/>
            <a:chExt cx="4572360" cy="1067400"/>
          </a:xfrm>
        </p:grpSpPr>
        <p:sp>
          <p:nvSpPr>
            <p:cNvPr id="128" name=""/>
            <p:cNvSpPr/>
            <p:nvPr/>
          </p:nvSpPr>
          <p:spPr>
            <a:xfrm>
              <a:off x="5105520" y="502920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Lef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Left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 the x- and y-coordinat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-most poi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3047760" y="5029200"/>
              <a:ext cx="2057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47760" y="5562720"/>
              <a:ext cx="2057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5 BoundedShapeController MyShapeController subclass for controlling MyLines, MyOvals and MyRectang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-3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oundedShapeControl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oundedShapeController is a MyShapeController subclass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tangle-bounded shapes, such as MyOvals and MyRectangl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edShapeControl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currentSha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oundedShapeControll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edShapeControll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 model, Class shapeCla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odel, shape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draw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ew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hape = createNewShap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urrentShap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location of shape in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Shape.setPoint1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Shape.setPoint2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Shape.setStartPoint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newly created shape to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ShapeToModel( current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343400" y="4190760"/>
            <a:ext cx="4800600" cy="2362320"/>
            <a:chOff x="4343400" y="4190760"/>
            <a:chExt cx="4800600" cy="2362320"/>
          </a:xfrm>
        </p:grpSpPr>
        <p:sp>
          <p:nvSpPr>
            <p:cNvPr id="589" name=""/>
            <p:cNvSpPr/>
            <p:nvPr/>
          </p:nvSpPr>
          <p:spPr>
            <a:xfrm>
              <a:off x="5640480" y="4952880"/>
              <a:ext cx="35035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rt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new instance of the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, se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position on the drawing and ad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4419720" y="4190760"/>
              <a:ext cx="121896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4343400" y="5715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4495320" y="571500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5 BoundedShapeController MyShapeController subclass for controlling MyLines, MyOvals and MyRectang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0-59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shape currently being dra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shape from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moveShapeFromModel( currentShape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hape.setEndPoint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X = currentShape.getStart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Y = currentShape.getStar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Point1 to upper-left coordinates of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hape.setPoint1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th.min( x, startX ), Math.min( y, startY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Point2 to lower right coordinates of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hape.setPoint2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th.max( x, startX ), Math.max( y, startY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hape back into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ShapeToModel( currentShape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ish draw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difyShape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962520" y="1142640"/>
            <a:ext cx="4998960" cy="3277080"/>
            <a:chOff x="3962520" y="1142640"/>
            <a:chExt cx="4998960" cy="3277080"/>
          </a:xfrm>
        </p:grpSpPr>
        <p:sp>
          <p:nvSpPr>
            <p:cNvPr id="596" name=""/>
            <p:cNvSpPr/>
            <p:nvPr/>
          </p:nvSpPr>
          <p:spPr>
            <a:xfrm>
              <a:off x="6172200" y="2057400"/>
              <a:ext cx="27892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dif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v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rrent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updat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rrent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various point properties with new coordinates and ad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rrent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4571640" y="1142640"/>
              <a:ext cx="16002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3962520" y="2895120"/>
              <a:ext cx="2209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4267080" y="3124080"/>
              <a:ext cx="1905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962520" y="3124080"/>
              <a:ext cx="22096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6 MyLineController MyShapeController subclass for drawing MyLines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LineControl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LineController is a MyShapeController subclass for MyLin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LineControl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currentSha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yLineControll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LineController( DrawingModel model, Class shapeCla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odel, shape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drawing new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hape = createNewShap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urrentShap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location of shape in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Shape.setPoint1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Shape.setPoint2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Shape.setStartPoint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newly created shape to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ShapeToModel( current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4419720" y="3276720"/>
            <a:ext cx="3809520" cy="580680"/>
            <a:chOff x="4419720" y="3276720"/>
            <a:chExt cx="3809520" cy="580680"/>
          </a:xfrm>
        </p:grpSpPr>
        <p:sp>
          <p:nvSpPr>
            <p:cNvPr id="604" name=""/>
            <p:cNvSpPr/>
            <p:nvPr/>
          </p:nvSpPr>
          <p:spPr>
            <a:xfrm>
              <a:off x="5043960" y="3276720"/>
              <a:ext cx="3185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rt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419720" y="380988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6 MyLineController MyShapeController subclass for drawing MyLin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tart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shape currently being dra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shape from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moveShapeFromModel( current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hape.setEndPoint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X = currentShape.getStart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Y = currentShape.getStar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current ( x, y ) to Point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hape.setPoint1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Point2 to Start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hape.setPoint2( startX, start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hape back into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ShapeToModel( currentShape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ish draw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difyShape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572000" y="380880"/>
            <a:ext cx="3809520" cy="580680"/>
            <a:chOff x="4572000" y="380880"/>
            <a:chExt cx="3809520" cy="580680"/>
          </a:xfrm>
        </p:grpSpPr>
        <p:sp>
          <p:nvSpPr>
            <p:cNvPr id="609" name=""/>
            <p:cNvSpPr/>
            <p:nvPr/>
          </p:nvSpPr>
          <p:spPr>
            <a:xfrm>
              <a:off x="5196240" y="380880"/>
              <a:ext cx="3185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dif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4572000" y="91404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4343400" y="4038480"/>
            <a:ext cx="3809520" cy="580680"/>
            <a:chOff x="4343400" y="4038480"/>
            <a:chExt cx="3809520" cy="580680"/>
          </a:xfrm>
        </p:grpSpPr>
        <p:sp>
          <p:nvSpPr>
            <p:cNvPr id="612" name=""/>
            <p:cNvSpPr/>
            <p:nvPr/>
          </p:nvSpPr>
          <p:spPr>
            <a:xfrm>
              <a:off x="4967640" y="4038480"/>
              <a:ext cx="3185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d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4343400" y="457164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7 MyTextController MyShapeController subclass for adding MyText instances to a drawin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TextControl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TextController is a MyShapeController subclass for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Text objec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TextControl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yTextControll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TextController( DrawingModel model, Class shapeCla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superclass constructor; always use MyText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odel, MyTex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drawing MyTex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MyText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Text current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yText's Point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Text.setPoint1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495320" y="5562720"/>
            <a:ext cx="4420080" cy="609480"/>
            <a:chOff x="4495320" y="5562720"/>
            <a:chExt cx="4420080" cy="609480"/>
          </a:xfrm>
        </p:grpSpPr>
        <p:sp>
          <p:nvSpPr>
            <p:cNvPr id="617" name=""/>
            <p:cNvSpPr/>
            <p:nvPr/>
          </p:nvSpPr>
          <p:spPr>
            <a:xfrm>
              <a:off x="5257800" y="556272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sets its coordinates to the given x, y coordinat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flipV="1">
              <a:off x="4495320" y="563832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4495320" y="58672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7 MyTextController MyShapeController subclass for adding MyText instances to a drawin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6-4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7-68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extInputPanel to get text and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InputPanel inpu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Input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TextInputPanel in JOption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text = JOptionPane.showInput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provided text is not null or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ex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text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yText properties (bold, italic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Text.setBoldSelec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Panel.boldSelecte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Text.setItalicSelec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Panel.italicSelecte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Text.setUnderlineSelec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Panel.underlineSelected(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Text.setFont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Panel.getSelectedFon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Text.setFontSiz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Panel.getSelectedFont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Text.setColor( getPrimaryColo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yText's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Text.setText( text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MyText object to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ShapeToModel( currentText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715000" y="152280"/>
            <a:ext cx="2743200" cy="824040"/>
            <a:chOff x="5715000" y="152280"/>
            <a:chExt cx="2743200" cy="824040"/>
          </a:xfrm>
        </p:grpSpPr>
        <p:sp>
          <p:nvSpPr>
            <p:cNvPr id="623" name=""/>
            <p:cNvSpPr/>
            <p:nvPr/>
          </p:nvSpPr>
          <p:spPr>
            <a:xfrm>
              <a:off x="6164280" y="152280"/>
              <a:ext cx="2293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extInput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user entering the text and its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5715000" y="53352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3885840" y="2590920"/>
            <a:ext cx="4877280" cy="3809880"/>
            <a:chOff x="3885840" y="2590920"/>
            <a:chExt cx="4877280" cy="3809880"/>
          </a:xfrm>
        </p:grpSpPr>
        <p:sp>
          <p:nvSpPr>
            <p:cNvPr id="626" name=""/>
            <p:cNvSpPr/>
            <p:nvPr/>
          </p:nvSpPr>
          <p:spPr>
            <a:xfrm>
              <a:off x="6477120" y="388620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’s properties and ad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4191120" y="2590920"/>
              <a:ext cx="22860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4038480" y="4114440"/>
              <a:ext cx="2438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4038480" y="4419720"/>
              <a:ext cx="2438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4191120" y="3123720"/>
              <a:ext cx="22860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4266720" y="3657240"/>
              <a:ext cx="22100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648320" y="4419720"/>
              <a:ext cx="18288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3885840" y="4419720"/>
              <a:ext cx="25909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4114800" y="4419720"/>
              <a:ext cx="2362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7 MyTextController MyShapeController subclass for adding MyText instances to a drawin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8-148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shape currently being dra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ish draw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Panel with components for inputting MyText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InputPan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 boldCheckBo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 italicCheckBo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 underlineCheckBo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 fontComboBo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 fontSizeComboBox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xtInput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InputPane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ldCheck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alicCheck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tali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derlineCheck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derl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ComboBox for selecting F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Combo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nsSerif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ComboBox for selecting Font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8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.addItem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22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790960" y="1447920"/>
            <a:ext cx="2895480" cy="1310760"/>
            <a:chOff x="5790960" y="1447920"/>
            <a:chExt cx="2895480" cy="1310760"/>
          </a:xfrm>
        </p:grpSpPr>
        <p:sp>
          <p:nvSpPr>
            <p:cNvPr id="638" name=""/>
            <p:cNvSpPr/>
            <p:nvPr/>
          </p:nvSpPr>
          <p:spPr>
            <a:xfrm>
              <a:off x="6265440" y="1447920"/>
              <a:ext cx="24210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Controlle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static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extInput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esent a GUI for set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790960" y="1828800"/>
              <a:ext cx="47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7 MyTextController MyShapeController subclass for adding MyText instances to a draw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6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8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7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boldCheck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italicCheck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underlineCheck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fontCombo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fontSizeCombo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ol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ldSelecte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ldCheckBox.isSelect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alic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alicSelecte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alicCheckBox.isSelect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nderlin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derlineSelecte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derlineCheckBox.isSelect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font nam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electedFon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ComboBox.getSelectedItem(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7 MyTextController MyShapeController subclass for adding MyText instances to a draw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font siz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lectedFont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ontSizeComboBox.getSelectedItem()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yShapeControlle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Factory Method Design Patter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 new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Shape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ctory Method design patt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ton design patt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4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0-5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2-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 coordinate of right cor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ightX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2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y coordinate of right cor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igh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2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Shape wid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Width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.abs( getX1() - getX2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Shape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eigh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.abs( getY1() - getY2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oint1's  x and y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oint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x1 =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y1 =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048120" y="838080"/>
            <a:ext cx="4800240" cy="1067400"/>
            <a:chOff x="3048120" y="838080"/>
            <a:chExt cx="4800240" cy="1067400"/>
          </a:xfrm>
        </p:grpSpPr>
        <p:sp>
          <p:nvSpPr>
            <p:cNvPr id="134" name=""/>
            <p:cNvSpPr/>
            <p:nvPr/>
          </p:nvSpPr>
          <p:spPr>
            <a:xfrm>
              <a:off x="5208120" y="838080"/>
              <a:ext cx="2640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Righ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Right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 the x- and y-coordinat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-most poi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3048120" y="838080"/>
              <a:ext cx="2160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48120" y="1371600"/>
              <a:ext cx="2160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352680" y="2895480"/>
            <a:ext cx="5639040" cy="990720"/>
            <a:chOff x="3352680" y="2895480"/>
            <a:chExt cx="5639040" cy="990720"/>
          </a:xfrm>
        </p:grpSpPr>
        <p:sp>
          <p:nvSpPr>
            <p:cNvPr id="138" name=""/>
            <p:cNvSpPr/>
            <p:nvPr/>
          </p:nvSpPr>
          <p:spPr>
            <a:xfrm>
              <a:off x="5257800" y="3048120"/>
              <a:ext cx="3733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Wid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He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 the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ah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width and height as calculated from the shape’s coordin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3352680" y="2895480"/>
              <a:ext cx="1905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352680" y="3429000"/>
              <a:ext cx="1905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343400" y="4800600"/>
            <a:ext cx="2666520" cy="580680"/>
            <a:chOff x="4343400" y="4800600"/>
            <a:chExt cx="2666520" cy="580680"/>
          </a:xfrm>
        </p:grpSpPr>
        <p:sp>
          <p:nvSpPr>
            <p:cNvPr id="142" name=""/>
            <p:cNvSpPr/>
            <p:nvPr/>
          </p:nvSpPr>
          <p:spPr>
            <a:xfrm>
              <a:off x="4914360" y="4800600"/>
              <a:ext cx="2095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ify the shape’s x- and y-coordin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343400" y="510552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8 MyShapeControllerFactory class for creating appropriate MyShapeController for given MyShape typ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7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3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ShapeControllerFactor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ShapeControllerFactory uses the Factory Method desig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ttern to create an appropriate instance of MyShapeContro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the given MyShape subclass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Factor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ACTORY_PROPERTY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ShapeControllerFac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supportedShape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L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Rectang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Ov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 to Singleton MyShapeControll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Factory fac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yShapeControllerFactor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Factory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Singleton instance of MyShapeControll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Factory getInstan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factory is null, create new MyShapeControll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actory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System property that contains the 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as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actoryClass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getProper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ACTORY_PROPERTY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5410080" y="3429000"/>
            <a:ext cx="3581640" cy="1523880"/>
            <a:chOff x="5410080" y="3429000"/>
            <a:chExt cx="3581640" cy="1523880"/>
          </a:xfrm>
        </p:grpSpPr>
        <p:sp>
          <p:nvSpPr>
            <p:cNvPr id="649" name=""/>
            <p:cNvSpPr/>
            <p:nvPr/>
          </p:nvSpPr>
          <p:spPr>
            <a:xfrm>
              <a:off x="5410080" y="3429000"/>
              <a:ext cx="3581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s that requir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 instance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n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Inst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Singleton ins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6324480" y="4495680"/>
              <a:ext cx="1067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4800600" y="4267080"/>
            <a:ext cx="4114800" cy="1981440"/>
            <a:chOff x="4800600" y="4267080"/>
            <a:chExt cx="4114800" cy="1981440"/>
          </a:xfrm>
        </p:grpSpPr>
        <p:sp>
          <p:nvSpPr>
            <p:cNvPr id="652" name=""/>
            <p:cNvSpPr/>
            <p:nvPr/>
          </p:nvSpPr>
          <p:spPr>
            <a:xfrm>
              <a:off x="4800600" y="4267080"/>
              <a:ext cx="41148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a system property whose value specifies from which particula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Inst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uld instanti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876920" y="5562720"/>
              <a:ext cx="2209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8 MyShapeControllerFactory class for creating appropriate MyShapeController for given MyShape typ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the System property is not set, create a n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stance of the default MyShapeControll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actoryClass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actor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Facto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 new MyShapeControllerFactory using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ass name provided in the System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MyShapeControllerFactory subclass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actory = ( MyShapeControllerFactor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lass.forName( factoryClassName ).newInstance(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loading instantia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assNotFoundException clas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las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instantiating 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tia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if no access to specified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llegalAccessException acces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cces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y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8 MyShapeControllerFactory class for creating appropriate MyShapeController for given MyShape typ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3-85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MyShapeController subclass instance for giv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itable for controlling given MyShape subclass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 newMyShapeControll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 model, String shapeClass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lass instance for given class name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appropriate MyShapeContro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lass object for selected MyShape sub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 shapeClass = Class.for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yShap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Package().getNam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apeClass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appropriate controller for MyShape sub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apeClassNam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L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LineController( model, shape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apeClassNam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TextController( model, shape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edShapeController( model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hape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MyShape derived clas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assNotFoundException clas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5333760" y="2133720"/>
            <a:ext cx="3124080" cy="1067400"/>
            <a:chOff x="5333760" y="2133720"/>
            <a:chExt cx="3124080" cy="1067400"/>
          </a:xfrm>
        </p:grpSpPr>
        <p:sp>
          <p:nvSpPr>
            <p:cNvPr id="659" name=""/>
            <p:cNvSpPr/>
            <p:nvPr/>
          </p:nvSpPr>
          <p:spPr>
            <a:xfrm>
              <a:off x="5845680" y="2133720"/>
              <a:ext cx="2612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333760" y="2514600"/>
              <a:ext cx="51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8 MyShapeControllerFactory class for creating appropriate MyShapeController for given MyShape typ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newMyShapeController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ring array of MyShape subclass names for which th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actory can create MyShapeControll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getSupportedShape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pportedShapes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.3 Drag-and-Drop Controll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two types of drag-and-drop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g-and-drop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g-and-drop JPEG im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g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gGestureRecogniz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gGesture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opTar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fer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gAndDropControl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gAndDropController is a controller for handling drag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op in DeitelDrawing. DragAndDropController imp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gGestureListener and DragSourceListener to handle dr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vents and DropTargetListener to handle drop ev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dn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datatransf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AndDropControl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GestureListen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ragSourceListener, DropTarge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el to contro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 drawingModel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Mod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gAndDropControll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AndDropController( DrawingModel mode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 = 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1-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8-7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6-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drag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DragM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gMode = dra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ognize drag operation beginning (method of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gGestureListene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GestureRecognized( DragGesture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not in dragMode, ignore drag ges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dragMod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oint at which drag beg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int origin = event.getDragOri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MyShapes from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sha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 drawingModel.getShapes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top-most shape that contains drag origin (i.e.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at end of ListIterator and work backward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Iterator shapeIterat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s.listIterator( shapes.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apeIterator.hasPrevious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Shape shape = ( MyShape ) shapeIterator.previo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ape.contains( origin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TransferableShape for dragg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from Point orig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erableShape transf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erableShape( shape, origin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962160" y="1981080"/>
            <a:ext cx="5029560" cy="1539360"/>
            <a:chOff x="3962160" y="1981080"/>
            <a:chExt cx="5029560" cy="1539360"/>
          </a:xfrm>
        </p:grpSpPr>
        <p:sp>
          <p:nvSpPr>
            <p:cNvPr id="670" name=""/>
            <p:cNvSpPr/>
            <p:nvPr/>
          </p:nvSpPr>
          <p:spPr>
            <a:xfrm>
              <a:off x="5486400" y="2209680"/>
              <a:ext cx="3505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gGestureRecogniz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invoked when the user makes a drag gesture, such as pressing the mouse button and dragging the mouse on a draggable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3962160" y="1981080"/>
              <a:ext cx="1523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4800600" y="4572000"/>
            <a:ext cx="3961800" cy="1310760"/>
            <a:chOff x="4800600" y="4572000"/>
            <a:chExt cx="3961800" cy="1310760"/>
          </a:xfrm>
        </p:grpSpPr>
        <p:sp>
          <p:nvSpPr>
            <p:cNvPr id="673" name=""/>
            <p:cNvSpPr/>
            <p:nvPr/>
          </p:nvSpPr>
          <p:spPr>
            <a:xfrm>
              <a:off x="5449320" y="4572000"/>
              <a:ext cx="3313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arch throug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topmost shape that intersec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ig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s where the drag gesture occur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4800600" y="4953240"/>
              <a:ext cx="64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4495320" y="5715000"/>
            <a:ext cx="4381920" cy="824040"/>
            <a:chOff x="4495320" y="5715000"/>
            <a:chExt cx="4381920" cy="824040"/>
          </a:xfrm>
        </p:grpSpPr>
        <p:sp>
          <p:nvSpPr>
            <p:cNvPr id="676" name=""/>
            <p:cNvSpPr/>
            <p:nvPr/>
          </p:nvSpPr>
          <p:spPr>
            <a:xfrm>
              <a:off x="5181480" y="5715000"/>
              <a:ext cx="3695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e dragged and the Point at which the drag bega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4495320" y="617220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0-12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3-1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tart drag 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startDra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ransf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dragGestureRecogn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drop events (method of interface DropTargetListene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( DropTargetDrop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droppe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erable transferable = event.getTransferab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dropped object's DataFlav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Flavor[] dataFlavor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erable.getTransferDataFlavor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DropTargetDropEvent 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int location = event.getLoca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drops for supported 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dataFlavors.length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Flavor dataFlavor = dataFlavors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drop of JPEG im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Flavor.equal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ataFlavor.javaFileListFlavor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ccept the drop 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acceptDrop( DnD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CTION_COP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486040" y="304920"/>
            <a:ext cx="3428640" cy="1067400"/>
            <a:chOff x="5486040" y="304920"/>
            <a:chExt cx="3428640" cy="1067400"/>
          </a:xfrm>
        </p:grpSpPr>
        <p:sp>
          <p:nvSpPr>
            <p:cNvPr id="681" name=""/>
            <p:cNvSpPr/>
            <p:nvPr/>
          </p:nvSpPr>
          <p:spPr>
            <a:xfrm>
              <a:off x="6047640" y="304920"/>
              <a:ext cx="2867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rtDra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gGesture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egin the drag-and-drop ope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486040" y="68580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5105160" y="2133720"/>
            <a:ext cx="3885840" cy="1067400"/>
            <a:chOff x="5105160" y="2133720"/>
            <a:chExt cx="3885840" cy="1067400"/>
          </a:xfrm>
        </p:grpSpPr>
        <p:sp>
          <p:nvSpPr>
            <p:cNvPr id="684" name=""/>
            <p:cNvSpPr/>
            <p:nvPr/>
          </p:nvSpPr>
          <p:spPr>
            <a:xfrm>
              <a:off x="5741640" y="2133720"/>
              <a:ext cx="3249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the user drops a dragged object,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otifies i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105160" y="2514600"/>
              <a:ext cx="63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6019560" y="2666880"/>
            <a:ext cx="2895480" cy="824040"/>
            <a:chOff x="6019560" y="2666880"/>
            <a:chExt cx="2895480" cy="824040"/>
          </a:xfrm>
        </p:grpSpPr>
        <p:sp>
          <p:nvSpPr>
            <p:cNvPr id="687" name=""/>
            <p:cNvSpPr/>
            <p:nvPr/>
          </p:nvSpPr>
          <p:spPr>
            <a:xfrm>
              <a:off x="6494040" y="2666880"/>
              <a:ext cx="2421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019560" y="3048120"/>
              <a:ext cx="47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5714640" y="4572000"/>
            <a:ext cx="3124080" cy="1067400"/>
            <a:chOff x="5714640" y="4572000"/>
            <a:chExt cx="3124080" cy="1067400"/>
          </a:xfrm>
        </p:grpSpPr>
        <p:sp>
          <p:nvSpPr>
            <p:cNvPr id="690" name=""/>
            <p:cNvSpPr/>
            <p:nvPr/>
          </p:nvSpPr>
          <p:spPr>
            <a:xfrm>
              <a:off x="6226560" y="4572000"/>
              <a:ext cx="2612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 the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Flav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determine the type of object that the user dropp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5714640" y="4953240"/>
              <a:ext cx="51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ttempt to drop the images and indicate whe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rop is comp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dropComple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ropImages( transferable, location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drop of TransferableShape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Flavor.isMimeTypeEqua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erableShap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ME_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ccept drop of Transferable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acceptDrop( DnD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CTION_M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rop TransferableShape into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opShape( transferable, 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omplete drop 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dropComple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ject all other DataFlav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rejectDrop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r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op JPEG images onto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Images( Transferable transferabl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int loca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olean indicating successful dr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cces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5638320" y="533520"/>
            <a:ext cx="3353040" cy="580680"/>
            <a:chOff x="5638320" y="533520"/>
            <a:chExt cx="3353040" cy="580680"/>
          </a:xfrm>
        </p:grpSpPr>
        <p:sp>
          <p:nvSpPr>
            <p:cNvPr id="695" name=""/>
            <p:cNvSpPr/>
            <p:nvPr/>
          </p:nvSpPr>
          <p:spPr>
            <a:xfrm>
              <a:off x="6187680" y="533520"/>
              <a:ext cx="2803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Imag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oces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5638320" y="914400"/>
              <a:ext cx="54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3276720" y="2514600"/>
            <a:ext cx="5715000" cy="900360"/>
            <a:chOff x="3276720" y="2514600"/>
            <a:chExt cx="5715000" cy="900360"/>
          </a:xfrm>
        </p:grpSpPr>
        <p:sp>
          <p:nvSpPr>
            <p:cNvPr id="698" name=""/>
            <p:cNvSpPr/>
            <p:nvPr/>
          </p:nvSpPr>
          <p:spPr>
            <a:xfrm>
              <a:off x="5867280" y="2590920"/>
              <a:ext cx="3124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ptDr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Drop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ccept the dr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3276720" y="2514600"/>
              <a:ext cx="2590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105160" y="2514600"/>
            <a:ext cx="3200040" cy="824040"/>
            <a:chOff x="5105160" y="2514600"/>
            <a:chExt cx="3200040" cy="824040"/>
          </a:xfrm>
        </p:grpSpPr>
        <p:sp>
          <p:nvSpPr>
            <p:cNvPr id="701" name=""/>
            <p:cNvSpPr/>
            <p:nvPr/>
          </p:nvSpPr>
          <p:spPr>
            <a:xfrm>
              <a:off x="5629320" y="2514600"/>
              <a:ext cx="2675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oces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the user dropp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5105160" y="2895840"/>
              <a:ext cx="52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266720" y="3048120"/>
            <a:ext cx="4724280" cy="824040"/>
            <a:chOff x="4266720" y="3048120"/>
            <a:chExt cx="4724280" cy="824040"/>
          </a:xfrm>
        </p:grpSpPr>
        <p:sp>
          <p:nvSpPr>
            <p:cNvPr id="704" name=""/>
            <p:cNvSpPr/>
            <p:nvPr/>
          </p:nvSpPr>
          <p:spPr>
            <a:xfrm>
              <a:off x="5040720" y="3048120"/>
              <a:ext cx="3950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Comp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Drop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ndicate that the drop completed successful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4266720" y="3429000"/>
              <a:ext cx="7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3657240" y="3962520"/>
            <a:ext cx="3352680" cy="824040"/>
            <a:chOff x="3657240" y="3962520"/>
            <a:chExt cx="3352680" cy="824040"/>
          </a:xfrm>
        </p:grpSpPr>
        <p:sp>
          <p:nvSpPr>
            <p:cNvPr id="707" name=""/>
            <p:cNvSpPr/>
            <p:nvPr/>
          </p:nvSpPr>
          <p:spPr>
            <a:xfrm>
              <a:off x="4206600" y="3962520"/>
              <a:ext cx="2803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jects the drop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jectDr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Drop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3657240" y="4343400"/>
              <a:ext cx="54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2-1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9-16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7-1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o drop images onto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list of dropped fi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 fileLis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List ) transferable.getTransferData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ataFlavor.javaFileListFlav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iterator = fileList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arch for JPEG im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terator.hasNext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 file = ( File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f dropped file is a JPEG image, decode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dd MyImage to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leIsJPEG( file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create MyImage for given JPEG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yImage 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Im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age.setFileName( file.getPa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age.setPoint1( location.x, location.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add to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rawingModel.addShape( im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ucces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495320" y="914400"/>
            <a:ext cx="2537280" cy="337320"/>
            <a:chOff x="4495320" y="914400"/>
            <a:chExt cx="2537280" cy="337320"/>
          </a:xfrm>
        </p:grpSpPr>
        <p:sp>
          <p:nvSpPr>
            <p:cNvPr id="712" name=""/>
            <p:cNvSpPr/>
            <p:nvPr/>
          </p:nvSpPr>
          <p:spPr>
            <a:xfrm>
              <a:off x="5257800" y="914400"/>
              <a:ext cx="1774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is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495320" y="1066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5562720" y="1981080"/>
            <a:ext cx="2590200" cy="824040"/>
            <a:chOff x="5562720" y="1981080"/>
            <a:chExt cx="2590200" cy="824040"/>
          </a:xfrm>
        </p:grpSpPr>
        <p:sp>
          <p:nvSpPr>
            <p:cNvPr id="715" name=""/>
            <p:cNvSpPr/>
            <p:nvPr/>
          </p:nvSpPr>
          <p:spPr>
            <a:xfrm>
              <a:off x="5986800" y="1981080"/>
              <a:ext cx="2166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eck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termine whether it contains a JPEG im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5562720" y="236232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5486400" y="3429000"/>
            <a:ext cx="3504960" cy="824040"/>
            <a:chOff x="5486400" y="3429000"/>
            <a:chExt cx="3504960" cy="824040"/>
          </a:xfrm>
        </p:grpSpPr>
        <p:sp>
          <p:nvSpPr>
            <p:cNvPr id="718" name=""/>
            <p:cNvSpPr/>
            <p:nvPr/>
          </p:nvSpPr>
          <p:spPr>
            <a:xfrm>
              <a:off x="6060240" y="3429000"/>
              <a:ext cx="293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JPEG image and add it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486400" y="3810240"/>
              <a:ext cx="5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9-7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6-8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0-1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oint2's x and y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oint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x2 =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y2 =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tart Point's x and y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art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X =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Y =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d Point's x and y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d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X =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Y =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1 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1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1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2 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2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2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029200" y="228600"/>
            <a:ext cx="2666520" cy="580680"/>
            <a:chOff x="5029200" y="228600"/>
            <a:chExt cx="2666520" cy="580680"/>
          </a:xfrm>
        </p:grpSpPr>
        <p:sp>
          <p:nvSpPr>
            <p:cNvPr id="147" name=""/>
            <p:cNvSpPr/>
            <p:nvPr/>
          </p:nvSpPr>
          <p:spPr>
            <a:xfrm>
              <a:off x="5600160" y="228600"/>
              <a:ext cx="2095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ify the shape’s x- and y-coordin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029200" y="53352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181480" y="1828440"/>
            <a:ext cx="3505320" cy="1295640"/>
            <a:chOff x="5181480" y="1828440"/>
            <a:chExt cx="3505320" cy="1295640"/>
          </a:xfrm>
        </p:grpSpPr>
        <p:sp>
          <p:nvSpPr>
            <p:cNvPr id="150" name=""/>
            <p:cNvSpPr/>
            <p:nvPr/>
          </p:nvSpPr>
          <p:spPr>
            <a:xfrm>
              <a:off x="6095880" y="198108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Start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End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 the points at which drawing began and drawing end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334120" y="1828440"/>
              <a:ext cx="76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181480" y="251460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00040" y="4419360"/>
            <a:ext cx="3124080" cy="990360"/>
            <a:chOff x="3200040" y="4419360"/>
            <a:chExt cx="3124080" cy="990360"/>
          </a:xfrm>
        </p:grpSpPr>
        <p:sp>
          <p:nvSpPr>
            <p:cNvPr id="154" name=""/>
            <p:cNvSpPr/>
            <p:nvPr/>
          </p:nvSpPr>
          <p:spPr>
            <a:xfrm>
              <a:off x="4255560" y="4572000"/>
              <a:ext cx="2068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get methods for each individual x- and y- coordinat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3200040" y="4419360"/>
              <a:ext cx="1055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200040" y="4952880"/>
              <a:ext cx="10551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8-25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DataFlavor not suppor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supportedFlavorException flavo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ucces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lavo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reading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ucces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ccess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ropIm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File has .jpg or .jpeg exten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IsJPEG( File fi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fileName = file.getName().toLowerCa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Name.endsWi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jp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||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Name.endsWi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jpe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op MyShape object onto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Shape( Transferable transferabl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int loca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Flavor flav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Flav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erableShap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ME_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562360" y="4724280"/>
            <a:ext cx="3428640" cy="1310760"/>
            <a:chOff x="5562360" y="4724280"/>
            <a:chExt cx="3428640" cy="1310760"/>
          </a:xfrm>
        </p:grpSpPr>
        <p:sp>
          <p:nvSpPr>
            <p:cNvPr id="723" name=""/>
            <p:cNvSpPr/>
            <p:nvPr/>
          </p:nvSpPr>
          <p:spPr>
            <a:xfrm>
              <a:off x="6123960" y="4724280"/>
              <a:ext cx="2867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the object that the user dropped a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for the drop lo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5562360" y="510552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7-20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6-2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ransferableShap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erableShape transferableShap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TransferableShape ) transferable.getTransferData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lav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MyShape and origin Point from Transferable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Shape shape = transferableShape.getShape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oint origin = transferableShape.getOri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alculate offset for dropping My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OffSet = location.x - origin.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OffSet = location.y - origin.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.moveByOffSet( xOffSet, yOffS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MyShape to target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Model.addShape( shape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DataFlavor not suppor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supportedFlavorException flavo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lavo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Transferabl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rop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4648320" y="837720"/>
            <a:ext cx="4190760" cy="1296360"/>
            <a:chOff x="4648320" y="837720"/>
            <a:chExt cx="4190760" cy="1296360"/>
          </a:xfrm>
        </p:grpSpPr>
        <p:sp>
          <p:nvSpPr>
            <p:cNvPr id="728" name=""/>
            <p:cNvSpPr/>
            <p:nvPr/>
          </p:nvSpPr>
          <p:spPr>
            <a:xfrm>
              <a:off x="5867280" y="106668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Transfe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4648320" y="837720"/>
              <a:ext cx="12189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5028840" y="1905120"/>
            <a:ext cx="3124080" cy="1310760"/>
            <a:chOff x="5028840" y="1905120"/>
            <a:chExt cx="3124080" cy="1310760"/>
          </a:xfrm>
        </p:grpSpPr>
        <p:sp>
          <p:nvSpPr>
            <p:cNvPr id="731" name=""/>
            <p:cNvSpPr/>
            <p:nvPr/>
          </p:nvSpPr>
          <p:spPr>
            <a:xfrm>
              <a:off x="5540760" y="1905120"/>
              <a:ext cx="26121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culate the offset from the dragged point to the drop point and 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veByOff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ositio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028840" y="2286000"/>
              <a:ext cx="51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0-2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1-2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 for success when drag-and-drop operation e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(method of interface DragSourceListene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DropEnd( DragSourceDrop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drop successful, remove MyShape from sour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vent.getDropSuccess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ransferable object from DragSource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erable transferabl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getDragSourceContext().getTransferab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ransferableShape object from Transfer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TransferableShap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erableShape transferableShap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TransferableShape ) transferable.getTransferData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Flavor( TransferableShap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ME_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MyShape from TransferableShap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nd remove from source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awingModel.removeShap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ransferableShape.getShap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if DataFlavor not suppor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supportedFlavorException flavo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lavo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getting transfer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5790960" y="304920"/>
            <a:ext cx="2895480" cy="1310760"/>
            <a:chOff x="5790960" y="304920"/>
            <a:chExt cx="2895480" cy="1310760"/>
          </a:xfrm>
        </p:grpSpPr>
        <p:sp>
          <p:nvSpPr>
            <p:cNvPr id="736" name=""/>
            <p:cNvSpPr/>
            <p:nvPr/>
          </p:nvSpPr>
          <p:spPr>
            <a:xfrm>
              <a:off x="6265440" y="304920"/>
              <a:ext cx="24210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drag-and-drop subsystem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gDrop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drag-and-drop operation comple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790960" y="685800"/>
              <a:ext cx="47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4800240" y="4267080"/>
            <a:ext cx="2895480" cy="824040"/>
            <a:chOff x="4800240" y="4267080"/>
            <a:chExt cx="2895480" cy="824040"/>
          </a:xfrm>
        </p:grpSpPr>
        <p:sp>
          <p:nvSpPr>
            <p:cNvPr id="739" name=""/>
            <p:cNvSpPr/>
            <p:nvPr/>
          </p:nvSpPr>
          <p:spPr>
            <a:xfrm>
              <a:off x="5274720" y="4267080"/>
              <a:ext cx="2421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the dragg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rom the sour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800240" y="4648320"/>
              <a:ext cx="47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dragDropE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quired methods of interface DropTarget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Enter( DropTargetDrag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Exit( DropTarget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Over( DropTargetDrag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ActionChanged( DropTargetDrag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quired methods of interface DragSourc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Enter( DragSourceDrag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Exit( DragSourceEvent event ) {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Over( DragSourceDragEvent event ) {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ActionChanged( DragSourceDragEvent event ) {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drag_a" descr=""/>
          <p:cNvPicPr/>
          <p:nvPr/>
        </p:nvPicPr>
        <p:blipFill>
          <a:blip r:embed="rId1"/>
          <a:stretch/>
        </p:blipFill>
        <p:spPr>
          <a:xfrm>
            <a:off x="1752480" y="76320"/>
            <a:ext cx="4345200" cy="3257280"/>
          </a:xfrm>
          <a:prstGeom prst="rect">
            <a:avLst/>
          </a:prstGeom>
          <a:ln w="0">
            <a:noFill/>
          </a:ln>
        </p:spPr>
      </p:pic>
      <p:pic>
        <p:nvPicPr>
          <p:cNvPr id="745" name="drag_b" descr=""/>
          <p:cNvPicPr/>
          <p:nvPr/>
        </p:nvPicPr>
        <p:blipFill>
          <a:blip r:embed="rId2"/>
          <a:stretch/>
        </p:blipFill>
        <p:spPr>
          <a:xfrm>
            <a:off x="1752480" y="3390840"/>
            <a:ext cx="4419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.3 Drag-and-Drop Controller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.3 Drag-and-Drop Controller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2 TransferableShape enables DragAndDropController to transfer MyShape objects through drag-and-drop operation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ansferableShap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ansferableShape is a Transferable object that contain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Shape and the point from which the user dragged that MyShap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dn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datatransf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erableShape implements Transfer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MyShape to transfer from Point orig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shape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orig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IME type that identifies dragged My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ME_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plication/x-deitel-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ataFlavors that MyShape supports for drag and dr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Flavor[] flavo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Flavor[]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Flav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ME_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erableShap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erableShape( MyShape myShape, Point originPoi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 = myShape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igin = origin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2 TransferableShape enables DragAndDropController to transfer MyShape objects through drag-and-drop opera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2-5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8-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ansferableShape constructo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oint from which user dragged My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getOrig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ig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getShap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ata flavors MyShape suppo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Flavor[] getTransferDataFlavor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avor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if MyShape supports given data flav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DataFlavorSupported( DataFlavor flav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arch for given DataFlavor in flavor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flavors.length; i++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lavor.equals( flavors[ i ]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5028840" y="2895480"/>
            <a:ext cx="2895480" cy="824040"/>
            <a:chOff x="5028840" y="2895480"/>
            <a:chExt cx="2895480" cy="824040"/>
          </a:xfrm>
        </p:grpSpPr>
        <p:sp>
          <p:nvSpPr>
            <p:cNvPr id="757" name=""/>
            <p:cNvSpPr/>
            <p:nvPr/>
          </p:nvSpPr>
          <p:spPr>
            <a:xfrm>
              <a:off x="5503320" y="2895480"/>
              <a:ext cx="2421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Flav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028840" y="3276720"/>
              <a:ext cx="47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4343040" y="5105520"/>
            <a:ext cx="2895480" cy="824040"/>
            <a:chOff x="4343040" y="5105520"/>
            <a:chExt cx="2895480" cy="824040"/>
          </a:xfrm>
        </p:grpSpPr>
        <p:sp>
          <p:nvSpPr>
            <p:cNvPr id="760" name=""/>
            <p:cNvSpPr/>
            <p:nvPr/>
          </p:nvSpPr>
          <p:spPr>
            <a:xfrm>
              <a:off x="4817520" y="5105520"/>
              <a:ext cx="2421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true if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Flav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atches a suppor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Flav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4343040" y="5486400"/>
              <a:ext cx="47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2 TransferableShape enables DragAndDropController to transfer MyShape objects through drag-and-drop opera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0-7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05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ata to be transferred for given DataFlav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TransferData( DataFlavor flavo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upportedFlavor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DataFlavorSupported( flavor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upportedFlavorException( flav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TransferableShape object for trans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4267080" y="838080"/>
            <a:ext cx="4496040" cy="900360"/>
            <a:chOff x="4267080" y="838080"/>
            <a:chExt cx="4496040" cy="900360"/>
          </a:xfrm>
        </p:grpSpPr>
        <p:sp>
          <p:nvSpPr>
            <p:cNvPr id="765" name=""/>
            <p:cNvSpPr/>
            <p:nvPr/>
          </p:nvSpPr>
          <p:spPr>
            <a:xfrm>
              <a:off x="5003640" y="914400"/>
              <a:ext cx="3759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Transfe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the data to be transferred by the drag-and-drop ope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>
              <a:off x="4267080" y="838080"/>
              <a:ext cx="736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zhang</cp:lastModifiedBy>
  <dcterms:modified xsi:type="dcterms:W3CDTF">2002-01-28T12:49:46Z</dcterms:modified>
  <cp:revision>157</cp:revision>
  <dc:subject/>
  <dc:title>PowerPoint Presentation</dc:title>
</cp:coreProperties>
</file>