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40.wmf" ContentType="image/x-wmf"/>
  <Override PartName="/ppt/media/image3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DDA0-07D1-43FC-8114-C4F7CB30A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969E-9F20-481D-8559-288375683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6D32-265D-42F8-AED0-27C192904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D4DC-E701-444D-AD1C-B6AD4498A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BCD0-A17C-421C-8C62-F6BE10F85A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03ED-2CA9-4F57-A3C4-B7AEE9B996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AC8C-AAD9-4DB2-A7A6-42CF99218B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7950-0B02-4EBB-A25F-DF6169C65A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E358-3A01-451D-AA9F-57FF9A76D8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EC64-8E83-4D2A-ACE5-87115B8E3A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A688-7F67-4F92-967D-F9128D5C28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D058-7BD3-4F59-A783-27C24F205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FE36-39AA-493C-A094-CBF1AE75AB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EFAD-4B8D-4239-9D39-CE3B41867A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2F80-BFC6-40BC-8413-7688900968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7FD4-0094-4FA8-9FDF-C0841E1D33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530F-A7F6-48CC-94E8-6FFFCEF47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2D1D-E3F2-49FF-89D2-CDD3BB57D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DABA-0217-435C-9FD4-DF4A84E9A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CA58-56E1-4447-8D09-1E7861B3C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07E7-9C74-419E-A873-7DD39E1CC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64CE-BC2B-43C0-A855-0ED6EFC5E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2A52-1923-4B0D-A855-2B0518B93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D1BF-B481-4324-9C1E-953F43877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B4D-4B85-4FF9-8A70-C699B2DFF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B7BE-7DC6-4377-A1D9-9B01EB17E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8: Java Database Connectivity (JDBC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al-Database 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al Database Overview: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ook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ataba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d Query Language (SQL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asic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LEC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Que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WHER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u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 B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u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erging Data from Multiple Tables: Join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NSERT INTO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tate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UP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tate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 FRO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tate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eating Database books in Cloudsca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nipulating Databases with JDB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necting to and Querying a JDBC Data Sour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Querying the books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Batch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h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SQL statement to a bat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 the batch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Batch Process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Batch Process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Processing Multiple ResultSets or Update Cou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SQ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esult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Result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UpdateCo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Processing Multipl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sultS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 or Update Cou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557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Updatabl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sultS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ab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a new row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te a row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a row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JDBC 2.0 Optional Package javax.sq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 javax.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d with Java 2 Enterprise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s in package javax.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a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nectionPoolData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oledConn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ow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aSour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Java Naming and Directory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a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 with a JNDI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aSour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ing a JNDI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.2 Connection Poo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head in both time and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p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 may database conn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between the application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owS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s tabular data 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JavaBean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nec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ow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chedRow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Row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57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343400" cy="1244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97040" y="4660920"/>
            <a:ext cx="35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relationships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Structured Query Language (SQ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2514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1 Basic SELECT Qu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format of a SELECT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pecific fields from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hor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h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3657600"/>
          <a:ext cx="77695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657600"/>
                    <a:ext cx="77695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HER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selectio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, fieldName2, …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it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, editionNumber, copy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pyright &gt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condition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, &gt;, &lt;=, &gt;=, =, 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dcard characte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HER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HER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D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7432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8: Java Database Connectivity (JDBC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143000"/>
            <a:ext cx="777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ddress-Book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eparedStatem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ransaction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ddress-Book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ed Procedur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atch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cessing Multipl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sultSe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r Update Cou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pdatabl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sultS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DBC 2.0 Optional Packag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avax.sq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ataSour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nection Pool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owS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HER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_i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27432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, fieldName2, …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S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, fieldName2, …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DES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1 sortingOrder, field2 sortingOrder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2666880"/>
          <a:ext cx="77695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77695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120" y="26668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, fir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9480" y="2666880"/>
          <a:ext cx="77695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77695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bn, title, editionNumber, copyright,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s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How to Program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S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24382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4 Merging Data from Multiple Tables: Join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he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 data from multiple tables into a single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, fieldName2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1, table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1.fieldName = table2.field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rstName, lastName, isb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s, authorISB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s.authorID = authorISBN.autho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stName, first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4 Merging Data from Multiple Tables: Joi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NSER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NTO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new record into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( fieldName1, … , fieldName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VALU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value1, … , value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 ( firstName, lastNam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ue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mith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350532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0532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6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UP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data 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 = value1, … , fieldNameN = valu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it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Jon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mith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r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42670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670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ing and organiz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Query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Database Conne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BC dri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7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data from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DELETE 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iteri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DELETE 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Jones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r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31240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240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Creating Database books in Cloudsca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cape – pure-Java database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Cloudscap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ataba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startcloudscape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5600520" cy="2467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7240" y="6095880"/>
            <a:ext cx="65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ng Cloudscape from a command prompt in Windows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Manipulating Databases with JDB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o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e results of the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1 Connecting to and Querying a JDBC Data Sour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s the enti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h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s the data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6 Displaying the authors table from the books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26: DisplayAuthor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ing the contents of table authors in database book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Authors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connects to database, queries databas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es results and displays results i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Author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s Table of Books Databa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database books and query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ad database driv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.for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to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connection = DriverManager.getConnec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:cloudscape:rmi:book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atement to query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 statement = connection.createStat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362320" y="1143000"/>
            <a:ext cx="3276000" cy="824040"/>
            <a:chOff x="2362320" y="1143000"/>
            <a:chExt cx="3276000" cy="824040"/>
          </a:xfrm>
        </p:grpSpPr>
        <p:sp>
          <p:nvSpPr>
            <p:cNvPr id="202" name=""/>
            <p:cNvSpPr/>
            <p:nvPr/>
          </p:nvSpPr>
          <p:spPr>
            <a:xfrm>
              <a:off x="3063960" y="1143000"/>
              <a:ext cx="2574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orts pack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.sq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classes and interfaces for the JDBC AP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362320" y="14479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400440" y="4648320"/>
            <a:ext cx="2057760" cy="824040"/>
            <a:chOff x="6400440" y="4648320"/>
            <a:chExt cx="2057760" cy="824040"/>
          </a:xfrm>
        </p:grpSpPr>
        <p:sp>
          <p:nvSpPr>
            <p:cNvPr id="205" name=""/>
            <p:cNvSpPr/>
            <p:nvPr/>
          </p:nvSpPr>
          <p:spPr>
            <a:xfrm>
              <a:off x="6841440" y="4648320"/>
              <a:ext cx="161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s the class definition for the database dr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400440" y="4952880"/>
              <a:ext cx="44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715000" y="5334120"/>
            <a:ext cx="2666520" cy="824040"/>
            <a:chOff x="5715000" y="5334120"/>
            <a:chExt cx="2666520" cy="824040"/>
          </a:xfrm>
        </p:grpSpPr>
        <p:sp>
          <p:nvSpPr>
            <p:cNvPr id="208" name=""/>
            <p:cNvSpPr/>
            <p:nvPr/>
          </p:nvSpPr>
          <p:spPr>
            <a:xfrm>
              <a:off x="6285960" y="533412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and initializ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call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715000" y="563868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172200" y="5257800"/>
            <a:ext cx="2819520" cy="1310760"/>
            <a:chOff x="6172200" y="5257800"/>
            <a:chExt cx="2819520" cy="1310760"/>
          </a:xfrm>
        </p:grpSpPr>
        <p:sp>
          <p:nvSpPr>
            <p:cNvPr id="211" name=""/>
            <p:cNvSpPr/>
            <p:nvPr/>
          </p:nvSpPr>
          <p:spPr>
            <a:xfrm>
              <a:off x="6705720" y="5257800"/>
              <a:ext cx="2286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n object that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172200" y="6172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6 Displaying the authors table from the books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1-5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6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query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ement.executeQuer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* FROM auth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quer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Buffer resul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MetaData metaData = resultSet.getMeta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OfColumns = metaData.getColumn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numberOfColumn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.append( metaData.getColumnName(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numberOfColumn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s.append( resultSet.getObject( i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+ "\t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statement and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GUI and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TextArea 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790960" y="304920"/>
            <a:ext cx="3124080" cy="1310760"/>
            <a:chOff x="5790960" y="304920"/>
            <a:chExt cx="3124080" cy="1310760"/>
          </a:xfrm>
        </p:grpSpPr>
        <p:sp>
          <p:nvSpPr>
            <p:cNvPr id="216" name=""/>
            <p:cNvSpPr/>
            <p:nvPr/>
          </p:nvSpPr>
          <p:spPr>
            <a:xfrm>
              <a:off x="6460200" y="304920"/>
              <a:ext cx="2454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Qu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execute a query that selects all the author information from t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o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790960" y="60948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324480" y="1143000"/>
            <a:ext cx="2438640" cy="580680"/>
            <a:chOff x="6324480" y="1143000"/>
            <a:chExt cx="2438640" cy="580680"/>
          </a:xfrm>
        </p:grpSpPr>
        <p:sp>
          <p:nvSpPr>
            <p:cNvPr id="219" name=""/>
            <p:cNvSpPr/>
            <p:nvPr/>
          </p:nvSpPr>
          <p:spPr>
            <a:xfrm>
              <a:off x="6846840" y="1143000"/>
              <a:ext cx="1916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metadata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324480" y="144792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943600" y="1295280"/>
            <a:ext cx="3048120" cy="1067400"/>
            <a:chOff x="5943600" y="1295280"/>
            <a:chExt cx="3048120" cy="1067400"/>
          </a:xfrm>
        </p:grpSpPr>
        <p:sp>
          <p:nvSpPr>
            <p:cNvPr id="222" name=""/>
            <p:cNvSpPr/>
            <p:nvPr/>
          </p:nvSpPr>
          <p:spPr>
            <a:xfrm>
              <a:off x="6594480" y="1295280"/>
              <a:ext cx="239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Meta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Column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number of column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943600" y="160020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715000" y="1905120"/>
            <a:ext cx="3200400" cy="580680"/>
            <a:chOff x="5715000" y="1905120"/>
            <a:chExt cx="3200400" cy="580680"/>
          </a:xfrm>
        </p:grpSpPr>
        <p:sp>
          <p:nvSpPr>
            <p:cNvPr id="225" name=""/>
            <p:cNvSpPr/>
            <p:nvPr/>
          </p:nvSpPr>
          <p:spPr>
            <a:xfrm>
              <a:off x="6400440" y="1905120"/>
              <a:ext cx="2514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the column name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Buf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715000" y="221004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114800" y="2971800"/>
            <a:ext cx="3962160" cy="580680"/>
            <a:chOff x="4114800" y="2971800"/>
            <a:chExt cx="3962160" cy="580680"/>
          </a:xfrm>
        </p:grpSpPr>
        <p:sp>
          <p:nvSpPr>
            <p:cNvPr id="228" name=""/>
            <p:cNvSpPr/>
            <p:nvPr/>
          </p:nvSpPr>
          <p:spPr>
            <a:xfrm>
              <a:off x="4963320" y="2971800"/>
              <a:ext cx="3113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the data in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ow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Buf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s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14800" y="32767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276720" y="5029200"/>
            <a:ext cx="2971800" cy="580680"/>
            <a:chOff x="3276720" y="5029200"/>
            <a:chExt cx="2971800" cy="580680"/>
          </a:xfrm>
        </p:grpSpPr>
        <p:sp>
          <p:nvSpPr>
            <p:cNvPr id="231" name=""/>
            <p:cNvSpPr/>
            <p:nvPr/>
          </p:nvSpPr>
          <p:spPr>
            <a:xfrm>
              <a:off x="3912120" y="5029200"/>
              <a:ext cx="233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276720" y="5334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6 Displaying the authors table from the books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6-7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tex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window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interacting with the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nul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Exception.getMessag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base 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loading database dr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nul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assNotFound.getMessag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river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isplayAuthors constructo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th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Authors window = new DisplayAutho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isplayAuth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38320" y="76320"/>
            <a:ext cx="3277080" cy="1067400"/>
            <a:chOff x="5638320" y="76320"/>
            <a:chExt cx="3277080" cy="1067400"/>
          </a:xfrm>
        </p:grpSpPr>
        <p:sp>
          <p:nvSpPr>
            <p:cNvPr id="236" name=""/>
            <p:cNvSpPr/>
            <p:nvPr/>
          </p:nvSpPr>
          <p:spPr>
            <a:xfrm>
              <a:off x="6019920" y="7632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GUI that display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Buf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sults, set the size of the application window and show the application wind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638320" y="380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6 Displaying the authors table from the books database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authorstable2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2857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1 Connecting to and Querying a JDBC Data Sour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2 Quer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 user to enter any query into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e results of a query in a J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Relational-Database 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,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28: ResultSetTable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TableModel that supplies ResultSet data to a JT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abl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Set rows and columns are counted from 1 and JTab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ws and columns are counted from 0. When process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Set rows or columns for use in a JTable, it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cessary to add 1 to the row or column number to manipu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appropriate ResultSet column (i.e., JTable column 0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Set column 1 and JTable row 0 is ResultSet row 1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Table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TableMod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 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 resultS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MetaData meta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OfRow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resultSet and obtain its meta data 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number of r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TableModel( String driver, String ur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quer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, ClassNotFound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database driv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.forName( driv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ion = DriverManager.getConnection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320" y="6019920"/>
            <a:ext cx="2896200" cy="580680"/>
            <a:chOff x="5638320" y="6019920"/>
            <a:chExt cx="2896200" cy="580680"/>
          </a:xfrm>
        </p:grpSpPr>
        <p:sp>
          <p:nvSpPr>
            <p:cNvPr id="248" name=""/>
            <p:cNvSpPr/>
            <p:nvPr/>
          </p:nvSpPr>
          <p:spPr>
            <a:xfrm>
              <a:off x="6257880" y="6019920"/>
              <a:ext cx="2276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ablish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638320" y="632484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atement to query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ement = connection.createStat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SCROLL_INSENSIT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CUR_READ_ON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query and execute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Query( que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lass that represents column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getColumnClas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Java class of colum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class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aData.getColumnClassName( colum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Class object that represents class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.forName( class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ClassNotFound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 occur above, assume type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.cla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umber of columns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lumnCou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00600" y="228600"/>
            <a:ext cx="3200400" cy="824040"/>
            <a:chOff x="4800600" y="228600"/>
            <a:chExt cx="3200400" cy="824040"/>
          </a:xfrm>
        </p:grpSpPr>
        <p:sp>
          <p:nvSpPr>
            <p:cNvPr id="253" name=""/>
            <p:cNvSpPr/>
            <p:nvPr/>
          </p:nvSpPr>
          <p:spPr>
            <a:xfrm>
              <a:off x="5486040" y="228600"/>
              <a:ext cx="2514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8006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971440" y="1143000"/>
            <a:ext cx="3581640" cy="824040"/>
            <a:chOff x="2971440" y="1143000"/>
            <a:chExt cx="3581640" cy="824040"/>
          </a:xfrm>
        </p:grpSpPr>
        <p:sp>
          <p:nvSpPr>
            <p:cNvPr id="256" name=""/>
            <p:cNvSpPr/>
            <p:nvPr/>
          </p:nvSpPr>
          <p:spPr>
            <a:xfrm>
              <a:off x="3737520" y="1143000"/>
              <a:ext cx="281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Qu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default que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971440" y="14479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105160" y="2666880"/>
            <a:ext cx="3581640" cy="580680"/>
            <a:chOff x="5105160" y="2666880"/>
            <a:chExt cx="3581640" cy="580680"/>
          </a:xfrm>
        </p:grpSpPr>
        <p:sp>
          <p:nvSpPr>
            <p:cNvPr id="259" name=""/>
            <p:cNvSpPr/>
            <p:nvPr/>
          </p:nvSpPr>
          <p:spPr>
            <a:xfrm>
              <a:off x="5871240" y="2666880"/>
              <a:ext cx="281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fully qualified class name for the specified colum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105160" y="29718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47960" y="3352680"/>
            <a:ext cx="4419720" cy="580680"/>
            <a:chOff x="4647960" y="3352680"/>
            <a:chExt cx="4419720" cy="580680"/>
          </a:xfrm>
        </p:grpSpPr>
        <p:sp>
          <p:nvSpPr>
            <p:cNvPr id="262" name=""/>
            <p:cNvSpPr/>
            <p:nvPr/>
          </p:nvSpPr>
          <p:spPr>
            <a:xfrm>
              <a:off x="5334120" y="3352680"/>
              <a:ext cx="3733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s the class definition for the class and returns the correspon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647960" y="36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123720" y="4952880"/>
            <a:ext cx="1600560" cy="580680"/>
            <a:chOff x="3123720" y="4952880"/>
            <a:chExt cx="1600560" cy="580680"/>
          </a:xfrm>
        </p:grpSpPr>
        <p:sp>
          <p:nvSpPr>
            <p:cNvPr id="265" name=""/>
            <p:cNvSpPr/>
            <p:nvPr/>
          </p:nvSpPr>
          <p:spPr>
            <a:xfrm>
              <a:off x="3466800" y="4952880"/>
              <a:ext cx="1257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he default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123720" y="52578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number of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taData.getColumnCou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print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 occur above, return 0 for number of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ame of a particular column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lumn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colum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taData.getColumnName( colum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print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, return empty string for colum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umber of rows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owCou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OfRow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0" y="457200"/>
            <a:ext cx="2971800" cy="580680"/>
            <a:chOff x="4572000" y="457200"/>
            <a:chExt cx="2971800" cy="580680"/>
          </a:xfrm>
        </p:grpSpPr>
        <p:sp>
          <p:nvSpPr>
            <p:cNvPr id="270" name=""/>
            <p:cNvSpPr/>
            <p:nvPr/>
          </p:nvSpPr>
          <p:spPr>
            <a:xfrm>
              <a:off x="5208480" y="457200"/>
              <a:ext cx="233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number of column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572000" y="762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562360" y="3505320"/>
            <a:ext cx="3047760" cy="580680"/>
            <a:chOff x="5562360" y="3505320"/>
            <a:chExt cx="3047760" cy="580680"/>
          </a:xfrm>
        </p:grpSpPr>
        <p:sp>
          <p:nvSpPr>
            <p:cNvPr id="273" name=""/>
            <p:cNvSpPr/>
            <p:nvPr/>
          </p:nvSpPr>
          <p:spPr>
            <a:xfrm>
              <a:off x="6215400" y="3505320"/>
              <a:ext cx="2394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column name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562360" y="3810240"/>
              <a:ext cx="6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0-1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value in particular row and colum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ValueA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a value at specified ResultSet row and colum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.absolute( row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turn resultSet.getObject( colum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print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, return empty string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Statement and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Statement and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print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66720" y="1295280"/>
            <a:ext cx="4572360" cy="580680"/>
            <a:chOff x="4266720" y="1295280"/>
            <a:chExt cx="4572360" cy="580680"/>
          </a:xfrm>
        </p:grpSpPr>
        <p:sp>
          <p:nvSpPr>
            <p:cNvPr id="278" name=""/>
            <p:cNvSpPr/>
            <p:nvPr/>
          </p:nvSpPr>
          <p:spPr>
            <a:xfrm>
              <a:off x="5029200" y="1295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absolute to positi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ursor at a specific r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266720" y="1600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3760" y="1676520"/>
            <a:ext cx="3581640" cy="824040"/>
            <a:chOff x="5333760" y="1676520"/>
            <a:chExt cx="3581640" cy="824040"/>
          </a:xfrm>
        </p:grpSpPr>
        <p:sp>
          <p:nvSpPr>
            <p:cNvPr id="281" name=""/>
            <p:cNvSpPr/>
            <p:nvPr/>
          </p:nvSpPr>
          <p:spPr>
            <a:xfrm>
              <a:off x="5867280" y="167652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specific column of the current r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333760" y="1981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276360" y="4876920"/>
            <a:ext cx="5562360" cy="580680"/>
            <a:chOff x="3276360" y="4876920"/>
            <a:chExt cx="5562360" cy="580680"/>
          </a:xfrm>
        </p:grpSpPr>
        <p:sp>
          <p:nvSpPr>
            <p:cNvPr id="284" name=""/>
            <p:cNvSpPr/>
            <p:nvPr/>
          </p:nvSpPr>
          <p:spPr>
            <a:xfrm>
              <a:off x="4467960" y="4876920"/>
              <a:ext cx="4370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is garbage coll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276360" y="5181840"/>
              <a:ext cx="11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new database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Query( String quer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query and execute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 = statement.executeQuery( que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meta data for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taData = resultSet.getMeta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number of rows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.last(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move to last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OfRows = resultSet.getRow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row number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JTable that model h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TableStructure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ResultSe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57440" y="914400"/>
            <a:ext cx="2819520" cy="580680"/>
            <a:chOff x="5257440" y="914400"/>
            <a:chExt cx="2819520" cy="580680"/>
          </a:xfrm>
        </p:grpSpPr>
        <p:sp>
          <p:nvSpPr>
            <p:cNvPr id="289" name=""/>
            <p:cNvSpPr/>
            <p:nvPr/>
          </p:nvSpPr>
          <p:spPr>
            <a:xfrm>
              <a:off x="5860440" y="914400"/>
              <a:ext cx="221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the query to obtain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257440" y="12193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343040" y="2209680"/>
            <a:ext cx="3657960" cy="824040"/>
            <a:chOff x="4343040" y="2209680"/>
            <a:chExt cx="3657960" cy="824040"/>
          </a:xfrm>
        </p:grpSpPr>
        <p:sp>
          <p:nvSpPr>
            <p:cNvPr id="292" name=""/>
            <p:cNvSpPr/>
            <p:nvPr/>
          </p:nvSpPr>
          <p:spPr>
            <a:xfrm>
              <a:off x="5127840" y="2209680"/>
              <a:ext cx="2873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row number for the current row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343040" y="25146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809520" y="2057400"/>
            <a:ext cx="3581640" cy="824040"/>
            <a:chOff x="3809520" y="2057400"/>
            <a:chExt cx="3581640" cy="824040"/>
          </a:xfrm>
        </p:grpSpPr>
        <p:sp>
          <p:nvSpPr>
            <p:cNvPr id="295" name=""/>
            <p:cNvSpPr/>
            <p:nvPr/>
          </p:nvSpPr>
          <p:spPr>
            <a:xfrm>
              <a:off x="4577760" y="2057400"/>
              <a:ext cx="281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ositi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ursor at the last row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809520" y="23623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809520" y="2819520"/>
            <a:ext cx="4876920" cy="1310760"/>
            <a:chOff x="3809520" y="2819520"/>
            <a:chExt cx="4876920" cy="1310760"/>
          </a:xfrm>
        </p:grpSpPr>
        <p:sp>
          <p:nvSpPr>
            <p:cNvPr id="298" name=""/>
            <p:cNvSpPr/>
            <p:nvPr/>
          </p:nvSpPr>
          <p:spPr>
            <a:xfrm>
              <a:off x="4854240" y="2819520"/>
              <a:ext cx="3832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eTableAStructure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any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s its model that the structure of the model h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09520" y="3124080"/>
              <a:ext cx="10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2 Quer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2 Quer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, 29,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1: DisplayQueryResult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the contents of the Authors table in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oks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abl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QueryResults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TableModel table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query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ResultSetTableModel and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QueryResult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ing Query Resul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udscape database driver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riv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RL to connect to books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:cloudscape:rmi:book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query to select entire author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quer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* FROM auth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105520" y="4952880"/>
            <a:ext cx="3608280" cy="1067400"/>
            <a:chOff x="5105520" y="4952880"/>
            <a:chExt cx="3608280" cy="1067400"/>
          </a:xfrm>
        </p:grpSpPr>
        <p:sp>
          <p:nvSpPr>
            <p:cNvPr id="309" name=""/>
            <p:cNvSpPr/>
            <p:nvPr/>
          </p:nvSpPr>
          <p:spPr>
            <a:xfrm>
              <a:off x="6858000" y="4952880"/>
              <a:ext cx="1855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the database driver class name, database URL and default que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6019920" y="49528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105520" y="54864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638320" y="548640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esultSetTableModel and display database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ableModel for results of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* FROM auth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ble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TableModel( driver, url, que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JTextArea in which user types qu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ryArea = new JTextArea( quer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ry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ry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crollPane scrollPane = new JScrollPane( query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rollPane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ERTICAL_SCROLLBAR_AS_NEED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rollPane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_SCROLLBAR_N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JButton for submitting qu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Button subm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 Que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Box to manage placement of queryArea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mitButton in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x box = Box.createHorizontalBo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x.add( scroll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x.add( submi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Table delegate for tableMod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Table resultTab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le( table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lace GUI components on content 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ainer c = getContentPane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.add( box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resultTabl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15000" y="4952880"/>
            <a:ext cx="3276720" cy="1067400"/>
            <a:chOff x="5715000" y="4952880"/>
            <a:chExt cx="3276720" cy="1067400"/>
          </a:xfrm>
        </p:grpSpPr>
        <p:sp>
          <p:nvSpPr>
            <p:cNvPr id="316" name=""/>
            <p:cNvSpPr/>
            <p:nvPr/>
          </p:nvSpPr>
          <p:spPr>
            <a:xfrm>
              <a:off x="6286680" y="4952880"/>
              <a:ext cx="2705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pass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715000" y="52578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9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event listener for submit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bmit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pass query to table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perform a new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ableModel.setQuery( queryArea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atch SQLExceptions that occur whe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performing a new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sqlException.toString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      "Database 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inner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window size and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ize( 500, 25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360" y="228600"/>
            <a:ext cx="3809880" cy="824040"/>
            <a:chOff x="4419360" y="228600"/>
            <a:chExt cx="3809880" cy="824040"/>
          </a:xfrm>
        </p:grpSpPr>
        <p:sp>
          <p:nvSpPr>
            <p:cNvPr id="321" name=""/>
            <p:cNvSpPr/>
            <p:nvPr/>
          </p:nvSpPr>
          <p:spPr>
            <a:xfrm>
              <a:off x="5235480" y="228600"/>
              <a:ext cx="2993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an event handler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mit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user clicks to submit a query to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419360" y="53352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419720" y="2285640"/>
            <a:ext cx="4572000" cy="1053000"/>
            <a:chOff x="4419720" y="2285640"/>
            <a:chExt cx="4572000" cy="1053000"/>
          </a:xfrm>
        </p:grpSpPr>
        <p:sp>
          <p:nvSpPr>
            <p:cNvPr id="324" name=""/>
            <p:cNvSpPr/>
            <p:nvPr/>
          </p:nvSpPr>
          <p:spPr>
            <a:xfrm>
              <a:off x="6172200" y="25146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Qu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xecute the new que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4419720" y="2285640"/>
              <a:ext cx="1752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Relational-Database Model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00600" cy="1587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16280" y="4425840"/>
            <a:ext cx="54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-database structure of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ClassNotFoundException thrown b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ultSetTableModel if database driver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udscape driver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river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 thrown by ResultSetTableMod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 occur while setting up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ion and querying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Exception.toString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base 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isplayQueryResult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QueryResults ap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QueryResult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.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isplayQuery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queryresultsa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4762800" cy="1581120"/>
          </a:xfrm>
          <a:prstGeom prst="rect">
            <a:avLst/>
          </a:prstGeom>
          <a:ln w="0">
            <a:noFill/>
          </a:ln>
        </p:spPr>
      </p:pic>
      <p:pic>
        <p:nvPicPr>
          <p:cNvPr id="330" name="queryresultsb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47628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Case Study: Address-Book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-book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address-book e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ddress-book e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address-book e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te address-book e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hone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ail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Case Study: Address-Book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2717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063880" y="4952880"/>
            <a:ext cx="47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relationships in database address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eparedStatemen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flex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query with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aredStatement authorBooks =     connection.prepareStatement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SELECT lastName, firstName, title 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FROM authors, titles, authorISBN 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WHERE authors.authorID = authorISBN.authorID 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AND titles.ISBN = authorISBN.isbn AND 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lastName = ? AND firstName = ?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eparedStatemen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parameter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orBooks.setString(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Deitel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orBooks.setString(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Paul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arameter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stName, firstName, tit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s, titles, authorISB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s.authorID = authorISBN.authorID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tles.ISBN = authorISBN.isbn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stName = ‘Deitel’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rstName = ‘Paul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2 Transaction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known as an atomic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 success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 the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 f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 back the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transac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AutoComm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ool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3 Address-Book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-Book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BookE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BookData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aAccess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ldscapeData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BookEntry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Bo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3: AddressBookEntr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Bean to represent one address book ent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ddress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ddress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zipco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hone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emailAddre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fir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fir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962520" y="1676520"/>
            <a:ext cx="2971800" cy="824040"/>
            <a:chOff x="3962520" y="1676520"/>
            <a:chExt cx="2971800" cy="824040"/>
          </a:xfrm>
        </p:grpSpPr>
        <p:sp>
          <p:nvSpPr>
            <p:cNvPr id="347" name=""/>
            <p:cNvSpPr/>
            <p:nvPr/>
          </p:nvSpPr>
          <p:spPr>
            <a:xfrm>
              <a:off x="4599000" y="1676520"/>
              <a:ext cx="233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ties for all the fields in the four tables of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962520" y="19810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la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la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line of person's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1( String firstLi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1 = first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line of person's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ddress1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 line of person's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2( String secondLi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2 = second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Relational-Database Model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"/>
          <p:cNvSpPr/>
          <p:nvPr/>
        </p:nvSpPr>
        <p:spPr>
          <a:xfrm>
            <a:off x="3051360" y="2209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4880" y="2209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5240" y="25909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4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048120"/>
            <a:ext cx="52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6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240" y="34290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6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08000" y="25909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New Jers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072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rl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83880" y="3429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13760" y="4038480"/>
            <a:ext cx="5167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set formed by sel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part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cond line of person's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ddress2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ity in which person l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ity( String personCit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y = person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ity in which person l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i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ate in which person l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te( String personSta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e = personSt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ate in which person l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zip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Zipcode( String zip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zipcode = zi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zip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Zipcod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ipc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phon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honeNumber( String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oneNumber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phone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hone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e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mailAddress( String emai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ailAddress = 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e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EmailAddres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I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ddress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phon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honeI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one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phon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hone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email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mailI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ail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email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mail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4 AddressBookDataAccess interface describes the methods for accessing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4: AddressBookDataAcces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that specifies the methods for inserting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ing, deleting and finding recor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DataAcces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cate specified person by last name. Retur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ressBookEntry containing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BookEntry findPerson( String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information for specified pers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boolean indicating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Pers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BookEntry person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a new person. Return boolean indic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Person( AddressBookEntry pers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specified person. Return boolean indicating 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Pers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BookEntry person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face AddressBookData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971800" y="2590560"/>
            <a:ext cx="6041880" cy="3276720"/>
            <a:chOff x="2971800" y="2590560"/>
            <a:chExt cx="6041880" cy="3276720"/>
          </a:xfrm>
        </p:grpSpPr>
        <p:sp>
          <p:nvSpPr>
            <p:cNvPr id="362" name=""/>
            <p:cNvSpPr/>
            <p:nvPr/>
          </p:nvSpPr>
          <p:spPr>
            <a:xfrm>
              <a:off x="6553080" y="3352680"/>
              <a:ext cx="24606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be methods required by the address-book application to perform insertions, updates, deletions and searches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791320" y="41911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5943240" y="2590560"/>
              <a:ext cx="6094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6095880" y="350496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657240" y="4191120"/>
              <a:ext cx="2895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971800" y="4191120"/>
              <a:ext cx="3581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5 DataAccessException is thrown when there is a problem accessing the data sourc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5 DataAccessExcepti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AddressBookDataAccess throws DataAccess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hen there is a problem accessing the data sour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with String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with Exception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Exception 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cep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tackTrace of exception from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ckTra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6: CloudscapeDataAcces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 implementation of interface AddressBookDataAccess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s database operations with PreparedStat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udscapeDataAcce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DataAcces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prepared statement for loca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Fi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prepared statement for determining person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Person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s to prepared statements for inser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Inser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Insert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InsertPh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Insert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s to prepared statements for upda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Upda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Update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UpdatePh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Update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1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s to prepared statements for upda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Dele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Delete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DeletePh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Delete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PreparedStatements to access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udscapeDataAcces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addressbook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cate 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Find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SELECT names.personID, firstName, lastName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addressID, address1, address2, city, state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zipcode, phoneID, phoneNumber, emailID,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emailAddres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FROM names, addresses, phoneNumbers, emailAddresse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lastName = ? AN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ames.personID = addresses.personID AN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ames.personID = phoneNumbers.personID AN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ames.personID = emailAddresses.personID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personID for last person inserted in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[This is a Cloudscape-specific database operation.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PersonID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ALUES ConnectionInfo.lastAutoincrementValue(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APP', 'NAMES', 'PERSONID'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first and last names in table names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referential integrity, this must be perform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fore sqlInsertAddress, sqlInsertPhon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809520" y="1828800"/>
            <a:ext cx="3124440" cy="824040"/>
            <a:chOff x="3809520" y="1828800"/>
            <a:chExt cx="3124440" cy="824040"/>
          </a:xfrm>
        </p:grpSpPr>
        <p:sp>
          <p:nvSpPr>
            <p:cNvPr id="375" name=""/>
            <p:cNvSpPr/>
            <p:nvPr/>
          </p:nvSpPr>
          <p:spPr>
            <a:xfrm>
              <a:off x="4477680" y="1828800"/>
              <a:ext cx="2456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utility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connection to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809520" y="21337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38400" y="2742840"/>
            <a:ext cx="4191480" cy="2407320"/>
            <a:chOff x="4838400" y="2742840"/>
            <a:chExt cx="4191480" cy="2407320"/>
          </a:xfrm>
        </p:grpSpPr>
        <p:sp>
          <p:nvSpPr>
            <p:cNvPr id="378" name=""/>
            <p:cNvSpPr/>
            <p:nvPr/>
          </p:nvSpPr>
          <p:spPr>
            <a:xfrm>
              <a:off x="6934320" y="3352680"/>
              <a:ext cx="209556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Connection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each of the SQL statements that manipulat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838400" y="2742840"/>
              <a:ext cx="20955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105520" y="4267080"/>
              <a:ext cx="1828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1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qlInsertEmai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InsertNam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 INTO names ( firstName, lastName )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( ? , ? 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address in table 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InsertAddress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 INTO addresses ( personID, address1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2, city, state, zipcode )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( ? , ? , ? , ? , ? , ? 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phone number in table phone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InsertPhon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"INSERT INTO phoneNumber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( personID, phoneNumber)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ALUES ( ? , ? 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email in table email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InsertEmail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SERT INTO emailAddresse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( personID, emailAddress )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VALUES ( ? , ? 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first and last names in table 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UpdateNam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UPDATE names SET firstName = ?, lastName = ?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person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ddress in table 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UpdateAddress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UPDATE addresses SET address1 = ?, address2 = ?,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city = ?, state = ?, zipcode = ?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address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257440" y="533160"/>
            <a:ext cx="3772440" cy="5105520"/>
            <a:chOff x="5257440" y="533160"/>
            <a:chExt cx="3772440" cy="5105520"/>
          </a:xfrm>
        </p:grpSpPr>
        <p:sp>
          <p:nvSpPr>
            <p:cNvPr id="384" name=""/>
            <p:cNvSpPr/>
            <p:nvPr/>
          </p:nvSpPr>
          <p:spPr>
            <a:xfrm>
              <a:off x="6934320" y="2133720"/>
              <a:ext cx="209556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Connection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each of the SQL statements that manipulat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5333760" y="533160"/>
              <a:ext cx="1600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562720" y="3048120"/>
              <a:ext cx="137160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333760" y="2590920"/>
              <a:ext cx="1600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410080" y="3048120"/>
              <a:ext cx="1524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5486400" y="1447560"/>
              <a:ext cx="1447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57440" y="3048120"/>
              <a:ext cx="167652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1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phone number in table phone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UpdatePhon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UPDATE phoneNumbers SET phoneNumber = ?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phone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email in table email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UpdateEmail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UPDATE emailAddresses SET emailAddress = 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email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row from table names. This must be execut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fter sqlDeleteAddress, sqlDeletePhon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lDeleteEmail, because of referential integr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DeleteNam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LETE FROM names WHERE person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address from table 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DeleteAddress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LETE FROM addresses WHERE person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phone number from table phone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DeletePhon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 FROM phoneNumbers WHERE person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email address from table email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DeleteEmail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LETE FROM emailAddresses WHERE person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oudscapeDataAcce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tain a connection to addressbook database. Method m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y throw ClassNotFoundException or SQLException. If so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ception is passed via this class's constructor back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AddressBook application so the application ca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 error message and termin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3760" y="533160"/>
            <a:ext cx="3696120" cy="4419720"/>
            <a:chOff x="5333760" y="533160"/>
            <a:chExt cx="3696120" cy="4419720"/>
          </a:xfrm>
        </p:grpSpPr>
        <p:sp>
          <p:nvSpPr>
            <p:cNvPr id="394" name=""/>
            <p:cNvSpPr/>
            <p:nvPr/>
          </p:nvSpPr>
          <p:spPr>
            <a:xfrm>
              <a:off x="6934320" y="2133720"/>
              <a:ext cx="209556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Connection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each of the SQL statements that manipulat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333760" y="533160"/>
              <a:ext cx="1600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410080" y="3048120"/>
              <a:ext cx="152424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5333760" y="274284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562720" y="30481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5486400" y="1447560"/>
              <a:ext cx="1447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410080" y="3048120"/>
              <a:ext cx="1524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s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ISB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ships among the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4-1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0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udscape database driver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riv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RL to connect to addressbook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:cloudscape:rmi:addressboo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database driv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.forName( driv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ion = DriverManager.getConnection( ur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quire manual commit for transactions. This enabl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e program to rollback transactions that do no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plete and commit transactions that complete proper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ion.setAutoComm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cate specified person. Method returns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ing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 findPerson( String las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query parameter and execute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Find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qlFind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no records found, return immedia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resultSet.next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76320"/>
            <a:ext cx="2971800" cy="580680"/>
            <a:chOff x="4648320" y="76320"/>
            <a:chExt cx="2971800" cy="580680"/>
          </a:xfrm>
        </p:grpSpPr>
        <p:sp>
          <p:nvSpPr>
            <p:cNvPr id="404" name=""/>
            <p:cNvSpPr/>
            <p:nvPr/>
          </p:nvSpPr>
          <p:spPr>
            <a:xfrm>
              <a:off x="5284800" y="76320"/>
              <a:ext cx="233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ablish the connection to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648320" y="38124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343040" y="3124080"/>
            <a:ext cx="3124080" cy="580680"/>
            <a:chOff x="4343040" y="3124080"/>
            <a:chExt cx="3124080" cy="580680"/>
          </a:xfrm>
        </p:grpSpPr>
        <p:sp>
          <p:nvSpPr>
            <p:cNvPr id="407" name=""/>
            <p:cNvSpPr/>
            <p:nvPr/>
          </p:nvSpPr>
          <p:spPr>
            <a:xfrm>
              <a:off x="5011200" y="3124080"/>
              <a:ext cx="2455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ables automatic commitment of transa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343040" y="34290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48320" y="4800600"/>
            <a:ext cx="4038480" cy="580680"/>
            <a:chOff x="4648320" y="4800600"/>
            <a:chExt cx="4038480" cy="580680"/>
          </a:xfrm>
        </p:grpSpPr>
        <p:sp>
          <p:nvSpPr>
            <p:cNvPr id="410" name=""/>
            <p:cNvSpPr/>
            <p:nvPr/>
          </p:nvSpPr>
          <p:spPr>
            <a:xfrm>
              <a:off x="5514480" y="4800600"/>
              <a:ext cx="317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he paramet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8320" y="510552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15000" y="5105520"/>
            <a:ext cx="2362320" cy="337320"/>
            <a:chOff x="5715000" y="5105520"/>
            <a:chExt cx="2362320" cy="337320"/>
          </a:xfrm>
        </p:grpSpPr>
        <p:sp>
          <p:nvSpPr>
            <p:cNvPr id="413" name=""/>
            <p:cNvSpPr/>
            <p:nvPr/>
          </p:nvSpPr>
          <p:spPr>
            <a:xfrm>
              <a:off x="6324480" y="510552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715000" y="52578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8-1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 pers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et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ddressBookEntry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FirstName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LastName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AddressID( resultSet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Address1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Address2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City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State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Zipcode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PhoneID( resultSet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PhoneNumber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EmailID( resultSet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EmailAddress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find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562360" y="2057400"/>
            <a:ext cx="2819160" cy="580680"/>
            <a:chOff x="5562360" y="2057400"/>
            <a:chExt cx="2819160" cy="580680"/>
          </a:xfrm>
        </p:grpSpPr>
        <p:sp>
          <p:nvSpPr>
            <p:cNvPr id="418" name=""/>
            <p:cNvSpPr/>
            <p:nvPr/>
          </p:nvSpPr>
          <p:spPr>
            <a:xfrm>
              <a:off x="6167160" y="2057400"/>
              <a:ext cx="2214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roperti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En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562360" y="23623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8-2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1, 2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0-2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n entry. Method returns boolean indic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Person( AddressBookEntry pers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person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nam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Nam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Nam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Name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UpdateNam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pda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1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2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C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St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Zipc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UpdateAddress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upda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248520" y="2057400"/>
            <a:ext cx="2666520" cy="824040"/>
            <a:chOff x="6248520" y="2057400"/>
            <a:chExt cx="2666520" cy="824040"/>
          </a:xfrm>
        </p:grpSpPr>
        <p:sp>
          <p:nvSpPr>
            <p:cNvPr id="423" name=""/>
            <p:cNvSpPr/>
            <p:nvPr/>
          </p:nvSpPr>
          <p:spPr>
            <a:xfrm>
              <a:off x="6819480" y="205740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Updat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248520" y="23623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172200" y="4495680"/>
            <a:ext cx="2666520" cy="824040"/>
            <a:chOff x="6172200" y="4495680"/>
            <a:chExt cx="2666520" cy="824040"/>
          </a:xfrm>
        </p:grpSpPr>
        <p:sp>
          <p:nvSpPr>
            <p:cNvPr id="426" name=""/>
            <p:cNvSpPr/>
            <p:nvPr/>
          </p:nvSpPr>
          <p:spPr>
            <a:xfrm>
              <a:off x="6743160" y="449568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Update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172200" y="48006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105160" y="2743200"/>
            <a:ext cx="3657960" cy="2743200"/>
            <a:chOff x="5105160" y="2743200"/>
            <a:chExt cx="3657960" cy="2743200"/>
          </a:xfrm>
        </p:grpSpPr>
        <p:sp>
          <p:nvSpPr>
            <p:cNvPr id="429" name=""/>
            <p:cNvSpPr/>
            <p:nvPr/>
          </p:nvSpPr>
          <p:spPr>
            <a:xfrm>
              <a:off x="7326360" y="3429000"/>
              <a:ext cx="143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SQL stat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5105160" y="2743200"/>
              <a:ext cx="2220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333760" y="3733920"/>
              <a:ext cx="19810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5-23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6-2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phoneNumber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Phon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honeNumb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Phone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hone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UpdatePhon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pda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email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Email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EmailAddres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Email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Email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UpdateEmail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pda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ommit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t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updating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oll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019920" y="609480"/>
            <a:ext cx="2666520" cy="824040"/>
            <a:chOff x="6019920" y="609480"/>
            <a:chExt cx="2666520" cy="824040"/>
          </a:xfrm>
        </p:grpSpPr>
        <p:sp>
          <p:nvSpPr>
            <p:cNvPr id="435" name=""/>
            <p:cNvSpPr/>
            <p:nvPr/>
          </p:nvSpPr>
          <p:spPr>
            <a:xfrm>
              <a:off x="6590880" y="60948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Update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019920" y="9144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172200" y="2590920"/>
            <a:ext cx="2666520" cy="824040"/>
            <a:chOff x="6172200" y="2590920"/>
            <a:chExt cx="2666520" cy="824040"/>
          </a:xfrm>
        </p:grpSpPr>
        <p:sp>
          <p:nvSpPr>
            <p:cNvPr id="438" name=""/>
            <p:cNvSpPr/>
            <p:nvPr/>
          </p:nvSpPr>
          <p:spPr>
            <a:xfrm>
              <a:off x="6743160" y="259092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UpdateEmai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172200" y="289548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105160" y="4267080"/>
            <a:ext cx="2895840" cy="580680"/>
            <a:chOff x="5105160" y="4267080"/>
            <a:chExt cx="2895840" cy="580680"/>
          </a:xfrm>
        </p:grpSpPr>
        <p:sp>
          <p:nvSpPr>
            <p:cNvPr id="441" name=""/>
            <p:cNvSpPr/>
            <p:nvPr/>
          </p:nvSpPr>
          <p:spPr>
            <a:xfrm>
              <a:off x="5726520" y="4267080"/>
              <a:ext cx="2274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s the transaction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05160" y="45720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638320" y="5867280"/>
            <a:ext cx="2819520" cy="580680"/>
            <a:chOff x="5638320" y="5867280"/>
            <a:chExt cx="2819520" cy="580680"/>
          </a:xfrm>
        </p:grpSpPr>
        <p:sp>
          <p:nvSpPr>
            <p:cNvPr id="444" name=""/>
            <p:cNvSpPr/>
            <p:nvPr/>
          </p:nvSpPr>
          <p:spPr>
            <a:xfrm>
              <a:off x="6242400" y="5867280"/>
              <a:ext cx="221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llback the transaction if exception happ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638320" y="61722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6-28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olling 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ave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new entry. Method returns boolean indic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Person( AddressBookEntry pers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person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sert first and last name in nam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Nam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Nam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InsertNam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nsert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rmine new person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PersonID = sqlPersonID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PersonID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ID =  resultPersonID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248520" y="3429000"/>
            <a:ext cx="2666520" cy="824040"/>
            <a:chOff x="6248520" y="3429000"/>
            <a:chExt cx="2666520" cy="824040"/>
          </a:xfrm>
        </p:grpSpPr>
        <p:sp>
          <p:nvSpPr>
            <p:cNvPr id="449" name=""/>
            <p:cNvSpPr/>
            <p:nvPr/>
          </p:nvSpPr>
          <p:spPr>
            <a:xfrm>
              <a:off x="6819480" y="342900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Inser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248520" y="37339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105520" y="3886200"/>
            <a:ext cx="2971800" cy="337320"/>
            <a:chOff x="5105520" y="3886200"/>
            <a:chExt cx="2971800" cy="337320"/>
          </a:xfrm>
        </p:grpSpPr>
        <p:sp>
          <p:nvSpPr>
            <p:cNvPr id="452" name=""/>
            <p:cNvSpPr/>
            <p:nvPr/>
          </p:nvSpPr>
          <p:spPr>
            <a:xfrm>
              <a:off x="5867280" y="388620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SQL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05520" y="4038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3-3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3-3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sert address in 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Address1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Address2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C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St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Zipc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 = sqlInsertAddress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insert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sert phone number in phoneNumber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Phone.setIn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Phon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PhoneNumb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 = sqlInsertPhon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insert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723920" y="1143000"/>
            <a:ext cx="2667600" cy="824040"/>
            <a:chOff x="4723920" y="1143000"/>
            <a:chExt cx="2667600" cy="824040"/>
          </a:xfrm>
        </p:grpSpPr>
        <p:sp>
          <p:nvSpPr>
            <p:cNvPr id="457" name=""/>
            <p:cNvSpPr/>
            <p:nvPr/>
          </p:nvSpPr>
          <p:spPr>
            <a:xfrm>
              <a:off x="5295600" y="1143000"/>
              <a:ext cx="209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Insert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723920" y="144792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952520" y="4038480"/>
            <a:ext cx="2667600" cy="824040"/>
            <a:chOff x="4952520" y="4038480"/>
            <a:chExt cx="2667600" cy="824040"/>
          </a:xfrm>
        </p:grpSpPr>
        <p:sp>
          <p:nvSpPr>
            <p:cNvPr id="460" name=""/>
            <p:cNvSpPr/>
            <p:nvPr/>
          </p:nvSpPr>
          <p:spPr>
            <a:xfrm>
              <a:off x="5524200" y="4038480"/>
              <a:ext cx="209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Insert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952520" y="43434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5-3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sert email address in email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Email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Email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EmailAddres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 = sqlInsertEmail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insert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nnection.rollback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back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commi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mit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sert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updating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oll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.rollback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olling 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new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952520" y="380880"/>
            <a:ext cx="2667600" cy="824040"/>
            <a:chOff x="4952520" y="380880"/>
            <a:chExt cx="2667600" cy="824040"/>
          </a:xfrm>
        </p:grpSpPr>
        <p:sp>
          <p:nvSpPr>
            <p:cNvPr id="465" name=""/>
            <p:cNvSpPr/>
            <p:nvPr/>
          </p:nvSpPr>
          <p:spPr>
            <a:xfrm>
              <a:off x="5524200" y="380880"/>
              <a:ext cx="209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InsertEmai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952520" y="6858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486040" y="2209680"/>
            <a:ext cx="2895840" cy="580680"/>
            <a:chOff x="5486040" y="2209680"/>
            <a:chExt cx="2895840" cy="580680"/>
          </a:xfrm>
        </p:grpSpPr>
        <p:sp>
          <p:nvSpPr>
            <p:cNvPr id="468" name=""/>
            <p:cNvSpPr/>
            <p:nvPr/>
          </p:nvSpPr>
          <p:spPr>
            <a:xfrm>
              <a:off x="6107400" y="2209680"/>
              <a:ext cx="2274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s the transaction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486040" y="25146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562360" y="4419720"/>
            <a:ext cx="2819520" cy="580680"/>
            <a:chOff x="5562360" y="4419720"/>
            <a:chExt cx="2819520" cy="580680"/>
          </a:xfrm>
        </p:grpSpPr>
        <p:sp>
          <p:nvSpPr>
            <p:cNvPr id="471" name=""/>
            <p:cNvSpPr/>
            <p:nvPr/>
          </p:nvSpPr>
          <p:spPr>
            <a:xfrm>
              <a:off x="6166440" y="4419720"/>
              <a:ext cx="221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llback the transaction if exception happ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562360" y="472464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8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9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an entry. Method returns boolean indic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Person( AddressBookEntry pers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lete a person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address from 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Address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DeleteAddress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ele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phone number from phoneNumber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Phone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DeletePhon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ele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email address from email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Email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DeleteEmail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248520" y="1828800"/>
            <a:ext cx="2666520" cy="824040"/>
            <a:chOff x="6248520" y="1828800"/>
            <a:chExt cx="2666520" cy="824040"/>
          </a:xfrm>
        </p:grpSpPr>
        <p:sp>
          <p:nvSpPr>
            <p:cNvPr id="476" name=""/>
            <p:cNvSpPr/>
            <p:nvPr/>
          </p:nvSpPr>
          <p:spPr>
            <a:xfrm>
              <a:off x="6819480" y="182880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Delete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248520" y="21337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019920" y="3733920"/>
            <a:ext cx="2666520" cy="824040"/>
            <a:chOff x="6019920" y="3733920"/>
            <a:chExt cx="2666520" cy="824040"/>
          </a:xfrm>
        </p:grpSpPr>
        <p:sp>
          <p:nvSpPr>
            <p:cNvPr id="479" name=""/>
            <p:cNvSpPr/>
            <p:nvPr/>
          </p:nvSpPr>
          <p:spPr>
            <a:xfrm>
              <a:off x="6590880" y="373392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Delete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019920" y="403848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019920" y="5486400"/>
            <a:ext cx="2666520" cy="824040"/>
            <a:chOff x="6019920" y="5486400"/>
            <a:chExt cx="2666520" cy="824040"/>
          </a:xfrm>
        </p:grpSpPr>
        <p:sp>
          <p:nvSpPr>
            <p:cNvPr id="482" name=""/>
            <p:cNvSpPr/>
            <p:nvPr/>
          </p:nvSpPr>
          <p:spPr>
            <a:xfrm>
              <a:off x="6590880" y="548640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DeleteEmai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019920" y="57913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ele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name from nam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Name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DeleteNam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ele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ommi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mit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updating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oll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olling 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elete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943600" y="1295280"/>
            <a:ext cx="2666520" cy="824040"/>
            <a:chOff x="5943600" y="1295280"/>
            <a:chExt cx="2666520" cy="824040"/>
          </a:xfrm>
        </p:grpSpPr>
        <p:sp>
          <p:nvSpPr>
            <p:cNvPr id="487" name=""/>
            <p:cNvSpPr/>
            <p:nvPr/>
          </p:nvSpPr>
          <p:spPr>
            <a:xfrm>
              <a:off x="6514560" y="129528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Delet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943600" y="16002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257440" y="2971800"/>
            <a:ext cx="2895840" cy="580680"/>
            <a:chOff x="5257440" y="2971800"/>
            <a:chExt cx="2895840" cy="580680"/>
          </a:xfrm>
        </p:grpSpPr>
        <p:sp>
          <p:nvSpPr>
            <p:cNvPr id="490" name=""/>
            <p:cNvSpPr/>
            <p:nvPr/>
          </p:nvSpPr>
          <p:spPr>
            <a:xfrm>
              <a:off x="5878800" y="2971800"/>
              <a:ext cx="2274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s the transaction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257440" y="32767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638320" y="4419720"/>
            <a:ext cx="2819520" cy="580680"/>
            <a:chOff x="5638320" y="4419720"/>
            <a:chExt cx="2819520" cy="580680"/>
          </a:xfrm>
        </p:grpSpPr>
        <p:sp>
          <p:nvSpPr>
            <p:cNvPr id="493" name=""/>
            <p:cNvSpPr/>
            <p:nvPr/>
          </p:nvSpPr>
          <p:spPr>
            <a:xfrm>
              <a:off x="6242400" y="4419720"/>
              <a:ext cx="221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llback the transaction if exception happ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638320" y="472464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2-4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to close statements and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Find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PersonID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N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Addres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Phon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Email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N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Phon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Email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N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Addres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Phon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Email.close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closing statements and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lo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to clean up database connection. Provided in c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udscapeDataAccess object is garbage collect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loudscapeData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038120" y="2133720"/>
            <a:ext cx="3581640" cy="580680"/>
            <a:chOff x="4038120" y="2133720"/>
            <a:chExt cx="3581640" cy="580680"/>
          </a:xfrm>
        </p:grpSpPr>
        <p:sp>
          <p:nvSpPr>
            <p:cNvPr id="498" name=""/>
            <p:cNvSpPr/>
            <p:nvPr/>
          </p:nvSpPr>
          <p:spPr>
            <a:xfrm>
              <a:off x="4804200" y="2133720"/>
              <a:ext cx="281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database conne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038120" y="243864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1368360"/>
          <a:ext cx="771516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8360"/>
                    <a:ext cx="7715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85800" y="3809880"/>
          <a:ext cx="7769160" cy="457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8098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7 AddressBookEntryFrame for viewing and editing an AddressBook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7: AddressBookEntryFra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ubclass of JInternalFrame customized to display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 AddressBookEntry or set an AddressBookEntry's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d on the current data in the U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Fra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Internal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shMap to store JTextField references for quick 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 field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urrent AddressBookEntry set by AddressBook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 pers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nels to organize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leftPanel, right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integers used to determine new window positio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cascading wind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y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Strings that represent name of each text fiel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se are placed on JLabels and used as keys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shMap fiel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R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A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H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095880" y="2438280"/>
            <a:ext cx="2286000" cy="580680"/>
            <a:chOff x="6095880" y="2438280"/>
            <a:chExt cx="2286000" cy="580680"/>
          </a:xfrm>
        </p:grpSpPr>
        <p:sp>
          <p:nvSpPr>
            <p:cNvPr id="503" name=""/>
            <p:cNvSpPr/>
            <p:nvPr/>
          </p:nvSpPr>
          <p:spPr>
            <a:xfrm>
              <a:off x="6585480" y="2438280"/>
              <a:ext cx="179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095880" y="27432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7 AddressBookEntryFrame for viewing and editing an AddressBook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Fr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 Book E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f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ft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igh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ight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R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A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H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lef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righ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ounds( xOffset, yOffse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Offset = ( xOffse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Offset = ( yOffse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733560" y="457200"/>
            <a:ext cx="2362320" cy="580680"/>
            <a:chOff x="3733560" y="457200"/>
            <a:chExt cx="2362320" cy="580680"/>
          </a:xfrm>
        </p:grpSpPr>
        <p:sp>
          <p:nvSpPr>
            <p:cNvPr id="508" name=""/>
            <p:cNvSpPr/>
            <p:nvPr/>
          </p:nvSpPr>
          <p:spPr>
            <a:xfrm>
              <a:off x="4239720" y="457200"/>
              <a:ext cx="185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creates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733560" y="7621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7 AddressBookEntryFrame for viewing and editing an AddressBook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ddressBookEntry then use its propertie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lace data in each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BookEntry( AddressBookEntry ent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 = 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R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A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1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2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C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St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Zipc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H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honeNumb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EmailAddres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AddressBookEntry data from GUI and retur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 getAddressBookEntr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FirstName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R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LastName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A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Address1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Address2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City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State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Zipcode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PhoneNumber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H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EmailAddress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181120" y="1905120"/>
            <a:ext cx="2133720" cy="580680"/>
            <a:chOff x="5181120" y="1905120"/>
            <a:chExt cx="2133720" cy="580680"/>
          </a:xfrm>
        </p:grpSpPr>
        <p:sp>
          <p:nvSpPr>
            <p:cNvPr id="513" name=""/>
            <p:cNvSpPr/>
            <p:nvPr/>
          </p:nvSpPr>
          <p:spPr>
            <a:xfrm>
              <a:off x="5638320" y="190512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data in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181120" y="221004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257800" y="4495680"/>
            <a:ext cx="3047760" cy="580680"/>
            <a:chOff x="5257800" y="4495680"/>
            <a:chExt cx="3047760" cy="580680"/>
          </a:xfrm>
        </p:grpSpPr>
        <p:sp>
          <p:nvSpPr>
            <p:cNvPr id="516" name=""/>
            <p:cNvSpPr/>
            <p:nvPr/>
          </p:nvSpPr>
          <p:spPr>
            <a:xfrm>
              <a:off x="5910480" y="4495680"/>
              <a:ext cx="2395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data from GUI and 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En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257800" y="480060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7 AddressBookEntryFrame for viewing and editing an AddressBook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3-1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ext in JTextField by specifying field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ame a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eld( String fieldName, String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Field 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JTextField ) fields.get( field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.setText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ext in JTextField by specifying field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eld( String field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Field 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JTextField ) fields.get( field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.getText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method used by constructor to create one row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UI containing JLabel and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Row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name,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Factory.createEmptyBord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ftPanel.add( 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Field 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ightPanel.add( 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s.put( name, 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ddressBookEntry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419720" y="3886200"/>
            <a:ext cx="3200400" cy="824040"/>
            <a:chOff x="4419720" y="3886200"/>
            <a:chExt cx="3200400" cy="824040"/>
          </a:xfrm>
        </p:grpSpPr>
        <p:sp>
          <p:nvSpPr>
            <p:cNvPr id="521" name=""/>
            <p:cNvSpPr/>
            <p:nvPr/>
          </p:nvSpPr>
          <p:spPr>
            <a:xfrm>
              <a:off x="5105160" y="3886200"/>
              <a:ext cx="2514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one row in GUI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L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419720" y="41911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8: AddressBook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 address book database example that allows information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 inserted, updated and deleted. The example us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actions to ensure that the operations comple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ccessful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for manipulating multiple document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 deskto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database acce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DataAccess data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s to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ction newAction, saveAction, deleteAc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archAction, exi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database connection and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"Address Book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6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ba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udscapeDataAcc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with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tabase connection successful, create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s for common operations. Private in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asses encapsulate the processing of each a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w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abled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abled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arch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s to tool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new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sav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delet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.Separat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search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105520" y="457200"/>
            <a:ext cx="3961800" cy="580680"/>
            <a:chOff x="5105520" y="457200"/>
            <a:chExt cx="3961800" cy="580680"/>
          </a:xfrm>
        </p:grpSpPr>
        <p:sp>
          <p:nvSpPr>
            <p:cNvPr id="528" name=""/>
            <p:cNvSpPr/>
            <p:nvPr/>
          </p:nvSpPr>
          <p:spPr>
            <a:xfrm>
              <a:off x="5955120" y="457200"/>
              <a:ext cx="3112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udscapeDataAcc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interact with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5105520" y="7621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2-9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s to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new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v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delet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earch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menu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deskt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content pane to set up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.add( desktop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for windowClosing event in case us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es not select Exit from File menu to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hutDow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124080" y="4648320"/>
            <a:ext cx="3428640" cy="580680"/>
            <a:chOff x="3124080" y="4648320"/>
            <a:chExt cx="3428640" cy="580680"/>
          </a:xfrm>
        </p:grpSpPr>
        <p:sp>
          <p:nvSpPr>
            <p:cNvPr id="533" name=""/>
            <p:cNvSpPr/>
            <p:nvPr/>
          </p:nvSpPr>
          <p:spPr>
            <a:xfrm>
              <a:off x="3859200" y="4648320"/>
              <a:ext cx="2693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s an event handler for the window-closing ev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3124080" y="495324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2-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window size and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kit toolkit = getToolk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mension dimension = toolkit.getScreen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enter window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ound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imension.width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mension.height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ressBook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atabase connection and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tDow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base.clos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 new AddressBookEntryFrame and register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Frame createAddressBookEntryFr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BookEntryFrame fr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ISPOSE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InternalFram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nal frame becomes active frame on deskt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nalFram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av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elet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200400" y="1523880"/>
            <a:ext cx="2437920" cy="580680"/>
            <a:chOff x="3200400" y="1523880"/>
            <a:chExt cx="2437920" cy="580680"/>
          </a:xfrm>
        </p:grpSpPr>
        <p:sp>
          <p:nvSpPr>
            <p:cNvPr id="538" name=""/>
            <p:cNvSpPr/>
            <p:nvPr/>
          </p:nvSpPr>
          <p:spPr>
            <a:xfrm>
              <a:off x="3722400" y="1523880"/>
              <a:ext cx="1915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s the application wind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3200400" y="182880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7-18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nal frame becomes inactive frame on deskt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D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nalFram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av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elet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nalFrameAdapter anonymous inner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InternalFram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AddressBookEntry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to launch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vate inner class defines action that enabl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 to input new entry. User must "Save"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fter inputt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icon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New24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dd a new address book e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333760" y="4114800"/>
            <a:ext cx="3657600" cy="824040"/>
            <a:chOff x="5333760" y="4114800"/>
            <a:chExt cx="3657600" cy="824040"/>
          </a:xfrm>
        </p:grpSpPr>
        <p:sp>
          <p:nvSpPr>
            <p:cNvPr id="543" name=""/>
            <p:cNvSpPr/>
            <p:nvPr/>
          </p:nvSpPr>
          <p:spPr>
            <a:xfrm>
              <a:off x="6116040" y="4114800"/>
              <a:ext cx="287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333760" y="441972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1-25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window in which user can input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internal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Frame entry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reateAddressBookEntry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ew AddressBookEntry i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Frame.setAddressBookEnt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sktop.add( entryFr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Fram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New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defines an action that can save new 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d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icon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Save24.pn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Save an address book ent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486400" y="3886200"/>
            <a:ext cx="2971800" cy="1067400"/>
            <a:chOff x="5486400" y="3886200"/>
            <a:chExt cx="2971800" cy="1067400"/>
          </a:xfrm>
        </p:grpSpPr>
        <p:sp>
          <p:nvSpPr>
            <p:cNvPr id="548" name=""/>
            <p:cNvSpPr/>
            <p:nvPr/>
          </p:nvSpPr>
          <p:spPr>
            <a:xfrm>
              <a:off x="6121800" y="3886200"/>
              <a:ext cx="2336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486400" y="4191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85800" y="2743200"/>
          <a:ext cx="7769160" cy="457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ave new entry or update exis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rrently activ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Frame current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AddressBookEntryFrame ) desktop.getSelected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AddressBookEntry from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 pers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Frame.getAddressBookEnt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sert person in address 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personID. If 0, this is a new ent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therwise an update must be perform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ID = person.getPerson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etermine string for message dialo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oper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person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sert or upda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erson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tabase.newPerson( pers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tabase.savePerson( pers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success or failur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pera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uccessfu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4-3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ct database err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Access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 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AccessExce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current window and dispose of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Frame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Sav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defines action that deletes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icon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lass().getResourc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mages/Delete24.pn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Delete an address book ent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le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638680" y="2971800"/>
            <a:ext cx="3047760" cy="1067400"/>
            <a:chOff x="5638680" y="2971800"/>
            <a:chExt cx="3047760" cy="1067400"/>
          </a:xfrm>
        </p:grpSpPr>
        <p:sp>
          <p:nvSpPr>
            <p:cNvPr id="555" name=""/>
            <p:cNvSpPr/>
            <p:nvPr/>
          </p:nvSpPr>
          <p:spPr>
            <a:xfrm>
              <a:off x="6291360" y="2971800"/>
              <a:ext cx="2395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638680" y="3276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rrently activ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Frame current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AddressBookEntryFrame ) desktop.getSelected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ddressBookEntry from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 pers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Frame.getAddressBookEnt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personID is 0, this is new entry that has n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een inserted. Therefore, delete is not necessa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message and retur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erson.getPersonID() == 0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ew entries must be saved before they can b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d. \nTo cancel a new entry, simply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close the window containing the ent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base.deletePerson( pers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su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Deletion successfu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ct problems deleting 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Access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 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ion fail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4-3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current window and dispose of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Frame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Delet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defines action that locates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icon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lass().getResourc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mages/Find24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Search for an address book ent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cate exis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last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InputDialog( desktop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638320" y="1523880"/>
            <a:ext cx="3124800" cy="1067400"/>
            <a:chOff x="5638320" y="1523880"/>
            <a:chExt cx="3124800" cy="1067400"/>
          </a:xfrm>
        </p:grpSpPr>
        <p:sp>
          <p:nvSpPr>
            <p:cNvPr id="562" name=""/>
            <p:cNvSpPr/>
            <p:nvPr/>
          </p:nvSpPr>
          <p:spPr>
            <a:xfrm>
              <a:off x="6305760" y="1523880"/>
              <a:ext cx="2457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638320" y="18288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last name was input, search for it; otherwis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astNam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xecute search. If found,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s returned contain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BookEntry person = database.findPers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ers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reate window to display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ressBookEntryFrame entryFra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reateAddressBookEntry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AddressBookEntry to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tryFrame.setAddressBookEntry( pers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esktop.add( entryFr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tryFram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showMessageDialog( deskto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"Entry with last name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lastName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"\" not found in address boo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"if ( lastName == null 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Search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defines action that closes connection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tabase and terminate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0-38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blic Exit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inate the progra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utDown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database connection and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ExitA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486040" y="76320"/>
            <a:ext cx="2895480" cy="1067400"/>
            <a:chOff x="5486040" y="76320"/>
            <a:chExt cx="2895480" cy="1067400"/>
          </a:xfrm>
        </p:grpSpPr>
        <p:sp>
          <p:nvSpPr>
            <p:cNvPr id="569" name=""/>
            <p:cNvSpPr/>
            <p:nvPr/>
          </p:nvSpPr>
          <p:spPr>
            <a:xfrm>
              <a:off x="6105240" y="76320"/>
              <a:ext cx="2276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86040" y="3808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3 Address-Book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72" name="addressa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09880" cy="3027600"/>
          </a:xfrm>
          <a:prstGeom prst="rect">
            <a:avLst/>
          </a:prstGeom>
          <a:ln w="0">
            <a:noFill/>
          </a:ln>
        </p:spPr>
      </p:pic>
      <p:pic>
        <p:nvPicPr>
          <p:cNvPr id="573" name="addressb" descr=""/>
          <p:cNvPicPr/>
          <p:nvPr/>
        </p:nvPicPr>
        <p:blipFill>
          <a:blip r:embed="rId2"/>
          <a:stretch/>
        </p:blipFill>
        <p:spPr>
          <a:xfrm>
            <a:off x="4648320" y="1311120"/>
            <a:ext cx="3762360" cy="2989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988280" y="4876920"/>
            <a:ext cx="50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aptures of the AddressBook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3 Address-Book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6" name=""/>
          <p:cNvSpPr/>
          <p:nvPr/>
        </p:nvSpPr>
        <p:spPr>
          <a:xfrm>
            <a:off x="2064600" y="4952880"/>
            <a:ext cx="50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aptures of the AddressBook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addressc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3025800"/>
          </a:xfrm>
          <a:prstGeom prst="rect">
            <a:avLst/>
          </a:prstGeom>
          <a:ln w="0">
            <a:noFill/>
          </a:ln>
        </p:spPr>
      </p:pic>
      <p:pic>
        <p:nvPicPr>
          <p:cNvPr id="578" name="addressd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76236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3 Address-Book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"/>
          <p:cNvSpPr/>
          <p:nvPr/>
        </p:nvSpPr>
        <p:spPr>
          <a:xfrm>
            <a:off x="2064600" y="5181480"/>
            <a:ext cx="50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aptures of the AddressBook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addresse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219560" cy="3352680"/>
          </a:xfrm>
          <a:prstGeom prst="rect">
            <a:avLst/>
          </a:prstGeom>
          <a:ln w="0">
            <a:noFill/>
          </a:ln>
        </p:spPr>
      </p:pic>
      <p:pic>
        <p:nvPicPr>
          <p:cNvPr id="582" name="addressf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1436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Stored Proced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SQL statements in a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 SQL statements by programs accessing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able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gadzik</cp:lastModifiedBy>
  <dcterms:modified xsi:type="dcterms:W3CDTF">2002-01-28T21:34:13Z</dcterms:modified>
  <cp:revision>125</cp:revision>
  <dc:subject/>
  <dc:title>PowerPoint Presentation</dc:title>
</cp:coreProperties>
</file>