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D749-3684-4863-B553-E11AB7F25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CDE3-87B7-443A-B9D0-11DA5BB7A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BCF1-0C8A-4304-9B8F-D7864F9DB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E697-750F-4365-A155-39983F761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59B11-D10E-442D-AF86-A06FA63C57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84E8-5639-4547-8120-11E5415444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E394-D602-481F-9C7D-3348523F1B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7289-E33B-4BD2-B9FB-2634F1C91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6102-0C23-42B3-A730-D257D6F04C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FEFB-1C48-49B6-97C5-0ECA63F28F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6E12-324D-451C-BB8C-1E5B06047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A5E6-56DD-42FD-8F5B-A6E4832A7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1B60-045D-4B7D-8B0F-FE6896EEDA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A253-9D43-42C7-9D7B-C08510261B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DEB5-ECCD-4983-B51D-1C882868C2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7A55-4A58-4EA8-845A-6E407B0EC6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D3BB-11EA-4F82-8F6F-A3492F2464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925D-F866-40FE-ABF1-F978FCA21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52AA-F642-4E83-965F-61C31F057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2ADF-F0E2-4A85-9615-02BCAB546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34DA-087D-46C6-9B1E-1CA013240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DA4B-9021-4049-A6EF-A3118B878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E339-A202-4457-8A4F-C2842D0AF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1DD8-81A5-4B25-8008-314A591A3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86CA-7CDE-4E25-80E1-7F951D2DE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70A-5DBE-4E7E-B4EC-F209AE09A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8: Peer-to-Peer Applications and JXTA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ient/Server and Peer-to-Peer Applic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entralized vs. Decentralized Network Applic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eer Discovery and Search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Deitel Instant Messeng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ining the Servic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ining the Service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gistering the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ind Other Pe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iling and Running the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roving Deitel Instant Messeng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Instant Messenger with Multicast Sock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gistering the Pe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inding Other Pe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 to JX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interaction between peer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-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e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that all Peer to Peer apps must imp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sts Message to pe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formation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00240" y="2057400"/>
            <a:ext cx="3810240" cy="580680"/>
            <a:chOff x="4800240" y="2057400"/>
            <a:chExt cx="3810240" cy="580680"/>
          </a:xfrm>
        </p:grpSpPr>
        <p:sp>
          <p:nvSpPr>
            <p:cNvPr id="114" name=""/>
            <p:cNvSpPr/>
            <p:nvPr/>
          </p:nvSpPr>
          <p:spPr>
            <a:xfrm>
              <a:off x="5867280" y="20574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s send messages to peers by call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00240" y="2362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43200" y="762120"/>
            <a:ext cx="5410080" cy="990360"/>
            <a:chOff x="2743200" y="762120"/>
            <a:chExt cx="5410080" cy="990360"/>
          </a:xfrm>
        </p:grpSpPr>
        <p:sp>
          <p:nvSpPr>
            <p:cNvPr id="117" name=""/>
            <p:cNvSpPr/>
            <p:nvPr/>
          </p:nvSpPr>
          <p:spPr>
            <a:xfrm>
              <a:off x="5410080" y="7621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ies the interface for communicating between pe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743200" y="1066680"/>
              <a:ext cx="2666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s an object for sending and receiving messages between peer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 represents an object that can be sent to an 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the sender and content of the mess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VersionU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0808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ont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( String messageSend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messageCont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om = messageSend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 = messageCont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oStr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onte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ssage sender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nder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723920" y="990720"/>
            <a:ext cx="3886560" cy="761760"/>
            <a:chOff x="4723920" y="990720"/>
            <a:chExt cx="3886560" cy="761760"/>
          </a:xfrm>
        </p:grpSpPr>
        <p:sp>
          <p:nvSpPr>
            <p:cNvPr id="122" name=""/>
            <p:cNvSpPr/>
            <p:nvPr/>
          </p:nvSpPr>
          <p:spPr>
            <a:xfrm>
              <a:off x="5867280" y="9907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must be serialized for delivery over R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723920" y="12952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04960" y="3352680"/>
            <a:ext cx="4876920" cy="824040"/>
            <a:chOff x="3504960" y="3352680"/>
            <a:chExt cx="4876920" cy="824040"/>
          </a:xfrm>
        </p:grpSpPr>
        <p:sp>
          <p:nvSpPr>
            <p:cNvPr id="125" name=""/>
            <p:cNvSpPr/>
            <p:nvPr/>
          </p:nvSpPr>
          <p:spPr>
            <a:xfrm>
              <a:off x="5867280" y="33526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takes as arguments the sender’s name and message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04960" y="37339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s an object for sending and receiving messages between peers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ssage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nt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7   Defining the Service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ervic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implementation for our case stud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8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Impl implements IMServic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service side of IM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Unicast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tringTokeniz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Imp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.IMPeer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,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VersionU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0808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Service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MService constructor takes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( String nam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38680" y="3200400"/>
            <a:ext cx="2819520" cy="580680"/>
            <a:chOff x="5638680" y="3200400"/>
            <a:chExt cx="2819520" cy="580680"/>
          </a:xfrm>
        </p:grpSpPr>
        <p:sp>
          <p:nvSpPr>
            <p:cNvPr id="134" name=""/>
            <p:cNvSpPr/>
            <p:nvPr/>
          </p:nvSpPr>
          <p:spPr>
            <a:xfrm>
              <a:off x="6705720" y="32004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the servic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638680" y="35053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114440" y="5410080"/>
            <a:ext cx="4648680" cy="1143720"/>
            <a:chOff x="4114440" y="5410080"/>
            <a:chExt cx="4648680" cy="1143720"/>
          </a:xfrm>
        </p:grpSpPr>
        <p:sp>
          <p:nvSpPr>
            <p:cNvPr id="137" name=""/>
            <p:cNvSpPr/>
            <p:nvPr/>
          </p:nvSpPr>
          <p:spPr>
            <a:xfrm>
              <a:off x="6248520" y="54864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 constructor takes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he user’s name, which appear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114440" y="5410080"/>
              <a:ext cx="21337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implementation for our case stud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s service s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r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MI reference to an IMPeer on the receiver si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connect( IMPeer sender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a GUI and IMPeerImpl to be sent to remote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PeerListener liste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PeerImpl 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.add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remote peer to my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.addPeer( sen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send my IMPeerImpl to hi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419360" y="1066680"/>
            <a:ext cx="4419720" cy="1067400"/>
            <a:chOff x="4419360" y="1066680"/>
            <a:chExt cx="4419720" cy="1067400"/>
          </a:xfrm>
        </p:grpSpPr>
        <p:sp>
          <p:nvSpPr>
            <p:cNvPr id="142" name=""/>
            <p:cNvSpPr/>
            <p:nvPr/>
          </p:nvSpPr>
          <p:spPr>
            <a:xfrm flipH="1">
              <a:off x="4419360" y="1600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7120" y="1066680"/>
              <a:ext cx="2361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peer sends reference of itself to second peer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n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33920" y="2514600"/>
            <a:ext cx="5029200" cy="1066680"/>
            <a:chOff x="3733920" y="2514600"/>
            <a:chExt cx="5029200" cy="1066680"/>
          </a:xfrm>
        </p:grpSpPr>
        <p:sp>
          <p:nvSpPr>
            <p:cNvPr id="145" name=""/>
            <p:cNvSpPr/>
            <p:nvPr/>
          </p:nvSpPr>
          <p:spPr>
            <a:xfrm>
              <a:off x="6477120" y="25146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 Peer stores first peer’s reference for use when conversation sta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733920" y="2895480"/>
              <a:ext cx="2743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133720" y="3886200"/>
            <a:ext cx="6324480" cy="580680"/>
            <a:chOff x="2133720" y="3886200"/>
            <a:chExt cx="6324480" cy="580680"/>
          </a:xfrm>
        </p:grpSpPr>
        <p:sp>
          <p:nvSpPr>
            <p:cNvPr id="148" name=""/>
            <p:cNvSpPr/>
            <p:nvPr/>
          </p:nvSpPr>
          <p:spPr>
            <a:xfrm>
              <a:off x="5715000" y="3886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 peer returns reference of itself to first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133720" y="41911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eer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eerListener extends JFrame and provides GUI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sations with other pe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Areas for displaying and inputt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message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inpu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 for sending messages, etc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end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Name to add to outgo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eer to send messages to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remote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724280" y="3505320"/>
            <a:ext cx="3886200" cy="580680"/>
            <a:chOff x="4724280" y="3505320"/>
            <a:chExt cx="3886200" cy="580680"/>
          </a:xfrm>
        </p:grpSpPr>
        <p:sp>
          <p:nvSpPr>
            <p:cNvPr id="153" name=""/>
            <p:cNvSpPr/>
            <p:nvPr/>
          </p:nvSpPr>
          <p:spPr>
            <a:xfrm>
              <a:off x="6629400" y="35053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UI for starting peer 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724280" y="38098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versation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s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nd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display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diting and wrap words at end of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messageArea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entering new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p Enter key in inputArea area to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map keyMap = inputArea.getKey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Stroke enterKey = KeyStroke.getKeyStrok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Map.addActionForKeyStroke( enterKey, send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inputArea and sendAction JButton in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 box = Box.createVerticalBo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inpu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sendAc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box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send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 an Instant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and clear in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message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 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( us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Area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se RMI reference to send a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Peer.send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ear in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lay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tch error send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nable to send messag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ndAction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Message( 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Message uses SwingUntilities.invokeLa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o ensure thread-safe access to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getSenderName(), message.getConten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Displayer displays a new message by appe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essage to the messageArea JTextArea. This Runn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should be executed only on the event-disp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ead, as it modifies a live Swing compon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MessageDisplay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800240" y="838080"/>
            <a:ext cx="4191480" cy="733320"/>
            <a:chOff x="4800240" y="838080"/>
            <a:chExt cx="4191480" cy="733320"/>
          </a:xfrm>
        </p:grpSpPr>
        <p:sp>
          <p:nvSpPr>
            <p:cNvPr id="162" name=""/>
            <p:cNvSpPr/>
            <p:nvPr/>
          </p:nvSpPr>
          <p:spPr>
            <a:xfrm>
              <a:off x="5486400" y="99072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pr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all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remote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800240" y="8380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-to-peer (P2P)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ode performs both client and serv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ribution of processing responsi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7-17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romU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essageBo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Display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( String from, String bod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romUser =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Body = bo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isplay new message in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append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romUs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gt;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Body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ove caret to end of messageArea to ensure new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ssage is visible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Area.setCaretPosi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Area.getText().length() );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ssageDisplayer inner clas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Peer takes IMPeer as ar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ociates IMPeer with sendAction to send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eer( IMPeer pee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tePeer = 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nge title of window to name of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remotePeer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19520" y="5333760"/>
            <a:ext cx="5715000" cy="1220040"/>
            <a:chOff x="2819520" y="5333760"/>
            <a:chExt cx="5715000" cy="1220040"/>
          </a:xfrm>
        </p:grpSpPr>
        <p:sp>
          <p:nvSpPr>
            <p:cNvPr id="167" name=""/>
            <p:cNvSpPr/>
            <p:nvPr/>
          </p:nvSpPr>
          <p:spPr>
            <a:xfrm>
              <a:off x="6019920" y="54864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s reference to remo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et title of conversation window to the name of remo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3809520" y="5333760"/>
              <a:ext cx="2210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819520" y="5638320"/>
              <a:ext cx="3200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191120" y="6019920"/>
              <a:ext cx="182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Im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eer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s the IMPe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.IMPeer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 outp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takes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 String myNam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my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410080" y="2971800"/>
            <a:ext cx="2971800" cy="580680"/>
            <a:chOff x="5410080" y="2971800"/>
            <a:chExt cx="2971800" cy="580680"/>
          </a:xfrm>
        </p:grpSpPr>
        <p:sp>
          <p:nvSpPr>
            <p:cNvPr id="174" name=""/>
            <p:cNvSpPr/>
            <p:nvPr/>
          </p:nvSpPr>
          <p:spPr>
            <a:xfrm>
              <a:off x="6858000" y="297180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the peer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410080" y="32767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Im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-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1-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Listener( IMPeer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nd message to this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.display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ccessor fo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800600" y="1523520"/>
            <a:ext cx="4038480" cy="581040"/>
            <a:chOff x="4800600" y="1523520"/>
            <a:chExt cx="4038480" cy="581040"/>
          </a:xfrm>
        </p:grpSpPr>
        <p:sp>
          <p:nvSpPr>
            <p:cNvPr id="179" name=""/>
            <p:cNvSpPr/>
            <p:nvPr/>
          </p:nvSpPr>
          <p:spPr>
            <a:xfrm>
              <a:off x="5791320" y="15238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nd message to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4800600" y="152352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486400" y="228600"/>
            <a:ext cx="3352680" cy="824040"/>
            <a:chOff x="5486400" y="228600"/>
            <a:chExt cx="3352680" cy="824040"/>
          </a:xfrm>
        </p:grpSpPr>
        <p:sp>
          <p:nvSpPr>
            <p:cNvPr id="182" name=""/>
            <p:cNvSpPr/>
            <p:nvPr/>
          </p:nvSpPr>
          <p:spPr>
            <a:xfrm>
              <a:off x="5943600" y="2286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an object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-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will displa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a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486400" y="4568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8   Registering the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(bootstrap) service with pe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lookup servi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Manager uses JoinManager to find Lookup service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isters the IMService with the Lookup service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nages lease renew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Join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Lookup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ServiceID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D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oinManager 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okupDiscoveryManager lookup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ervic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takes name of the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Manager( String screen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952520" y="5181480"/>
            <a:ext cx="3886560" cy="914400"/>
            <a:chOff x="4952520" y="5181480"/>
            <a:chExt cx="3886560" cy="914400"/>
          </a:xfrm>
        </p:grpSpPr>
        <p:sp>
          <p:nvSpPr>
            <p:cNvPr id="189" name=""/>
            <p:cNvSpPr/>
            <p:nvPr/>
          </p:nvSpPr>
          <p:spPr>
            <a:xfrm>
              <a:off x="6248520" y="5181480"/>
              <a:ext cx="2590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specifi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952520" y="5638680"/>
              <a:ext cx="1295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lookup servi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s the serviceName of thi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Name = screen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JoinManager to register SeminarInfo servi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manag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okupDiscoveryManager for discove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nd set Entry name f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me used from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Entry[] entries = new Entry[ 1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( serviceName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oinManager( createProxy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i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okupManag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handle exception creating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minarInfoJoin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he LookupDiscoveryManager created by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 getDiscoveryManag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57800" y="3581280"/>
            <a:ext cx="3657600" cy="824040"/>
            <a:chOff x="5257800" y="3581280"/>
            <a:chExt cx="3657600" cy="824040"/>
          </a:xfrm>
        </p:grpSpPr>
        <p:sp>
          <p:nvSpPr>
            <p:cNvPr id="194" name=""/>
            <p:cNvSpPr/>
            <p:nvPr/>
          </p:nvSpPr>
          <p:spPr>
            <a:xfrm>
              <a:off x="6172200" y="35812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ini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in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ss to register the service with all known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257800" y="4038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lookup servi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 create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minarProxy for SeminarInfo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( serviceName 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handle exception creating Seminar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ServiceI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DNotify( ServiceID service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ice I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rvice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forms all lookup services that service is e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u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.termin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9   Find Other Pe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GUI enabling user to find other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3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erLis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s ServiceManager, starts service 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lists all IM services in a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alformedURL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Templ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Lookup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IM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.IMPeer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62160" y="5943600"/>
            <a:ext cx="4953240" cy="580680"/>
            <a:chOff x="3962160" y="5943600"/>
            <a:chExt cx="4953240" cy="580680"/>
          </a:xfrm>
        </p:grpSpPr>
        <p:sp>
          <p:nvSpPr>
            <p:cNvPr id="203" name=""/>
            <p:cNvSpPr/>
            <p:nvPr/>
          </p:nvSpPr>
          <p:spPr>
            <a:xfrm>
              <a:off x="6019920" y="5943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main window of the Deitel Instant Messen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962160" y="6248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7-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 pe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 peer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serviceItem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DiscoveryManager service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Cache cach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Manager m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 lookup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userName to anonymo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when ServiceDiscoveryManager find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 service adds service proxy to serviceIte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s Service name to ListModel for J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Added( Service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dded service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Item item = event.getPostEventServiceItem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 attributes[] = item.attributeS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terates through attributes to find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ttributes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ttributes[ i ]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Items.add( item.service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eers.ad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( Name )attributes[ i ] ).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rviceAd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method ignores seviceChanged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Changed( Service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486040" y="2743200"/>
            <a:ext cx="3429360" cy="609480"/>
            <a:chOff x="5486040" y="2743200"/>
            <a:chExt cx="3429360" cy="609480"/>
          </a:xfrm>
        </p:grpSpPr>
        <p:sp>
          <p:nvSpPr>
            <p:cNvPr id="208" name=""/>
            <p:cNvSpPr/>
            <p:nvPr/>
          </p:nvSpPr>
          <p:spPr>
            <a:xfrm>
              <a:off x="6248520" y="2743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rvice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represents the added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486040" y="30481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09720" y="4572000"/>
            <a:ext cx="3505680" cy="824040"/>
            <a:chOff x="5409720" y="4572000"/>
            <a:chExt cx="3505680" cy="824040"/>
          </a:xfrm>
        </p:grpSpPr>
        <p:sp>
          <p:nvSpPr>
            <p:cNvPr id="211" name=""/>
            <p:cNvSpPr/>
            <p:nvPr/>
          </p:nvSpPr>
          <p:spPr>
            <a:xfrm>
              <a:off x="62485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service prox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-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409720" y="4952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2   Client/Server and Peer-to-Peer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Yahoo! search eng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offers common stores of programs 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access the data provided by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-to-peer (P2P)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computers act as both client and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s services from PeerList GUI and data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hen serviceRemoved even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Removed( Service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PreEvent because item has been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PostEvent would return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Item item = event.getPreEventServiceIte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 attributes[ ] = item.attributeS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bu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 Event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move from arraylist and Default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serviceItems.indexOf( item.serv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name of person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dex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ing from Lis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Items.remove( index )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ing from DefLi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eers.elementAt( index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s.removeElementAt(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rvice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eer Li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5-1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desired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JOptionPane.showInput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your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hange title of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user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s Peer List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 L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Item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i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pee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VisibleRow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onnec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 allow multiple sel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SelectionM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SelectionModel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NGLE_SE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set up event handler for connect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Index = peerList.getSelectedInde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ed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rviceItems.get( item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Service peer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( IMService )selected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105520" y="5486400"/>
            <a:ext cx="3809880" cy="824040"/>
            <a:chOff x="5105520" y="5486400"/>
            <a:chExt cx="3809880" cy="824040"/>
          </a:xfrm>
        </p:grpSpPr>
        <p:sp>
          <p:nvSpPr>
            <p:cNvPr id="218" name=""/>
            <p:cNvSpPr/>
            <p:nvPr/>
          </p:nvSpPr>
          <p:spPr>
            <a:xfrm>
              <a:off x="6781680" y="548640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index of selec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tem to retrie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095520" y="56383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105520" y="5943600"/>
              <a:ext cx="1676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7-1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4-1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nd info to remote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RMI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set up gui and my pe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Listener gui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Impl 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e.addListener( gu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onnect myGui to remote IMPe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 myPeer = peerProxy.connect( 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ui.addPeer( myPe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necting may cause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moteException r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n't 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nectButton 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05520" y="1523880"/>
            <a:ext cx="3809880" cy="580680"/>
            <a:chOff x="5105520" y="1523880"/>
            <a:chExt cx="3809880" cy="580680"/>
          </a:xfrm>
        </p:grpSpPr>
        <p:sp>
          <p:nvSpPr>
            <p:cNvPr id="224" name=""/>
            <p:cNvSpPr/>
            <p:nvPr/>
          </p:nvSpPr>
          <p:spPr>
            <a:xfrm>
              <a:off x="6400800" y="1523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I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5410080" y="167616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105520" y="182880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343400" y="2590920"/>
            <a:ext cx="4572000" cy="824040"/>
            <a:chOff x="4343400" y="2590920"/>
            <a:chExt cx="4572000" cy="824040"/>
          </a:xfrm>
        </p:grpSpPr>
        <p:sp>
          <p:nvSpPr>
            <p:cNvPr id="228" name=""/>
            <p:cNvSpPr/>
            <p:nvPr/>
          </p:nvSpPr>
          <p:spPr>
            <a:xfrm>
              <a:off x="6248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post all messages sent by remote pe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4343400" y="2895480"/>
              <a:ext cx="1905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9-2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bout 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about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Item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Item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showMessageDialog(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Instant Messe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LAI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about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Locator 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federate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Locat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ederateItem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L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ederateItem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LookupService url to be ad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loc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Input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locator in th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rm: jini://host:port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okupLocator newLoc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loca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95320" y="3352680"/>
            <a:ext cx="4191480" cy="1067040"/>
            <a:chOff x="4495320" y="3352680"/>
            <a:chExt cx="4191480" cy="1067040"/>
          </a:xfrm>
        </p:grpSpPr>
        <p:sp>
          <p:nvSpPr>
            <p:cNvPr id="233" name=""/>
            <p:cNvSpPr/>
            <p:nvPr/>
          </p:nvSpPr>
          <p:spPr>
            <a:xfrm>
              <a:off x="5791320" y="33526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dialog box to prompt user for Jini-lookup-service 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495320" y="36576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571640" y="365760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make one element LookupLocat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okupLocator[] locators = { newLocator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because addLocators take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okupDiscoveryManager.addLocators( locato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alformedURLException url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alid ur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federate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MenuBar and attach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 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ow window closing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w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SING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connects from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Manager.log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19920" y="1371240"/>
            <a:ext cx="2666880" cy="2377800"/>
            <a:chOff x="6019920" y="1371240"/>
            <a:chExt cx="2666880" cy="2377800"/>
          </a:xfrm>
        </p:grpSpPr>
        <p:sp>
          <p:nvSpPr>
            <p:cNvPr id="239" name=""/>
            <p:cNvSpPr/>
            <p:nvPr/>
          </p:nvSpPr>
          <p:spPr>
            <a:xfrm>
              <a:off x="6248520" y="2438280"/>
              <a:ext cx="24382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 registers with newly added lookup service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ndow lists all other peers registered with new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6019920" y="137124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FixedCell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connec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peerList ) 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eer list displays only other IM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[] 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[] { IMServic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Template IMTemplat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yp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IMServiceManager, ServiceDiscover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Manager( userNam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re LookupDiscoveryManag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nerated by IMService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Manager = myManager.getDiscovery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rviceDiscoveryManager uses lookupDiscover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Discovery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DiscoveryManager( lookupDiscoveryManag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LookupCac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che = serviceDiscoveryManager.createLookupCach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Templat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71640" y="2971800"/>
            <a:ext cx="4343760" cy="1143000"/>
            <a:chOff x="4571640" y="2971800"/>
            <a:chExt cx="4343760" cy="1143000"/>
          </a:xfrm>
        </p:grpSpPr>
        <p:sp>
          <p:nvSpPr>
            <p:cNvPr id="244" name=""/>
            <p:cNvSpPr/>
            <p:nvPr/>
          </p:nvSpPr>
          <p:spPr>
            <a:xfrm>
              <a:off x="5791320" y="297180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Servic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ame the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571640" y="3276720"/>
              <a:ext cx="1219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9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all exceptions and inform user of probl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manager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initializing IMServiceMa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 ServiceDisoveryMana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8" name="Fig%20Peer%20List%20Window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1857600" cy="1790640"/>
          </a:xfrm>
          <a:prstGeom prst="rect">
            <a:avLst/>
          </a:prstGeom>
          <a:ln w="0">
            <a:noFill/>
          </a:ln>
        </p:spPr>
      </p:pic>
      <p:pic>
        <p:nvPicPr>
          <p:cNvPr id="249" name="Fig%20sample%20conversation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19047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0   Compiling and Running the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Compil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ompile remote classes vi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tart HTTP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Start lookup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1   Improving Deitel Instant Messeng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ec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ca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 the number of service proxies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iceDiscovery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wn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ributed sear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locating pe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2   Deitel Instant Messenger with Multicast Sock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P2P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ode must run 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significant amounts of memory and processo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ulticast so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 and find peers i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2   Client/Server and Peer-to-Peer Applica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00200"/>
          <a:ext cx="776448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64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2.1   Registering the Pe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d mechanism to register and find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must implement this mechanism via multicast so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castSendingThread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nds a multicast periodically containing a remote referen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IMService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ulticast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gis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IMServiceImp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IM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endingThrea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Constant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etAddress of group for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etAddress multicastNet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Socket for multicast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ocket multicast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tagram packet to be reu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gramPacket multicastPa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ub of local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 peerStub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lag for terminating MulticastSending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epSend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3760" y="2971800"/>
            <a:ext cx="3581640" cy="580680"/>
            <a:chOff x="5333760" y="2971800"/>
            <a:chExt cx="3581640" cy="580680"/>
          </a:xfrm>
        </p:grpSpPr>
        <p:sp>
          <p:nvSpPr>
            <p:cNvPr id="261" name=""/>
            <p:cNvSpPr/>
            <p:nvPr/>
          </p:nvSpPr>
          <p:spPr>
            <a:xfrm>
              <a:off x="6019920" y="29718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endingThre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lticasts a peer’s pres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-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9-6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SendingThrea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endingThread( String my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superclass constructor to name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castSendingTh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my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registry on default port 10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gistry regist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eRegistry.createRegistr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Stu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y.re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INDING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erStub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ulticastSocket for send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ocket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SEND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TTL for Multicast So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setTimeToLiv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T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InetAddress reserved for multicast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NetAddress = InetAddress.getBy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ADDR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greeting pa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gree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LO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257440" y="2133720"/>
            <a:ext cx="3429360" cy="824040"/>
            <a:chOff x="5257440" y="2133720"/>
            <a:chExt cx="3429360" cy="824040"/>
          </a:xfrm>
        </p:grpSpPr>
        <p:sp>
          <p:nvSpPr>
            <p:cNvPr id="266" name=""/>
            <p:cNvSpPr/>
            <p:nvPr/>
          </p:nvSpPr>
          <p:spPr>
            <a:xfrm>
              <a:off x="6324480" y="213372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stantiate an RMI registry on por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0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257440" y="25909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257800" y="3048120"/>
            <a:ext cx="3352680" cy="732960"/>
            <a:chOff x="5257800" y="3048120"/>
            <a:chExt cx="3352680" cy="732960"/>
          </a:xfrm>
        </p:grpSpPr>
        <p:sp>
          <p:nvSpPr>
            <p:cNvPr id="269" name=""/>
            <p:cNvSpPr/>
            <p:nvPr/>
          </p:nvSpPr>
          <p:spPr>
            <a:xfrm>
              <a:off x="6095880" y="32004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Service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MI reg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5257800" y="30481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019920" y="4800240"/>
            <a:ext cx="2971800" cy="809640"/>
            <a:chOff x="6019920" y="4800240"/>
            <a:chExt cx="2971800" cy="809640"/>
          </a:xfrm>
        </p:grpSpPr>
        <p:sp>
          <p:nvSpPr>
            <p:cNvPr id="272" name=""/>
            <p:cNvSpPr/>
            <p:nvPr/>
          </p:nvSpPr>
          <p:spPr>
            <a:xfrm>
              <a:off x="6019920" y="5029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nding messages to pe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6095520" y="480024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2-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Pack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gramPacke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eeting.getBytes(), greeting.getBytes().length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ulticastNetAddres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LISTEN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ULTICAST_ADDRESS IS UNKNOWN H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java.net.UnknownHostException unknownHost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CAST_ADDRESS is unknow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knownHos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y other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iver greeting message to pe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epSending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iver gree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greeting pa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ulticastSocket.send( multicastPack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INTER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171840" y="457200"/>
            <a:ext cx="2819880" cy="580680"/>
            <a:chOff x="6171840" y="457200"/>
            <a:chExt cx="2819880" cy="580680"/>
          </a:xfrm>
        </p:grpSpPr>
        <p:sp>
          <p:nvSpPr>
            <p:cNvPr id="277" name=""/>
            <p:cNvSpPr/>
            <p:nvPr/>
          </p:nvSpPr>
          <p:spPr>
            <a:xfrm>
              <a:off x="6858000" y="4572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essage packet containing peer’s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171840" y="762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486040" y="5334120"/>
            <a:ext cx="3277080" cy="580680"/>
            <a:chOff x="5486040" y="5334120"/>
            <a:chExt cx="3277080" cy="580680"/>
          </a:xfrm>
        </p:grpSpPr>
        <p:sp>
          <p:nvSpPr>
            <p:cNvPr id="280" name=""/>
            <p:cNvSpPr/>
            <p:nvPr/>
          </p:nvSpPr>
          <p:spPr>
            <a:xfrm>
              <a:off x="6705720" y="53341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message vi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486040" y="5638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3-1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deliver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Sock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goodby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u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goodby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OODBYE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goodby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Pack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gramPacke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oodbye.getBytes(), goodbye.getBytes().length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NetAddres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LISTEN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send( multicastPack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.un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INDING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rror multicas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Say Goodbye“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81120" y="3809880"/>
            <a:ext cx="3734280" cy="1067040"/>
            <a:chOff x="5181120" y="3809880"/>
            <a:chExt cx="3734280" cy="1067040"/>
          </a:xfrm>
        </p:grpSpPr>
        <p:sp>
          <p:nvSpPr>
            <p:cNvPr id="285" name=""/>
            <p:cNvSpPr/>
            <p:nvPr/>
          </p:nvSpPr>
          <p:spPr>
            <a:xfrm>
              <a:off x="6324480" y="39625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message indicating that the peer is leaving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5714640" y="38098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181120" y="42670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5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nbinding may cause many possible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unbind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bind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epSend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Consta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s Deitel-Instant-Messenger constan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Constant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constants used by IM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Constant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ADDR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28.5.6.1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T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rt on local machine for broadcas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SEND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rt on local machine for receiving broadca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RECEIV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7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rt on multicast ip address to send packe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LISTEN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7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LO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IM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OODBYE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OODBY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ime in milliseconds to wait between each multica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INTER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ow many MUTLICAST_INTERVALS before LEASE EXPI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ER_T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ESSAGE_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INDING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866920" y="2361960"/>
            <a:ext cx="3124800" cy="2590920"/>
            <a:chOff x="5866920" y="2361960"/>
            <a:chExt cx="3124800" cy="2590920"/>
          </a:xfrm>
        </p:grpSpPr>
        <p:sp>
          <p:nvSpPr>
            <p:cNvPr id="293" name=""/>
            <p:cNvSpPr/>
            <p:nvPr/>
          </p:nvSpPr>
          <p:spPr>
            <a:xfrm>
              <a:off x="7086600" y="2819520"/>
              <a:ext cx="1905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ition of several constants used in the multicast-socket version of Deitel Instant Messen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866920" y="3505320"/>
              <a:ext cx="1219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6019560" y="2361960"/>
              <a:ext cx="1066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0958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2.2   Finding Other Pe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ed new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d peers that left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castReceivingThread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 and process multicasts from multicast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ulticast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.PeerDiscovery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ReceivingThrea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Constant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shMap containing peer names and time to 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d to implement lea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 peerTTLMa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easingThread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ingThread leasingThrea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that will respond to peer added or removed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DiscoveryListener peerDiscovery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Socket for receiving broadcast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ocket multicast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etAddress of group for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etAddress multicastNet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lag for terminating MulticastReceiving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epListen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9720" y="1828800"/>
            <a:ext cx="3429360" cy="1310760"/>
            <a:chOff x="5409720" y="1828800"/>
            <a:chExt cx="3429360" cy="1310760"/>
          </a:xfrm>
        </p:grpSpPr>
        <p:sp>
          <p:nvSpPr>
            <p:cNvPr id="302" name=""/>
            <p:cNvSpPr/>
            <p:nvPr/>
          </p:nvSpPr>
          <p:spPr>
            <a:xfrm>
              <a:off x="6248520" y="1828800"/>
              <a:ext cx="25905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Receiving-Thre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isten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gramPack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contain notifications of peers joining and leaving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409720" y="243828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8-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9-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ReceivingThrea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ReceivingThread( String us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DiscoveryListener peerEventHandl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superclass constructor to name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MulticastReceivingTh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eerDiscovery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DiscoveryListener = peerEventHand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MulticastSocket to multicast address and 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ock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RECEIV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Net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etAddress.getBy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ADDR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join multicast group to receive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joinGroup( multicastNet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5 second time-out when waiting for new pack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setSoTime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nnecting to multicas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TTLMa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easing thread which decrements TTL of pe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ing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ingTh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ingThread.setDaem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172200" y="2286000"/>
            <a:ext cx="2666880" cy="824040"/>
            <a:chOff x="6172200" y="2286000"/>
            <a:chExt cx="2666880" cy="824040"/>
          </a:xfrm>
        </p:grpSpPr>
        <p:sp>
          <p:nvSpPr>
            <p:cNvPr id="307" name=""/>
            <p:cNvSpPr/>
            <p:nvPr/>
          </p:nvSpPr>
          <p:spPr>
            <a:xfrm>
              <a:off x="6705720" y="2286000"/>
              <a:ext cx="2133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join 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172200" y="2743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95680" y="6095880"/>
            <a:ext cx="4267440" cy="580680"/>
            <a:chOff x="4495680" y="6095880"/>
            <a:chExt cx="4267440" cy="580680"/>
          </a:xfrm>
        </p:grpSpPr>
        <p:sp>
          <p:nvSpPr>
            <p:cNvPr id="310" name=""/>
            <p:cNvSpPr/>
            <p:nvPr/>
          </p:nvSpPr>
          <p:spPr>
            <a:xfrm>
              <a:off x="6477120" y="6095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easingThre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deamon th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495680" y="64008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3   Centralized vs. Decentralized Network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akness: dependency on central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entral server fails, so does the entir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ntralized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ue P2P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dependency on single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e node fails, the application can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4-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ingThread.start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ulticastReceivingThrea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 for messages from multicast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keepListening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buffer for incom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ESSAGE_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atagramPacket for incom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gramPacket pack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gramPacket( buff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ESSAGE_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ceive new DatagramPacket (blocking call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ulticastSocket.receive( pack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when receive times 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IOException interrupted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ontinue to next iteration to keep listen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eading packet from multicast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876920" y="2819160"/>
            <a:ext cx="3962160" cy="838440"/>
            <a:chOff x="4876920" y="2819160"/>
            <a:chExt cx="3962160" cy="838440"/>
          </a:xfrm>
        </p:grpSpPr>
        <p:sp>
          <p:nvSpPr>
            <p:cNvPr id="315" name=""/>
            <p:cNvSpPr/>
            <p:nvPr/>
          </p:nvSpPr>
          <p:spPr>
            <a:xfrm>
              <a:off x="61722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gramPack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876920" y="335268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5334120" y="2819160"/>
              <a:ext cx="8380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5-10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8-1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5-1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ut message data into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packet.getData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cket.getOffset(), packet.get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non-null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trim extra whitespace from end of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 = message.tri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ecide if goodbye or hell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essage.start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LO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cessHello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essag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LO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length()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acket.getAddress().getHostAddres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.start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OODBYE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cessGoodbye( message.sub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OODBYE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length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eave multicast group and close MulticastSo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leaveGroup( multicastNet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562720" y="380880"/>
            <a:ext cx="3429000" cy="580680"/>
            <a:chOff x="5562720" y="380880"/>
            <a:chExt cx="3429000" cy="580680"/>
          </a:xfrm>
        </p:grpSpPr>
        <p:sp>
          <p:nvSpPr>
            <p:cNvPr id="321" name=""/>
            <p:cNvSpPr/>
            <p:nvPr/>
          </p:nvSpPr>
          <p:spPr>
            <a:xfrm>
              <a:off x="6324480" y="380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message stored in receiv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gramPa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562720" y="685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714640" y="2819520"/>
            <a:ext cx="3277080" cy="1066680"/>
            <a:chOff x="5714640" y="2819520"/>
            <a:chExt cx="3277080" cy="1066680"/>
          </a:xfrm>
        </p:grpSpPr>
        <p:sp>
          <p:nvSpPr>
            <p:cNvPr id="324" name=""/>
            <p:cNvSpPr/>
            <p:nvPr/>
          </p:nvSpPr>
          <p:spPr>
            <a:xfrm>
              <a:off x="6477120" y="28195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whether message is “hello” or “goodby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790960" y="312408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5714640" y="28195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095880" y="5486400"/>
            <a:ext cx="2743200" cy="580680"/>
            <a:chOff x="6095880" y="5486400"/>
            <a:chExt cx="2743200" cy="580680"/>
          </a:xfrm>
        </p:grpSpPr>
        <p:sp>
          <p:nvSpPr>
            <p:cNvPr id="328" name=""/>
            <p:cNvSpPr/>
            <p:nvPr/>
          </p:nvSpPr>
          <p:spPr>
            <a:xfrm>
              <a:off x="6705720" y="548640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subscribe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095880" y="57913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5-15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2-17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eaving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hello message from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Hello( String pe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egistryAddress 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gistryAddress +=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BINDING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TTLMap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t is a new peer, call peerAdded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peerTTLMap.containsKey( peerNam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erDiscoveryListener.peerAdded( pe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gistryAddress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to map or if present, refresh TT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TTLMap.put( peer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ER_T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goodbye message from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Goodbye( String pe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TTLMap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ing pe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pe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TTLMap.containsKey( peerNam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peerDiscoveryListener.peerRemoved( pe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866920" y="3200400"/>
            <a:ext cx="3124800" cy="337320"/>
            <a:chOff x="5866920" y="3200400"/>
            <a:chExt cx="3124800" cy="337320"/>
          </a:xfrm>
        </p:grpSpPr>
        <p:sp>
          <p:nvSpPr>
            <p:cNvPr id="333" name=""/>
            <p:cNvSpPr/>
            <p:nvPr/>
          </p:nvSpPr>
          <p:spPr>
            <a:xfrm>
              <a:off x="6629400" y="3200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peer to RMI reg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866920" y="3352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790960" y="6248520"/>
            <a:ext cx="3200760" cy="337320"/>
            <a:chOff x="5790960" y="6248520"/>
            <a:chExt cx="3200760" cy="337320"/>
          </a:xfrm>
        </p:grpSpPr>
        <p:sp>
          <p:nvSpPr>
            <p:cNvPr id="336" name=""/>
            <p:cNvSpPr/>
            <p:nvPr/>
          </p:nvSpPr>
          <p:spPr>
            <a:xfrm>
              <a:off x="6324480" y="6248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peer to RMI reg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790960" y="6400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peerTTLMap.remove( pe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iodically decrements the TTL of peers li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ingThrea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epListen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INTER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terruptedException may interrupt Thread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ock hashmap while decrementing TT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TTLMap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ecrement pe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terator peerIter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eerTTLMap.entrySet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make new TTL of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ap.Entry tempMapEnt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Map.Entry ) peer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560" y="1143000"/>
            <a:ext cx="3886560" cy="580680"/>
            <a:chOff x="4876560" y="1143000"/>
            <a:chExt cx="3886560" cy="580680"/>
          </a:xfrm>
        </p:grpSpPr>
        <p:sp>
          <p:nvSpPr>
            <p:cNvPr id="341" name=""/>
            <p:cNvSpPr/>
            <p:nvPr/>
          </p:nvSpPr>
          <p:spPr>
            <a:xfrm>
              <a:off x="6019920" y="1143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iodically decrement TTL of each pe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TTL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876560" y="144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6-2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ger tempIntegerTT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Integer ) tempMapEntry.ge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IntTTL = tempIntegerTTL.in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ecrement TT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empIntTTL--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if lease expired, remove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mpIntTTL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eerDiscoveryListener.peerRemov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( String ) tempMapEntry.getKe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eerIterator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otherwise set TTL of peer to new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empMapEntry.setValu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tempIntTT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iterating through pe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ynchron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in run metho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ru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Leasing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419720" y="1371600"/>
            <a:ext cx="4495680" cy="824040"/>
            <a:chOff x="4419720" y="1371600"/>
            <a:chExt cx="4495680" cy="824040"/>
          </a:xfrm>
        </p:grpSpPr>
        <p:sp>
          <p:nvSpPr>
            <p:cNvPr id="346" name=""/>
            <p:cNvSpPr/>
            <p:nvPr/>
          </p:nvSpPr>
          <p:spPr>
            <a:xfrm>
              <a:off x="6629400" y="13716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peer’s lease has expired, remove that peer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TTL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19720" y="18288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791320" y="182880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8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stop listening for multica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u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terminate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epListen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s for when peers are added and removed from peer group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-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erDiscovery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for listening to peerAdded or peerRemoved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eer with given name and ip addre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Added( String name, String peerStub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eer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Removed( String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1752120"/>
            <a:ext cx="4191120" cy="1677600"/>
            <a:chOff x="4495680" y="1752120"/>
            <a:chExt cx="4191120" cy="1677600"/>
          </a:xfrm>
        </p:grpSpPr>
        <p:sp>
          <p:nvSpPr>
            <p:cNvPr id="354" name=""/>
            <p:cNvSpPr/>
            <p:nvPr/>
          </p:nvSpPr>
          <p:spPr>
            <a:xfrm>
              <a:off x="601992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Discovery-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a peer has entered, or has been removed from, the 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4495680" y="2285640"/>
              <a:ext cx="1524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4800240" y="175212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erLis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s broadcasting and receiving th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lists all IM peers in a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alformedURL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IM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.IMPeer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Imp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DiscoveryListener, IMConstant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userName to anonymo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endingThread multicastSend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ReceivingThread multicastRecei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 peerNames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eer 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peerStubAddresses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eer st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038120" y="4343400"/>
            <a:ext cx="4800960" cy="824040"/>
            <a:chOff x="4038120" y="4343400"/>
            <a:chExt cx="4800960" cy="824040"/>
          </a:xfrm>
        </p:grpSpPr>
        <p:sp>
          <p:nvSpPr>
            <p:cNvPr id="360" name=""/>
            <p:cNvSpPr/>
            <p:nvPr/>
          </p:nvSpPr>
          <p:spPr>
            <a:xfrm>
              <a:off x="5638680" y="43434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ifi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ReceivingThre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Discovery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038120" y="4724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9-4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-6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 peerJ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eer name and peer stub to l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Added( String name, String peerStub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ame to peer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Names.addElement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tub to peerStub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StubAddresses.add( peerStubAddress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eerAd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s services from PeerList GUI and data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Removed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name from peer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peerNames.indexOf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Names.removeElementAt(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tub from peerStub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StubAddresses.remove(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eer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eer Li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esired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JOptionPane.showInput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your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800240" y="1066680"/>
            <a:ext cx="3734280" cy="1190520"/>
            <a:chOff x="4800240" y="1066680"/>
            <a:chExt cx="3734280" cy="1190520"/>
          </a:xfrm>
        </p:grpSpPr>
        <p:sp>
          <p:nvSpPr>
            <p:cNvPr id="365" name=""/>
            <p:cNvSpPr/>
            <p:nvPr/>
          </p:nvSpPr>
          <p:spPr>
            <a:xfrm>
              <a:off x="6019920" y="16765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-Add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peers to li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4800240" y="1066680"/>
              <a:ext cx="1219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419360" y="3200040"/>
            <a:ext cx="4038840" cy="1053000"/>
            <a:chOff x="4419360" y="3200040"/>
            <a:chExt cx="4038840" cy="1053000"/>
          </a:xfrm>
        </p:grpSpPr>
        <p:sp>
          <p:nvSpPr>
            <p:cNvPr id="368" name=""/>
            <p:cNvSpPr/>
            <p:nvPr/>
          </p:nvSpPr>
          <p:spPr>
            <a:xfrm>
              <a:off x="6324480" y="342900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Remo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move peers from li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4419360" y="3200040"/>
              <a:ext cx="1904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2-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nge title of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user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s Peer List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 List data struc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Nam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StubAddress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J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peerNam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JList.setVisibleRow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onnec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allow multiple sel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JList.setSelectionM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SelectionModel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NGLE_SE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event handler for connect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Index = peerJList.getSelectedInde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stub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( String ) peerStubAddresses.get( item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RMI reference to IMService and IM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Service peerStub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IMService ) Naming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stub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190760" y="3505320"/>
            <a:ext cx="4572360" cy="337320"/>
            <a:chOff x="4190760" y="3505320"/>
            <a:chExt cx="4572360" cy="337320"/>
          </a:xfrm>
        </p:grpSpPr>
        <p:sp>
          <p:nvSpPr>
            <p:cNvPr id="373" name=""/>
            <p:cNvSpPr/>
            <p:nvPr/>
          </p:nvSpPr>
          <p:spPr>
            <a:xfrm>
              <a:off x="5715000" y="35053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 handler for connecting pe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19076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267080" y="5638680"/>
            <a:ext cx="4648320" cy="457200"/>
            <a:chOff x="4267080" y="5638680"/>
            <a:chExt cx="4648320" cy="457200"/>
          </a:xfrm>
        </p:grpSpPr>
        <p:sp>
          <p:nvSpPr>
            <p:cNvPr id="376" name=""/>
            <p:cNvSpPr/>
            <p:nvPr/>
          </p:nvSpPr>
          <p:spPr>
            <a:xfrm>
              <a:off x="6095880" y="563868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remote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267080" y="5791320"/>
              <a:ext cx="1828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4   Peer Discovery and Search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ing peers in P2P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entralizing an application often slows peer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sear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er sends search criteria to several nearby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ing performed by several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set up gui and my pe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Listener gui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Impl 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e.addListener( gu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onnect myGui to remote IMPe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 myPeer = peerStub.connect( 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ui.addPeer( myPe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malformedURL passed to look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alformedUR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ub address incorrectly format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mote object not bound to remote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NotBoundException notBoun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te object not present in Regis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otBoun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onnecting may cause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n't 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5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nectButton 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bout 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about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Item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Item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showMessageDialog(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Instant Messe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LAI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about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MenuBar and attach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 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1-1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ow window closing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w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SING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connects from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ulticastSender.log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ulticastReceiver.log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join th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ulticastSender.jo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ulticastReceiver.jo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JList.setFixedCell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connec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peerJList ) 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495680" y="2362320"/>
            <a:ext cx="4191120" cy="580680"/>
            <a:chOff x="4495680" y="2362320"/>
            <a:chExt cx="4191120" cy="580680"/>
          </a:xfrm>
        </p:grpSpPr>
        <p:sp>
          <p:nvSpPr>
            <p:cNvPr id="385" name=""/>
            <p:cNvSpPr/>
            <p:nvPr/>
          </p:nvSpPr>
          <p:spPr>
            <a:xfrm>
              <a:off x="6019920" y="2362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 each thread before closing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4495680" y="2362320"/>
              <a:ext cx="1524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7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h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Recei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ReceivingThread( user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Receiver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en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endingThread( userNam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ender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all exceptions and inform user of probl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manag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initializing MulticastSendingTh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 MulticastReceivingTh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 peer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Visi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3   Introduction to JXT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X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that promotes interoperability among P2P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-level, platform-independent and language-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s to solve problems of P2P applic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/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In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form In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3   Introduction to JXTA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685800" y="1371600"/>
          <a:ext cx="776448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4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5   Case Study: Deitel Instant Messeng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tel Instant Messe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2P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Jini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ootstr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gister) users onto the P2P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5   Case Study: Deitel Instant Messenger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3" name="Fig%20Peer%20List%20Window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1857600" cy="1790640"/>
          </a:xfrm>
          <a:prstGeom prst="rect">
            <a:avLst/>
          </a:prstGeom>
          <a:ln w="0">
            <a:noFill/>
          </a:ln>
        </p:spPr>
      </p:pic>
      <p:pic>
        <p:nvPicPr>
          <p:cNvPr id="104" name="Fig%20sample%20conversation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1905120" cy="2266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66400" y="4648320"/>
            <a:ext cx="48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8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windows of Deitel Instant Messen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how service proxy interacts with the servi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 interface defines the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rough which the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unicates with the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RMI reference to a remote IMPe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connect( IMPeer send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19360" y="2819520"/>
            <a:ext cx="4343760" cy="580680"/>
            <a:chOff x="4419360" y="2819520"/>
            <a:chExt cx="4343760" cy="580680"/>
          </a:xfrm>
        </p:grpSpPr>
        <p:sp>
          <p:nvSpPr>
            <p:cNvPr id="109" name=""/>
            <p:cNvSpPr/>
            <p:nvPr/>
          </p:nvSpPr>
          <p:spPr>
            <a:xfrm>
              <a:off x="6019920" y="2819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users to send a remote reference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3124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9:26Z</dcterms:modified>
  <cp:revision>136</cp:revision>
  <dc:subject/>
  <dc:title>Chapter 28: Peer-to-Peer Applications and JXTA</dc:title>
</cp:coreProperties>
</file>