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6.wmf" ContentType="image/x-wmf"/>
  <Override PartName="/ppt/media/image11.png" ContentType="image/png"/>
  <Override PartName="/ppt/media/image29.wmf" ContentType="image/x-wmf"/>
  <Override PartName="/ppt/media/image31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3A36-3663-426A-98A9-7D12FD2FA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131E2-58DF-4635-92D1-22D81536F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7D0F-ED15-492A-AD65-C620E92CF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E81E-745A-46D3-B4CC-88D8DBAEF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23F9E-EB16-47A6-A4B2-30C40DBDB3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0CFED-E90E-45DC-A2B9-CE5DA3ADAB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067A5-679B-4B01-8B12-042D6AAF42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3BFAB-F8C3-404A-9CCC-79FED82D6A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15DB-40A0-4146-97E1-7E1A4C558F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E1573-FC70-419B-9DEA-D4105DF66F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3F61A-C41A-4062-92FA-60F4D37FAC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B2D4-A1B4-4C26-B18C-FB35B63A0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017B8-10BB-452A-AED1-F54F562D5B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7350B-0A3C-4849-ACD8-375C83549B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6517A-9A4C-4F1A-9843-B553BCA229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D1B5A-F175-48C7-84A9-7836AA2F21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DF348-136F-4F22-A0CB-EDE6002609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B772-5A22-48BD-B192-1839E232C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8A71-AC79-4E24-8BD2-0A832F0EE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E33F-8BCD-4763-B56C-A8EF5D473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3B57-5590-461B-BA6D-DC503D1A9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ADCFB-02CE-40EA-B0AC-1DA35F5A1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01828-FC70-46F1-807F-1A1A6FD3C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D02A-7080-4191-AD88-C771ACF1B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39A4-49DF-422F-A7E7-8C0DD068E8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6BC0-629D-4FC0-881F-44B6C2A29D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4: Graphics Programming with Java 2D and Java 3D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182600"/>
            <a:ext cx="76960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ordinates, Graphics Contexts and Graphics Objec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2D API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2D Shap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2D Image Process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3D API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btaining and Installing the Java 3D API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3D Scen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4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 Java 3D Exampl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 Java 3D Case Study: A 3D Game with Custom Behavi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ing some Java 2D shap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6-3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2-5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6-5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2-65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2D rectangle in 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setPaint(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setStrok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icStrok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draw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2D.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2D rounded rectangle with BufferedImage backgr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Image bufferedIm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ufferedImag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YPE_INT_RGB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raphics = bufferedImage.createGraphics(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.setColor(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yell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 in yell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.fill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 filled rectang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.setColor(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lac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 in bl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.draw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raw rectang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.setColor(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 in b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.fill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raw filled rectang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.setColor(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 in 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.fill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 filled rectang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int buffImage into graphics context of J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setPa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urePai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edImag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fil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undRectangle2D.Doubl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2D pie-shaped arc in whi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setPaint(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h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setStrok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icStrok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draw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c2D.Doubl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rc2D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2D lines in green and yell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setPaint(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ree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draw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2D.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9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715000" y="457200"/>
            <a:ext cx="3048120" cy="580680"/>
            <a:chOff x="5715000" y="457200"/>
            <a:chExt cx="3048120" cy="580680"/>
          </a:xfrm>
        </p:grpSpPr>
        <p:sp>
          <p:nvSpPr>
            <p:cNvPr id="123" name=""/>
            <p:cNvSpPr/>
            <p:nvPr/>
          </p:nvSpPr>
          <p:spPr>
            <a:xfrm>
              <a:off x="6629400" y="45720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hollow rectangle with thick red bor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715000" y="7621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638320" y="1371600"/>
            <a:ext cx="3277080" cy="1067400"/>
            <a:chOff x="5638320" y="1371600"/>
            <a:chExt cx="3277080" cy="1067400"/>
          </a:xfrm>
        </p:grpSpPr>
        <p:sp>
          <p:nvSpPr>
            <p:cNvPr id="126" name=""/>
            <p:cNvSpPr/>
            <p:nvPr/>
          </p:nvSpPr>
          <p:spPr>
            <a:xfrm>
              <a:off x="6858000" y="1371600"/>
              <a:ext cx="2057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ffered-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will serve as a pattern for a rounded rect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5638320" y="1676160"/>
              <a:ext cx="1219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6095520" y="19051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486040" y="3886200"/>
            <a:ext cx="3505680" cy="1067400"/>
            <a:chOff x="5486040" y="3886200"/>
            <a:chExt cx="3505680" cy="1067400"/>
          </a:xfrm>
        </p:grpSpPr>
        <p:sp>
          <p:nvSpPr>
            <p:cNvPr id="130" name=""/>
            <p:cNvSpPr/>
            <p:nvPr/>
          </p:nvSpPr>
          <p:spPr>
            <a:xfrm>
              <a:off x="7010280" y="3886200"/>
              <a:ext cx="19814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ffered-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the pattern-filled rounded rect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486040" y="44197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638320" y="5181480"/>
            <a:ext cx="3124800" cy="580680"/>
            <a:chOff x="5638320" y="5181480"/>
            <a:chExt cx="3124800" cy="580680"/>
          </a:xfrm>
        </p:grpSpPr>
        <p:sp>
          <p:nvSpPr>
            <p:cNvPr id="133" name=""/>
            <p:cNvSpPr/>
            <p:nvPr/>
          </p:nvSpPr>
          <p:spPr>
            <a:xfrm>
              <a:off x="6781680" y="518148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hollow arc with thick white bor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638320" y="5486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ing some Java 2D shap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3-7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038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loat dashes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, 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setPaint(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yell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setStrok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icStrok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asicStrok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AP_ROU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asicStrok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OIN_ROU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ashe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draw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2D.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9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a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s applica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DefaultCloseOper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Fram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7" name="Shapes" descr=""/>
          <p:cNvPicPr/>
          <p:nvPr/>
        </p:nvPicPr>
        <p:blipFill>
          <a:blip r:embed="rId1"/>
          <a:stretch/>
        </p:blipFill>
        <p:spPr>
          <a:xfrm>
            <a:off x="1523880" y="4724280"/>
            <a:ext cx="404820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5866920" y="762120"/>
            <a:ext cx="2972160" cy="380880"/>
            <a:chOff x="5866920" y="762120"/>
            <a:chExt cx="2972160" cy="380880"/>
          </a:xfrm>
        </p:grpSpPr>
        <p:sp>
          <p:nvSpPr>
            <p:cNvPr id="139" name=""/>
            <p:cNvSpPr/>
            <p:nvPr/>
          </p:nvSpPr>
          <p:spPr>
            <a:xfrm>
              <a:off x="6553080" y="76212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yellow dashed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866920" y="91440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ing Java 2D paths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9-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pes2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pes2 demonstrates a general path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e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s2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window's title bar String and background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s2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"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rawing 2D 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setBackground(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r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general path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int( Graphics 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l superclass' paint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( 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 xPoints[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 yPoints[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raphics2D = ( Graphics2D ) 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657600" y="914400"/>
            <a:ext cx="4800600" cy="1371600"/>
            <a:chOff x="3657600" y="914400"/>
            <a:chExt cx="4800600" cy="1371600"/>
          </a:xfrm>
        </p:grpSpPr>
        <p:sp>
          <p:nvSpPr>
            <p:cNvPr id="144" name=""/>
            <p:cNvSpPr/>
            <p:nvPr/>
          </p:nvSpPr>
          <p:spPr>
            <a:xfrm>
              <a:off x="5562720" y="914400"/>
              <a:ext cx="2895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apes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monstrates using 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l pa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 a shape constructed from lines and complex curves – to draw a 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657600" y="1447920"/>
              <a:ext cx="1905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334120" y="5257800"/>
            <a:ext cx="3504960" cy="1067400"/>
            <a:chOff x="5334120" y="5257800"/>
            <a:chExt cx="3504960" cy="1067400"/>
          </a:xfrm>
        </p:grpSpPr>
        <p:sp>
          <p:nvSpPr>
            <p:cNvPr id="147" name=""/>
            <p:cNvSpPr/>
            <p:nvPr/>
          </p:nvSpPr>
          <p:spPr>
            <a:xfrm>
              <a:off x="6705720" y="5257800"/>
              <a:ext cx="21333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tw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 representing the x- and y-coordinates of the points in the st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5409720" y="5638680"/>
              <a:ext cx="1295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334120" y="5791320"/>
              <a:ext cx="1371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ing Java 2D paths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3-4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3-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star from a series of poi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neralPath st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neralPat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the initial coordinate of the General Pa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.moveTo( xPoint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yPoint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he star--this does not draw the st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 &lt; xPoints.length; count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r.lineTo( xPoints[ count ], yPoints[ count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 the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.closePat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ranslate the origin to (200, 200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transla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otate around origin and draw stars in random col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otate coordinate sys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raphics2D.rotate( Math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random drawing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raphics2D.setColo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raw filled st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raphics2D.fill( star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a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105160" y="762120"/>
            <a:ext cx="3886560" cy="580680"/>
            <a:chOff x="5105160" y="762120"/>
            <a:chExt cx="3886560" cy="580680"/>
          </a:xfrm>
        </p:grpSpPr>
        <p:sp>
          <p:nvSpPr>
            <p:cNvPr id="153" name=""/>
            <p:cNvSpPr/>
            <p:nvPr/>
          </p:nvSpPr>
          <p:spPr>
            <a:xfrm>
              <a:off x="6553080" y="7621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veT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pecifies the first point in the st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105160" y="10666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05160" y="1905120"/>
            <a:ext cx="3657960" cy="732960"/>
            <a:chOff x="5105160" y="1905120"/>
            <a:chExt cx="3657960" cy="732960"/>
          </a:xfrm>
        </p:grpSpPr>
        <p:sp>
          <p:nvSpPr>
            <p:cNvPr id="156" name=""/>
            <p:cNvSpPr/>
            <p:nvPr/>
          </p:nvSpPr>
          <p:spPr>
            <a:xfrm>
              <a:off x="6095880" y="2057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T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raws a line to the next point in the st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5105160" y="190512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733560" y="3580920"/>
            <a:ext cx="4800960" cy="2057760"/>
            <a:chOff x="3733560" y="3580920"/>
            <a:chExt cx="4800960" cy="2057760"/>
          </a:xfrm>
        </p:grpSpPr>
        <p:sp>
          <p:nvSpPr>
            <p:cNvPr id="159" name=""/>
            <p:cNvSpPr/>
            <p:nvPr/>
          </p:nvSpPr>
          <p:spPr>
            <a:xfrm>
              <a:off x="6705720" y="457200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several sta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5257800" y="3580920"/>
              <a:ext cx="14479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733560" y="4800600"/>
              <a:ext cx="2971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4724280" y="4114440"/>
              <a:ext cx="19814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724280" y="480060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ing Java 2D paths (part 3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676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s2 applica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s2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DefaultCloseOpera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Fram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66" name="GPath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.2   Java 2D Image Process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ipulation of digital images by applying fil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s – mathematical operations that change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ressio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digital image’s memory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 data from digital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hancement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 certain physical aspects of an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D image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.awt.BufferedIm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6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age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lows for displaying and filter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fered-Im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agePan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agePanel contains an image for display. The image i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ted to a BufferedImage for filtering purpos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2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im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an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 displayImag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tered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 originalImag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iginal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 imag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age to lo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agePan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anel( URL imageURL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olkit.getDefaultToolkit().createImage( image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MediaTracker for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diaTracker mediaTrack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diaTrack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diaTracker.addImage( imag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it for Image to lo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diaTracker.waitForAl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962160" y="4038480"/>
            <a:ext cx="4800960" cy="580680"/>
            <a:chOff x="3962160" y="4038480"/>
            <a:chExt cx="4800960" cy="580680"/>
          </a:xfrm>
        </p:grpSpPr>
        <p:sp>
          <p:nvSpPr>
            <p:cNvPr id="172" name=""/>
            <p:cNvSpPr/>
            <p:nvPr/>
          </p:nvSpPr>
          <p:spPr>
            <a:xfrm>
              <a:off x="5410080" y="4038480"/>
              <a:ext cx="3353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takes a URL that specifies the file containing the image to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962160" y="43434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09880" y="5791320"/>
            <a:ext cx="4800600" cy="533160"/>
            <a:chOff x="3809880" y="5791320"/>
            <a:chExt cx="4800600" cy="533160"/>
          </a:xfrm>
        </p:grpSpPr>
        <p:sp>
          <p:nvSpPr>
            <p:cNvPr id="175" name=""/>
            <p:cNvSpPr/>
            <p:nvPr/>
          </p:nvSpPr>
          <p:spPr>
            <a:xfrm>
              <a:off x="5257800" y="5791320"/>
              <a:ext cx="3352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 image from URL into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809880" y="594360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6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age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lows for displaying and filter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fered-Im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3-4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5-6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5-6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it program on err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nterruptedException interrupted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terrupted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BufferedImages from Imag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iginalIm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( image.getWidt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.getHeigh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BufferedImag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YPE_INT_RGB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Image = originalImag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BufferedImage’s graphics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raphics = displayImage.createGraphic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.drawImage( imag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magePanel construc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ly Java2DImageFilter to Image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Filter( Java2DImageFilter filt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Image using Java2DImageFil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Image = filter.processImage( displayIm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pa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Image to originalImag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OriginalImag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Im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( image.getWidt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.getHeigh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BufferedImag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YPE_INT_RGB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raphics = displayImage.createGraphic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.drawImage( originalImag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pa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181120" y="457200"/>
            <a:ext cx="3734280" cy="1066680"/>
            <a:chOff x="5181120" y="457200"/>
            <a:chExt cx="3734280" cy="1066680"/>
          </a:xfrm>
        </p:grpSpPr>
        <p:sp>
          <p:nvSpPr>
            <p:cNvPr id="180" name=""/>
            <p:cNvSpPr/>
            <p:nvPr/>
          </p:nvSpPr>
          <p:spPr>
            <a:xfrm>
              <a:off x="6477120" y="45720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ffered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tore the original (unaltered)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81120" y="914400"/>
              <a:ext cx="1295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885840" y="1676520"/>
            <a:ext cx="4877280" cy="1067400"/>
            <a:chOff x="3885840" y="1676520"/>
            <a:chExt cx="4877280" cy="1067400"/>
          </a:xfrm>
        </p:grpSpPr>
        <p:sp>
          <p:nvSpPr>
            <p:cNvPr id="183" name=""/>
            <p:cNvSpPr/>
            <p:nvPr/>
          </p:nvSpPr>
          <p:spPr>
            <a:xfrm>
              <a:off x="6858000" y="1676520"/>
              <a:ext cx="1905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ffered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splay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image that will be mod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885840" y="22096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638320" y="3505320"/>
            <a:ext cx="2972160" cy="761760"/>
            <a:chOff x="5638320" y="3505320"/>
            <a:chExt cx="2972160" cy="761760"/>
          </a:xfrm>
        </p:grpSpPr>
        <p:sp>
          <p:nvSpPr>
            <p:cNvPr id="186" name=""/>
            <p:cNvSpPr/>
            <p:nvPr/>
          </p:nvSpPr>
          <p:spPr>
            <a:xfrm>
              <a:off x="6858000" y="350532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y filt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splay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638320" y="38098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790960" y="380988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029200" y="4724280"/>
            <a:ext cx="3886200" cy="838440"/>
            <a:chOff x="5029200" y="4724280"/>
            <a:chExt cx="3886200" cy="838440"/>
          </a:xfrm>
        </p:grpSpPr>
        <p:sp>
          <p:nvSpPr>
            <p:cNvPr id="190" name=""/>
            <p:cNvSpPr/>
            <p:nvPr/>
          </p:nvSpPr>
          <p:spPr>
            <a:xfrm>
              <a:off x="6019920" y="472428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lac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splay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origin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ffered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29200" y="5029200"/>
              <a:ext cx="990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6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age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lows for displaying and filter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fered-Im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7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267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Image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intComponent( Graphics 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( 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raphics = ( Graphics2D ) 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.drawImage( displayImag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eferred ImagePanel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displayImage.getWidth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playImage.getHeigh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inimum ImagePanel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in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562720" y="1447920"/>
            <a:ext cx="3429000" cy="337320"/>
            <a:chOff x="5562720" y="1447920"/>
            <a:chExt cx="3429000" cy="337320"/>
          </a:xfrm>
        </p:grpSpPr>
        <p:sp>
          <p:nvSpPr>
            <p:cNvPr id="195" name=""/>
            <p:cNvSpPr/>
            <p:nvPr/>
          </p:nvSpPr>
          <p:spPr>
            <a:xfrm>
              <a:off x="5943600" y="1447920"/>
              <a:ext cx="3048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splay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 scr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562720" y="1600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6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2D-ImageFil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face for creating Java 2D image filter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3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2DImageFil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2DImageFilter is an interface that defines metho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Image for applying a filter to an Im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2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im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ImageFilt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ly filter to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 processImage( BufferedImage imag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267080" y="2666520"/>
            <a:ext cx="4496040" cy="1205640"/>
            <a:chOff x="4267080" y="2666520"/>
            <a:chExt cx="4496040" cy="1205640"/>
          </a:xfrm>
        </p:grpSpPr>
        <p:sp>
          <p:nvSpPr>
            <p:cNvPr id="200" name=""/>
            <p:cNvSpPr/>
            <p:nvPr/>
          </p:nvSpPr>
          <p:spPr>
            <a:xfrm>
              <a:off x="5334120" y="304812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cess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ccept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ffered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filter and returns the filte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ffered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4267080" y="2666520"/>
              <a:ext cx="10670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Is for 2D graph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 mani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3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Is for 3D graph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 object mani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h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ure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.2   Java 2D Image Process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9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vertFil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verts colors i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feredIm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1-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18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ertFil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ertFilter, which implements Java2DImageFilter, inverts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ufferedImage's RGB color valu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2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im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vertFilt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ImageFilt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ly color inversion filter to Buffered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 processImage( BufferedImage im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256 color array and invert col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yte[] invertArra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yt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vertArray[ counter ] = ( byte )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 counter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ter to invert col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ImageOp invertFil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Op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yteLookupTa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invertArray )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ly filter to display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vertFilter.filter( imag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rocess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257800" y="3657600"/>
            <a:ext cx="3581280" cy="824040"/>
            <a:chOff x="5257800" y="3657600"/>
            <a:chExt cx="3581280" cy="824040"/>
          </a:xfrm>
        </p:grpSpPr>
        <p:sp>
          <p:nvSpPr>
            <p:cNvPr id="208" name=""/>
            <p:cNvSpPr/>
            <p:nvPr/>
          </p:nvSpPr>
          <p:spPr>
            <a:xfrm>
              <a:off x="6172200" y="3657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okup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an array indexed by source pixel color values) to invert col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257800" y="40384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0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arpenFil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harpens edges i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feredIm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1-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rpenFil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rpenFilter, which implements Java2DImageFilter, sharpe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edges in a BufferedIm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2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im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rpenFilt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ImageFilt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ly edge-sharpening filter to Buffered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 processImage( BufferedImage im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rray used to detect edges in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sharpenMatrix =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ter to sharpen ed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ImageOp sharpenFilt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volveO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rn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harpenMatrix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volveOp.EDGE_NO_O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ly sharpenFilter to display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rpenFilter.filter( imag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rocess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191120" y="2895480"/>
            <a:ext cx="4495680" cy="1143000"/>
            <a:chOff x="4191120" y="2895480"/>
            <a:chExt cx="4495680" cy="1143000"/>
          </a:xfrm>
        </p:grpSpPr>
        <p:sp>
          <p:nvSpPr>
            <p:cNvPr id="213" name=""/>
            <p:cNvSpPr/>
            <p:nvPr/>
          </p:nvSpPr>
          <p:spPr>
            <a:xfrm>
              <a:off x="5867280" y="289548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volve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which combines the colors of a source pixel and its surrounding neighbors) to sharpen ed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191120" y="3429000"/>
              <a:ext cx="16761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1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lurFil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urs the colors i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feredIm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0-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lurFil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lurfilter blurs a BufferedIm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2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im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lurFilt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ImageFilt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ly blurring filter to Buffered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 processImage( BufferedImage im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rray used to blur Buffered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blurMatrix =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// create ConvolveOp for blurring Buffered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BufferedImageOp blurFil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volveO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rn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lurMatrix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// apply blurFilter to Buffered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lurFilter.filter( imag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rocess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181120" y="3505320"/>
            <a:ext cx="3048480" cy="580680"/>
            <a:chOff x="5181120" y="3505320"/>
            <a:chExt cx="3048480" cy="580680"/>
          </a:xfrm>
        </p:grpSpPr>
        <p:sp>
          <p:nvSpPr>
            <p:cNvPr id="218" name=""/>
            <p:cNvSpPr/>
            <p:nvPr/>
          </p:nvSpPr>
          <p:spPr>
            <a:xfrm>
              <a:off x="6400800" y="35053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volve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lur ed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181120" y="38098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2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Fil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hanges the colors i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feredIm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1-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lorFil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lorFilter is an Java2DImageFilter that alters the RG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lor bands in a BufferedIm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2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im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Filt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ImageFilt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ly color-change filter to Buffered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 processImage( BufferedImage im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rray used to change RGB color ba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colorMatrix =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5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5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2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4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6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// create filter to change col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BandCombineOp changeColor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ndCombineOp( colorMatrix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// create source and display Ras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Raster sourceRaster = image.getRaster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WritableRaster displayRast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ourceRaster.createCompatibleWritableRas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// filter Rasters with changeColors fil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changeColors.filter( sourceRaster, displayRast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// create new BufferedImage from display Ras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( image.getColorModel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displayRast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419360" y="2895480"/>
            <a:ext cx="4267440" cy="1143000"/>
            <a:chOff x="4419360" y="2895480"/>
            <a:chExt cx="4267440" cy="1143000"/>
          </a:xfrm>
        </p:grpSpPr>
        <p:sp>
          <p:nvSpPr>
            <p:cNvPr id="223" name=""/>
            <p:cNvSpPr/>
            <p:nvPr/>
          </p:nvSpPr>
          <p:spPr>
            <a:xfrm>
              <a:off x="5867280" y="289548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ndCombine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which operates on the color bands of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as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to alter col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419360" y="3276720"/>
              <a:ext cx="14475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800240" y="4191120"/>
            <a:ext cx="3886560" cy="1067400"/>
            <a:chOff x="4800240" y="4191120"/>
            <a:chExt cx="3886560" cy="1067400"/>
          </a:xfrm>
        </p:grpSpPr>
        <p:sp>
          <p:nvSpPr>
            <p:cNvPr id="226" name=""/>
            <p:cNvSpPr/>
            <p:nvPr/>
          </p:nvSpPr>
          <p:spPr>
            <a:xfrm>
              <a:off x="6324480" y="4191120"/>
              <a:ext cx="2362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as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rganizes and stores the samples that determine the pixel colors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ffered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800240" y="47242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2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Fil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hanges the colors i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feredIm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rocess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 2D image-processing application GUI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3-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2DExampl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2DExample is an application that applies filters to a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age using Java 2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2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im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la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Exampl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 filterMenu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anel imagePane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age fil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ImageFilter invertFil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ImageFilter sharpenFil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ImageFilter blurFil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ImageFilter colorFil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JMenuItem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Exampl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 2D Image Processing Dem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ava2DImageFil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lurFil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lurFil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rpenFil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rpenFil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19720" y="1905120"/>
            <a:ext cx="4267080" cy="1295280"/>
            <a:chOff x="4419720" y="1905120"/>
            <a:chExt cx="4267080" cy="1295280"/>
          </a:xfrm>
        </p:grpSpPr>
        <p:sp>
          <p:nvSpPr>
            <p:cNvPr id="233" name=""/>
            <p:cNvSpPr/>
            <p:nvPr/>
          </p:nvSpPr>
          <p:spPr>
            <a:xfrm>
              <a:off x="5638680" y="1905120"/>
              <a:ext cx="3048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2DExamp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a user interface for apply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2DImageFil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age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419720" y="2438280"/>
              <a:ext cx="12189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572000" y="4343400"/>
            <a:ext cx="4191120" cy="580680"/>
            <a:chOff x="4572000" y="4343400"/>
            <a:chExt cx="4191120" cy="580680"/>
          </a:xfrm>
        </p:grpSpPr>
        <p:sp>
          <p:nvSpPr>
            <p:cNvPr id="236" name=""/>
            <p:cNvSpPr/>
            <p:nvPr/>
          </p:nvSpPr>
          <p:spPr>
            <a:xfrm>
              <a:off x="6324480" y="434340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d a se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2DImageFil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572000" y="46483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 2D image-processing application GUI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0-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vertFil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vertFil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Fil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Fil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Image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anel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ava2DExampl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ajhtp.p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MenuBa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Bar menu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Bar(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JMenuBar( menuBar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terMenu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 Filte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terMenu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I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MenuItem for displaying original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Item originalMenuIte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play Origin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iginalMenuItem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O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iginalMenuItem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how original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ac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magePanel.displayOriginalIma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MenuItems for Java2DImageFil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Item invertMenuItem = createMenuItem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ve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I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invertFilt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410080" y="3657600"/>
            <a:ext cx="3581640" cy="990720"/>
            <a:chOff x="5410080" y="3657600"/>
            <a:chExt cx="3581640" cy="990720"/>
          </a:xfrm>
        </p:grpSpPr>
        <p:sp>
          <p:nvSpPr>
            <p:cNvPr id="241" name=""/>
            <p:cNvSpPr/>
            <p:nvPr/>
          </p:nvSpPr>
          <p:spPr>
            <a:xfrm>
              <a:off x="5943600" y="365760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mechanism for displaying the original (unaltered)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5410080" y="396252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 2D image-processing application GUI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9-8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Item sharpenMenuItem = createMenuItem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harp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S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harpenFilt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Item blurMenuItem = createMenuItem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lu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B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lurFilt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Item changeColorsMenuItem = createMenuItem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nge Colo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C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olorFilt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JMenuItems to J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terMenu.add( originalMenu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terMenu.add( invertMenu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terMenu.add( sharpenMenu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terMenu.add( blurMenu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terMenu.add( changeColorsMenu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JMenu to JMenu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.add( filterMenu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imagePanel, BorderLayout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Java2DExampl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JMenuItem and ActionListener for given fil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Item createMenuItem( String menuItem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nemoni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ImageFilter filt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MenuI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Item menuIte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Item( menuItem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Mnemon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Item.setMnemonic( mnemoni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Item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pply Java2DImageFilter when MenuItem acces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572000" y="1905120"/>
            <a:ext cx="3886200" cy="580680"/>
            <a:chOff x="4572000" y="1905120"/>
            <a:chExt cx="3886200" cy="580680"/>
          </a:xfrm>
        </p:grpSpPr>
        <p:sp>
          <p:nvSpPr>
            <p:cNvPr id="246" name=""/>
            <p:cNvSpPr/>
            <p:nvPr/>
          </p:nvSpPr>
          <p:spPr>
            <a:xfrm>
              <a:off x="6019920" y="190512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menus for applying filte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agePa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4572000" y="22096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 2D image-processing application GUI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6-10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ac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magePanel.applyFilter( filt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nuIte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MenuI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2DExample applica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Examp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50" name="Java2dBlur" descr=""/>
          <p:cNvPicPr/>
          <p:nvPr/>
        </p:nvPicPr>
        <p:blipFill>
          <a:blip r:embed="rId1"/>
          <a:stretch/>
        </p:blipFill>
        <p:spPr>
          <a:xfrm>
            <a:off x="4495680" y="4343400"/>
            <a:ext cx="1447920" cy="2209680"/>
          </a:xfrm>
          <a:prstGeom prst="rect">
            <a:avLst/>
          </a:prstGeom>
          <a:ln w="0">
            <a:noFill/>
          </a:ln>
        </p:spPr>
      </p:pic>
      <p:pic>
        <p:nvPicPr>
          <p:cNvPr id="251" name="Java2dBlurM" descr=""/>
          <p:cNvPicPr/>
          <p:nvPr/>
        </p:nvPicPr>
        <p:blipFill>
          <a:blip r:embed="rId2"/>
          <a:stretch/>
        </p:blipFill>
        <p:spPr>
          <a:xfrm>
            <a:off x="2819520" y="4343400"/>
            <a:ext cx="1447560" cy="2209680"/>
          </a:xfrm>
          <a:prstGeom prst="rect">
            <a:avLst/>
          </a:prstGeom>
          <a:ln w="0">
            <a:noFill/>
          </a:ln>
        </p:spPr>
      </p:pic>
      <p:pic>
        <p:nvPicPr>
          <p:cNvPr id="252" name="Java2dOriginal" descr=""/>
          <p:cNvPicPr/>
          <p:nvPr/>
        </p:nvPicPr>
        <p:blipFill>
          <a:blip r:embed="rId3"/>
          <a:stretch/>
        </p:blipFill>
        <p:spPr>
          <a:xfrm>
            <a:off x="1219320" y="4343400"/>
            <a:ext cx="1447560" cy="220968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5028840" y="837720"/>
            <a:ext cx="3581640" cy="657360"/>
            <a:chOff x="5028840" y="837720"/>
            <a:chExt cx="3581640" cy="657360"/>
          </a:xfrm>
        </p:grpSpPr>
        <p:sp>
          <p:nvSpPr>
            <p:cNvPr id="254" name=""/>
            <p:cNvSpPr/>
            <p:nvPr/>
          </p:nvSpPr>
          <p:spPr>
            <a:xfrm>
              <a:off x="5715000" y="9144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2DImageFil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agePa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5028840" y="837720"/>
              <a:ext cx="6858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2   Coordinates, Graphics Contexts and Graphics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D coordinat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heme for identifying every point on sc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per left corner of GUI component has coordinates (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graphics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drawing on sc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font and color mani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 manages a graphics con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for por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 2D image-processing application GUI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5)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Java2dInvert" descr=""/>
          <p:cNvPicPr/>
          <p:nvPr/>
        </p:nvPicPr>
        <p:blipFill>
          <a:blip r:embed="rId1"/>
          <a:stretch/>
        </p:blipFill>
        <p:spPr>
          <a:xfrm>
            <a:off x="4952880" y="152280"/>
            <a:ext cx="1447920" cy="2057400"/>
          </a:xfrm>
          <a:prstGeom prst="rect">
            <a:avLst/>
          </a:prstGeom>
          <a:ln w="0">
            <a:noFill/>
          </a:ln>
        </p:spPr>
      </p:pic>
      <p:pic>
        <p:nvPicPr>
          <p:cNvPr id="258" name="Java2dInvertM" descr=""/>
          <p:cNvPicPr/>
          <p:nvPr/>
        </p:nvPicPr>
        <p:blipFill>
          <a:blip r:embed="rId2"/>
          <a:stretch/>
        </p:blipFill>
        <p:spPr>
          <a:xfrm>
            <a:off x="2971800" y="152280"/>
            <a:ext cx="1447920" cy="2057400"/>
          </a:xfrm>
          <a:prstGeom prst="rect">
            <a:avLst/>
          </a:prstGeom>
          <a:ln w="0">
            <a:noFill/>
          </a:ln>
        </p:spPr>
      </p:pic>
      <p:pic>
        <p:nvPicPr>
          <p:cNvPr id="259" name="Java2dColorsM" descr=""/>
          <p:cNvPicPr/>
          <p:nvPr/>
        </p:nvPicPr>
        <p:blipFill>
          <a:blip r:embed="rId3"/>
          <a:stretch/>
        </p:blipFill>
        <p:spPr>
          <a:xfrm>
            <a:off x="2971800" y="2362320"/>
            <a:ext cx="144792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Java2dColors" descr=""/>
          <p:cNvPicPr/>
          <p:nvPr/>
        </p:nvPicPr>
        <p:blipFill>
          <a:blip r:embed="rId4"/>
          <a:stretch/>
        </p:blipFill>
        <p:spPr>
          <a:xfrm>
            <a:off x="4952880" y="2362320"/>
            <a:ext cx="1447920" cy="2057400"/>
          </a:xfrm>
          <a:prstGeom prst="rect">
            <a:avLst/>
          </a:prstGeom>
          <a:ln w="0">
            <a:noFill/>
          </a:ln>
        </p:spPr>
      </p:pic>
      <p:pic>
        <p:nvPicPr>
          <p:cNvPr id="261" name="Java2dSharpenM" descr=""/>
          <p:cNvPicPr/>
          <p:nvPr/>
        </p:nvPicPr>
        <p:blipFill>
          <a:blip r:embed="rId5"/>
          <a:stretch/>
        </p:blipFill>
        <p:spPr>
          <a:xfrm>
            <a:off x="2971800" y="4572000"/>
            <a:ext cx="1447920" cy="2057400"/>
          </a:xfrm>
          <a:prstGeom prst="rect">
            <a:avLst/>
          </a:prstGeom>
          <a:ln w="0">
            <a:noFill/>
          </a:ln>
        </p:spPr>
      </p:pic>
      <p:pic>
        <p:nvPicPr>
          <p:cNvPr id="262" name="Java2dSharpen" descr=""/>
          <p:cNvPicPr/>
          <p:nvPr/>
        </p:nvPicPr>
        <p:blipFill>
          <a:blip r:embed="rId6"/>
          <a:stretch/>
        </p:blipFill>
        <p:spPr>
          <a:xfrm>
            <a:off x="4952880" y="4572000"/>
            <a:ext cx="1447920" cy="2035080"/>
          </a:xfrm>
          <a:prstGeom prst="rect">
            <a:avLst/>
          </a:prstGeom>
          <a:ln w="0">
            <a:noFill/>
          </a:ln>
        </p:spPr>
      </p:pic>
      <p:pic>
        <p:nvPicPr>
          <p:cNvPr id="263" name="Java2dOriginal" descr=""/>
          <p:cNvPicPr/>
          <p:nvPr/>
        </p:nvPicPr>
        <p:blipFill>
          <a:blip r:embed="rId7"/>
          <a:stretch/>
        </p:blipFill>
        <p:spPr>
          <a:xfrm>
            <a:off x="990720" y="457200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264" name="Java2dOriginal" descr=""/>
          <p:cNvPicPr/>
          <p:nvPr/>
        </p:nvPicPr>
        <p:blipFill>
          <a:blip r:embed="rId8"/>
          <a:stretch/>
        </p:blipFill>
        <p:spPr>
          <a:xfrm>
            <a:off x="990720" y="236232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265" name="Java2dOriginal" descr=""/>
          <p:cNvPicPr/>
          <p:nvPr/>
        </p:nvPicPr>
        <p:blipFill>
          <a:blip r:embed="rId9"/>
          <a:stretch/>
        </p:blipFill>
        <p:spPr>
          <a:xfrm>
            <a:off x="990720" y="152280"/>
            <a:ext cx="1371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   Java 3D AP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3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fers several features for developing 3D application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.1   Obtaining and Installing the Java 3D AP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3D API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2SD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nGL or Direct3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extension and utility pack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integrated in core Java 2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.2   Java 3D Scen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ictures rendered with Java 3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irtual univer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Uni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cribed b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cene graph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structures specifying attributes of 3D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ranch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.2   Java 3D Scen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84360" y="136836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6836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.3   A Java 3D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ve Java 3D s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onstrate mouse behavi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mouse to rotate, scale and translate 3D sha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Java 3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mpleUniver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content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9-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4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3DWorld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3DWorld is a Java 3D Graphics display environm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at creates a SimpleUniverse and provides capabilities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owing a user to control lighting, motion, and textur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f the 3D scen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3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edia.j3d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vecmath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3D utili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3d.utils.univers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3d.utils.im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3d.utils.geome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3d.utils.behaviors.mous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3DWorld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vas3D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earance appearanc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3D object's appear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 shape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3D object to manipul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3f lightColo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ght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ght ambientLigh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mbient scene ligh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ght directionalLigh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directional l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erial materia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3D objects colo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mpleUniverse simpleUnivers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3D scene enviro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ureLoader textureLoade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3D object's tex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191120" y="1066320"/>
            <a:ext cx="4343400" cy="1662840"/>
            <a:chOff x="4191120" y="1066320"/>
            <a:chExt cx="4343400" cy="1662840"/>
          </a:xfrm>
        </p:grpSpPr>
        <p:sp>
          <p:nvSpPr>
            <p:cNvPr id="280" name=""/>
            <p:cNvSpPr/>
            <p:nvPr/>
          </p:nvSpPr>
          <p:spPr>
            <a:xfrm>
              <a:off x="5562720" y="190512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3DWor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Java 3D environment using geometry, transforms and ligh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191120" y="1066320"/>
              <a:ext cx="13716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038120" y="3200400"/>
            <a:ext cx="4496400" cy="685800"/>
            <a:chOff x="4038120" y="3200400"/>
            <a:chExt cx="4496400" cy="685800"/>
          </a:xfrm>
        </p:grpSpPr>
        <p:sp>
          <p:nvSpPr>
            <p:cNvPr id="283" name=""/>
            <p:cNvSpPr/>
            <p:nvPr/>
          </p:nvSpPr>
          <p:spPr>
            <a:xfrm>
              <a:off x="5715000" y="320040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ort Java 3D utility packages that simplify scene cre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038120" y="3505320"/>
              <a:ext cx="1676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572000" y="4038480"/>
            <a:ext cx="4343400" cy="580680"/>
            <a:chOff x="4572000" y="4038480"/>
            <a:chExt cx="4343400" cy="580680"/>
          </a:xfrm>
        </p:grpSpPr>
        <p:sp>
          <p:nvSpPr>
            <p:cNvPr id="286" name=""/>
            <p:cNvSpPr/>
            <p:nvPr/>
          </p:nvSpPr>
          <p:spPr>
            <a:xfrm>
              <a:off x="5486400" y="403848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nvas3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.awt.Canva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bclass used for 3D rend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572000" y="4343400"/>
              <a:ext cx="914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Java 3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mpleUniver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content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1-5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olds 3D transformation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 transformGroup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mageNam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xture image file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ava3DWorld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3DWorld( String imageFile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SimpleUniverse.getPreferredConfiguratio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Name = imageFil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impleUniverse (3D Graphics environmen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impleUnivers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mpleUnivers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default view point and dir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iewingPlatform viewPlatfor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impleUniverse.getViewingPlatfor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iewPlatform.setNominalViewingTransfor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3D scen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anchGroup branchGroup = createSce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ach BranchGroup to SimpleUniver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impleUniverse.addBranchGraph( branchGrou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Java3DWorld construct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3D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ranchGroup createScen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anchGroup sce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ranchGrou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Transform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029200" y="2819520"/>
            <a:ext cx="3886200" cy="900000"/>
            <a:chOff x="5029200" y="2819520"/>
            <a:chExt cx="3886200" cy="900000"/>
          </a:xfrm>
        </p:grpSpPr>
        <p:sp>
          <p:nvSpPr>
            <p:cNvPr id="291" name=""/>
            <p:cNvSpPr/>
            <p:nvPr/>
          </p:nvSpPr>
          <p:spPr>
            <a:xfrm>
              <a:off x="5486400" y="289548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impleUniver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 Java 3D scene and encapsulates all objects in virtual universe and viewing plat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5029200" y="2819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800240" y="3505320"/>
            <a:ext cx="4115160" cy="1281240"/>
            <a:chOff x="4800240" y="3505320"/>
            <a:chExt cx="4115160" cy="1281240"/>
          </a:xfrm>
        </p:grpSpPr>
        <p:sp>
          <p:nvSpPr>
            <p:cNvPr id="294" name=""/>
            <p:cNvSpPr/>
            <p:nvPr/>
          </p:nvSpPr>
          <p:spPr>
            <a:xfrm>
              <a:off x="6400800" y="39625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figure viewing distance (length between viewer and canvas) for 3D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4800240" y="3505320"/>
              <a:ext cx="16002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572000" y="5410080"/>
            <a:ext cx="4114800" cy="685800"/>
            <a:chOff x="4572000" y="5410080"/>
            <a:chExt cx="4114800" cy="685800"/>
          </a:xfrm>
        </p:grpSpPr>
        <p:sp>
          <p:nvSpPr>
            <p:cNvPr id="297" name=""/>
            <p:cNvSpPr/>
            <p:nvPr/>
          </p:nvSpPr>
          <p:spPr>
            <a:xfrm>
              <a:off x="5562720" y="541008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ranch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root node of a scene graph in a Java 3D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572000" y="571500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Java 3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mpleUniver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content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7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3-7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3-8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93-9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TransformGroup's READ and WRITE permi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TRANSFORM_REA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TRANSFORM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TransformGroup to Branch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.addChild( transformGrou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BoundingSphe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undingSphere bound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undingSpher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earan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earance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object appear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teria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erial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texture matier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earance.setMaterial( material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rgb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G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ad texture for scen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ureLoa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ureLoa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ava3DWorld.class.getResource( imageName ), rgb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capability bits for enabling textur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ureLoader.getTexture()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ur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ENABLE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 texture will not sh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ureLoader.getTexture().setEn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object's textur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earance.setTexture( textureLoader.getTextur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23920" y="152280"/>
            <a:ext cx="4267800" cy="824040"/>
            <a:chOff x="4723920" y="152280"/>
            <a:chExt cx="4267800" cy="824040"/>
          </a:xfrm>
        </p:grpSpPr>
        <p:sp>
          <p:nvSpPr>
            <p:cNvPr id="302" name=""/>
            <p:cNvSpPr/>
            <p:nvPr/>
          </p:nvSpPr>
          <p:spPr>
            <a:xfrm>
              <a:off x="5943600" y="15228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orm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pecifies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ational behavi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uch as rotation, scaling and trans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4723920" y="380880"/>
              <a:ext cx="12193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952880" y="1142640"/>
            <a:ext cx="4038840" cy="1144080"/>
            <a:chOff x="4952880" y="1142640"/>
            <a:chExt cx="4038840" cy="1144080"/>
          </a:xfrm>
        </p:grpSpPr>
        <p:sp>
          <p:nvSpPr>
            <p:cNvPr id="305" name=""/>
            <p:cNvSpPr/>
            <p:nvPr/>
          </p:nvSpPr>
          <p:spPr>
            <a:xfrm>
              <a:off x="5943600" y="1219320"/>
              <a:ext cx="3048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pability bit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e integer flags that specify whether a given object should allow its properties to be read or written during 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4952880" y="114264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5029200" y="1676160"/>
              <a:ext cx="914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333760" y="2438280"/>
            <a:ext cx="3657960" cy="1310760"/>
            <a:chOff x="5333760" y="2438280"/>
            <a:chExt cx="3657960" cy="1310760"/>
          </a:xfrm>
        </p:grpSpPr>
        <p:sp>
          <p:nvSpPr>
            <p:cNvPr id="309" name=""/>
            <p:cNvSpPr/>
            <p:nvPr/>
          </p:nvSpPr>
          <p:spPr>
            <a:xfrm>
              <a:off x="6324480" y="243828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oundingSphe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unding volu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specifies the volume in whi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gh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ehavi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affect geometry in the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333760" y="2895120"/>
              <a:ext cx="990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181120" y="4114800"/>
            <a:ext cx="3810600" cy="457200"/>
            <a:chOff x="5181120" y="4114800"/>
            <a:chExt cx="3810600" cy="457200"/>
          </a:xfrm>
        </p:grpSpPr>
        <p:sp>
          <p:nvSpPr>
            <p:cNvPr id="312" name=""/>
            <p:cNvSpPr/>
            <p:nvPr/>
          </p:nvSpPr>
          <p:spPr>
            <a:xfrm>
              <a:off x="6019920" y="411480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 texture for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xture ma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5181120" y="4267080"/>
              <a:ext cx="838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Java 3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mpleUniver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content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7-10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15-11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1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object geome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 shap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3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3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3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x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ENERATE_NORM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 Box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ENERATE_TEXTURE_COOR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ppearance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geometry to Transform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.addChild( 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Ambient ligh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mbientLigh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bientL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mbientLight.setInfluenc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directionalL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rectionalLigh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rectionalL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ghtCol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3f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light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initial DirectionalLight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rectionalLight.setColor( light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capability bits to allow DirectionalLight'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lor and Direction to be chan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rectionalLight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rectionalLigh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DIRECTION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rectionalLight.setCapability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rectionalLigh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DIRECTION_REA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rectionalLight.setCapability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rectionalLigh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COLOR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rectionalLight.setCapability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rectionalLigh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COLOR_REA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248160" y="609480"/>
            <a:ext cx="2667240" cy="580680"/>
            <a:chOff x="6248160" y="609480"/>
            <a:chExt cx="2667240" cy="580680"/>
          </a:xfrm>
        </p:grpSpPr>
        <p:sp>
          <p:nvSpPr>
            <p:cNvPr id="317" name=""/>
            <p:cNvSpPr/>
            <p:nvPr/>
          </p:nvSpPr>
          <p:spPr>
            <a:xfrm>
              <a:off x="6934320" y="60948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otate, scale and trans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248160" y="914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105160" y="1371600"/>
            <a:ext cx="3810240" cy="1067400"/>
            <a:chOff x="5105160" y="1371600"/>
            <a:chExt cx="3810240" cy="1067400"/>
          </a:xfrm>
        </p:grpSpPr>
        <p:sp>
          <p:nvSpPr>
            <p:cNvPr id="320" name=""/>
            <p:cNvSpPr/>
            <p:nvPr/>
          </p:nvSpPr>
          <p:spPr>
            <a:xfrm>
              <a:off x="6629400" y="1371600"/>
              <a:ext cx="2286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mbientLigh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uniform light source that illuminates all objects within its bou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05160" y="1905120"/>
              <a:ext cx="1523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105520" y="2666880"/>
            <a:ext cx="3809880" cy="824040"/>
            <a:chOff x="5105520" y="2666880"/>
            <a:chExt cx="3809880" cy="824040"/>
          </a:xfrm>
        </p:grpSpPr>
        <p:sp>
          <p:nvSpPr>
            <p:cNvPr id="323" name=""/>
            <p:cNvSpPr/>
            <p:nvPr/>
          </p:nvSpPr>
          <p:spPr>
            <a:xfrm>
              <a:off x="6400800" y="26668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rectionalLigh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light source that travels between two po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5105520" y="2971440"/>
              <a:ext cx="1295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2   Coordinates, Graphics Contexts and Graphics Object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"/>
          <p:cNvSpPr/>
          <p:nvPr/>
        </p:nvSpPr>
        <p:spPr>
          <a:xfrm>
            <a:off x="1916280" y="5105520"/>
            <a:ext cx="543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coordinate system. Units are measured in pix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5120" y="1843200"/>
            <a:ext cx="5029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Java 3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mpleUniver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content 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7-14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2-15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9-16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rectionalLight.setInfluenc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ight nodes to Branch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.addChild( ambientLigh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.addChild( directionalLigh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rotation behavi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useRotate rotateBehavi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Rot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tateBehavior.setTransformGroup( transformGrou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tateBehavior.setSchedul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translation behavior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useTranslate translateBehavi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Transl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lateBehavior.setTransformGroup( transformGrou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lateBehavior.setSchedulingBounds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undingBo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scaling behavi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useZoom scaleBehavi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Zoo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aleBehavior.setTransformGroup( transformGrou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aleBehavior.setSchedul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behaviors to Branch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.addChild( scaleBehavior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.addChild( rotateBehavi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.addChild( translateBehavi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.compil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e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790960" y="609480"/>
            <a:ext cx="3048120" cy="1067040"/>
            <a:chOff x="5790960" y="609480"/>
            <a:chExt cx="3048120" cy="1067040"/>
          </a:xfrm>
        </p:grpSpPr>
        <p:sp>
          <p:nvSpPr>
            <p:cNvPr id="328" name=""/>
            <p:cNvSpPr/>
            <p:nvPr/>
          </p:nvSpPr>
          <p:spPr>
            <a:xfrm>
              <a:off x="6781680" y="609480"/>
              <a:ext cx="2057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behavior that controls rotation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ia the mo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790960" y="99072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91320" y="3657600"/>
            <a:ext cx="2971800" cy="824040"/>
            <a:chOff x="5791320" y="3657600"/>
            <a:chExt cx="2971800" cy="824040"/>
          </a:xfrm>
        </p:grpSpPr>
        <p:sp>
          <p:nvSpPr>
            <p:cNvPr id="331" name=""/>
            <p:cNvSpPr/>
            <p:nvPr/>
          </p:nvSpPr>
          <p:spPr>
            <a:xfrm>
              <a:off x="6705720" y="3657600"/>
              <a:ext cx="2057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behavior that controls scalability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ia the mo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791320" y="40384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324480" y="2209680"/>
            <a:ext cx="2667240" cy="824040"/>
            <a:chOff x="6324480" y="2209680"/>
            <a:chExt cx="2667240" cy="824040"/>
          </a:xfrm>
        </p:grpSpPr>
        <p:sp>
          <p:nvSpPr>
            <p:cNvPr id="334" name=""/>
            <p:cNvSpPr/>
            <p:nvPr/>
          </p:nvSpPr>
          <p:spPr>
            <a:xfrm>
              <a:off x="6934320" y="2209680"/>
              <a:ext cx="2057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behavior that controls translation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ia the mo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324480" y="25909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743200" y="4952880"/>
            <a:ext cx="6019920" cy="1067400"/>
            <a:chOff x="2743200" y="4952880"/>
            <a:chExt cx="6019920" cy="1067400"/>
          </a:xfrm>
        </p:grpSpPr>
        <p:sp>
          <p:nvSpPr>
            <p:cNvPr id="337" name=""/>
            <p:cNvSpPr/>
            <p:nvPr/>
          </p:nvSpPr>
          <p:spPr>
            <a:xfrm>
              <a:off x="5410080" y="4952880"/>
              <a:ext cx="3353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il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ranch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forms the Java 3D engine to optimize rendering the scene using the capability bits set by the develop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743200" y="54864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Java 3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mpleUniver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content (part 6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ange DirectionLight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ngeColor( Color col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ghtColor.set( 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rectionalLight.setColor( light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ange geometry surface to textured image or material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Textu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ure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ureLoader.getTexture().setEnable( texture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ange image used for tex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ImageName( String imageFile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Name = imageFil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image file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Image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// return preferred dimensions of Contai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// return minimum size of Contai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in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Java 3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mpleUniver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content (part 7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.3   A Java 3D Exampl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44" name="Java3dRotate1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667320" cy="2728800"/>
          </a:xfrm>
          <a:prstGeom prst="rect">
            <a:avLst/>
          </a:prstGeom>
          <a:ln w="0">
            <a:noFill/>
          </a:ln>
        </p:spPr>
      </p:pic>
      <p:pic>
        <p:nvPicPr>
          <p:cNvPr id="345" name="Java3dRotate2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3895920" cy="28465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140560" y="4654440"/>
            <a:ext cx="45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.1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useRot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hav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.3   A Java 3D Exampl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48" name="Java3dTranslate1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676680" cy="2735280"/>
          </a:xfrm>
          <a:prstGeom prst="rect">
            <a:avLst/>
          </a:prstGeom>
          <a:ln w="0">
            <a:noFill/>
          </a:ln>
        </p:spPr>
      </p:pic>
      <p:pic>
        <p:nvPicPr>
          <p:cNvPr id="349" name="Java3dTranslate2" descr=""/>
          <p:cNvPicPr/>
          <p:nvPr/>
        </p:nvPicPr>
        <p:blipFill>
          <a:blip r:embed="rId2"/>
          <a:stretch/>
        </p:blipFill>
        <p:spPr>
          <a:xfrm>
            <a:off x="4495680" y="1849320"/>
            <a:ext cx="3733920" cy="27511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293200" y="5111640"/>
            <a:ext cx="48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.1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useTransl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hav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.3   A Java 3D Exampl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52" name="Java3dScale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38480" cy="3005280"/>
          </a:xfrm>
          <a:prstGeom prst="rect">
            <a:avLst/>
          </a:prstGeom>
          <a:ln w="0">
            <a:noFill/>
          </a:ln>
        </p:spPr>
      </p:pic>
      <p:pic>
        <p:nvPicPr>
          <p:cNvPr id="353" name="Java3dScale3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4048200" cy="30117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368800" y="4959360"/>
            <a:ext cx="42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.1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useZo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hav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.3   A Java 3D Exampl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56" name="Java3dGLight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743280" cy="2786040"/>
          </a:xfrm>
          <a:prstGeom prst="rect">
            <a:avLst/>
          </a:prstGeom>
          <a:ln w="0">
            <a:noFill/>
          </a:ln>
        </p:spPr>
      </p:pic>
      <p:pic>
        <p:nvPicPr>
          <p:cNvPr id="357" name="Java3dRLight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3733560" cy="27795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291760" y="4800600"/>
            <a:ext cx="45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.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changing color in Java 3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.3   A Java 3D Exampl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60" name="Java3dScale2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657600" cy="2722680"/>
          </a:xfrm>
          <a:prstGeom prst="rect">
            <a:avLst/>
          </a:prstGeom>
          <a:ln w="0">
            <a:noFill/>
          </a:ln>
        </p:spPr>
      </p:pic>
      <p:pic>
        <p:nvPicPr>
          <p:cNvPr id="361" name="Java3dTexture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3954600" cy="27813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2217240" y="4724280"/>
            <a:ext cx="46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.2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texture mapping in Java 3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rol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vides Swing control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rolPan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rolPanel is a JPanel that contains Swing control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manipulating a Java3DWorl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3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bord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rolPan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Sliders control lighting col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lider redSlider, greenSlider, blueSli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Checkbox turns on texture mapp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heckBox textureCheckBo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raphics display enviro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3DWorld java3DWor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rolPan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rolPanel( Java3DWorld tempJ3DWorl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3DWorld = tempJ3DWor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// assemble instruction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instruction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dBorder titledBord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dBorder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ransformation Instruction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495320" y="2209680"/>
            <a:ext cx="4343760" cy="1143000"/>
            <a:chOff x="4495320" y="2209680"/>
            <a:chExt cx="4343760" cy="1143000"/>
          </a:xfrm>
        </p:grpSpPr>
        <p:sp>
          <p:nvSpPr>
            <p:cNvPr id="366" name=""/>
            <p:cNvSpPr/>
            <p:nvPr/>
          </p:nvSpPr>
          <p:spPr>
            <a:xfrm>
              <a:off x="5715000" y="2209680"/>
              <a:ext cx="3124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thre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change the color (red, green and blue) of the light that hits the 3D sha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4495320" y="266688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114800" y="3733920"/>
            <a:ext cx="4419720" cy="580680"/>
            <a:chOff x="4114800" y="3733920"/>
            <a:chExt cx="4419720" cy="580680"/>
          </a:xfrm>
        </p:grpSpPr>
        <p:sp>
          <p:nvSpPr>
            <p:cNvPr id="369" name=""/>
            <p:cNvSpPr/>
            <p:nvPr/>
          </p:nvSpPr>
          <p:spPr>
            <a:xfrm>
              <a:off x="6324480" y="373392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Check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enable texture ma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114800" y="40384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rol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vides Swing control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3-5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dBorder.setTitleJustification( TitledBord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structionPanel.setBorder( titledBorde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rotationInstruction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otation - Left Mouse 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translationInstruction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lation - Right Mouse 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scalingInstruction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cale - Alt + Left Mouse 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instruction JLabels to J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structionPanel.add( rotationInstruction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structionPanel.add( translationInstruction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structionPanel.add( scalingInstruction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ssemble texture mapping control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texture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dBorder textureBord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dBor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ure Control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ureBorder.setTitleJustification( TitledBord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urePanel.setBorder( textureBorde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ureCheckBox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heckBox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pply Texture Map to Im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urePanel.add( textureCheckBo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5562360" y="2971800"/>
            <a:ext cx="3353040" cy="580680"/>
            <a:chOff x="5562360" y="2971800"/>
            <a:chExt cx="3353040" cy="580680"/>
          </a:xfrm>
        </p:grpSpPr>
        <p:sp>
          <p:nvSpPr>
            <p:cNvPr id="374" name=""/>
            <p:cNvSpPr/>
            <p:nvPr/>
          </p:nvSpPr>
          <p:spPr>
            <a:xfrm>
              <a:off x="6172200" y="29718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Lab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hat include program instr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5562360" y="327672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   Java 2D AP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D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advanced 2D graphics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 of the Java 2 Platform, Standa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s features for processing line art, text and im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.awt.Graphics2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drawing with Java 2D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ers three graphics primitives: images, text and sha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awt.Graph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seven stat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pping, compositing, font, paint, rendering hints, stroke and trans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rol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vides Swing control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2-8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ItemListener for JCheck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ureCheckBox.addItem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voked when checkbox selected/deselec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StateChanged( Item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event.getStateChange() == Item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EL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ava3DWorld.updateTextu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ava3DWorld.updateTextu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Panel with instructionPanel and texture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top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pPanel.add( instruction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pPanel.add( texture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ssemble lighting color control pan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color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Layout( Flow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E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dBorder colorBord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dBor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rect Lighting Color Control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Border.setTitleJustification( TitledBord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Panel.setBorder( colorBorde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red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green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191120" y="228600"/>
            <a:ext cx="4572000" cy="580680"/>
            <a:chOff x="4191120" y="228600"/>
            <a:chExt cx="4572000" cy="580680"/>
          </a:xfrm>
        </p:grpSpPr>
        <p:sp>
          <p:nvSpPr>
            <p:cNvPr id="379" name=""/>
            <p:cNvSpPr/>
            <p:nvPr/>
          </p:nvSpPr>
          <p:spPr>
            <a:xfrm>
              <a:off x="5867280" y="228600"/>
              <a:ext cx="289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selec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Check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enable texture ma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4191120" y="5335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rol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vides Swing control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0-14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blue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Slider for adjusting red light compon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Sli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li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ORIZONT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Slider.setMajorTickSpac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Slider.setPaintTick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Slider for adjusting green light component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eenSli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li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ORIZONT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eenSlider.setMajorTickSpac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eenSlider.setPaintTick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Slider for adjusting blue light compon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lueSli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li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ORIZONT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lueSlider.setMajorTickSpac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lueSlider.setPaintTick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hangeListener for JSlid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ngeListener slide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nge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voked when slider has been acces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Changed( Change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lor col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dSlider.getValue(), greenSlider.getValue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blueSlider.ge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ava3DWorld.changeColor( 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952520" y="3733920"/>
            <a:ext cx="3962880" cy="838080"/>
            <a:chOff x="4952520" y="3733920"/>
            <a:chExt cx="3962880" cy="838080"/>
          </a:xfrm>
        </p:grpSpPr>
        <p:sp>
          <p:nvSpPr>
            <p:cNvPr id="384" name=""/>
            <p:cNvSpPr/>
            <p:nvPr/>
          </p:nvSpPr>
          <p:spPr>
            <a:xfrm>
              <a:off x="5638680" y="3733920"/>
              <a:ext cx="3276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mov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change color of lighting that hits 3D sha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4952520" y="4038480"/>
              <a:ext cx="685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rol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vides Swing control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9-1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istener to slid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Slider.addChangeListener( slide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eenSlider.addChangeListener( slide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lueSlider.addChangeListener( slide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ighting color control components to color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Panel.add( red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Panel.add( redSli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Panel.add( green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Panel.add( greenSli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Panel.add( blue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Panel.add( blueSli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Java3DWorld object default RGB slider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3DWorld.changeColo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( redSlider.getValue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reenSlider.getValue(), blueSlider.getValu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GridLayout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JPanels to Control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top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color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trolPanel constructor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// return preferred dimensions of contai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895120" y="2514600"/>
            <a:ext cx="5791680" cy="2514600"/>
            <a:chOff x="2895120" y="2514600"/>
            <a:chExt cx="5791680" cy="2514600"/>
          </a:xfrm>
        </p:grpSpPr>
        <p:sp>
          <p:nvSpPr>
            <p:cNvPr id="389" name=""/>
            <p:cNvSpPr/>
            <p:nvPr/>
          </p:nvSpPr>
          <p:spPr>
            <a:xfrm>
              <a:off x="6781680" y="365760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controls to GU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038480" y="2514600"/>
              <a:ext cx="27432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895120" y="3809880"/>
              <a:ext cx="3886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rol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vides Swing control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6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// return minimum size of contai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in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2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rol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-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3DExampl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3DExample is an application that demonstrates Java 3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provides an interface for a user to control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ansformation, lighting color, and texture of a 3D scene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3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3DExampl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3DWorld java3DWorld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3D scene pan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controlPane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3D scene control panel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Java3DWorld and Control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3DExampl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 3D Graphics Dem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3DWor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3DWor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ajhtp.p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rol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rolPanel( java3DWor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Components to J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java3DWorld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getContentPane().add( control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Java3DExampl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648320" y="2362320"/>
            <a:ext cx="4267080" cy="1067400"/>
            <a:chOff x="4648320" y="2362320"/>
            <a:chExt cx="4267080" cy="1067400"/>
          </a:xfrm>
        </p:grpSpPr>
        <p:sp>
          <p:nvSpPr>
            <p:cNvPr id="397" name=""/>
            <p:cNvSpPr/>
            <p:nvPr/>
          </p:nvSpPr>
          <p:spPr>
            <a:xfrm>
              <a:off x="6400800" y="236232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pplication that contains reference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3DWor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trol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4648320" y="28954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562720" y="289548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2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rol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3DExample applica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3DExamp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   A Java 3D Case Study: A 3D Game with Custom Behavi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-defined behavi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sions of utility behavio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ision de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on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2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Java3DWorld1 is a Java 3D ga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goal is to navigate the small red ball in the bottom righ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rner to the screen's top-left corner without colliding wit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y of the flying objects. The user can specify the number 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lying objects to make the game more difficul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3dg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BitS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edia.j3d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vecmath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3D utili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3d.utils.geome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3d.utils.im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3d.utils.univers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3DWorld1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vas3D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er dim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AINER_WID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AINER_HE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ants that specify number of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PRIMITIV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 scene to display in 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FAULT_SCE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723920" y="3809880"/>
            <a:ext cx="4039200" cy="824040"/>
            <a:chOff x="4723920" y="3809880"/>
            <a:chExt cx="4039200" cy="824040"/>
          </a:xfrm>
        </p:grpSpPr>
        <p:sp>
          <p:nvSpPr>
            <p:cNvPr id="407" name=""/>
            <p:cNvSpPr/>
            <p:nvPr/>
          </p:nvSpPr>
          <p:spPr>
            <a:xfrm>
              <a:off x="6400800" y="380988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3DWorld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Java 3D game and will require custom behavi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4723920" y="41911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(part 2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ants for animating r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ROTATION_SPE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IN_ROTATION_SPE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IN_ROTATION_ANG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ROTATION_ANG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ants for animating transl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TRANSLATION_SPE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IN_TRANSLATION_SPE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ximum time until animations begi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PHASE_DEL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3D shape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RADI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15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LENG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2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float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SHININE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8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PHERE_RADI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15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OUNDING_RADI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witch shapeSwitch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flying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undingSphere bounds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ounds for nodes and group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mpleUniverse simpleUnivers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3D enviro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mageNam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xture image file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ava3DWorld1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3DWorld1( String imageFileNam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SimpleUniverse.getPreferredConfiguratio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Name = imageFil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7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4-7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0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impleUniverse ( 3D Graphics environ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impleUnivers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mpleUnivers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viewing distance for 3D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iewingPlatform viewPlatfor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impleUniverse.getViewingPlatfor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iewPlatform.setNominalViewingTransfor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3D scen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anchGroup branchGroup = createSce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ach BranchGroup to SimpleUniver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impleUniverse.addBranchGraph( branchGrou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Java3DWorld1 constructor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3D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ranchGroup createScen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anchGroup sceneBranchGroup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ranchGrou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cene Switch grou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 sceneSwitch = initializeSwitc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FAULT_SCE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witch group containing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Switch = initializeSwitc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FAULT_SCE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BranchGroup that contains only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 game scen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anchGroup gameBranchGroup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ranchGrou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hapeSwitch to gameBranch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ameBranchGroup.addChild( shapeSwitch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257440" y="380880"/>
            <a:ext cx="3581640" cy="337320"/>
            <a:chOff x="5257440" y="380880"/>
            <a:chExt cx="3581640" cy="337320"/>
          </a:xfrm>
        </p:grpSpPr>
        <p:sp>
          <p:nvSpPr>
            <p:cNvPr id="414" name=""/>
            <p:cNvSpPr/>
            <p:nvPr/>
          </p:nvSpPr>
          <p:spPr>
            <a:xfrm>
              <a:off x="6781680" y="3808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Java 3D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257440" y="5335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800600" y="1143000"/>
            <a:ext cx="4038480" cy="337320"/>
            <a:chOff x="4800600" y="1143000"/>
            <a:chExt cx="4038480" cy="337320"/>
          </a:xfrm>
        </p:grpSpPr>
        <p:sp>
          <p:nvSpPr>
            <p:cNvPr id="417" name=""/>
            <p:cNvSpPr/>
            <p:nvPr/>
          </p:nvSpPr>
          <p:spPr>
            <a:xfrm>
              <a:off x="6629400" y="114300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viewing di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4800600" y="1295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638680" y="4114800"/>
            <a:ext cx="3276720" cy="1067400"/>
            <a:chOff x="5638680" y="4114800"/>
            <a:chExt cx="3276720" cy="1067400"/>
          </a:xfrm>
        </p:grpSpPr>
        <p:sp>
          <p:nvSpPr>
            <p:cNvPr id="420" name=""/>
            <p:cNvSpPr/>
            <p:nvPr/>
          </p:nvSpPr>
          <p:spPr>
            <a:xfrm>
              <a:off x="6553080" y="4114800"/>
              <a:ext cx="2362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specifies which 3D objects to render (in this game, the objects are the obstacl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5638680" y="464832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181480" y="5943600"/>
            <a:ext cx="3733920" cy="657000"/>
            <a:chOff x="5181480" y="5943600"/>
            <a:chExt cx="3733920" cy="657000"/>
          </a:xfrm>
        </p:grpSpPr>
        <p:sp>
          <p:nvSpPr>
            <p:cNvPr id="423" name=""/>
            <p:cNvSpPr/>
            <p:nvPr/>
          </p:nvSpPr>
          <p:spPr>
            <a:xfrm>
              <a:off x="5791320" y="601992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ranch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root node of a scene graph in a Java 3D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5181480" y="5943600"/>
              <a:ext cx="609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   Java 2D API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438280" y="914400"/>
          <a:ext cx="4343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914400"/>
                    <a:ext cx="4343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16-12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2-13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6-13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gameBranchGroup to scene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Switch.addChild( gameBranchGrou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ceneSwitch to sceneBranch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BranchGroup.addChild( sceneSwitc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BoundingSphere for 3D objects and behavi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und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undingSpher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OUNDING_RADI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rotation TransformGroup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[] spinTransfor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TransformGroupArra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ranslation TransformGroup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[] pathTransfor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TransformGroupArra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RotationInterpol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RotationInterpolators( spinTransform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ositonInterpol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PositionInterpolators( pathTransform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ppearance objects for Primitiv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earance[] shapeAppearan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Appearan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mitive[] shape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Shapes( shapeAppearanc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714640" y="2286000"/>
            <a:ext cx="3200760" cy="1310760"/>
            <a:chOff x="5714640" y="2286000"/>
            <a:chExt cx="3200760" cy="1310760"/>
          </a:xfrm>
        </p:grpSpPr>
        <p:sp>
          <p:nvSpPr>
            <p:cNvPr id="428" name=""/>
            <p:cNvSpPr/>
            <p:nvPr/>
          </p:nvSpPr>
          <p:spPr>
            <a:xfrm>
              <a:off x="6324480" y="2286000"/>
              <a:ext cx="25909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orm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s to specify transformational behavior (rotation and translation) for the obstac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5714640" y="266652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5714640" y="297180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876920" y="4572000"/>
            <a:ext cx="3886200" cy="838080"/>
            <a:chOff x="4876920" y="4572000"/>
            <a:chExt cx="3886200" cy="838080"/>
          </a:xfrm>
        </p:grpSpPr>
        <p:sp>
          <p:nvSpPr>
            <p:cNvPr id="432" name=""/>
            <p:cNvSpPr/>
            <p:nvPr/>
          </p:nvSpPr>
          <p:spPr>
            <a:xfrm>
              <a:off x="6553080" y="4572000"/>
              <a:ext cx="2210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ppear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(i.e., colors and texture) for obstac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4876920" y="5029200"/>
              <a:ext cx="1676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5943240" y="5638680"/>
            <a:ext cx="2819880" cy="580680"/>
            <a:chOff x="5943240" y="5638680"/>
            <a:chExt cx="2819880" cy="580680"/>
          </a:xfrm>
        </p:grpSpPr>
        <p:sp>
          <p:nvSpPr>
            <p:cNvPr id="435" name=""/>
            <p:cNvSpPr/>
            <p:nvPr/>
          </p:nvSpPr>
          <p:spPr>
            <a:xfrm>
              <a:off x="6553080" y="563868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mitiv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represent the actual 3D shap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5943240" y="594360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0-15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6-16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3-1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hapes to scene struc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primitive to spinTransform 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inTransform[ x ].addChild( shapes[ 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spinTransform group to pathTransform 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thTransform[ x ].addChild( spinTransform[ 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pathTransform group to shapeSwitch 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Switch.addChild( pathTransform[ 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nd set scene ligh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Lighting( sceneBranchGroup, bounds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cene to display if user lo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 loserTransformGroup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EndScen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 Lose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oser scene to scene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Switch.addChild( loserTransformGroup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cene to display if user win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 winnerTransformGroup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EndScen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 Win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winner scene to scene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Switch.addChild( winnerTransformGroup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hiny red Appearance for navigating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earance flyingAppearance = createAppearan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3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333760" y="685800"/>
            <a:ext cx="3505320" cy="1523880"/>
            <a:chOff x="5333760" y="685800"/>
            <a:chExt cx="3505320" cy="1523880"/>
          </a:xfrm>
        </p:grpSpPr>
        <p:sp>
          <p:nvSpPr>
            <p:cNvPr id="440" name=""/>
            <p:cNvSpPr/>
            <p:nvPr/>
          </p:nvSpPr>
          <p:spPr>
            <a:xfrm>
              <a:off x="6858000" y="137160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mitiv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(shapes) to the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5486400" y="16765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6095520" y="1676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5410080" y="114300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5333760" y="685800"/>
              <a:ext cx="1523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572000" y="3200400"/>
            <a:ext cx="4038480" cy="580680"/>
            <a:chOff x="4572000" y="3200400"/>
            <a:chExt cx="4038480" cy="580680"/>
          </a:xfrm>
        </p:grpSpPr>
        <p:sp>
          <p:nvSpPr>
            <p:cNvPr id="446" name=""/>
            <p:cNvSpPr/>
            <p:nvPr/>
          </p:nvSpPr>
          <p:spPr>
            <a:xfrm>
              <a:off x="6477120" y="3200400"/>
              <a:ext cx="213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scene for when user loses the g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572000" y="35053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648320" y="4495680"/>
            <a:ext cx="3962160" cy="580680"/>
            <a:chOff x="4648320" y="4495680"/>
            <a:chExt cx="3962160" cy="580680"/>
          </a:xfrm>
        </p:grpSpPr>
        <p:sp>
          <p:nvSpPr>
            <p:cNvPr id="449" name=""/>
            <p:cNvSpPr/>
            <p:nvPr/>
          </p:nvSpPr>
          <p:spPr>
            <a:xfrm>
              <a:off x="6477120" y="4495680"/>
              <a:ext cx="213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scene for when user wins the g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4648320" y="48006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4-17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03-20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navigable spher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mitive flyingBal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her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3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Spher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ENERATE_NORM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flyingAppearan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capability bits to enable collision detection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llow for read/write of bou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lyingBall.setCollid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lyingBall.setCapability( Nod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ABLE_COLLISION_REPORT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lyingBall.setCapability( Nod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BOUNDS_REA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lyingBall.setCapability( Nod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BOUNDS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ransformGroup to translate shape pos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 startTransform = createTransform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3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9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0.9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tTransform.addChild( flyingBal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ameBranchGroup.addChild( startTransfor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Material for Appearance for target sphe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earance targetAppearance = createAppearanc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3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textured image for target sphe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rgb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G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ureLoader textureLoa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ureLoa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ava3DWorld1.class.getResource( imageName ), rgb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ureLoader.getTexture().setEn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rgetAppearance.setTexture( textureLoader.getTextur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target sphe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mitive targetSpher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he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PHERE_RADI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her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ENERATE_TEXTURE_COOR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 Spher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ENERATE_NORM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argetAppearan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343040" y="228600"/>
            <a:ext cx="4648680" cy="580680"/>
            <a:chOff x="4343040" y="228600"/>
            <a:chExt cx="4648680" cy="580680"/>
          </a:xfrm>
        </p:grpSpPr>
        <p:sp>
          <p:nvSpPr>
            <p:cNvPr id="454" name=""/>
            <p:cNvSpPr/>
            <p:nvPr/>
          </p:nvSpPr>
          <p:spPr>
            <a:xfrm>
              <a:off x="6400800" y="2286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user-navigated shape (shiny red “flying” bal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343040" y="533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095880" y="4114800"/>
            <a:ext cx="2895840" cy="1752480"/>
            <a:chOff x="6095880" y="4114800"/>
            <a:chExt cx="2895840" cy="1752480"/>
          </a:xfrm>
        </p:grpSpPr>
        <p:sp>
          <p:nvSpPr>
            <p:cNvPr id="457" name=""/>
            <p:cNvSpPr/>
            <p:nvPr/>
          </p:nvSpPr>
          <p:spPr>
            <a:xfrm flipH="1">
              <a:off x="6172200" y="4648320"/>
              <a:ext cx="14479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95880" y="4114800"/>
              <a:ext cx="289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3D shape to which the user-navigated shape must tra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(part 7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19-23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34-23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39-24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able collision detection for sphe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rgetSphere.setCollid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vector to target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ector3f targe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3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ransformGroup that translates sphere pos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 targetTransform = createTransform( targe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rgetTransform.addChild( targetSpher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ameBranchGroup.addChild( targetTransfor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avigator behavi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vigator navig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vigator( startTransfor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vigator.setSchedul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ollide behavi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lide colli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ide(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impleUniverse, flyingBall, sceneSwitc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lider.setSchedul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GoalDetector behavi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oalDetector goalDetec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oalDetect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impleUniverse, startTransform, sceneSwitch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arge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PHERE_RADI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oalDetector.setSchedul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Behaviors to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BranchGroup.addChild( goalDetect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BranchGroup.addChild( colli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BranchGroup.addChild( navigat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Background for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ckground backgroun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ckgroun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ckground.setColo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4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4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ckground.setApplication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952880" y="2742840"/>
            <a:ext cx="3962520" cy="1448280"/>
            <a:chOff x="4952880" y="2742840"/>
            <a:chExt cx="3962520" cy="1448280"/>
          </a:xfrm>
        </p:grpSpPr>
        <p:sp>
          <p:nvSpPr>
            <p:cNvPr id="462" name=""/>
            <p:cNvSpPr/>
            <p:nvPr/>
          </p:nvSpPr>
          <p:spPr>
            <a:xfrm>
              <a:off x="6324480" y="297180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custom behaviors (discussed later) for position checking, collision detection and navi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410080" y="3505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flipV="1">
              <a:off x="4952880" y="274284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5333760" y="350532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800240" y="5181480"/>
            <a:ext cx="3429360" cy="580680"/>
            <a:chOff x="4800240" y="5181480"/>
            <a:chExt cx="3429360" cy="580680"/>
          </a:xfrm>
        </p:grpSpPr>
        <p:sp>
          <p:nvSpPr>
            <p:cNvPr id="467" name=""/>
            <p:cNvSpPr/>
            <p:nvPr/>
          </p:nvSpPr>
          <p:spPr>
            <a:xfrm>
              <a:off x="6477120" y="518148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grate custom behaviors to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4800240" y="54864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952520" y="6095880"/>
            <a:ext cx="3124800" cy="580680"/>
            <a:chOff x="4952520" y="6095880"/>
            <a:chExt cx="3124800" cy="580680"/>
          </a:xfrm>
        </p:grpSpPr>
        <p:sp>
          <p:nvSpPr>
            <p:cNvPr id="470" name=""/>
            <p:cNvSpPr/>
            <p:nvPr/>
          </p:nvSpPr>
          <p:spPr>
            <a:xfrm>
              <a:off x="6629400" y="6095880"/>
              <a:ext cx="1447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sce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ckgro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4952520" y="64008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(part 8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4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51-26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65-28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BranchGroup.addChild( backgrou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BranchGroup.compil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eneBranchGrou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Appearance object for Primitive in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earance createAppearance( Color3f diffuseCol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earance appearan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ear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terial materia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eri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terial.setShinines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SHININE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terial.setDiffuseColor( diffuse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terial.setAmbientColo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earance.setMaterial( materia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ear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Appear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TransformGroup for placing an object in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 createTransform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ector3f positionVect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a TransformGroup and set capability b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 transformGroup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TRANSFORM_REA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TRANSFORM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733560" y="380880"/>
            <a:ext cx="4419720" cy="824040"/>
            <a:chOff x="3733560" y="380880"/>
            <a:chExt cx="4419720" cy="824040"/>
          </a:xfrm>
        </p:grpSpPr>
        <p:sp>
          <p:nvSpPr>
            <p:cNvPr id="475" name=""/>
            <p:cNvSpPr/>
            <p:nvPr/>
          </p:nvSpPr>
          <p:spPr>
            <a:xfrm>
              <a:off x="5334120" y="380880"/>
              <a:ext cx="2819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il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ranch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inform the Java 3D engine to optimize rendering the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3733560" y="762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5105520" y="2133360"/>
            <a:ext cx="3657600" cy="961920"/>
            <a:chOff x="5105520" y="2133360"/>
            <a:chExt cx="3657600" cy="961920"/>
          </a:xfrm>
        </p:grpSpPr>
        <p:sp>
          <p:nvSpPr>
            <p:cNvPr id="478" name=""/>
            <p:cNvSpPr/>
            <p:nvPr/>
          </p:nvSpPr>
          <p:spPr>
            <a:xfrm>
              <a:off x="5943600" y="251460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creat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ppear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a 3D sha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5105520" y="213336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495320" y="4191120"/>
            <a:ext cx="4496400" cy="824040"/>
            <a:chOff x="4495320" y="4191120"/>
            <a:chExt cx="4496400" cy="824040"/>
          </a:xfrm>
        </p:grpSpPr>
        <p:sp>
          <p:nvSpPr>
            <p:cNvPr id="481" name=""/>
            <p:cNvSpPr/>
            <p:nvPr/>
          </p:nvSpPr>
          <p:spPr>
            <a:xfrm>
              <a:off x="6172200" y="419112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creat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orm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placing a shape in the 3D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4495320" y="45720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(part 9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85-29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99-32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ranslate starting position to bottom right of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3D loca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3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cation.setTranslation( positionVect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.setTransform( 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Trans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Switch group and set capability b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witch initializeSwitc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ene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 switchGroup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witch( scene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Group.setCollid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Group.setCapability( Switch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SWITCH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Group.setCapability( Switch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SWITCH_REA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Group.setCapability( 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CHILDREN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Group.setCapability( 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CHILDREN_REA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Group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ABLE_COLLISION_REPORT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witchGrou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initialize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[] createTransformGroupArra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[] transformGroup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TransformGroup's WRITE and READ permis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enable collision rep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334120" y="685800"/>
            <a:ext cx="3200400" cy="1447920"/>
            <a:chOff x="5334120" y="685800"/>
            <a:chExt cx="3200400" cy="1447920"/>
          </a:xfrm>
        </p:grpSpPr>
        <p:sp>
          <p:nvSpPr>
            <p:cNvPr id="486" name=""/>
            <p:cNvSpPr/>
            <p:nvPr/>
          </p:nvSpPr>
          <p:spPr>
            <a:xfrm>
              <a:off x="5334120" y="68580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creat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specify the 3D objects to render (i.e., the obstacl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5486400" y="152388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181480" y="3733920"/>
            <a:ext cx="3733920" cy="838080"/>
            <a:chOff x="5181480" y="3733920"/>
            <a:chExt cx="3733920" cy="838080"/>
          </a:xfrm>
        </p:grpSpPr>
        <p:sp>
          <p:nvSpPr>
            <p:cNvPr id="489" name=""/>
            <p:cNvSpPr/>
            <p:nvPr/>
          </p:nvSpPr>
          <p:spPr>
            <a:xfrm>
              <a:off x="5791320" y="373392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creating an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orm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181480" y="4038480"/>
              <a:ext cx="609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0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ransformGroup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Group[ i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nable collision rep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Group[ i ].setCapability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ABLE_COLLISION_REPORT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nable WRITE permi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Group[ i ].setCapability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orm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TRANSFORM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nable READ permi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Group[ i ]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orm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TRANSFORM_REA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TransformGroup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RotationInterpolators for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RotationInterpolator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[] transformGroup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clare structures for creating RotationInterpol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lpha[] alphaSpi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pha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3D[] spinAxi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3D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tationInterpolator[] spinn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tationInterpolator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RotationInterpolator for each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 &lt; size; x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723920" y="3048120"/>
            <a:ext cx="3962880" cy="1143000"/>
            <a:chOff x="4723920" y="3048120"/>
            <a:chExt cx="3962880" cy="1143000"/>
          </a:xfrm>
        </p:grpSpPr>
        <p:sp>
          <p:nvSpPr>
            <p:cNvPr id="494" name=""/>
            <p:cNvSpPr/>
            <p:nvPr/>
          </p:nvSpPr>
          <p:spPr>
            <a:xfrm>
              <a:off x="5943600" y="3048120"/>
              <a:ext cx="274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cre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tationInterpo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 to specify the rotation speed for the obstac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4723920" y="3581280"/>
              <a:ext cx="12193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4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7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itialize Alph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lphaSpin[ x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ph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increasing time for Alpha to random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lphaSpin[ x ].setIncreasingAlphaDur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IN_ROTATION_SPE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ROTATION_SPE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itialize RotationInterpolator using appropri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lpha and Transform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inner[ x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tationInterpolat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lphaSpin[ x ], transformGroup[ 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inAxis[ x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3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random X-axis r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inAxis[ x ].rotX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inner[ x ].setAxisOfRotation( spinAxis[ 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minimum and maximum rotation ang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inner[ x ].setMinimumAng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IN_ROTATION_ANG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inner[ x ].setMaximumAng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ROTATION_ANG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inner[ x ].setSchedul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RotationInterpolator to appropriate Transform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Group[ x ].addChild( spinner[ 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RotationInterpol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PositionInterpol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PositionInterpolator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191120" y="228600"/>
            <a:ext cx="4724280" cy="1067400"/>
            <a:chOff x="4191120" y="228600"/>
            <a:chExt cx="4724280" cy="1067400"/>
          </a:xfrm>
        </p:grpSpPr>
        <p:sp>
          <p:nvSpPr>
            <p:cNvPr id="499" name=""/>
            <p:cNvSpPr/>
            <p:nvPr/>
          </p:nvSpPr>
          <p:spPr>
            <a:xfrm>
              <a:off x="6324480" y="22860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lph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 specify either increasing or decreasing functions, and thus specify the rotation di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4191120" y="7621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723920" y="5486400"/>
            <a:ext cx="4115160" cy="1067400"/>
            <a:chOff x="4723920" y="5486400"/>
            <a:chExt cx="4115160" cy="1067400"/>
          </a:xfrm>
        </p:grpSpPr>
        <p:sp>
          <p:nvSpPr>
            <p:cNvPr id="502" name=""/>
            <p:cNvSpPr/>
            <p:nvPr/>
          </p:nvSpPr>
          <p:spPr>
            <a:xfrm>
              <a:off x="5943600" y="5486400"/>
              <a:ext cx="2895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cre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sitionInterpo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 to specify the translation speed for the obstac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4723920" y="6019920"/>
              <a:ext cx="12193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9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01-40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05-40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[] transformGroup, int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0</a:t>
            </a: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tructures for PositionInterpol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lpha[] alphaPath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pha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sitionInterpolator[] mov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itionInterpolator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3D[] pathAxi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3D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ositionInterpolator for each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 &lt; size; x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itialize Alph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lphaPath[ x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ph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mode to increase and decrease interpol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lphaPath[ x ].setM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lpha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NCREASING_EN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 Alpha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CREASING_EN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random phase de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lphaPath[ x ].setPhaseDelayDur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PHASE_DEL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andomize translation spe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ee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IN_TRANSLATION_SPE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TRANSLATION_SPE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increasing and decreasing du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lphaPath[ x ].setIncreasingAlphaDuration( spee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lphaPath[ x ].setDecreasingAlphaDuration( spee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114800" y="2286000"/>
            <a:ext cx="4572000" cy="762120"/>
            <a:chOff x="4114800" y="2286000"/>
            <a:chExt cx="4572000" cy="762120"/>
          </a:xfrm>
        </p:grpSpPr>
        <p:sp>
          <p:nvSpPr>
            <p:cNvPr id="507" name=""/>
            <p:cNvSpPr/>
            <p:nvPr/>
          </p:nvSpPr>
          <p:spPr>
            <a:xfrm>
              <a:off x="6477120" y="228600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lph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 specify the translation di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4114800" y="2590920"/>
              <a:ext cx="2362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866920" y="3276720"/>
            <a:ext cx="3048480" cy="1797480"/>
            <a:chOff x="5866920" y="3276720"/>
            <a:chExt cx="3048480" cy="1797480"/>
          </a:xfrm>
        </p:grpSpPr>
        <p:sp>
          <p:nvSpPr>
            <p:cNvPr id="510" name=""/>
            <p:cNvSpPr/>
            <p:nvPr/>
          </p:nvSpPr>
          <p:spPr>
            <a:xfrm>
              <a:off x="6705720" y="3276720"/>
              <a:ext cx="220968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ase del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elay the initial movement of the obstacles (so an obstacle does not collide with the user-navigated shape immediately after the game has start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5866920" y="4191120"/>
              <a:ext cx="838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6324480" y="5410080"/>
            <a:ext cx="2438640" cy="733320"/>
            <a:chOff x="6324480" y="5410080"/>
            <a:chExt cx="2438640" cy="733320"/>
          </a:xfrm>
        </p:grpSpPr>
        <p:sp>
          <p:nvSpPr>
            <p:cNvPr id="513" name=""/>
            <p:cNvSpPr/>
            <p:nvPr/>
          </p:nvSpPr>
          <p:spPr>
            <a:xfrm>
              <a:off x="6934320" y="55627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 obstacles move at different spee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flipV="1">
              <a:off x="6324480" y="541008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andomize translation ax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thAxis[ x ] = new Transform3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thAxis[ x ].rotX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thAxis[ x ].ro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thAxis[ x ].rotZ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itialize PositionInterpol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ver[ x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itionInterpolator( alphaPath[ x ]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ormGroup[ x ], pathAxis[ x ]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ver[ x ].setSchedul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PostionInterpolator to appropriate Transform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Group[ x ].addChild( mover[ 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PositionInterpol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appearance and material arrays for Primitiv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earance[] createAppeara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ppearance objects for each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earance[] appearan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earance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terial[] materia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erial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material and appearance properties for each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ppearance[ i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ear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terial[ i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eri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410080" y="3886200"/>
            <a:ext cx="3429000" cy="824040"/>
            <a:chOff x="5410080" y="3886200"/>
            <a:chExt cx="3429000" cy="824040"/>
          </a:xfrm>
        </p:grpSpPr>
        <p:sp>
          <p:nvSpPr>
            <p:cNvPr id="518" name=""/>
            <p:cNvSpPr/>
            <p:nvPr/>
          </p:nvSpPr>
          <p:spPr>
            <a:xfrm>
              <a:off x="6324480" y="38862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creating an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ppear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 for the 3D obstac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5410080" y="4343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   Java 2D API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6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material ambient col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terial[ i ].setAmbientCol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3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material Diffuse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terial[ i ].setDiffuseColo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3f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andom(),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andom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andom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Material for appropriate Appearanc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ppearance[ i ].setMaterial( material[ i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ear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Appear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Primitives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mitive[] createShapes( Appearance[] appearanc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mitive[] shap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mitive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andom loop to get ind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 &lt; size; x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// generate random shape ind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PRIMITIV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// create shape based on random ind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ndex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shapes[ x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LENG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LENG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5029200" y="1981080"/>
            <a:ext cx="3809880" cy="1310760"/>
            <a:chOff x="5029200" y="1981080"/>
            <a:chExt cx="3809880" cy="1310760"/>
          </a:xfrm>
        </p:grpSpPr>
        <p:sp>
          <p:nvSpPr>
            <p:cNvPr id="523" name=""/>
            <p:cNvSpPr/>
            <p:nvPr/>
          </p:nvSpPr>
          <p:spPr>
            <a:xfrm>
              <a:off x="6324480" y="1981080"/>
              <a:ext cx="25146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generating at random an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mitiv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, which collectively represent the 3D obstac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5029200" y="2666880"/>
              <a:ext cx="12952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78-50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10-5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LENG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Box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ENERATE_NORM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ppearance[ 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C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shapes[ x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RADI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LENG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Co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ENERATE_NORM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ppearance[ 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Cyl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shapes[ x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RADI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LENG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Cylind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ENERATE_NORM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ppearance[ 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phe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shapes[ x ] =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her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RADI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Spher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ENERATE_NORM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ppearance[ 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 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// set capability bits to enable collisions and to se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// read/write permissions of bound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hapes[ x ]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Nod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ABLE_COLLISION_REPORT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hapes[ x ]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Nod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BOUNDS_REA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hapes[ x ]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Nod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BOUNDS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hapes[ x ].setCollid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866920" y="685440"/>
            <a:ext cx="3048480" cy="3353040"/>
            <a:chOff x="5866920" y="685440"/>
            <a:chExt cx="3048480" cy="3353040"/>
          </a:xfrm>
        </p:grpSpPr>
        <p:sp>
          <p:nvSpPr>
            <p:cNvPr id="528" name=""/>
            <p:cNvSpPr/>
            <p:nvPr/>
          </p:nvSpPr>
          <p:spPr>
            <a:xfrm>
              <a:off x="6705720" y="1752480"/>
              <a:ext cx="22096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four avail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mitiv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yli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p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019560" y="2286000"/>
              <a:ext cx="6858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019560" y="2286000"/>
              <a:ext cx="685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flipV="1">
              <a:off x="6019560" y="1905120"/>
              <a:ext cx="685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flipV="1">
              <a:off x="5866920" y="685440"/>
              <a:ext cx="83844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4419360" y="5715000"/>
            <a:ext cx="4419720" cy="762120"/>
            <a:chOff x="4419360" y="5715000"/>
            <a:chExt cx="4419720" cy="762120"/>
          </a:xfrm>
        </p:grpSpPr>
        <p:sp>
          <p:nvSpPr>
            <p:cNvPr id="534" name=""/>
            <p:cNvSpPr/>
            <p:nvPr/>
          </p:nvSpPr>
          <p:spPr>
            <a:xfrm>
              <a:off x="6477120" y="5791320"/>
              <a:ext cx="236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 collision detection among the obstac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4419360" y="60958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4800240" y="5715000"/>
              <a:ext cx="1676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4419360" y="6095880"/>
              <a:ext cx="2057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25-54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45-55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ambient and directional ligh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Lighting( BranchGroup scen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undingSphere bound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ambient ligh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mbientLight ambientLigh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bientL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mbientLight.setInfluenc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directional ligh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rectionalLight directionalLigh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rectionalL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rectionalLight.setCol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3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rectionalLight.setInfluenc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ights to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.addChild( ambientLigh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.addChild( directionalLigh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setLigh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scene by rendering different shapes in shapeSwitc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witchScen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Childre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new BitSet of size NUMBER_OF_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tSet bitSe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tSet( 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BitSe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nt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numberChildren; i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5029200" y="1447920"/>
            <a:ext cx="3733920" cy="824040"/>
            <a:chOff x="5029200" y="1447920"/>
            <a:chExt cx="3733920" cy="824040"/>
          </a:xfrm>
        </p:grpSpPr>
        <p:sp>
          <p:nvSpPr>
            <p:cNvPr id="541" name=""/>
            <p:cNvSpPr/>
            <p:nvPr/>
          </p:nvSpPr>
          <p:spPr>
            <a:xfrm>
              <a:off x="6477120" y="14479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setting the ambient and direction light of the 3D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5029200" y="18288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5486040" y="5562720"/>
            <a:ext cx="3353040" cy="732960"/>
            <a:chOff x="5486040" y="5562720"/>
            <a:chExt cx="3353040" cy="732960"/>
          </a:xfrm>
        </p:grpSpPr>
        <p:sp>
          <p:nvSpPr>
            <p:cNvPr id="544" name=""/>
            <p:cNvSpPr/>
            <p:nvPr/>
          </p:nvSpPr>
          <p:spPr>
            <a:xfrm>
              <a:off x="6095880" y="57150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ng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e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impleUniver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spl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5486040" y="5562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7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6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itSet.set(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truct switchShape to render Mask of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Switch.setWhichChild( Switch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HILD_MAS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Switch.setChildMask( bitSe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witch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end scene when user wins or lo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 createEndScene( String tex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 transformGroup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TRANSFORM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able scene collision det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.setCollid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lpha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lpha alph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ph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lpha.setIncreasingAlphaDu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ROTATION_SPE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RotationInterpolator for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tationInterpolator rota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tationInterpolator( alpha, transformGrou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xis of r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3D axi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3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xis.rotY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tation.setAxisOfRotation( axi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minimum and maximum rotation ang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tation.setMinimumAng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tation.setMaximumAngle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6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562360" y="838080"/>
            <a:ext cx="3124440" cy="1310760"/>
            <a:chOff x="5562360" y="838080"/>
            <a:chExt cx="3124440" cy="1310760"/>
          </a:xfrm>
        </p:grpSpPr>
        <p:sp>
          <p:nvSpPr>
            <p:cNvPr id="549" name=""/>
            <p:cNvSpPr/>
            <p:nvPr/>
          </p:nvSpPr>
          <p:spPr>
            <a:xfrm>
              <a:off x="6172200" y="838080"/>
              <a:ext cx="25146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creating the scene displayed when the user wins (reaches the destination) or loses (collides with an obstac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5562360" y="15238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8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00-60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tation.setSchedul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.addChild( rot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cene geome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earance appearan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earan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terial materia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erial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earance.setMaterial( material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diffuse color of materia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terial.setDiffuseCol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3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8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ont3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nt3D font3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nt3D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lvetic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Fo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TA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ntExtrusio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ext3D object from Font3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3D text3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3D( font3d, tex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2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hape3D object from Text3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3D textShap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3D( text3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Shape.setAppearance( appearan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able collision det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Shape.setCollid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.addChild( text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End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029200" y="2743200"/>
            <a:ext cx="3429000" cy="914400"/>
            <a:chOff x="5029200" y="2743200"/>
            <a:chExt cx="3429000" cy="914400"/>
          </a:xfrm>
        </p:grpSpPr>
        <p:sp>
          <p:nvSpPr>
            <p:cNvPr id="554" name=""/>
            <p:cNvSpPr/>
            <p:nvPr/>
          </p:nvSpPr>
          <p:spPr>
            <a:xfrm>
              <a:off x="6477120" y="2743200"/>
              <a:ext cx="1981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3D text that indicates whether the user has won or l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>
              <a:off x="5181120" y="2971440"/>
              <a:ext cx="1295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5029200" y="320040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9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preferred dimensions of Contai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AINER_WID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AINER_HE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// return minimum size of Contai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in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59" name="Java3dGame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5276880" cy="3565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 flipH="1">
            <a:off x="838080" y="2971800"/>
            <a:ext cx="15264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33520" y="2666880"/>
            <a:ext cx="761760" cy="990720"/>
            <a:chOff x="533520" y="2666880"/>
            <a:chExt cx="761760" cy="990720"/>
          </a:xfrm>
        </p:grpSpPr>
        <p:sp>
          <p:nvSpPr>
            <p:cNvPr id="562" name=""/>
            <p:cNvSpPr/>
            <p:nvPr/>
          </p:nvSpPr>
          <p:spPr>
            <a:xfrm>
              <a:off x="533520" y="26668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61760" y="297180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2819160" y="2743200"/>
            <a:ext cx="2133720" cy="990720"/>
            <a:chOff x="2819160" y="2743200"/>
            <a:chExt cx="2133720" cy="990720"/>
          </a:xfrm>
        </p:grpSpPr>
        <p:sp>
          <p:nvSpPr>
            <p:cNvPr id="565" name=""/>
            <p:cNvSpPr/>
            <p:nvPr/>
          </p:nvSpPr>
          <p:spPr>
            <a:xfrm>
              <a:off x="2971800" y="274320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-navigated sha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2819160" y="3048120"/>
              <a:ext cx="533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1600200" y="2743200"/>
            <a:ext cx="1143000" cy="1676520"/>
            <a:chOff x="1600200" y="2743200"/>
            <a:chExt cx="1143000" cy="1676520"/>
          </a:xfrm>
        </p:grpSpPr>
        <p:sp>
          <p:nvSpPr>
            <p:cNvPr id="568" name=""/>
            <p:cNvSpPr/>
            <p:nvPr/>
          </p:nvSpPr>
          <p:spPr>
            <a:xfrm>
              <a:off x="1600200" y="27432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stac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1600200" y="3124080"/>
              <a:ext cx="914400" cy="1295640"/>
              <a:chOff x="1600200" y="3124080"/>
              <a:chExt cx="914400" cy="1295640"/>
            </a:xfrm>
          </p:grpSpPr>
          <p:sp>
            <p:nvSpPr>
              <p:cNvPr id="570" name=""/>
              <p:cNvSpPr/>
              <p:nvPr/>
            </p:nvSpPr>
            <p:spPr>
              <a:xfrm flipH="1">
                <a:off x="1600200" y="3124080"/>
                <a:ext cx="45720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1828440" y="3124080"/>
                <a:ext cx="22860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"/>
              <p:cNvGrpSpPr/>
              <p:nvPr/>
            </p:nvGrpSpPr>
            <p:grpSpPr>
              <a:xfrm>
                <a:off x="2057400" y="3124080"/>
                <a:ext cx="457200" cy="1143000"/>
                <a:chOff x="2057400" y="3124080"/>
                <a:chExt cx="457200" cy="114300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2057400" y="3124080"/>
                  <a:ext cx="7632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057400" y="3124080"/>
                  <a:ext cx="457200" cy="83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collision detection in a Java 3D applic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Collide implements collision-detection behavi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a Java 3D application. Collide switches scen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hen the armed object collides with another object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3dg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re Java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la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edia.j3d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vecmath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3D utili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3d.utils.geometry.*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3d.utils.universe.*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id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ehavi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rmed node generates WakeupOnCollisionEntry upon coll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armingNod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ecifies to what WakeupEvents to rea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keupCondition wakeupCondition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witch switchScen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itch group contains 3D sce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mpleUniverse simpleUnivers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dex of scene to switch to upon coll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Courier New"/>
              </a:rPr>
              <a:t>   private static final int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SER_SCE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method initializes member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ide( SimpleUniverse universe, Node nod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 tempSwitch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038480" y="2438280"/>
            <a:ext cx="4191120" cy="914400"/>
            <a:chOff x="4038480" y="2438280"/>
            <a:chExt cx="4191120" cy="914400"/>
          </a:xfrm>
        </p:grpSpPr>
        <p:sp>
          <p:nvSpPr>
            <p:cNvPr id="578" name=""/>
            <p:cNvSpPr/>
            <p:nvPr/>
          </p:nvSpPr>
          <p:spPr>
            <a:xfrm>
              <a:off x="5410080" y="243828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i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ements the collision-detection behav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4038480" y="2743200"/>
              <a:ext cx="1371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200400" y="3962520"/>
            <a:ext cx="5791320" cy="1067400"/>
            <a:chOff x="3200400" y="3962520"/>
            <a:chExt cx="5791320" cy="1067400"/>
          </a:xfrm>
        </p:grpSpPr>
        <p:sp>
          <p:nvSpPr>
            <p:cNvPr id="581" name=""/>
            <p:cNvSpPr/>
            <p:nvPr/>
          </p:nvSpPr>
          <p:spPr>
            <a:xfrm>
              <a:off x="6477120" y="396252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 occurs wh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rming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bounding volume intersects triggering node’s bounding volu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3200400" y="4038480"/>
              <a:ext cx="3276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collision detection in a Java 3D applic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rmingNode = no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Scene = tempSwitc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impleUniverse = univer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WakeupOnCollisionEntr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OnCollisionEntry wakeupEv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keupOnCollisionEntry( armingNod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akeupOnCollisionEntry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SE_GEOME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of WakeupEvents to which Behavior rep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Criterion[] wakeupCriteria = { wakeupEvent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ehavior responds when any WakeupEvent i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keupCriterion occ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Condi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keupOr( wakeupCriteria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Behavior's wakeup condition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WakeupCriterion to respond to collision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On( wakeupCondi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WakeupEven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cessStimulus( Enumeration detecte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p to handle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detected.hasMoreElements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next sequential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akeupCriterion criter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WakeupCriterion ) detected.nextEl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5638320" y="4724280"/>
            <a:ext cx="3277080" cy="824040"/>
            <a:chOff x="5638320" y="4724280"/>
            <a:chExt cx="3277080" cy="824040"/>
          </a:xfrm>
        </p:grpSpPr>
        <p:sp>
          <p:nvSpPr>
            <p:cNvPr id="586" name=""/>
            <p:cNvSpPr/>
            <p:nvPr/>
          </p:nvSpPr>
          <p:spPr>
            <a:xfrm>
              <a:off x="6400800" y="47242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on collision, the behavior scheduler call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cessStimul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5638320" y="5105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collision detection in a Java 3D applic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2-7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5-10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ocess event if WakeupOnCollisionEntr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riterion instanceof WakeupOnCollisionEntry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cessCollis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-register WakeupCriterion to respond to n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WakeonOnCollisionEntry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akeupOn( wakeupCondi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rocessStimul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collision by moving camera view back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witching scenes in Switch grou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cessCollis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3D shiftViewBack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3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Transform3D's Translation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ftViewBack.setTransl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3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Transform3D that determines View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iewingPlatform viewPlatfor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simpleUniverse.getViewingPlatfor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 platformTransfor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viewPlatform.getViewPlatformTransfor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latformTransform.setTransform( shiftViewBa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nder scene in Switch 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Scene.setWhichChi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SER_SCE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5714640" y="533520"/>
            <a:ext cx="3277080" cy="824040"/>
            <a:chOff x="5714640" y="533520"/>
            <a:chExt cx="3277080" cy="824040"/>
          </a:xfrm>
        </p:grpSpPr>
        <p:sp>
          <p:nvSpPr>
            <p:cNvPr id="591" name=""/>
            <p:cNvSpPr/>
            <p:nvPr/>
          </p:nvSpPr>
          <p:spPr>
            <a:xfrm>
              <a:off x="6400800" y="53352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e only th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akeup-Criter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hat are related to collision det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>
              <a:off x="5714640" y="68544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3809520" y="3048120"/>
            <a:ext cx="4953600" cy="3276360"/>
            <a:chOff x="3809520" y="3048120"/>
            <a:chExt cx="4953600" cy="3276360"/>
          </a:xfrm>
        </p:grpSpPr>
        <p:sp>
          <p:nvSpPr>
            <p:cNvPr id="594" name=""/>
            <p:cNvSpPr/>
            <p:nvPr/>
          </p:nvSpPr>
          <p:spPr>
            <a:xfrm>
              <a:off x="6858000" y="4876920"/>
              <a:ext cx="1905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there is a collision, display the “You Lose”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5105520" y="5334120"/>
              <a:ext cx="17524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3809520" y="3048120"/>
              <a:ext cx="304812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collision detection in a Java 3D applic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4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33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rocessColl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99" name="Java3dLoser2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675504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.1   Java 2D Sha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D shap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.awt.ge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lipse2D.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e2D.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2D.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undRectangle2D.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c2D.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that enables the user to navigate a 3D shape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Navigator is a subclass of Behavior that implements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keyboard translation navigator. Navigator responds to certai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key presses by translating an object in a 3D scen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3dg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re Java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edia.j3d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vecmath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3D utili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3d.utils.univers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vigato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ehavi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ansformGroup associated with object controll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y keyboard navig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 objectTransform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anslation amoun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E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0.02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2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2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OW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0.02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private static 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WAR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2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private 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ACKWAR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0.02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aking conditions for Behavi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keupCondition wakeupCondi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4419720" y="2971800"/>
            <a:ext cx="4267080" cy="824040"/>
            <a:chOff x="4419720" y="2971800"/>
            <a:chExt cx="4267080" cy="824040"/>
          </a:xfrm>
        </p:grpSpPr>
        <p:sp>
          <p:nvSpPr>
            <p:cNvPr id="603" name=""/>
            <p:cNvSpPr/>
            <p:nvPr/>
          </p:nvSpPr>
          <p:spPr>
            <a:xfrm>
              <a:off x="6248520" y="297180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vig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llows the user to navigate the shape via the keybo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4419720" y="3429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that enables the user to navigate a 3D shape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vigator( TransformGroup transform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Transform = transfor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WakeupOnAWTEvent to repond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WT KeyEvent.KEY_PRESSED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OnAWTEvent wakeupEv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keupOnAWTEvent( Key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KEY_PRESS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of WakeupEvents to which Behavior respond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Criterion[] wakeupCriteria = { wakeupEvent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ehavior responds when WakeupEvent in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keupCriterion occ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Condi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keupOr( wakeupCriteria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Behavior's wakeup cond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WakeupCriterion to generate Wakeup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hen AWT events occ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On( wakeupCondi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Wakeup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cessStimulus( Enumeration detecte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p to handle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etected.hasMoreElements()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next WakeupCriter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akeupCriterion wakeupCriter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562360" y="4495680"/>
            <a:ext cx="3276720" cy="1067400"/>
            <a:chOff x="5562360" y="4495680"/>
            <a:chExt cx="3276720" cy="1067400"/>
          </a:xfrm>
        </p:grpSpPr>
        <p:sp>
          <p:nvSpPr>
            <p:cNvPr id="608" name=""/>
            <p:cNvSpPr/>
            <p:nvPr/>
          </p:nvSpPr>
          <p:spPr>
            <a:xfrm>
              <a:off x="6172200" y="44956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the user presses keys on the keyboard, the behavior scheduler call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cessStimul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5562360" y="502920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that enables the user to navigate a 3D shape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3-7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8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WakeupCriterion ) detected.nextEl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WakeupCriterion if WakeupOnAWT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wakeupCriter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stanc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keupOnAWTEvent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akeupOnAWTEvent awtEv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WakeupOnAWTEvent) wakeupCriter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WTEvent[] events = awtEvent.getAWTEv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voke method moveObject with AWT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oveShape( events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-register wakeupCondition to respond to next key p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On( wakeupCondi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rocessStimul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AWT KeyEvents by translating an object in 3D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veShape( AWTEvent[] awtEvent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all events in AWTEvent arra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 &lt; awtEvents.length; x++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if AWTEvent is Key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awtEvents[ x ]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stanc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cooresponding Key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KeyEvent keyEvent = ( KeyEvent ) awtEvents[ x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spond only if KeyEvent is of type KEY_PRESS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keyEvent.getID() == Key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KEY_PRESS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KeyCode associated with Key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Code = keyEvent.getKeyCod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5486040" y="990360"/>
            <a:ext cx="3277080" cy="1143720"/>
            <a:chOff x="5486040" y="990360"/>
            <a:chExt cx="3277080" cy="1143720"/>
          </a:xfrm>
        </p:grpSpPr>
        <p:sp>
          <p:nvSpPr>
            <p:cNvPr id="613" name=""/>
            <p:cNvSpPr/>
            <p:nvPr/>
          </p:nvSpPr>
          <p:spPr>
            <a:xfrm>
              <a:off x="6172200" y="106668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e only th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akeup-Criter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hat are related to the user pressing a key on the keybo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5486040" y="99036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181120" y="3505320"/>
            <a:ext cx="3582000" cy="580680"/>
            <a:chOff x="5181120" y="3505320"/>
            <a:chExt cx="3582000" cy="580680"/>
          </a:xfrm>
        </p:grpSpPr>
        <p:sp>
          <p:nvSpPr>
            <p:cNvPr id="616" name=""/>
            <p:cNvSpPr/>
            <p:nvPr/>
          </p:nvSpPr>
          <p:spPr>
            <a:xfrm>
              <a:off x="6781680" y="350532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translating 3D sha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5181120" y="3809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that enables the user to navigate a 3D shape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22-12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26-1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0-13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4-13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8-14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ransform3D transform3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3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Transform3D from TransformGroup 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navigab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bjectTransform.getTransform( transform3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Vector3f translateVec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3f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retrieve translation vector associated wit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Transform3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ransform3D.get( translateVect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update x, y, or z component of transla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vector based on keyp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keyCode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K_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ve le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translateVector.x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E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K_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ve r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translateVector.x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K_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ve 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translateVector.y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Event.</a:t>
            </a:r>
            <a:r>
              <a:rPr b="1" lang="en-US" sz="1200" spc="-1" strike="noStrike">
                <a:solidFill>
                  <a:srgbClr val="40d9ff"/>
                </a:solidFill>
                <a:latin typeface="Courier New"/>
                <a:ea typeface="Courier New"/>
              </a:rPr>
              <a:t>VK_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ve do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translateVector.y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OW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K_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ve backwar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translateVector.z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ACKWAR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5029200" y="2895480"/>
            <a:ext cx="3733920" cy="762120"/>
            <a:chOff x="5029200" y="2895480"/>
            <a:chExt cx="3733920" cy="762120"/>
          </a:xfrm>
        </p:grpSpPr>
        <p:sp>
          <p:nvSpPr>
            <p:cNvPr id="621" name=""/>
            <p:cNvSpPr/>
            <p:nvPr/>
          </p:nvSpPr>
          <p:spPr>
            <a:xfrm>
              <a:off x="6324480" y="289548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user presses ‘A’, move navigable shape to the le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5029200" y="3200400"/>
              <a:ext cx="1295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5029200" y="3733920"/>
            <a:ext cx="3809880" cy="609480"/>
            <a:chOff x="5029200" y="3733920"/>
            <a:chExt cx="3809880" cy="609480"/>
          </a:xfrm>
        </p:grpSpPr>
        <p:sp>
          <p:nvSpPr>
            <p:cNvPr id="624" name=""/>
            <p:cNvSpPr/>
            <p:nvPr/>
          </p:nvSpPr>
          <p:spPr>
            <a:xfrm>
              <a:off x="6324480" y="37339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user presses ‘D’, move navigable shape to the r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5029200" y="4038480"/>
              <a:ext cx="1295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4800240" y="4495680"/>
            <a:ext cx="4038840" cy="609840"/>
            <a:chOff x="4800240" y="4495680"/>
            <a:chExt cx="4038840" cy="609840"/>
          </a:xfrm>
        </p:grpSpPr>
        <p:sp>
          <p:nvSpPr>
            <p:cNvPr id="627" name=""/>
            <p:cNvSpPr/>
            <p:nvPr/>
          </p:nvSpPr>
          <p:spPr>
            <a:xfrm>
              <a:off x="6477120" y="4495680"/>
              <a:ext cx="236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user presses ‘W’, move navigable shape 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4800240" y="4800600"/>
              <a:ext cx="1676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5029200" y="5334120"/>
            <a:ext cx="3809880" cy="580680"/>
            <a:chOff x="5029200" y="5334120"/>
            <a:chExt cx="3809880" cy="580680"/>
          </a:xfrm>
        </p:grpSpPr>
        <p:sp>
          <p:nvSpPr>
            <p:cNvPr id="630" name=""/>
            <p:cNvSpPr/>
            <p:nvPr/>
          </p:nvSpPr>
          <p:spPr>
            <a:xfrm>
              <a:off x="6477120" y="5334120"/>
              <a:ext cx="236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user presses ‘S’, move navigable shape dow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5029200" y="563868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5409720" y="6095880"/>
            <a:ext cx="3582000" cy="580680"/>
            <a:chOff x="5409720" y="6095880"/>
            <a:chExt cx="3582000" cy="580680"/>
          </a:xfrm>
        </p:grpSpPr>
        <p:sp>
          <p:nvSpPr>
            <p:cNvPr id="633" name=""/>
            <p:cNvSpPr/>
            <p:nvPr/>
          </p:nvSpPr>
          <p:spPr>
            <a:xfrm>
              <a:off x="6095880" y="6095880"/>
              <a:ext cx="289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user presses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y, move navigable shape backw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5409720" y="640080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that enables the user to navigate a 3D shape 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2-14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191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K_DOW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ve forwar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translateVector.z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WAR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et translational component of Transform3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with updated translation Vector3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ransform3D.setTranslation( translateVect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et TransformGroup's Transform3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bjectTransform.setTransform( transform3D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 KeyEvent.KEY_PRESS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 loop that handles key pre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ove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257440" y="609480"/>
            <a:ext cx="3581640" cy="580680"/>
            <a:chOff x="5257440" y="609480"/>
            <a:chExt cx="3581640" cy="580680"/>
          </a:xfrm>
        </p:grpSpPr>
        <p:sp>
          <p:nvSpPr>
            <p:cNvPr id="638" name=""/>
            <p:cNvSpPr/>
            <p:nvPr/>
          </p:nvSpPr>
          <p:spPr>
            <a:xfrm>
              <a:off x="6019920" y="609480"/>
              <a:ext cx="2819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user presses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wn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y, move navigable shape forw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5257440" y="914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5   A Java 3D Case Study: A 3D Game with Custom Behavior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7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a position-check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havi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9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GoalDetector defines a position-checking behavior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s to see if the position of a Node is equal to the tar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sition. If the positions are equal, the game is over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Java 3D Switch displays a different scen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3dg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re Java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edia.j3d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vecmath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3D utili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3d.utils.univers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oalDetecto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ehavi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dex of scene to display if goal detec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INNER_SCE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ansformGroup associated with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 objectTransform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witch switchScen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itch group that contains sce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mpleUniverse simpleUniver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oalX, goalY, goalZ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al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adius of sphere at goal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hereRadiu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723920" y="3276720"/>
            <a:ext cx="4191480" cy="824040"/>
            <a:chOff x="4723920" y="3276720"/>
            <a:chExt cx="4191480" cy="824040"/>
          </a:xfrm>
        </p:grpSpPr>
        <p:sp>
          <p:nvSpPr>
            <p:cNvPr id="646" name=""/>
            <p:cNvSpPr/>
            <p:nvPr/>
          </p:nvSpPr>
          <p:spPr>
            <a:xfrm>
              <a:off x="5562720" y="3276720"/>
              <a:ext cx="3352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oalDet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nables the program to determine when the navigable shape has reached its targ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723920" y="36576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7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a position-check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havi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ehavior's waking cond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keupCondition wakeupCondi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method initializes member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nd creates WakeupCriter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oalDetector( SimpleUniverse univers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 transform, Switch switchGroup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ector3f goalVecto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Transform = transfor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Scene = switchGrou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impleUniverse = univer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goal coordinates to goalVector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oalX = goalVector.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oalY = goalVector.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oalZ = goalVector.z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radius of sphere at goal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hereRadius =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WakeupOnAWTEvent to respond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WT KeyEvent.KEY_PRESSED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OnAWTEvent wakeupEv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keupOnAWTEvent( Key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KEY_PRESS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of WakeupEvents to which Behavior resp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Criterion[] wakeupArray = { wakeupEvent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ehavior responds when WakeupEvent i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keupCriterion occur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Condi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keupOr( wakeupArray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structor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7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a position-check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havi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7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8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Behavior's wakeup cond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WakeupCriterion to respond to AWTEven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On( wakeupCondi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Wakeup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cessStimulus( Enumeration detecte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p to handle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etected.hasMoreElements()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next sequential WakeupCriter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akeupCriterion wakeupCriter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WakeupCriterion ) detected.nextEl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if WakeupOnAWT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wakeupCriter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stanc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keupOnAWT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ensure WakeupOnAWTEvent is KeyEvent.KEY_PRESS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akeupOnAWTEvent awtEv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WakeupOnAWTEvent ) wakeupCriter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WTEvent[] event = awtEvent.getAWTEv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heck object pos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heckPosition( 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-register WakeupCriterion to respond to nex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key p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akeupOn( wakeupCondi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rocessStimul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5562360" y="838080"/>
            <a:ext cx="3276720" cy="1067400"/>
            <a:chOff x="5562360" y="838080"/>
            <a:chExt cx="3276720" cy="1067400"/>
          </a:xfrm>
        </p:grpSpPr>
        <p:sp>
          <p:nvSpPr>
            <p:cNvPr id="653" name=""/>
            <p:cNvSpPr/>
            <p:nvPr/>
          </p:nvSpPr>
          <p:spPr>
            <a:xfrm>
              <a:off x="6172200" y="8380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the user presses keys on the keyboard, the behavior scheduler call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cessStimul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5562360" y="137160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486040" y="2286000"/>
            <a:ext cx="3277080" cy="1219320"/>
            <a:chOff x="5486040" y="2286000"/>
            <a:chExt cx="3277080" cy="1219320"/>
          </a:xfrm>
        </p:grpSpPr>
        <p:sp>
          <p:nvSpPr>
            <p:cNvPr id="656" name=""/>
            <p:cNvSpPr/>
            <p:nvPr/>
          </p:nvSpPr>
          <p:spPr>
            <a:xfrm>
              <a:off x="6172200" y="228600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e only th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akeup-Criter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hat are related to the user pressing a key on the keybo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486040" y="281952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7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a position-check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havi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0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eck position of object in objectTransform TransformGroup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eckPosition( AWTEvent[] awtEvent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ector3f translat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3f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3D transform3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3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ransform3D associated with objectTrans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Transform.getTransform( transform3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ransform3D's translation v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3d.get( transla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all key presses in awt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 &lt; awtEvents.length; x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if AWTEvent is Key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wtEvents[ x ]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stanc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KeyEvent keyEvent = (KeyEvent) awtEvents[ x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if KeyEvent.KEY_PRES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keyEvent.getID() == Key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KEY_PRESS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if object position == goal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atGoal( translate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Transform3D shiftBack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3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set translation to 8.0 on +z-ax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hiftBack.setTransl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3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set Transform3D that determines view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in SimpleUniver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ViewingPlatform viewPlatfor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simpleUniverse.getViewingPlatfor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486400" y="762120"/>
            <a:ext cx="3352680" cy="824040"/>
            <a:chOff x="5486400" y="762120"/>
            <a:chExt cx="3352680" cy="824040"/>
          </a:xfrm>
        </p:grpSpPr>
        <p:sp>
          <p:nvSpPr>
            <p:cNvPr id="661" name=""/>
            <p:cNvSpPr/>
            <p:nvPr/>
          </p:nvSpPr>
          <p:spPr>
            <a:xfrm>
              <a:off x="6477120" y="76212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checking the position of the 3D object in the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5486400" y="837720"/>
              <a:ext cx="990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ing some Java 2D shap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1-3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hapes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hapes demonstrates some Java 2D shap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.awt.ge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.awt.im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hapes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constructor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hape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"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Drawing 2D 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draw shapes using Java 2D AP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aint( Graphics 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 // call superclass' paint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int( 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 // get Graphics 2D by casting g to Graphics2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Graphics2D graphics2D = ( Graphics2D ) 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 // draw 2D ellipse filled with blue-yellow grad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graphics2D.setPa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radientPa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b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3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yell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graphics2D.fil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llipse2D.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733920" y="1523880"/>
            <a:ext cx="4724280" cy="914400"/>
            <a:chOff x="3733920" y="1523880"/>
            <a:chExt cx="4724280" cy="914400"/>
          </a:xfrm>
        </p:grpSpPr>
        <p:sp>
          <p:nvSpPr>
            <p:cNvPr id="109" name=""/>
            <p:cNvSpPr/>
            <p:nvPr/>
          </p:nvSpPr>
          <p:spPr>
            <a:xfrm>
              <a:off x="4952880" y="1523880"/>
              <a:ext cx="350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ap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monstrates several Java 2D shapes and rendering 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733920" y="1828800"/>
              <a:ext cx="1218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029200" y="4038480"/>
            <a:ext cx="3657600" cy="990720"/>
            <a:chOff x="5029200" y="4038480"/>
            <a:chExt cx="3657600" cy="990720"/>
          </a:xfrm>
        </p:grpSpPr>
        <p:sp>
          <p:nvSpPr>
            <p:cNvPr id="112" name=""/>
            <p:cNvSpPr/>
            <p:nvPr/>
          </p:nvSpPr>
          <p:spPr>
            <a:xfrm>
              <a:off x="5943600" y="403848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allow access to Java 2D feat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029200" y="4419720"/>
              <a:ext cx="914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095880" y="5105520"/>
            <a:ext cx="2743200" cy="761760"/>
            <a:chOff x="6095880" y="5105520"/>
            <a:chExt cx="2743200" cy="761760"/>
          </a:xfrm>
        </p:grpSpPr>
        <p:sp>
          <p:nvSpPr>
            <p:cNvPr id="115" name=""/>
            <p:cNvSpPr/>
            <p:nvPr/>
          </p:nvSpPr>
          <p:spPr>
            <a:xfrm>
              <a:off x="6629400" y="510552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dientPa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splays a gradient col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6095880" y="54100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553080" y="6095880"/>
            <a:ext cx="2438640" cy="337320"/>
            <a:chOff x="6553080" y="6095880"/>
            <a:chExt cx="2438640" cy="337320"/>
          </a:xfrm>
        </p:grpSpPr>
        <p:sp>
          <p:nvSpPr>
            <p:cNvPr id="118" name=""/>
            <p:cNvSpPr/>
            <p:nvPr/>
          </p:nvSpPr>
          <p:spPr>
            <a:xfrm>
              <a:off x="7086600" y="609588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a filled ellip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553080" y="6248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7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a position-check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havi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9-17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TransformGroup platformTransfor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viewPlatform.getViewPlatformTransfor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platformTransform.setTransform( shiftBa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render winner scene in SimpleUniver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witchScene.setWhichChi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INNER_SCE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 Key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 loop that handles key pre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heckPos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elper method returns true if current position is with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oal bound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tGoal( Vector3f currentPosition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culate difference between current location and goa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Math.abs( currentPosition.x - goal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Math.abs( currentPosition.y - goal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 = Math.abs( currentPosition.z - goalZ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true if current position within sphereRadius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oal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( x &lt; sphereRadius ) &amp;&amp; ( y &lt; sphereRadius ) &amp;&amp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z &lt; sphereRadius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5486400" y="3276720"/>
            <a:ext cx="3276720" cy="1067400"/>
            <a:chOff x="5486400" y="3276720"/>
            <a:chExt cx="3276720" cy="1067400"/>
          </a:xfrm>
        </p:grpSpPr>
        <p:sp>
          <p:nvSpPr>
            <p:cNvPr id="666" name=""/>
            <p:cNvSpPr/>
            <p:nvPr/>
          </p:nvSpPr>
          <p:spPr>
            <a:xfrm>
              <a:off x="6781680" y="3276720"/>
              <a:ext cx="19814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determining whether the navigable shape has reached its targ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5486400" y="38098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7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a position-check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havi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6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Java3dWinner1" descr=""/>
          <p:cNvPicPr/>
          <p:nvPr/>
        </p:nvPicPr>
        <p:blipFill>
          <a:blip r:embed="rId1"/>
          <a:stretch/>
        </p:blipFill>
        <p:spPr>
          <a:xfrm>
            <a:off x="1523880" y="0"/>
            <a:ext cx="5040360" cy="3387600"/>
          </a:xfrm>
          <a:prstGeom prst="rect">
            <a:avLst/>
          </a:prstGeom>
          <a:ln w="0">
            <a:noFill/>
          </a:ln>
        </p:spPr>
      </p:pic>
      <p:pic>
        <p:nvPicPr>
          <p:cNvPr id="670" name="Java3dWinner2" descr=""/>
          <p:cNvPicPr/>
          <p:nvPr/>
        </p:nvPicPr>
        <p:blipFill>
          <a:blip r:embed="rId2"/>
          <a:stretch/>
        </p:blipFill>
        <p:spPr>
          <a:xfrm>
            <a:off x="1523880" y="3494160"/>
            <a:ext cx="504360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Swing controls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rolPanel1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rolPanel1 is a JPanel that contains Swing control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manipulating a Java3DWorld1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3dg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bord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rolPanel1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AINER_WID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AINER_HE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Sliders control lighting col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lider numberSli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3DWorld1 java3DWorld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rolPan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rolPanel1( Java3DWorld1 tempJ3DWorl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3DWorld1 = tempJ3DWor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ssemble lighting color control pan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color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Layout( Flow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E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dBorder colorBord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581280" y="4114800"/>
            <a:ext cx="5257800" cy="580680"/>
            <a:chOff x="3581280" y="4114800"/>
            <a:chExt cx="5257800" cy="580680"/>
          </a:xfrm>
        </p:grpSpPr>
        <p:sp>
          <p:nvSpPr>
            <p:cNvPr id="674" name=""/>
            <p:cNvSpPr/>
            <p:nvPr/>
          </p:nvSpPr>
          <p:spPr>
            <a:xfrm>
              <a:off x="5943600" y="41148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pecify the number of obstacles on scr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3581280" y="441972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43400" y="1447920"/>
            <a:ext cx="4114800" cy="1371600"/>
            <a:chOff x="4343400" y="1447920"/>
            <a:chExt cx="4114800" cy="1371600"/>
          </a:xfrm>
        </p:grpSpPr>
        <p:sp>
          <p:nvSpPr>
            <p:cNvPr id="677" name=""/>
            <p:cNvSpPr/>
            <p:nvPr/>
          </p:nvSpPr>
          <p:spPr>
            <a:xfrm>
              <a:off x="5715000" y="144792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ontains controls for specifying the number of obstacles on scr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4343400" y="1905120"/>
              <a:ext cx="1371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Swing controls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3-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dBor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ow Many Shapes?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Border.setTitleJustification( TitledBord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Panel.setBorder( colorBorde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number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Number of Shap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Slider for adjusting number of flying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Sli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li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ORIZONT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Slider.setMajorTickSpac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Slider.setPaintTick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Slider.setPaintTrack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Slider.setPaintLabel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hangeListener for JSlid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ngeListener slide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nge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voked when slider has been acces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Changed( Change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java3DWorld1.switchScene( numberSlider.getValue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istener to slid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Slider.addChangeListener( slide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ighting color control components to color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Panel.add( number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Panel.add( numberSli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color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4648320" y="2438280"/>
            <a:ext cx="4267080" cy="914400"/>
            <a:chOff x="4648320" y="2438280"/>
            <a:chExt cx="4267080" cy="914400"/>
          </a:xfrm>
        </p:grpSpPr>
        <p:sp>
          <p:nvSpPr>
            <p:cNvPr id="682" name=""/>
            <p:cNvSpPr/>
            <p:nvPr/>
          </p:nvSpPr>
          <p:spPr>
            <a:xfrm>
              <a:off x="5486400" y="243828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acces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update the number of obstacles on scr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648320" y="2743200"/>
              <a:ext cx="8380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Swing controls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429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GridLay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trolPanel1 constructor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preferred dimensions of contai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AINER_WID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AINER_HE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minimum size of contai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in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Jonathan Gadzik</dc:creator>
  <dc:description/>
  <dc:language>en-US</dc:language>
  <cp:lastModifiedBy>gadzik</cp:lastModifiedBy>
  <dcterms:modified xsi:type="dcterms:W3CDTF">2002-01-29T17:27:49Z</dcterms:modified>
  <cp:revision>186</cp:revision>
  <dc:subject/>
  <dc:title>Chapter 4: Graphics Programming with Java 2D and Java 3D</dc:title>
</cp:coreProperties>
</file>