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FC70-9D19-4B83-BCA6-BE469474C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4D13-C2DB-477C-B332-5D9694E53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4808-3D4F-4D0C-A55A-65EB45AB9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8FCA-C621-49C2-8EB0-03D74DFD6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CFB1-BBF6-48FE-B6F9-B7D44D5DF3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1785-59D0-46A4-B64E-7285C1FF3F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A77D-838C-45FE-9A69-7276145123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CBB0-11FE-4A4C-B524-911F194475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72C9-8DB1-4E2D-A24A-5C62D54290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CF20-BA73-4EA3-8144-D2C695DF8F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1DD2-F661-41E7-B23E-9645E17BD7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B247-6861-4774-9040-A1592F6B3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2BEE-2811-4E77-9446-24AC7AE3F5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1C05-89C3-4629-8494-629EB9B928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3B02-8A4E-4336-A035-837B2C397F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99B1-C17C-4A82-ACDE-7CFC4249B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500D-EB1B-46F0-B5E8-4AFB64065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01AD-B4FD-4FA8-A1EC-20F886009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F093-CF4B-454F-BC0B-6D299A00E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FFCD-4723-4AEA-B081-A4739F189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97A1-BA03-4836-97A9-75698C873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0C46-04DF-4E7A-B616-1B1D23229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F6BD-A515-4E02-9384-DC4868979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FF25-D328-4667-A337-1A5915C24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F786-639B-4D7F-B99A-ED04CC477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455B-E5C5-4D06-8B38-E3907E272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5: Entity EJB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ntity EJB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ntity EJB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Home and Remote Interfa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with Bean-Managed Persiste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Deploy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with Container-Managed Persiste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.1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an-managed pers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-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 is an entity EJB that uses bean-mana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sistence to persist Employee data in a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.b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mploye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ocialSecurity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 sal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mploye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Employee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00600" y="1676520"/>
            <a:ext cx="3124080" cy="1143000"/>
            <a:chOff x="4800600" y="1676520"/>
            <a:chExt cx="3124080" cy="1143000"/>
          </a:xfrm>
        </p:grpSpPr>
        <p:sp>
          <p:nvSpPr>
            <p:cNvPr id="135" name=""/>
            <p:cNvSpPr/>
            <p:nvPr/>
          </p:nvSpPr>
          <p:spPr>
            <a:xfrm flipH="1">
              <a:off x="4876920" y="2209680"/>
              <a:ext cx="16761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16765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EJB implementations must implement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ity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66720" y="2895480"/>
            <a:ext cx="4496400" cy="824040"/>
            <a:chOff x="4266720" y="2895480"/>
            <a:chExt cx="4496400" cy="824040"/>
          </a:xfrm>
        </p:grpSpPr>
        <p:sp>
          <p:nvSpPr>
            <p:cNvPr id="138" name=""/>
            <p:cNvSpPr/>
            <p:nvPr/>
          </p:nvSpPr>
          <p:spPr>
            <a:xfrm>
              <a:off x="6019920" y="28954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ity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EJB with information about container that deploys the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266720" y="3276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885840" y="4038480"/>
            <a:ext cx="4724640" cy="824040"/>
            <a:chOff x="3885840" y="4038480"/>
            <a:chExt cx="4724640" cy="824040"/>
          </a:xfrm>
        </p:grpSpPr>
        <p:sp>
          <p:nvSpPr>
            <p:cNvPr id="141" name=""/>
            <p:cNvSpPr/>
            <p:nvPr/>
          </p:nvSpPr>
          <p:spPr>
            <a:xfrm>
              <a:off x="5867280" y="40384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mber variables to store data retrieved from the database and updates from th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3885840" y="4267080"/>
              <a:ext cx="198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ocialSecurityNumber( String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ocialSecurityNumber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ocialSecurity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ocialSecurity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job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job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alary( Double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ary = am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 getSalar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Create( Integer primaryKe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primary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876920" y="3733920"/>
            <a:ext cx="3962160" cy="1295280"/>
            <a:chOff x="4876920" y="3733920"/>
            <a:chExt cx="3962160" cy="1295280"/>
          </a:xfrm>
        </p:grpSpPr>
        <p:sp>
          <p:nvSpPr>
            <p:cNvPr id="148" name=""/>
            <p:cNvSpPr/>
            <p:nvPr/>
          </p:nvSpPr>
          <p:spPr>
            <a:xfrm>
              <a:off x="4876920" y="3733920"/>
              <a:ext cx="3962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a client invoke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181120" y="457200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3-1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new Employee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INSERT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inser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SERT INTO Employe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 employeeID ) VALUES ( ? 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eparedStatement to perform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inser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 inse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values for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ertStatement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mployeeID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ecute INSERT and close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ert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ert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JBException if INSERT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( sql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o post-creation tasks when creat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Integer primaryKey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Employee information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800240" y="533520"/>
            <a:ext cx="4115160" cy="1295280"/>
            <a:chOff x="4800240" y="533520"/>
            <a:chExt cx="4115160" cy="1295280"/>
          </a:xfrm>
        </p:grpSpPr>
        <p:sp>
          <p:nvSpPr>
            <p:cNvPr id="153" name=""/>
            <p:cNvSpPr/>
            <p:nvPr/>
          </p:nvSpPr>
          <p:spPr>
            <a:xfrm>
              <a:off x="5867280" y="53352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800240" y="990720"/>
              <a:ext cx="10666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419360" y="1752480"/>
            <a:ext cx="4191120" cy="1371600"/>
            <a:chOff x="4419360" y="1752480"/>
            <a:chExt cx="4191120" cy="1371600"/>
          </a:xfrm>
        </p:grpSpPr>
        <p:sp>
          <p:nvSpPr>
            <p:cNvPr id="156" name=""/>
            <p:cNvSpPr/>
            <p:nvPr/>
          </p:nvSpPr>
          <p:spPr>
            <a:xfrm>
              <a:off x="6324480" y="17524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19360" y="2057400"/>
              <a:ext cx="19047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86040" y="2971800"/>
            <a:ext cx="3353040" cy="2514600"/>
            <a:chOff x="5486040" y="2971800"/>
            <a:chExt cx="3353040" cy="2514600"/>
          </a:xfrm>
        </p:grpSpPr>
        <p:sp>
          <p:nvSpPr>
            <p:cNvPr id="159" name=""/>
            <p:cNvSpPr/>
            <p:nvPr/>
          </p:nvSpPr>
          <p:spPr>
            <a:xfrm flipH="1">
              <a:off x="5486040" y="3962520"/>
              <a:ext cx="21337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2971800"/>
              <a:ext cx="2819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Post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fter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required tas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920" y="4495680"/>
            <a:ext cx="3962160" cy="1524240"/>
            <a:chOff x="4876920" y="4495680"/>
            <a:chExt cx="3962160" cy="1524240"/>
          </a:xfrm>
        </p:grpSpPr>
        <p:sp>
          <p:nvSpPr>
            <p:cNvPr id="162" name=""/>
            <p:cNvSpPr/>
            <p:nvPr/>
          </p:nvSpPr>
          <p:spPr>
            <a:xfrm>
              <a:off x="4876920" y="4495680"/>
              <a:ext cx="3962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a client invoke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Remo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181120" y="533412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4-14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LETE Employe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imary key of Employee to be 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 primaryKe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Integer ) entityContext.getPrimaryKe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ELETE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ele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 FROM Employee WHER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ID = 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eparedStatement to perform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delete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 dele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values for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leteStatement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rimaryKey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ecute DELETE and close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lete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lete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new EJBException if DELETE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Exception( sql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Remo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Employee information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723920" y="1981080"/>
            <a:ext cx="4039200" cy="1067400"/>
            <a:chOff x="4723920" y="1981080"/>
            <a:chExt cx="4039200" cy="1067400"/>
          </a:xfrm>
        </p:grpSpPr>
        <p:sp>
          <p:nvSpPr>
            <p:cNvPr id="167" name=""/>
            <p:cNvSpPr/>
            <p:nvPr/>
          </p:nvSpPr>
          <p:spPr>
            <a:xfrm>
              <a:off x="6477120" y="198108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pared-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23920" y="25146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419360" y="3505320"/>
            <a:ext cx="4267440" cy="580680"/>
            <a:chOff x="4419360" y="3505320"/>
            <a:chExt cx="4267440" cy="580680"/>
          </a:xfrm>
        </p:grpSpPr>
        <p:sp>
          <p:nvSpPr>
            <p:cNvPr id="170" name=""/>
            <p:cNvSpPr/>
            <p:nvPr/>
          </p:nvSpPr>
          <p:spPr>
            <a:xfrm>
              <a:off x="6400800" y="35053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419360" y="38098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876920" y="5334120"/>
            <a:ext cx="3886200" cy="1067400"/>
            <a:chOff x="4876920" y="5334120"/>
            <a:chExt cx="3886200" cy="1067400"/>
          </a:xfrm>
        </p:grpSpPr>
        <p:sp>
          <p:nvSpPr>
            <p:cNvPr id="173" name=""/>
            <p:cNvSpPr/>
            <p:nvPr/>
          </p:nvSpPr>
          <p:spPr>
            <a:xfrm>
              <a:off x="6629400" y="533412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Sto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876920" y="5867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8-17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9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Employe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imary key for Employee to be upd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 primaryKe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Integer ) entityContext.getPrimaryKey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UPDATE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pda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Employee SE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ialSecurityNumber = ?, firstName = ?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 = ?, title = ?, salary = 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employeeID = 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eparedStatement to perform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update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 upd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values in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socialSecurityNumber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salary.doubleValue()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rimaryKey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ecute UPDATE and close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JBException if UPDATE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St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23920" y="2438280"/>
            <a:ext cx="4191480" cy="1067400"/>
            <a:chOff x="4723920" y="2438280"/>
            <a:chExt cx="4191480" cy="1067400"/>
          </a:xfrm>
        </p:grpSpPr>
        <p:sp>
          <p:nvSpPr>
            <p:cNvPr id="178" name=""/>
            <p:cNvSpPr/>
            <p:nvPr/>
          </p:nvSpPr>
          <p:spPr>
            <a:xfrm>
              <a:off x="6477120" y="243828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pared-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723920" y="29718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495320" y="4800600"/>
            <a:ext cx="4267800" cy="580680"/>
            <a:chOff x="4495320" y="4800600"/>
            <a:chExt cx="4267800" cy="580680"/>
          </a:xfrm>
        </p:grpSpPr>
        <p:sp>
          <p:nvSpPr>
            <p:cNvPr id="181" name=""/>
            <p:cNvSpPr/>
            <p:nvPr/>
          </p:nvSpPr>
          <p:spPr>
            <a:xfrm>
              <a:off x="6172200" y="48006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495320" y="5105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5-21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Employee information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Employee record from Employee database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imary key for Employee to be loa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 primaryKe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Integer ) entityContext.getPrimaryKey(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ELECT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* FROM Employee WHER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ID = 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eparedStatement for SEL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ID value in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lectStatement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rimaryKey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ecute select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Employee information from ResultSet and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l member variables to cach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employe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mployee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resultSet.get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724280" y="228600"/>
            <a:ext cx="4191120" cy="1067400"/>
            <a:chOff x="4724280" y="228600"/>
            <a:chExt cx="4191120" cy="1067400"/>
          </a:xfrm>
        </p:grpSpPr>
        <p:sp>
          <p:nvSpPr>
            <p:cNvPr id="186" name=""/>
            <p:cNvSpPr/>
            <p:nvPr/>
          </p:nvSpPr>
          <p:spPr>
            <a:xfrm>
              <a:off x="6172200" y="22860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Lo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p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from the databas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724280" y="762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723920" y="2209680"/>
            <a:ext cx="4191480" cy="1067400"/>
            <a:chOff x="4723920" y="2209680"/>
            <a:chExt cx="4191480" cy="1067400"/>
          </a:xfrm>
        </p:grpSpPr>
        <p:sp>
          <p:nvSpPr>
            <p:cNvPr id="189" name=""/>
            <p:cNvSpPr/>
            <p:nvPr/>
          </p:nvSpPr>
          <p:spPr>
            <a:xfrm>
              <a:off x="6477120" y="220968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pared-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L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723920" y="2743200"/>
              <a:ext cx="1752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400440" y="3581280"/>
            <a:ext cx="2591280" cy="914400"/>
            <a:chOff x="6400440" y="3581280"/>
            <a:chExt cx="2591280" cy="914400"/>
          </a:xfrm>
        </p:grpSpPr>
        <p:sp>
          <p:nvSpPr>
            <p:cNvPr id="192" name=""/>
            <p:cNvSpPr/>
            <p:nvPr/>
          </p:nvSpPr>
          <p:spPr>
            <a:xfrm flipH="1">
              <a:off x="6400440" y="4114800"/>
              <a:ext cx="1676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7120" y="35812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L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3-2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social-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ocialSecurityNumber = resultSet.get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ialSecurity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rstName =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astName =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job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itle =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la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( resultSet.getDoub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a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such employe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lect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JBException if SELECT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Lo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334120" y="609120"/>
            <a:ext cx="3581280" cy="2210400"/>
            <a:chOff x="5334120" y="609120"/>
            <a:chExt cx="3581280" cy="2210400"/>
          </a:xfrm>
        </p:grpSpPr>
        <p:sp>
          <p:nvSpPr>
            <p:cNvPr id="197" name=""/>
            <p:cNvSpPr/>
            <p:nvPr/>
          </p:nvSpPr>
          <p:spPr>
            <a:xfrm>
              <a:off x="7086600" y="99072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database data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715000" y="6091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6095880" y="129528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334120" y="1371600"/>
              <a:ext cx="1752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6920" y="137160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486040" y="1371600"/>
              <a:ext cx="16002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9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3-28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Employee using its primary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FindByPrimaryKey( Integer primaryKe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derException,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Employee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ELECT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employeeID FROM Employe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employeeID = 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eparedStatement for SEL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ID value in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lectStatement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rimaryKey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ecute select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primary key if SELECT returns a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ose resultSet and select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Se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lect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mary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row ObjectNotFoundException if SELECT produ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o reco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otFound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1640" y="228600"/>
            <a:ext cx="4420080" cy="1310760"/>
            <a:chOff x="4571640" y="228600"/>
            <a:chExt cx="4420080" cy="1310760"/>
          </a:xfrm>
        </p:grpSpPr>
        <p:sp>
          <p:nvSpPr>
            <p:cNvPr id="206" name=""/>
            <p:cNvSpPr/>
            <p:nvPr/>
          </p:nvSpPr>
          <p:spPr>
            <a:xfrm>
              <a:off x="6172200" y="228600"/>
              <a:ext cx="28195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a client invoke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FindByPrimary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4571640" y="68544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800600" y="1981080"/>
            <a:ext cx="4114800" cy="1676520"/>
            <a:chOff x="4800600" y="1981080"/>
            <a:chExt cx="4114800" cy="1676520"/>
          </a:xfrm>
        </p:grpSpPr>
        <p:sp>
          <p:nvSpPr>
            <p:cNvPr id="209" name=""/>
            <p:cNvSpPr/>
            <p:nvPr/>
          </p:nvSpPr>
          <p:spPr>
            <a:xfrm>
              <a:off x="6629400" y="21337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cord from database via primary key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L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5791320" y="19810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800600" y="2514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19560" y="251460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172200" y="251460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based representations of information-ti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data stored in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present two vers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e entity EJB that uses JDBC to persis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e how container manages data storage and 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10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0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7-3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JBException if SELECT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FindByPrimary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 and create DataSourc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the Employee DataSource and creat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aSource reference from JNDI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dataSource = ( DataSour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Employ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onnection from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= data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ataSource not found i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naming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181480" y="228600"/>
            <a:ext cx="3505320" cy="1676520"/>
            <a:chOff x="5181480" y="228600"/>
            <a:chExt cx="3505320" cy="1676520"/>
          </a:xfrm>
        </p:grpSpPr>
        <p:sp>
          <p:nvSpPr>
            <p:cNvPr id="217" name=""/>
            <p:cNvSpPr/>
            <p:nvPr/>
          </p:nvSpPr>
          <p:spPr>
            <a:xfrm flipH="1">
              <a:off x="5790960" y="129528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81480" y="228600"/>
              <a:ext cx="3505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-Entity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fter the EJB is first created, but before the EJB is associated with a particular database recor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029200" y="3581280"/>
            <a:ext cx="3886200" cy="1143720"/>
            <a:chOff x="5029200" y="3581280"/>
            <a:chExt cx="3886200" cy="1143720"/>
          </a:xfrm>
        </p:grpSpPr>
        <p:sp>
          <p:nvSpPr>
            <p:cNvPr id="220" name=""/>
            <p:cNvSpPr/>
            <p:nvPr/>
          </p:nvSpPr>
          <p:spPr>
            <a:xfrm flipH="1">
              <a:off x="5029200" y="4191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77120" y="36576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JNDI name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c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base in JNDI dir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5867280" y="3581280"/>
              <a:ext cx="6098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1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1-3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getting Connection to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throws EJB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DataSourc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JBException if closing Connection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epare connection for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mployeeID to null when container passivates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181120" y="533520"/>
            <a:ext cx="3734280" cy="990360"/>
            <a:chOff x="5181120" y="533520"/>
            <a:chExt cx="3734280" cy="990360"/>
          </a:xfrm>
        </p:grpSpPr>
        <p:sp>
          <p:nvSpPr>
            <p:cNvPr id="226" name=""/>
            <p:cNvSpPr/>
            <p:nvPr/>
          </p:nvSpPr>
          <p:spPr>
            <a:xfrm flipH="1">
              <a:off x="5181120" y="990720"/>
              <a:ext cx="838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19920" y="5335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nsetEntity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EJB is no longer nee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76360" y="5486400"/>
            <a:ext cx="5410440" cy="824040"/>
            <a:chOff x="3276360" y="5486400"/>
            <a:chExt cx="5410440" cy="824040"/>
          </a:xfrm>
        </p:grpSpPr>
        <p:sp>
          <p:nvSpPr>
            <p:cNvPr id="229" name=""/>
            <p:cNvSpPr/>
            <p:nvPr/>
          </p:nvSpPr>
          <p:spPr>
            <a:xfrm flipH="1" flipV="1">
              <a:off x="3276360" y="5562720"/>
              <a:ext cx="2514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1320" y="54864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Pass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lace active EJB back in inactive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1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7-3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imary key value when container activates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( Integer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8640" y="1066320"/>
            <a:ext cx="4800960" cy="1129320"/>
            <a:chOff x="3428640" y="1066320"/>
            <a:chExt cx="4800960" cy="1129320"/>
          </a:xfrm>
        </p:grpSpPr>
        <p:sp>
          <p:nvSpPr>
            <p:cNvPr id="234" name=""/>
            <p:cNvSpPr/>
            <p:nvPr/>
          </p:nvSpPr>
          <p:spPr>
            <a:xfrm flipH="1" flipV="1">
              <a:off x="3428640" y="1066320"/>
              <a:ext cx="2057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86400" y="13716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Act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ctivate EJB from inactive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ing entity EJ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deploying session EJ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Deploymen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39" name="employee_deploy1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77160" cy="5033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31800" y="60055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5.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w Enterprise Bean Wiz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Deploymen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2" name="employee_deploy2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468760" cy="4530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95240" y="5700600"/>
            <a:ext cx="37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5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an-Managed Persist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ity Settings dialo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Deploymen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5" name="employee_deploy3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543640" cy="4592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903040" y="5853240"/>
            <a:ext cx="362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5.6   Resource Referen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a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w Enterprise Bean Wiz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6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with Container-Managed Persist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ontainer-managed pers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 EJB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persistenc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 is an entity EJB that uses container-mana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sistence to persist Employee data in a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.c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mploye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ocialSecurity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 sal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mploye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Employee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ocialSecurityNumber( String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ocialSecurityNumber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266720" y="3124080"/>
            <a:ext cx="4191480" cy="1067400"/>
            <a:chOff x="4266720" y="3124080"/>
            <a:chExt cx="4191480" cy="1067400"/>
          </a:xfrm>
        </p:grpSpPr>
        <p:sp>
          <p:nvSpPr>
            <p:cNvPr id="252" name=""/>
            <p:cNvSpPr/>
            <p:nvPr/>
          </p:nvSpPr>
          <p:spPr>
            <a:xfrm flipH="1">
              <a:off x="4266720" y="36576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62720" y="312408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container-managed fields (variables that container-managed persistence EJB uses to store data)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971800" y="4876920"/>
            <a:ext cx="5715000" cy="838080"/>
            <a:chOff x="2971800" y="4876920"/>
            <a:chExt cx="5715000" cy="838080"/>
          </a:xfrm>
        </p:grpSpPr>
        <p:sp>
          <p:nvSpPr>
            <p:cNvPr id="255" name=""/>
            <p:cNvSpPr/>
            <p:nvPr/>
          </p:nvSpPr>
          <p:spPr>
            <a:xfrm flipH="1">
              <a:off x="2971800" y="5181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3080" y="487692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638680" y="518148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persistenc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7-7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ocialSecurity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ocialSecurity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job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job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352680" y="685800"/>
            <a:ext cx="5486400" cy="5257800"/>
            <a:chOff x="3352680" y="685800"/>
            <a:chExt cx="5486400" cy="5257800"/>
          </a:xfrm>
        </p:grpSpPr>
        <p:sp>
          <p:nvSpPr>
            <p:cNvPr id="261" name=""/>
            <p:cNvSpPr/>
            <p:nvPr/>
          </p:nvSpPr>
          <p:spPr>
            <a:xfrm>
              <a:off x="6705720" y="350532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419720" y="38098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4343400" y="685800"/>
              <a:ext cx="236232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4267080" y="1752120"/>
              <a:ext cx="243864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505320" y="2819160"/>
              <a:ext cx="3200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352680" y="3809880"/>
              <a:ext cx="33530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419720" y="3809880"/>
              <a:ext cx="22860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2   Entity EJB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a particular unit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record in a databas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n-managed 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-managed 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persistence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3-8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1-9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2-10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alary( Double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ary = am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 getSalar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Employee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Create( Integer primaryKe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primary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o post-creation tasks when creat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Integer primaryKey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123720" y="761760"/>
            <a:ext cx="5715360" cy="2133720"/>
            <a:chOff x="3123720" y="761760"/>
            <a:chExt cx="5715360" cy="2133720"/>
          </a:xfrm>
        </p:grpSpPr>
        <p:sp>
          <p:nvSpPr>
            <p:cNvPr id="271" name=""/>
            <p:cNvSpPr/>
            <p:nvPr/>
          </p:nvSpPr>
          <p:spPr>
            <a:xfrm>
              <a:off x="6705720" y="152388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419720" y="18288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200040" y="1828800"/>
              <a:ext cx="35053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123720" y="761760"/>
              <a:ext cx="3581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790960" y="5715000"/>
            <a:ext cx="3124440" cy="580680"/>
            <a:chOff x="5790960" y="5715000"/>
            <a:chExt cx="3124440" cy="580680"/>
          </a:xfrm>
        </p:grpSpPr>
        <p:sp>
          <p:nvSpPr>
            <p:cNvPr id="276" name=""/>
            <p:cNvSpPr/>
            <p:nvPr/>
          </p:nvSpPr>
          <p:spPr>
            <a:xfrm>
              <a:off x="6400800" y="57150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ity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79096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876560" y="3200400"/>
            <a:ext cx="3962520" cy="824040"/>
            <a:chOff x="4876560" y="3200400"/>
            <a:chExt cx="3962520" cy="824040"/>
          </a:xfrm>
        </p:grpSpPr>
        <p:sp>
          <p:nvSpPr>
            <p:cNvPr id="279" name=""/>
            <p:cNvSpPr/>
            <p:nvPr/>
          </p:nvSpPr>
          <p:spPr>
            <a:xfrm>
              <a:off x="5486400" y="320040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execu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Q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(supplied by deployer) after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ple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6560" y="35812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persistence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8-1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4-1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Employee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( Integer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Employee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Employee instance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id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Employee instance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id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Employee instance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id ejbRemove() {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886200" y="380880"/>
            <a:ext cx="4267080" cy="580680"/>
            <a:chOff x="3886200" y="380880"/>
            <a:chExt cx="4267080" cy="580680"/>
          </a:xfrm>
        </p:grpSpPr>
        <p:sp>
          <p:nvSpPr>
            <p:cNvPr id="284" name=""/>
            <p:cNvSpPr/>
            <p:nvPr/>
          </p:nvSpPr>
          <p:spPr>
            <a:xfrm>
              <a:off x="5638680" y="3808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ity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886200" y="685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200400" y="1447920"/>
            <a:ext cx="5638680" cy="1447560"/>
            <a:chOff x="3200400" y="1447920"/>
            <a:chExt cx="5638680" cy="1447560"/>
          </a:xfrm>
        </p:grpSpPr>
        <p:sp>
          <p:nvSpPr>
            <p:cNvPr id="287" name=""/>
            <p:cNvSpPr/>
            <p:nvPr/>
          </p:nvSpPr>
          <p:spPr>
            <a:xfrm>
              <a:off x="6477120" y="14479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 same functions as those in bean-managed persistence ve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200400" y="18288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276720" y="1828800"/>
              <a:ext cx="32004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6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with Container-Managed Persisten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91" name="employee_deploy4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71880" cy="4780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080360" y="6019920"/>
            <a:ext cx="72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5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er-Managed Persist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ity Settings dialo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7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EJB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acts with entity EJB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UI provid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UI provid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Client is a user interface for interacting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an- and container-managed persistence Employee EJB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EJB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ariables for accessing EJ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 initial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Home employeeHo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currentEmploye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Fields for use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employeeID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socialSecurity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firstNam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lastNameTextField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titl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salary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800600" y="2895480"/>
            <a:ext cx="3581280" cy="1143000"/>
            <a:chOff x="4800600" y="2895480"/>
            <a:chExt cx="3581280" cy="1143000"/>
          </a:xfrm>
        </p:grpSpPr>
        <p:sp>
          <p:nvSpPr>
            <p:cNvPr id="298" name=""/>
            <p:cNvSpPr/>
            <p:nvPr/>
          </p:nvSpPr>
          <p:spPr>
            <a:xfrm>
              <a:off x="6095880" y="289548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UI for finding, adding, updating and remov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800600" y="3276720"/>
              <a:ext cx="1295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MPEmployeeEJB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EJBClient( String JNDI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EJB 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s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GUI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EmployeeHome reference for Employe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Employee EJB using given JNDI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homeObject =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JNDI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EmployeeHom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mployeeHome = ( Employee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homeObject, Employee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Employe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 System.er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application when user closes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EXIT_ON_CLO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ize of application window and make it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343040" y="2362320"/>
            <a:ext cx="4572360" cy="1447560"/>
            <a:chOff x="4343040" y="2362320"/>
            <a:chExt cx="4572360" cy="1447560"/>
          </a:xfrm>
        </p:grpSpPr>
        <p:sp>
          <p:nvSpPr>
            <p:cNvPr id="303" name=""/>
            <p:cNvSpPr/>
            <p:nvPr/>
          </p:nvSpPr>
          <p:spPr>
            <a:xfrm>
              <a:off x="6400800" y="23623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ok u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NDI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876560" y="274320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952880" y="236232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343040" y="2743200"/>
              <a:ext cx="20574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6-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9-10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mployeeEJB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mpt user for employe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Employee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primaryKeyString = JOptionPane.showInputDialog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an employee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if primaryKeyString is null, els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maryKeyString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primaryKey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mployee reference for user-supplied employe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mploy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mpt user for employeeID and get Employee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 employeeID = getEmployee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if employeeID is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mployeeID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Employee with given employe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mployee employe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mployeeHome.findByPrimaryKey( employee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display with current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CurrentEmployee( employee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181480" y="380880"/>
            <a:ext cx="3657600" cy="762120"/>
            <a:chOff x="5181480" y="380880"/>
            <a:chExt cx="3657600" cy="762120"/>
          </a:xfrm>
        </p:grpSpPr>
        <p:sp>
          <p:nvSpPr>
            <p:cNvPr id="310" name=""/>
            <p:cNvSpPr/>
            <p:nvPr/>
          </p:nvSpPr>
          <p:spPr>
            <a:xfrm>
              <a:off x="6095880" y="380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Option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mpt use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181480" y="6858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952880" y="4495680"/>
            <a:ext cx="3886200" cy="1067400"/>
            <a:chOff x="4952880" y="4495680"/>
            <a:chExt cx="3886200" cy="1067400"/>
          </a:xfrm>
        </p:grpSpPr>
        <p:sp>
          <p:nvSpPr>
            <p:cNvPr id="313" name=""/>
            <p:cNvSpPr/>
            <p:nvPr/>
          </p:nvSpPr>
          <p:spPr>
            <a:xfrm>
              <a:off x="5867280" y="449568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c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952880" y="50292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find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mployeeEJBClien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find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mployeeEJBClien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no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nderException.getMessage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new Employee by creating Employee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Employ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mpt user for employeeID and create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 employeeID = getEmployee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if employeeID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mployeeID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mployee employee = employeeHome.create( employee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display with new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CurrentEmployee( employe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2880" y="4114800"/>
            <a:ext cx="3962520" cy="1066680"/>
            <a:chOff x="4952880" y="4114800"/>
            <a:chExt cx="3962520" cy="1066680"/>
          </a:xfrm>
        </p:grpSpPr>
        <p:sp>
          <p:nvSpPr>
            <p:cNvPr id="318" name=""/>
            <p:cNvSpPr/>
            <p:nvPr/>
          </p:nvSpPr>
          <p:spPr>
            <a:xfrm>
              <a:off x="5486400" y="41148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457200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9-1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rea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dd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current Employee with user-supplied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Employ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nformation from JTextFields and update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 socialSecurity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setSocialSecurityNumb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ocialSecurity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setFirst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rstName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setLast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astName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setTitle( title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343040" y="4190760"/>
            <a:ext cx="4496040" cy="1905120"/>
            <a:chOff x="4343040" y="4190760"/>
            <a:chExt cx="4496040" cy="1905120"/>
          </a:xfrm>
        </p:grpSpPr>
        <p:sp>
          <p:nvSpPr>
            <p:cNvPr id="323" name=""/>
            <p:cNvSpPr/>
            <p:nvPr/>
          </p:nvSpPr>
          <p:spPr>
            <a:xfrm>
              <a:off x="5867280" y="441972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values provide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updat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029200" y="4800600"/>
              <a:ext cx="838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5105520" y="4190760"/>
              <a:ext cx="761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495680" y="48006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343040" y="480060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7-1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uble salary = new Double( salary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setSalary( sala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oking Employee business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update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te current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Employ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current Employe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remov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ear JText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mployeeID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cialSecurity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Name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stName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tle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lary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remov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2514600"/>
            <a:ext cx="4876920" cy="1143000"/>
            <a:chOff x="3657600" y="2514600"/>
            <a:chExt cx="4876920" cy="1143000"/>
          </a:xfrm>
        </p:grpSpPr>
        <p:sp>
          <p:nvSpPr>
            <p:cNvPr id="331" name=""/>
            <p:cNvSpPr/>
            <p:nvPr/>
          </p:nvSpPr>
          <p:spPr>
            <a:xfrm>
              <a:off x="5562720" y="25146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data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657600" y="28954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809520" y="2895480"/>
              <a:ext cx="1752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ntity EJ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EJB that represents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n-managed 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-managed 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4-24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remov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veException remov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v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elete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display with current Employe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urrentEmployee( Employee employe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nformation for currentEmployee and update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 = employe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employe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 employeeID = ( Integ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Employee.getEmployee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mployeeIDTextField.setText( employeeID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ocialSecurityNumber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cialSecurityTextField.setTex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Employee.getSocialSecurityNumber()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firstName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NameTextField.setTex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Employee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lastName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stNameTextField.setTex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Employee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638680" y="762120"/>
            <a:ext cx="3048120" cy="1143000"/>
            <a:chOff x="5638680" y="762120"/>
            <a:chExt cx="3048120" cy="1143000"/>
          </a:xfrm>
        </p:grpSpPr>
        <p:sp>
          <p:nvSpPr>
            <p:cNvPr id="337" name=""/>
            <p:cNvSpPr/>
            <p:nvPr/>
          </p:nvSpPr>
          <p:spPr>
            <a:xfrm flipH="1">
              <a:off x="5714640" y="1295280"/>
              <a:ext cx="1219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8680" y="76212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o update GUI information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724280" y="3505320"/>
            <a:ext cx="4191120" cy="2590560"/>
            <a:chOff x="4724280" y="3505320"/>
            <a:chExt cx="4191120" cy="2590560"/>
          </a:xfrm>
        </p:grpSpPr>
        <p:sp>
          <p:nvSpPr>
            <p:cNvPr id="340" name=""/>
            <p:cNvSpPr/>
            <p:nvPr/>
          </p:nvSpPr>
          <p:spPr>
            <a:xfrm flipH="1">
              <a:off x="4724280" y="3962520"/>
              <a:ext cx="236232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800600" y="3962520"/>
              <a:ext cx="228600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4724280" y="3505320"/>
              <a:ext cx="2362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324120" y="3962520"/>
              <a:ext cx="7621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715000" y="396252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86600" y="3505320"/>
              <a:ext cx="1828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value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and upd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43-2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title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tleTextField.setText( currentEmployee.getTitl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Employee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uble salary = (Double) currentEmployee.getSala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salary is not null and update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alary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umberFormat dollar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NumberFormat.getCurrencyInstanc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salaryTextField.setText( dollarFormatter.form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salar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lary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oking Employee business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Current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he application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GUI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for Employee form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form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105160" y="685440"/>
            <a:ext cx="3886560" cy="1753560"/>
            <a:chOff x="5105160" y="685440"/>
            <a:chExt cx="3886560" cy="1753560"/>
          </a:xfrm>
        </p:grpSpPr>
        <p:sp>
          <p:nvSpPr>
            <p:cNvPr id="349" name=""/>
            <p:cNvSpPr/>
            <p:nvPr/>
          </p:nvSpPr>
          <p:spPr>
            <a:xfrm>
              <a:off x="7162920" y="1371600"/>
              <a:ext cx="1828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value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and upd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6248520" y="685440"/>
              <a:ext cx="9144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6172200" y="1218960"/>
              <a:ext cx="990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105160" y="19051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791320" y="19051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200040" y="4952880"/>
            <a:ext cx="5639040" cy="580680"/>
            <a:chOff x="3200040" y="4952880"/>
            <a:chExt cx="5639040" cy="580680"/>
          </a:xfrm>
        </p:grpSpPr>
        <p:sp>
          <p:nvSpPr>
            <p:cNvPr id="355" name=""/>
            <p:cNvSpPr/>
            <p:nvPr/>
          </p:nvSpPr>
          <p:spPr>
            <a:xfrm>
              <a:off x="6553080" y="49528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user interfac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EJB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00040" y="52578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9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5-3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ead-only JTextField for employeeID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Text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employeeID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and JLabel for social security #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ocialSecurity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ial Security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socialSecurity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and JLabel for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firstNam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and JLabel for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lastNam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and JLabel for job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titl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and JLabel for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ary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a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salary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formPanel to the JFrame's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formPanel, BorderLayout.CEN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723920" y="990720"/>
            <a:ext cx="4191480" cy="4419360"/>
            <a:chOff x="4723920" y="990720"/>
            <a:chExt cx="4191480" cy="4419360"/>
          </a:xfrm>
        </p:grpSpPr>
        <p:sp>
          <p:nvSpPr>
            <p:cNvPr id="360" name=""/>
            <p:cNvSpPr/>
            <p:nvPr/>
          </p:nvSpPr>
          <p:spPr>
            <a:xfrm>
              <a:off x="6781680" y="228600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ab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257440" y="2743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562720" y="1980720"/>
              <a:ext cx="12189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5333760" y="990720"/>
              <a:ext cx="14475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876560" y="2743200"/>
              <a:ext cx="190476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181120" y="274320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23920" y="2743200"/>
              <a:ext cx="20574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0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3-3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27-3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40-3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for JButt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employeeButtonPan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adding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ad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Employ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Employ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ButtonPanel.add( ad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saving Employe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sav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Chang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pdateEmploy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ButtonPanel.add( sav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deleting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delet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 Employ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790960" y="990720"/>
            <a:ext cx="3124440" cy="580680"/>
            <a:chOff x="5790960" y="990720"/>
            <a:chExt cx="3124440" cy="580680"/>
          </a:xfrm>
        </p:grpSpPr>
        <p:sp>
          <p:nvSpPr>
            <p:cNvPr id="370" name=""/>
            <p:cNvSpPr/>
            <p:nvPr/>
          </p:nvSpPr>
          <p:spPr>
            <a:xfrm>
              <a:off x="6324480" y="9907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dding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790960" y="1295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866920" y="3276720"/>
            <a:ext cx="3048480" cy="580680"/>
            <a:chOff x="5866920" y="3276720"/>
            <a:chExt cx="3048480" cy="580680"/>
          </a:xfrm>
        </p:grpSpPr>
        <p:sp>
          <p:nvSpPr>
            <p:cNvPr id="373" name=""/>
            <p:cNvSpPr/>
            <p:nvPr/>
          </p:nvSpPr>
          <p:spPr>
            <a:xfrm>
              <a:off x="6553080" y="32767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upd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866920" y="35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943240" y="5181480"/>
            <a:ext cx="3048480" cy="685800"/>
            <a:chOff x="5943240" y="5181480"/>
            <a:chExt cx="3048480" cy="685800"/>
          </a:xfrm>
        </p:grpSpPr>
        <p:sp>
          <p:nvSpPr>
            <p:cNvPr id="376" name=""/>
            <p:cNvSpPr/>
            <p:nvPr/>
          </p:nvSpPr>
          <p:spPr>
            <a:xfrm>
              <a:off x="6553080" y="518148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remov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943240" y="54864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3-3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eleteEmploy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ButtonPanel.add( delet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finding existing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fin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nd Employ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nd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getEmploy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ButtonPanel.add( fin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employeeButtonPanel to JFrame's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employeeButtonPanel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NOR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user provided JNDI name for Employe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EmployeeEJBClient &lt;JNDI Nam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019560" y="1676520"/>
            <a:ext cx="2895840" cy="580680"/>
            <a:chOff x="6019560" y="1676520"/>
            <a:chExt cx="2895840" cy="580680"/>
          </a:xfrm>
        </p:grpSpPr>
        <p:sp>
          <p:nvSpPr>
            <p:cNvPr id="381" name=""/>
            <p:cNvSpPr/>
            <p:nvPr/>
          </p:nvSpPr>
          <p:spPr>
            <a:xfrm>
              <a:off x="6629400" y="16765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fin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019560" y="198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application using provided JNDI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EJB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5" name="employeeclient_a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2810160" cy="1199880"/>
          </a:xfrm>
          <a:prstGeom prst="rect">
            <a:avLst/>
          </a:prstGeom>
          <a:ln w="0">
            <a:noFill/>
          </a:ln>
        </p:spPr>
      </p:pic>
      <p:pic>
        <p:nvPicPr>
          <p:cNvPr id="386" name="employeeclient_b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5716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3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employeeclient_c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2810160" cy="1200240"/>
          </a:xfrm>
          <a:prstGeom prst="rect">
            <a:avLst/>
          </a:prstGeom>
          <a:ln w="0">
            <a:noFill/>
          </a:ln>
        </p:spPr>
      </p:pic>
      <p:pic>
        <p:nvPicPr>
          <p:cNvPr id="389" name="employeeclient_d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5716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4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Home and Remote Interfa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 hom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s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nd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 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methods, such as for setting and getting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setting and get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ormation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is the remote interface for the Address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mploye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EmployeeI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ocialSecurityNumber( String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ocialSecurityNumb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95680" y="990720"/>
            <a:ext cx="3505320" cy="1066680"/>
            <a:chOff x="4495680" y="990720"/>
            <a:chExt cx="3505320" cy="1066680"/>
          </a:xfrm>
        </p:grpSpPr>
        <p:sp>
          <p:nvSpPr>
            <p:cNvPr id="100" name=""/>
            <p:cNvSpPr/>
            <p:nvPr/>
          </p:nvSpPr>
          <p:spPr>
            <a:xfrm>
              <a:off x="5867280" y="99072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EJB remote interfaces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495680" y="137160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419360" y="2819520"/>
            <a:ext cx="4419720" cy="3124080"/>
            <a:chOff x="4419360" y="2819520"/>
            <a:chExt cx="4419720" cy="3124080"/>
          </a:xfrm>
        </p:grpSpPr>
        <p:sp>
          <p:nvSpPr>
            <p:cNvPr id="103" name=""/>
            <p:cNvSpPr/>
            <p:nvPr/>
          </p:nvSpPr>
          <p:spPr>
            <a:xfrm>
              <a:off x="6324480" y="37339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ccess method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419360" y="4191120"/>
              <a:ext cx="19047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95680" y="4191120"/>
              <a:ext cx="1828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495680" y="419112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495680" y="4038480"/>
              <a:ext cx="1828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105520" y="3352320"/>
              <a:ext cx="12189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5790960" y="2819520"/>
              <a:ext cx="5331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setting and get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ormation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-4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alary( Double salar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 get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91120" y="609480"/>
            <a:ext cx="4724280" cy="2210040"/>
            <a:chOff x="4191120" y="609480"/>
            <a:chExt cx="4724280" cy="2210040"/>
          </a:xfrm>
        </p:grpSpPr>
        <p:sp>
          <p:nvSpPr>
            <p:cNvPr id="113" name=""/>
            <p:cNvSpPr/>
            <p:nvPr/>
          </p:nvSpPr>
          <p:spPr>
            <a:xfrm>
              <a:off x="6400800" y="11430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ccess method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876560" y="1600200"/>
              <a:ext cx="15238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876560" y="160020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33760" y="1600200"/>
              <a:ext cx="1066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191120" y="1143000"/>
              <a:ext cx="2209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5257440" y="60948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nterface for finding and cre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-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Home is the home interface for the Employee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Employee with given primary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findByPrimaryKey( Integer primaryKe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Employe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create( Integer primaryKe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95680" y="1219320"/>
            <a:ext cx="3505320" cy="1066680"/>
            <a:chOff x="4495680" y="1219320"/>
            <a:chExt cx="3505320" cy="1066680"/>
          </a:xfrm>
        </p:grpSpPr>
        <p:sp>
          <p:nvSpPr>
            <p:cNvPr id="122" name=""/>
            <p:cNvSpPr/>
            <p:nvPr/>
          </p:nvSpPr>
          <p:spPr>
            <a:xfrm>
              <a:off x="5867280" y="121932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EJB home interfaces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Ho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495680" y="160020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876920" y="3047760"/>
            <a:ext cx="3962160" cy="885600"/>
            <a:chOff x="4876920" y="3047760"/>
            <a:chExt cx="3962160" cy="885600"/>
          </a:xfrm>
        </p:grpSpPr>
        <p:sp>
          <p:nvSpPr>
            <p:cNvPr id="125" name=""/>
            <p:cNvSpPr/>
            <p:nvPr/>
          </p:nvSpPr>
          <p:spPr>
            <a:xfrm>
              <a:off x="5638680" y="3352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finder and create me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952520" y="3657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876920" y="3047760"/>
              <a:ext cx="761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with Bean-Managed Persist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an-managed pers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JDBC to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in an underlying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ing the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30T15:13:50Z</dcterms:modified>
  <cp:revision>88</cp:revision>
  <dc:subject/>
  <dc:title>Chapter 15: Entity EJBs</dc:title>
</cp:coreProperties>
</file>