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7.wmf" ContentType="image/x-wmf"/>
  <Override PartName="/ppt/media/image16.png" ContentType="image/png"/>
  <Override PartName="/ppt/media/image25.png" ContentType="image/png"/>
  <Override PartName="/ppt/media/image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9BAE-3BF8-4132-A77C-5115F8FC3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2751-EFD1-41C3-B443-424076ECD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9086-D0F5-477D-BF7B-DCE34622E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10ED-7DF1-4657-95BF-70886E539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00CE-131D-41B6-AEE2-D1AC2D08AE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FF49-7068-4BC9-A3D0-F5B40AEDD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C38D-421D-4C54-8370-2712E5934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892D-0344-4734-BC70-1DFC2F908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EB37-FB58-4E65-96BA-ADCD964887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23E9-2D9F-4235-B796-643C7DCDA7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8367-E0DD-41EE-8579-11F07AD46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584C-0A5D-4531-BA8F-08945B483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684-CEA0-46A0-B4B8-A478553A37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3AEB-7096-4F0A-8AC3-017D076DA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370F-2681-459E-AECC-7A6155EF1D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C9B2-AD0C-443B-A74B-7A8EAC82F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2ECF-4846-4C52-B58E-F89895F12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892-E690-49BB-906D-AB030C4AC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7ABB-3A23-4CB4-A36B-05D3C04B6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1390-38FD-425C-94C9-CCE70DA75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BE27-F0DF-41F3-8045-7485F187E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8064-DF89-48DD-823E-407467A61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FA5F-EBE2-4FCF-AF3F-19B68C467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C021-0D79-4221-B573-230AA3604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FEC0-F758-4750-8625-49FD39309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FF9-B531-4E26-A8B9-7786450E0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2: Java-Based Wireless Applications Development and J2M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elcome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pTest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Explorer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AP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ixo i-mode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2ME Client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 Micro Edi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ed Limited Device Configuration (CLD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bile Information Device Profile (MIDP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pTestMID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 Instru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UserAgent-Head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s unique User-Agent header substrings for all clie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UserAgentHeader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all User-Agent header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UserAgentHeader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Internet Explorer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S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WAP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i-mode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x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J2ME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P-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19360" y="1676160"/>
            <a:ext cx="4419720" cy="1524240"/>
            <a:chOff x="4419360" y="1676160"/>
            <a:chExt cx="4419720" cy="1524240"/>
          </a:xfrm>
        </p:grpSpPr>
        <p:sp>
          <p:nvSpPr>
            <p:cNvPr id="141" name=""/>
            <p:cNvSpPr/>
            <p:nvPr/>
          </p:nvSpPr>
          <p:spPr>
            <a:xfrm>
              <a:off x="5943600" y="18288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 of all client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s, which act as “identifiers” for each clien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572000" y="167616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419360" y="2209680"/>
              <a:ext cx="1523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00240" y="22860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228600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7" name="image1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06800" cy="325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63640" y="5264280"/>
            <a:ext cx="63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XHTML cl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0" name="image1" descr=""/>
          <p:cNvPicPr/>
          <p:nvPr/>
        </p:nvPicPr>
        <p:blipFill>
          <a:blip r:embed="rId1"/>
          <a:stretch/>
        </p:blipFill>
        <p:spPr>
          <a:xfrm>
            <a:off x="3581280" y="838080"/>
            <a:ext cx="174168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20" y="5568840"/>
            <a:ext cx="839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w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WAP client. (Image of UP.SDK courtes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Systems Inc. Openwave, the Openwave logo, and UP.SDK are trademarks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Systems Inc. 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"/>
          <p:cNvSpPr/>
          <p:nvPr/>
        </p:nvSpPr>
        <p:spPr>
          <a:xfrm>
            <a:off x="2445480" y="5416560"/>
            <a:ext cx="48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-mode client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2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231624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6" name="image3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70600" y="5264280"/>
            <a:ext cx="499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Tip-Test questions and ans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questions and answers to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Servlet sends Tip Test to cli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SAX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Factory 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erFactory transform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and instantiate XML facto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0600" y="3124080"/>
            <a:ext cx="4114800" cy="2514600"/>
            <a:chOff x="4800600" y="3124080"/>
            <a:chExt cx="4114800" cy="2514600"/>
          </a:xfrm>
        </p:grpSpPr>
        <p:sp>
          <p:nvSpPr>
            <p:cNvPr id="163" name=""/>
            <p:cNvSpPr/>
            <p:nvPr/>
          </p:nvSpPr>
          <p:spPr>
            <a:xfrm>
              <a:off x="4800600" y="3124080"/>
              <a:ext cx="4114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the client makes a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ut the servlet has not received a previous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876560" y="3962520"/>
              <a:ext cx="19810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04960" y="1828800"/>
            <a:ext cx="5181840" cy="2286000"/>
            <a:chOff x="3504960" y="1828800"/>
            <a:chExt cx="5181840" cy="2286000"/>
          </a:xfrm>
        </p:grpSpPr>
        <p:sp>
          <p:nvSpPr>
            <p:cNvPr id="166" name=""/>
            <p:cNvSpPr/>
            <p:nvPr/>
          </p:nvSpPr>
          <p:spPr>
            <a:xfrm flipH="1">
              <a:off x="3504960" y="2362320"/>
              <a:ext cx="33526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182880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nerates and sends questions and answers to each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-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JDBC driver from servlet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jdbcDri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fig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_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jdbcDrive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JDBC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base URL from servlet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baseUr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fig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_UR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riverManager.getConnection( databas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Factory to build XML Doc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actory =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Transform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=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database driver class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 making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28840" y="762120"/>
            <a:ext cx="3810240" cy="1310760"/>
            <a:chOff x="5028840" y="762120"/>
            <a:chExt cx="3810240" cy="1310760"/>
          </a:xfrm>
        </p:grpSpPr>
        <p:sp>
          <p:nvSpPr>
            <p:cNvPr id="171" name=""/>
            <p:cNvSpPr/>
            <p:nvPr/>
          </p:nvSpPr>
          <p:spPr>
            <a:xfrm>
              <a:off x="5791320" y="762120"/>
              <a:ext cx="3047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parameters in deployment descriptor to specify database; this approach enables us to change the database, without having to recomp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05160" y="144792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028840" y="838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0960" y="2819520"/>
            <a:ext cx="2972160" cy="685800"/>
            <a:chOff x="5790960" y="2819520"/>
            <a:chExt cx="2972160" cy="685800"/>
          </a:xfrm>
        </p:grpSpPr>
        <p:sp>
          <p:nvSpPr>
            <p:cNvPr id="175" name=""/>
            <p:cNvSpPr/>
            <p:nvPr/>
          </p:nvSpPr>
          <p:spPr>
            <a:xfrm>
              <a:off x="6324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s used for XML-document proc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867280" y="31240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90960" y="312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1-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8-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tatement from database, then send Tip-Tes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QL query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 statement = connection.createStat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base information using SQL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ment.executeQue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tipInf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rse and send ResultSe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sure that client does not cache ques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che-Contr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-cache, must-reval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agm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-ca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TipTestQuestion( request, response,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 exectuting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09720" y="152280"/>
            <a:ext cx="3505680" cy="824040"/>
            <a:chOff x="5409720" y="152280"/>
            <a:chExt cx="3505680" cy="824040"/>
          </a:xfrm>
        </p:grpSpPr>
        <p:sp>
          <p:nvSpPr>
            <p:cNvPr id="181" name=""/>
            <p:cNvSpPr/>
            <p:nvPr/>
          </p:nvSpPr>
          <p:spPr>
            <a:xfrm>
              <a:off x="62485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(i.e., when the client requests a ques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409720" y="609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0960" y="2209680"/>
            <a:ext cx="3124440" cy="2286000"/>
            <a:chOff x="5790960" y="2209680"/>
            <a:chExt cx="3124440" cy="2286000"/>
          </a:xfrm>
        </p:grpSpPr>
        <p:sp>
          <p:nvSpPr>
            <p:cNvPr id="184" name=""/>
            <p:cNvSpPr/>
            <p:nvPr/>
          </p:nvSpPr>
          <p:spPr>
            <a:xfrm>
              <a:off x="6781680" y="22096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ip-Test question from database contents, then send that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400800" y="2743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790960" y="2743200"/>
              <a:ext cx="9903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81120" y="3505320"/>
            <a:ext cx="3734280" cy="824040"/>
            <a:chOff x="5181120" y="3505320"/>
            <a:chExt cx="3734280" cy="824040"/>
          </a:xfrm>
        </p:grpSpPr>
        <p:sp>
          <p:nvSpPr>
            <p:cNvPr id="188" name=""/>
            <p:cNvSpPr/>
            <p:nvPr/>
          </p:nvSpPr>
          <p:spPr>
            <a:xfrm>
              <a:off x="6400800" y="3505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that the client’s browser does not cache a previous Tip-Test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181120" y="396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7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ResultSet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net Explorer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/XHTML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WAP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562720" y="304920"/>
            <a:ext cx="3352680" cy="824040"/>
            <a:chOff x="5562720" y="304920"/>
            <a:chExt cx="3352680" cy="824040"/>
          </a:xfrm>
        </p:grpSpPr>
        <p:sp>
          <p:nvSpPr>
            <p:cNvPr id="193" name=""/>
            <p:cNvSpPr/>
            <p:nvPr/>
          </p:nvSpPr>
          <p:spPr>
            <a:xfrm>
              <a:off x="6019920" y="3049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(i.e., when the client sends its answer to the serv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56272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05520" y="2971800"/>
            <a:ext cx="3733560" cy="1447920"/>
            <a:chOff x="5105520" y="2971800"/>
            <a:chExt cx="3733560" cy="1447920"/>
          </a:xfrm>
        </p:grpSpPr>
        <p:sp>
          <p:nvSpPr>
            <p:cNvPr id="196" name=""/>
            <p:cNvSpPr/>
            <p:nvPr/>
          </p:nvSpPr>
          <p:spPr>
            <a:xfrm>
              <a:off x="6400800" y="29718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nternet Explorer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HTML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181120" y="29718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638320" y="35053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486400" y="35053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105520" y="342900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-Test”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choice g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-ti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ps.sq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2 Micro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9-1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2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P/WAP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-mod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ode/IMODE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J2M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Answer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ocument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llPointerException nullPoint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llPoint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4640" y="304920"/>
            <a:ext cx="3048480" cy="1067400"/>
            <a:chOff x="5714640" y="304920"/>
            <a:chExt cx="3048480" cy="1067400"/>
          </a:xfrm>
        </p:grpSpPr>
        <p:sp>
          <p:nvSpPr>
            <p:cNvPr id="204" name=""/>
            <p:cNvSpPr/>
            <p:nvPr/>
          </p:nvSpPr>
          <p:spPr>
            <a:xfrm>
              <a:off x="6477120" y="3049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AP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WML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943600" y="6091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714640" y="8380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120" y="2057400"/>
            <a:ext cx="3353400" cy="1676520"/>
            <a:chOff x="5181120" y="2057400"/>
            <a:chExt cx="3353400" cy="1676520"/>
          </a:xfrm>
        </p:grpSpPr>
        <p:sp>
          <p:nvSpPr>
            <p:cNvPr id="208" name=""/>
            <p:cNvSpPr/>
            <p:nvPr/>
          </p:nvSpPr>
          <p:spPr>
            <a:xfrm>
              <a:off x="6324480" y="2057400"/>
              <a:ext cx="2210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-mod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cHTM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act HTML)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410080" y="2286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638320" y="27432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86400" y="27432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181120" y="266688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572000"/>
            <a:ext cx="3657600" cy="1067400"/>
            <a:chOff x="5105520" y="4572000"/>
            <a:chExt cx="3657600" cy="1067400"/>
          </a:xfrm>
        </p:grpSpPr>
        <p:sp>
          <p:nvSpPr>
            <p:cNvPr id="214" name=""/>
            <p:cNvSpPr/>
            <p:nvPr/>
          </p:nvSpPr>
          <p:spPr>
            <a:xfrm>
              <a:off x="5943600" y="45720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J2M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J2MEAnsw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ends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0552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7-1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-Test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TipTestQues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e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ResultSet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net Explorer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/XHTML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WAP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WAP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62160" y="380880"/>
            <a:ext cx="3886560" cy="533520"/>
            <a:chOff x="3962160" y="380880"/>
            <a:chExt cx="3886560" cy="533520"/>
          </a:xfrm>
        </p:grpSpPr>
        <p:sp>
          <p:nvSpPr>
            <p:cNvPr id="219" name=""/>
            <p:cNvSpPr/>
            <p:nvPr/>
          </p:nvSpPr>
          <p:spPr>
            <a:xfrm>
              <a:off x="5105520" y="38088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962160" y="5335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81120" y="1143000"/>
            <a:ext cx="3734280" cy="3429000"/>
            <a:chOff x="5181120" y="1143000"/>
            <a:chExt cx="3734280" cy="3429000"/>
          </a:xfrm>
        </p:grpSpPr>
        <p:sp>
          <p:nvSpPr>
            <p:cNvPr id="222" name=""/>
            <p:cNvSpPr/>
            <p:nvPr/>
          </p:nvSpPr>
          <p:spPr>
            <a:xfrm flipH="1">
              <a:off x="5181120" y="2209680"/>
              <a:ext cx="2057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33760" y="2209680"/>
              <a:ext cx="19047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10080" y="220968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91320" y="11430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nternet Explorer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HT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5-2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7-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2-2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AP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wbm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P/WAP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-mod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Mode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ode/IMODE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J2M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ClientResponse( resultSet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57800" y="457200"/>
            <a:ext cx="3657600" cy="1310760"/>
            <a:chOff x="5257800" y="457200"/>
            <a:chExt cx="3657600" cy="1310760"/>
          </a:xfrm>
        </p:grpSpPr>
        <p:sp>
          <p:nvSpPr>
            <p:cNvPr id="229" name=""/>
            <p:cNvSpPr/>
            <p:nvPr/>
          </p:nvSpPr>
          <p:spPr>
            <a:xfrm flipH="1" flipV="1">
              <a:off x="5257800" y="8377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019560" y="114300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5720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AP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W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09720" y="2742840"/>
            <a:ext cx="3582000" cy="1524240"/>
            <a:chOff x="5409720" y="2742840"/>
            <a:chExt cx="3582000" cy="1524240"/>
          </a:xfrm>
        </p:grpSpPr>
        <p:sp>
          <p:nvSpPr>
            <p:cNvPr id="233" name=""/>
            <p:cNvSpPr/>
            <p:nvPr/>
          </p:nvSpPr>
          <p:spPr>
            <a:xfrm flipH="1" flipV="1">
              <a:off x="54097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791320" y="34290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5720" y="274320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-mod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cHT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257800" y="4800600"/>
            <a:ext cx="3581280" cy="1310760"/>
            <a:chOff x="5257800" y="4800600"/>
            <a:chExt cx="3581280" cy="1310760"/>
          </a:xfrm>
        </p:grpSpPr>
        <p:sp>
          <p:nvSpPr>
            <p:cNvPr id="237" name=""/>
            <p:cNvSpPr/>
            <p:nvPr/>
          </p:nvSpPr>
          <p:spPr>
            <a:xfrm>
              <a:off x="6095880" y="480060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J2M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J2MEClient-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ends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2578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2-2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71-2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ocument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llPointerException nullPoint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llPoint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TipTest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 Test to Internet Explore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 createXMLTipTestQues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et,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Prefix, String imageSuffi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getResultTable(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ndom rando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( System.currentTimeMilli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4 random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getRandomIndices(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ly determine correct index from 4 random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Math.abs( random.nextInt() ) %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Row = randomRow[ correctAnsw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new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answer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orrect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876560" y="1066680"/>
            <a:ext cx="3505320" cy="762120"/>
            <a:chOff x="4876560" y="1066680"/>
            <a:chExt cx="3505320" cy="762120"/>
          </a:xfrm>
        </p:grpSpPr>
        <p:sp>
          <p:nvSpPr>
            <p:cNvPr id="242" name=""/>
            <p:cNvSpPr/>
            <p:nvPr/>
          </p:nvSpPr>
          <p:spPr>
            <a:xfrm>
              <a:off x="5867280" y="1066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876560" y="13716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095880" y="2133720"/>
            <a:ext cx="2743200" cy="824040"/>
            <a:chOff x="6095880" y="2133720"/>
            <a:chExt cx="2743200" cy="824040"/>
          </a:xfrm>
        </p:grpSpPr>
        <p:sp>
          <p:nvSpPr>
            <p:cNvPr id="245" name=""/>
            <p:cNvSpPr/>
            <p:nvPr/>
          </p:nvSpPr>
          <p:spPr>
            <a:xfrm>
              <a:off x="6705720" y="213372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contents in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095880" y="25146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57440" y="4648320"/>
            <a:ext cx="3429360" cy="824040"/>
            <a:chOff x="5257440" y="4648320"/>
            <a:chExt cx="3429360" cy="824040"/>
          </a:xfrm>
        </p:grpSpPr>
        <p:sp>
          <p:nvSpPr>
            <p:cNvPr id="248" name=""/>
            <p:cNvSpPr/>
            <p:nvPr/>
          </p:nvSpPr>
          <p:spPr>
            <a:xfrm>
              <a:off x="6324480" y="46483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correct answer (represented as index in row of 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638320" y="46483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257440" y="5105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723920" y="5562720"/>
            <a:ext cx="3582000" cy="824040"/>
            <a:chOff x="4723920" y="5562720"/>
            <a:chExt cx="3582000" cy="824040"/>
          </a:xfrm>
        </p:grpSpPr>
        <p:sp>
          <p:nvSpPr>
            <p:cNvPr id="252" name=""/>
            <p:cNvSpPr/>
            <p:nvPr/>
          </p:nvSpPr>
          <p:spPr>
            <a:xfrm>
              <a:off x="6400800" y="55627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for future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723920" y="60199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5-2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0-2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8-3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mage to send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Name = imagePrefix 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+ imageSuffi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document based on randomly determined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question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image, which references imag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image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image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oices Element to hold 4 choic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choices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10080" y="304920"/>
            <a:ext cx="3505320" cy="1981080"/>
            <a:chOff x="5410080" y="304920"/>
            <a:chExt cx="3505320" cy="1981080"/>
          </a:xfrm>
        </p:grpSpPr>
        <p:sp>
          <p:nvSpPr>
            <p:cNvPr id="257" name=""/>
            <p:cNvSpPr/>
            <p:nvPr/>
          </p:nvSpPr>
          <p:spPr>
            <a:xfrm>
              <a:off x="6400800" y="3049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name, description and image name of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94360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410080" y="762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86400" y="762120"/>
              <a:ext cx="91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66920" y="2743200"/>
            <a:ext cx="3124800" cy="609480"/>
            <a:chOff x="5866920" y="2743200"/>
            <a:chExt cx="3124800" cy="609480"/>
          </a:xfrm>
        </p:grpSpPr>
        <p:sp>
          <p:nvSpPr>
            <p:cNvPr id="262" name=""/>
            <p:cNvSpPr/>
            <p:nvPr/>
          </p:nvSpPr>
          <p:spPr>
            <a:xfrm>
              <a:off x="6553080" y="27432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866920" y="3048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095520" y="4648320"/>
            <a:ext cx="2591280" cy="580680"/>
            <a:chOff x="6095520" y="4648320"/>
            <a:chExt cx="2591280" cy="580680"/>
          </a:xfrm>
        </p:grpSpPr>
        <p:sp>
          <p:nvSpPr>
            <p:cNvPr id="265" name=""/>
            <p:cNvSpPr/>
            <p:nvPr/>
          </p:nvSpPr>
          <p:spPr>
            <a:xfrm>
              <a:off x="6858000" y="46483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image name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095520" y="4952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0-3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8-3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4 choice Elements that represent user cho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termine choice Elements from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choice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Table[ randomRow[ i ]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choice Element as correct or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ttr attribu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.create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== correctAnsw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ttribute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ttribute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choice Element to choice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.setAttributeNode( attribu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s.appendChild( 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14640" y="1066680"/>
            <a:ext cx="2972160" cy="824040"/>
            <a:chOff x="5714640" y="1066680"/>
            <a:chExt cx="2972160" cy="824040"/>
          </a:xfrm>
        </p:grpSpPr>
        <p:sp>
          <p:nvSpPr>
            <p:cNvPr id="270" name=""/>
            <p:cNvSpPr/>
            <p:nvPr/>
          </p:nvSpPr>
          <p:spPr>
            <a:xfrm>
              <a:off x="6858000" y="106668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four possible answers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714640" y="144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23920" y="2438280"/>
            <a:ext cx="3582000" cy="609840"/>
            <a:chOff x="4723920" y="2438280"/>
            <a:chExt cx="3582000" cy="609840"/>
          </a:xfrm>
        </p:grpSpPr>
        <p:sp>
          <p:nvSpPr>
            <p:cNvPr id="273" name=""/>
            <p:cNvSpPr/>
            <p:nvPr/>
          </p:nvSpPr>
          <p:spPr>
            <a:xfrm>
              <a:off x="6324480" y="24382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 one of the answers as “correc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723920" y="2743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800240" y="27432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971800" y="4419720"/>
            <a:ext cx="5638680" cy="580680"/>
            <a:chOff x="2971800" y="4419720"/>
            <a:chExt cx="5638680" cy="580680"/>
          </a:xfrm>
        </p:grpSpPr>
        <p:sp>
          <p:nvSpPr>
            <p:cNvPr id="277" name=""/>
            <p:cNvSpPr/>
            <p:nvPr/>
          </p:nvSpPr>
          <p:spPr>
            <a:xfrm>
              <a:off x="5715000" y="4419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XML document, which represents Tip-Test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971800" y="47242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8-3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7-3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XMLTipTest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 test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ClientResponse( ResultSet resultSe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getResultTable(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ndom rando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( System.currentTimeMilli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4 random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getRandomIndices(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ly determine correct index from 4 random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Math.abs( random.nextInt() ) %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Row = randomRow[ correctAnsw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old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answer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orrect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name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72200" y="228600"/>
            <a:ext cx="2819520" cy="1554120"/>
            <a:chOff x="6172200" y="228600"/>
            <a:chExt cx="2819520" cy="1554120"/>
          </a:xfrm>
        </p:grpSpPr>
        <p:sp>
          <p:nvSpPr>
            <p:cNvPr id="282" name=""/>
            <p:cNvSpPr/>
            <p:nvPr/>
          </p:nvSpPr>
          <p:spPr>
            <a:xfrm>
              <a:off x="6553080" y="228600"/>
              <a:ext cx="24386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for J2ME client (we do not use XML, because J2ME clients cannot parse XML documents without using proprietary 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172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95520" y="1905120"/>
            <a:ext cx="2896200" cy="900000"/>
            <a:chOff x="6095520" y="1905120"/>
            <a:chExt cx="2896200" cy="900000"/>
          </a:xfrm>
        </p:grpSpPr>
        <p:sp>
          <p:nvSpPr>
            <p:cNvPr id="285" name=""/>
            <p:cNvSpPr/>
            <p:nvPr/>
          </p:nvSpPr>
          <p:spPr>
            <a:xfrm>
              <a:off x="6858000" y="19810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contents in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6095520" y="1905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257440" y="3581280"/>
            <a:ext cx="3429360" cy="824040"/>
            <a:chOff x="5257440" y="3581280"/>
            <a:chExt cx="3429360" cy="824040"/>
          </a:xfrm>
        </p:grpSpPr>
        <p:sp>
          <p:nvSpPr>
            <p:cNvPr id="288" name=""/>
            <p:cNvSpPr/>
            <p:nvPr/>
          </p:nvSpPr>
          <p:spPr>
            <a:xfrm>
              <a:off x="6324480" y="35812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correct answer (represented as index in row of 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6383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440" y="4038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724280" y="4800600"/>
            <a:ext cx="3810240" cy="990720"/>
            <a:chOff x="4724280" y="4800600"/>
            <a:chExt cx="3810240" cy="990720"/>
          </a:xfrm>
        </p:grpSpPr>
        <p:sp>
          <p:nvSpPr>
            <p:cNvPr id="292" name=""/>
            <p:cNvSpPr/>
            <p:nvPr/>
          </p:nvSpPr>
          <p:spPr>
            <a:xfrm>
              <a:off x="6629400" y="48006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for future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724280" y="52578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6920" y="52578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3-3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description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imag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j2me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imag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resultTable[ randomRow[ i ]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Client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[] getResultTable( ResultSet resultSe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able of Strings to store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Table[ i ][ j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all columns in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419360" y="1752480"/>
            <a:ext cx="4343760" cy="990720"/>
            <a:chOff x="4419360" y="1752480"/>
            <a:chExt cx="4343760" cy="990720"/>
          </a:xfrm>
        </p:grpSpPr>
        <p:sp>
          <p:nvSpPr>
            <p:cNvPr id="298" name=""/>
            <p:cNvSpPr/>
            <p:nvPr/>
          </p:nvSpPr>
          <p:spPr>
            <a:xfrm>
              <a:off x="6324480" y="175248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stream to send image name and four possible answers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419360" y="22096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333760" y="220968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486400" y="3962520"/>
            <a:ext cx="2971800" cy="1981800"/>
            <a:chOff x="5486400" y="3962520"/>
            <a:chExt cx="2971800" cy="1981800"/>
          </a:xfrm>
        </p:grpSpPr>
        <p:sp>
          <p:nvSpPr>
            <p:cNvPr id="302" name=""/>
            <p:cNvSpPr/>
            <p:nvPr/>
          </p:nvSpPr>
          <p:spPr>
            <a:xfrm>
              <a:off x="5562720" y="487692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converts a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(arrays offer faster look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486400" y="3962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 each row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sultSet.next(); row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or each column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tore resultSet element in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Table[ row ][ column ] +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et.getObject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servlet cannot get ResultSe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4 randomly generated indices from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RandomIndices( Random rando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ist containing row indices for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[ i ] =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29200" y="3352680"/>
            <a:ext cx="3809880" cy="1371600"/>
            <a:chOff x="5029200" y="3352680"/>
            <a:chExt cx="3809880" cy="1371600"/>
          </a:xfrm>
        </p:grpSpPr>
        <p:sp>
          <p:nvSpPr>
            <p:cNvPr id="307" name=""/>
            <p:cNvSpPr/>
            <p:nvPr/>
          </p:nvSpPr>
          <p:spPr>
            <a:xfrm flipH="1">
              <a:off x="5257440" y="419112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9200" y="335268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turns an array of four randomly gener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;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s an index to a row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4 randomly generated indices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[ i ] = getRandomRow( list,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these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andom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andom element from list, then nullif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ndom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[], Random rando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andom element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 = Math.abs( random.nextInt() ) % list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[ randomRow ]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 = Math.abs( random.nextInt() ) % list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[ randomRow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llif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andom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XSLT style shee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XSLT( String xslFi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xmlDocumen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xsl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562720" y="990720"/>
            <a:ext cx="3352680" cy="990360"/>
            <a:chOff x="5562720" y="990720"/>
            <a:chExt cx="3352680" cy="990360"/>
          </a:xfrm>
        </p:grpSpPr>
        <p:sp>
          <p:nvSpPr>
            <p:cNvPr id="312" name=""/>
            <p:cNvSpPr/>
            <p:nvPr/>
          </p:nvSpPr>
          <p:spPr>
            <a:xfrm flipH="1">
              <a:off x="5790960" y="152388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99072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turns at random an index to a row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1640" y="3505320"/>
            <a:ext cx="4267440" cy="1295280"/>
            <a:chOff x="4571640" y="3505320"/>
            <a:chExt cx="4267440" cy="1295280"/>
          </a:xfrm>
        </p:grpSpPr>
        <p:sp>
          <p:nvSpPr>
            <p:cNvPr id="315" name=""/>
            <p:cNvSpPr/>
            <p:nvPr/>
          </p:nvSpPr>
          <p:spPr>
            <a:xfrm flipH="1">
              <a:off x="4571640" y="40384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15000" y="350532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XSLT to XML document (i.e., convert Tip-Test question or answer XML document to one that a browser can displa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74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50160" y="5791320"/>
            <a:ext cx="39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tier architecture for Tip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xml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p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transforming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pply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XML Document that stores Tip Test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 createXMLTipTestAnsw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410080" y="2133720"/>
            <a:ext cx="3429000" cy="1295280"/>
            <a:chOff x="5410080" y="2133720"/>
            <a:chExt cx="3429000" cy="1295280"/>
          </a:xfrm>
        </p:grpSpPr>
        <p:sp>
          <p:nvSpPr>
            <p:cNvPr id="320" name=""/>
            <p:cNvSpPr/>
            <p:nvPr/>
          </p:nvSpPr>
          <p:spPr>
            <a:xfrm flipH="1">
              <a:off x="5410080" y="27432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3600" y="2133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 DOM tree (XML document)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eam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181480"/>
            <a:ext cx="2971800" cy="824040"/>
            <a:chOff x="5562720" y="5181480"/>
            <a:chExt cx="2971800" cy="824040"/>
          </a:xfrm>
        </p:grpSpPr>
        <p:sp>
          <p:nvSpPr>
            <p:cNvPr id="323" name=""/>
            <p:cNvSpPr/>
            <p:nvPr/>
          </p:nvSpPr>
          <p:spPr>
            <a:xfrm>
              <a:off x="6324480" y="51814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game results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562720" y="563868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2-5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1-5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4-5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correct answer with session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nte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Integer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integer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 client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se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f user answer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rrectAnswer == sel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ink to 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rvletName =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fig().getServle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document based on randomly determined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19360" y="838080"/>
            <a:ext cx="4496040" cy="1738440"/>
            <a:chOff x="4419360" y="838080"/>
            <a:chExt cx="4496040" cy="1738440"/>
          </a:xfrm>
        </p:grpSpPr>
        <p:sp>
          <p:nvSpPr>
            <p:cNvPr id="328" name=""/>
            <p:cNvSpPr/>
            <p:nvPr/>
          </p:nvSpPr>
          <p:spPr>
            <a:xfrm>
              <a:off x="6781680" y="17524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correct answer from previous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171840" y="838080"/>
              <a:ext cx="6094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419360" y="22096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43600" y="1752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67080" y="3733920"/>
            <a:ext cx="4114800" cy="580680"/>
            <a:chOff x="4267080" y="3733920"/>
            <a:chExt cx="4114800" cy="580680"/>
          </a:xfrm>
        </p:grpSpPr>
        <p:sp>
          <p:nvSpPr>
            <p:cNvPr id="333" name=""/>
            <p:cNvSpPr/>
            <p:nvPr/>
          </p:nvSpPr>
          <p:spPr>
            <a:xfrm>
              <a:off x="6248520" y="373392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user answered cor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267080" y="40384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477120" y="5486400"/>
            <a:ext cx="2438280" cy="824040"/>
            <a:chOff x="6477120" y="5486400"/>
            <a:chExt cx="2438280" cy="824040"/>
          </a:xfrm>
        </p:grpSpPr>
        <p:sp>
          <p:nvSpPr>
            <p:cNvPr id="336" name=""/>
            <p:cNvSpPr/>
            <p:nvPr/>
          </p:nvSpPr>
          <p:spPr>
            <a:xfrm>
              <a:off x="6934320" y="54864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results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47712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2-5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72-5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question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informs client of correct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corre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rrec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corr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describes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correctTip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describes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scription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correctTipDescrip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links to 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servletLink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le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letLink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servlet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servletLin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2720" y="1600200"/>
            <a:ext cx="3276360" cy="2362320"/>
            <a:chOff x="5562720" y="1600200"/>
            <a:chExt cx="3276360" cy="2362320"/>
          </a:xfrm>
        </p:grpSpPr>
        <p:sp>
          <p:nvSpPr>
            <p:cNvPr id="341" name=""/>
            <p:cNvSpPr/>
            <p:nvPr/>
          </p:nvSpPr>
          <p:spPr>
            <a:xfrm>
              <a:off x="6858000" y="22096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562720" y="160020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943600" y="2514600"/>
              <a:ext cx="9144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714640" y="25146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09720" y="4876920"/>
            <a:ext cx="3429360" cy="824040"/>
            <a:chOff x="5409720" y="4876920"/>
            <a:chExt cx="3429360" cy="824040"/>
          </a:xfrm>
        </p:grpSpPr>
        <p:sp>
          <p:nvSpPr>
            <p:cNvPr id="346" name=""/>
            <p:cNvSpPr/>
            <p:nvPr/>
          </p:nvSpPr>
          <p:spPr>
            <a:xfrm>
              <a:off x="6553080" y="4876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link to servlet in XML document, so client can “reconnec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409720" y="5334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7-6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XMLTipTest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answer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Answer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lient tes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Reader in = request.getR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Integer.parseInt( in.readLine().tri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x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form client whether client is correct or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correct answer with session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nte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Integer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integer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638320" y="1676520"/>
            <a:ext cx="3277080" cy="609480"/>
            <a:chOff x="5638320" y="1676520"/>
            <a:chExt cx="3277080" cy="609480"/>
          </a:xfrm>
        </p:grpSpPr>
        <p:sp>
          <p:nvSpPr>
            <p:cNvPr id="351" name=""/>
            <p:cNvSpPr/>
            <p:nvPr/>
          </p:nvSpPr>
          <p:spPr>
            <a:xfrm>
              <a:off x="6477120" y="16765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results for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638320" y="19810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095880" y="5334120"/>
            <a:ext cx="2819520" cy="824040"/>
            <a:chOff x="6095880" y="5334120"/>
            <a:chExt cx="2819520" cy="824040"/>
          </a:xfrm>
        </p:grpSpPr>
        <p:sp>
          <p:nvSpPr>
            <p:cNvPr id="354" name=""/>
            <p:cNvSpPr/>
            <p:nvPr/>
          </p:nvSpPr>
          <p:spPr>
            <a:xfrm>
              <a:off x="6705720" y="5334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correct answer from previous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6095880" y="54097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172200" y="57150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9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0-6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26-6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whether answer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ion == correctAnsw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 client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correctTip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correctTip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d when servlet i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f connection cannot b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648320" y="1981080"/>
            <a:ext cx="4038480" cy="824040"/>
            <a:chOff x="4648320" y="1981080"/>
            <a:chExt cx="4038480" cy="824040"/>
          </a:xfrm>
        </p:grpSpPr>
        <p:sp>
          <p:nvSpPr>
            <p:cNvPr id="360" name=""/>
            <p:cNvSpPr/>
            <p:nvPr/>
          </p:nvSpPr>
          <p:spPr>
            <a:xfrm>
              <a:off x="6781680" y="19810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stream to send correct answer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648320" y="24382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90760" y="990720"/>
            <a:ext cx="4115160" cy="580680"/>
            <a:chOff x="4190760" y="990720"/>
            <a:chExt cx="4115160" cy="580680"/>
          </a:xfrm>
        </p:grpSpPr>
        <p:sp>
          <p:nvSpPr>
            <p:cNvPr id="363" name=""/>
            <p:cNvSpPr/>
            <p:nvPr/>
          </p:nvSpPr>
          <p:spPr>
            <a:xfrm>
              <a:off x="6172200" y="9907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user answered cor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190760" y="1295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52680" y="3733920"/>
            <a:ext cx="5410440" cy="824040"/>
            <a:chOff x="3352680" y="3733920"/>
            <a:chExt cx="5410440" cy="824040"/>
          </a:xfrm>
        </p:grpSpPr>
        <p:sp>
          <p:nvSpPr>
            <p:cNvPr id="366" name=""/>
            <p:cNvSpPr/>
            <p:nvPr/>
          </p:nvSpPr>
          <p:spPr>
            <a:xfrm>
              <a:off x="6095880" y="3733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database connection when servlet container destroy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52680" y="4191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xplorer receives and displays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"1.0"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 styleshee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ns:xs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display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im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hat is the name of the icon shown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52680" y="380880"/>
            <a:ext cx="5029200" cy="824040"/>
            <a:chOff x="3352680" y="380880"/>
            <a:chExt cx="5029200" cy="824040"/>
          </a:xfrm>
        </p:grpSpPr>
        <p:sp>
          <p:nvSpPr>
            <p:cNvPr id="373" name=""/>
            <p:cNvSpPr/>
            <p:nvPr/>
          </p:nvSpPr>
          <p:spPr>
            <a:xfrm>
              <a:off x="6095880" y="3808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Tip-Test question on Internet Explore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352680" y="838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86040" y="4952880"/>
            <a:ext cx="3277080" cy="337320"/>
            <a:chOff x="5486040" y="4952880"/>
            <a:chExt cx="3277080" cy="337320"/>
          </a:xfrm>
        </p:grpSpPr>
        <p:sp>
          <p:nvSpPr>
            <p:cNvPr id="376" name=""/>
            <p:cNvSpPr/>
            <p:nvPr/>
          </p:nvSpPr>
          <p:spPr>
            <a:xfrm>
              <a:off x="7010280" y="49528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86040" y="5105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create a form with four checkbox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build a table for the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171840" y="2666880"/>
            <a:ext cx="2667240" cy="3048120"/>
            <a:chOff x="6171840" y="2666880"/>
            <a:chExt cx="2667240" cy="3048120"/>
          </a:xfrm>
        </p:grpSpPr>
        <p:sp>
          <p:nvSpPr>
            <p:cNvPr id="381" name=""/>
            <p:cNvSpPr/>
            <p:nvPr/>
          </p:nvSpPr>
          <p:spPr>
            <a:xfrm>
              <a:off x="7238880" y="37339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4008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324480" y="266688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171840" y="403848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00800" y="609480"/>
            <a:ext cx="2514600" cy="580680"/>
            <a:chOff x="6400800" y="609480"/>
            <a:chExt cx="2514600" cy="580680"/>
          </a:xfrm>
        </p:grpSpPr>
        <p:sp>
          <p:nvSpPr>
            <p:cNvPr id="388" name=""/>
            <p:cNvSpPr/>
            <p:nvPr/>
          </p:nvSpPr>
          <p:spPr>
            <a:xfrm>
              <a:off x="6934320" y="609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 (cont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00800" y="914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172200" y="2057400"/>
            <a:ext cx="2514600" cy="580680"/>
            <a:chOff x="6172200" y="2057400"/>
            <a:chExt cx="2514600" cy="580680"/>
          </a:xfrm>
        </p:grpSpPr>
        <p:sp>
          <p:nvSpPr>
            <p:cNvPr id="391" name=""/>
            <p:cNvSpPr/>
            <p:nvPr/>
          </p:nvSpPr>
          <p:spPr>
            <a:xfrm>
              <a:off x="6705720" y="2057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17220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94" name="image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933640" cy="3078360"/>
          </a:xfrm>
          <a:prstGeom prst="rect">
            <a:avLst/>
          </a:prstGeom>
          <a:ln w="0">
            <a:noFill/>
          </a:ln>
        </p:spPr>
      </p:pic>
      <p:pic>
        <p:nvPicPr>
          <p:cNvPr id="395" name="image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934000" cy="3078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14480" y="4952880"/>
            <a:ext cx="51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xplorer Tip-Test question output scr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219320"/>
          <a:ext cx="807696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076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Answer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X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 styleshee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 Answ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123720" y="304920"/>
            <a:ext cx="5334480" cy="1067400"/>
            <a:chOff x="3123720" y="304920"/>
            <a:chExt cx="5334480" cy="1067400"/>
          </a:xfrm>
        </p:grpSpPr>
        <p:sp>
          <p:nvSpPr>
            <p:cNvPr id="400" name=""/>
            <p:cNvSpPr/>
            <p:nvPr/>
          </p:nvSpPr>
          <p:spPr>
            <a:xfrm>
              <a:off x="6172200" y="3049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Internet Explore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486400" y="4648320"/>
            <a:ext cx="3276720" cy="580680"/>
            <a:chOff x="5486400" y="4648320"/>
            <a:chExt cx="3276720" cy="580680"/>
          </a:xfrm>
        </p:grpSpPr>
        <p:sp>
          <p:nvSpPr>
            <p:cNvPr id="403" name=""/>
            <p:cNvSpPr/>
            <p:nvPr/>
          </p:nvSpPr>
          <p:spPr>
            <a:xfrm>
              <a:off x="6477120" y="4648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486400" y="4952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Answer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X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servletNam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 Ti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333760" y="838080"/>
            <a:ext cx="3353040" cy="1828800"/>
            <a:chOff x="5333760" y="838080"/>
            <a:chExt cx="3353040" cy="1828800"/>
          </a:xfrm>
        </p:grpSpPr>
        <p:sp>
          <p:nvSpPr>
            <p:cNvPr id="408" name=""/>
            <p:cNvSpPr/>
            <p:nvPr/>
          </p:nvSpPr>
          <p:spPr>
            <a:xfrm>
              <a:off x="6400800" y="1523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5410080" y="838080"/>
              <a:ext cx="990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333760" y="182880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638680" y="3352680"/>
            <a:ext cx="3200400" cy="824040"/>
            <a:chOff x="5638680" y="3352680"/>
            <a:chExt cx="3200400" cy="824040"/>
          </a:xfrm>
        </p:grpSpPr>
        <p:sp>
          <p:nvSpPr>
            <p:cNvPr id="412" name=""/>
            <p:cNvSpPr/>
            <p:nvPr/>
          </p:nvSpPr>
          <p:spPr>
            <a:xfrm>
              <a:off x="6629400" y="3352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638680" y="3809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5" name="image5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495680" cy="4313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991160" y="5410080"/>
            <a:ext cx="50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xplorer Tip-Test answer output scr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P client receives and displays W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Question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WML docu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 styleshee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card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5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200040" y="380880"/>
            <a:ext cx="5105880" cy="824040"/>
            <a:chOff x="3200040" y="380880"/>
            <a:chExt cx="5105880" cy="824040"/>
          </a:xfrm>
        </p:grpSpPr>
        <p:sp>
          <p:nvSpPr>
            <p:cNvPr id="422" name=""/>
            <p:cNvSpPr/>
            <p:nvPr/>
          </p:nvSpPr>
          <p:spPr>
            <a:xfrm>
              <a:off x="6095880" y="3808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Tip-Test question on WAP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200040" y="838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952880" y="3124080"/>
            <a:ext cx="3733920" cy="580680"/>
            <a:chOff x="4952880" y="3124080"/>
            <a:chExt cx="3733920" cy="580680"/>
          </a:xfrm>
        </p:grpSpPr>
        <p:sp>
          <p:nvSpPr>
            <p:cNvPr id="425" name=""/>
            <p:cNvSpPr/>
            <p:nvPr/>
          </p:nvSpPr>
          <p:spPr>
            <a:xfrm>
              <a:off x="5943600" y="3124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displayable screen on WAP client is called a “car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952880" y="34290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00800" y="4800600"/>
            <a:ext cx="2286000" cy="337320"/>
            <a:chOff x="6400800" y="4800600"/>
            <a:chExt cx="2286000" cy="337320"/>
          </a:xfrm>
        </p:grpSpPr>
        <p:sp>
          <p:nvSpPr>
            <p:cNvPr id="428" name=""/>
            <p:cNvSpPr/>
            <p:nvPr/>
          </p:nvSpPr>
          <p:spPr>
            <a:xfrm>
              <a:off x="6934320" y="48006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40080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257800" y="5486400"/>
            <a:ext cx="3352680" cy="762120"/>
            <a:chOff x="5257800" y="5486400"/>
            <a:chExt cx="3352680" cy="762120"/>
          </a:xfrm>
        </p:grpSpPr>
        <p:sp>
          <p:nvSpPr>
            <p:cNvPr id="431" name=""/>
            <p:cNvSpPr/>
            <p:nvPr/>
          </p:nvSpPr>
          <p:spPr>
            <a:xfrm>
              <a:off x="6629400" y="5486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257800" y="57913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Question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WML docu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-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(question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he tip shown on the previous screen is call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selec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i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sele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95880" y="2971440"/>
            <a:ext cx="2590920" cy="1524240"/>
            <a:chOff x="6095880" y="2971440"/>
            <a:chExt cx="2590920" cy="1524240"/>
          </a:xfrm>
        </p:grpSpPr>
        <p:sp>
          <p:nvSpPr>
            <p:cNvPr id="436" name=""/>
            <p:cNvSpPr/>
            <p:nvPr/>
          </p:nvSpPr>
          <p:spPr>
            <a:xfrm>
              <a:off x="7086600" y="34290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6172200" y="35049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6095880" y="297144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172200" y="3733920"/>
              <a:ext cx="914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172200" y="37339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image3" descr=""/>
          <p:cNvPicPr/>
          <p:nvPr/>
        </p:nvPicPr>
        <p:blipFill>
          <a:blip r:embed="rId1"/>
          <a:stretch/>
        </p:blipFill>
        <p:spPr>
          <a:xfrm>
            <a:off x="2549520" y="1066680"/>
            <a:ext cx="1574640" cy="4343400"/>
          </a:xfrm>
          <a:prstGeom prst="rect">
            <a:avLst/>
          </a:prstGeom>
          <a:ln w="0">
            <a:noFill/>
          </a:ln>
        </p:spPr>
      </p:pic>
      <p:pic>
        <p:nvPicPr>
          <p:cNvPr id="443" name="image5" descr=""/>
          <p:cNvPicPr/>
          <p:nvPr/>
        </p:nvPicPr>
        <p:blipFill>
          <a:blip r:embed="rId2"/>
          <a:stretch/>
        </p:blipFill>
        <p:spPr>
          <a:xfrm>
            <a:off x="4759200" y="1066680"/>
            <a:ext cx="1575000" cy="43434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839600" y="5334120"/>
            <a:ext cx="644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UP simulator Tip-Test question scre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mage of UP.SDK courtesy Openwave Systems Inc. Openwav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wave logo, and UP.SDK are trademarks of Openwave Systems In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Answer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W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 stylesheet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 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123720" y="457200"/>
            <a:ext cx="5791680" cy="824040"/>
            <a:chOff x="3123720" y="457200"/>
            <a:chExt cx="5791680" cy="824040"/>
          </a:xfrm>
        </p:grpSpPr>
        <p:sp>
          <p:nvSpPr>
            <p:cNvPr id="448" name=""/>
            <p:cNvSpPr/>
            <p:nvPr/>
          </p:nvSpPr>
          <p:spPr>
            <a:xfrm>
              <a:off x="6172200" y="4572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WAP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7800" y="5181480"/>
            <a:ext cx="3276720" cy="580680"/>
            <a:chOff x="5257800" y="5181480"/>
            <a:chExt cx="3276720" cy="580680"/>
          </a:xfrm>
        </p:grpSpPr>
        <p:sp>
          <p:nvSpPr>
            <p:cNvPr id="451" name=""/>
            <p:cNvSpPr/>
            <p:nvPr/>
          </p:nvSpPr>
          <p:spPr>
            <a:xfrm>
              <a:off x="6248520" y="5181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257800" y="5486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800600" y="4114800"/>
            <a:ext cx="3657600" cy="824040"/>
            <a:chOff x="4800600" y="4114800"/>
            <a:chExt cx="3657600" cy="824040"/>
          </a:xfrm>
        </p:grpSpPr>
        <p:sp>
          <p:nvSpPr>
            <p:cNvPr id="454" name=""/>
            <p:cNvSpPr/>
            <p:nvPr/>
          </p:nvSpPr>
          <p:spPr>
            <a:xfrm>
              <a:off x="6248520" y="41148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80060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Answer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W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715000" y="685440"/>
            <a:ext cx="3124080" cy="1219680"/>
            <a:chOff x="5715000" y="685440"/>
            <a:chExt cx="3124080" cy="1219680"/>
          </a:xfrm>
        </p:grpSpPr>
        <p:sp>
          <p:nvSpPr>
            <p:cNvPr id="459" name=""/>
            <p:cNvSpPr/>
            <p:nvPr/>
          </p:nvSpPr>
          <p:spPr>
            <a:xfrm>
              <a:off x="6553080" y="990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5715000" y="68544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791320" y="12952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3" name="image6" descr=""/>
          <p:cNvPicPr/>
          <p:nvPr/>
        </p:nvPicPr>
        <p:blipFill>
          <a:blip r:embed="rId1"/>
          <a:stretch/>
        </p:blipFill>
        <p:spPr>
          <a:xfrm>
            <a:off x="3733920" y="914400"/>
            <a:ext cx="1679400" cy="4629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003680" y="5638680"/>
            <a:ext cx="67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UP simulator Tip-Test answer screen. (Image of UP.SD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 Openwave Systems Inc. Openwave, the Openwave logo, and UP.SD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rademarks of OpenwaveSystems Inc. 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s client requests to static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pages are “welcome screens” for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game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mode client receives and displays c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MODE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-mode stylesheet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Compact HTML 1.0 Draf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display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im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hat is the name of the icon shown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352320" y="457200"/>
            <a:ext cx="5334480" cy="824040"/>
            <a:chOff x="3352320" y="457200"/>
            <a:chExt cx="5334480" cy="824040"/>
          </a:xfrm>
        </p:grpSpPr>
        <p:sp>
          <p:nvSpPr>
            <p:cNvPr id="470" name=""/>
            <p:cNvSpPr/>
            <p:nvPr/>
          </p:nvSpPr>
          <p:spPr>
            <a:xfrm>
              <a:off x="6400800" y="457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question on i-mod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3523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4952880"/>
            <a:ext cx="3429000" cy="337320"/>
            <a:chOff x="5105520" y="4952880"/>
            <a:chExt cx="3429000" cy="337320"/>
          </a:xfrm>
        </p:grpSpPr>
        <p:sp>
          <p:nvSpPr>
            <p:cNvPr id="473" name=""/>
            <p:cNvSpPr/>
            <p:nvPr/>
          </p:nvSpPr>
          <p:spPr>
            <a:xfrm>
              <a:off x="6781680" y="49528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05520" y="51055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6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create a form with four checkbox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build a table for the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171840" y="2438280"/>
            <a:ext cx="2667240" cy="3124440"/>
            <a:chOff x="6171840" y="2438280"/>
            <a:chExt cx="2667240" cy="3124440"/>
          </a:xfrm>
        </p:grpSpPr>
        <p:sp>
          <p:nvSpPr>
            <p:cNvPr id="478" name=""/>
            <p:cNvSpPr/>
            <p:nvPr/>
          </p:nvSpPr>
          <p:spPr>
            <a:xfrm>
              <a:off x="7238880" y="3505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400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6324480" y="243828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171840" y="3809880"/>
              <a:ext cx="10666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400800" y="457200"/>
            <a:ext cx="2514600" cy="580680"/>
            <a:chOff x="6400800" y="457200"/>
            <a:chExt cx="2514600" cy="580680"/>
          </a:xfrm>
        </p:grpSpPr>
        <p:sp>
          <p:nvSpPr>
            <p:cNvPr id="485" name=""/>
            <p:cNvSpPr/>
            <p:nvPr/>
          </p:nvSpPr>
          <p:spPr>
            <a:xfrm>
              <a:off x="6858000" y="457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 (cont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40080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095880" y="1905120"/>
            <a:ext cx="2590920" cy="580680"/>
            <a:chOff x="6095880" y="1905120"/>
            <a:chExt cx="2590920" cy="580680"/>
          </a:xfrm>
        </p:grpSpPr>
        <p:sp>
          <p:nvSpPr>
            <p:cNvPr id="488" name=""/>
            <p:cNvSpPr/>
            <p:nvPr/>
          </p:nvSpPr>
          <p:spPr>
            <a:xfrm>
              <a:off x="6705720" y="19051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095880" y="22096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1" name="image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2316240" cy="4084560"/>
          </a:xfrm>
          <a:prstGeom prst="rect">
            <a:avLst/>
          </a:prstGeom>
          <a:ln w="0">
            <a:noFill/>
          </a:ln>
        </p:spPr>
      </p:pic>
      <p:pic>
        <p:nvPicPr>
          <p:cNvPr id="492" name="image5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2315880" cy="4084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079280" y="5486400"/>
            <a:ext cx="68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o i-mode browser Tip-Test question screen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Answer 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c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MODE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-mode stylesheet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Compact HTML 1.0 Draf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 Answ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123720" y="457200"/>
            <a:ext cx="5791680" cy="824040"/>
            <a:chOff x="3123720" y="457200"/>
            <a:chExt cx="5791680" cy="824040"/>
          </a:xfrm>
        </p:grpSpPr>
        <p:sp>
          <p:nvSpPr>
            <p:cNvPr id="497" name=""/>
            <p:cNvSpPr/>
            <p:nvPr/>
          </p:nvSpPr>
          <p:spPr>
            <a:xfrm>
              <a:off x="6172200" y="4572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i-mod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86400" y="4419720"/>
            <a:ext cx="3276720" cy="580680"/>
            <a:chOff x="5486400" y="4419720"/>
            <a:chExt cx="3276720" cy="580680"/>
          </a:xfrm>
        </p:grpSpPr>
        <p:sp>
          <p:nvSpPr>
            <p:cNvPr id="500" name=""/>
            <p:cNvSpPr/>
            <p:nvPr/>
          </p:nvSpPr>
          <p:spPr>
            <a:xfrm>
              <a:off x="6477120" y="4419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6400" y="4724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Answer 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c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servletNam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 Ti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638320" y="3352680"/>
            <a:ext cx="3048480" cy="824040"/>
            <a:chOff x="5638320" y="3352680"/>
            <a:chExt cx="3048480" cy="824040"/>
          </a:xfrm>
        </p:grpSpPr>
        <p:sp>
          <p:nvSpPr>
            <p:cNvPr id="505" name=""/>
            <p:cNvSpPr/>
            <p:nvPr/>
          </p:nvSpPr>
          <p:spPr>
            <a:xfrm>
              <a:off x="6477120" y="3352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38320" y="3809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257440" y="837720"/>
            <a:ext cx="3429360" cy="1829160"/>
            <a:chOff x="5257440" y="837720"/>
            <a:chExt cx="3429360" cy="1829160"/>
          </a:xfrm>
        </p:grpSpPr>
        <p:sp>
          <p:nvSpPr>
            <p:cNvPr id="508" name=""/>
            <p:cNvSpPr/>
            <p:nvPr/>
          </p:nvSpPr>
          <p:spPr>
            <a:xfrm>
              <a:off x="6400800" y="1752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5257440" y="83772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638320" y="20574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2" name="image6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316240" cy="40845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004040" y="5334120"/>
            <a:ext cx="67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o i-mode browser Tip-Test answer screen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 client receives and displays pla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 and ans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use XML to markup question and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ME must use proprietary packages fo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, server sends data to J2ME client via byte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7" name="image5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1539720" cy="3817800"/>
          </a:xfrm>
          <a:prstGeom prst="rect">
            <a:avLst/>
          </a:prstGeom>
          <a:ln w="0">
            <a:noFill/>
          </a:ln>
        </p:spPr>
      </p:pic>
      <p:pic>
        <p:nvPicPr>
          <p:cNvPr id="518" name="image6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1539720" cy="38178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76880" y="5334120"/>
            <a:ext cx="729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 Tip-Test ques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lcom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ivers appropriate "Welcome" scre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ge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welcome screen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ndI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WAP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-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IMod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24080" y="457200"/>
            <a:ext cx="5257800" cy="1828800"/>
            <a:chOff x="3124080" y="457200"/>
            <a:chExt cx="5257800" cy="1828800"/>
          </a:xfrm>
        </p:grpSpPr>
        <p:sp>
          <p:nvSpPr>
            <p:cNvPr id="102" name=""/>
            <p:cNvSpPr/>
            <p:nvPr/>
          </p:nvSpPr>
          <p:spPr>
            <a:xfrm flipH="1">
              <a:off x="3124080" y="1295280"/>
              <a:ext cx="3748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457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directs client requests to static pages that display game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486040" y="2590920"/>
            <a:ext cx="3124440" cy="580680"/>
            <a:chOff x="5486040" y="2590920"/>
            <a:chExt cx="3124440" cy="580680"/>
          </a:xfrm>
        </p:grpSpPr>
        <p:sp>
          <p:nvSpPr>
            <p:cNvPr id="105" name=""/>
            <p:cNvSpPr/>
            <p:nvPr/>
          </p:nvSpPr>
          <p:spPr>
            <a:xfrm>
              <a:off x="6629400" y="2590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86040" y="2895480"/>
              <a:ext cx="11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5520" y="3352680"/>
            <a:ext cx="2819880" cy="824040"/>
            <a:chOff x="6095520" y="3352680"/>
            <a:chExt cx="2819880" cy="824040"/>
          </a:xfrm>
        </p:grpSpPr>
        <p:sp>
          <p:nvSpPr>
            <p:cNvPr id="108" name=""/>
            <p:cNvSpPr/>
            <p:nvPr/>
          </p:nvSpPr>
          <p:spPr>
            <a:xfrm flipH="1">
              <a:off x="6095520" y="380988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3352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 helps to determine which client type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05160" y="4572000"/>
            <a:ext cx="3657960" cy="1447920"/>
            <a:chOff x="5105160" y="4572000"/>
            <a:chExt cx="3657960" cy="1447920"/>
          </a:xfrm>
        </p:grpSpPr>
        <p:sp>
          <p:nvSpPr>
            <p:cNvPr id="111" name=""/>
            <p:cNvSpPr/>
            <p:nvPr/>
          </p:nvSpPr>
          <p:spPr>
            <a:xfrm flipH="1" flipV="1">
              <a:off x="5333760" y="4723920"/>
              <a:ext cx="92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572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“welcome screen” to the client determined b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105160" y="49528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334120" y="4952880"/>
              <a:ext cx="9144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image7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1539720" cy="3817800"/>
          </a:xfrm>
          <a:prstGeom prst="rect">
            <a:avLst/>
          </a:prstGeom>
          <a:ln w="0">
            <a:noFill/>
          </a:ln>
        </p:spPr>
      </p:pic>
      <p:pic>
        <p:nvPicPr>
          <p:cNvPr id="522" name="image8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53920" y="5562720"/>
            <a:ext cx="71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 Tip-Test answer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   Java 2 Micro Ed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for writing applications for consumer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these devices have limite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D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wr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ed Limited Device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Information Devic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Connected Limited Device Configuration (CLD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Limited Device Configuration (CLD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AP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to create programs for devices with limited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VM – runs J2M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packages that have subsets of JSE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  Connected Limited Device Configuration (CLDC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Information Device Profile (MI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AP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mobile-device specific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user-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ting local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ng lifecycles of MIDP client application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D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pack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lcd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let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39720" y="1554120"/>
          <a:ext cx="8031240" cy="37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554120"/>
                    <a:ext cx="803124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38080" y="1143000"/>
          <a:ext cx="746784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678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e Information Devi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let su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P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P device ru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lication management 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 runs the MIDlet from MIDlet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lication descriptor 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IDle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exten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D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 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use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stroy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2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I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IE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Nokia WAP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WAP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AP/index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i-mod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IMode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Mode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343040" y="2286000"/>
            <a:ext cx="4572360" cy="3200400"/>
            <a:chOff x="4343040" y="2286000"/>
            <a:chExt cx="4572360" cy="3200400"/>
          </a:xfrm>
        </p:grpSpPr>
        <p:sp>
          <p:nvSpPr>
            <p:cNvPr id="118" name=""/>
            <p:cNvSpPr/>
            <p:nvPr/>
          </p:nvSpPr>
          <p:spPr>
            <a:xfrm>
              <a:off x="6019920" y="22860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mer-defined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directs the client request to a static Web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343040" y="251424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571640" y="2743200"/>
              <a:ext cx="1461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8320" y="2743200"/>
              <a:ext cx="13716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let used in case stu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-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MID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s TipTest from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 Java package sub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mid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lcdu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MID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 display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reens displayed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main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welcome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info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tip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answer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oft-butt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select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next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back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letBaseUR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localhost:8080/advjhtp1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lcomeServle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lcome servlet determines tip test servle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pTestServle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885840" y="1905120"/>
            <a:ext cx="4038840" cy="337320"/>
            <a:chOff x="3885840" y="1905120"/>
            <a:chExt cx="4038840" cy="337320"/>
          </a:xfrm>
        </p:grpSpPr>
        <p:sp>
          <p:nvSpPr>
            <p:cNvPr id="551" name=""/>
            <p:cNvSpPr/>
            <p:nvPr/>
          </p:nvSpPr>
          <p:spPr>
            <a:xfrm>
              <a:off x="6400800" y="19051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DP pack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5840" y="20574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09320" y="1143000"/>
            <a:ext cx="5334480" cy="337320"/>
            <a:chOff x="2209320" y="1143000"/>
            <a:chExt cx="5334480" cy="337320"/>
          </a:xfrm>
        </p:grpSpPr>
        <p:sp>
          <p:nvSpPr>
            <p:cNvPr id="554" name=""/>
            <p:cNvSpPr/>
            <p:nvPr/>
          </p:nvSpPr>
          <p:spPr>
            <a:xfrm>
              <a:off x="5791320" y="11430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DC pack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209320" y="12952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572000" y="2590920"/>
            <a:ext cx="4267080" cy="824040"/>
            <a:chOff x="4572000" y="2590920"/>
            <a:chExt cx="4267080" cy="824040"/>
          </a:xfrm>
        </p:grpSpPr>
        <p:sp>
          <p:nvSpPr>
            <p:cNvPr id="557" name=""/>
            <p:cNvSpPr/>
            <p:nvPr/>
          </p:nvSpPr>
          <p:spPr>
            <a:xfrm>
              <a:off x="6400800" y="25909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MIDlets must extend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D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must have o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952880" y="2971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4572000" y="2590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428640" y="3581280"/>
            <a:ext cx="4420080" cy="580680"/>
            <a:chOff x="3428640" y="3581280"/>
            <a:chExt cx="4420080" cy="580680"/>
          </a:xfrm>
        </p:grpSpPr>
        <p:sp>
          <p:nvSpPr>
            <p:cNvPr id="561" name=""/>
            <p:cNvSpPr/>
            <p:nvPr/>
          </p:nvSpPr>
          <p:spPr>
            <a:xfrm>
              <a:off x="5562720" y="3581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es used to display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428640" y="3886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657240" y="4495680"/>
            <a:ext cx="4343760" cy="824040"/>
            <a:chOff x="3657240" y="4495680"/>
            <a:chExt cx="4343760" cy="824040"/>
          </a:xfrm>
        </p:grpSpPr>
        <p:sp>
          <p:nvSpPr>
            <p:cNvPr id="564" name=""/>
            <p:cNvSpPr/>
            <p:nvPr/>
          </p:nvSpPr>
          <p:spPr>
            <a:xfrm>
              <a:off x="5791320" y="4495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st used for requesting MIDlet actions (via soft butt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657240" y="49528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9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lcomeServletUR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letBaseURL + welcomeServle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ssi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initializes display and mai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MIDle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oft button comma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xt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xt 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in screen allowing welcome servle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TestMIDl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main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data from welcom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ta = getServerData( welcomeServlet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welcome Screen using servle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createWelcomeScreen(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47760" y="1371600"/>
            <a:ext cx="5410440" cy="580680"/>
            <a:chOff x="3047760" y="1371600"/>
            <a:chExt cx="5410440" cy="580680"/>
          </a:xfrm>
        </p:grpSpPr>
        <p:sp>
          <p:nvSpPr>
            <p:cNvPr id="569" name=""/>
            <p:cNvSpPr/>
            <p:nvPr/>
          </p:nvSpPr>
          <p:spPr>
            <a:xfrm>
              <a:off x="6324480" y="13716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D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047760" y="16765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24480" y="2590920"/>
            <a:ext cx="2667240" cy="1067400"/>
            <a:chOff x="6324480" y="2590920"/>
            <a:chExt cx="2667240" cy="1067400"/>
          </a:xfrm>
        </p:grpSpPr>
        <p:sp>
          <p:nvSpPr>
            <p:cNvPr id="572" name=""/>
            <p:cNvSpPr/>
            <p:nvPr/>
          </p:nvSpPr>
          <p:spPr>
            <a:xfrm>
              <a:off x="6781680" y="2590920"/>
              <a:ext cx="2210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nables the user to select which servlet to invo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3244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90760" y="4038480"/>
            <a:ext cx="4648320" cy="1067400"/>
            <a:chOff x="4190760" y="4038480"/>
            <a:chExt cx="4648320" cy="1067400"/>
          </a:xfrm>
        </p:grpSpPr>
        <p:sp>
          <p:nvSpPr>
            <p:cNvPr id="575" name=""/>
            <p:cNvSpPr/>
            <p:nvPr/>
          </p:nvSpPr>
          <p:spPr>
            <a:xfrm>
              <a:off x="6248520" y="4038480"/>
              <a:ext cx="2590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nex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190760" y="4572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5-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ppropriate Display for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 = Display.get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pTestMIDle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pp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splay to mai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.setCurrent( main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use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useApp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oy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Ap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conditiona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"welcome" Screen introducing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Welcome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reen welcoming user to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is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ke Tip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ddCommand( back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RL of information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48320" y="380880"/>
            <a:ext cx="4190760" cy="824040"/>
            <a:chOff x="4648320" y="380880"/>
            <a:chExt cx="4190760" cy="824040"/>
          </a:xfrm>
        </p:grpSpPr>
        <p:sp>
          <p:nvSpPr>
            <p:cNvPr id="580" name=""/>
            <p:cNvSpPr/>
            <p:nvPr/>
          </p:nvSpPr>
          <p:spPr>
            <a:xfrm>
              <a:off x="6477120" y="3808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one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exist (Singleton design patter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648320" y="762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267080" y="1828800"/>
            <a:ext cx="4572000" cy="580680"/>
            <a:chOff x="4267080" y="1828800"/>
            <a:chExt cx="4572000" cy="580680"/>
          </a:xfrm>
        </p:grpSpPr>
        <p:sp>
          <p:nvSpPr>
            <p:cNvPr id="583" name=""/>
            <p:cNvSpPr/>
            <p:nvPr/>
          </p:nvSpPr>
          <p:spPr>
            <a:xfrm>
              <a:off x="6095880" y="1828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4267080" y="2133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200040" y="2514600"/>
            <a:ext cx="5715360" cy="914400"/>
            <a:chOff x="3200040" y="2514600"/>
            <a:chExt cx="5715360" cy="914400"/>
          </a:xfrm>
        </p:grpSpPr>
        <p:sp>
          <p:nvSpPr>
            <p:cNvPr id="586" name=""/>
            <p:cNvSpPr/>
            <p:nvPr/>
          </p:nvSpPr>
          <p:spPr>
            <a:xfrm>
              <a:off x="6172200" y="2514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use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troy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 not need to be overridden for this MID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200040" y="2895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486040" y="28954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257440" y="3505320"/>
            <a:ext cx="3734280" cy="1310760"/>
            <a:chOff x="5257440" y="3505320"/>
            <a:chExt cx="3734280" cy="1310760"/>
          </a:xfrm>
        </p:grpSpPr>
        <p:sp>
          <p:nvSpPr>
            <p:cNvPr id="590" name=""/>
            <p:cNvSpPr/>
            <p:nvPr/>
          </p:nvSpPr>
          <p:spPr>
            <a:xfrm>
              <a:off x="6324480" y="35053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welcome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the user can select which game to play (of course, in this MIDlet, there is only one game to choo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257440" y="4114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0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welcome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SELEC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data from static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dat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etServerData( servletBaseURL +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thi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reateInformationScreen(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mmand.getCommand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main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mma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Welcome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486040" y="152280"/>
            <a:ext cx="3277080" cy="1143000"/>
            <a:chOff x="5486040" y="152280"/>
            <a:chExt cx="3277080" cy="1143000"/>
          </a:xfrm>
        </p:grpSpPr>
        <p:sp>
          <p:nvSpPr>
            <p:cNvPr id="595" name=""/>
            <p:cNvSpPr/>
            <p:nvPr/>
          </p:nvSpPr>
          <p:spPr>
            <a:xfrm flipH="1">
              <a:off x="5486040" y="6858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72200" y="1522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welco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game instructions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647960" y="2133360"/>
            <a:ext cx="4343760" cy="1905120"/>
            <a:chOff x="4647960" y="2133360"/>
            <a:chExt cx="4343760" cy="1905120"/>
          </a:xfrm>
        </p:grpSpPr>
        <p:sp>
          <p:nvSpPr>
            <p:cNvPr id="598" name=""/>
            <p:cNvSpPr/>
            <p:nvPr/>
          </p:nvSpPr>
          <p:spPr>
            <a:xfrm>
              <a:off x="6248520" y="220968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ommand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soft button pressed, which is used to determine the requested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486040" y="274320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647960" y="213336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3-1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8-1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creen showing servlets to which client can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Information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m showing available servl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rm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that provides dir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infoTit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ppend( info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oiceGroup allowing user to select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 choic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Group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EXCLUS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oices.append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ChoiceGroup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ppen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ddCommand( back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SELEC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800600" y="380880"/>
            <a:ext cx="4114800" cy="1067400"/>
            <a:chOff x="4800600" y="380880"/>
            <a:chExt cx="4114800" cy="1067400"/>
          </a:xfrm>
        </p:grpSpPr>
        <p:sp>
          <p:nvSpPr>
            <p:cNvPr id="604" name=""/>
            <p:cNvSpPr/>
            <p:nvPr/>
          </p:nvSpPr>
          <p:spPr>
            <a:xfrm>
              <a:off x="6705720" y="38088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information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00600" y="91440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248520" y="2133720"/>
            <a:ext cx="2743200" cy="824040"/>
            <a:chOff x="6248520" y="2133720"/>
            <a:chExt cx="2743200" cy="824040"/>
          </a:xfrm>
        </p:grpSpPr>
        <p:sp>
          <p:nvSpPr>
            <p:cNvPr id="607" name=""/>
            <p:cNvSpPr/>
            <p:nvPr/>
          </p:nvSpPr>
          <p:spPr>
            <a:xfrm>
              <a:off x="6705720" y="21337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game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248520" y="2133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334120" y="2819160"/>
            <a:ext cx="3581280" cy="1357560"/>
            <a:chOff x="5334120" y="2819160"/>
            <a:chExt cx="3581280" cy="1357560"/>
          </a:xfrm>
        </p:grpSpPr>
        <p:sp>
          <p:nvSpPr>
            <p:cNvPr id="610" name=""/>
            <p:cNvSpPr/>
            <p:nvPr/>
          </p:nvSpPr>
          <p:spPr>
            <a:xfrm>
              <a:off x="6553080" y="33526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imila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xcept it may be embedded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5334120" y="2819160"/>
              <a:ext cx="1218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333760" y="4419720"/>
            <a:ext cx="3581640" cy="1310760"/>
            <a:chOff x="5333760" y="4419720"/>
            <a:chExt cx="3581640" cy="1310760"/>
          </a:xfrm>
        </p:grpSpPr>
        <p:sp>
          <p:nvSpPr>
            <p:cNvPr id="613" name=""/>
            <p:cNvSpPr/>
            <p:nvPr/>
          </p:nvSpPr>
          <p:spPr>
            <a:xfrm flipH="1">
              <a:off x="5333760" y="51055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24480" y="44197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inform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5-186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ser chooses which servlet to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ex = choices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ipTestServle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hoices.getString( selected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to servlet and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data = getServerData( servletBaseURL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ipTestServle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next Screen according to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createTipTestScre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rvletBaseURL +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welcome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mma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fo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Information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creen to display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TipTest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029200" y="2514600"/>
            <a:ext cx="3809880" cy="3048120"/>
            <a:chOff x="5029200" y="2514600"/>
            <a:chExt cx="3809880" cy="3048120"/>
          </a:xfrm>
        </p:grpSpPr>
        <p:sp>
          <p:nvSpPr>
            <p:cNvPr id="618" name=""/>
            <p:cNvSpPr/>
            <p:nvPr/>
          </p:nvSpPr>
          <p:spPr>
            <a:xfrm flipH="1" flipV="1">
              <a:off x="5029200" y="251460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200400"/>
              <a:ext cx="25146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send Tip-Test question when the user presses a soft button;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-TipTest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this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5333760" y="3962520"/>
              <a:ext cx="990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8-2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4-2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m to display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 from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serverImage = getServerImage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image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rverImag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pScreen.append( server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hoice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list for ChoiceGroup from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hoiceList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List[ i ] = list[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oiceGroup allowing user to input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 choic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CLUS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oiceLi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ChoiceGroup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appen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nd user selection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choices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419360" y="380880"/>
            <a:ext cx="4343760" cy="1067400"/>
            <a:chOff x="4419360" y="380880"/>
            <a:chExt cx="4343760" cy="1067400"/>
          </a:xfrm>
        </p:grpSpPr>
        <p:sp>
          <p:nvSpPr>
            <p:cNvPr id="624" name=""/>
            <p:cNvSpPr/>
            <p:nvPr/>
          </p:nvSpPr>
          <p:spPr>
            <a:xfrm>
              <a:off x="6781680" y="38088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question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4419360" y="609120"/>
              <a:ext cx="2361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360" y="1218960"/>
            <a:ext cx="3276720" cy="870840"/>
            <a:chOff x="5562360" y="1218960"/>
            <a:chExt cx="3276720" cy="870840"/>
          </a:xfrm>
        </p:grpSpPr>
        <p:sp>
          <p:nvSpPr>
            <p:cNvPr id="627" name=""/>
            <p:cNvSpPr/>
            <p:nvPr/>
          </p:nvSpPr>
          <p:spPr>
            <a:xfrm>
              <a:off x="7010280" y="17524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562360" y="12189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24280" y="2209680"/>
            <a:ext cx="4191120" cy="809280"/>
            <a:chOff x="4724280" y="2209680"/>
            <a:chExt cx="4191120" cy="809280"/>
          </a:xfrm>
        </p:grpSpPr>
        <p:sp>
          <p:nvSpPr>
            <p:cNvPr id="630" name=""/>
            <p:cNvSpPr/>
            <p:nvPr/>
          </p:nvSpPr>
          <p:spPr>
            <a:xfrm>
              <a:off x="6172200" y="24382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4724280" y="22096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334120" y="2743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809520" y="4724280"/>
            <a:ext cx="5105880" cy="1067400"/>
            <a:chOff x="3809520" y="4724280"/>
            <a:chExt cx="5105880" cy="1067400"/>
          </a:xfrm>
        </p:grpSpPr>
        <p:sp>
          <p:nvSpPr>
            <p:cNvPr id="634" name=""/>
            <p:cNvSpPr/>
            <p:nvPr/>
          </p:nvSpPr>
          <p:spPr>
            <a:xfrm flipH="1">
              <a:off x="3809520" y="5257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6400" y="472428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ip-Test ques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client to send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8-2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result = postData( sel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reateAnswerScreen( resul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ipTest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creen to display Tip Test answer and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Answer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Form to display test answ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showing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tipName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Nam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showing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tipDescription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ip Descrip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StringItems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ppend( tipName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ppend( tipDescription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648320" y="3962520"/>
            <a:ext cx="4114800" cy="824040"/>
            <a:chOff x="4648320" y="3962520"/>
            <a:chExt cx="4114800" cy="824040"/>
          </a:xfrm>
        </p:grpSpPr>
        <p:sp>
          <p:nvSpPr>
            <p:cNvPr id="639" name=""/>
            <p:cNvSpPr/>
            <p:nvPr/>
          </p:nvSpPr>
          <p:spPr>
            <a:xfrm>
              <a:off x="6324480" y="396252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answer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648320" y="44197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486400" y="5105520"/>
            <a:ext cx="3276720" cy="609480"/>
            <a:chOff x="5486400" y="5105520"/>
            <a:chExt cx="3276720" cy="609480"/>
          </a:xfrm>
        </p:grpSpPr>
        <p:sp>
          <p:nvSpPr>
            <p:cNvPr id="642" name=""/>
            <p:cNvSpPr/>
            <p:nvPr/>
          </p:nvSpPr>
          <p:spPr>
            <a:xfrm>
              <a:off x="6781680" y="51055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5486400" y="51811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71840" y="5410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2-28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ddCommand( nex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nex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ta = getServerData( servletBaseURL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ipTestServle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nex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createTipTestScre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letBaseURL +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nswer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s user's test selection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os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, then pos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190760" y="380880"/>
            <a:ext cx="4724640" cy="1310760"/>
            <a:chOff x="4190760" y="380880"/>
            <a:chExt cx="4724640" cy="1310760"/>
          </a:xfrm>
        </p:grpSpPr>
        <p:sp>
          <p:nvSpPr>
            <p:cNvPr id="648" name=""/>
            <p:cNvSpPr/>
            <p:nvPr/>
          </p:nvSpPr>
          <p:spPr>
            <a:xfrm flipH="1">
              <a:off x="4190760" y="1066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91320" y="380880"/>
              <a:ext cx="31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ip-Test answ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client to receive another Tip-Test question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647960" y="5181480"/>
            <a:ext cx="3962520" cy="580680"/>
            <a:chOff x="4647960" y="5181480"/>
            <a:chExt cx="3962520" cy="580680"/>
          </a:xfrm>
        </p:grpSpPr>
        <p:sp>
          <p:nvSpPr>
            <p:cNvPr id="651" name=""/>
            <p:cNvSpPr/>
            <p:nvPr/>
          </p:nvSpPr>
          <p:spPr>
            <a:xfrm flipH="1">
              <a:off x="4647960" y="54864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15000" y="51814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sends user’s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8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ClientRespons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x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file to send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Reader bufferedR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alPath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2me/index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nputString = bufferedReader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each line in file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input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ing = bufferedReader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ne sending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Client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directs client request to anothe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irect( String contentType, String redirectPa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52520" y="1143000"/>
            <a:ext cx="3810600" cy="580680"/>
            <a:chOff x="4952520" y="1143000"/>
            <a:chExt cx="3810600" cy="580680"/>
          </a:xfrm>
        </p:grpSpPr>
        <p:sp>
          <p:nvSpPr>
            <p:cNvPr id="125" name=""/>
            <p:cNvSpPr/>
            <p:nvPr/>
          </p:nvSpPr>
          <p:spPr>
            <a:xfrm>
              <a:off x="6553080" y="11430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2ME client receives ASCII text from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25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2590560"/>
            <a:ext cx="4191120" cy="1219320"/>
            <a:chOff x="4724280" y="2590560"/>
            <a:chExt cx="4191120" cy="1219320"/>
          </a:xfrm>
        </p:grpSpPr>
        <p:sp>
          <p:nvSpPr>
            <p:cNvPr id="128" name=""/>
            <p:cNvSpPr/>
            <p:nvPr/>
          </p:nvSpPr>
          <p:spPr>
            <a:xfrm>
              <a:off x="6095880" y="27432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welcome screen from file into byte stream, then send byte stream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724280" y="259056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312408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562360" y="312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3-3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0-3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5-3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server sending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HttpConnection ) Connector.op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rvletBaseURL + tipTestServlet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nnect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AD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UserAgentHeader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ssionID, if one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ssi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form servlet of pos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setRequestMethod( HttpConne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output stream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OutputStream ou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openDataOutputStre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writeUTF( Integer.toString( sele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ult from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 = getData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334120" y="609480"/>
            <a:ext cx="3200400" cy="580680"/>
            <a:chOff x="5334120" y="609480"/>
            <a:chExt cx="3200400" cy="580680"/>
          </a:xfrm>
        </p:grpSpPr>
        <p:sp>
          <p:nvSpPr>
            <p:cNvPr id="656" name=""/>
            <p:cNvSpPr/>
            <p:nvPr/>
          </p:nvSpPr>
          <p:spPr>
            <a:xfrm flipH="1">
              <a:off x="5334120" y="91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53080" y="609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52520" y="1752480"/>
            <a:ext cx="3657960" cy="824040"/>
            <a:chOff x="4952520" y="1752480"/>
            <a:chExt cx="3657960" cy="824040"/>
          </a:xfrm>
        </p:grpSpPr>
        <p:sp>
          <p:nvSpPr>
            <p:cNvPr id="659" name=""/>
            <p:cNvSpPr/>
            <p:nvPr/>
          </p:nvSpPr>
          <p:spPr>
            <a:xfrm flipH="1">
              <a:off x="4952520" y="2209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2200" y="1752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session identification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“identify” the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333760" y="3047760"/>
            <a:ext cx="3353040" cy="1067040"/>
            <a:chOff x="5333760" y="3047760"/>
            <a:chExt cx="3353040" cy="1067040"/>
          </a:xfrm>
        </p:grpSpPr>
        <p:sp>
          <p:nvSpPr>
            <p:cNvPr id="662" name=""/>
            <p:cNvSpPr/>
            <p:nvPr/>
          </p:nvSpPr>
          <p:spPr>
            <a:xfrm flipH="1">
              <a:off x="5333760" y="3581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0800" y="32004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then send the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638320" y="358128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5562720" y="30477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f MIDlet cannot open HTTP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tokenizer parses String into sub-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parseData( String dat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mi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Lin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delimiter characters in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data.length()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crease number of delimiters by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.charAt( i ) == delimi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Lines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newLines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NewLineInde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NewLine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Strings into array based on demil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ewLine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index where delimiter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NewLineIndex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.indexOf( delimiter, oldNewLine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715000" y="838080"/>
            <a:ext cx="2666880" cy="1219320"/>
            <a:chOff x="5715000" y="838080"/>
            <a:chExt cx="2666880" cy="1219320"/>
          </a:xfrm>
        </p:grpSpPr>
        <p:sp>
          <p:nvSpPr>
            <p:cNvPr id="669" name=""/>
            <p:cNvSpPr/>
            <p:nvPr/>
          </p:nvSpPr>
          <p:spPr>
            <a:xfrm flipH="1">
              <a:off x="6095520" y="1676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15000" y="838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par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nt by a servlet into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6-3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1-4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tract String within delimiter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[ i ] = data.substring( oldNewLineIndex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NewLineIndex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ldNewLineIndex = currentNewLineInde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rse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server and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rverData( String server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, then ge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server sending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( HttpConnection ) Connector.open( server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UserAgentHeader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ssionID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ssi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essionID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ssionIDHeader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getHeader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334120" y="2209680"/>
            <a:ext cx="3352680" cy="824040"/>
            <a:chOff x="5334120" y="2209680"/>
            <a:chExt cx="3352680" cy="824040"/>
          </a:xfrm>
        </p:grpSpPr>
        <p:sp>
          <p:nvSpPr>
            <p:cNvPr id="674" name=""/>
            <p:cNvSpPr/>
            <p:nvPr/>
          </p:nvSpPr>
          <p:spPr>
            <a:xfrm flipH="1">
              <a:off x="53341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72200" y="2209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data (in the form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from a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019560" y="3581280"/>
            <a:ext cx="2286360" cy="580680"/>
            <a:chOff x="6019560" y="3581280"/>
            <a:chExt cx="2286360" cy="580680"/>
          </a:xfrm>
        </p:grpSpPr>
        <p:sp>
          <p:nvSpPr>
            <p:cNvPr id="677" name=""/>
            <p:cNvSpPr/>
            <p:nvPr/>
          </p:nvSpPr>
          <p:spPr>
            <a:xfrm flipH="1">
              <a:off x="601956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05720" y="35812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876920" y="4724280"/>
            <a:ext cx="3886200" cy="580680"/>
            <a:chOff x="4876920" y="4724280"/>
            <a:chExt cx="3886200" cy="580680"/>
          </a:xfrm>
        </p:grpSpPr>
        <p:sp>
          <p:nvSpPr>
            <p:cNvPr id="680" name=""/>
            <p:cNvSpPr/>
            <p:nvPr/>
          </p:nvSpPr>
          <p:spPr>
            <a:xfrm flipH="1" flipV="1">
              <a:off x="4876920" y="4800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132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session identification, so servlet can “identify” the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1-4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sessionID from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HeaderFiel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sessionIDHeaderField.index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IDHeaderField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 = getData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HTT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erver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wnloads an image from a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getServerImage( String im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wnloa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connection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( HttpConnection ) Connector.open( im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181480" y="1523880"/>
            <a:ext cx="2895840" cy="580680"/>
            <a:chOff x="5181480" y="1523880"/>
            <a:chExt cx="2895840" cy="580680"/>
          </a:xfrm>
        </p:grpSpPr>
        <p:sp>
          <p:nvSpPr>
            <p:cNvPr id="685" name=""/>
            <p:cNvSpPr/>
            <p:nvPr/>
          </p:nvSpPr>
          <p:spPr>
            <a:xfrm flipH="1">
              <a:off x="518148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95880" y="15238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257800" y="4800600"/>
            <a:ext cx="3352680" cy="580680"/>
            <a:chOff x="5257800" y="4800600"/>
            <a:chExt cx="3352680" cy="580680"/>
          </a:xfrm>
        </p:grpSpPr>
        <p:sp>
          <p:nvSpPr>
            <p:cNvPr id="688" name=""/>
            <p:cNvSpPr/>
            <p:nvPr/>
          </p:nvSpPr>
          <p:spPr>
            <a:xfrm flipH="1">
              <a:off x="525780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5880" y="48006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a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715000" y="5791320"/>
            <a:ext cx="2971800" cy="457200"/>
            <a:chOff x="5715000" y="5791320"/>
            <a:chExt cx="2971800" cy="457200"/>
          </a:xfrm>
        </p:grpSpPr>
        <p:sp>
          <p:nvSpPr>
            <p:cNvPr id="691" name=""/>
            <p:cNvSpPr/>
            <p:nvPr/>
          </p:nvSpPr>
          <p:spPr>
            <a:xfrm flipH="1">
              <a:off x="5715000" y="59436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48520" y="57913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4-4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66-46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3-4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Siz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httpConnection.getLeng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Byte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connection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image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input = httpConnection.openInputStre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.read( imageBy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mage from imag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.createImage( imageByt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nnection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InputStream cannot input 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rver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-Agent header to identify client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AgentH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Connection httpConn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profile/configuration properties for User-Ag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Hea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fil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edition.profi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nfigur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edition.configur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85840" y="609120"/>
            <a:ext cx="4800960" cy="1053000"/>
            <a:chOff x="3885840" y="609120"/>
            <a:chExt cx="4800960" cy="1053000"/>
          </a:xfrm>
        </p:grpSpPr>
        <p:sp>
          <p:nvSpPr>
            <p:cNvPr id="696" name=""/>
            <p:cNvSpPr/>
            <p:nvPr/>
          </p:nvSpPr>
          <p:spPr>
            <a:xfrm flipH="1">
              <a:off x="3885840" y="1295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1680" y="8380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eam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867280" y="6091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400440" y="2133720"/>
            <a:ext cx="2438640" cy="580680"/>
            <a:chOff x="6400440" y="2133720"/>
            <a:chExt cx="2438640" cy="580680"/>
          </a:xfrm>
        </p:grpSpPr>
        <p:sp>
          <p:nvSpPr>
            <p:cNvPr id="700" name=""/>
            <p:cNvSpPr/>
            <p:nvPr/>
          </p:nvSpPr>
          <p:spPr>
            <a:xfrm>
              <a:off x="7010280" y="2133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400440" y="21337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38480" y="3962520"/>
            <a:ext cx="4800600" cy="824040"/>
            <a:chOff x="4038480" y="3962520"/>
            <a:chExt cx="4800600" cy="824040"/>
          </a:xfrm>
        </p:grpSpPr>
        <p:sp>
          <p:nvSpPr>
            <p:cNvPr id="703" name=""/>
            <p:cNvSpPr/>
            <p:nvPr/>
          </p:nvSpPr>
          <p:spPr>
            <a:xfrm flipH="1">
              <a:off x="40384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24480" y="3962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 field for a J2ME-client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172200" y="5334120"/>
            <a:ext cx="2819520" cy="824040"/>
            <a:chOff x="6172200" y="5334120"/>
            <a:chExt cx="2819520" cy="824040"/>
          </a:xfrm>
        </p:grpSpPr>
        <p:sp>
          <p:nvSpPr>
            <p:cNvPr id="706" name=""/>
            <p:cNvSpPr/>
            <p:nvPr/>
          </p:nvSpPr>
          <p:spPr>
            <a:xfrm flipH="1">
              <a:off x="6172200" y="579132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629400" y="53341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DP does not spec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, so we must create our 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97-49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4-5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userAgentHea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reques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UserAge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InputStream to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ata( HttpConnection httpConn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t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input stream from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InputStream data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Input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httpConnection.openInputStrea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Character = dataInputStream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ll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Characte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 = data +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put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Character = dataInputStream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019560" y="2209680"/>
            <a:ext cx="2819520" cy="1067400"/>
            <a:chOff x="6019560" y="2209680"/>
            <a:chExt cx="2819520" cy="1067400"/>
          </a:xfrm>
        </p:grpSpPr>
        <p:sp>
          <p:nvSpPr>
            <p:cNvPr id="711" name=""/>
            <p:cNvSpPr/>
            <p:nvPr/>
          </p:nvSpPr>
          <p:spPr>
            <a:xfrm flipH="1">
              <a:off x="601956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53080" y="22096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data (in the form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from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876920" y="3886200"/>
            <a:ext cx="3962160" cy="580680"/>
            <a:chOff x="4876920" y="3886200"/>
            <a:chExt cx="3962160" cy="580680"/>
          </a:xfrm>
        </p:grpSpPr>
        <p:sp>
          <p:nvSpPr>
            <p:cNvPr id="714" name=""/>
            <p:cNvSpPr/>
            <p:nvPr/>
          </p:nvSpPr>
          <p:spPr>
            <a:xfrm flipH="1">
              <a:off x="4876920" y="4191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9588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181120" y="5181480"/>
            <a:ext cx="3582000" cy="580680"/>
            <a:chOff x="5181120" y="5181480"/>
            <a:chExt cx="3582000" cy="580680"/>
          </a:xfrm>
        </p:grpSpPr>
        <p:sp>
          <p:nvSpPr>
            <p:cNvPr id="717" name=""/>
            <p:cNvSpPr/>
            <p:nvPr/>
          </p:nvSpPr>
          <p:spPr>
            <a:xfrm flipH="1">
              <a:off x="5181120" y="5486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3600" y="51814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Input-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InputStream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0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2373120" y="556272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user-interface API class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5" name="image1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539720" cy="38178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1156680" y="5264280"/>
            <a:ext cx="68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8" name="image3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080720" y="5416560"/>
            <a:ext cx="71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come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1-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new content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contentTy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text().getRequestDispatch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directP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ward user to redirect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76920" y="457200"/>
            <a:ext cx="3962160" cy="1310760"/>
            <a:chOff x="4876920" y="457200"/>
            <a:chExt cx="3962160" cy="1310760"/>
          </a:xfrm>
        </p:grpSpPr>
        <p:sp>
          <p:nvSpPr>
            <p:cNvPr id="135" name=""/>
            <p:cNvSpPr/>
            <p:nvPr/>
          </p:nvSpPr>
          <p:spPr>
            <a:xfrm>
              <a:off x="6095880" y="45720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the other client types,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redirect request to static page (this approach does not work with J2ME cli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257800" y="9140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876920" y="114300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1" name="image4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005480" y="5492880"/>
            <a:ext cx="74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orma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4" name="image5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1540080" cy="3818160"/>
          </a:xfrm>
          <a:prstGeom prst="rect">
            <a:avLst/>
          </a:prstGeom>
          <a:ln w="0">
            <a:noFill/>
          </a:ln>
        </p:spPr>
      </p:pic>
      <p:pic>
        <p:nvPicPr>
          <p:cNvPr id="735" name="image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1539720" cy="381816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700560" y="5645160"/>
            <a:ext cx="78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-Test ques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8" name="image7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1539720" cy="3818160"/>
          </a:xfrm>
          <a:prstGeom prst="rect">
            <a:avLst/>
          </a:prstGeom>
          <a:ln w="0">
            <a:noFill/>
          </a:ln>
        </p:spPr>
      </p:pic>
      <p:pic>
        <p:nvPicPr>
          <p:cNvPr id="739" name="image8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1539720" cy="38181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777600" y="5645160"/>
            <a:ext cx="77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-Test answer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 Installation Instru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server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deployment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ps.sq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 Wireless Toolkit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lients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Internet Explor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wave UP sim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xo Internet Micro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descriptor to ru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rvlet defini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ervlet that returns a "Welcome" screen throug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 HTTP ge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wireless.Welcome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ervlet that accesses a database to generate test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 programming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_UR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valu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dbc:cloudscape:rmi:tip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DBC_DRIV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cloudscape.core.RmiJdbc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descriptor to ru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wireless.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rvlet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mapping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ML Sourc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xten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xten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mapping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ireless Bit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xten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bm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xten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/vnd.wap.wbm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 Installation Instru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85800" y="1752480"/>
          <a:ext cx="7764480" cy="23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644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8:37Z</dcterms:modified>
  <cp:revision>129</cp:revision>
  <dc:subject/>
  <dc:title>Chapter 12: Java-Based Wireless Applications Development and J2ME</dc:title>
</cp:coreProperties>
</file>