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22.wmf" ContentType="image/x-wmf"/>
  <Override PartName="/ppt/media/image6.png" ContentType="image/png"/>
  <Override PartName="/ppt/media/image21.wmf" ContentType="image/x-wmf"/>
  <Override PartName="/ppt/media/image5.png" ContentType="image/png"/>
  <Override PartName="/ppt/media/image10.png" ContentType="image/png"/>
  <Override PartName="/ppt/media/image20.wmf" ContentType="image/x-wmf"/>
  <Override PartName="/ppt/media/image4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4.png" ContentType="image/png"/>
  <Override PartName="/ppt/media/image2.png" ContentType="image/png"/>
  <Override PartName="/ppt/media/image3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6BCD4-F63E-45F0-AD51-B93F4D963C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0D817-780E-4E3C-86C1-E7C9C2DCB4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B78B4-FA10-4C38-8478-820E59E95C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0036B-89BF-4505-B84B-D727B23A61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3C5BE-919A-4C4E-9752-5D1621B0454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9D968-F658-418E-8A64-2F47567A236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B1F32-3109-4D87-8535-D04AE0B6C49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08891-FD65-4DC6-83CC-AFEE3E795F8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F131F-CC32-4D09-A837-ABBAB11069D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87AC2-D7B6-4DD2-9059-6383548959C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708BD-BBC2-4793-9FCC-C5B606F5BD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BDFFC-5BFD-421C-8688-E6589BFA47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8C95A-B519-4D53-A0D3-0BAFFC8F3B0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28982-4334-47BE-99F8-9CA354CEF9B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BB97F-A5B4-43EB-988C-5C62B86BC61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DB30E-B649-43BD-8EEE-3E95C051AFA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C659C-64D2-4A66-B5AD-1F5C886C36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FC4B0-8CB2-407E-87D0-40AB4D0341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4CA96-0B42-4455-BCAD-C96218AAD4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80018-7D98-4B5A-8EEC-2C8FA17F7C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B04B2-7EE1-48DD-A37A-317A37B64A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DD597-0A6F-4947-9569-DCF0F60F08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D36BB-1384-46ED-9B73-BF38732390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96FF2-774F-4877-98DA-654E6CA619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1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51D40-AFC6-42D9-8675-4C6F18D9D7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1 Prentice Hall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084CE-EFC6-432C-B884-9A94A8F62C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apter 22 - Jini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1095840" y="685800"/>
            <a:ext cx="71287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22.1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Introduc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22.2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Installa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22.3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Set Up Run-Time Environment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22.4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Start Required Service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22.5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Running the Jini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LookupBrowser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22.6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Discovery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22.6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Unicast Discovery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22.6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Multicast Discovery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22.7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Jini Service and Client Implementation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22.7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Service Interfaces and Supporting Classe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22.7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Service Proxy and Service Implementation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22.7.3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Registering the Service with Lookup Service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22.7.4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Jini Service Client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22.8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Introduction to High-Level Helper Utilitie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22.8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Discovery Utilitie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22.8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Entry Utilitie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22.8.3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Lease Utilitie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22.8.4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JoinManager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 Utility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22.8.5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Service Discovery Utilitie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22.9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Internet and World Wide Web 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705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2.5 Running the Jini LookupBrows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Jini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ookupBrow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ookupBrows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ut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219320" y="762120"/>
            <a:ext cx="5486400" cy="2133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219320" y="3429000"/>
            <a:ext cx="556236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2.6 Lookup Service Discover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scover available lookup servi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icast Discove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lticast Discove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2.6.2 Unicast Discover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cast Disco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scover lookup services on a specific ho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 clas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ookupLoc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6324480" cy="4952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nicastDiscovery.java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nicastDiscovery is an application that demonstrates Jini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ookup service discovery for a known host (unicast).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ni.discovery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net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ini core package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discovery.LookupLocator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lookup.ServiceRegistrar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nicastDiscovery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Frame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Area outputArea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Area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Button discoverButton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hostname for discovering lookup service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hostname;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</a:t>
            </a:r>
            <a:r>
              <a:rPr b="1" lang="en-US" sz="4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endParaRPr b="1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7086240" y="914400"/>
            <a:ext cx="1981080" cy="502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UnicastDiscove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mport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eclara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6553080" cy="4876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nicastDiscovery constructor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nicastDiscovery( String host 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nicastDiscovery Outpu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hostname = host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target hostname for discovery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Button to discover lookup service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iscoverButt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Butt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iscover Lookup Service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iscoverButton.addActionListener(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Listener(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discover lookup services on given host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discoverLookupServices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 contentPane = getContentPane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entPane.add( outputArea,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EN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entPane.add( discoverButton,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OR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UnicastDiscovery constructor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</a:t>
            </a:r>
            <a:r>
              <a:rPr b="1" lang="en-US" sz="4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7238520" y="990720"/>
            <a:ext cx="167652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1 GU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647960" y="3733920"/>
            <a:ext cx="3429360" cy="824040"/>
            <a:chOff x="4647960" y="3733920"/>
            <a:chExt cx="3429360" cy="824040"/>
          </a:xfrm>
        </p:grpSpPr>
        <p:sp>
          <p:nvSpPr>
            <p:cNvPr id="123" name=""/>
            <p:cNvSpPr/>
            <p:nvPr/>
          </p:nvSpPr>
          <p:spPr>
            <a:xfrm>
              <a:off x="5791320" y="3733920"/>
              <a:ext cx="22860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cover lookup services when user clicks the butt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flipV="1">
              <a:off x="4647960" y="3809520"/>
              <a:ext cx="11430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" dur="1" fill="hold"/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6781680" cy="6705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cover lookup services on given host and get detail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bout each lookup service from ServiceRegistrar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scoverLookupServices(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onstruct Jini URL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lookupURL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ini://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hostname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onnect to the lookup service at lookupURL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ookupLocator locato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okupLocator( lookupURL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putArea.appe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nnecting to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lookupURL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perform unicast discovery to get ServiceRegistrar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rviceRegistrar registrar =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locator.getRegistrar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print lookup service information and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putArea.appe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Got ServiceRegistrar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Lookup Service Host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locator.getHost(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Lookup Service Port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locator.getPort(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groups that lookup service support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[] groups = registrar.getGroups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putArea.appe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ookup service support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+ groups.length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group(s)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group names; if empty, write public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0; i &lt; groups.length ; i++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groups[ i ].equals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outputArea.appe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public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outputArea.appe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groups[i]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7086240" y="914040"/>
            <a:ext cx="20574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 Discover lookup servi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1 specify Jini UR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2 connect to lookup ser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3 perform unicast discove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4 append outp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5486400" y="838080"/>
            <a:ext cx="1600200" cy="381240"/>
            <a:chOff x="5486400" y="838080"/>
            <a:chExt cx="1600200" cy="381240"/>
          </a:xfrm>
        </p:grpSpPr>
        <p:sp>
          <p:nvSpPr>
            <p:cNvPr id="128" name=""/>
            <p:cNvSpPr/>
            <p:nvPr/>
          </p:nvSpPr>
          <p:spPr>
            <a:xfrm>
              <a:off x="6019920" y="838080"/>
              <a:ext cx="10666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Jini UR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5486400" y="1066680"/>
              <a:ext cx="5335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457200" y="1980720"/>
            <a:ext cx="990720" cy="1449000"/>
            <a:chOff x="457200" y="1980720"/>
            <a:chExt cx="990720" cy="1449000"/>
          </a:xfrm>
        </p:grpSpPr>
        <p:sp>
          <p:nvSpPr>
            <p:cNvPr id="131" name=""/>
            <p:cNvSpPr/>
            <p:nvPr/>
          </p:nvSpPr>
          <p:spPr>
            <a:xfrm>
              <a:off x="457200" y="2362320"/>
              <a:ext cx="9144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nect to lookup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914400" y="1980720"/>
              <a:ext cx="5335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038480" y="2743200"/>
            <a:ext cx="2971800" cy="337320"/>
            <a:chOff x="4038480" y="2743200"/>
            <a:chExt cx="2971800" cy="337320"/>
          </a:xfrm>
        </p:grpSpPr>
        <p:sp>
          <p:nvSpPr>
            <p:cNvPr id="134" name=""/>
            <p:cNvSpPr/>
            <p:nvPr/>
          </p:nvSpPr>
          <p:spPr>
            <a:xfrm>
              <a:off x="4648320" y="2743200"/>
              <a:ext cx="236196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erform unicast discove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 flipV="1">
              <a:off x="4038480" y="2819160"/>
              <a:ext cx="60984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5790960" y="3886200"/>
            <a:ext cx="3200760" cy="732960"/>
            <a:chOff x="5790960" y="3886200"/>
            <a:chExt cx="3200760" cy="732960"/>
          </a:xfrm>
        </p:grpSpPr>
        <p:sp>
          <p:nvSpPr>
            <p:cNvPr id="137" name=""/>
            <p:cNvSpPr/>
            <p:nvPr/>
          </p:nvSpPr>
          <p:spPr>
            <a:xfrm>
              <a:off x="6400800" y="4038480"/>
              <a:ext cx="25909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 host name and port number of the lookup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5790960" y="3886200"/>
              <a:ext cx="6094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5333760" y="4267080"/>
            <a:ext cx="3276720" cy="580680"/>
            <a:chOff x="5333760" y="4267080"/>
            <a:chExt cx="3276720" cy="580680"/>
          </a:xfrm>
        </p:grpSpPr>
        <p:sp>
          <p:nvSpPr>
            <p:cNvPr id="140" name=""/>
            <p:cNvSpPr/>
            <p:nvPr/>
          </p:nvSpPr>
          <p:spPr>
            <a:xfrm>
              <a:off x="6858000" y="4267080"/>
              <a:ext cx="1752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 group name of the lookup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 flipV="1">
              <a:off x="5333760" y="4343040"/>
              <a:ext cx="15238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8" dur="1" fill="hold"/>
                                  <p:tgtEl>
                                    <p:spTgt spid="1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670572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if URL is invalid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MalformedURLException exception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putArea.append( exception.getMessage()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communicating with ServiceRegistrar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moteException exception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putArea.append( exception.getMessage()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ClassNotFoundException obtaining ServiceRegistrar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lassNotFoundException exception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putArea.append( exception.getMessage()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IOException obtaining ServiceRegistrar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OException exception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putArea.append( exception.getMessage()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discoverLookupService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aunch UnicastDiscovery application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 args[] 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SecurityManager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ystem.getSecurityManager() =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setSecurityManager(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new RMISecurityManager()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</a:t>
            </a:r>
            <a:r>
              <a:rPr b="1" lang="en-US" sz="4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7086240" y="990720"/>
            <a:ext cx="2057400" cy="365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5 handle excep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5.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5.1 set security manag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4648320" y="5638680"/>
            <a:ext cx="3200400" cy="533520"/>
            <a:chOff x="4648320" y="5638680"/>
            <a:chExt cx="3200400" cy="533520"/>
          </a:xfrm>
        </p:grpSpPr>
        <p:sp>
          <p:nvSpPr>
            <p:cNvPr id="145" name=""/>
            <p:cNvSpPr/>
            <p:nvPr/>
          </p:nvSpPr>
          <p:spPr>
            <a:xfrm>
              <a:off x="5943600" y="5638680"/>
              <a:ext cx="19051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security mana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4648320" y="5867280"/>
              <a:ext cx="1295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7" dur="1" fill="hold"/>
                                  <p:tgtEl>
                                    <p:spTgt spid="1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6324480" cy="3200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heck command-line arguments for hostnam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args.length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rr.println(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sage: java UnicastDiscovery host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UnicastDiscovery for given hostnam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UnicastDiscovery discovery =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nicastDiscovery( arg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iscovery.setDefaultCloseOperat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XIT_ON_CLO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iscovery.pack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iscovery.setVisi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7010280" y="2743200"/>
            <a:ext cx="1905120" cy="190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licy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514600" y="4419720"/>
            <a:ext cx="2590920" cy="23619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066680" y="3352680"/>
            <a:ext cx="5181840" cy="10065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   // policy.all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    // grant AllPermission to all code (DANGEROUS!)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gra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{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4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permiss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java.security.AllPermission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5    }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6095880" y="3657600"/>
            <a:ext cx="2895840" cy="580680"/>
            <a:chOff x="6095880" y="3657600"/>
            <a:chExt cx="2895840" cy="580680"/>
          </a:xfrm>
        </p:grpSpPr>
        <p:sp>
          <p:nvSpPr>
            <p:cNvPr id="152" name=""/>
            <p:cNvSpPr/>
            <p:nvPr/>
          </p:nvSpPr>
          <p:spPr>
            <a:xfrm>
              <a:off x="7086600" y="3657600"/>
              <a:ext cx="19051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ran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llPermis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6095880" y="3809880"/>
              <a:ext cx="9907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5715000" y="1219320"/>
            <a:ext cx="3200400" cy="838080"/>
            <a:chOff x="5715000" y="1219320"/>
            <a:chExt cx="3200400" cy="838080"/>
          </a:xfrm>
        </p:grpSpPr>
        <p:sp>
          <p:nvSpPr>
            <p:cNvPr id="155" name=""/>
            <p:cNvSpPr/>
            <p:nvPr/>
          </p:nvSpPr>
          <p:spPr>
            <a:xfrm>
              <a:off x="6705720" y="1219320"/>
              <a:ext cx="22096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it when window clos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5715000" y="1371600"/>
              <a:ext cx="9907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1" dur="1" fill="hold"/>
                                  <p:tgtEl>
                                    <p:spTgt spid="1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2.1 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work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scover serv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now the interface of the serv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ini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scover services on the network dynamical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ynamically download classes required to use those servi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ynamic class downloading is transparent to cli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2.6.2 Multicast Discover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cast Disco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scover lookup services when host is not know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lticast discovery reque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lticast announc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ookupDiscove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 clas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ookupDisco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pl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iscoveryListen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838080"/>
            <a:ext cx="6400800" cy="5105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ulticastDiscovery.java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ulticastDiscovery is an application that demonstrates Jini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ookup service discovery using multicast.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ni.discovery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ini core package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lookup.ServiceRegistrar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ini extension package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discovery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ulticastDiscovery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Frame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scoveryListener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number of lookup services discovered through multicast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icesFound = 0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Area outputArea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Area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</a:t>
            </a:r>
            <a:r>
              <a:rPr b="1" lang="en-US" sz="4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7086240" y="914400"/>
            <a:ext cx="2057400" cy="403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ulticastDiscove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mport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eclara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4190760" y="4419720"/>
            <a:ext cx="4800960" cy="580680"/>
            <a:chOff x="4190760" y="4419720"/>
            <a:chExt cx="4800960" cy="580680"/>
          </a:xfrm>
        </p:grpSpPr>
        <p:sp>
          <p:nvSpPr>
            <p:cNvPr id="162" name=""/>
            <p:cNvSpPr/>
            <p:nvPr/>
          </p:nvSpPr>
          <p:spPr>
            <a:xfrm>
              <a:off x="5638680" y="4419720"/>
              <a:ext cx="33530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mplement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iscoveryListen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listen for discovery notific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4190760" y="4724280"/>
              <a:ext cx="144756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0" dur="1" fill="hold"/>
                                  <p:tgtEl>
                                    <p:spTgt spid="1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6629400" cy="6172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ulticastDiscovery constructor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ulticastDiscovery (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ulticastDiscover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iscover lookup services in public group using multicast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ookupDiscovery lookupDiscovery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okupDiscovery(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[]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putArea.appe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nding lookup services for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ublic group ...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listen for DiscoveryEvent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ookupDiscovery.addDiscoveryListener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discovering lookup service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OException exception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etContentPane().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ScrollPane( outputArea ),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EN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ceive notification of found lookup service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scovered ( DiscoveryEvent event 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the ServiceRegistrars for found lookup service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rviceRegistrar[] registrars = event.getRegistrars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de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</a:t>
            </a:r>
            <a:r>
              <a:rPr b="1" lang="en-US" sz="4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endParaRPr b="1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7086240" y="990720"/>
            <a:ext cx="2057400" cy="365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1 multicast discover lookup ser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2 add liste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 Receive notif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4038120" y="1981080"/>
            <a:ext cx="2819880" cy="733320"/>
            <a:chOff x="4038120" y="1981080"/>
            <a:chExt cx="2819880" cy="733320"/>
          </a:xfrm>
        </p:grpSpPr>
        <p:sp>
          <p:nvSpPr>
            <p:cNvPr id="167" name=""/>
            <p:cNvSpPr/>
            <p:nvPr/>
          </p:nvSpPr>
          <p:spPr>
            <a:xfrm>
              <a:off x="5257800" y="2133720"/>
              <a:ext cx="1600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cover public lookup servi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flipV="1">
              <a:off x="4038120" y="1981080"/>
              <a:ext cx="12193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5866920" y="3123720"/>
            <a:ext cx="1981800" cy="1067760"/>
            <a:chOff x="5866920" y="3123720"/>
            <a:chExt cx="1981800" cy="1067760"/>
          </a:xfrm>
        </p:grpSpPr>
        <p:sp>
          <p:nvSpPr>
            <p:cNvPr id="170" name=""/>
            <p:cNvSpPr/>
            <p:nvPr/>
          </p:nvSpPr>
          <p:spPr>
            <a:xfrm>
              <a:off x="6629400" y="3124080"/>
              <a:ext cx="12193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gister to receive discovery notific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 flipV="1">
              <a:off x="5866920" y="3123720"/>
              <a:ext cx="762120" cy="13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5409720" y="4800600"/>
            <a:ext cx="3429360" cy="685800"/>
            <a:chOff x="5409720" y="4800600"/>
            <a:chExt cx="3429360" cy="685800"/>
          </a:xfrm>
        </p:grpSpPr>
        <p:sp>
          <p:nvSpPr>
            <p:cNvPr id="173" name=""/>
            <p:cNvSpPr/>
            <p:nvPr/>
          </p:nvSpPr>
          <p:spPr>
            <a:xfrm>
              <a:off x="6172200" y="48006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ceive notification when a valid lookup service is fou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5409720" y="5105520"/>
              <a:ext cx="7621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9" dur="1" fill="hold"/>
                                  <p:tgtEl>
                                    <p:spTgt spid="1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6476760" cy="655344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the information for each lookup service found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registrars.length ; i++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rviceRegistrar registrar = registrars[ i ]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gistrar !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append information about discovered service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to outputArea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order = servicesFound + i + 1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get the hostname and port number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Runnable append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xtAppender(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ookup Service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order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Host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registrar.getLocator().getHost(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Port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registrar.getLocator().getPort(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Group support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append to outputArea on event-dispatch thread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SwingUtilities.invokeLater( appender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get the group(s) the lookup service served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String[] groups = registrar.getGroups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StringBuffer name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Buffer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get the group names, if empty write public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 &lt; groups.length ; j++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groups[ j ].equals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names.appe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ublic\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names.append( groups[ j ]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7086240" y="914400"/>
            <a:ext cx="2057400" cy="358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1 get lookup service inform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2 append outp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914400" y="2971800"/>
            <a:ext cx="1676520" cy="824040"/>
            <a:chOff x="914400" y="2971800"/>
            <a:chExt cx="1676520" cy="824040"/>
          </a:xfrm>
        </p:grpSpPr>
        <p:sp>
          <p:nvSpPr>
            <p:cNvPr id="178" name=""/>
            <p:cNvSpPr/>
            <p:nvPr/>
          </p:nvSpPr>
          <p:spPr>
            <a:xfrm>
              <a:off x="914400" y="2971800"/>
              <a:ext cx="12193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 lookup service port numb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133720" y="3429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6477120" y="2362320"/>
            <a:ext cx="2133360" cy="685800"/>
            <a:chOff x="6477120" y="2362320"/>
            <a:chExt cx="2133360" cy="685800"/>
          </a:xfrm>
        </p:grpSpPr>
        <p:sp>
          <p:nvSpPr>
            <p:cNvPr id="181" name=""/>
            <p:cNvSpPr/>
            <p:nvPr/>
          </p:nvSpPr>
          <p:spPr>
            <a:xfrm>
              <a:off x="6934320" y="2362320"/>
              <a:ext cx="16761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 lookup service hostn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6477120" y="2743200"/>
              <a:ext cx="457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5638320" y="5486400"/>
            <a:ext cx="2972160" cy="685800"/>
            <a:chOff x="5638320" y="5486400"/>
            <a:chExt cx="2972160" cy="685800"/>
          </a:xfrm>
        </p:grpSpPr>
        <p:sp>
          <p:nvSpPr>
            <p:cNvPr id="184" name=""/>
            <p:cNvSpPr/>
            <p:nvPr/>
          </p:nvSpPr>
          <p:spPr>
            <a:xfrm>
              <a:off x="6781680" y="5486400"/>
              <a:ext cx="1828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 lookup service group n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5638320" y="5791320"/>
              <a:ext cx="11430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8" dur="1" fill="hold"/>
                                  <p:tgtEl>
                                    <p:spTgt spid="1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6782040" cy="5562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append group names to outputArea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SwingUtilities.invokeLater(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xtAppender( names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handle exception communicating with ServiceRegistrar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moteException exception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exception.printStackTrace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update number of services found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rvicesFound = order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discovered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ceive notification of discarded lookup services that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re no longer valid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scarded( DiscoveryEvent event )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rviceRegistrar[] discardedRegistrars =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vent.getRegistrars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wingUtilities.invokeLater(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xtAppend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umber of discarded registrar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+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discardedRegistrars.length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</a:t>
            </a:r>
            <a:r>
              <a:rPr b="1" lang="en-US" sz="4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</a:t>
            </a: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7086600" y="914400"/>
            <a:ext cx="175248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3 GU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5 get invalid lookup ser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5.1 GU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5105520" y="3962520"/>
            <a:ext cx="3352680" cy="824040"/>
            <a:chOff x="5105520" y="3962520"/>
            <a:chExt cx="3352680" cy="824040"/>
          </a:xfrm>
        </p:grpSpPr>
        <p:sp>
          <p:nvSpPr>
            <p:cNvPr id="189" name=""/>
            <p:cNvSpPr/>
            <p:nvPr/>
          </p:nvSpPr>
          <p:spPr>
            <a:xfrm>
              <a:off x="6324480" y="3962520"/>
              <a:ext cx="21337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ceive notification when a lookup service becomes invali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5105520" y="4190760"/>
              <a:ext cx="12189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17" dur="1" fill="hold"/>
                                  <p:tgtEl>
                                    <p:spTgt spid="1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782040" cy="655344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extAppender is a Runnable class for appending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ext to outputArea on the event-dispatching thread.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xtAppende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unnable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textToAppend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xt to append to outputArea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TextAppender constructor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xtAppender( String text 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extToAppend = text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ppend text to outputArea and scroll to bottom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un(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putArea.append( textToAppend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putArea.setCaretPosition(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outputArea.getText().length()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nner class TextAppender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aunch MulticastDiscovery application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 args[] )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SecurityManager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ystem.getSecurityManager() =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setSecurityManager(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MISecurityManager()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ulticastDiscovery discovery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ulticastDiscovery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iscovery.setDefaultCloseOperat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XIT_ON_CLO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iscovery.pack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iscovery.setVisi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7086600" y="990720"/>
            <a:ext cx="1828800" cy="350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6. Inner class TextAppen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7.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7.1 set security manag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4419360" y="4952880"/>
            <a:ext cx="3353040" cy="337320"/>
            <a:chOff x="4419360" y="4952880"/>
            <a:chExt cx="3353040" cy="337320"/>
          </a:xfrm>
        </p:grpSpPr>
        <p:sp>
          <p:nvSpPr>
            <p:cNvPr id="194" name=""/>
            <p:cNvSpPr/>
            <p:nvPr/>
          </p:nvSpPr>
          <p:spPr>
            <a:xfrm>
              <a:off x="5867280" y="4952880"/>
              <a:ext cx="19051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security mana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4419360" y="5105520"/>
              <a:ext cx="14475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4419720" y="1371600"/>
            <a:ext cx="3124080" cy="900360"/>
            <a:chOff x="4419720" y="1371600"/>
            <a:chExt cx="3124080" cy="900360"/>
          </a:xfrm>
        </p:grpSpPr>
        <p:sp>
          <p:nvSpPr>
            <p:cNvPr id="197" name=""/>
            <p:cNvSpPr/>
            <p:nvPr/>
          </p:nvSpPr>
          <p:spPr>
            <a:xfrm>
              <a:off x="5257800" y="1447920"/>
              <a:ext cx="22860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ner class for appending text to output area on the event-dispatching threa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 flipV="1">
              <a:off x="4419720" y="1371600"/>
              <a:ext cx="8380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1" dur="1" fill="hold"/>
                                  <p:tgtEl>
                                    <p:spTgt spid="1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828800" y="1066680"/>
            <a:ext cx="32767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2.7 Jini Service and Client Implementa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ini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rvice prox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ackend interfa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rvice implemen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ini cl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ly knows service’s public interfa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2.7.1 Service Interfaces and Supporting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ice Interf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minarInterfac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public interfac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ackendInterfac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unknown to clien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ing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min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5715000" cy="62481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minar.java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minar represents a seminar, or lecture, including the 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minar title and location.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ni.seminar;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Serializable;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Seminar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ializable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title;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location;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lo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ialVersionUID = </a:t>
            </a:r>
            <a:r>
              <a:rPr b="1" lang="en-US" sz="1000" spc="-1" strike="noStrike">
                <a:solidFill>
                  <a:srgbClr val="0099ff"/>
                </a:solidFill>
                <a:latin typeface="Courier New"/>
                <a:ea typeface="Courier New"/>
              </a:rPr>
              <a:t>20010724L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0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minar constructor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Seminar( String seminarTitle, String seminarLocation )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itle = seminarTitle;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ocation = seminarLocation;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0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String representation of Seminar object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toString()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99ff"/>
                </a:solidFill>
                <a:latin typeface="Courier New"/>
                <a:ea typeface="Courier New"/>
              </a:rPr>
              <a:t>"Seminar title: "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+ getTitle() + 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000" spc="-1" strike="noStrike">
                <a:solidFill>
                  <a:srgbClr val="0099ff"/>
                </a:solidFill>
                <a:latin typeface="Courier New"/>
                <a:ea typeface="Courier New"/>
              </a:rPr>
              <a:t>"; location: "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+ getLocation();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0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Seminar title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Title()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title;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0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Seminar location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Location()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location;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7086600" y="914400"/>
            <a:ext cx="18288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etho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90960" y="2209680"/>
            <a:ext cx="2667240" cy="580680"/>
            <a:chOff x="5790960" y="2209680"/>
            <a:chExt cx="2667240" cy="580680"/>
          </a:xfrm>
        </p:grpSpPr>
        <p:sp>
          <p:nvSpPr>
            <p:cNvPr id="208" name=""/>
            <p:cNvSpPr/>
            <p:nvPr/>
          </p:nvSpPr>
          <p:spPr>
            <a:xfrm>
              <a:off x="6477120" y="2209680"/>
              <a:ext cx="19810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plicitly specify the serial version UI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 flipV="1">
              <a:off x="5790960" y="2285640"/>
              <a:ext cx="6858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4190760" y="3047760"/>
            <a:ext cx="3810240" cy="657000"/>
            <a:chOff x="4190760" y="3047760"/>
            <a:chExt cx="3810240" cy="657000"/>
          </a:xfrm>
        </p:grpSpPr>
        <p:sp>
          <p:nvSpPr>
            <p:cNvPr id="211" name=""/>
            <p:cNvSpPr/>
            <p:nvPr/>
          </p:nvSpPr>
          <p:spPr>
            <a:xfrm>
              <a:off x="6095880" y="3124080"/>
              <a:ext cx="19051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pecify the title and location of a semin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 flipV="1">
              <a:off x="4190760" y="3047760"/>
              <a:ext cx="190476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45" dur="1" fill="hold"/>
                                  <p:tgtEl>
                                    <p:spTgt spid="2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2.2 Install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ftware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ava 2 Standard Edition (J2S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ini Technology Starter K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ini Technology Starter K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ini Technology Core Platform (JCP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ini Technology Extended Platform (JXP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ini Software Kit (JSK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781680" cy="6324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minarInterface.java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minarInterface defines methods available from the SeminarInfo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ini service.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ni.seminar.service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Remote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ni.seminar.Seminar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erf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minarInterface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Seminar for given dat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minar getSeminar( String date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------------------------------------------</a:t>
            </a: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ackendInterface.java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ackendInterface defines the interface through which the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rvice proxy communicates with the back-end service.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ni.seminar.service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Remote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ni.seminar.Seminar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erf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ackendInterface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Seminar for given day of the week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minar getSeminar( String date )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7086600" y="914040"/>
            <a:ext cx="175248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terfa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minarInterfa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terfa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ackendInterfa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038480" y="2361960"/>
            <a:ext cx="2971800" cy="337680"/>
            <a:chOff x="4038480" y="2361960"/>
            <a:chExt cx="2971800" cy="337680"/>
          </a:xfrm>
        </p:grpSpPr>
        <p:sp>
          <p:nvSpPr>
            <p:cNvPr id="216" name=""/>
            <p:cNvSpPr/>
            <p:nvPr/>
          </p:nvSpPr>
          <p:spPr>
            <a:xfrm>
              <a:off x="5486400" y="2362320"/>
              <a:ext cx="1523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ublic 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 flipV="1">
              <a:off x="4038480" y="2361960"/>
              <a:ext cx="1447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5334120" y="5029200"/>
            <a:ext cx="3047760" cy="580680"/>
            <a:chOff x="5334120" y="5029200"/>
            <a:chExt cx="3047760" cy="580680"/>
          </a:xfrm>
        </p:grpSpPr>
        <p:sp>
          <p:nvSpPr>
            <p:cNvPr id="219" name=""/>
            <p:cNvSpPr/>
            <p:nvPr/>
          </p:nvSpPr>
          <p:spPr>
            <a:xfrm>
              <a:off x="6095880" y="5029200"/>
              <a:ext cx="2286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rvice proxy’s interfac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nknown to 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5334120" y="5410080"/>
              <a:ext cx="76176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59" dur="1" fill="hold"/>
                                  <p:tgtEl>
                                    <p:spTgt spid="2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2.7.2 Service Proxy and Service Implementa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ice Prox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minarProx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ice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minarInf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5486400" cy="6248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minarProxy.java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minarProxy is a proxy for the SeminarInfo Jini service. 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ni.seminar.service;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Serializable;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*;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ni.seminar.Seminar;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SeminarProxy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SeminarInterface, 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rializable {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ckendInterface backInterface;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0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minarProxy constructor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SeminarProxy( BackendInterface inputInterface )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ackInterface = inputInterface;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0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Seminar for given date through BackendInterface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Seminar getSeminar( String date )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0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Seminar from service through BackendInterface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ckInterface.getSeminar( date );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0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communicating with back-end service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moteException remoteException ) {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moteException.printStackTrace();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getSeminar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7086600" y="914400"/>
            <a:ext cx="1828800" cy="365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minarProx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etho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5333760" y="3886200"/>
            <a:ext cx="3505320" cy="1067400"/>
            <a:chOff x="5333760" y="3886200"/>
            <a:chExt cx="3505320" cy="1067400"/>
          </a:xfrm>
        </p:grpSpPr>
        <p:sp>
          <p:nvSpPr>
            <p:cNvPr id="226" name=""/>
            <p:cNvSpPr/>
            <p:nvPr/>
          </p:nvSpPr>
          <p:spPr>
            <a:xfrm>
              <a:off x="6400800" y="3886200"/>
              <a:ext cx="24382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mmunicates through interf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ackendInterfa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using RM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5333760" y="4267080"/>
              <a:ext cx="10666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028840" y="2133720"/>
            <a:ext cx="3886560" cy="900000"/>
            <a:chOff x="5028840" y="2133720"/>
            <a:chExt cx="3886560" cy="900000"/>
          </a:xfrm>
        </p:grpSpPr>
        <p:sp>
          <p:nvSpPr>
            <p:cNvPr id="229" name=""/>
            <p:cNvSpPr/>
            <p:nvPr/>
          </p:nvSpPr>
          <p:spPr>
            <a:xfrm>
              <a:off x="6095880" y="2209680"/>
              <a:ext cx="28195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minar service proxy implements the public interf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eminar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 flipV="1">
              <a:off x="5028840" y="2133720"/>
              <a:ext cx="10666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73" dur="1" fill="hold"/>
                                  <p:tgtEl>
                                    <p:spTgt spid="2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6172200" cy="5105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minarInfo.java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minarInfo is a Jini service that provides information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bout Seminars offered throughout the week.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ni.seminar.service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server.UnicastRemoteObject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RemoteException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StringTokenizer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ni.seminar.Seminar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minarInfo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nicastRemoteObject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ackendInterface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trings that represent days of the week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MONDAY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ONDA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TUESDAY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UESDA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WEDNESDAY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EDNESDA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THURSDAY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URSDA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FRIDAY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RIDA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minarInfo no-argument constructor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minarInfo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 {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</a:t>
            </a:r>
            <a:r>
              <a:rPr b="1" lang="en-US" sz="4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7086600" y="914400"/>
            <a:ext cx="1828800" cy="358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minarInfo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mport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eclar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6019560" y="2971800"/>
            <a:ext cx="2210040" cy="533520"/>
            <a:chOff x="6019560" y="2971800"/>
            <a:chExt cx="2210040" cy="533520"/>
          </a:xfrm>
        </p:grpSpPr>
        <p:sp>
          <p:nvSpPr>
            <p:cNvPr id="234" name=""/>
            <p:cNvSpPr/>
            <p:nvPr/>
          </p:nvSpPr>
          <p:spPr>
            <a:xfrm>
              <a:off x="7086600" y="2971800"/>
              <a:ext cx="11430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MI obje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019560" y="3124080"/>
              <a:ext cx="10666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82" dur="1" fill="hold"/>
                                  <p:tgtEl>
                                    <p:spTgt spid="2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6400800" cy="62481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Seminar information for given day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minar getSeminar( String date )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[] title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[]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[] location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[]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ad seminar information from text fil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fileName = SeminarInfo.class.getResource(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minarInfo.tx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.toString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ileName = fileName.sub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ileInputStream inputStream =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leInputStream( fileName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ufferedReader read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ufferedReader(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putStreamReader( inputStream )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line = reader.readLine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read seminar info from the fil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ineNo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( line !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&amp;&amp; ( lineNo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lineNo++ ) {      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tringTokenizer tokenizer =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Tokenizer( line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titles[ lineNo ] = tokenizer.nextToken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locations[ lineNo ] = tokenizer.nextToken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line = reader.readLine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</a:t>
            </a:r>
            <a:r>
              <a:rPr b="1" lang="en-US" sz="4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7086600" y="914040"/>
            <a:ext cx="1752480" cy="380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 Get seminar inform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1 load text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2 read seminar info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5181480" y="2590560"/>
            <a:ext cx="2362320" cy="824400"/>
            <a:chOff x="5181480" y="2590560"/>
            <a:chExt cx="2362320" cy="824400"/>
          </a:xfrm>
        </p:grpSpPr>
        <p:sp>
          <p:nvSpPr>
            <p:cNvPr id="239" name=""/>
            <p:cNvSpPr/>
            <p:nvPr/>
          </p:nvSpPr>
          <p:spPr>
            <a:xfrm>
              <a:off x="6248520" y="2590920"/>
              <a:ext cx="12952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ad text file that contains seminar 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 flipV="1">
              <a:off x="5181480" y="2590560"/>
              <a:ext cx="10670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5486400" y="4191120"/>
            <a:ext cx="2743200" cy="533160"/>
            <a:chOff x="5486400" y="4191120"/>
            <a:chExt cx="2743200" cy="533160"/>
          </a:xfrm>
        </p:grpSpPr>
        <p:sp>
          <p:nvSpPr>
            <p:cNvPr id="242" name=""/>
            <p:cNvSpPr/>
            <p:nvPr/>
          </p:nvSpPr>
          <p:spPr>
            <a:xfrm>
              <a:off x="6477120" y="4191120"/>
              <a:ext cx="17524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ad seminar 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5486400" y="4343400"/>
              <a:ext cx="9907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96" dur="1" fill="hold"/>
                                  <p:tgtEl>
                                    <p:spTgt spid="2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324480" cy="6858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loading Seminar fil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FileNotFoundException fileException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ileException.printStackTrace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reading from Seminar fil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OException ioException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oException.printStackTrace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match given day of the week to available seminar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date.equalsIgnoreCas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ONDA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minar( title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, location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date.equalsIgnoreCas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TUESDA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minar( title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, location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date.equalsIgnoreCas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WEDNESDA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minar( title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, location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date.equalsIgnoreCas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THURSDA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minar( title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, location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date.equalsIgnoreCas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FRIDA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minar( title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, location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mina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mpt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ot availabl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getSeminar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br>
              <a:rPr sz="1200"/>
            </a:b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------------------------------------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vanced Swing GUI Components; Deitel Seminar Room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Model-View-Controller Architecture; Deitel Seminar Room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 2 Enterprise Edition; Deitel Seminar Room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roduction to Jini; Deitel Seminar Room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 2 Micro Edition; Deitel Seminar Ro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7086600" y="990720"/>
            <a:ext cx="1828800" cy="533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3 return resul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minar text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6248520" y="2514600"/>
            <a:ext cx="2361960" cy="580680"/>
            <a:chOff x="6248520" y="2514600"/>
            <a:chExt cx="2361960" cy="580680"/>
          </a:xfrm>
        </p:grpSpPr>
        <p:sp>
          <p:nvSpPr>
            <p:cNvPr id="247" name=""/>
            <p:cNvSpPr/>
            <p:nvPr/>
          </p:nvSpPr>
          <p:spPr>
            <a:xfrm>
              <a:off x="7086600" y="2514600"/>
              <a:ext cx="1523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urn seminar inform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6248520" y="2895480"/>
              <a:ext cx="8380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5028840" y="5867280"/>
            <a:ext cx="3277080" cy="580680"/>
            <a:chOff x="5028840" y="5867280"/>
            <a:chExt cx="3277080" cy="580680"/>
          </a:xfrm>
        </p:grpSpPr>
        <p:sp>
          <p:nvSpPr>
            <p:cNvPr id="250" name=""/>
            <p:cNvSpPr/>
            <p:nvPr/>
          </p:nvSpPr>
          <p:spPr>
            <a:xfrm>
              <a:off x="5791320" y="5867280"/>
              <a:ext cx="25146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eminarInfo.tx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5028840" y="6095880"/>
              <a:ext cx="762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10" dur="1" fill="hold"/>
                                  <p:tgtEl>
                                    <p:spTgt spid="2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2.7.3 Registering the Service with Lookup Servi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eminarInfo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lticast discovery for lookup servi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gisters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minarInfo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ervice with lookup servi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6400800" cy="6705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minarInfoService.java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minarInfoService discovers lookup services and register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e SeminarInfo service with those lookup services.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ni.seminar.service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RMISecurityManager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RemoteException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IOException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ini core package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lookup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entry.Entry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ini extension package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discovery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lookup.entry.Name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minarInfoService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scoveryListener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iceItem serviceItem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EASETI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minarInfoService constructor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minarInfoService(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arch for lookup services with public group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ookupDiscovery discover =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okupDiscover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[]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add listener for DiscoveryEvent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iscover.addDiscoveryListen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creating LookupDiscover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7086240" y="914400"/>
            <a:ext cx="2057400" cy="365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minarInfoSer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mport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.1 discover lookup servi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5409720" y="4191120"/>
            <a:ext cx="3124800" cy="1218960"/>
            <a:chOff x="5409720" y="4191120"/>
            <a:chExt cx="3124800" cy="1218960"/>
          </a:xfrm>
        </p:grpSpPr>
        <p:sp>
          <p:nvSpPr>
            <p:cNvPr id="257" name=""/>
            <p:cNvSpPr/>
            <p:nvPr/>
          </p:nvSpPr>
          <p:spPr>
            <a:xfrm>
              <a:off x="6553080" y="4191120"/>
              <a:ext cx="19814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arch for public lookup services with multicast discove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5409720" y="4648320"/>
              <a:ext cx="114300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4648320" y="1676520"/>
            <a:ext cx="2286000" cy="1752480"/>
            <a:chOff x="4648320" y="1676520"/>
            <a:chExt cx="2286000" cy="1752480"/>
          </a:xfrm>
        </p:grpSpPr>
        <p:sp>
          <p:nvSpPr>
            <p:cNvPr id="260" name=""/>
            <p:cNvSpPr/>
            <p:nvPr/>
          </p:nvSpPr>
          <p:spPr>
            <a:xfrm>
              <a:off x="4648320" y="1676520"/>
              <a:ext cx="22860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mplement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iscoveryListen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receive notifications of discovered servi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5486040" y="2743200"/>
              <a:ext cx="6858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24" dur="1" fill="hold"/>
                                  <p:tgtEl>
                                    <p:spTgt spid="2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400800" cy="6858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OException exception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an Entry for this servic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ntry[] entrie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try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ntrie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minar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the service's proxy and Entry nam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rviceItem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iceItem(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createProxy(), entries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SeminarInfoService constructor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ceive lookup service discovery notification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scovered( DiscoveryEvent event 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rviceRegistrar[] registrars = event.getRegistrars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gister service with each lookup servic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0; i &lt; registrars.length; i++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rviceRegistrar registrar = registrars[ i ]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register service with discovered lookup servic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erviceRegistration registration =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registrar.register( serviceItem, LEASETIME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atch the remote exception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moteException exception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exception.printStackTrace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or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discover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7086240" y="914040"/>
            <a:ext cx="2057400" cy="380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.2 specify service ite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 Register service with lookup ser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4800240" y="873000"/>
            <a:ext cx="2209680" cy="337320"/>
            <a:chOff x="4800240" y="873000"/>
            <a:chExt cx="2209680" cy="337320"/>
          </a:xfrm>
        </p:grpSpPr>
        <p:sp>
          <p:nvSpPr>
            <p:cNvPr id="265" name=""/>
            <p:cNvSpPr/>
            <p:nvPr/>
          </p:nvSpPr>
          <p:spPr>
            <a:xfrm>
              <a:off x="5618880" y="873000"/>
              <a:ext cx="13910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N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nt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800240" y="1025280"/>
              <a:ext cx="818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4648320" y="1828440"/>
            <a:ext cx="2438280" cy="581040"/>
            <a:chOff x="4648320" y="1828440"/>
            <a:chExt cx="2438280" cy="581040"/>
          </a:xfrm>
        </p:grpSpPr>
        <p:sp>
          <p:nvSpPr>
            <p:cNvPr id="268" name=""/>
            <p:cNvSpPr/>
            <p:nvPr/>
          </p:nvSpPr>
          <p:spPr>
            <a:xfrm>
              <a:off x="5562720" y="1828800"/>
              <a:ext cx="1523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pecify service i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 flipV="1">
              <a:off x="4648320" y="1828440"/>
              <a:ext cx="9144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5486400" y="2743200"/>
            <a:ext cx="3048120" cy="337320"/>
            <a:chOff x="5486400" y="2743200"/>
            <a:chExt cx="3048120" cy="337320"/>
          </a:xfrm>
        </p:grpSpPr>
        <p:sp>
          <p:nvSpPr>
            <p:cNvPr id="271" name=""/>
            <p:cNvSpPr/>
            <p:nvPr/>
          </p:nvSpPr>
          <p:spPr>
            <a:xfrm>
              <a:off x="6477120" y="2743200"/>
              <a:ext cx="20574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okup service fou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5486400" y="289548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5714640" y="4114800"/>
            <a:ext cx="3048480" cy="609480"/>
            <a:chOff x="5714640" y="4114800"/>
            <a:chExt cx="3048480" cy="609480"/>
          </a:xfrm>
        </p:grpSpPr>
        <p:sp>
          <p:nvSpPr>
            <p:cNvPr id="274" name=""/>
            <p:cNvSpPr/>
            <p:nvPr/>
          </p:nvSpPr>
          <p:spPr>
            <a:xfrm>
              <a:off x="6781680" y="4114800"/>
              <a:ext cx="19814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gister service with lookup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5714640" y="4419720"/>
              <a:ext cx="10666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48" dur="1" fill="hold"/>
                                  <p:tgtEl>
                                    <p:spTgt spid="2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28240" y="1294920"/>
            <a:ext cx="6705720" cy="3886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gnore discarded lookup service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scarded( DiscoveryEvent event ) {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the seminar service proxy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minarInterface createProxy(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BackendInterface for service and create SeminarProxy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minarProx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minarInfo()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creating SeminarProxy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moteException exception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discovered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</a:t>
            </a:r>
            <a:r>
              <a:rPr b="1" lang="en-US" sz="4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endParaRPr b="1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7086240" y="914040"/>
            <a:ext cx="2057400" cy="396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 Ignore invalid lookup ser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5. Create service prox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714640" y="3123720"/>
            <a:ext cx="2667240" cy="414000"/>
            <a:chOff x="5714640" y="3123720"/>
            <a:chExt cx="2667240" cy="414000"/>
          </a:xfrm>
        </p:grpSpPr>
        <p:sp>
          <p:nvSpPr>
            <p:cNvPr id="279" name=""/>
            <p:cNvSpPr/>
            <p:nvPr/>
          </p:nvSpPr>
          <p:spPr>
            <a:xfrm>
              <a:off x="6477120" y="3200400"/>
              <a:ext cx="190476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urn service prox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 flipV="1">
              <a:off x="5714640" y="3123720"/>
              <a:ext cx="762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57" dur="1" fill="hold"/>
                                  <p:tgtEl>
                                    <p:spTgt spid="2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2.3 Set up Run-time Environmen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LASSPA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nvironment Var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jini-core.j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jini-ext.j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un-util.j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560" y="1142640"/>
            <a:ext cx="65530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ethod main keeps the application aliv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 args[] 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SecurityManager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ystem.getSecurityManager() =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setSecurityManag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MISecurityManager()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minarInfoService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bject keepAliv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bject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ynchroniz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keepAlive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keep application alive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keepAlive.wait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handle exception if wait interrupted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nterruptedException exception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exception.printStackTrace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main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7086240" y="1066320"/>
            <a:ext cx="205740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6.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6.1 set security manag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6.2 keep application aliv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4114800" y="3048120"/>
            <a:ext cx="3429000" cy="761760"/>
            <a:chOff x="4114800" y="3048120"/>
            <a:chExt cx="3429000" cy="761760"/>
          </a:xfrm>
        </p:grpSpPr>
        <p:sp>
          <p:nvSpPr>
            <p:cNvPr id="284" name=""/>
            <p:cNvSpPr/>
            <p:nvPr/>
          </p:nvSpPr>
          <p:spPr>
            <a:xfrm>
              <a:off x="5486400" y="3048120"/>
              <a:ext cx="20574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eep application al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4114800" y="3276720"/>
              <a:ext cx="13716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66" dur="1" fill="hold"/>
                                  <p:tgtEl>
                                    <p:spTgt spid="2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2.7.4 Jini Service Clien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UnicastSeminarInfoCl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scover lookup service with unicast discove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arch for seminar serv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et seminar inf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5867280" cy="60195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nicastSeminarInfoClient.java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nicastSeminarInfoClient uses unicast discovery to locate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ookup servides for the SeminarInfo service.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ni.seminar.client;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*;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net.*;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ini core packages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discovery.LookupLocator;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lookup.*;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entry.Entry;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ini extension packages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lookup.entry.Name;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ni.seminar.Seminar;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ni.seminar.service.SeminarInterface;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UnicastSeminarInfoClient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JFrame {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0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trings representing the days of the week on which 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0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minars are offered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[] days = { </a:t>
            </a:r>
            <a:r>
              <a:rPr b="1" lang="en-US" sz="1000" spc="-1" strike="noStrike">
                <a:solidFill>
                  <a:srgbClr val="0099ff"/>
                </a:solidFill>
                <a:latin typeface="Courier New"/>
                <a:ea typeface="Courier New"/>
              </a:rPr>
              <a:t>"Monday"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000" spc="-1" strike="noStrike">
                <a:solidFill>
                  <a:srgbClr val="0099ff"/>
                </a:solidFill>
                <a:latin typeface="Courier New"/>
                <a:ea typeface="Courier New"/>
              </a:rPr>
              <a:t>"Tuesday"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000" spc="-1" strike="noStrike">
                <a:solidFill>
                  <a:srgbClr val="0099ff"/>
                </a:solidFill>
                <a:latin typeface="Courier New"/>
                <a:ea typeface="Courier New"/>
              </a:rPr>
              <a:t>"Wednesday"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000" spc="-1" strike="noStrike">
                <a:solidFill>
                  <a:srgbClr val="0099ff"/>
                </a:solidFill>
                <a:latin typeface="Courier New"/>
                <a:ea typeface="Courier New"/>
              </a:rPr>
              <a:t>"Thursday"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000" spc="-1" strike="noStrike">
                <a:solidFill>
                  <a:srgbClr val="0099ff"/>
                </a:solidFill>
                <a:latin typeface="Courier New"/>
                <a:ea typeface="Courier New"/>
              </a:rPr>
              <a:t>"Friday"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0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hostname and ServiceRegistrar for lookup services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hostname;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iceRegistrar registrar;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br>
              <a:rPr sz="1000"/>
            </a:b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6629040" y="990360"/>
            <a:ext cx="2514600" cy="373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UnicastSeminarInfo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mport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eclara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6782040" cy="6705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JButton for finding Seminar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Button findSeminarButton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nicastSeminarInfoClient constructor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nicastSeminarInfoClient( String host 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up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nicastSeminarInfoClien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hostname = host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target hostname for discovery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Button for finding Seminar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ndSeminarButt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Butt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nd Semina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ndSeminarButton.addActionListener(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Listener(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discover lookup services, look up SeminarInfo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service, prompt user for desired day of the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week and display available Seminar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discoverLookupServices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SeminarInterface seminarService =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lookupSeminarService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String day = ( String ) JOptionPane.showInputDialog(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UnicastSeminarInfoClient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lect Da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ay Selectio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JOptionPan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QUESTION_MESS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days, day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showSeminars( seminarService, day );         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all to addActionListener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7086600" y="914040"/>
            <a:ext cx="1828800" cy="380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1 GU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380880" y="4876920"/>
            <a:ext cx="1600200" cy="824040"/>
            <a:chOff x="380880" y="4876920"/>
            <a:chExt cx="1600200" cy="824040"/>
          </a:xfrm>
        </p:grpSpPr>
        <p:sp>
          <p:nvSpPr>
            <p:cNvPr id="293" name=""/>
            <p:cNvSpPr/>
            <p:nvPr/>
          </p:nvSpPr>
          <p:spPr>
            <a:xfrm>
              <a:off x="380880" y="4876920"/>
              <a:ext cx="10670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 user-specified d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447920" y="5257800"/>
              <a:ext cx="5331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75" dur="1" fill="hold"/>
                                  <p:tgtEl>
                                    <p:spTgt spid="2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4560" y="762120"/>
            <a:ext cx="6553080" cy="5410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Panel buttonPan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uttonPanel.add( findSeminarButton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etContentPane().add( buttonPanel,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EN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UnicastSeminarInfoClient constructor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cover lookup services using unicast discovery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scoverLookupServices(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lookupURL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ini://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hostname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the lookup service locator at jini://hostname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use default port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ookupLocator locato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okupLocator( lookupURL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return registrar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gistrar = locator.getRegistrar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s discovering lookup service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xception exception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discoverLookupService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</a:t>
            </a:r>
            <a:r>
              <a:rPr b="1" lang="en-US" sz="4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</a:t>
            </a: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7086240" y="990360"/>
            <a:ext cx="2057400" cy="380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 Discover lookup ser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1 specify lookup UR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2 get lookup locator and registra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5638680" y="2895120"/>
            <a:ext cx="2971800" cy="490320"/>
            <a:chOff x="5638680" y="2895120"/>
            <a:chExt cx="2971800" cy="490320"/>
          </a:xfrm>
        </p:grpSpPr>
        <p:sp>
          <p:nvSpPr>
            <p:cNvPr id="298" name=""/>
            <p:cNvSpPr/>
            <p:nvPr/>
          </p:nvSpPr>
          <p:spPr>
            <a:xfrm>
              <a:off x="6705720" y="3048120"/>
              <a:ext cx="190476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pecify lookup UR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 flipV="1">
              <a:off x="5638680" y="2895120"/>
              <a:ext cx="10670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4876560" y="4267080"/>
            <a:ext cx="3276720" cy="580680"/>
            <a:chOff x="4876560" y="4267080"/>
            <a:chExt cx="3276720" cy="580680"/>
          </a:xfrm>
        </p:grpSpPr>
        <p:sp>
          <p:nvSpPr>
            <p:cNvPr id="301" name=""/>
            <p:cNvSpPr/>
            <p:nvPr/>
          </p:nvSpPr>
          <p:spPr>
            <a:xfrm>
              <a:off x="6400800" y="4267080"/>
              <a:ext cx="1752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 lookup locator and registr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 flipV="1">
              <a:off x="4876560" y="4419360"/>
              <a:ext cx="1523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89" dur="1" fill="hold"/>
                                  <p:tgtEl>
                                    <p:spTgt spid="3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6705720" cy="6019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ookup SeminarInfo service in given ServiceRegistrar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minarInterface lookupSeminarService(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pecify the service requirement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lass[] type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lass[] { SeminarInterface.class }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ntry[] attribut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try[] {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minar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}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rviceTemplate template =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iceTemplat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types, attribute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find the service 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minarInterface seminarInterface =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SeminarInterface ) registrar.lookup( template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minarInterface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looking up SeminarInfo servic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moteException exception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lookupSeminarServic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how Seminar in given SeminarInfo service for given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ay of the week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howSeminars( SeminarInterface seminarService,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day 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Buffer buff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Buffer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</a:t>
            </a:r>
            <a:r>
              <a:rPr b="1" lang="en-US" sz="4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7086240" y="914040"/>
            <a:ext cx="205740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5. Search for ser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5.1 specify service requir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5.2 lookup ser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6. Display resul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5790960" y="1752480"/>
            <a:ext cx="1829160" cy="809280"/>
            <a:chOff x="5790960" y="1752480"/>
            <a:chExt cx="1829160" cy="809280"/>
          </a:xfrm>
        </p:grpSpPr>
        <p:sp>
          <p:nvSpPr>
            <p:cNvPr id="306" name=""/>
            <p:cNvSpPr/>
            <p:nvPr/>
          </p:nvSpPr>
          <p:spPr>
            <a:xfrm>
              <a:off x="6400800" y="1981080"/>
              <a:ext cx="12193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rvice requir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 flipV="1">
              <a:off x="5790960" y="1752480"/>
              <a:ext cx="6094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5181480" y="2895120"/>
            <a:ext cx="1905120" cy="962280"/>
            <a:chOff x="5181480" y="2895120"/>
            <a:chExt cx="1905120" cy="962280"/>
          </a:xfrm>
        </p:grpSpPr>
        <p:sp>
          <p:nvSpPr>
            <p:cNvPr id="309" name=""/>
            <p:cNvSpPr/>
            <p:nvPr/>
          </p:nvSpPr>
          <p:spPr>
            <a:xfrm>
              <a:off x="6172200" y="3276720"/>
              <a:ext cx="914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okup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 flipV="1">
              <a:off x="5181480" y="2895120"/>
              <a:ext cx="9907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03" dur="1" fill="hold"/>
                                  <p:tgtEl>
                                    <p:spTgt spid="3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6553440" cy="5181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Seminar from SeminarInfo service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eminarService !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minar seminar = seminarService.getSeminar( day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subject and location from Seminar object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uffer.appe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minar information: 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uffer.append( day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uffer.append( seminar.getTitle(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itl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uffer.append( seminar.getLocation() );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ocation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SeminarInfo service does not availabl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uffer.append(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minarInfo service does not available. 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isplay Seminar information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OptionPane.showMessageDialog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buffer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showSeminar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aunch UnicastSeminarInfoClient application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 ( String args[] 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heck command-line arguments for hostnam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args.length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rr.println(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sage: java UnicastSeminarInfoClient host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4</a:t>
            </a:r>
            <a:r>
              <a:rPr b="1" lang="en-US" sz="4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</a:t>
            </a: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7086600" y="914400"/>
            <a:ext cx="1905120" cy="365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6.1 append outp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6.2 display outp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7.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5715000" y="2971800"/>
            <a:ext cx="2362320" cy="609480"/>
            <a:chOff x="5715000" y="2971800"/>
            <a:chExt cx="2362320" cy="609480"/>
          </a:xfrm>
        </p:grpSpPr>
        <p:sp>
          <p:nvSpPr>
            <p:cNvPr id="314" name=""/>
            <p:cNvSpPr/>
            <p:nvPr/>
          </p:nvSpPr>
          <p:spPr>
            <a:xfrm>
              <a:off x="6629400" y="2971800"/>
              <a:ext cx="14479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play out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5715000" y="327672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6629040" y="2057400"/>
            <a:ext cx="2286360" cy="580680"/>
            <a:chOff x="6629040" y="2057400"/>
            <a:chExt cx="2286360" cy="580680"/>
          </a:xfrm>
        </p:grpSpPr>
        <p:sp>
          <p:nvSpPr>
            <p:cNvPr id="317" name=""/>
            <p:cNvSpPr/>
            <p:nvPr/>
          </p:nvSpPr>
          <p:spPr>
            <a:xfrm>
              <a:off x="7315200" y="2057400"/>
              <a:ext cx="1600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 seminar title and lo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 flipV="1">
              <a:off x="6629040" y="2286000"/>
              <a:ext cx="6858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17" dur="1" fill="hold"/>
                                  <p:tgtEl>
                                    <p:spTgt spid="3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477120" cy="2743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UnicastSeminarInfoClient for given hostnam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setSecurityManag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MISecurityManager()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UnicastSeminarInfoClient client =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nicastSeminarInfoClient( arg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lient.setDefaultCloseOperat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XIT_ON_CLO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lient.pack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lient.setSiz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lient.setVisi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method main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7086600" y="3200400"/>
            <a:ext cx="18288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2666880" y="3429000"/>
            <a:ext cx="2381400" cy="61920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838080" y="4419720"/>
            <a:ext cx="2571840" cy="125712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3"/>
          <a:stretch/>
        </p:blipFill>
        <p:spPr>
          <a:xfrm>
            <a:off x="4114800" y="4191120"/>
            <a:ext cx="2571840" cy="15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2.7.4 Jini Service Clien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aring JAR 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 files for the Jini serv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minarService.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 files for the Jini cli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minarClient.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wnloadable Jini service class fil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minarServiceDownload.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ing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rm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eb server and lookup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unching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eminarInfo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unching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UnicastSeminarInfo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2.7.4 Jini Service Clien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685800" y="1371600"/>
          <a:ext cx="7769160" cy="457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7769160" cy="45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2.4 Start Required Servic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eb serv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MI Activation Daemon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mi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okup serv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artServi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U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ad property f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figure web serv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figur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m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figure lookup serv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2.7.4 Jini Service Clien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68580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2.7.4 Jini Service Clien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684360" y="1370160"/>
          <a:ext cx="777240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7240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2.8 Introduction to High-Level Helper Utiliti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per Ut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scovery Utili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ntr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Utili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eas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Utili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JoinManag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Utili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rvice Discovery Utili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2.8.1 Discovery Utiliti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ookupLocatorDiscove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scover lookup services on multiple known hos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ookupDiscoveryManag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erform both unicast and multicast discove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934320" y="838080"/>
            <a:ext cx="22096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UnicastDiscoveryUtility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 Import packages</a:t>
            </a:r>
            <a:br>
              <a:rPr sz="1200"/>
            </a:b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6840" y="533520"/>
            <a:ext cx="6248520" cy="5410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nicastDiscoveryUtility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how to locate multiple lookup servi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LookupLocatorDiscovery utili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ni.utilities.discover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ne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swing pack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ini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lookup.ServiceRegistra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discovery.LookupLocato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ini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discovery.LookupLocatorDiscover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discovery.DiscoveryListen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discovery.DiscoveryEv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nicastDiscoveryUtility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Fr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scoveryListen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Area outputArea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Area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009920" y="838080"/>
            <a:ext cx="21337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. Constructor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.1 GUI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.2 specify multiple lookup locators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.3 discover lookup services using LookupLocatorDiscover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304560" y="304920"/>
            <a:ext cx="6553080" cy="6324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nicastDiscoveryUtility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nicastDiscoveryUtility( String urls[]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nicastDiscoveryUtilit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etContentPane().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ScrollPane( outputArea )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EN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iscover lookup services using LookupLocatorDiscove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LookupLocator for each UR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ookupLocator locators[]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okupLocator[ urls.length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locators.length ; i++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locators[ i ]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okupLocator( urls[ i ]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LookupLocatorDiscovery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ookupLocatorDiscovery locatorDiscovery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okupLocatorDiscovery( locator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register DiscoveryListe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ocatorDiscovery.addDiscoveryListen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invalid Jini UR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MalformedURL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UnicastDiscoveryUtility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5334120" y="2286000"/>
            <a:ext cx="2971800" cy="1067400"/>
            <a:chOff x="5334120" y="2286000"/>
            <a:chExt cx="2971800" cy="1067400"/>
          </a:xfrm>
        </p:grpSpPr>
        <p:sp>
          <p:nvSpPr>
            <p:cNvPr id="344" name=""/>
            <p:cNvSpPr/>
            <p:nvPr/>
          </p:nvSpPr>
          <p:spPr>
            <a:xfrm>
              <a:off x="6629400" y="2286000"/>
              <a:ext cx="16765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pecify multiple lookup locators for unicast discove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5334120" y="2590920"/>
              <a:ext cx="12952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5562720" y="3962160"/>
            <a:ext cx="3429000" cy="824400"/>
            <a:chOff x="5562720" y="3962160"/>
            <a:chExt cx="3429000" cy="824400"/>
          </a:xfrm>
        </p:grpSpPr>
        <p:sp>
          <p:nvSpPr>
            <p:cNvPr id="347" name=""/>
            <p:cNvSpPr/>
            <p:nvPr/>
          </p:nvSpPr>
          <p:spPr>
            <a:xfrm>
              <a:off x="6400800" y="3962520"/>
              <a:ext cx="25909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ookupLocatorDiscover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 flipV="1">
              <a:off x="5562720" y="3962160"/>
              <a:ext cx="8380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4952520" y="4800600"/>
            <a:ext cx="2057760" cy="489600"/>
            <a:chOff x="4952520" y="4800600"/>
            <a:chExt cx="2057760" cy="489600"/>
          </a:xfrm>
        </p:grpSpPr>
        <p:sp>
          <p:nvSpPr>
            <p:cNvPr id="350" name=""/>
            <p:cNvSpPr/>
            <p:nvPr/>
          </p:nvSpPr>
          <p:spPr>
            <a:xfrm>
              <a:off x="5791320" y="4952880"/>
              <a:ext cx="121896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liste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 flipV="1">
              <a:off x="4952520" y="4800600"/>
              <a:ext cx="8384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36" dur="1" fill="hold"/>
                                  <p:tgtEl>
                                    <p:spTgt spid="3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 Lookup services found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 Display lookup service info</a:t>
            </a: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52280" y="609120"/>
            <a:ext cx="6858000" cy="541044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ceive notification of found lookup servi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scovered( DiscoveryEvent 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the proxy registrars for those servi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rviceRegistrar[] registrars = event.getRegistrar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isplay information for each lookup service fou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registrars.length ; i++ )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isplayServiceDetails( registrars[ i ]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discover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details of given ServiceRegistra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splayServiceDetails( ServiceRegistrar registra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Buffer buff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Buff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the hostname and port 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uffer.appe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ookup Service: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uffer.appe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 Host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registrar.getLocator().getHost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uffer.appe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 Port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registrar.getLocator().getPort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uffer.appe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 Group support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lookup service group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[] groups = registrar.getGroup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638320" y="990360"/>
            <a:ext cx="2667600" cy="961920"/>
            <a:chOff x="5638320" y="990360"/>
            <a:chExt cx="2667600" cy="961920"/>
          </a:xfrm>
        </p:grpSpPr>
        <p:sp>
          <p:nvSpPr>
            <p:cNvPr id="355" name=""/>
            <p:cNvSpPr/>
            <p:nvPr/>
          </p:nvSpPr>
          <p:spPr>
            <a:xfrm>
              <a:off x="6934320" y="1371600"/>
              <a:ext cx="13716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ound lookup servi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 flipV="1">
              <a:off x="5638320" y="990360"/>
              <a:ext cx="129564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5029200" y="3962520"/>
            <a:ext cx="2819520" cy="609480"/>
            <a:chOff x="5029200" y="3962520"/>
            <a:chExt cx="2819520" cy="609480"/>
          </a:xfrm>
        </p:grpSpPr>
        <p:sp>
          <p:nvSpPr>
            <p:cNvPr id="358" name=""/>
            <p:cNvSpPr/>
            <p:nvPr/>
          </p:nvSpPr>
          <p:spPr>
            <a:xfrm>
              <a:off x="5943600" y="3962520"/>
              <a:ext cx="19051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okup service ho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5029200" y="4191120"/>
              <a:ext cx="9144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5105520" y="4572000"/>
            <a:ext cx="2514600" cy="580680"/>
            <a:chOff x="5105520" y="4572000"/>
            <a:chExt cx="2514600" cy="580680"/>
          </a:xfrm>
        </p:grpSpPr>
        <p:sp>
          <p:nvSpPr>
            <p:cNvPr id="361" name=""/>
            <p:cNvSpPr/>
            <p:nvPr/>
          </p:nvSpPr>
          <p:spPr>
            <a:xfrm>
              <a:off x="5943600" y="4572000"/>
              <a:ext cx="16765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okup service port numb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5105520" y="4876920"/>
              <a:ext cx="83808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55" dur="1" fill="hold"/>
                                  <p:tgtEl>
                                    <p:spTgt spid="3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1 append output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2 GU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533520" y="0"/>
            <a:ext cx="6248160" cy="6858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group names; if empty write public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groups.length ; i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groups[ i ].equals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buffer.appe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ublic,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buffer.append( groups[ i ]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,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uffer.appe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append information to output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wingUtilities.invokeLater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create Runnable for appending te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unnable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append text and update caret pos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u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outputArea.append( buffer.toString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outputArea.setCaretPositi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outputArea.getText().length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all to invokeLa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communicating with lookup ser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mote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displayServiceDetail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5181120" y="838080"/>
            <a:ext cx="2210400" cy="580680"/>
            <a:chOff x="5181120" y="838080"/>
            <a:chExt cx="2210400" cy="580680"/>
          </a:xfrm>
        </p:grpSpPr>
        <p:sp>
          <p:nvSpPr>
            <p:cNvPr id="366" name=""/>
            <p:cNvSpPr/>
            <p:nvPr/>
          </p:nvSpPr>
          <p:spPr>
            <a:xfrm>
              <a:off x="5867280" y="838080"/>
              <a:ext cx="1524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okup service group n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 flipV="1">
              <a:off x="5181120" y="990360"/>
              <a:ext cx="6858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6248520" y="3505320"/>
            <a:ext cx="2286000" cy="380880"/>
            <a:chOff x="6248520" y="3505320"/>
            <a:chExt cx="2286000" cy="380880"/>
          </a:xfrm>
        </p:grpSpPr>
        <p:sp>
          <p:nvSpPr>
            <p:cNvPr id="369" name=""/>
            <p:cNvSpPr/>
            <p:nvPr/>
          </p:nvSpPr>
          <p:spPr>
            <a:xfrm>
              <a:off x="7010280" y="3505320"/>
              <a:ext cx="15242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ppend out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6248520" y="3733920"/>
              <a:ext cx="7617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69" dur="1" fill="hold"/>
                                  <p:tgtEl>
                                    <p:spTgt spid="3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3 ignore invalid lookup service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5. ma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228600" y="609480"/>
            <a:ext cx="6781680" cy="5486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gnore discarded lookup servi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scarded( DiscoveryEvent event ) {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aunch UnicastDiscoveryUtility 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 args[]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SecurityManag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ystem.getSecurityManager() =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setSecurityManager(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MISecurityManager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heck command-line arguments for hostnam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args.length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rr.printl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sage: java UnicastDiscoveryUtility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ini://hostname:port [ jini://hostname:port ] ..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aunch UnicastDiscoveryUtility for set of hostnam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UnicastDiscoveryUtility unicastUtility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nicastDiscoveryUtility( arg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unicastUtility.setDefaultCloseOperat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XIT_ON_CLO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unicastUtility.setSiz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unicastUtility.setVisi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6629040" y="2286000"/>
            <a:ext cx="1829160" cy="580680"/>
            <a:chOff x="6629040" y="2286000"/>
            <a:chExt cx="1829160" cy="580680"/>
          </a:xfrm>
        </p:grpSpPr>
        <p:sp>
          <p:nvSpPr>
            <p:cNvPr id="374" name=""/>
            <p:cNvSpPr/>
            <p:nvPr/>
          </p:nvSpPr>
          <p:spPr>
            <a:xfrm>
              <a:off x="7315200" y="2286000"/>
              <a:ext cx="1143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security mana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 flipV="1">
              <a:off x="6629040" y="2362320"/>
              <a:ext cx="6858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78" dur="1" fill="hold"/>
                                  <p:tgtEl>
                                    <p:spTgt spid="3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3143160" y="1704960"/>
            <a:ext cx="285768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6320" y="609480"/>
            <a:ext cx="4114800" cy="35244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267080" y="2666880"/>
            <a:ext cx="476280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0" y="838080"/>
            <a:ext cx="22860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eneralDiscoveryUtility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 Import packages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. Declarations</a:t>
            </a:r>
            <a:br>
              <a:rPr sz="1200"/>
            </a:b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172200" cy="5791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eneralDiscoveryUtility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eneralDiscoveryUtility demonstrates using clas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ookupDiscoveryManager for performing multicas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nd unicast discovery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ni.utilities.discover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ne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standard extens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border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ini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lookup.ServiceRegistra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discovery.LookupLocato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ini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discovery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neralDiscoveryUtility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Fram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scoveryListen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okupDiscoveryManager lookupManag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Area multicastArea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Area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Area unicastArea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Area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009920" y="838080"/>
            <a:ext cx="21337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 Constructor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1 GUI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2 lookup locators for unicast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3 LookupDiscoveryManager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51920" y="228600"/>
            <a:ext cx="678204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neralDiscoveryUtility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neralDiscoveryUtility( String urls[]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GeneralDiscoveryUtilit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ay out JTextArea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Panel multicastPan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ulticastPanel.setBord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tledBord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ulticast (Group) Notification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ulticastPanel.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ScrollPane( multicastArea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Panel unicastPan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unicastPanel.setBord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tledBord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nicast (Locator) Notification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unicastPanel.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ScrollPane( unicastArea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 contentPane = getContentPan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entPane.setLayou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lowLayout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entPane.add( unicastPane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entPane.add( multicastPanel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LookupLocators and LookupDiscoveryManag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ookupLocator locators[]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okupLocator[ urls.length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array of LookupLocato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urls.length ; i++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locators[ i ] = new LookupLocator( urls[ i ]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instantiate a LookupDiscoveryManager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ookupManag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okupDiscoveryManag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DiscoveryGroupManagemen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LL_GROUP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locators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5181480" y="4267080"/>
            <a:ext cx="2667240" cy="914400"/>
            <a:chOff x="5181480" y="4267080"/>
            <a:chExt cx="2667240" cy="914400"/>
          </a:xfrm>
        </p:grpSpPr>
        <p:sp>
          <p:nvSpPr>
            <p:cNvPr id="383" name=""/>
            <p:cNvSpPr/>
            <p:nvPr/>
          </p:nvSpPr>
          <p:spPr>
            <a:xfrm>
              <a:off x="6248520" y="4267080"/>
              <a:ext cx="1600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okup locators for unica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5181480" y="4572000"/>
              <a:ext cx="10670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457200" y="5181480"/>
            <a:ext cx="1295280" cy="1067040"/>
            <a:chOff x="457200" y="5181480"/>
            <a:chExt cx="1295280" cy="1067040"/>
          </a:xfrm>
        </p:grpSpPr>
        <p:sp>
          <p:nvSpPr>
            <p:cNvPr id="386" name=""/>
            <p:cNvSpPr/>
            <p:nvPr/>
          </p:nvSpPr>
          <p:spPr>
            <a:xfrm>
              <a:off x="457200" y="5181480"/>
              <a:ext cx="9907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ulticast grou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447920" y="5486400"/>
              <a:ext cx="30456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5638320" y="5410080"/>
            <a:ext cx="2514960" cy="762120"/>
            <a:chOff x="5638320" y="5410080"/>
            <a:chExt cx="2514960" cy="762120"/>
          </a:xfrm>
        </p:grpSpPr>
        <p:sp>
          <p:nvSpPr>
            <p:cNvPr id="389" name=""/>
            <p:cNvSpPr/>
            <p:nvPr/>
          </p:nvSpPr>
          <p:spPr>
            <a:xfrm>
              <a:off x="6477120" y="5410080"/>
              <a:ext cx="16761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nicast LookupLocato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5638320" y="5715000"/>
              <a:ext cx="8384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4724280" y="762120"/>
            <a:ext cx="2133720" cy="914400"/>
            <a:chOff x="4724280" y="762120"/>
            <a:chExt cx="2133720" cy="914400"/>
          </a:xfrm>
        </p:grpSpPr>
        <p:sp>
          <p:nvSpPr>
            <p:cNvPr id="392" name=""/>
            <p:cNvSpPr/>
            <p:nvPr/>
          </p:nvSpPr>
          <p:spPr>
            <a:xfrm>
              <a:off x="5029200" y="762120"/>
              <a:ext cx="1828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utput area for multicast discove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4724280" y="1371600"/>
              <a:ext cx="9907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5333760" y="3048120"/>
            <a:ext cx="3657960" cy="489600"/>
            <a:chOff x="5333760" y="3048120"/>
            <a:chExt cx="3657960" cy="489600"/>
          </a:xfrm>
        </p:grpSpPr>
        <p:sp>
          <p:nvSpPr>
            <p:cNvPr id="395" name=""/>
            <p:cNvSpPr/>
            <p:nvPr/>
          </p:nvSpPr>
          <p:spPr>
            <a:xfrm>
              <a:off x="6019920" y="3200400"/>
              <a:ext cx="29718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utput area for unicast discove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 flipV="1">
              <a:off x="5333760" y="3048120"/>
              <a:ext cx="6858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07" dur="1" fill="hold"/>
                                  <p:tgtEl>
                                    <p:spTgt spid="3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4 handle exceptions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 Receive notifications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1 get lookup service proxy registrar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2 display lookup service info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151920" y="151920"/>
            <a:ext cx="6782040" cy="6629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invalid Jini UR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MalformedURL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creating LookupDiscoveryManag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O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GeneralDiscoveryUtility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ceive notifications of discovered lookup service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scovered( DiscoveryEvent 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the proxy registrars for those servi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rviceRegistrar[] registrars = event.getRegistrar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isplay information for each lookup service fou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registrars.length ; i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display multicast results in multicast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lookupManager.getFrom( registrars[ i ] ) =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LookupDiscoveryManager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FROM_GROUP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displayServiceDetails( registrars[ i ]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multicastArea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display unicast results in unicast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displayServiceDetails( registrars[ i ], unicastArea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method discover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866920" y="4191120"/>
            <a:ext cx="2819880" cy="824040"/>
            <a:chOff x="5866920" y="4191120"/>
            <a:chExt cx="2819880" cy="824040"/>
          </a:xfrm>
        </p:grpSpPr>
        <p:sp>
          <p:nvSpPr>
            <p:cNvPr id="400" name=""/>
            <p:cNvSpPr/>
            <p:nvPr/>
          </p:nvSpPr>
          <p:spPr>
            <a:xfrm>
              <a:off x="6705720" y="4191120"/>
              <a:ext cx="19810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play multicast discovered lookup servi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5866920" y="4495680"/>
              <a:ext cx="8384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5638320" y="5105520"/>
            <a:ext cx="3277080" cy="761760"/>
            <a:chOff x="5638320" y="5105520"/>
            <a:chExt cx="3277080" cy="761760"/>
          </a:xfrm>
        </p:grpSpPr>
        <p:sp>
          <p:nvSpPr>
            <p:cNvPr id="403" name=""/>
            <p:cNvSpPr/>
            <p:nvPr/>
          </p:nvSpPr>
          <p:spPr>
            <a:xfrm>
              <a:off x="6477120" y="5105520"/>
              <a:ext cx="24382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play unicast discovered lookup servi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5638320" y="5410080"/>
              <a:ext cx="8384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21" dur="1" fill="hold"/>
                                  <p:tgtEl>
                                    <p:spTgt spid="4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5. Display details of lookup service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5.1 append output</a:t>
            </a: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380880" y="685800"/>
            <a:ext cx="6477120" cy="5562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details of given ServiceRegistra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splayServiceDetails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rviceRegistrar registrar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Area outputArea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Buffer buff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Buff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hostname and port 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uffer.appe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ookup Service: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uffer.appe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 Host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registrar.getLocator().getHost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uffer.appe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 Port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registrar.getLocator().getPort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uffer.appe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 Group support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lookup service group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[] groups = registrar.getGroup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group names; if empty write public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0; i &lt; groups.length ; i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groups[ i ].equals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buffer.appe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ublic,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buffer.append( groups[ i ]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,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uffer.appe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257440" y="2133720"/>
            <a:ext cx="2591280" cy="533160"/>
            <a:chOff x="5257440" y="2133720"/>
            <a:chExt cx="2591280" cy="533160"/>
          </a:xfrm>
        </p:grpSpPr>
        <p:sp>
          <p:nvSpPr>
            <p:cNvPr id="408" name=""/>
            <p:cNvSpPr/>
            <p:nvPr/>
          </p:nvSpPr>
          <p:spPr>
            <a:xfrm>
              <a:off x="5867280" y="2133720"/>
              <a:ext cx="19814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okup service ho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5257440" y="2286000"/>
              <a:ext cx="6094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5257440" y="2819520"/>
            <a:ext cx="2591280" cy="337320"/>
            <a:chOff x="5257440" y="2819520"/>
            <a:chExt cx="2591280" cy="337320"/>
          </a:xfrm>
        </p:grpSpPr>
        <p:sp>
          <p:nvSpPr>
            <p:cNvPr id="411" name=""/>
            <p:cNvSpPr/>
            <p:nvPr/>
          </p:nvSpPr>
          <p:spPr>
            <a:xfrm>
              <a:off x="5943600" y="2819520"/>
              <a:ext cx="19051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okup service po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5257440" y="29718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5257440" y="4495680"/>
            <a:ext cx="2667240" cy="580680"/>
            <a:chOff x="5257440" y="4495680"/>
            <a:chExt cx="2667240" cy="580680"/>
          </a:xfrm>
        </p:grpSpPr>
        <p:sp>
          <p:nvSpPr>
            <p:cNvPr id="414" name=""/>
            <p:cNvSpPr/>
            <p:nvPr/>
          </p:nvSpPr>
          <p:spPr>
            <a:xfrm>
              <a:off x="6400800" y="4495680"/>
              <a:ext cx="1523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okup service grou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5257440" y="4800600"/>
              <a:ext cx="11430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40" dur="1" fill="hold"/>
                                  <p:tgtEl>
                                    <p:spTgt spid="4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5.2 GUI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6. Ignore invalid lookup service</a:t>
            </a:r>
            <a:br>
              <a:rPr sz="1200"/>
            </a:b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533160" y="762120"/>
            <a:ext cx="6172200" cy="5410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append information to output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wingUtilities.invokeLater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create Runnable for appending te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unnable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append text and update caret pos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u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outputArea.append( buffer.toString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outputArea.setCaretPositi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outputArea.getText().length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all to invokeLa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communicating with lookup ser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mote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displayServiceDetail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ceive discarded lookup service notifica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scarded( DiscoveryEvent event ) {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7. Main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6553440" cy="2971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aunch GeneralDiscoveryUtility 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oid main( String[] args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SecurityManag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ystem.getSecurityManager() =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setSecurityManager(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MISecurityManager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aunch GeneralDiscoveryUtility for set of hostnam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eneralDiscoveryUtility utility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neralDiscoveryUtility( arg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utility.setDefaultCloseOperat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XIT_ON_CLO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utility.pack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utility.setVisi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1066680" y="3429000"/>
            <a:ext cx="4991400" cy="3162240"/>
          </a:xfrm>
          <a:prstGeom prst="rect">
            <a:avLst/>
          </a:prstGeom>
          <a:ln w="0">
            <a:noFill/>
          </a:ln>
        </p:spPr>
      </p:pic>
      <p:grpSp>
        <p:nvGrpSpPr>
          <p:cNvPr id="421" name=""/>
          <p:cNvGrpSpPr/>
          <p:nvPr/>
        </p:nvGrpSpPr>
        <p:grpSpPr>
          <a:xfrm>
            <a:off x="5486400" y="2286000"/>
            <a:ext cx="3352680" cy="642240"/>
            <a:chOff x="5486400" y="2286000"/>
            <a:chExt cx="3352680" cy="642240"/>
          </a:xfrm>
        </p:grpSpPr>
        <p:sp>
          <p:nvSpPr>
            <p:cNvPr id="422" name=""/>
            <p:cNvSpPr/>
            <p:nvPr/>
          </p:nvSpPr>
          <p:spPr>
            <a:xfrm>
              <a:off x="6477120" y="2590920"/>
              <a:ext cx="236196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it when window clos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 flipV="1">
              <a:off x="5486400" y="2286000"/>
              <a:ext cx="9907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49" dur="1" fill="hold"/>
                                  <p:tgtEl>
                                    <p:spTgt spid="4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2.8.2 Entry Utiliti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 Jini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nt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 define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nt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2.8.2 Entry Utiliti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427" name=""/>
          <p:cNvGraphicFramePr/>
          <p:nvPr/>
        </p:nvGraphicFramePr>
        <p:xfrm>
          <a:off x="685800" y="1371600"/>
          <a:ext cx="7769160" cy="457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7769160" cy="45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minarProvider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 No-argument constructor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. Other constructor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6782040" cy="4114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minarProvide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minarProvider is an Entry object for the SeminarInfo servic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ni.utilities.entr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ini extension pack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entry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lookup.entry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minarProvide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bstractEntry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iceControll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provider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no-argumen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minarProvider() {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minarProvider constructor for specifying provider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minarProvider( String provide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oviderName = provid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3504960" y="3733920"/>
            <a:ext cx="3353040" cy="337320"/>
            <a:chOff x="3504960" y="3733920"/>
            <a:chExt cx="3353040" cy="337320"/>
          </a:xfrm>
        </p:grpSpPr>
        <p:sp>
          <p:nvSpPr>
            <p:cNvPr id="432" name=""/>
            <p:cNvSpPr/>
            <p:nvPr/>
          </p:nvSpPr>
          <p:spPr>
            <a:xfrm>
              <a:off x="4572000" y="3733920"/>
              <a:ext cx="22860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-argument construc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3504960" y="396252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4038120" y="4723920"/>
            <a:ext cx="3429360" cy="337680"/>
            <a:chOff x="4038120" y="4723920"/>
            <a:chExt cx="3429360" cy="337680"/>
          </a:xfrm>
        </p:grpSpPr>
        <p:sp>
          <p:nvSpPr>
            <p:cNvPr id="435" name=""/>
            <p:cNvSpPr/>
            <p:nvPr/>
          </p:nvSpPr>
          <p:spPr>
            <a:xfrm>
              <a:off x="5715000" y="4724280"/>
              <a:ext cx="17524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ther construc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 flipV="1">
              <a:off x="4038120" y="4723920"/>
              <a:ext cx="16765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3962520" y="3124080"/>
            <a:ext cx="1981080" cy="337320"/>
            <a:chOff x="3962520" y="3124080"/>
            <a:chExt cx="1981080" cy="337320"/>
          </a:xfrm>
        </p:grpSpPr>
        <p:sp>
          <p:nvSpPr>
            <p:cNvPr id="438" name=""/>
            <p:cNvSpPr/>
            <p:nvPr/>
          </p:nvSpPr>
          <p:spPr>
            <a:xfrm>
              <a:off x="4800600" y="3124080"/>
              <a:ext cx="11430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ublic fiel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3962520" y="3276720"/>
              <a:ext cx="8380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68" dur="1" fill="hold"/>
                                  <p:tgtEl>
                                    <p:spTgt spid="4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2.8.3 Lease Utiliti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leas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lf-heal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cover from commonplace proble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sing strate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new leases until service termina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per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easeRenewalManag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464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62866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</a:t>
            </a:r>
            <a:br>
              <a:rPr sz="1200"/>
            </a:b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minarInfoLeaseService</a:t>
            </a:r>
            <a:br>
              <a:rPr sz="1000"/>
            </a:br>
            <a:br>
              <a:rPr sz="10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 Import packages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. Declarations</a:t>
            </a: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152280" y="533160"/>
            <a:ext cx="6858000" cy="5715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minarInfoLeaseService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minarInfoLeaseService discovers lookup services, regist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e SeminarInfo service, and creates a LeaseRenewalManag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o maintain the SeminarInfo service leas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ni.utilities.leasin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RMISecurityManag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IO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ini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lookup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entry.Entr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lease.Leas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ini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discovery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lookup.entry.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lease.LeaseRenewalManag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ni.seminar.service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ni.utilities.entry.SeminarProvid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minarInfoLeaseService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scoveryListen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okupDiscovery discov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iceItem ite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EASETI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 Constructor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1 multicast discovers lookup services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2 specify servic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228240" y="1066680"/>
            <a:ext cx="6629400" cy="4648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minarInfoLeaseService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minarInfoLeaseServic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arch for lookup services with public grou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iscov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okupDiscover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[]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register DiscoveryListe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iscover.addDiscoveryListen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creating LookupDiscove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O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and set Entry name for ser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ntry[] entrie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try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ntrie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minarProvid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eite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pecify the service's proxy and en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tem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iceItem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createProxy(), entrie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SeminarInfoLeaseService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5257800" y="2285640"/>
            <a:ext cx="2819520" cy="718560"/>
            <a:chOff x="5257800" y="2285640"/>
            <a:chExt cx="2819520" cy="718560"/>
          </a:xfrm>
        </p:grpSpPr>
        <p:sp>
          <p:nvSpPr>
            <p:cNvPr id="447" name=""/>
            <p:cNvSpPr/>
            <p:nvPr/>
          </p:nvSpPr>
          <p:spPr>
            <a:xfrm>
              <a:off x="6248520" y="2666880"/>
              <a:ext cx="18288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ulticast discove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 flipV="1">
              <a:off x="5257800" y="2285640"/>
              <a:ext cx="9907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5105520" y="3581280"/>
            <a:ext cx="2743200" cy="685800"/>
            <a:chOff x="5105520" y="3581280"/>
            <a:chExt cx="2743200" cy="685800"/>
          </a:xfrm>
        </p:grpSpPr>
        <p:sp>
          <p:nvSpPr>
            <p:cNvPr id="450" name=""/>
            <p:cNvSpPr/>
            <p:nvPr/>
          </p:nvSpPr>
          <p:spPr>
            <a:xfrm>
              <a:off x="6400800" y="3581280"/>
              <a:ext cx="14479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pecify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5105520" y="3733920"/>
              <a:ext cx="129528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82" dur="1" fill="hold"/>
                                  <p:tgtEl>
                                    <p:spTgt spid="4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 Found lookup service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1 register service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2 renew service’s lease</a:t>
            </a:r>
            <a:br>
              <a:rPr sz="1200"/>
            </a:b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304560" y="304920"/>
            <a:ext cx="6553080" cy="62481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ceive notifications of discovered lookup servi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scovered ( DiscoveryEvent 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rviceRegistrar[] registrars = event.getRegistrar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gister the service with the lookup ser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0; i &lt; registrars.length; i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rviceRegistrar registrar = registrars[ i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register the service with the lookup ser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erviceRegistration registration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registrar.register( item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LEASETI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create LeaseRenewalmanag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LeaseRenewalManager leaseManage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easeRenewalManag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renew SeminarInfo lease indefinitel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leaseManager.renewUntil( registration.getLease()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Leas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FOREV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handle exception registering ServiceIte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mote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discover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5562720" y="2362320"/>
            <a:ext cx="2438280" cy="337320"/>
            <a:chOff x="5562720" y="2362320"/>
            <a:chExt cx="2438280" cy="337320"/>
          </a:xfrm>
        </p:grpSpPr>
        <p:sp>
          <p:nvSpPr>
            <p:cNvPr id="455" name=""/>
            <p:cNvSpPr/>
            <p:nvPr/>
          </p:nvSpPr>
          <p:spPr>
            <a:xfrm>
              <a:off x="6477120" y="2362320"/>
              <a:ext cx="1523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gister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>
              <a:off x="5562720" y="2514600"/>
              <a:ext cx="9144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5334120" y="4266720"/>
            <a:ext cx="2971800" cy="490320"/>
            <a:chOff x="5334120" y="4266720"/>
            <a:chExt cx="2971800" cy="490320"/>
          </a:xfrm>
        </p:grpSpPr>
        <p:sp>
          <p:nvSpPr>
            <p:cNvPr id="458" name=""/>
            <p:cNvSpPr/>
            <p:nvPr/>
          </p:nvSpPr>
          <p:spPr>
            <a:xfrm>
              <a:off x="6248520" y="4419720"/>
              <a:ext cx="20574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new service’s le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 flipV="1">
              <a:off x="5334120" y="4266720"/>
              <a:ext cx="9144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96" dur="1" fill="hold"/>
                                  <p:tgtEl>
                                    <p:spTgt spid="4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5. Ignore invalid lookup service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6. Create service prox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533520" y="1295280"/>
            <a:ext cx="6324480" cy="4114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gnore discarded lookup servi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scarded( DiscoveryEvent event ) {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seminar service prox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minarInterface createProxy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BackendInterface reference to SeminarInfo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ackendInterface backInterfac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minarInfo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minarProxy( backInterfac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creating SeminarProx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mote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method createProx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5715000" y="3276720"/>
            <a:ext cx="2209680" cy="656640"/>
            <a:chOff x="5715000" y="3276720"/>
            <a:chExt cx="2209680" cy="656640"/>
          </a:xfrm>
        </p:grpSpPr>
        <p:sp>
          <p:nvSpPr>
            <p:cNvPr id="463" name=""/>
            <p:cNvSpPr/>
            <p:nvPr/>
          </p:nvSpPr>
          <p:spPr>
            <a:xfrm>
              <a:off x="6553080" y="3352680"/>
              <a:ext cx="13716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urn service prox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 flipV="1">
              <a:off x="5715000" y="3276720"/>
              <a:ext cx="8380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05" dur="1" fill="hold"/>
                                  <p:tgtEl>
                                    <p:spTgt spid="4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7. main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7.1 set security manager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7.2 keep application aliv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304560" y="609480"/>
            <a:ext cx="6553080" cy="5562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aunch SeminarInfoLeaseSer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 args[]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SecurityManag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ystem.getSecurityManager() =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setSecurityManag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MISecurityManager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minarInfoLeaseService servic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minarInfoLeaseServi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bject keepAliv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bjec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wait on keepAlive Object to keep service runn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ynchroniz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keepAlive )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keep application aliv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keepAlive.wai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handle exception if wait interrupt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nterrupted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synchronized blo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3886200" y="3657600"/>
            <a:ext cx="3048120" cy="380880"/>
            <a:chOff x="3886200" y="3657600"/>
            <a:chExt cx="3048120" cy="380880"/>
          </a:xfrm>
        </p:grpSpPr>
        <p:sp>
          <p:nvSpPr>
            <p:cNvPr id="468" name=""/>
            <p:cNvSpPr/>
            <p:nvPr/>
          </p:nvSpPr>
          <p:spPr>
            <a:xfrm>
              <a:off x="4876920" y="3657600"/>
              <a:ext cx="20574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eep application al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3886200" y="3886200"/>
              <a:ext cx="9907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14" dur="1" fill="hold"/>
                                  <p:tgtEl>
                                    <p:spTgt spid="4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2.8.3 Lease Utiliti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471" name=""/>
          <p:cNvGraphicFramePr/>
          <p:nvPr/>
        </p:nvGraphicFramePr>
        <p:xfrm>
          <a:off x="685800" y="1371600"/>
          <a:ext cx="7769160" cy="457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7769160" cy="45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2.8.4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JoinManager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Utilit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loy Jini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okup discove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rvice registr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ease manag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per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JoinManag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7009920" y="838080"/>
            <a:ext cx="21337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minarInfoJoinService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 Import package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151920" y="685440"/>
            <a:ext cx="678204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minarInfoJoinService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minarInfoJoinService uses a JoinManager to find looku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rvices, register the Seminar service with the lookup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rvices and manage lease renewal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ni.utilities.jo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RMISecurityManag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IO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ini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lookup.ServiceI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entry.Entr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ini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lookup.entry.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lease.LeaseRenewalManag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lookup.JoinManag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discovery.LookupDiscoveryManag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lookup.ServiceIDListen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ni.seminar.service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ni.utilities.entry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minarInfoJoinService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iceIDListen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. Constructor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.1 specify discovery manager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.2 specify service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.3 deploy service</a:t>
            </a:r>
            <a:br>
              <a:rPr sz="1200"/>
            </a:b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380880" y="685800"/>
            <a:ext cx="6477120" cy="5562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minarInfoJoinService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minarInfoJoinServic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use JoinManager to register SeminarInfo servic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nd manage lea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LookupDiscoveryManager for discover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lookup servi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ookupDiscoveryManager lookupManage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okupDiscoveryManag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[]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and set Entry name for ser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ntry[] entries = new Entry[ 1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ntries[ 0 ]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minarProvid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eite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JoinManag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JoinManager manag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oinManager( createProxy()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entries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lookupManager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easeRenewalManager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creating JoinManag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O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SeminarInfoJoinService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6477120" y="2590920"/>
            <a:ext cx="2514600" cy="580680"/>
            <a:chOff x="6477120" y="2590920"/>
            <a:chExt cx="2514600" cy="580680"/>
          </a:xfrm>
        </p:grpSpPr>
        <p:sp>
          <p:nvSpPr>
            <p:cNvPr id="480" name=""/>
            <p:cNvSpPr/>
            <p:nvPr/>
          </p:nvSpPr>
          <p:spPr>
            <a:xfrm>
              <a:off x="7315200" y="2590920"/>
              <a:ext cx="16765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pecify discovery mana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 flipV="1">
              <a:off x="6477120" y="2666520"/>
              <a:ext cx="8380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6171840" y="3429000"/>
            <a:ext cx="2057760" cy="337320"/>
            <a:chOff x="6171840" y="3429000"/>
            <a:chExt cx="2057760" cy="337320"/>
          </a:xfrm>
        </p:grpSpPr>
        <p:sp>
          <p:nvSpPr>
            <p:cNvPr id="483" name=""/>
            <p:cNvSpPr/>
            <p:nvPr/>
          </p:nvSpPr>
          <p:spPr>
            <a:xfrm>
              <a:off x="6781680" y="3429000"/>
              <a:ext cx="14479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pecify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 flipV="1">
              <a:off x="6171840" y="3504960"/>
              <a:ext cx="60948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5028840" y="4343400"/>
            <a:ext cx="2591280" cy="642240"/>
            <a:chOff x="5028840" y="4343400"/>
            <a:chExt cx="2591280" cy="642240"/>
          </a:xfrm>
        </p:grpSpPr>
        <p:sp>
          <p:nvSpPr>
            <p:cNvPr id="486" name=""/>
            <p:cNvSpPr/>
            <p:nvPr/>
          </p:nvSpPr>
          <p:spPr>
            <a:xfrm>
              <a:off x="6172200" y="4648320"/>
              <a:ext cx="14479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ploy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 flipV="1">
              <a:off x="5028840" y="4343400"/>
              <a:ext cx="11430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33" dur="1" fill="hold"/>
                                  <p:tgtEl>
                                    <p:spTgt spid="4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 Create service proxy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 Get ServiceID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5. ma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655344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seminar service prox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minarInterface createProxy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SeminarProxy for SeminarInfo ser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minarProxy( new SeminarInfo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creating SeminarProx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mote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createProx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ceive notification of ServiceID assign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iceIDNotify( ServiceID serviceID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err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rvice ID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serviceI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aunch SeminarInfoJoinSer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oid main( String args[]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SecurityManag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ystem.getSecurityManager() =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setSecurityManag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MISecurityManager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SeminarInfoJoinSer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minarInfoJoinServi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5638320" y="1371240"/>
            <a:ext cx="2591280" cy="414000"/>
            <a:chOff x="5638320" y="1371240"/>
            <a:chExt cx="2591280" cy="414000"/>
          </a:xfrm>
        </p:grpSpPr>
        <p:sp>
          <p:nvSpPr>
            <p:cNvPr id="491" name=""/>
            <p:cNvSpPr/>
            <p:nvPr/>
          </p:nvSpPr>
          <p:spPr>
            <a:xfrm>
              <a:off x="6324480" y="1447920"/>
              <a:ext cx="19051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urn service prox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 flipV="1">
              <a:off x="5638320" y="1371240"/>
              <a:ext cx="6858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6019920" y="4038120"/>
            <a:ext cx="2819160" cy="337680"/>
            <a:chOff x="6019920" y="4038120"/>
            <a:chExt cx="2819160" cy="337680"/>
          </a:xfrm>
        </p:grpSpPr>
        <p:sp>
          <p:nvSpPr>
            <p:cNvPr id="494" name=""/>
            <p:cNvSpPr/>
            <p:nvPr/>
          </p:nvSpPr>
          <p:spPr>
            <a:xfrm>
              <a:off x="6934320" y="4038480"/>
              <a:ext cx="190476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ssigned Service I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 flipV="1">
              <a:off x="6019920" y="4038120"/>
              <a:ext cx="9144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47" dur="1" fill="hold"/>
                                  <p:tgtEl>
                                    <p:spTgt spid="4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467480" y="-290880"/>
            <a:ext cx="99072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85800" y="76320"/>
            <a:ext cx="6019920" cy="32004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85800" y="3352680"/>
            <a:ext cx="601992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2.8.4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JoinManager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Utilit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497" name=""/>
          <p:cNvGraphicFramePr/>
          <p:nvPr/>
        </p:nvGraphicFramePr>
        <p:xfrm>
          <a:off x="685800" y="1371600"/>
          <a:ext cx="7769160" cy="457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7769160" cy="45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2.8.5 Service Discovery Utiliti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nefit Jini cl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per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rviceDiscoveryManag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 a local cache of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eive event notif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earches not possible wit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rvice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316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63248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3T14:24:58Z</dcterms:created>
  <dc:creator>zhang</dc:creator>
  <dc:description/>
  <dc:language>en-US</dc:language>
  <cp:lastModifiedBy>Sean Santry</cp:lastModifiedBy>
  <dcterms:modified xsi:type="dcterms:W3CDTF">2002-01-17T18:21:03Z</dcterms:modified>
  <cp:revision>211</cp:revision>
  <dc:subject/>
  <dc:title>Chapter 22 - Jini</dc:title>
</cp:coreProperties>
</file>