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23.png" ContentType="image/png"/>
  <Override PartName="/ppt/media/image22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9.png" ContentType="image/png"/>
  <Override PartName="/ppt/media/image17.png" ContentType="image/png"/>
  <Override PartName="/ppt/media/image9.wmf" ContentType="image/x-wmf"/>
  <Override PartName="/ppt/media/image14.png" ContentType="image/png"/>
  <Override PartName="/ppt/media/image27.png" ContentType="image/png"/>
  <Override PartName="/ppt/media/image12.wmf" ContentType="image/x-wmf"/>
  <Override PartName="/ppt/media/image8.wmf" ContentType="image/x-wmf"/>
  <Override PartName="/ppt/media/image13.png" ContentType="image/png"/>
  <Override PartName="/ppt/media/image30.png" ContentType="image/png"/>
  <Override PartName="/ppt/media/image5.png" ContentType="image/png"/>
  <Override PartName="/ppt/media/image31.png" ContentType="image/png"/>
  <Override PartName="/ppt/media/image6.png" ContentType="image/png"/>
  <Override PartName="/ppt/media/image33.png" ContentType="image/png"/>
  <Override PartName="/ppt/media/image34.png" ContentType="image/png"/>
  <Override PartName="/ppt/media/image7.png" ContentType="image/png"/>
  <Override PartName="/ppt/media/image15.wmf" ContentType="image/x-wmf"/>
  <Override PartName="/ppt/media/image35.wmf" ContentType="image/x-wmf"/>
  <Override PartName="/ppt/media/image36.wmf" ContentType="image/x-wmf"/>
  <Override PartName="/ppt/media/image16.png" ContentType="image/png"/>
  <Override PartName="/ppt/media/image11.png" ContentType="image/png"/>
  <Override PartName="/ppt/media/image10.png" ContentType="image/png"/>
  <Override PartName="/ppt/media/image4.wmf" ContentType="image/x-wmf"/>
  <Override PartName="/ppt/media/image3.wmf" ContentType="image/x-wmf"/>
  <Override PartName="/ppt/media/image26.wmf" ContentType="image/x-wmf"/>
  <Override PartName="/ppt/media/image29.png" ContentType="image/png"/>
  <Override PartName="/ppt/media/image32.wmf" ContentType="image/x-wmf"/>
  <Override PartName="/ppt/media/image2.wmf" ContentType="image/x-wmf"/>
  <Override PartName="/ppt/media/image25.wmf" ContentType="image/x-wmf"/>
  <Override PartName="/ppt/media/image28.png" ContentType="image/png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70476-1BAD-4060-9A6B-68B492F39E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6037B-C798-429F-8D81-800E9013FD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DB649-42E8-4AF8-8EFE-A191D6D603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23C4B-1B05-4D33-8D0E-B1E8B03DDB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7E490-1728-48DF-831F-AD481B000A3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6C5F8-C261-4102-B3BC-CE309C06C92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06C36-F4A0-4E0D-AC77-8682AAD3458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11E26-CAB6-4D29-BD43-3FFA71AB3DA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7E6A1-3575-444F-9589-8C03EE52787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51F87-2BC7-4151-A236-F1E2C13B907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54A41-8EFF-4297-8317-12B0584099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C4274-567D-4E5D-A522-86B8E43B53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6E359-A2D6-43F5-A9D6-556AF1700BD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3DAD7-BFEB-47E9-843C-A38B7F31B32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BE889-5CBE-4567-A9EE-118E6125C67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884D6-47BD-4AA9-B553-19D0E9D0BD6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8974E-9DE0-4C18-9CEE-35A9F53422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A2872-A8BD-42AD-A300-1CEF7DF538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D4131-938D-41E0-ACD4-153749D83E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8CA8C-047C-410F-9DD2-8FF7E75248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EAA9B-FE9C-4E2B-9EF0-BD8AF53BED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BE1E5-7209-4941-BDA0-BED0E3696C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7DAE7-AD24-4167-B84F-33B5AA336F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EA6E8-D202-445C-8591-F2FCCCCD74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2 Prentice Hall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8FB6B-1931-41A6-8DD1-A65867A900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2 Prentice Hal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A05B5-F1D0-408D-B06C-B92BA041F1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9: Servlets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143000"/>
            <a:ext cx="77724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9.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9.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ervlet Overview and Architectur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9.2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erface Servlet and the Servlet Life Cycl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9.2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HttpServlet Clas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9.2.3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HttpServletRequest Interfac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9.2.4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HttpServletResponse Interfac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9.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Handling HTTP get Request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9.3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etting Up the Apache Tomcat Server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9.3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eploying a Web Applica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9.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Handling HTTP get Requests Containing Data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9.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Handling HTTP post Request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9.6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Redirecting Requests to Other Resourc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9.7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ession Tracking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9.7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ooki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9.7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ession Tracking with HttpSess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9.8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Multi-Tier Applications: Using JDBC from a Servle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9.9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HttpUtils Clas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9.10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ernet and World Wide Web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2.3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HttpServletReques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Interfac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2.4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HttpServletRespons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Interfa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serv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s a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HttpServletRespon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es it to the servlet’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rvic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tho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2.4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HttpServletRespons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Interfac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3 Handling HTTP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ge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Reques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qu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rieve the content of a UR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elcomeServ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servlet handles HTTP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ques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9.5 WelcomeServlet that responds to a simple HTTP get reques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5-6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9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2-4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6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7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2-4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9.5: WelcomeServlet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 simple servlet to process get request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servlet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http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lcomeServlet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ttpServlet {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cess "get" requests from cli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otected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Get( HttpServletRequest request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ttpServletResponse respons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letException, IOExcept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sponse.setContentTyp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/html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Writer out = response.getWriter(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nd XHTML page to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tart XHT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?xml version = \"1.0\"?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&lt;!DOCTYPE html PUBLIC \"-//W3C//DTD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HTML 1.0 Strict//EN\" \"http://www.w3.or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TR/xhtml1/DTD/xhtml1-strict.dtd\"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tml xmlns = \"http://www.w3.org/1999/xhtml\"&gt;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ead section of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ead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title&gt;A Simple Servlet Example&lt;/title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&lt;/head&gt;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895480" y="838080"/>
            <a:ext cx="3276360" cy="580680"/>
            <a:chOff x="2895480" y="838080"/>
            <a:chExt cx="3276360" cy="580680"/>
          </a:xfrm>
        </p:grpSpPr>
        <p:sp>
          <p:nvSpPr>
            <p:cNvPr id="120" name=""/>
            <p:cNvSpPr/>
            <p:nvPr/>
          </p:nvSpPr>
          <p:spPr>
            <a:xfrm>
              <a:off x="3597120" y="838080"/>
              <a:ext cx="25747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mport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javax.servl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javax.servlet.htt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ackag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2895480" y="1143000"/>
              <a:ext cx="70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5181480" y="1523880"/>
            <a:ext cx="2971800" cy="824040"/>
            <a:chOff x="5181480" y="1523880"/>
            <a:chExt cx="2971800" cy="824040"/>
          </a:xfrm>
        </p:grpSpPr>
        <p:sp>
          <p:nvSpPr>
            <p:cNvPr id="123" name=""/>
            <p:cNvSpPr/>
            <p:nvPr/>
          </p:nvSpPr>
          <p:spPr>
            <a:xfrm>
              <a:off x="5817960" y="1523880"/>
              <a:ext cx="23353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tend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ttpServl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handle HTTP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quests and HTTP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o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ques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5181480" y="1828800"/>
              <a:ext cx="63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723920" y="2209680"/>
            <a:ext cx="3886560" cy="580680"/>
            <a:chOff x="4723920" y="2209680"/>
            <a:chExt cx="3886560" cy="580680"/>
          </a:xfrm>
        </p:grpSpPr>
        <p:sp>
          <p:nvSpPr>
            <p:cNvPr id="126" name=""/>
            <p:cNvSpPr/>
            <p:nvPr/>
          </p:nvSpPr>
          <p:spPr>
            <a:xfrm>
              <a:off x="5556600" y="2209680"/>
              <a:ext cx="3053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verride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oG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provide custom get request processing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4723920" y="2514600"/>
              <a:ext cx="83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876920" y="2819520"/>
            <a:ext cx="3961800" cy="1067400"/>
            <a:chOff x="4876920" y="2819520"/>
            <a:chExt cx="3961800" cy="1067400"/>
          </a:xfrm>
        </p:grpSpPr>
        <p:sp>
          <p:nvSpPr>
            <p:cNvPr id="129" name=""/>
            <p:cNvSpPr/>
            <p:nvPr/>
          </p:nvSpPr>
          <p:spPr>
            <a:xfrm>
              <a:off x="5726520" y="2819520"/>
              <a:ext cx="31122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pons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ContentTy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to specify the content type of the data to be sent as the response to the cli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4876920" y="3124080"/>
              <a:ext cx="84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4800600" y="2971800"/>
            <a:ext cx="4266720" cy="1067400"/>
            <a:chOff x="4800600" y="2971800"/>
            <a:chExt cx="4266720" cy="1067400"/>
          </a:xfrm>
        </p:grpSpPr>
        <p:sp>
          <p:nvSpPr>
            <p:cNvPr id="132" name=""/>
            <p:cNvSpPr/>
            <p:nvPr/>
          </p:nvSpPr>
          <p:spPr>
            <a:xfrm>
              <a:off x="5714280" y="2971800"/>
              <a:ext cx="33530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pons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Writ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to obtain a reference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intWrit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that enables the servlet to send content to the cli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4800600" y="3276720"/>
              <a:ext cx="91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181480" y="3886200"/>
            <a:ext cx="3428640" cy="824040"/>
            <a:chOff x="5181480" y="3886200"/>
            <a:chExt cx="3428640" cy="824040"/>
          </a:xfrm>
        </p:grpSpPr>
        <p:sp>
          <p:nvSpPr>
            <p:cNvPr id="135" name=""/>
            <p:cNvSpPr/>
            <p:nvPr/>
          </p:nvSpPr>
          <p:spPr>
            <a:xfrm>
              <a:off x="5916600" y="3886200"/>
              <a:ext cx="26935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the XHTML document by writing strings with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u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intl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5181480" y="4191120"/>
              <a:ext cx="73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9.5 WelcomeServlet that responds to a simple HTTP get reques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4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1981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body section of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body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1&gt;Welcome to Servlets!&lt;/h1&gt;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body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nd XHT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html&gt;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close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ose stream to complete the p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5866920" y="1295280"/>
            <a:ext cx="3124440" cy="1067400"/>
            <a:chOff x="5866920" y="1295280"/>
            <a:chExt cx="3124440" cy="1067400"/>
          </a:xfrm>
        </p:grpSpPr>
        <p:sp>
          <p:nvSpPr>
            <p:cNvPr id="140" name=""/>
            <p:cNvSpPr/>
            <p:nvPr/>
          </p:nvSpPr>
          <p:spPr>
            <a:xfrm>
              <a:off x="6535080" y="1295280"/>
              <a:ext cx="24562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oses the output stream, flushes the output buffer and sends the information to the cli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5866920" y="1600200"/>
              <a:ext cx="66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9.6 HTML document in which the form’s action invokes WelcomeServlet through the alias welcome1 specified in web.xml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3962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 html 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//W3C//DTD XHTML 1.0 Strict//E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TR/xhtml1/DTD/xhtml1-strict.dt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Fig. 9.6: WelcomeServlet.html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tml xmlns 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http://www.w3.org/1999/xht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titl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andling an HTTP Get Reques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it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form act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advjhtp1/welcome1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method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e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&gt;&lt;label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lick the button to invoke the servl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ubmi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alu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et HTML Docume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label&gt;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for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t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9.6 HTML document in which the form’s action invokes WelcomeServlet through the alias welcome1 specified in web.xml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welcome1a" descr=""/>
          <p:cNvPicPr/>
          <p:nvPr/>
        </p:nvPicPr>
        <p:blipFill>
          <a:blip r:embed="rId1"/>
          <a:stretch/>
        </p:blipFill>
        <p:spPr>
          <a:xfrm>
            <a:off x="1752480" y="1143000"/>
            <a:ext cx="4391280" cy="2266920"/>
          </a:xfrm>
          <a:prstGeom prst="rect">
            <a:avLst/>
          </a:prstGeom>
          <a:ln w="0">
            <a:noFill/>
          </a:ln>
        </p:spPr>
      </p:pic>
      <p:pic>
        <p:nvPicPr>
          <p:cNvPr id="146" name="welcome1b" descr=""/>
          <p:cNvPicPr/>
          <p:nvPr/>
        </p:nvPicPr>
        <p:blipFill>
          <a:blip r:embed="rId2"/>
          <a:stretch/>
        </p:blipFill>
        <p:spPr>
          <a:xfrm>
            <a:off x="1752480" y="3657600"/>
            <a:ext cx="439128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3.1 Setting Up the Apache Tomcat Serv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Tomcat (version 3.2.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akarta.apache.org/builds/jakarta-tomcat/release/v3.2.3/bin/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environment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AVA_HO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MCAT_HO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the Tomcat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mcat sta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unch the Tomcat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ttp://localhost:8080/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3.1 Setting Up the Apache Tomcat Server (Cont.).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50" name="tomcathome" descr=""/>
          <p:cNvPicPr/>
          <p:nvPr/>
        </p:nvPicPr>
        <p:blipFill>
          <a:blip r:embed="rId1"/>
          <a:stretch/>
        </p:blipFill>
        <p:spPr>
          <a:xfrm>
            <a:off x="1752480" y="1143000"/>
            <a:ext cx="5572080" cy="49435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45040" y="6172200"/>
            <a:ext cx="794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9.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mcat documentation home page. (Courtesy of The Apache Software Foundation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1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networking capa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cket-based and packet-based communic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ckag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va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mote Method Invocation (RMI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ckag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va.r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rvlets and Java Server Pages (JSP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est-response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ckag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vax.servl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vax.servlet.ht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vax.servlet.j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vax.servlet.tag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 the Web tier of J2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3.2 Deploying a Web Application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SPs, servlets and their supporting fi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loying a Web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rectory 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xt ro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eb application archive file (WAR fil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ployment descrip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b.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3.2 Deploying a Web Applica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9.9 Deployment descriptor (web.xml) for the advjhtp1 Web application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5-37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8-1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3-16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9-29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20 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2-2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6-2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562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 web-app PUBLIC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"-//Sun Microsystems, Inc.//DTD Web Application 2.2//EN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java.sun.com/j2ee/dtds/web-app_2_2.dt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web-ap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General description of your Web application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display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vanced Java How to Program JSP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nd Servlet Chapter Exampl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display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descript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his is the Web application in which w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emonstrate our JSP and Servlet example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descript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Servlet definitions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servle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servlet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elcome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servlet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descript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 simple servlet that handles an HTTP get reques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descript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servlet-clas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m.deitel.advjhtp1.servlets.WelcomeServl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servlet-clas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servle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600200" y="762120"/>
            <a:ext cx="4800240" cy="824040"/>
            <a:chOff x="1600200" y="762120"/>
            <a:chExt cx="4800240" cy="824040"/>
          </a:xfrm>
        </p:grpSpPr>
        <p:sp>
          <p:nvSpPr>
            <p:cNvPr id="160" name=""/>
            <p:cNvSpPr/>
            <p:nvPr/>
          </p:nvSpPr>
          <p:spPr>
            <a:xfrm>
              <a:off x="2628360" y="762120"/>
              <a:ext cx="37720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ent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eb-ap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efines the configuration of each servlet in the Web application and the servlet mapping for each servle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1600200" y="1066680"/>
              <a:ext cx="102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4190760" y="1523880"/>
            <a:ext cx="4114800" cy="1067400"/>
            <a:chOff x="4190760" y="1523880"/>
            <a:chExt cx="4114800" cy="1067400"/>
          </a:xfrm>
        </p:grpSpPr>
        <p:sp>
          <p:nvSpPr>
            <p:cNvPr id="163" name=""/>
            <p:cNvSpPr/>
            <p:nvPr/>
          </p:nvSpPr>
          <p:spPr>
            <a:xfrm>
              <a:off x="5072400" y="1523880"/>
              <a:ext cx="323316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ent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play-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pecifies a name that can be displayed to the administrator of the server on which the Web application is install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4190760" y="1828800"/>
              <a:ext cx="88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4952880" y="2438280"/>
            <a:ext cx="4038840" cy="1067400"/>
            <a:chOff x="4952880" y="2438280"/>
            <a:chExt cx="4038840" cy="1067400"/>
          </a:xfrm>
        </p:grpSpPr>
        <p:sp>
          <p:nvSpPr>
            <p:cNvPr id="166" name=""/>
            <p:cNvSpPr/>
            <p:nvPr/>
          </p:nvSpPr>
          <p:spPr>
            <a:xfrm>
              <a:off x="5817960" y="2438280"/>
              <a:ext cx="317376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ent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scrip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pecifies a description of the Web application that might be displayed to the administrator of the serv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4952880" y="2743200"/>
              <a:ext cx="86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828440" y="3429000"/>
            <a:ext cx="3794400" cy="337320"/>
            <a:chOff x="1828440" y="3429000"/>
            <a:chExt cx="3794400" cy="337320"/>
          </a:xfrm>
        </p:grpSpPr>
        <p:sp>
          <p:nvSpPr>
            <p:cNvPr id="169" name=""/>
            <p:cNvSpPr/>
            <p:nvPr/>
          </p:nvSpPr>
          <p:spPr>
            <a:xfrm>
              <a:off x="2514600" y="3429000"/>
              <a:ext cx="31082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ent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rvl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escribes a servle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1828440" y="35812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7960" y="3505320"/>
            <a:ext cx="2895480" cy="580680"/>
            <a:chOff x="4647960" y="3505320"/>
            <a:chExt cx="2895480" cy="580680"/>
          </a:xfrm>
        </p:grpSpPr>
        <p:sp>
          <p:nvSpPr>
            <p:cNvPr id="172" name=""/>
            <p:cNvSpPr/>
            <p:nvPr/>
          </p:nvSpPr>
          <p:spPr>
            <a:xfrm>
              <a:off x="5268240" y="3505320"/>
              <a:ext cx="2275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ent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rvlet-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the name for the servle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4647960" y="3810240"/>
              <a:ext cx="62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6095880" y="4038480"/>
            <a:ext cx="2971800" cy="824040"/>
            <a:chOff x="6095880" y="4038480"/>
            <a:chExt cx="2971800" cy="824040"/>
          </a:xfrm>
        </p:grpSpPr>
        <p:sp>
          <p:nvSpPr>
            <p:cNvPr id="175" name=""/>
            <p:cNvSpPr/>
            <p:nvPr/>
          </p:nvSpPr>
          <p:spPr>
            <a:xfrm>
              <a:off x="6732360" y="4038480"/>
              <a:ext cx="23353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ent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scrip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pecifies a description for this particular servle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6095880" y="4343400"/>
              <a:ext cx="63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5486400" y="4724280"/>
            <a:ext cx="3429000" cy="824040"/>
            <a:chOff x="5486400" y="4724280"/>
            <a:chExt cx="3429000" cy="824040"/>
          </a:xfrm>
        </p:grpSpPr>
        <p:sp>
          <p:nvSpPr>
            <p:cNvPr id="178" name=""/>
            <p:cNvSpPr/>
            <p:nvPr/>
          </p:nvSpPr>
          <p:spPr>
            <a:xfrm>
              <a:off x="6400800" y="4724280"/>
              <a:ext cx="2514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ent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rvlet-clas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pecifies compiled servlet’s fully qualified class nam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5486400" y="5105520"/>
              <a:ext cx="914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9.9 Deployment descriptor (web.xml) for the advjhtp1 Web application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2-3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1371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Servlet mappings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servlet-mappin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servlet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elcome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servlet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url-patter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/welcome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url-patter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servlet-mappin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web-ap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648320" y="457200"/>
            <a:ext cx="3276000" cy="824040"/>
            <a:chOff x="4648320" y="457200"/>
            <a:chExt cx="3276000" cy="824040"/>
          </a:xfrm>
        </p:grpSpPr>
        <p:sp>
          <p:nvSpPr>
            <p:cNvPr id="183" name=""/>
            <p:cNvSpPr/>
            <p:nvPr/>
          </p:nvSpPr>
          <p:spPr>
            <a:xfrm>
              <a:off x="5349960" y="457200"/>
              <a:ext cx="25743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ent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rvlet-mapp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pecifie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rvlet-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rl-patter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lemen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4648320" y="762120"/>
              <a:ext cx="70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3.2 Deploying a Web Applica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ok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elcomeServ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/advjhtp1/welcome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advjhtp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pecifies the context ro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welcome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pecifies the URL patt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L pattern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ct match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advjhtp1/welcome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th mappin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advjhtp1/example/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tension mappin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.j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ault servl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advjhtp1/example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3.2 Deploying a Web Applica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4 Handling HTTP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ge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Requests Containing Data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let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elcomeServlet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sponds to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quest that contains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9.11 WelcomeServlet2 responds to a get request that contains data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9.11: WelcomeServlet2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cessing HTTP get requests containing data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servlet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http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lcomeServlet2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ttpServlet {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rocess "get" request from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otected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Get( HttpServletRequest request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ttpServletResponse respons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letException, IOExcept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firstName = request.getParamet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rst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sponse.setContentTyp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/htm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Writer out = response.getWriter(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nd XHTML document to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tart XHT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?xml version = \"1.0\"?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!DOCTYPE html PUBLIC \"-//W3C//DTD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HTML 1.0 Strict//EN\" \"http://www.w3.or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"/TR/xhtml1/DTD/xhtml1-strict.dtd\"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&lt;html xmlns = \"http://www.w3.org/1999/xhtml\"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6248520" y="2743200"/>
            <a:ext cx="2743200" cy="1554120"/>
            <a:chOff x="6248520" y="2743200"/>
            <a:chExt cx="2743200" cy="1554120"/>
          </a:xfrm>
        </p:grpSpPr>
        <p:sp>
          <p:nvSpPr>
            <p:cNvPr id="195" name=""/>
            <p:cNvSpPr/>
            <p:nvPr/>
          </p:nvSpPr>
          <p:spPr>
            <a:xfrm>
              <a:off x="6836040" y="2743200"/>
              <a:ext cx="2155680" cy="1554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que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Paramet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receives the parameter name and returns the correspond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valu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6248520" y="3048120"/>
              <a:ext cx="58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9.11 WelcomeServlet2 responds to a get request that contains data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4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3200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ead section of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ead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title&gt;Processing get requests with data&lt;/title&gt;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&lt;/head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body section of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body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1&gt;Hello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firstName +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,&lt;br /&gt;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Welcome to Servlets!&lt;/h1&gt;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body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nd XHT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html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close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ose stream to complete the p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6019920" y="1523880"/>
            <a:ext cx="2666520" cy="824040"/>
            <a:chOff x="6019920" y="1523880"/>
            <a:chExt cx="2666520" cy="824040"/>
          </a:xfrm>
        </p:grpSpPr>
        <p:sp>
          <p:nvSpPr>
            <p:cNvPr id="200" name=""/>
            <p:cNvSpPr/>
            <p:nvPr/>
          </p:nvSpPr>
          <p:spPr>
            <a:xfrm>
              <a:off x="6590880" y="1523880"/>
              <a:ext cx="20955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s the result of line 16 as part of the response to the cli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6019920" y="1828800"/>
              <a:ext cx="57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9.12 HTML document in which the form’s action invokes WelcomeServlet2 through the alias welcome2 specified in web.xml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4267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 html 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//W3C//DTD XHTML 1.0 Strict//E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http://www.w3.org/TR/xhtml1/DTD/xhtml1-strict.dt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Fig. 9.12: WelcomeServlet2.html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tml xmln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1999/xht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itl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essing get requests with data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it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&lt;form act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advjhtp1/welcome2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method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e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&gt;&lt;labe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ype your first name and press the Submit butt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br /&gt;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 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first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input type 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submi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alu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ubmit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p&gt;&lt;/labe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for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t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019560" y="2971800"/>
            <a:ext cx="2133720" cy="580680"/>
            <a:chOff x="6019560" y="2971800"/>
            <a:chExt cx="2133720" cy="580680"/>
          </a:xfrm>
        </p:grpSpPr>
        <p:sp>
          <p:nvSpPr>
            <p:cNvPr id="205" name=""/>
            <p:cNvSpPr/>
            <p:nvPr/>
          </p:nvSpPr>
          <p:spPr>
            <a:xfrm>
              <a:off x="6476760" y="2971800"/>
              <a:ext cx="16765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the first name from the us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6019560" y="3276720"/>
              <a:ext cx="45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1 Introduc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l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in cli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quest/response mechanis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ssion-tracking capabili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dire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mc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akarta pro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fficial reference implementation of the JSP and servlet standar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9.12 HTML document in which the form’s action invokes WelcomeServlet2 through the alias welcome2 specified in web.xml. 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welcome2a" descr=""/>
          <p:cNvPicPr/>
          <p:nvPr/>
        </p:nvPicPr>
        <p:blipFill>
          <a:blip r:embed="rId1"/>
          <a:stretch/>
        </p:blipFill>
        <p:spPr>
          <a:xfrm>
            <a:off x="1752480" y="838080"/>
            <a:ext cx="4438800" cy="2105280"/>
          </a:xfrm>
          <a:prstGeom prst="rect">
            <a:avLst/>
          </a:prstGeom>
          <a:ln w="0">
            <a:noFill/>
          </a:ln>
        </p:spPr>
      </p:pic>
      <p:pic>
        <p:nvPicPr>
          <p:cNvPr id="209" name="welcome2b" descr=""/>
          <p:cNvPicPr/>
          <p:nvPr/>
        </p:nvPicPr>
        <p:blipFill>
          <a:blip r:embed="rId2"/>
          <a:stretch/>
        </p:blipFill>
        <p:spPr>
          <a:xfrm>
            <a:off x="1752480" y="3276720"/>
            <a:ext cx="44388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4 Handling HTTP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ge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Requests Containing Data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5 Handling HTTP post Reques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 post requ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st data from an HTML form to a server-side form handl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rowsers cache Web pag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let WelcomeServlet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sponds to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quest that contains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9.14 WelcomeServlet3 responds to a post request that contains data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2-4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9.14: WelcomeServlet3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cessing post requests containing data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servlet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http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lcomeServlet3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ttpServlet {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rocess "post" request from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otected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Post( HttpServletRequest request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ttpServletResponse respons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letException, IOExcept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firstName = request.getParamet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rst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sponse.setContentTyp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/html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Writer out = response.getWriter(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nd XHTML page to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tart XHT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?xml version = \"1.0\"?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!DOCTYPE html PUBLIC \"-//W3C//DTD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XHTML 1.0 Strict//EN\" \"http://www.w3.or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TR/xhtml1/DTD/xhtml1-strict.dtd\"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"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&lt;html xmlns = \"http://www.w3.org/1999/xhtml\"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4952520" y="2286000"/>
            <a:ext cx="3124800" cy="580680"/>
            <a:chOff x="4952520" y="2286000"/>
            <a:chExt cx="3124800" cy="580680"/>
          </a:xfrm>
        </p:grpSpPr>
        <p:sp>
          <p:nvSpPr>
            <p:cNvPr id="218" name=""/>
            <p:cNvSpPr/>
            <p:nvPr/>
          </p:nvSpPr>
          <p:spPr>
            <a:xfrm>
              <a:off x="5622120" y="2286000"/>
              <a:ext cx="2455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fin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oPo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to responds to post reques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4952520" y="2590920"/>
              <a:ext cx="66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elcomeServlet3.jav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3200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ead section of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ead&gt;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&lt;title&gt;Processing post requests with data&lt;/title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head&gt;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body section of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body&gt;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1&gt;Hello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 firstName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,&lt;br /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elcome to Servlets!&lt;/h1&gt;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&lt;/body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nd XHT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html&gt;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close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ose stream to complete the p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9.15 HTML document in which the form’s action invokes WelcomeServlet3 through the alias welcome3 specified in web.xml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3-2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4343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 html 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//W3C//DTD XHTML 1.0 Strict//E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TR/xhtml1/DTD/xhtml1-strict.dt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Fig. 9.15: WelcomeServlet3.html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tml xmln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1999/xht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itl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andling an HTTP Post Request with Data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it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form actio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advjhtp1/welcome3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method 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pos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p&gt;&lt;labe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ype your first name and press the Submit butt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r /&gt;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rstname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ubmi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ubmi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label&gt;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for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t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714640" y="2209680"/>
            <a:ext cx="3352680" cy="1310760"/>
            <a:chOff x="5714640" y="2209680"/>
            <a:chExt cx="3352680" cy="1310760"/>
          </a:xfrm>
        </p:grpSpPr>
        <p:sp>
          <p:nvSpPr>
            <p:cNvPr id="225" name=""/>
            <p:cNvSpPr/>
            <p:nvPr/>
          </p:nvSpPr>
          <p:spPr>
            <a:xfrm>
              <a:off x="6432840" y="2209680"/>
              <a:ext cx="26344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vid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or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 which the user can input a name 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put element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irst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then click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bmi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button to invok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elcomeServlet3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5714640" y="2514600"/>
              <a:ext cx="71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9.15 HTML document in which the form’s action invokes WelcomeServlet3 through the alias welcome3 specified in web.xml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welcome3a" descr=""/>
          <p:cNvPicPr/>
          <p:nvPr/>
        </p:nvPicPr>
        <p:blipFill>
          <a:blip r:embed="rId1"/>
          <a:stretch/>
        </p:blipFill>
        <p:spPr>
          <a:xfrm>
            <a:off x="1905120" y="838080"/>
            <a:ext cx="4438440" cy="2105280"/>
          </a:xfrm>
          <a:prstGeom prst="rect">
            <a:avLst/>
          </a:prstGeom>
          <a:ln w="0">
            <a:noFill/>
          </a:ln>
        </p:spPr>
      </p:pic>
      <p:pic>
        <p:nvPicPr>
          <p:cNvPr id="229" name="welcome3b" descr=""/>
          <p:cNvPicPr/>
          <p:nvPr/>
        </p:nvPicPr>
        <p:blipFill>
          <a:blip r:embed="rId2"/>
          <a:stretch/>
        </p:blipFill>
        <p:spPr>
          <a:xfrm>
            <a:off x="1828800" y="3581280"/>
            <a:ext cx="44388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5 Handling HTTP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pos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Request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684360" y="1370160"/>
          <a:ext cx="7769160" cy="517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51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6 Redirecting Requests to Other Resourc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let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edirectServ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directs the request to a different resour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9.17 Redirecting requests to other resource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6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0-2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2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2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9-5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715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9.17: RedirectServlet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directing a user to a different Web pag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servlet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http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directServlet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ttpServlet {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rocess "get" request from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otected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Get( HttpServletRequest request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ttpServletResponse respons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letException, IOExcept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location = request.getParamet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ag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location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location.equals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ite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response.sendRedirec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deitel.com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location.equals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elcome1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response.sendRedirec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elcome1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de that executes only if this servl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oes not redirect the user to another p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sponse.setContentTyp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/htm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Writer out = response.getWriter(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5714640" y="2743200"/>
            <a:ext cx="3124080" cy="580680"/>
            <a:chOff x="5714640" y="2743200"/>
            <a:chExt cx="3124080" cy="580680"/>
          </a:xfrm>
        </p:grpSpPr>
        <p:sp>
          <p:nvSpPr>
            <p:cNvPr id="238" name=""/>
            <p:cNvSpPr/>
            <p:nvPr/>
          </p:nvSpPr>
          <p:spPr>
            <a:xfrm>
              <a:off x="6383880" y="2743200"/>
              <a:ext cx="24548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arameter from the reques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5714640" y="3048120"/>
              <a:ext cx="66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5257440" y="3505320"/>
            <a:ext cx="3581280" cy="580680"/>
            <a:chOff x="5257440" y="3505320"/>
            <a:chExt cx="3581280" cy="580680"/>
          </a:xfrm>
        </p:grpSpPr>
        <p:sp>
          <p:nvSpPr>
            <p:cNvPr id="241" name=""/>
            <p:cNvSpPr/>
            <p:nvPr/>
          </p:nvSpPr>
          <p:spPr>
            <a:xfrm>
              <a:off x="6024600" y="3505320"/>
              <a:ext cx="28141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termine if the value is either “deitel” or “welcome1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5257440" y="3810240"/>
              <a:ext cx="76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6019920" y="3733920"/>
            <a:ext cx="2743200" cy="580680"/>
            <a:chOff x="6019920" y="3733920"/>
            <a:chExt cx="2743200" cy="580680"/>
          </a:xfrm>
        </p:grpSpPr>
        <p:sp>
          <p:nvSpPr>
            <p:cNvPr id="244" name=""/>
            <p:cNvSpPr/>
            <p:nvPr/>
          </p:nvSpPr>
          <p:spPr>
            <a:xfrm>
              <a:off x="6607440" y="3733920"/>
              <a:ext cx="2155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directs the request to www.deitel.com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6019920" y="4038840"/>
              <a:ext cx="58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5333760" y="4267080"/>
            <a:ext cx="3124080" cy="580680"/>
            <a:chOff x="5333760" y="4267080"/>
            <a:chExt cx="3124080" cy="580680"/>
          </a:xfrm>
        </p:grpSpPr>
        <p:sp>
          <p:nvSpPr>
            <p:cNvPr id="247" name=""/>
            <p:cNvSpPr/>
            <p:nvPr/>
          </p:nvSpPr>
          <p:spPr>
            <a:xfrm>
              <a:off x="6003000" y="4267080"/>
              <a:ext cx="24548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directs the request to the servlet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elcomeServl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5333760" y="4572000"/>
              <a:ext cx="66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876920" y="5181480"/>
            <a:ext cx="3961800" cy="824040"/>
            <a:chOff x="4876920" y="5181480"/>
            <a:chExt cx="3961800" cy="824040"/>
          </a:xfrm>
        </p:grpSpPr>
        <p:sp>
          <p:nvSpPr>
            <p:cNvPr id="250" name=""/>
            <p:cNvSpPr/>
            <p:nvPr/>
          </p:nvSpPr>
          <p:spPr>
            <a:xfrm>
              <a:off x="5725440" y="5181480"/>
              <a:ext cx="31132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utput a Web page indicating that an invalid request was made if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ndRedire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not call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4876920" y="5486400"/>
              <a:ext cx="84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2 Servlet Overview and Architectu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let container (servlet engi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rver that executes a servl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servers and application ser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etscape iPlanet Application Ser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icrosoft’s Internet Information Server (II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pache HTTP Ser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EA’s WebLogic Application Ser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BM’s WebSphere Application Ser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orld Wide Web Consortium’s Jigsaw Web Ser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9.17 Redirecting requests to other resource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181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tart XHT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?xml version = \"1.0\"?&gt;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&lt;!DOCTYPE html PUBLIC \"-//W3C//DTD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XHTML 1.0 Strict//EN\" \"http://www.w3.or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TR/xhtml1/DTD/xhtml1-strict.dtd\"&gt;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tml xmlns = \"http://www.w3.org/1999/xhtml\"&gt;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ead section of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&lt;head&gt;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title&gt;Invalid page&lt;/title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head&gt;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body section of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body&gt;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1&gt;Invalid page requested&lt;/h1&gt;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p&gt;&lt;a href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"servlets/RedirectServlet.html\"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lick here to choose again&lt;/a&gt;&lt;/p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body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nd XHT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html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close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ose stream to complete the pag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9.18 RedirectServlet.html document to demonstrate redirecting requests to other resource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5-16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7-1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3962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 html 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//W3C//DTD XHTML 1.0 Strict//E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"http://www.w3.org/TR/xhtml1/DTD/xhtml1-strict.dt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Fig. 9.18: RedirectServlet.html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tml xmln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1999/xht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titl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directing a Request to Another Sit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it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p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lick a link to be redirected to the appropriate pag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&lt;a href 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/advjhtp1/redirect?page=deite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ww.deitel.com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a&gt;&lt;br 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a href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advjhtp1/redirect?page=welcome1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elcome servle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a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t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952520" y="2666880"/>
            <a:ext cx="3794760" cy="824040"/>
            <a:chOff x="4952520" y="2666880"/>
            <a:chExt cx="3794760" cy="824040"/>
          </a:xfrm>
        </p:grpSpPr>
        <p:sp>
          <p:nvSpPr>
            <p:cNvPr id="257" name=""/>
            <p:cNvSpPr/>
            <p:nvPr/>
          </p:nvSpPr>
          <p:spPr>
            <a:xfrm>
              <a:off x="6172200" y="2666880"/>
              <a:ext cx="25750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vide hyperlinks that allow the user to invoke the servlet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directServl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 flipV="1">
              <a:off x="4952520" y="2895480"/>
              <a:ext cx="12193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5105160" y="3048120"/>
              <a:ext cx="10666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9.18 RedirectServlet.html document to demonstrate redirecting requests to other resource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redirecta" descr=""/>
          <p:cNvPicPr/>
          <p:nvPr/>
        </p:nvPicPr>
        <p:blipFill>
          <a:blip r:embed="rId1"/>
          <a:stretch/>
        </p:blipFill>
        <p:spPr>
          <a:xfrm>
            <a:off x="1600200" y="1066680"/>
            <a:ext cx="4867200" cy="2400480"/>
          </a:xfrm>
          <a:prstGeom prst="rect">
            <a:avLst/>
          </a:prstGeom>
          <a:ln w="0">
            <a:noFill/>
          </a:ln>
        </p:spPr>
      </p:pic>
      <p:pic>
        <p:nvPicPr>
          <p:cNvPr id="262" name="redirectb" descr=""/>
          <p:cNvPicPr/>
          <p:nvPr/>
        </p:nvPicPr>
        <p:blipFill>
          <a:blip r:embed="rId2"/>
          <a:stretch/>
        </p:blipFill>
        <p:spPr>
          <a:xfrm>
            <a:off x="1600200" y="3657600"/>
            <a:ext cx="486720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6 Redirecting Requests to other Resource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7 Session Track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a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acy inva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 – stateless protoc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es not support persistent inform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ck clients individu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ok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ssion track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hidde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yp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p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RL rewrit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7.1 Cooki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ed on the user’s computer for retrieval l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-based data sent by servl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um age of a cook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ed automatically when they exp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let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okieServ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ndles bo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ques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9.20 Storing user data on the client computer with cookie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4-2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2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29 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3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3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9.20: CookieServlet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cookies to store data on the client compute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servlet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http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okieServlet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ttpServle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p book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ashMap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itialize Map book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it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ooks.pu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",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0130895725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ooks.pu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++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0130895717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ooks.pu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0130125075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ooks.put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VB6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0134569555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ceive language selection and send cookie contain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commended book to the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otected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Post( HttpServletRequest request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ttpServletResponse respons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hrows ServletException, IO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language = request.getParamet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anguag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isbn = books.get( language ).toString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okie cooki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okie( language, isb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sponse.addCookie( cookie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ust precede getWrite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sponse.setContentTyp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/htm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Writer out = response.getWriter()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3428640" y="2438280"/>
            <a:ext cx="3810240" cy="580680"/>
            <a:chOff x="3428640" y="2438280"/>
            <a:chExt cx="3810240" cy="580680"/>
          </a:xfrm>
        </p:grpSpPr>
        <p:sp>
          <p:nvSpPr>
            <p:cNvPr id="273" name=""/>
            <p:cNvSpPr/>
            <p:nvPr/>
          </p:nvSpPr>
          <p:spPr>
            <a:xfrm>
              <a:off x="4241160" y="2438280"/>
              <a:ext cx="29977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i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opulates books with four key/value pair of book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3428640" y="2743200"/>
              <a:ext cx="81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6095880" y="4952880"/>
            <a:ext cx="2285640" cy="1067400"/>
            <a:chOff x="6095880" y="4952880"/>
            <a:chExt cx="2285640" cy="1067400"/>
          </a:xfrm>
        </p:grpSpPr>
        <p:sp>
          <p:nvSpPr>
            <p:cNvPr id="276" name=""/>
            <p:cNvSpPr/>
            <p:nvPr/>
          </p:nvSpPr>
          <p:spPr>
            <a:xfrm>
              <a:off x="6582960" y="4952880"/>
              <a:ext cx="179856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Paramet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obtain the user’s language selec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6095880" y="525780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5562720" y="5181480"/>
            <a:ext cx="3428640" cy="580680"/>
            <a:chOff x="5562720" y="5181480"/>
            <a:chExt cx="3428640" cy="580680"/>
          </a:xfrm>
        </p:grpSpPr>
        <p:sp>
          <p:nvSpPr>
            <p:cNvPr id="279" name=""/>
            <p:cNvSpPr/>
            <p:nvPr/>
          </p:nvSpPr>
          <p:spPr>
            <a:xfrm>
              <a:off x="6294600" y="5181480"/>
              <a:ext cx="26967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s the ISBN number for the selected language from book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5562720" y="5486400"/>
              <a:ext cx="73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5334120" y="5334120"/>
            <a:ext cx="3428640" cy="1067400"/>
            <a:chOff x="5334120" y="5334120"/>
            <a:chExt cx="3428640" cy="1067400"/>
          </a:xfrm>
        </p:grpSpPr>
        <p:sp>
          <p:nvSpPr>
            <p:cNvPr id="282" name=""/>
            <p:cNvSpPr/>
            <p:nvPr/>
          </p:nvSpPr>
          <p:spPr>
            <a:xfrm>
              <a:off x="6066000" y="5334120"/>
              <a:ext cx="269676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s a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oki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, using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angu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sb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values as the cookie name and cookie value, respectivel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5334120" y="5638680"/>
              <a:ext cx="73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038120" y="5715000"/>
            <a:ext cx="3657600" cy="824040"/>
            <a:chOff x="4038120" y="5715000"/>
            <a:chExt cx="3657600" cy="824040"/>
          </a:xfrm>
        </p:grpSpPr>
        <p:sp>
          <p:nvSpPr>
            <p:cNvPr id="285" name=""/>
            <p:cNvSpPr/>
            <p:nvPr/>
          </p:nvSpPr>
          <p:spPr>
            <a:xfrm>
              <a:off x="4819320" y="5715000"/>
              <a:ext cx="28764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s the cookie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pons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ith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Cooki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ttpServletRespons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4038120" y="6019920"/>
              <a:ext cx="78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9.20 Storing user data on the client computer with cookie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nd XHTML page to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tart XHT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?xml version = \"1.0\"?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!DOCTYPE html PUBLIC \"-//W3C//DTD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HTML 1.0 Strict//EN\" \"http://www.w3.or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TR/xhtml1/DTD/xhtml1-strict.dtd\"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&lt;html xmlns = \"http://www.w3.org/1999/xhtml\"&gt;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ead section of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ead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title&gt;Welcome to Cookies&lt;/title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head&gt;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body section of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&lt;body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p&gt;Welcome to Cookies! You selected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anguage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p&gt;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p&gt;&lt;a href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"/advjhtp1/servlets/CookieSelectLanguage.html\"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lick here to choose another language&lt;/a&gt;&lt;/p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p&gt;&lt;a href = \"/advjhtp1/cookies\"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lick here to get book recommendations&lt;/a&gt;&lt;/p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body&gt;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nd XHT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html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close(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lose stre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9.20 Storing user data on the client computer with cookie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77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ad cookies from client and create XHT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taining recommended book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otected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Get( HttpServletRequest request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ttpServletResponse respons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letException, IO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okie cookies[] = request.getCookies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t cook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sponse.setContentTyp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/htm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Writer out = response.getWrit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tart XHT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&lt;?xml version = \"1.0\"?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!DOCTYPE html PUBLIC \"-//W3C//DTD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XHTML 1.0 Strict//EN\" \"http://www.w3.or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TR/xhtml1/DTD/xhtml1-strict.dtd\"&gt;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tml xmlns = \"http://www.w3.org/1999/xhtml\"&gt;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ead section of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ead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title&gt;Recommendations&lt;/title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head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body section of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body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there are any cookies, recommend a book for each ISB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ookies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cookies.length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1&gt;Recommendations&lt;/h1&gt;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p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4876560" y="1143000"/>
            <a:ext cx="3886200" cy="1067400"/>
            <a:chOff x="4876560" y="1143000"/>
            <a:chExt cx="3886200" cy="1067400"/>
          </a:xfrm>
        </p:grpSpPr>
        <p:sp>
          <p:nvSpPr>
            <p:cNvPr id="292" name=""/>
            <p:cNvSpPr/>
            <p:nvPr/>
          </p:nvSpPr>
          <p:spPr>
            <a:xfrm>
              <a:off x="5705280" y="1143000"/>
              <a:ext cx="30574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rieves the cookies from the client us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ttpServletReque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Cooki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which returns an array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oki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4876560" y="1447920"/>
              <a:ext cx="83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9.20 Storing user data on the client computer with cookie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3733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the name of each cooki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cookies.length; i++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ut.println( cookies[ i ].getName() +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How to Program. ISBN#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cookies[ i ].getValue(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br /&gt;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p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ere were no cook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.println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&lt;h1&gt;No Recommendations&lt;/h1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.println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&lt;p&gt;You did not select a language.&lt;/p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body&gt;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nd XHT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html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close(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lose stre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2.1 Interface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Servle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nd the Servlet Life Cyc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rv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 servlets must implement this interf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 methods of interfac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rvl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re invoked automatical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let life cy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rvlet container invokes the servlet’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i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tho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rvlet’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rvic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thod handles reques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rvlet’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estro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thod releases servlet resources when the servlet container terminates the servl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let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enericServl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HttpServl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9.21 CookieSelectLanguage.html document for selecting a programming language and posting the data to the CookieServlet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 html PUBLIC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//W3C//DTD XHTML 1.0 Strict//E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TR/xhtml1/DTD/xhtml1-strict.dt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Fig. 9.21: CookieSelectLanguage.html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tml xmln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1999/xht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itl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Cookie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itle&g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form actio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advjhtp1/cookie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method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s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p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elect a programming language: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adio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anguage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valu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r 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adio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anguage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alu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++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++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br 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&lt;!-- this radio button checked by default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radio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anguage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value 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Java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ecked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hecke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r 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input type 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radio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anguag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valu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B6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B 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&gt;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ubmi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ubmi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for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t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9.21 CookieSelectLanguage.html document for selecting a programming language and posting the data to the CookieServlet.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cookiesa" descr=""/>
          <p:cNvPicPr/>
          <p:nvPr/>
        </p:nvPicPr>
        <p:blipFill>
          <a:blip r:embed="rId1"/>
          <a:stretch/>
        </p:blipFill>
        <p:spPr>
          <a:xfrm>
            <a:off x="0" y="0"/>
            <a:ext cx="3828960" cy="2641680"/>
          </a:xfrm>
          <a:prstGeom prst="rect">
            <a:avLst/>
          </a:prstGeom>
          <a:ln w="0">
            <a:noFill/>
          </a:ln>
        </p:spPr>
      </p:pic>
      <p:pic>
        <p:nvPicPr>
          <p:cNvPr id="300" name="cookiesb" descr=""/>
          <p:cNvPicPr/>
          <p:nvPr/>
        </p:nvPicPr>
        <p:blipFill>
          <a:blip r:embed="rId2"/>
          <a:stretch/>
        </p:blipFill>
        <p:spPr>
          <a:xfrm>
            <a:off x="3124080" y="2209680"/>
            <a:ext cx="3581640" cy="1981440"/>
          </a:xfrm>
          <a:prstGeom prst="rect">
            <a:avLst/>
          </a:prstGeom>
          <a:ln w="0">
            <a:noFill/>
          </a:ln>
        </p:spPr>
      </p:pic>
      <p:pic>
        <p:nvPicPr>
          <p:cNvPr id="301" name="cookiesc" descr=""/>
          <p:cNvPicPr/>
          <p:nvPr/>
        </p:nvPicPr>
        <p:blipFill>
          <a:blip r:embed="rId3"/>
          <a:stretch/>
        </p:blipFill>
        <p:spPr>
          <a:xfrm>
            <a:off x="228600" y="4184640"/>
            <a:ext cx="388620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9.21 CookieSelectLanguage.html document for selecting a programming language and posting the data to the CookieServlet. 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cookiesd" descr=""/>
          <p:cNvPicPr/>
          <p:nvPr/>
        </p:nvPicPr>
        <p:blipFill>
          <a:blip r:embed="rId1"/>
          <a:stretch/>
        </p:blipFill>
        <p:spPr>
          <a:xfrm>
            <a:off x="1371600" y="533520"/>
            <a:ext cx="4667400" cy="2581200"/>
          </a:xfrm>
          <a:prstGeom prst="rect">
            <a:avLst/>
          </a:prstGeom>
          <a:ln w="0">
            <a:noFill/>
          </a:ln>
        </p:spPr>
      </p:pic>
      <p:pic>
        <p:nvPicPr>
          <p:cNvPr id="304" name="cookiese" descr=""/>
          <p:cNvPicPr/>
          <p:nvPr/>
        </p:nvPicPr>
        <p:blipFill>
          <a:blip r:embed="rId2"/>
          <a:stretch/>
        </p:blipFill>
        <p:spPr>
          <a:xfrm>
            <a:off x="1371600" y="3429000"/>
            <a:ext cx="466740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7.1 Cookie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684360" y="1370160"/>
          <a:ext cx="7769160" cy="517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51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7.1 Cookie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"/>
          <p:cNvSpPr/>
          <p:nvPr/>
        </p:nvSpPr>
        <p:spPr>
          <a:xfrm>
            <a:off x="2216880" y="5943600"/>
            <a:ext cx="490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9.23 (Part 1 of 2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ortant methods of class Cooki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7.1 Cookie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7.2 Session Tracking with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HttpSess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HttpS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pports session track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let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ssionServ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HttpSess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ndles bo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ques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9.24 Maintaining state information with HttpSession object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2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3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3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9.24: SessionServlet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HttpSession to maintain client state informa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servlet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http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ssionServlet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ttpServle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final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ap book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ashMap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itialize Map book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it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ooks.pu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0130895725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ooks.pu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++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0130895717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ooks.pu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0130125075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ooks.put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VB6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0134569555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ceive language selection and create HttpSession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taining recommended book for the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otected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Post( HttpServletRequest request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ttpServletResponse respons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letException, IO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language = request.getParameter( "language"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the user's session objec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 session (true) if one does not exis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ttpSession session = request.getSession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a value for user's choice to ses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ssion.setAttribute( language, books.get( language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6172200" y="4952880"/>
            <a:ext cx="2438280" cy="580680"/>
            <a:chOff x="6172200" y="4952880"/>
            <a:chExt cx="2438280" cy="580680"/>
          </a:xfrm>
        </p:grpSpPr>
        <p:sp>
          <p:nvSpPr>
            <p:cNvPr id="320" name=""/>
            <p:cNvSpPr/>
            <p:nvPr/>
          </p:nvSpPr>
          <p:spPr>
            <a:xfrm>
              <a:off x="6693480" y="4952880"/>
              <a:ext cx="1917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s the user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angu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elec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6172200" y="5257800"/>
              <a:ext cx="52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5715000" y="5486400"/>
            <a:ext cx="3276720" cy="1067400"/>
            <a:chOff x="5715000" y="5486400"/>
            <a:chExt cx="3276720" cy="1067400"/>
          </a:xfrm>
        </p:grpSpPr>
        <p:sp>
          <p:nvSpPr>
            <p:cNvPr id="323" name=""/>
            <p:cNvSpPr/>
            <p:nvPr/>
          </p:nvSpPr>
          <p:spPr>
            <a:xfrm>
              <a:off x="6248520" y="5486400"/>
              <a:ext cx="27432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Sess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ttpServletReque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obta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ttpSess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for the cli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5715000" y="60199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5181480" y="5181480"/>
            <a:ext cx="3810240" cy="1295640"/>
            <a:chOff x="5181480" y="5181480"/>
            <a:chExt cx="3810240" cy="1295640"/>
          </a:xfrm>
        </p:grpSpPr>
        <p:sp>
          <p:nvSpPr>
            <p:cNvPr id="326" name=""/>
            <p:cNvSpPr/>
            <p:nvPr/>
          </p:nvSpPr>
          <p:spPr>
            <a:xfrm>
              <a:off x="5791320" y="5181480"/>
              <a:ext cx="32004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Attribu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put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angu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the corresponding recommended book’s ISBN number in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ttpSess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5181480" y="5791320"/>
              <a:ext cx="6098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9.24 Maintaining state information with HttpSession object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6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6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sponse.setContentTyp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/htm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Writer out = response.getWriter()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nd XHTML page to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tart XHT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?xml version = \"1.0\"?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!DOCTYPE html PUBLIC \"-//W3C//DTD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HTML 1.0 Strict//EN\" \"http://www.w3.org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   "/TR/xhtml1/DTD/xhtml1-strict.dtd\"&gt;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tml xmlns = \"http://www.w3.org/1999/xhtml\"&gt;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ead section of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&lt;head&gt;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title&gt;Welcome to Sessions&lt;/title&gt;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head&gt;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body section of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body&gt;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p&gt;Welcome to Sessions! You selected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anguage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.&lt;/p&gt;" )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isplay information about the ses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p&gt;Your unique session ID i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ssion.getId(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br /&gt;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is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 ( session.isNew(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 no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a new session&lt;br /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4647960" y="5105520"/>
            <a:ext cx="4343400" cy="580680"/>
            <a:chOff x="4647960" y="5105520"/>
            <a:chExt cx="4343400" cy="580680"/>
          </a:xfrm>
        </p:grpSpPr>
        <p:sp>
          <p:nvSpPr>
            <p:cNvPr id="331" name=""/>
            <p:cNvSpPr/>
            <p:nvPr/>
          </p:nvSpPr>
          <p:spPr>
            <a:xfrm>
              <a:off x="5575680" y="5105520"/>
              <a:ext cx="3415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ttpSess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I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obtain the session’s unique ID numb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4647960" y="5410440"/>
              <a:ext cx="93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6019560" y="5715000"/>
            <a:ext cx="2972160" cy="824040"/>
            <a:chOff x="6019560" y="5715000"/>
            <a:chExt cx="2972160" cy="824040"/>
          </a:xfrm>
        </p:grpSpPr>
        <p:sp>
          <p:nvSpPr>
            <p:cNvPr id="334" name=""/>
            <p:cNvSpPr/>
            <p:nvPr/>
          </p:nvSpPr>
          <p:spPr>
            <a:xfrm>
              <a:off x="6629760" y="5715000"/>
              <a:ext cx="23619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termines whether the session is new or already exists with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sNe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6019560" y="6019920"/>
              <a:ext cx="62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9.24 Maintaining state information with HttpSession object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7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7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77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0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The session was created at: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( session.getCreationTime() 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br /&gt;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You last accessed the session at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( session.getLastAccessedTime() 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br /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maximum inactive interval i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ssion.getMaxInactiveInterval(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seconds&lt;/p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p&gt;&lt;a href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"servlets/SessionSelectLanguage.html\"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Click here to choose another language&lt;/a&gt;&lt;/p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&lt;p&gt;&lt;a href = \"sessions\"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lick here to get book recommendations&lt;/a&gt;&lt;/p&gt;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body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nd XHT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html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close(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lose stre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ad session attributes and create XHT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taining recommended book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otected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Get( HttpServletRequest request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ttpServletResponse respons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letException, IO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the user's session objec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o not create a session (false) if one does not exis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ttpSession session = request.getSession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names of session object's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numeration valueName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6171840" y="228600"/>
            <a:ext cx="2591280" cy="1067400"/>
            <a:chOff x="6171840" y="228600"/>
            <a:chExt cx="2591280" cy="1067400"/>
          </a:xfrm>
        </p:grpSpPr>
        <p:sp>
          <p:nvSpPr>
            <p:cNvPr id="339" name=""/>
            <p:cNvSpPr/>
            <p:nvPr/>
          </p:nvSpPr>
          <p:spPr>
            <a:xfrm>
              <a:off x="6726240" y="228600"/>
              <a:ext cx="203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s the time at which the session was created with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CreationTi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6171840" y="533520"/>
              <a:ext cx="55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6172200" y="76320"/>
            <a:ext cx="2895480" cy="990360"/>
            <a:chOff x="6172200" y="76320"/>
            <a:chExt cx="2895480" cy="990360"/>
          </a:xfrm>
        </p:grpSpPr>
        <p:sp>
          <p:nvSpPr>
            <p:cNvPr id="342" name=""/>
            <p:cNvSpPr/>
            <p:nvPr/>
          </p:nvSpPr>
          <p:spPr>
            <a:xfrm>
              <a:off x="6172200" y="76320"/>
              <a:ext cx="28954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s the time at which the session was last accessed with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LastAccessedTi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6552720" y="914400"/>
              <a:ext cx="8384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4495680" y="1752480"/>
            <a:ext cx="4496040" cy="1067400"/>
            <a:chOff x="4495680" y="1752480"/>
            <a:chExt cx="4496040" cy="1067400"/>
          </a:xfrm>
        </p:grpSpPr>
        <p:sp>
          <p:nvSpPr>
            <p:cNvPr id="345" name=""/>
            <p:cNvSpPr/>
            <p:nvPr/>
          </p:nvSpPr>
          <p:spPr>
            <a:xfrm>
              <a:off x="5410080" y="1752480"/>
              <a:ext cx="35816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MaxInactiveInterv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obtain the maximum amount of time that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ttpSess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can be inactive befor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rvl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ainer discards i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 flipV="1">
              <a:off x="4495680" y="1752480"/>
              <a:ext cx="9144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5791320" y="5562720"/>
            <a:ext cx="2971440" cy="824040"/>
            <a:chOff x="5791320" y="5562720"/>
            <a:chExt cx="2971440" cy="824040"/>
          </a:xfrm>
        </p:grpSpPr>
        <p:sp>
          <p:nvSpPr>
            <p:cNvPr id="348" name=""/>
            <p:cNvSpPr/>
            <p:nvPr/>
          </p:nvSpPr>
          <p:spPr>
            <a:xfrm>
              <a:off x="6425640" y="5562720"/>
              <a:ext cx="2337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ttpSess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for the client with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Sess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5791320" y="5867280"/>
              <a:ext cx="63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2.1 Interface Servlet and the Servlet Life Cycl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9.24 Maintaining state information with HttpSession object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0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ession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valueNames = session.getAttributeName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valueName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Writer out = response.getWrit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sponse.setContentTyp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/htm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tart XHT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?xml version = \"1.0\"?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&lt;!DOCTYPE html PUBLIC \"-//W3C//DTD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HTML 1.0 Strict//EN\" \"http://www.w3.or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TR/xhtml1/DTD/xhtml1-strict.dtd\"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tml xmlns = \"http://www.w3.org/1999/xhtml\"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ead section of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&lt;head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&lt;title&gt;Recommendations&lt;/title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head&gt;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body section of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body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valueNames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valueNames.hasMoreElements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1&gt;Recommendations&lt;/h1&gt;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p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name, valu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5257800" y="228600"/>
            <a:ext cx="3200400" cy="1067400"/>
            <a:chOff x="5257800" y="228600"/>
            <a:chExt cx="3200400" cy="1067400"/>
          </a:xfrm>
        </p:grpSpPr>
        <p:sp>
          <p:nvSpPr>
            <p:cNvPr id="353" name=""/>
            <p:cNvSpPr/>
            <p:nvPr/>
          </p:nvSpPr>
          <p:spPr>
            <a:xfrm>
              <a:off x="5940000" y="228600"/>
              <a:ext cx="25182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ttpSess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AttributeNam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retrieve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numera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the attribute nam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5257800" y="533520"/>
              <a:ext cx="68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9.24 Maintaining state information with HttpSession object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4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4343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value for each name in valueNam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valueNames.hasMoreElements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name = valueNames.nextElement().toString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value = session.getAttribute( name ).toString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ut.println( name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How to Program.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BN#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value +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&lt;br /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p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1&gt;No Recommendations&lt;/h1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p&gt;You did not select a language.&lt;/p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body&gt;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nd XHT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html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close()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ose stre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6171840" y="609480"/>
            <a:ext cx="2895480" cy="1310760"/>
            <a:chOff x="6171840" y="609480"/>
            <a:chExt cx="2895480" cy="1310760"/>
          </a:xfrm>
        </p:grpSpPr>
        <p:sp>
          <p:nvSpPr>
            <p:cNvPr id="358" name=""/>
            <p:cNvSpPr/>
            <p:nvPr/>
          </p:nvSpPr>
          <p:spPr>
            <a:xfrm>
              <a:off x="6791040" y="609480"/>
              <a:ext cx="22762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Attribu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ttpSess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retrieve the ISBN of a book from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ttpSess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6171840" y="914400"/>
              <a:ext cx="62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9.25 SessionSelectLanguage.html document for selecting a programming language and posting the data to the SessionServlet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 html 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//W3C//DTD XHTML 1.0 Strict//E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"http://www.w3.org/TR/xhtml1/DTD/xhtml1-strict.dt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Fig. 9.25: SessionSelectLanguage.html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tml xmln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1999/xht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titl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Session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itle&g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form action 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/advjhtp1/sessions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method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s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&lt;p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elect a programming language: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adio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 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languag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/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r 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adio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anguage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++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++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r 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&lt;!-- this radio button checked by default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input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adio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nam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anguage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ecked 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checked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r 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radio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 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language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valu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B6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/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B 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&gt;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ubmi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value 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Submi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for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t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9.25 SessionSelectLanguage.html document for selecting a programming language and posting the data to the SessionServle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sessionsa" descr=""/>
          <p:cNvPicPr/>
          <p:nvPr/>
        </p:nvPicPr>
        <p:blipFill>
          <a:blip r:embed="rId1"/>
          <a:stretch/>
        </p:blipFill>
        <p:spPr>
          <a:xfrm>
            <a:off x="1219320" y="0"/>
            <a:ext cx="4495680" cy="3090960"/>
          </a:xfrm>
          <a:prstGeom prst="rect">
            <a:avLst/>
          </a:prstGeom>
          <a:ln w="0">
            <a:noFill/>
          </a:ln>
        </p:spPr>
      </p:pic>
      <p:pic>
        <p:nvPicPr>
          <p:cNvPr id="364" name="sessionsb" descr=""/>
          <p:cNvPicPr/>
          <p:nvPr/>
        </p:nvPicPr>
        <p:blipFill>
          <a:blip r:embed="rId2"/>
          <a:stretch/>
        </p:blipFill>
        <p:spPr>
          <a:xfrm>
            <a:off x="1219320" y="3124080"/>
            <a:ext cx="449568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9.25 SessionSelectLanguage.html document for selecting a programming language and posting the data to the SessionServlet. 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sessionsc" descr=""/>
          <p:cNvPicPr/>
          <p:nvPr/>
        </p:nvPicPr>
        <p:blipFill>
          <a:blip r:embed="rId1"/>
          <a:stretch/>
        </p:blipFill>
        <p:spPr>
          <a:xfrm>
            <a:off x="1676520" y="0"/>
            <a:ext cx="4667040" cy="3209760"/>
          </a:xfrm>
          <a:prstGeom prst="rect">
            <a:avLst/>
          </a:prstGeom>
          <a:ln w="0">
            <a:noFill/>
          </a:ln>
        </p:spPr>
      </p:pic>
      <p:pic>
        <p:nvPicPr>
          <p:cNvPr id="367" name="sessionsb" descr=""/>
          <p:cNvPicPr/>
          <p:nvPr/>
        </p:nvPicPr>
        <p:blipFill>
          <a:blip r:embed="rId2"/>
          <a:stretch/>
        </p:blipFill>
        <p:spPr>
          <a:xfrm>
            <a:off x="1828800" y="3314880"/>
            <a:ext cx="449568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9.25 SessionSelectLanguage.html document for selecting a programming language and posting the data to the SessionServlet. 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sessionsc" descr=""/>
          <p:cNvPicPr/>
          <p:nvPr/>
        </p:nvPicPr>
        <p:blipFill>
          <a:blip r:embed="rId1"/>
          <a:stretch/>
        </p:blipFill>
        <p:spPr>
          <a:xfrm>
            <a:off x="1523880" y="0"/>
            <a:ext cx="4648320" cy="3197160"/>
          </a:xfrm>
          <a:prstGeom prst="rect">
            <a:avLst/>
          </a:prstGeom>
          <a:ln w="0">
            <a:noFill/>
          </a:ln>
        </p:spPr>
      </p:pic>
      <p:pic>
        <p:nvPicPr>
          <p:cNvPr id="370" name="sessionsd" descr=""/>
          <p:cNvPicPr/>
          <p:nvPr/>
        </p:nvPicPr>
        <p:blipFill>
          <a:blip r:embed="rId2"/>
          <a:stretch/>
        </p:blipFill>
        <p:spPr>
          <a:xfrm>
            <a:off x="1523880" y="3206880"/>
            <a:ext cx="464832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9.25 SessionSelectLanguage.html document for selecting a programming language and posting the data to the SessionServlet. 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sessionse" descr=""/>
          <p:cNvPicPr/>
          <p:nvPr/>
        </p:nvPicPr>
        <p:blipFill>
          <a:blip r:embed="rId1"/>
          <a:stretch/>
        </p:blipFill>
        <p:spPr>
          <a:xfrm>
            <a:off x="1600200" y="2057400"/>
            <a:ext cx="466740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7.2 Session Tracking with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HttpSession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8 Multi-Tier Applications: Using JDBC from a Servle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-tier distributed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r interf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usiness log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tabase acc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servers often represent the middle t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-tier distributed application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rveyServl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rvey.htm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oudscape datab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9.27 Multi-tier Web-based survey using XHTML, servlets and JDBC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6-5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2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2-2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7-3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9.27: SurveyServlet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 Web-based survey that uses JDBC from a servle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servlet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tex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sq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http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urveyServlet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ttpServle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nection connec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eparedStatement updateVotes, totalVotes, result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up database connection and prepare SQL state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it( ServletConfig config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let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ttempt database connection and create PreparedState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lass.forNam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M.cloudscape.core.RmiJdbcDriver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nnection = DriverManager.getConnection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jdbc:rmi:jdbc:cloudscape:animalsurve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PreparedStatement to add one to vote total for a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pecific animal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updateVotes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nnection.prepareStatement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PDATE surveyresults SET votes = votes + 1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HERE id = ?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4572000" y="2819520"/>
            <a:ext cx="2971440" cy="580680"/>
            <a:chOff x="4572000" y="2819520"/>
            <a:chExt cx="2971440" cy="580680"/>
          </a:xfrm>
        </p:grpSpPr>
        <p:sp>
          <p:nvSpPr>
            <p:cNvPr id="381" name=""/>
            <p:cNvSpPr/>
            <p:nvPr/>
          </p:nvSpPr>
          <p:spPr>
            <a:xfrm>
              <a:off x="5206320" y="2819520"/>
              <a:ext cx="23371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rvlets are initialized by overriding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i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4572000" y="3124440"/>
              <a:ext cx="63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6324120" y="3733920"/>
            <a:ext cx="1905480" cy="580680"/>
            <a:chOff x="6324120" y="3733920"/>
            <a:chExt cx="1905480" cy="580680"/>
          </a:xfrm>
        </p:grpSpPr>
        <p:sp>
          <p:nvSpPr>
            <p:cNvPr id="384" name=""/>
            <p:cNvSpPr/>
            <p:nvPr/>
          </p:nvSpPr>
          <p:spPr>
            <a:xfrm>
              <a:off x="6731280" y="3733920"/>
              <a:ext cx="14983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ads the database driv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6324120" y="4038840"/>
              <a:ext cx="40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5334120" y="3886200"/>
            <a:ext cx="3428640" cy="580680"/>
            <a:chOff x="5334120" y="3886200"/>
            <a:chExt cx="3428640" cy="580680"/>
          </a:xfrm>
        </p:grpSpPr>
        <p:sp>
          <p:nvSpPr>
            <p:cNvPr id="387" name=""/>
            <p:cNvSpPr/>
            <p:nvPr/>
          </p:nvSpPr>
          <p:spPr>
            <a:xfrm>
              <a:off x="6066000" y="3886200"/>
              <a:ext cx="26967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ttempt to open a connection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imalsurve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atabas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5334120" y="4191120"/>
              <a:ext cx="73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3962520" y="4800600"/>
            <a:ext cx="3200040" cy="580680"/>
            <a:chOff x="3962520" y="4800600"/>
            <a:chExt cx="3200040" cy="580680"/>
          </a:xfrm>
        </p:grpSpPr>
        <p:sp>
          <p:nvSpPr>
            <p:cNvPr id="390" name=""/>
            <p:cNvSpPr/>
            <p:nvPr/>
          </p:nvSpPr>
          <p:spPr>
            <a:xfrm>
              <a:off x="4645800" y="4800600"/>
              <a:ext cx="25167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eparedStat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pdateVot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3962520" y="5105520"/>
              <a:ext cx="68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2.2 HttpServlet Clas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rides metho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ost common HTTP request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ques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ques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oG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sponds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qu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oP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sponds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qu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HttpServletReque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HttpServletRespo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9.27 Multi-tier Web-based survey using XHTML, servlets and JDBC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4-44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248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PreparedStatement to sum the vot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otalVotes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nnection.prepareStatement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SELECT sum( votes ) FROM surveyresults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PreparedStatement to obtain surveyoption table's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ults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nnection.prepareStatement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LECT surveyoption, votes, id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ROM surveyresults ORDER BY id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for any exception throw an UnavailableException to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dicate that the servlet is not currently avail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 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navailableException(exception.getMessage()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of init metho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rocess survey respon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otected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Post( HttpServletRequest request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ttpServletResponse respons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letException, IO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up response to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sponse.setContentTyp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/htm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Writer out = response.getWrit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ecimalFormat twoDigits = new DecimalFormat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0.0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4647960" y="762120"/>
            <a:ext cx="4357800" cy="1066680"/>
            <a:chOff x="4647960" y="762120"/>
            <a:chExt cx="4357800" cy="1066680"/>
          </a:xfrm>
        </p:grpSpPr>
        <p:sp>
          <p:nvSpPr>
            <p:cNvPr id="395" name=""/>
            <p:cNvSpPr/>
            <p:nvPr/>
          </p:nvSpPr>
          <p:spPr>
            <a:xfrm>
              <a:off x="6248520" y="838080"/>
              <a:ext cx="275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eparedStat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otalVot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ult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 flipV="1">
              <a:off x="4724280" y="762120"/>
              <a:ext cx="1524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4647960" y="1143000"/>
              <a:ext cx="16002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9.27 Multi-tier Web-based survey using XHTML, servlets and JDBC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80-8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87-8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91-9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96-12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tart XHT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?xml version = \"1.0\"?&gt;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&lt;!DOCTYPE html PUBLIC \"-//W3C//DTD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HTML 1.0 Strict//EN\" \"http://www.w3.or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TR/xhtml1/DTD/xhtml1-strict.dtd\"&gt;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&lt;html xmlns = \"http://www.w3.org/1999/xhtml\"&gt;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ead section of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ead&gt;" )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ad current survey respon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teger.parseInt( request.getParamet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nimal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ttempt to process a vote and display current resul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update total for current surevy respon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updateVotes.setI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updateVotes.executeUpdat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total of all survey respons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ultSet totalRS = totalVotes.executeQuer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otalRS.n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otal = totalRS.getI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resul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ultSet resultsRS = results.executeQuer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title&gt;Thank you!&lt;/title&gt;" )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head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791320" y="2590920"/>
            <a:ext cx="2209320" cy="580680"/>
            <a:chOff x="5791320" y="2590920"/>
            <a:chExt cx="2209320" cy="580680"/>
          </a:xfrm>
        </p:grpSpPr>
        <p:sp>
          <p:nvSpPr>
            <p:cNvPr id="401" name=""/>
            <p:cNvSpPr/>
            <p:nvPr/>
          </p:nvSpPr>
          <p:spPr>
            <a:xfrm>
              <a:off x="6262920" y="2590920"/>
              <a:ext cx="17377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the survey respon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5791320" y="2895840"/>
              <a:ext cx="47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4495320" y="3962520"/>
            <a:ext cx="4572000" cy="824040"/>
            <a:chOff x="4495320" y="3962520"/>
            <a:chExt cx="4572000" cy="824040"/>
          </a:xfrm>
        </p:grpSpPr>
        <p:sp>
          <p:nvSpPr>
            <p:cNvPr id="404" name=""/>
            <p:cNvSpPr/>
            <p:nvPr/>
          </p:nvSpPr>
          <p:spPr>
            <a:xfrm>
              <a:off x="5471640" y="3962520"/>
              <a:ext cx="35956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the first parameter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eparedStat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pdateVot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the survey response and update the databas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495320" y="4267080"/>
              <a:ext cx="98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105520" y="4876920"/>
            <a:ext cx="3428640" cy="824040"/>
            <a:chOff x="5105520" y="4876920"/>
            <a:chExt cx="3428640" cy="824040"/>
          </a:xfrm>
        </p:grpSpPr>
        <p:sp>
          <p:nvSpPr>
            <p:cNvPr id="407" name=""/>
            <p:cNvSpPr/>
            <p:nvPr/>
          </p:nvSpPr>
          <p:spPr>
            <a:xfrm>
              <a:off x="5837400" y="4876920"/>
              <a:ext cx="26967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ecut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eparedStat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otalVot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retrieve the total number of votes receiv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5105520" y="5181480"/>
              <a:ext cx="73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5638680" y="5562720"/>
            <a:ext cx="3428640" cy="1067400"/>
            <a:chOff x="5638680" y="5562720"/>
            <a:chExt cx="3428640" cy="1067400"/>
          </a:xfrm>
        </p:grpSpPr>
        <p:sp>
          <p:nvSpPr>
            <p:cNvPr id="410" name=""/>
            <p:cNvSpPr/>
            <p:nvPr/>
          </p:nvSpPr>
          <p:spPr>
            <a:xfrm>
              <a:off x="6370560" y="5562720"/>
              <a:ext cx="269676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ecut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eparedStat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sults and proces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ultS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create the survey summary for the cli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5638680" y="5867280"/>
              <a:ext cx="73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9.27 Multi-tier Web-based survey using XHTML, servlets and JDBC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body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p&gt;Thank you for participating.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.println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&lt;br /&gt;Results:&lt;/p&gt;&lt;pre&gt;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process resul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ote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while ( resultsRS.next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ut.print( resultsRS.get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ut.pri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votes = resultsRS.getI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ut.print( twoDigits.format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( double ) votes / total *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ut.pri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%  response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ut.println( vote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ultsRS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.pri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otal response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.print( tota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end XHT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pre&gt;&lt;/body&gt;&lt;/html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database exception occurs, return error p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SQLException sql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ql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title&gt;Error&lt;/title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head&gt;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.println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&lt;body&gt;&lt;p&gt;Database error occurred.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.println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Try again later.&lt;/p&gt;&lt;/body&gt;&lt;/html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9.27 Multi-tier Web-based survey using XHTML, servlets and JDBC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40-15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3886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of doPost metho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lose SQL statements and database when servlet terminat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stroy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ttempt to close statements and database conne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updateVotes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otalVotes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ults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nnection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database exceptions by returning error to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SQLException sql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ql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of destroy metho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2895480" y="990720"/>
            <a:ext cx="2971440" cy="824040"/>
            <a:chOff x="2895480" y="990720"/>
            <a:chExt cx="2971440" cy="824040"/>
          </a:xfrm>
        </p:grpSpPr>
        <p:sp>
          <p:nvSpPr>
            <p:cNvPr id="417" name=""/>
            <p:cNvSpPr/>
            <p:nvPr/>
          </p:nvSpPr>
          <p:spPr>
            <a:xfrm>
              <a:off x="3529800" y="990720"/>
              <a:ext cx="2337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destroy closes each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eparedStat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database connec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2895480" y="1295280"/>
              <a:ext cx="63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9.28 Survey.html document that allows users to submit survey responses to SurveyServlet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 html PUBLIC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//W3C//DTD XHTML 1.0 Strict//E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"http://www.w3.org/TR/xhtml1/DTD/xhtml1-strict.dt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Fig. 9.28: Survey.html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tml xmln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1999/xht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itl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urvey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it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form method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s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action 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/advjhtp1/animalsurvey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p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hat is your favorite pet?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adio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nimal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valu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og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r 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adio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nima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valu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r 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adio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nimal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3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ir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r 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adio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nima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valu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4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nak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r 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adio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nima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5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checke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hecked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o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p&gt;&lt;input type 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submi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ubmit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for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t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9.28 Survey.html document that allows users to submit survey responses to SurveyServlet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surveya" descr=""/>
          <p:cNvPicPr/>
          <p:nvPr/>
        </p:nvPicPr>
        <p:blipFill>
          <a:blip r:embed="rId1"/>
          <a:stretch/>
        </p:blipFill>
        <p:spPr>
          <a:xfrm>
            <a:off x="1981080" y="76320"/>
            <a:ext cx="4038840" cy="3419280"/>
          </a:xfrm>
          <a:prstGeom prst="rect">
            <a:avLst/>
          </a:prstGeom>
          <a:ln w="0">
            <a:noFill/>
          </a:ln>
        </p:spPr>
      </p:pic>
      <p:pic>
        <p:nvPicPr>
          <p:cNvPr id="423" name="surveyb" descr=""/>
          <p:cNvPicPr/>
          <p:nvPr/>
        </p:nvPicPr>
        <p:blipFill>
          <a:blip r:embed="rId2"/>
          <a:stretch/>
        </p:blipFill>
        <p:spPr>
          <a:xfrm>
            <a:off x="1981080" y="3581280"/>
            <a:ext cx="397188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8 Multi-Tier Applications: Using JDBC from a Servlet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9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HttpUtil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Clas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2.2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HttpServle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Clas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2.3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HttpServletReques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Interfa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serv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s a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HttpServletReque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es it to the servlet’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rvic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tho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HttpServletReque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 contains the request from the cl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15:53:05Z</dcterms:created>
  <dc:creator>nick</dc:creator>
  <dc:description/>
  <dc:language>en-US</dc:language>
  <cp:lastModifiedBy>zhang</cp:lastModifiedBy>
  <dcterms:modified xsi:type="dcterms:W3CDTF">2002-01-29T18:53:26Z</dcterms:modified>
  <cp:revision>82</cp:revision>
  <dc:subject/>
  <dc:title>PowerPoint Presentation</dc:title>
</cp:coreProperties>
</file>