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3.wmf" ContentType="image/x-wmf"/>
  <Override PartName="/ppt/media/image2.wmf" ContentType="image/x-wmf"/>
  <Override PartName="/ppt/media/image1.wmf" ContentType="image/x-wmf"/>
  <Override PartName="/ppt/media/image14.png" ContentType="image/pn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D087-5A14-4872-899A-278009FF7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F013-13F4-44C8-B3FA-5FE38F5E4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A8BF-E874-4412-991E-8877A9FBF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DD11-8467-4DA8-B2A6-DF93E15F0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97F9-BC2B-423D-930E-C4255641B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E4B6-6579-4983-A3B0-67BF026426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C710-8A04-4188-B61B-B0DA0C511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15E6-DF1D-41AE-AA7D-5A3B51F98C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D694-7419-4D5B-837F-06354A8DED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943D-DEA2-4B64-A8ED-7D0932CC8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6409-F9A5-4462-9F40-D02054CFB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9DC9-C4DD-4268-BADF-F208D07D7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1F1C-2B2C-4546-BAD1-D706B565A1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E734-2D2D-420E-8718-C89FFDCE8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3F3B-3180-45B4-920D-ED920EBA32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D13B-B15B-4A2D-B17D-F3B5EE4089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2D77-0D28-47B4-96D0-F03A14CE8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1983-12B2-4B47-9E7B-381D23E67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641D-E709-4084-8C35-82CCB5146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DF4E-E4BF-461B-B348-D04F2A48B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0326-AF7C-4F5B-8F33-E0C2C209C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9164-D3F9-4B14-B6E9-6646E9A9A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933C-7B94-4136-ACC5-0A900C150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89A2-4D3D-4675-B874-68418FBA7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167B-3429-437C-8D00-0D3801355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FFA3-00D8-4BD1-A292-77CA221DF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ava.sun.com/j2ee/j2sdkee-beta/index.html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6: Messaging with JM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 and Configuration of J2EE 1.3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-To-Point Messag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Sender Sid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Receiver Side|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Configuring and Runn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blish/Subscribe Messag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Publisher Sid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Subscriber Sid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Configuring and Runn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ssage-Driven Enterprise JavaBea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Receiver Side\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Configuring and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1   Voter Application: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124080" cy="1928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00880" y="4724280"/>
            <a:ext cx="33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r application over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2   Voter Application: Send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ngle clas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er to select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s vot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r is the GUI that allows the client to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programming language. Voter sends the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"Votes" queue as a Text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lectedLangu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JMS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Connection queu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Session queueSes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Sender queueSe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y out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14600" y="2438280"/>
            <a:ext cx="4572000" cy="337320"/>
            <a:chOff x="2514600" y="2438280"/>
            <a:chExt cx="4572000" cy="337320"/>
          </a:xfrm>
        </p:grpSpPr>
        <p:sp>
          <p:nvSpPr>
            <p:cNvPr id="115" name=""/>
            <p:cNvSpPr/>
            <p:nvPr/>
          </p:nvSpPr>
          <p:spPr>
            <a:xfrm flipH="1">
              <a:off x="2514600" y="25909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243828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s JMS API classes and 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voteArea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vote for you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rogramming 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voteArea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language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nguages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ach language as its own JCheck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ttonGroup ensures exactly one language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Group languages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tton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BoxHandler checkBoxHandl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BoxHandl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anguage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yth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edLangu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CheckBox for each langu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add to ButtonGroup and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anguag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CheckBox 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language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eckBox.addItemListener( checkBoxHand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sPanel.add( 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sGroup.add( 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language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tton to submit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ubm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 vot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submitButton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6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submitVote when submitButton cli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mitButton.addActionListener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 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ubmitVo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quit when window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nect to messag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queue connection factory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queue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Factory queueConnection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QueueConnectionFacto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_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 queue = ( Queue )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562720" y="4952880"/>
            <a:ext cx="3124080" cy="337320"/>
            <a:chOff x="5562720" y="4952880"/>
            <a:chExt cx="3124080" cy="337320"/>
          </a:xfrm>
        </p:grpSpPr>
        <p:sp>
          <p:nvSpPr>
            <p:cNvPr id="122" name=""/>
            <p:cNvSpPr/>
            <p:nvPr/>
          </p:nvSpPr>
          <p:spPr>
            <a:xfrm flipH="1">
              <a:off x="5562720" y="51055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91320" y="5257800"/>
            <a:ext cx="3124080" cy="1310760"/>
            <a:chOff x="5791320" y="5257800"/>
            <a:chExt cx="3124080" cy="1310760"/>
          </a:xfrm>
        </p:grpSpPr>
        <p:sp>
          <p:nvSpPr>
            <p:cNvPr id="125" name=""/>
            <p:cNvSpPr/>
            <p:nvPr/>
          </p:nvSpPr>
          <p:spPr>
            <a:xfrm flipH="1">
              <a:off x="5791320" y="60958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5257800"/>
              <a:ext cx="20574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administrator responsible for creating queue connection factory and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2-10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4-10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1-1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connection, session and se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Factory.createQueue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Sess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reateQueue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Sender = queueSession.createSender( que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queue connection or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Vo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mit selected vote to "Votes" queue as Tex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mitVo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edLanguag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message containing selected langu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Message vot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eueSession.createTex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Message.setText( selectedLangu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19560" y="914040"/>
            <a:ext cx="2819520" cy="1190520"/>
            <a:chOff x="6019560" y="914040"/>
            <a:chExt cx="2819520" cy="1190520"/>
          </a:xfrm>
        </p:grpSpPr>
        <p:sp>
          <p:nvSpPr>
            <p:cNvPr id="130" name=""/>
            <p:cNvSpPr/>
            <p:nvPr/>
          </p:nvSpPr>
          <p:spPr>
            <a:xfrm flipH="1" flipV="1">
              <a:off x="6019560" y="914040"/>
              <a:ext cx="757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81680" y="15238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680" y="1218960"/>
            <a:ext cx="3200400" cy="1114200"/>
            <a:chOff x="5638680" y="1218960"/>
            <a:chExt cx="3200400" cy="1114200"/>
          </a:xfrm>
        </p:grpSpPr>
        <p:sp>
          <p:nvSpPr>
            <p:cNvPr id="133" name=""/>
            <p:cNvSpPr/>
            <p:nvPr/>
          </p:nvSpPr>
          <p:spPr>
            <a:xfrm flipH="1" flipV="1">
              <a:off x="5638680" y="1218960"/>
              <a:ext cx="1138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17524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599840"/>
            <a:ext cx="3429000" cy="1419120"/>
            <a:chOff x="5562720" y="1599840"/>
            <a:chExt cx="3429000" cy="1419120"/>
          </a:xfrm>
        </p:grpSpPr>
        <p:sp>
          <p:nvSpPr>
            <p:cNvPr id="136" name=""/>
            <p:cNvSpPr/>
            <p:nvPr/>
          </p:nvSpPr>
          <p:spPr>
            <a:xfrm flipH="1" flipV="1">
              <a:off x="5562720" y="159984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2438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 messages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Se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34120" y="5715000"/>
            <a:ext cx="3124080" cy="337320"/>
            <a:chOff x="5334120" y="5715000"/>
            <a:chExt cx="3124080" cy="337320"/>
          </a:xfrm>
        </p:grpSpPr>
        <p:sp>
          <p:nvSpPr>
            <p:cNvPr id="139" name=""/>
            <p:cNvSpPr/>
            <p:nvPr/>
          </p:nvSpPr>
          <p:spPr>
            <a:xfrm flipH="1">
              <a:off x="5334120" y="58672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0800" y="5715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86400" y="6095880"/>
            <a:ext cx="3124080" cy="337320"/>
            <a:chOff x="5486400" y="6095880"/>
            <a:chExt cx="3124080" cy="337320"/>
          </a:xfrm>
        </p:grpSpPr>
        <p:sp>
          <p:nvSpPr>
            <p:cNvPr id="142" name=""/>
            <p:cNvSpPr/>
            <p:nvPr/>
          </p:nvSpPr>
          <p:spPr>
            <a:xfrm flipH="1">
              <a:off x="5486400" y="62485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6095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body of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nd the message to th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Sender.send( vote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ubmit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clien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ueConnec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queue connection if it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23920" y="685800"/>
            <a:ext cx="3810600" cy="1023120"/>
            <a:chOff x="4723920" y="685800"/>
            <a:chExt cx="3810600" cy="1023120"/>
          </a:xfrm>
        </p:grpSpPr>
        <p:sp>
          <p:nvSpPr>
            <p:cNvPr id="147" name=""/>
            <p:cNvSpPr/>
            <p:nvPr/>
          </p:nvSpPr>
          <p:spPr>
            <a:xfrm flipH="1" flipV="1">
              <a:off x="4723920" y="685800"/>
              <a:ext cx="1747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1371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38320" y="3809880"/>
            <a:ext cx="3124800" cy="337320"/>
            <a:chOff x="5638320" y="3809880"/>
            <a:chExt cx="3124800" cy="337320"/>
          </a:xfrm>
        </p:grpSpPr>
        <p:sp>
          <p:nvSpPr>
            <p:cNvPr id="150" name=""/>
            <p:cNvSpPr/>
            <p:nvPr/>
          </p:nvSpPr>
          <p:spPr>
            <a:xfrm flipH="1">
              <a:off x="5638320" y="396252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4480" y="380988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connection to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unch Vot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r vo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r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BoxHandler handles event when checkbox che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Box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eckbox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selectedLangu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CheckBox source = ( JCheckBox ) 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edLanguage = sourc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2   Voter Application: Send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5" name="voter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1714320" cy="202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11360" y="4648320"/>
            <a:ext cx="58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r application votes for favorite programming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3   Voter Application: Receiv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nded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llies and displays v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 can be populated befo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-oriented midd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omponents to post messages for othe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-to-point messag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send message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sent to one 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sh/subscribe messag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ubscribers receive message for given 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 tallies and displays the vo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ed as TextMessages to the "Votes" que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display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tall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MS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Connection queu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oteCollecto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 Tall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Panel will display tall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new JScrollPane( displayPane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5-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1-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6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quit when window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"Votes"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queue connection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queue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Factory queueConnection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QueueConnectionFacto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_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 queue = ( Queue )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onnection, session and rece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Factory.createQueue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Session queueSess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reateQueue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Receiver queueReceiv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Session.createReceiver( que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86400" y="2971800"/>
            <a:ext cx="3124080" cy="337320"/>
            <a:chOff x="5486400" y="2971800"/>
            <a:chExt cx="3124080" cy="337320"/>
          </a:xfrm>
        </p:grpSpPr>
        <p:sp>
          <p:nvSpPr>
            <p:cNvPr id="164" name=""/>
            <p:cNvSpPr/>
            <p:nvPr/>
          </p:nvSpPr>
          <p:spPr>
            <a:xfrm flipH="1">
              <a:off x="5486400" y="31240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53080" y="29718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680" y="3886200"/>
            <a:ext cx="3124440" cy="580680"/>
            <a:chOff x="5638680" y="3886200"/>
            <a:chExt cx="3124440" cy="580680"/>
          </a:xfrm>
        </p:grpSpPr>
        <p:sp>
          <p:nvSpPr>
            <p:cNvPr id="167" name=""/>
            <p:cNvSpPr/>
            <p:nvPr/>
          </p:nvSpPr>
          <p:spPr>
            <a:xfrm flipH="1">
              <a:off x="5638680" y="40384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8862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queue connection 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48160" y="4876920"/>
            <a:ext cx="2743560" cy="337320"/>
            <a:chOff x="6248160" y="4876920"/>
            <a:chExt cx="2743560" cy="337320"/>
          </a:xfrm>
        </p:grpSpPr>
        <p:sp>
          <p:nvSpPr>
            <p:cNvPr id="170" name=""/>
            <p:cNvSpPr/>
            <p:nvPr/>
          </p:nvSpPr>
          <p:spPr>
            <a:xfrm flipH="1">
              <a:off x="6248160" y="5029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1680" y="487692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5791320"/>
            <a:ext cx="3124080" cy="337320"/>
            <a:chOff x="5257800" y="5791320"/>
            <a:chExt cx="3124080" cy="337320"/>
          </a:xfrm>
        </p:grpSpPr>
        <p:sp>
          <p:nvSpPr>
            <p:cNvPr id="173" name=""/>
            <p:cNvSpPr/>
            <p:nvPr/>
          </p:nvSpPr>
          <p:spPr>
            <a:xfrm flipH="1">
              <a:off x="5257800" y="59436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7913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votes 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0-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2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itialize and set messag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Receiver.setMessa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queue connection or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VoteCollecto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dd vote to corresponding t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Vote( String vo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allies.containsKey( vot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vote already has corresponding t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yPanel tallyPanel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allyPanel ) tallies.get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yPanel.updateTall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343400" y="762120"/>
            <a:ext cx="4114800" cy="1023120"/>
            <a:chOff x="4343400" y="762120"/>
            <a:chExt cx="4114800" cy="1023120"/>
          </a:xfrm>
        </p:grpSpPr>
        <p:sp>
          <p:nvSpPr>
            <p:cNvPr id="178" name=""/>
            <p:cNvSpPr/>
            <p:nvPr/>
          </p:nvSpPr>
          <p:spPr>
            <a:xfrm flipH="1" flipV="1">
              <a:off x="4343400" y="762120"/>
              <a:ext cx="2052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14479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809880" y="1143000"/>
            <a:ext cx="3124440" cy="337320"/>
            <a:chOff x="3809880" y="1143000"/>
            <a:chExt cx="3124440" cy="337320"/>
          </a:xfrm>
        </p:grpSpPr>
        <p:sp>
          <p:nvSpPr>
            <p:cNvPr id="181" name=""/>
            <p:cNvSpPr/>
            <p:nvPr/>
          </p:nvSpPr>
          <p:spPr>
            <a:xfrm flipH="1">
              <a:off x="3809880" y="12952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1143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e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43400" y="4419720"/>
            <a:ext cx="3657600" cy="824040"/>
            <a:chOff x="4343400" y="4419720"/>
            <a:chExt cx="3657600" cy="824040"/>
          </a:xfrm>
        </p:grpSpPr>
        <p:sp>
          <p:nvSpPr>
            <p:cNvPr id="184" name=""/>
            <p:cNvSpPr/>
            <p:nvPr/>
          </p:nvSpPr>
          <p:spPr>
            <a:xfrm flipH="1">
              <a:off x="4343400" y="45720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44197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s tallies and display. Callback metho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ot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add to GUI and tall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yPanel tally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vot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layPanel.add( tally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ies.put( vote, tally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qu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ueConnec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the queue connection if it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JMS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57800" y="3200400"/>
            <a:ext cx="3429000" cy="337320"/>
            <a:chOff x="5257800" y="3200400"/>
            <a:chExt cx="3429000" cy="337320"/>
          </a:xfrm>
        </p:grpSpPr>
        <p:sp>
          <p:nvSpPr>
            <p:cNvPr id="189" name=""/>
            <p:cNvSpPr/>
            <p:nvPr/>
          </p:nvSpPr>
          <p:spPr>
            <a:xfrm flipH="1">
              <a:off x="5257800" y="33526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4480" y="3200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queue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unch VoteColl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 voteColl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3   Voter Application: Receiv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4" name="voteCollector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17240" y="4660920"/>
            <a:ext cx="48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llies and displays vo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ceives messages from the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Listener is the message listener for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r of the "Votes" queue. It imple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pecified onMessage method to update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UI with the received vo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 voteColl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ote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Listener( VoteCollector collec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 = coll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n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Message vote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retrieve and process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Messa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Message = ( TextMessage )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vote = voteMessag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Collector.addVote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ceived vo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00600" y="2286000"/>
            <a:ext cx="2666880" cy="1128960"/>
            <a:chOff x="4800600" y="2286000"/>
            <a:chExt cx="2666880" cy="1128960"/>
          </a:xfrm>
        </p:grpSpPr>
        <p:sp>
          <p:nvSpPr>
            <p:cNvPr id="199" name=""/>
            <p:cNvSpPr/>
            <p:nvPr/>
          </p:nvSpPr>
          <p:spPr>
            <a:xfrm flipH="1" flipV="1">
              <a:off x="4800600" y="2286000"/>
              <a:ext cx="60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10080" y="259092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57800" y="5334120"/>
            <a:ext cx="3124080" cy="580680"/>
            <a:chOff x="5257800" y="5334120"/>
            <a:chExt cx="3124080" cy="580680"/>
          </a:xfrm>
        </p:grpSpPr>
        <p:sp>
          <p:nvSpPr>
            <p:cNvPr id="202" name=""/>
            <p:cNvSpPr/>
            <p:nvPr/>
          </p:nvSpPr>
          <p:spPr>
            <a:xfrm flipH="1">
              <a:off x="5257800" y="54864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480" y="53341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messag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24280" y="5867280"/>
            <a:ext cx="2362320" cy="337320"/>
            <a:chOff x="4724280" y="5867280"/>
            <a:chExt cx="2362320" cy="337320"/>
          </a:xfrm>
        </p:grpSpPr>
        <p:sp>
          <p:nvSpPr>
            <p:cNvPr id="205" name=""/>
            <p:cNvSpPr/>
            <p:nvPr/>
          </p:nvSpPr>
          <p:spPr>
            <a:xfrm flipH="1">
              <a:off x="4724280" y="60199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8672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ceives messages from the queu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ecting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Message object, receiv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ssage.getClass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n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candidate name and tall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Panel is the GUI component which displ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name and tally for a vote candi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name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ally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String vote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Tall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vo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 = vote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Integer.toString( tally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nam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tally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candidate name and tall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pdate tally by one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all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Text( Integer.toString( tall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43200" y="1523880"/>
            <a:ext cx="3048120" cy="718560"/>
            <a:chOff x="2743200" y="1523880"/>
            <a:chExt cx="3048120" cy="718560"/>
          </a:xfrm>
        </p:grpSpPr>
        <p:sp>
          <p:nvSpPr>
            <p:cNvPr id="214" name=""/>
            <p:cNvSpPr/>
            <p:nvPr/>
          </p:nvSpPr>
          <p:spPr>
            <a:xfrm flipH="1" flipV="1">
              <a:off x="2743200" y="1523880"/>
              <a:ext cx="681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9000" y="190512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s tally by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ed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est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type of message being s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determine what messages to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4   Voter Application: Configuring and Run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J2E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 –verb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otes queue (in new wind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admin –addJmsDestination Votes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queue wa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admin –listJms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connection 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admin –addJmsFactory VOTE_FACTOR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Vote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jms.voter.VoteCol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Voter (in new wind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jms.voter.V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4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pplication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connection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2eeadmin –removeJmsFactory VOTE_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2eeadmin –removeJmsDestination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 J2E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2ee -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 Publish/Subscribe Messag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ultiple client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to topic 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lient publishes message, message sent to all clients subscribed to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scription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d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eceived while subscription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maintains messages while subscription in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ends messages when client reactiv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 Publish/Subscribe Messag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343400" cy="102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20720" y="4419720"/>
            <a:ext cx="40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sh/subscribe messaging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1   Weather Application: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s weather updates from U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shes information as messages to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 to select desired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b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eat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s correspondin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essage se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1   Weather Application: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630520" y="2273400"/>
            <a:ext cx="3881520" cy="231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25640" y="4876920"/>
            <a:ext cx="359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 application over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2   Weather Application: Publish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s weather updates from National Weath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shes weather updat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eat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s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er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corresponding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Publish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Publisher retrieves weather conditions from the N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Service and publishes them to the Weather top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ObjectMessages containing WeatherBeans. The city name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d in a String property "City" in the message hea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Weather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Publish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Tas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 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Connection topic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Publish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Publis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weather conditions every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 ti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.scheduleAtFixed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user to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Reader inputStreamR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System.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until user enters q or Q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q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Q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i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swer = ( char ) inputStreamReader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IO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topicConnection if it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picConnec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 to NWS Web serv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r.cance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p ti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closing topic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5-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03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228600"/>
            <a:ext cx="693432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IO exception from closing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NWS Web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Publish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rom N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opic "Weath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weather informa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opic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topic connection factory and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Factory topicConnection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picConnectionFacto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_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 topic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pic ) jndiContext.lookup( topic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onnection, session, publisher and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Factory.createTopic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486400" y="3657600"/>
            <a:ext cx="3124080" cy="337320"/>
            <a:chOff x="5486400" y="3657600"/>
            <a:chExt cx="3124080" cy="337320"/>
          </a:xfrm>
        </p:grpSpPr>
        <p:sp>
          <p:nvSpPr>
            <p:cNvPr id="239" name=""/>
            <p:cNvSpPr/>
            <p:nvPr/>
          </p:nvSpPr>
          <p:spPr>
            <a:xfrm flipH="1">
              <a:off x="5486400" y="38098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53080" y="3657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638680" y="5029200"/>
            <a:ext cx="3353040" cy="976320"/>
            <a:chOff x="5638680" y="5029200"/>
            <a:chExt cx="3353040" cy="976320"/>
          </a:xfrm>
        </p:grpSpPr>
        <p:sp>
          <p:nvSpPr>
            <p:cNvPr id="242" name=""/>
            <p:cNvSpPr/>
            <p:nvPr/>
          </p:nvSpPr>
          <p:spPr>
            <a:xfrm flipH="1" flipV="1">
              <a:off x="5638680" y="50292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5880" y="518148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638680" y="563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6172200"/>
            <a:ext cx="2971800" cy="337320"/>
            <a:chOff x="6019920" y="6172200"/>
            <a:chExt cx="2971800" cy="337320"/>
          </a:xfrm>
        </p:grpSpPr>
        <p:sp>
          <p:nvSpPr>
            <p:cNvPr id="246" name=""/>
            <p:cNvSpPr/>
            <p:nvPr/>
          </p:nvSpPr>
          <p:spPr>
            <a:xfrm flipH="1">
              <a:off x="6019920" y="6324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61722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ed of 5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tes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p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-driven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rprise JavaBeans that support messa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container uses any message-driven bean for given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-driven beans cannot maintain client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components to receive messages asynchron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6-10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0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3-1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Session topicSess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.createTopic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Publisher topicPublis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ession.createPublisher( top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Message messag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ession.createObjec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publish conditions to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tional Weather Service Travelers Forecas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iwin.nws.noaa.gov/iwin/us/traveler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text input stream to read Web pag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 InputStreamReader( url.open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elps determine starting point of data o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para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V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parator string i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.readLine().startsWith( separat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rings representing headers on Travelers Fore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eb page for daytime and nighttim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y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HI/LO   WEA     HI/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ight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LO/HI   WEA     LO/H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76920" y="685800"/>
            <a:ext cx="4038480" cy="1099440"/>
            <a:chOff x="4876920" y="685800"/>
            <a:chExt cx="4038480" cy="1099440"/>
          </a:xfrm>
        </p:grpSpPr>
        <p:sp>
          <p:nvSpPr>
            <p:cNvPr id="251" name=""/>
            <p:cNvSpPr/>
            <p:nvPr/>
          </p:nvSpPr>
          <p:spPr>
            <a:xfrm flipH="1" flipV="1">
              <a:off x="4876920" y="685800"/>
              <a:ext cx="1823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05720" y="14479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57800" y="1371240"/>
            <a:ext cx="3200400" cy="489960"/>
            <a:chOff x="5257800" y="1371240"/>
            <a:chExt cx="3200400" cy="489960"/>
          </a:xfrm>
        </p:grpSpPr>
        <p:sp>
          <p:nvSpPr>
            <p:cNvPr id="254" name=""/>
            <p:cNvSpPr/>
            <p:nvPr/>
          </p:nvSpPr>
          <p:spPr>
            <a:xfrm flipH="1" flipV="1">
              <a:off x="5257800" y="1371240"/>
              <a:ext cx="681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3600" y="152388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Publis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952880" y="1904760"/>
            <a:ext cx="3886200" cy="1114200"/>
            <a:chOff x="4952880" y="1904760"/>
            <a:chExt cx="3886200" cy="1114200"/>
          </a:xfrm>
        </p:grpSpPr>
        <p:sp>
          <p:nvSpPr>
            <p:cNvPr id="257" name=""/>
            <p:cNvSpPr/>
            <p:nvPr/>
          </p:nvSpPr>
          <p:spPr>
            <a:xfrm flipH="1" flipV="1">
              <a:off x="4952880" y="1904760"/>
              <a:ext cx="1519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77120" y="24382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5-16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4-17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putLin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header that begins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putLine.equals( dayHeader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!inputLine.equals( nightHead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Bean objects for each city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ublish to Weather topic using city as message'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portion of inputLine containing relevant data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28 characters long. If the line length is not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east 28 characters long, done process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Line.length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WeatherBean object for c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irst 16 characters are cit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ext six characters are weath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ext six characters are HI/LO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Bean weat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rim(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rim(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ri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ublish WeatherBean object with cit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s a message propert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sed for selection by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setObject( weat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setString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ather.getCity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562720" y="4572000"/>
            <a:ext cx="2666880" cy="824040"/>
            <a:chOff x="5562720" y="4572000"/>
            <a:chExt cx="2666880" cy="824040"/>
          </a:xfrm>
        </p:grpSpPr>
        <p:sp>
          <p:nvSpPr>
            <p:cNvPr id="262" name=""/>
            <p:cNvSpPr/>
            <p:nvPr/>
          </p:nvSpPr>
          <p:spPr>
            <a:xfrm flipH="1">
              <a:off x="5562720" y="50292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29400" y="4572000"/>
              <a:ext cx="1600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572000" y="6019920"/>
            <a:ext cx="3124080" cy="580680"/>
            <a:chOff x="4572000" y="6019920"/>
            <a:chExt cx="3124080" cy="580680"/>
          </a:xfrm>
        </p:grpSpPr>
        <p:sp>
          <p:nvSpPr>
            <p:cNvPr id="265" name=""/>
            <p:cNvSpPr/>
            <p:nvPr/>
          </p:nvSpPr>
          <p:spPr>
            <a:xfrm flipH="1">
              <a:off x="4572000" y="61722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60199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952520" y="6172200"/>
            <a:ext cx="2972160" cy="337320"/>
            <a:chOff x="4952520" y="6172200"/>
            <a:chExt cx="2972160" cy="337320"/>
          </a:xfrm>
        </p:grpSpPr>
        <p:sp>
          <p:nvSpPr>
            <p:cNvPr id="268" name=""/>
            <p:cNvSpPr/>
            <p:nvPr/>
          </p:nvSpPr>
          <p:spPr>
            <a:xfrm flipH="1">
              <a:off x="4952520" y="6324480"/>
              <a:ext cx="909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61722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Publisher.publish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d message for city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weather.getCity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nex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 information upd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connec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ssion, publisher 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failure to connect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ava.net.ConnectException conne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oth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6920" y="457200"/>
            <a:ext cx="4114800" cy="1404000"/>
            <a:chOff x="4876920" y="457200"/>
            <a:chExt cx="4114800" cy="1404000"/>
          </a:xfrm>
        </p:grpSpPr>
        <p:sp>
          <p:nvSpPr>
            <p:cNvPr id="273" name=""/>
            <p:cNvSpPr/>
            <p:nvPr/>
          </p:nvSpPr>
          <p:spPr>
            <a:xfrm flipH="1" flipV="1">
              <a:off x="4876920" y="457200"/>
              <a:ext cx="1828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05720" y="15238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sh message to to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WeatherPublis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izing server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'q' or 'Q' to qu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Publisher publis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Publis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2   Weather Application: Publish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8" name="weatherServer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364440" cy="3152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60760" y="5118120"/>
            <a:ext cx="610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blishing weather update mess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3   Weather Application: Subscrib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s to Weather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weather updates for selected c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GUI for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ubscrib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ubscriber presents a GUI for the client to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conditions for various cities. The WeatherSubscri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s the weather conditions from the Weather top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ach message body contains a WeatherBean object. Th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contains a String property "City," which all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lient to select the desired ci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ubscrib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UI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 weatherDispl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cities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ities contains cities for which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s are available on "Weather"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ies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BANY N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CHOR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LANT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LANTIC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S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UFFA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RLINGTON V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LESTON W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LOT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ICAG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EVELA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LLAS FT WOR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N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TRO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AT FAL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RTFORD SPGF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ONOLUL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STON INTCNT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NSAS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 VEG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S ANGE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IAMI BEA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PLS ST PA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ORLEA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YORK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RFOLK 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LAHOMA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LAND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ILADELPHI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EN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ITTSBURG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RTLAND 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RTLAND 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NO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MS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Connection topic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Session topicSes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 top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Subscriber topicSubscri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 topic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Subscrib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ubscri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MS WeatherSubscriber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Displ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NDI context and JMS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562720" y="5715000"/>
            <a:ext cx="3047760" cy="337320"/>
            <a:chOff x="5562720" y="5715000"/>
            <a:chExt cx="3047760" cy="337320"/>
          </a:xfrm>
        </p:grpSpPr>
        <p:sp>
          <p:nvSpPr>
            <p:cNvPr id="287" name=""/>
            <p:cNvSpPr/>
            <p:nvPr/>
          </p:nvSpPr>
          <p:spPr>
            <a:xfrm flipH="1">
              <a:off x="5562720" y="58672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24480" y="57150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9-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8-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2-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topic connection facto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Factory topicConnection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picConnectionFactory ) jndi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_FACTO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topic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opic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 = ( Topic ) jndiContext.lookup( topic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opic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Factory.createTopic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opic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Session = topicConnection.createTopic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( weatherDispl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s from topic connection or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05320" y="1066680"/>
            <a:ext cx="3657600" cy="794520"/>
            <a:chOff x="3505320" y="1066680"/>
            <a:chExt cx="3657600" cy="794520"/>
          </a:xfrm>
        </p:grpSpPr>
        <p:sp>
          <p:nvSpPr>
            <p:cNvPr id="292" name=""/>
            <p:cNvSpPr/>
            <p:nvPr/>
          </p:nvSpPr>
          <p:spPr>
            <a:xfrm flipV="1">
              <a:off x="5334120" y="1066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1523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257440" y="1980720"/>
            <a:ext cx="2895840" cy="490320"/>
            <a:chOff x="5257440" y="1980720"/>
            <a:chExt cx="2895840" cy="490320"/>
          </a:xfrm>
        </p:grpSpPr>
        <p:sp>
          <p:nvSpPr>
            <p:cNvPr id="295" name=""/>
            <p:cNvSpPr/>
            <p:nvPr/>
          </p:nvSpPr>
          <p:spPr>
            <a:xfrm flipH="1" flipV="1">
              <a:off x="5257440" y="1980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21337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019920" y="2438280"/>
            <a:ext cx="2971800" cy="337320"/>
            <a:chOff x="6019920" y="2438280"/>
            <a:chExt cx="2971800" cy="337320"/>
          </a:xfrm>
        </p:grpSpPr>
        <p:sp>
          <p:nvSpPr>
            <p:cNvPr id="298" name=""/>
            <p:cNvSpPr/>
            <p:nvPr/>
          </p:nvSpPr>
          <p:spPr>
            <a:xfrm flipH="1">
              <a:off x="60199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480" y="24382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943240" y="3124080"/>
            <a:ext cx="3048480" cy="337320"/>
            <a:chOff x="5943240" y="3124080"/>
            <a:chExt cx="3048480" cy="337320"/>
          </a:xfrm>
        </p:grpSpPr>
        <p:sp>
          <p:nvSpPr>
            <p:cNvPr id="301" name=""/>
            <p:cNvSpPr/>
            <p:nvPr/>
          </p:nvSpPr>
          <p:spPr>
            <a:xfrm flipH="1">
              <a:off x="5943240" y="3276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31240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67080" y="3962520"/>
            <a:ext cx="4724640" cy="489600"/>
            <a:chOff x="4267080" y="3962520"/>
            <a:chExt cx="4724640" cy="489600"/>
          </a:xfrm>
        </p:grpSpPr>
        <p:sp>
          <p:nvSpPr>
            <p:cNvPr id="304" name=""/>
            <p:cNvSpPr/>
            <p:nvPr/>
          </p:nvSpPr>
          <p:spPr>
            <a:xfrm flipH="1" flipV="1">
              <a:off x="4267080" y="3962520"/>
              <a:ext cx="1905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411480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selecti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selectio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Cit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add( selectionLab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ist of cities for which us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n request weather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ies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cit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citiesLi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getWeath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 Weather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add( getWeatherButton, BorderLayout.SOU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getWeather when getWeatherButton cli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WeatherButton.addActionListener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 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getWeat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selecti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weatherDisplay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quit when window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 Installation and Configuration of J2EE 1.3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for installing J2EE 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wnload and unpack appropriate software bund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java.sun.com/j2ee/j2sdkee-beta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environment variables according to Fig. 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eatherSubscrib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or selected c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at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selected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Indices[] = citiesList.getSelectedIndi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edIndices.length &gt; 0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opic subscriber exists, method h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een called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picSubscrib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ose previous topic subscri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opicSubscriber.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495680" y="4952880"/>
            <a:ext cx="4191120" cy="580680"/>
            <a:chOff x="4495680" y="4952880"/>
            <a:chExt cx="4191120" cy="580680"/>
          </a:xfrm>
        </p:grpSpPr>
        <p:sp>
          <p:nvSpPr>
            <p:cNvPr id="311" name=""/>
            <p:cNvSpPr/>
            <p:nvPr/>
          </p:nvSpPr>
          <p:spPr>
            <a:xfrm flipH="1">
              <a:off x="449568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49528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previous subscriber so that new subscriber can filter newly selected c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6-1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7-1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r previous cities from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Display.clearCiti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essage selector to retrieve specified c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Buffer messageSel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Selector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=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ities[ selectedIndic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]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electedIndic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Selecto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R City =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ities[ selectedIndices[ i ] ]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opic subscriber and sub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ubscriber = topicSession.createSubscrib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opic, messageSelector.toString(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ubscriber.setMessageListener( topic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weather update should be arriving so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171840" y="1294920"/>
            <a:ext cx="2819880" cy="991080"/>
            <a:chOff x="6171840" y="1294920"/>
            <a:chExt cx="2819880" cy="991080"/>
          </a:xfrm>
        </p:grpSpPr>
        <p:sp>
          <p:nvSpPr>
            <p:cNvPr id="316" name=""/>
            <p:cNvSpPr/>
            <p:nvPr/>
          </p:nvSpPr>
          <p:spPr>
            <a:xfrm flipH="1" flipV="1">
              <a:off x="6171840" y="1294920"/>
              <a:ext cx="1523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24480" y="1676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Sel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171840" y="205740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095520" y="3276720"/>
            <a:ext cx="3048480" cy="337320"/>
            <a:chOff x="6095520" y="3276720"/>
            <a:chExt cx="3048480" cy="337320"/>
          </a:xfrm>
        </p:grpSpPr>
        <p:sp>
          <p:nvSpPr>
            <p:cNvPr id="320" name=""/>
            <p:cNvSpPr/>
            <p:nvPr/>
          </p:nvSpPr>
          <p:spPr>
            <a:xfrm flipH="1">
              <a:off x="6095520" y="3429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3276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Subscri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38480" y="3809880"/>
            <a:ext cx="4572000" cy="337320"/>
            <a:chOff x="4038480" y="3809880"/>
            <a:chExt cx="4572000" cy="337320"/>
          </a:xfrm>
        </p:grpSpPr>
        <p:sp>
          <p:nvSpPr>
            <p:cNvPr id="323" name=""/>
            <p:cNvSpPr/>
            <p:nvPr/>
          </p:nvSpPr>
          <p:spPr>
            <a:xfrm flipH="1" flipV="1">
              <a:off x="4038480" y="3809880"/>
              <a:ext cx="2286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24480" y="38098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receiving 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quit WeatherSubscrib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connection and subscription to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topic subscri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picSubscrib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ubscriber.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topic conne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WeatherSubscrib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 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ubscriber subscrib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ubscri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scriber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scrib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038120" y="1676520"/>
            <a:ext cx="3048480" cy="337320"/>
            <a:chOff x="4038120" y="1676520"/>
            <a:chExt cx="3048480" cy="337320"/>
          </a:xfrm>
        </p:grpSpPr>
        <p:sp>
          <p:nvSpPr>
            <p:cNvPr id="328" name=""/>
            <p:cNvSpPr/>
            <p:nvPr/>
          </p:nvSpPr>
          <p:spPr>
            <a:xfrm flipH="1">
              <a:off x="4038120" y="1828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16765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subscri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85840" y="2438280"/>
            <a:ext cx="3048480" cy="337320"/>
            <a:chOff x="3885840" y="2438280"/>
            <a:chExt cx="3048480" cy="337320"/>
          </a:xfrm>
        </p:grpSpPr>
        <p:sp>
          <p:nvSpPr>
            <p:cNvPr id="331" name=""/>
            <p:cNvSpPr/>
            <p:nvPr/>
          </p:nvSpPr>
          <p:spPr>
            <a:xfrm flipH="1">
              <a:off x="3885840" y="2590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24382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3   Weather Application: Subscrib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133720" y="1981080"/>
            <a:ext cx="4714920" cy="2152800"/>
            <a:chOff x="2133720" y="1981080"/>
            <a:chExt cx="4714920" cy="2152800"/>
          </a:xfrm>
        </p:grpSpPr>
        <p:pic>
          <p:nvPicPr>
            <p:cNvPr id="335" name="weatherSelect" descr=""/>
            <p:cNvPicPr/>
            <p:nvPr/>
          </p:nvPicPr>
          <p:blipFill>
            <a:blip r:embed="rId1"/>
            <a:stretch/>
          </p:blipFill>
          <p:spPr>
            <a:xfrm>
              <a:off x="2133720" y="1981080"/>
              <a:ext cx="441000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weatherSelect2" descr=""/>
            <p:cNvPicPr/>
            <p:nvPr/>
          </p:nvPicPr>
          <p:blipFill>
            <a:blip r:embed="rId2"/>
            <a:stretch/>
          </p:blipFill>
          <p:spPr>
            <a:xfrm>
              <a:off x="3809880" y="2743200"/>
              <a:ext cx="30387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"/>
          <p:cNvSpPr/>
          <p:nvPr/>
        </p:nvSpPr>
        <p:spPr>
          <a:xfrm>
            <a:off x="1535760" y="4584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Subscri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ing cities for weather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3   Weather Application: Subscrib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39" name="weatherUpdate" descr=""/>
          <p:cNvPicPr/>
          <p:nvPr/>
        </p:nvPicPr>
        <p:blipFill>
          <a:blip r:embed="rId1"/>
          <a:stretch/>
        </p:blipFill>
        <p:spPr>
          <a:xfrm>
            <a:off x="2367000" y="2352600"/>
            <a:ext cx="4410000" cy="2152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304280" y="5041800"/>
            <a:ext cx="68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Subscri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ing received updated weathe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subscribes to Weather topic to receive weather forecas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ener is the MessageListener for a sub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Weather topic. It implements the specified on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thod to update the GUI with the corresponding city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Weather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 weatherDispl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( WeatherDisplay displ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Display = displ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n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and process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Message is an Objec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Messa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9720" y="3048120"/>
            <a:ext cx="3124800" cy="809280"/>
            <a:chOff x="5409720" y="3048120"/>
            <a:chExt cx="3124800" cy="809280"/>
          </a:xfrm>
        </p:grpSpPr>
        <p:sp>
          <p:nvSpPr>
            <p:cNvPr id="344" name=""/>
            <p:cNvSpPr/>
            <p:nvPr/>
          </p:nvSpPr>
          <p:spPr>
            <a:xfrm flipH="1" flipV="1">
              <a:off x="5409720" y="304812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8520" y="3276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34120" y="5867280"/>
            <a:ext cx="3047760" cy="580680"/>
            <a:chOff x="5334120" y="5867280"/>
            <a:chExt cx="3047760" cy="580680"/>
          </a:xfrm>
        </p:grpSpPr>
        <p:sp>
          <p:nvSpPr>
            <p:cNvPr id="347" name=""/>
            <p:cNvSpPr/>
            <p:nvPr/>
          </p:nvSpPr>
          <p:spPr>
            <a:xfrm flipH="1">
              <a:off x="5334120" y="6019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5880" y="5867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subscribes to Weather topic to receive weather forecas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5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WeatherBean from Objec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jectMessage objec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bjectMessage )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Bean weatherBea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WeatherBean ) objectMessage.get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WeatherBean to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Display.addItem( weatherBea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ected ObjectMessage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ut receiv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essage.getClass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on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257440" y="1218960"/>
            <a:ext cx="3429360" cy="794880"/>
            <a:chOff x="5257440" y="1218960"/>
            <a:chExt cx="3429360" cy="794880"/>
          </a:xfrm>
        </p:grpSpPr>
        <p:sp>
          <p:nvSpPr>
            <p:cNvPr id="352" name=""/>
            <p:cNvSpPr/>
            <p:nvPr/>
          </p:nvSpPr>
          <p:spPr>
            <a:xfrm flipH="1" flipV="1">
              <a:off x="5257440" y="12189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0800" y="16765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80920" y="1828800"/>
            <a:ext cx="3124800" cy="565920"/>
            <a:chOff x="3580920" y="1828800"/>
            <a:chExt cx="3124800" cy="565920"/>
          </a:xfrm>
        </p:grpSpPr>
        <p:sp>
          <p:nvSpPr>
            <p:cNvPr id="355" name=""/>
            <p:cNvSpPr/>
            <p:nvPr/>
          </p:nvSpPr>
          <p:spPr>
            <a:xfrm flipH="1" flipV="1">
              <a:off x="3580920" y="18288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19720" y="20574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Bea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CellRender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Displa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Display extends JPanel to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client's request for weather cond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ListModel and Map for storing Weather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 weatherLis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weatherItem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header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Display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header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headerImage )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Bea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CellRender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6-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2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JList to display updated weather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requested c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List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ist weath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weatherLis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JList.setCellRender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CellRender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weatherJList )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intain WeatherBean items in HashMa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Item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WeatherBean item to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tem( WeatherBean weath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ity = weather.getCity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whether city is already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eatherItems.containsKey( city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city is in Map, and therefor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previous WeatherBea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Bean previousWeat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eatherBean ) weatherItems.remove( c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ListModel.remove( previousWeath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atherBean to Map and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ListModel.add( weat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Items.put( city, weat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866920" y="4572000"/>
            <a:ext cx="3048480" cy="580680"/>
            <a:chOff x="5866920" y="4572000"/>
            <a:chExt cx="3048480" cy="580680"/>
          </a:xfrm>
        </p:grpSpPr>
        <p:sp>
          <p:nvSpPr>
            <p:cNvPr id="362" name=""/>
            <p:cNvSpPr/>
            <p:nvPr/>
          </p:nvSpPr>
          <p:spPr>
            <a:xfrm flipH="1">
              <a:off x="5866920" y="4724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9400" y="45720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if bean previously exi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181120" y="5638680"/>
            <a:ext cx="3048480" cy="337320"/>
            <a:chOff x="5181120" y="5638680"/>
            <a:chExt cx="3048480" cy="337320"/>
          </a:xfrm>
        </p:grpSpPr>
        <p:sp>
          <p:nvSpPr>
            <p:cNvPr id="365" name=""/>
            <p:cNvSpPr/>
            <p:nvPr/>
          </p:nvSpPr>
          <p:spPr>
            <a:xfrm flipH="1">
              <a:off x="518112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3600" y="56386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new bean to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Bea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CellRender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ear all cities from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Cit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Items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ListModel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 Installation and Configuration of J2EE 1.3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4   Weather Application: Configuring and Run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 –verbo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pic (new wind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admin –addJmsDestination Weather top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topic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admin –listJmsDest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nnection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admin –addJmsFactory WEATHER_FACTORY top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m.deitel.advjhtp1.jms.weather.WeatherPublis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ubscri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m.deitel.advjhtp1.jmx.weather.WeatherSubscri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4   Weath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los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removeJmsFactory WEATHER_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removeJmsDestination Wea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 J2E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 -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   Message-Driven Enterprise JavaBea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ype of EJB available in EJB version 2.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Java 2 Enterprise Edition version 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essage i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uses any available message-driven 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-driven beans handle messages from multipl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maintain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provide only bean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1   Voter Application: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s vote messages to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concerned with receiver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 of loosely coupl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-bean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message to entity-be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ndi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ndi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llies v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results in databa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lly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GUI with tallies from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1   Voter Application: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124080" cy="1792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824920" y="4432320"/>
            <a:ext cx="35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over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2   Voter Application: Receiv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EJB re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ote candidate for which users v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votes for candi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container managed pers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didate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-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Home is the home interface for the Candidate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Candidate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 findByPrimaryKey( String candidat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all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AllCandidat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reate new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 create( String candidat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714640" y="2895480"/>
            <a:ext cx="2362680" cy="580680"/>
            <a:chOff x="5714640" y="2895480"/>
            <a:chExt cx="2362680" cy="580680"/>
          </a:xfrm>
        </p:grpSpPr>
        <p:sp>
          <p:nvSpPr>
            <p:cNvPr id="385" name=""/>
            <p:cNvSpPr/>
            <p:nvPr/>
          </p:nvSpPr>
          <p:spPr>
            <a:xfrm flipH="1">
              <a:off x="571464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77120" y="28954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34120" y="3581280"/>
            <a:ext cx="3047760" cy="580680"/>
            <a:chOff x="5334120" y="3581280"/>
            <a:chExt cx="3047760" cy="580680"/>
          </a:xfrm>
        </p:grpSpPr>
        <p:sp>
          <p:nvSpPr>
            <p:cNvPr id="388" name=""/>
            <p:cNvSpPr/>
            <p:nvPr/>
          </p:nvSpPr>
          <p:spPr>
            <a:xfrm flipH="1">
              <a:off x="5334120" y="3733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5880" y="3581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409720" y="4419720"/>
            <a:ext cx="3429360" cy="580680"/>
            <a:chOff x="5409720" y="4419720"/>
            <a:chExt cx="3429360" cy="580680"/>
          </a:xfrm>
        </p:grpSpPr>
        <p:sp>
          <p:nvSpPr>
            <p:cNvPr id="391" name=""/>
            <p:cNvSpPr/>
            <p:nvPr/>
          </p:nvSpPr>
          <p:spPr>
            <a:xfrm flipH="1">
              <a:off x="5409720" y="4572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722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nam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 is the remote interface for the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, which maintains a tally of vo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lace vote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VoteCou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total vote count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VoteCou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andidate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andidate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095520" y="2743200"/>
            <a:ext cx="2667600" cy="337320"/>
            <a:chOff x="6095520" y="2743200"/>
            <a:chExt cx="2667600" cy="337320"/>
          </a:xfrm>
        </p:grpSpPr>
        <p:sp>
          <p:nvSpPr>
            <p:cNvPr id="396" name=""/>
            <p:cNvSpPr/>
            <p:nvPr/>
          </p:nvSpPr>
          <p:spPr>
            <a:xfrm flipH="1">
              <a:off x="6095520" y="2895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2743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vot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791320" y="3352680"/>
            <a:ext cx="2133360" cy="337320"/>
            <a:chOff x="5791320" y="3352680"/>
            <a:chExt cx="2133360" cy="337320"/>
          </a:xfrm>
        </p:grpSpPr>
        <p:sp>
          <p:nvSpPr>
            <p:cNvPr id="399" name=""/>
            <p:cNvSpPr/>
            <p:nvPr/>
          </p:nvSpPr>
          <p:spPr>
            <a:xfrm flipH="1">
              <a:off x="579132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8520" y="335268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ent vote t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095520" y="3886200"/>
            <a:ext cx="2286360" cy="337320"/>
            <a:chOff x="6095520" y="3886200"/>
            <a:chExt cx="2286360" cy="337320"/>
          </a:xfrm>
        </p:grpSpPr>
        <p:sp>
          <p:nvSpPr>
            <p:cNvPr id="402" name=""/>
            <p:cNvSpPr/>
            <p:nvPr/>
          </p:nvSpPr>
          <p:spPr>
            <a:xfrm flipH="1">
              <a:off x="6095520" y="4038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7120" y="388620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didate’s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o maintain candidate talli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-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1-25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EJB is an entity EJB that uses container-mana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sistence to persist its Candidate and its vote tal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vote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lace vote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Vote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oteCount = voteCount.in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Vote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vote count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Vote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80920" y="3276720"/>
            <a:ext cx="3048480" cy="580680"/>
            <a:chOff x="3580920" y="3276720"/>
            <a:chExt cx="3048480" cy="580680"/>
          </a:xfrm>
        </p:grpSpPr>
        <p:sp>
          <p:nvSpPr>
            <p:cNvPr id="407" name=""/>
            <p:cNvSpPr/>
            <p:nvPr/>
          </p:nvSpPr>
          <p:spPr>
            <a:xfrm flipH="1">
              <a:off x="3580920" y="3429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3400" y="3276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er-managed fiel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ote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34120" y="4191120"/>
            <a:ext cx="3047760" cy="337320"/>
            <a:chOff x="5334120" y="4191120"/>
            <a:chExt cx="3047760" cy="337320"/>
          </a:xfrm>
        </p:grpSpPr>
        <p:sp>
          <p:nvSpPr>
            <p:cNvPr id="410" name=""/>
            <p:cNvSpPr/>
            <p:nvPr/>
          </p:nvSpPr>
          <p:spPr>
            <a:xfrm flipH="1">
              <a:off x="5334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95880" y="4191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 vote t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o maintain candidate tallie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4-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0-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get Candidate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andidate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jbCreate( String candidat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candida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 post-creation tasks when creating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String candidateName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ctivate Candidat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( String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352320" y="685800"/>
            <a:ext cx="3048480" cy="337320"/>
            <a:chOff x="3352320" y="685800"/>
            <a:chExt cx="3048480" cy="337320"/>
          </a:xfrm>
        </p:grpSpPr>
        <p:sp>
          <p:nvSpPr>
            <p:cNvPr id="415" name=""/>
            <p:cNvSpPr/>
            <p:nvPr/>
          </p:nvSpPr>
          <p:spPr>
            <a:xfrm flipH="1">
              <a:off x="3352320" y="838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14800" y="6858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candidate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038120" y="2209680"/>
            <a:ext cx="3048480" cy="824040"/>
            <a:chOff x="4038120" y="2209680"/>
            <a:chExt cx="3048480" cy="824040"/>
          </a:xfrm>
        </p:grpSpPr>
        <p:sp>
          <p:nvSpPr>
            <p:cNvPr id="418" name=""/>
            <p:cNvSpPr/>
            <p:nvPr/>
          </p:nvSpPr>
          <p:spPr>
            <a:xfrm flipH="1">
              <a:off x="4038120" y="2362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0600" y="22096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s new candidate with specified name and initializes vote cou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 Point-To-Point Messag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lients send messages to message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r connects to queue to consume non-consumed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intended for one rece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stored in queue until client consumes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o maintain candidate tall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Candidat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oad Candidate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Candidat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andidate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1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EJB is a MessageDriven EJB that tallies vo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rivenBean,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rivenContext messageDrive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n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Message vote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rieve and process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Messa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Message = ( TextMessage )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vote = voteMessag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Vote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ceived vo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ote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648320" y="3886200"/>
            <a:ext cx="3047760" cy="824040"/>
            <a:chOff x="4648320" y="3886200"/>
            <a:chExt cx="3047760" cy="824040"/>
          </a:xfrm>
        </p:grpSpPr>
        <p:sp>
          <p:nvSpPr>
            <p:cNvPr id="425" name=""/>
            <p:cNvSpPr/>
            <p:nvPr/>
          </p:nvSpPr>
          <p:spPr>
            <a:xfrm flipH="1">
              <a:off x="4648320" y="4038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3886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ed by container whenever vote message is placed in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0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ecting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Message object, receiv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ssage.getClass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cess JMS exception from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dd vote to corresponding t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Vote( String vo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ndidateHome reference for finding/creating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ndidateHome candidateHo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Candidate and increment vote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 up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andi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Candidate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Candidate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866920" y="4876920"/>
            <a:ext cx="2743560" cy="580680"/>
            <a:chOff x="5866920" y="4876920"/>
            <a:chExt cx="2743560" cy="580680"/>
          </a:xfrm>
        </p:grpSpPr>
        <p:sp>
          <p:nvSpPr>
            <p:cNvPr id="430" name=""/>
            <p:cNvSpPr/>
            <p:nvPr/>
          </p:nvSpPr>
          <p:spPr>
            <a:xfrm flipH="1">
              <a:off x="5866920" y="5029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29400" y="4876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0-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83-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Candidate for whom the user vo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 candida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Home.findByPrimaryKey( vot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Candidate's vote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.incrementVote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f Candidate not found, create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Candidate and increment its vote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 newCandidate = candidateHome.create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Candidate.incrementVote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handle exceptions creating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inderException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OrderProduct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OrderProducts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remote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105520" y="914040"/>
            <a:ext cx="3276360" cy="794880"/>
            <a:chOff x="5105520" y="914040"/>
            <a:chExt cx="3276360" cy="794880"/>
          </a:xfrm>
        </p:grpSpPr>
        <p:sp>
          <p:nvSpPr>
            <p:cNvPr id="435" name=""/>
            <p:cNvSpPr/>
            <p:nvPr/>
          </p:nvSpPr>
          <p:spPr>
            <a:xfrm flipH="1" flipV="1">
              <a:off x="5105520" y="91404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13716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343040" y="1295280"/>
            <a:ext cx="3810240" cy="642240"/>
            <a:chOff x="4343040" y="1295280"/>
            <a:chExt cx="3810240" cy="642240"/>
          </a:xfrm>
        </p:grpSpPr>
        <p:sp>
          <p:nvSpPr>
            <p:cNvPr id="438" name=""/>
            <p:cNvSpPr/>
            <p:nvPr/>
          </p:nvSpPr>
          <p:spPr>
            <a:xfrm flipH="1" flipV="1">
              <a:off x="4343040" y="12952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7280" y="1600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 vote 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562360" y="3200400"/>
            <a:ext cx="3353040" cy="1128960"/>
            <a:chOff x="5562360" y="3200400"/>
            <a:chExt cx="3353040" cy="1128960"/>
          </a:xfrm>
        </p:grpSpPr>
        <p:sp>
          <p:nvSpPr>
            <p:cNvPr id="441" name=""/>
            <p:cNvSpPr/>
            <p:nvPr/>
          </p:nvSpPr>
          <p:spPr>
            <a:xfrm flipH="1" flipV="1">
              <a:off x="5562360" y="32004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29400" y="35053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specified candidate name no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unt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essage driven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essageDrivenCon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Drive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Driven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ean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bean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candidate tallies from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Displa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Display displays the votes from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Displa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ally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Disp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 Tall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isplayPanel displays tall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display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displayPane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candidate tallies from databas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6-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0-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andidates and display tall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di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Home candidate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Candidate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Candidate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all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candidat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Home.findAllCandidat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TallyPanel with candidate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vote count for each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candidate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 candidate = ( Candidat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TallyPanel for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allyPanel tallyPanel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candidate.getCandidateName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ndidate.getVoteCount()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layPanel.add( tally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handle exception finding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257800" y="1295280"/>
            <a:ext cx="3733920" cy="1708920"/>
            <a:chOff x="5257800" y="1295280"/>
            <a:chExt cx="3733920" cy="1708920"/>
          </a:xfrm>
        </p:grpSpPr>
        <p:sp>
          <p:nvSpPr>
            <p:cNvPr id="450" name=""/>
            <p:cNvSpPr/>
            <p:nvPr/>
          </p:nvSpPr>
          <p:spPr>
            <a:xfrm flipH="1">
              <a:off x="5943240" y="2819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6668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257800" y="1295280"/>
              <a:ext cx="14479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5562360" y="22860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24120" y="4572000"/>
            <a:ext cx="2667600" cy="580680"/>
            <a:chOff x="6324120" y="4572000"/>
            <a:chExt cx="2667600" cy="580680"/>
          </a:xfrm>
        </p:grpSpPr>
        <p:sp>
          <p:nvSpPr>
            <p:cNvPr id="455" name=""/>
            <p:cNvSpPr/>
            <p:nvPr/>
          </p:nvSpPr>
          <p:spPr>
            <a:xfrm flipH="1">
              <a:off x="6324120" y="4724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05720" y="45720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snapshot of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candidate tallies from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oking up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handle exception communicating with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ally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unch TallyDisplay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 tallyDispl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2   Voter Application: Receiv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0" name="voteCollector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40680" y="450864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llyDispl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plays candidate tallies from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the name and tally for a candidat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Panel is the GUI component which displ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name and tally for a vote candi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name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ally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String vote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Tall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vo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 = vote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Integer.toString( tally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nam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tally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 Point-To-Point Messag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343400" cy="124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73000" y="4495680"/>
            <a:ext cx="37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messaging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the name and tally for a candidat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o f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source.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dbcDataSource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name=jdbc/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dbcDataSource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url=jdbc:cloudscape:rmi:VotingDB;create=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number is next number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dbcData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 –verb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addJmsDestination Votes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nnection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addJmsFactory VOTE_FACTORY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deploy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ploy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deploy tool, create new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 -&gt; New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Brow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o parent director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ckag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teCollectorApp.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New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 -&gt; New Enterprise 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1" name="candidateEJBJAR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19960" cy="4654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930320" y="5951520"/>
            <a:ext cx="576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JB J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Ap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4" name="candidateEdit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183120" cy="43592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533320" y="5570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Ad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file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7" name="candidateGeneral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902120" cy="39751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598480" y="5346720"/>
            <a:ext cx="42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0" name="candidateEntity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935600" cy="40878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816280" y="5342040"/>
            <a:ext cx="44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ntity 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3" name="candidateEntityTab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678200" cy="40910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783160" y="5570640"/>
            <a:ext cx="38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6" name="candidateDatabaseSettings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619440" cy="17146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522160" y="4432320"/>
            <a:ext cx="438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474920" y="1523880"/>
            <a:ext cx="6192720" cy="3810240"/>
            <a:chOff x="1474920" y="1523880"/>
            <a:chExt cx="6192720" cy="3810240"/>
          </a:xfrm>
        </p:grpSpPr>
        <p:pic>
          <p:nvPicPr>
            <p:cNvPr id="490" name="candidateDeploymentSettings2" descr=""/>
            <p:cNvPicPr/>
            <p:nvPr/>
          </p:nvPicPr>
          <p:blipFill>
            <a:blip r:embed="rId1"/>
            <a:stretch/>
          </p:blipFill>
          <p:spPr>
            <a:xfrm>
              <a:off x="1474920" y="1523880"/>
              <a:ext cx="619272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SQLComplete" descr=""/>
            <p:cNvPicPr/>
            <p:nvPr/>
          </p:nvPicPr>
          <p:blipFill>
            <a:blip r:embed="rId2"/>
            <a:stretch/>
          </p:blipFill>
          <p:spPr>
            <a:xfrm>
              <a:off x="3286080" y="2871720"/>
              <a:ext cx="257184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>
            <a:off x="2597400" y="557532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generation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1   Voter Application: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ies votes to favorite compute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s votes as messag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e sim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contains candidat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s messages and tallies v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s dis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4" name="SQLWarning" descr=""/>
          <p:cNvPicPr/>
          <p:nvPr/>
        </p:nvPicPr>
        <p:blipFill>
          <a:blip r:embed="rId1"/>
          <a:stretch/>
        </p:blipFill>
        <p:spPr>
          <a:xfrm>
            <a:off x="1990800" y="2871720"/>
            <a:ext cx="5162400" cy="1114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672640" y="4432320"/>
            <a:ext cx="40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warning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 -&gt; New Enterprise 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"/>
          <p:cNvSpPr/>
          <p:nvPr/>
        </p:nvSpPr>
        <p:spPr>
          <a:xfrm>
            <a:off x="2309400" y="6027840"/>
            <a:ext cx="48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JB J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600200" y="1066680"/>
          <a:ext cx="583092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83092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3" name="collectorEdit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407040" cy="466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217960" y="5956200"/>
            <a:ext cx="457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lass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6" name="collectorGeneral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469120" cy="45306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70600" y="58802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9" name="collectorTransaction" descr=""/>
          <p:cNvPicPr/>
          <p:nvPr/>
        </p:nvPicPr>
        <p:blipFill>
          <a:blip r:embed="rId1"/>
          <a:stretch/>
        </p:blipFill>
        <p:spPr>
          <a:xfrm>
            <a:off x="1886040" y="1847880"/>
            <a:ext cx="5371920" cy="31622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535760" y="5270400"/>
            <a:ext cx="64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management setting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2" name="collectorMessageBeanSettings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373720" cy="44467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914840" y="5727600"/>
            <a:ext cx="59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-Driven Bean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5" name="collectorEJBRef" descr=""/>
          <p:cNvPicPr/>
          <p:nvPr/>
        </p:nvPicPr>
        <p:blipFill>
          <a:blip r:embed="rId1"/>
          <a:stretch/>
        </p:blipFill>
        <p:spPr>
          <a:xfrm>
            <a:off x="1781280" y="1442880"/>
            <a:ext cx="5581440" cy="39722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991520" y="5575320"/>
            <a:ext cx="57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4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Bean Reference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8" name="JNDINames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943600" cy="4761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447280" y="5956200"/>
            <a:ext cx="50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4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JNDI name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Ap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1" name="deploy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292120" y="5956200"/>
            <a:ext cx="48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4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2-01T20:43:43Z</dcterms:modified>
  <cp:revision>137</cp:revision>
  <dc:subject/>
  <dc:title>PowerPoint Presentation</dc:title>
</cp:coreProperties>
</file>