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BBF6-C70E-45D8-A6D8-D05F1EC76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E6F6-29E0-4B4C-9838-1678F9F36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AC23-5D4A-433E-8A87-A98202190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F675-8900-4002-8CBA-F984380CA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AC206-B76B-4BF2-8219-552856F235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3F42-A491-4013-8916-F2419BB2DB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8A8AD-F08D-4EA0-A86B-62D630F442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75E2-DB7D-4C33-A22A-7433E82B3F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456D-A148-46CB-A36E-9D879D57E2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804D-3D79-49C5-A8CC-C6F2F5381E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39D20-B379-4F68-A722-2C85196629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DC90-E3B6-4C0B-B412-A9062369C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D7381-2052-4237-8389-B0D89EE404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9C9A-122A-47E6-8096-E49EF7170B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85F27-03BD-42BF-858C-7A8A77F820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DC6F-4E27-48F9-804A-519E99D3E0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8423-F43F-4219-ACE4-4FB8E29858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620E-E8CA-47A7-9F04-4575CA25E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D891-AABE-4C3B-BBBE-37904BA2A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B25C-B07B-410A-84AD-9F931C6B7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8AFB-B702-4ECD-93CD-EBC12EFC7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D3D5-C444-42B1-83FF-D3B6642E0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5F0D-92E9-4AE6-92AE-10EB15C87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377D-942B-497F-9D60-2AC615459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BB68-0DC6-4477-A115-6EDCCFF0F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DE25-382F-471A-ACE9-C237A0BD1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9 Enterprise Java Case Study: Business Logic Part 1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JB Architectu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hoppingCart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hoppingCar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hoppingCartEJB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hoppingCartHo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oduc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oduct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oductEJB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oductHo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4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oductMode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5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5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EJB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5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Ho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5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Mode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ShoppingCartEJB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mote interface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rderProductMod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s an item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contai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quantity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7-3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3-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Cart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eful session EJB ShoppingCart represents a Customer'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 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DateForma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PortableRemot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ppingCart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Context session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rderProductModels (Products &amp; quantities)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orderProductModel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Cre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ProductModel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ontents of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getContent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Model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1640" y="4419720"/>
            <a:ext cx="4038840" cy="337320"/>
            <a:chOff x="4571640" y="4419720"/>
            <a:chExt cx="4038840" cy="337320"/>
          </a:xfrm>
        </p:grpSpPr>
        <p:sp>
          <p:nvSpPr>
            <p:cNvPr id="134" name=""/>
            <p:cNvSpPr/>
            <p:nvPr/>
          </p:nvSpPr>
          <p:spPr>
            <a:xfrm flipH="1">
              <a:off x="4571640" y="45720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4120" y="4419720"/>
              <a:ext cx="3276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76560" y="5334120"/>
            <a:ext cx="3276720" cy="337320"/>
            <a:chOff x="4876560" y="5334120"/>
            <a:chExt cx="3276720" cy="337320"/>
          </a:xfrm>
        </p:grpSpPr>
        <p:sp>
          <p:nvSpPr>
            <p:cNvPr id="137" name=""/>
            <p:cNvSpPr/>
            <p:nvPr/>
          </p:nvSpPr>
          <p:spPr>
            <a:xfrm flipH="1">
              <a:off x="4876560" y="54864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38680" y="53341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962160" y="6248520"/>
            <a:ext cx="4267440" cy="337320"/>
            <a:chOff x="3962160" y="6248520"/>
            <a:chExt cx="4267440" cy="337320"/>
          </a:xfrm>
        </p:grpSpPr>
        <p:sp>
          <p:nvSpPr>
            <p:cNvPr id="140" name=""/>
            <p:cNvSpPr/>
            <p:nvPr/>
          </p:nvSpPr>
          <p:spPr>
            <a:xfrm flipH="1">
              <a:off x="3962160" y="64008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6248520"/>
              <a:ext cx="3505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content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4-6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4-5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Product with given ISBN to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Product( String isbn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,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if Product with given ISBN is alread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orderProductModel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Model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Model 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Product is in ShoppingCart, increment 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Model.getISBN().equals( isbn )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setQuant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rderProductModel.getQuantity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Product is not in ShoppingCart, find Product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iven ISBN and add OrderProductModel to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714640" y="3962520"/>
            <a:ext cx="3277080" cy="580680"/>
            <a:chOff x="5714640" y="3962520"/>
            <a:chExt cx="3277080" cy="580680"/>
          </a:xfrm>
        </p:grpSpPr>
        <p:sp>
          <p:nvSpPr>
            <p:cNvPr id="145" name=""/>
            <p:cNvSpPr/>
            <p:nvPr/>
          </p:nvSpPr>
          <p:spPr>
            <a:xfrm flipH="1">
              <a:off x="5714640" y="4114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19920" y="396252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und, increase corresponding quantity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10080" y="1981080"/>
            <a:ext cx="2438640" cy="824040"/>
            <a:chOff x="5410080" y="1981080"/>
            <a:chExt cx="2438640" cy="824040"/>
          </a:xfrm>
        </p:grpSpPr>
        <p:sp>
          <p:nvSpPr>
            <p:cNvPr id="148" name=""/>
            <p:cNvSpPr/>
            <p:nvPr/>
          </p:nvSpPr>
          <p:spPr>
            <a:xfrm flipH="1">
              <a:off x="5410080" y="213372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198108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if product already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84-8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8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8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9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96-10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Home productHome = ( ProductHo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duct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Product with given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 product = productHome.findByPrimaryKey(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Model productModel = product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OrderProductModel for ProductModel and 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ts 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.setProductModel( produc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.setQuanti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OrderProductModel to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s.add( orderProduc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finding Product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roduc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th ISB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sb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 not foun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invoking Product EJB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400440" y="1600200"/>
            <a:ext cx="2514960" cy="1052640"/>
            <a:chOff x="6400440" y="1600200"/>
            <a:chExt cx="2514960" cy="1052640"/>
          </a:xfrm>
        </p:grpSpPr>
        <p:sp>
          <p:nvSpPr>
            <p:cNvPr id="153" name=""/>
            <p:cNvSpPr/>
            <p:nvPr/>
          </p:nvSpPr>
          <p:spPr>
            <a:xfrm flipH="1" flipV="1">
              <a:off x="6400440" y="1600200"/>
              <a:ext cx="833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38880" y="182880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B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647960" y="2743200"/>
            <a:ext cx="4343760" cy="580680"/>
            <a:chOff x="4647960" y="2743200"/>
            <a:chExt cx="4343760" cy="580680"/>
          </a:xfrm>
        </p:grpSpPr>
        <p:sp>
          <p:nvSpPr>
            <p:cNvPr id="156" name=""/>
            <p:cNvSpPr/>
            <p:nvPr/>
          </p:nvSpPr>
          <p:spPr>
            <a:xfrm flipH="1">
              <a:off x="4647960" y="28954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2743200"/>
              <a:ext cx="3581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to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867280" y="3429000"/>
            <a:ext cx="3124440" cy="657000"/>
            <a:chOff x="5867280" y="3429000"/>
            <a:chExt cx="3124440" cy="657000"/>
          </a:xfrm>
        </p:grpSpPr>
        <p:sp>
          <p:nvSpPr>
            <p:cNvPr id="159" name=""/>
            <p:cNvSpPr/>
            <p:nvPr/>
          </p:nvSpPr>
          <p:spPr>
            <a:xfrm flipH="1" flipV="1">
              <a:off x="5867280" y="3429000"/>
              <a:ext cx="609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77120" y="35053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876560" y="3352680"/>
            <a:ext cx="2438640" cy="337320"/>
            <a:chOff x="4876560" y="3352680"/>
            <a:chExt cx="2438640" cy="337320"/>
          </a:xfrm>
        </p:grpSpPr>
        <p:sp>
          <p:nvSpPr>
            <p:cNvPr id="162" name=""/>
            <p:cNvSpPr/>
            <p:nvPr/>
          </p:nvSpPr>
          <p:spPr>
            <a:xfrm flipH="1">
              <a:off x="4876560" y="35053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38680" y="335268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quantity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562360" y="3886200"/>
            <a:ext cx="3429360" cy="580680"/>
            <a:chOff x="5562360" y="3886200"/>
            <a:chExt cx="3429360" cy="580680"/>
          </a:xfrm>
        </p:grpSpPr>
        <p:sp>
          <p:nvSpPr>
            <p:cNvPr id="165" name=""/>
            <p:cNvSpPr/>
            <p:nvPr/>
          </p:nvSpPr>
          <p:spPr>
            <a:xfrm flipH="1">
              <a:off x="5562360" y="40384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24480" y="3886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66920" y="4191120"/>
            <a:ext cx="3124800" cy="1310760"/>
            <a:chOff x="5866920" y="4191120"/>
            <a:chExt cx="3124800" cy="1310760"/>
          </a:xfrm>
        </p:grpSpPr>
        <p:sp>
          <p:nvSpPr>
            <p:cNvPr id="168" name=""/>
            <p:cNvSpPr/>
            <p:nvPr/>
          </p:nvSpPr>
          <p:spPr>
            <a:xfrm flipH="1">
              <a:off x="5866920" y="48006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29400" y="4191120"/>
              <a:ext cx="2362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ndByPrimaryKe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oes not fi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primary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14-13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26-13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35-13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dd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Product with given ISBN from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Product( String isbn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orderProductModel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OrderProduct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Model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Model 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move Product with given ISBN from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Model.getISBN().equals( isbn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s.remove( orderProduc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exception if Product not found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roduc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th ISB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sb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 not found in you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oppingCart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remove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333760" y="1981080"/>
            <a:ext cx="3200760" cy="580680"/>
            <a:chOff x="5333760" y="1981080"/>
            <a:chExt cx="3200760" cy="580680"/>
          </a:xfrm>
        </p:grpSpPr>
        <p:sp>
          <p:nvSpPr>
            <p:cNvPr id="173" name=""/>
            <p:cNvSpPr/>
            <p:nvPr/>
          </p:nvSpPr>
          <p:spPr>
            <a:xfrm flipH="1">
              <a:off x="5333760" y="21337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5880" y="198108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e throug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43240" y="3886200"/>
            <a:ext cx="2743560" cy="580680"/>
            <a:chOff x="5943240" y="3886200"/>
            <a:chExt cx="2743560" cy="580680"/>
          </a:xfrm>
        </p:grpSpPr>
        <p:sp>
          <p:nvSpPr>
            <p:cNvPr id="176" name=""/>
            <p:cNvSpPr/>
            <p:nvPr/>
          </p:nvSpPr>
          <p:spPr>
            <a:xfrm flipH="1">
              <a:off x="5943240" y="40384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05720" y="388620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und, remo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71840" y="5562720"/>
            <a:ext cx="2438640" cy="580680"/>
            <a:chOff x="6171840" y="5562720"/>
            <a:chExt cx="2438640" cy="580680"/>
          </a:xfrm>
        </p:grpSpPr>
        <p:sp>
          <p:nvSpPr>
            <p:cNvPr id="179" name=""/>
            <p:cNvSpPr/>
            <p:nvPr/>
          </p:nvSpPr>
          <p:spPr>
            <a:xfrm flipH="1">
              <a:off x="6171840" y="57150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34320" y="5562720"/>
              <a:ext cx="167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rown when product not f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51-15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68-1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quantity of Product in ShoppingCar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oductQuantity( String isb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Quantity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IllegalArgumentException if uantity not val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Quantity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antity cannot be less than zero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Product if productQuantity less than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Quantity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veProduct(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orderProductModel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OrderProduct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Model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Model 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quantity for Product with given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Model.getISBN().equals( isbn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setQuantity( productQuantit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267080" y="2209680"/>
            <a:ext cx="4496040" cy="337320"/>
            <a:chOff x="4267080" y="2209680"/>
            <a:chExt cx="4496040" cy="337320"/>
          </a:xfrm>
        </p:grpSpPr>
        <p:sp>
          <p:nvSpPr>
            <p:cNvPr id="184" name=""/>
            <p:cNvSpPr/>
            <p:nvPr/>
          </p:nvSpPr>
          <p:spPr>
            <a:xfrm flipH="1">
              <a:off x="4267080" y="236232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29200" y="2209680"/>
              <a:ext cx="3733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s product if product quantity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71840" y="5181480"/>
            <a:ext cx="2438640" cy="824040"/>
            <a:chOff x="6171840" y="5181480"/>
            <a:chExt cx="2438640" cy="824040"/>
          </a:xfrm>
        </p:grpSpPr>
        <p:sp>
          <p:nvSpPr>
            <p:cNvPr id="187" name=""/>
            <p:cNvSpPr/>
            <p:nvPr/>
          </p:nvSpPr>
          <p:spPr>
            <a:xfrm flipH="1">
              <a:off x="6171840" y="53341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4320" y="5181480"/>
              <a:ext cx="1676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s product quantity if product f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76-17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92-20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exception if Product not found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roduc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th ISB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sb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 not found in you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oppingCart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Product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out of store (i.e., create new Orde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 checkout( String user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,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exception if ShoppingCar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orderProductModels.isEmpty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re wer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Products found in your ShoppingCart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OrderModel for Order det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Model orderMod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OrderModel's date to today's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Model.setOrder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list of OrderProduct in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Model.setOrderProductModels( orderProductModel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OrderModel's shipped flag to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Model.setShipp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OrderHome interface to create new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Ord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Or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638320" y="838080"/>
            <a:ext cx="2667600" cy="1342800"/>
            <a:chOff x="5638320" y="838080"/>
            <a:chExt cx="2667600" cy="1342800"/>
          </a:xfrm>
        </p:grpSpPr>
        <p:sp>
          <p:nvSpPr>
            <p:cNvPr id="192" name=""/>
            <p:cNvSpPr/>
            <p:nvPr/>
          </p:nvSpPr>
          <p:spPr>
            <a:xfrm flipH="1" flipV="1">
              <a:off x="5638320" y="838080"/>
              <a:ext cx="986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29400" y="16002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rown if product not f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114440" y="3504960"/>
            <a:ext cx="4877280" cy="1524240"/>
            <a:chOff x="4114440" y="3504960"/>
            <a:chExt cx="4877280" cy="1524240"/>
          </a:xfrm>
        </p:grpSpPr>
        <p:sp>
          <p:nvSpPr>
            <p:cNvPr id="195" name=""/>
            <p:cNvSpPr/>
            <p:nvPr/>
          </p:nvSpPr>
          <p:spPr>
            <a:xfrm flipH="1">
              <a:off x="4723920" y="403848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53080" y="37339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pre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tai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5028840" y="3504960"/>
              <a:ext cx="1523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105160" y="4038480"/>
              <a:ext cx="1447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14440" y="4038480"/>
              <a:ext cx="24382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Home orderHome = ( OrderHo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rder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ew Order using OrderModel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ustomer's us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 order = orderHome.create( orderModel, us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mpty ShoppingCart for further shopp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Order EJB that was cre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Ord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heck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otal cost for Products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Tota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orderProductModel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culate Order's total c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400440" y="1447920"/>
            <a:ext cx="2591280" cy="337320"/>
            <a:chOff x="6400440" y="1447920"/>
            <a:chExt cx="2591280" cy="337320"/>
          </a:xfrm>
        </p:grpSpPr>
        <p:sp>
          <p:nvSpPr>
            <p:cNvPr id="203" name=""/>
            <p:cNvSpPr/>
            <p:nvPr/>
          </p:nvSpPr>
          <p:spPr>
            <a:xfrm flipH="1">
              <a:off x="6400440" y="16002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920" y="144792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952880" y="2057400"/>
            <a:ext cx="4038840" cy="824040"/>
            <a:chOff x="4952880" y="2057400"/>
            <a:chExt cx="4038840" cy="824040"/>
          </a:xfrm>
        </p:grpSpPr>
        <p:sp>
          <p:nvSpPr>
            <p:cNvPr id="206" name=""/>
            <p:cNvSpPr/>
            <p:nvPr/>
          </p:nvSpPr>
          <p:spPr>
            <a:xfrm flipH="1">
              <a:off x="4952880" y="22096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2057400"/>
              <a:ext cx="3276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mpt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creating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160" y="2590920"/>
            <a:ext cx="3200760" cy="580680"/>
            <a:chOff x="2819160" y="2590920"/>
            <a:chExt cx="3200760" cy="580680"/>
          </a:xfrm>
        </p:grpSpPr>
        <p:sp>
          <p:nvSpPr>
            <p:cNvPr id="209" name=""/>
            <p:cNvSpPr/>
            <p:nvPr/>
          </p:nvSpPr>
          <p:spPr>
            <a:xfrm flipH="1">
              <a:off x="2819160" y="27432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81280" y="25909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remote reference to newly cre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51-25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OrderProduct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Model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Model 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OrderProduct extended price to tot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tal += ( productModel.getPrice() *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getQuantit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Tot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ssion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ssionContext( SessionContext con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Context = con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ShoppingCart EJB instance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ShoppingCar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{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ShoppingCar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105160" y="1752480"/>
            <a:ext cx="2438640" cy="824040"/>
            <a:chOff x="5105160" y="1752480"/>
            <a:chExt cx="2438640" cy="824040"/>
          </a:xfrm>
        </p:grpSpPr>
        <p:sp>
          <p:nvSpPr>
            <p:cNvPr id="214" name=""/>
            <p:cNvSpPr/>
            <p:nvPr/>
          </p:nvSpPr>
          <p:spPr>
            <a:xfrm flipH="1">
              <a:off x="5105160" y="19051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67280" y="175248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culate total cost of item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ShoppingCart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ppingCart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s single create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 in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 container provides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de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ettings in following figure t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Transa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quir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business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9 Enterprise Java Case Study: Business Logic Part 1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1430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Produc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Produc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ProductEJB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6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ProductHo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6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ProductPK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Primary-Key Clas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6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Product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Ho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nterface for cre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JB inst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5-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Cart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CartHome is the home interface for stateful sess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JB Shopping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ppingCart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ShoppingCar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ppingCart cre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876560" y="2819520"/>
            <a:ext cx="2438640" cy="824040"/>
            <a:chOff x="4876560" y="2819520"/>
            <a:chExt cx="2438640" cy="824040"/>
          </a:xfrm>
        </p:grpSpPr>
        <p:sp>
          <p:nvSpPr>
            <p:cNvPr id="221" name=""/>
            <p:cNvSpPr/>
            <p:nvPr/>
          </p:nvSpPr>
          <p:spPr>
            <a:xfrm flipH="1">
              <a:off x="4876560" y="29718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281952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ation provided by EJB 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ShoppingCart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ShoppingCart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Produc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JB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container-managed persist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methods that select, insert, update and delete databas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er provides information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JB mapping to database 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.1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Produc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s 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Product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ductMod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tain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’s det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 for modifying details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JB inst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7-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657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 is the remote interface for entity EJB Produ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oduct details as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Model getProduct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343040" y="3276720"/>
            <a:ext cx="3962880" cy="337320"/>
            <a:chOff x="4343040" y="3276720"/>
            <a:chExt cx="3962880" cy="337320"/>
          </a:xfrm>
        </p:grpSpPr>
        <p:sp>
          <p:nvSpPr>
            <p:cNvPr id="236" name=""/>
            <p:cNvSpPr/>
            <p:nvPr/>
          </p:nvSpPr>
          <p:spPr>
            <a:xfrm flipH="1">
              <a:off x="4343040" y="34290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05520" y="3276720"/>
              <a:ext cx="3200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rie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ProductEJB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duct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mote interface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container-managed persist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8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8-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7-4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3-39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tity EJB Product represents a Product, including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BN, publisher, author, title, price number of pag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cover im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-managed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ublis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auth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g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m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oduct details as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Model getProduct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new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 productMod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ProductModel with data from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.setISBN(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.setPublisher( publish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.setAuthor( auth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733560" y="3886200"/>
            <a:ext cx="4038840" cy="580680"/>
            <a:chOff x="3733560" y="3886200"/>
            <a:chExt cx="4038840" cy="580680"/>
          </a:xfrm>
        </p:grpSpPr>
        <p:sp>
          <p:nvSpPr>
            <p:cNvPr id="243" name=""/>
            <p:cNvSpPr/>
            <p:nvPr/>
          </p:nvSpPr>
          <p:spPr>
            <a:xfrm flipH="1">
              <a:off x="3733560" y="40384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95680" y="388620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ainer synchronizes access to database-mapp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419360" y="4952880"/>
            <a:ext cx="3505320" cy="580680"/>
            <a:chOff x="4419360" y="4952880"/>
            <a:chExt cx="3505320" cy="580680"/>
          </a:xfrm>
        </p:grpSpPr>
        <p:sp>
          <p:nvSpPr>
            <p:cNvPr id="246" name=""/>
            <p:cNvSpPr/>
            <p:nvPr/>
          </p:nvSpPr>
          <p:spPr>
            <a:xfrm flipH="1">
              <a:off x="4419360" y="51055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81480" y="49528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detai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562360" y="5486400"/>
            <a:ext cx="3048120" cy="337320"/>
            <a:chOff x="5562360" y="5486400"/>
            <a:chExt cx="3048120" cy="337320"/>
          </a:xfrm>
        </p:grpSpPr>
        <p:sp>
          <p:nvSpPr>
            <p:cNvPr id="249" name=""/>
            <p:cNvSpPr/>
            <p:nvPr/>
          </p:nvSpPr>
          <p:spPr>
            <a:xfrm flipH="1">
              <a:off x="5562360" y="56386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54864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52880" y="6248520"/>
            <a:ext cx="3276720" cy="337320"/>
            <a:chOff x="4952880" y="6248520"/>
            <a:chExt cx="3276720" cy="337320"/>
          </a:xfrm>
        </p:grpSpPr>
        <p:sp>
          <p:nvSpPr>
            <p:cNvPr id="252" name=""/>
            <p:cNvSpPr/>
            <p:nvPr/>
          </p:nvSpPr>
          <p:spPr>
            <a:xfrm flipH="1">
              <a:off x="4952880" y="640080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15000" y="62485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pul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8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0-5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.setTitle( tit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.setPrice( pri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.setPages( pag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.setImage( im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oduct details using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oductModel( ProductModel product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pulate Product's data members with data 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vided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productModel.getISB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blisher = productModel.getPublish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uthor = productModel.getAuth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 = productModel.getTit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ce = productModel.getPr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ges = productModel.getPag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= productModel.getIm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ProductMode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instance of Product EJB using given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ejbCreate( ProductModel product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ProductModel( productModel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orm any necessary post-creation tas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ostCreate( ProductModel productmodel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333760" y="3276720"/>
            <a:ext cx="2972160" cy="337320"/>
            <a:chOff x="5333760" y="3276720"/>
            <a:chExt cx="2972160" cy="337320"/>
          </a:xfrm>
        </p:grpSpPr>
        <p:sp>
          <p:nvSpPr>
            <p:cNvPr id="257" name=""/>
            <p:cNvSpPr/>
            <p:nvPr/>
          </p:nvSpPr>
          <p:spPr>
            <a:xfrm flipH="1">
              <a:off x="5333760" y="34290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95880" y="3276720"/>
              <a:ext cx="22100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detai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495680" y="5181480"/>
            <a:ext cx="2438640" cy="824040"/>
            <a:chOff x="4495680" y="5181480"/>
            <a:chExt cx="2438640" cy="824040"/>
          </a:xfrm>
        </p:grpSpPr>
        <p:sp>
          <p:nvSpPr>
            <p:cNvPr id="260" name=""/>
            <p:cNvSpPr/>
            <p:nvPr/>
          </p:nvSpPr>
          <p:spPr>
            <a:xfrm flipH="1">
              <a:off x="4495680" y="533412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518148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 EJB with provid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8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Produc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( String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Produc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Produc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Product EJB data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Stor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ad Product EJB data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Load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pres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JB business logic for shopping-cart e-commerce 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ity EJBs that provide object-based interface to catalo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underst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EJBs in e-commerce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advanced EJB top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 primary-key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-to-many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Product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duct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ne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ductEJ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st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n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s for finding exist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Ho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nterface for finding and cre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JB inst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8-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2-2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6-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0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Home is the home interface for entity EJB Produ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Coll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Product EJB using given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 create( ProductModel product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Product with given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 findByPrimaryKey( String isbn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all Produ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findAllProduct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Products with given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findByTitle( String tit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562360" y="3429000"/>
            <a:ext cx="2972160" cy="580680"/>
            <a:chOff x="5562360" y="3429000"/>
            <a:chExt cx="2972160" cy="580680"/>
          </a:xfrm>
        </p:grpSpPr>
        <p:sp>
          <p:nvSpPr>
            <p:cNvPr id="269" name=""/>
            <p:cNvSpPr/>
            <p:nvPr/>
          </p:nvSpPr>
          <p:spPr>
            <a:xfrm flipH="1">
              <a:off x="5562360" y="35812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24480" y="342900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 for cre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181480" y="4191120"/>
            <a:ext cx="2743200" cy="1554120"/>
            <a:chOff x="5181480" y="4191120"/>
            <a:chExt cx="2743200" cy="1554120"/>
          </a:xfrm>
        </p:grpSpPr>
        <p:sp>
          <p:nvSpPr>
            <p:cNvPr id="272" name=""/>
            <p:cNvSpPr/>
            <p:nvPr/>
          </p:nvSpPr>
          <p:spPr>
            <a:xfrm flipH="1">
              <a:off x="5181480" y="434340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43600" y="4191120"/>
              <a:ext cx="19810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. Container implements method using deployment SQL qu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952520" y="4876920"/>
            <a:ext cx="3200760" cy="1310760"/>
            <a:chOff x="4952520" y="4876920"/>
            <a:chExt cx="3200760" cy="1310760"/>
          </a:xfrm>
        </p:grpSpPr>
        <p:sp>
          <p:nvSpPr>
            <p:cNvPr id="275" name=""/>
            <p:cNvSpPr/>
            <p:nvPr/>
          </p:nvSpPr>
          <p:spPr>
            <a:xfrm flipH="1">
              <a:off x="4952520" y="50292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14640" y="4876920"/>
              <a:ext cx="24386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in database. Container implements method using deployment SQL quer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105160" y="5105520"/>
            <a:ext cx="3657960" cy="1067400"/>
            <a:chOff x="5105160" y="5105520"/>
            <a:chExt cx="3657960" cy="1067400"/>
          </a:xfrm>
        </p:grpSpPr>
        <p:sp>
          <p:nvSpPr>
            <p:cNvPr id="278" name=""/>
            <p:cNvSpPr/>
            <p:nvPr/>
          </p:nvSpPr>
          <p:spPr>
            <a:xfrm flipH="1">
              <a:off x="5105160" y="57913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67280" y="5105520"/>
              <a:ext cx="2895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match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 Container implements method using deployment SQL quer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.4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ProductModel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s 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ances may be serialized over RMI-IIO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8-25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Model represents a Product in the Deitel Bookstor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ing ISBN, author, title and a picture of the co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MLGener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ductModel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ublis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auth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g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m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a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SBN( String productISBN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productISBN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885840" y="3962520"/>
            <a:ext cx="2972160" cy="824040"/>
            <a:chOff x="3885840" y="3962520"/>
            <a:chExt cx="2972160" cy="824040"/>
          </a:xfrm>
        </p:grpSpPr>
        <p:sp>
          <p:nvSpPr>
            <p:cNvPr id="285" name=""/>
            <p:cNvSpPr/>
            <p:nvPr/>
          </p:nvSpPr>
          <p:spPr>
            <a:xfrm flipH="1">
              <a:off x="3885840" y="41148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48320" y="39625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s accessible through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333760" y="2743200"/>
            <a:ext cx="2514960" cy="580680"/>
            <a:chOff x="5333760" y="2743200"/>
            <a:chExt cx="2514960" cy="580680"/>
          </a:xfrm>
        </p:grpSpPr>
        <p:sp>
          <p:nvSpPr>
            <p:cNvPr id="288" name=""/>
            <p:cNvSpPr/>
            <p:nvPr/>
          </p:nvSpPr>
          <p:spPr>
            <a:xfrm flipH="1">
              <a:off x="5333760" y="28954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5880" y="274320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ML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ISB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N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ublis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ublisher( String productPublish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blisher = productPublishe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ublis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Publish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she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uth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uthor( String productAuth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uthor = productAutho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uth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Autho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ho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tle( String productTit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 = productTitl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Titl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i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Pric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productPric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ic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number of p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ag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geCou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ges = pageCou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umber of p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age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ge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RL of cover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mage( String productIm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= productImag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12-1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URL of cover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Imag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ML representation of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roduc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product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SBN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ISBN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ublisher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s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Publisher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uthor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Author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410080" y="1828800"/>
            <a:ext cx="3200400" cy="1067400"/>
            <a:chOff x="5410080" y="1828800"/>
            <a:chExt cx="3200400" cy="1067400"/>
          </a:xfrm>
        </p:grpSpPr>
        <p:sp>
          <p:nvSpPr>
            <p:cNvPr id="297" name=""/>
            <p:cNvSpPr/>
            <p:nvPr/>
          </p:nvSpPr>
          <p:spPr>
            <a:xfrm flipH="1">
              <a:off x="5410080" y="19810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72200" y="182880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s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ata contained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Does not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cu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itl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itl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Titl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Format priceFormatt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umberFormat.getCurrencyInstance( Locale.U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ric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ceFormatter.format( getPrice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ages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ge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Pages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mag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Imag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742840" y="5105520"/>
            <a:ext cx="3734280" cy="337320"/>
            <a:chOff x="2742840" y="5105520"/>
            <a:chExt cx="3734280" cy="337320"/>
          </a:xfrm>
        </p:grpSpPr>
        <p:sp>
          <p:nvSpPr>
            <p:cNvPr id="302" name=""/>
            <p:cNvSpPr/>
            <p:nvPr/>
          </p:nvSpPr>
          <p:spPr>
            <a:xfrm flipH="1">
              <a:off x="2742840" y="52578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05320" y="510552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newly cre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1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MLGenerato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nterface for generating XM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me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properti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MLGenera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MLGenerator is an interface for classes that can gene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ML Elements. The XML element returned by method get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uld contain Elements for each public propert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Gener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ild an XML element for thi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duct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2   EJB Archite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s implement business logic of case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 controller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unicates with EJB business logic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 data from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JBs alleviate network congestion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ransmit EJB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s ar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asses containing all data for given EJ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entity bean provi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 that return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duct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609920" y="5867280"/>
            <a:ext cx="58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9.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duct Ent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art 1 of 2)and deployment settin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duct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Ord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JB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resents an order placed at Deitel Book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associated qua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stomer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 for modifying details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JB inst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0-2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 is the remote interface for entity EJB Or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 details as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Model getOrderMode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hipped fl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hipp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a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hipped fl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Shippe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876560" y="1905120"/>
            <a:ext cx="4115160" cy="1218960"/>
            <a:chOff x="4876560" y="1905120"/>
            <a:chExt cx="4115160" cy="1218960"/>
          </a:xfrm>
        </p:grpSpPr>
        <p:sp>
          <p:nvSpPr>
            <p:cNvPr id="321" name=""/>
            <p:cNvSpPr/>
            <p:nvPr/>
          </p:nvSpPr>
          <p:spPr>
            <a:xfrm flipH="1">
              <a:off x="4876560" y="2209680"/>
              <a:ext cx="1523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00800" y="19051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tai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714640" y="3886200"/>
            <a:ext cx="2972160" cy="580680"/>
            <a:chOff x="5714640" y="3886200"/>
            <a:chExt cx="2972160" cy="580680"/>
          </a:xfrm>
        </p:grpSpPr>
        <p:sp>
          <p:nvSpPr>
            <p:cNvPr id="324" name=""/>
            <p:cNvSpPr/>
            <p:nvPr/>
          </p:nvSpPr>
          <p:spPr>
            <a:xfrm flipH="1">
              <a:off x="5714640" y="40384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77120" y="38862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rk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been shipped from wareh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638680" y="4419720"/>
            <a:ext cx="2667240" cy="580680"/>
            <a:chOff x="5638680" y="4419720"/>
            <a:chExt cx="2667240" cy="580680"/>
          </a:xfrm>
        </p:grpSpPr>
        <p:sp>
          <p:nvSpPr>
            <p:cNvPr id="327" name=""/>
            <p:cNvSpPr/>
            <p:nvPr/>
          </p:nvSpPr>
          <p:spPr>
            <a:xfrm flipH="1">
              <a:off x="5638680" y="457200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00800" y="441972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dica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s been shipp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OrderEJB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mote reference implement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eclares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members for container-managed persiste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6-2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2-9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tity EJB Order represents an Order, including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ID, Order date, total cost and whether the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s shipp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DateForma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PortableRemot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 initial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Format dateForma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-managed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ord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custom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orderD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shipp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 details as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Model getOrderMode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new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Model orderMod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Model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581280" y="5029200"/>
            <a:ext cx="3429000" cy="580680"/>
            <a:chOff x="3581280" y="5029200"/>
            <a:chExt cx="3429000" cy="580680"/>
          </a:xfrm>
        </p:grpSpPr>
        <p:sp>
          <p:nvSpPr>
            <p:cNvPr id="334" name=""/>
            <p:cNvSpPr/>
            <p:nvPr/>
          </p:nvSpPr>
          <p:spPr>
            <a:xfrm flipH="1">
              <a:off x="3581280" y="51814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3400" y="5029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blic members for container managed persis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876560" y="5334120"/>
            <a:ext cx="3810240" cy="824040"/>
            <a:chOff x="4876560" y="5334120"/>
            <a:chExt cx="3810240" cy="824040"/>
          </a:xfrm>
        </p:grpSpPr>
        <p:sp>
          <p:nvSpPr>
            <p:cNvPr id="337" name=""/>
            <p:cNvSpPr/>
            <p:nvPr/>
          </p:nvSpPr>
          <p:spPr>
            <a:xfrm flipH="1">
              <a:off x="4876560" y="5715000"/>
              <a:ext cx="1523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24480" y="533412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 conta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tai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2-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6-5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OrderProduct EJB to retrieve lis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f Products contained in the Order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opulate OrderModel data members with data from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Model.setOrderID( ord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Model.setOrderDate( dateFormat.parse( orderDat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Model.setShipped( shipped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Order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Home orderProductHom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Home )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, OrderProduct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OrderProduct records for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lection orderProduct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Home.findByOrderID( ord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iterator = orderProduct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rderProductModels to place in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lection orderProductModel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OrderProductModel for each Product in Ord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 orderProduct = ( OrderProduc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ortableRemoteObject.narrow( iterator.next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rderProduc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172200" y="1904760"/>
            <a:ext cx="2819520" cy="413640"/>
            <a:chOff x="6172200" y="1904760"/>
            <a:chExt cx="2819520" cy="413640"/>
          </a:xfrm>
        </p:grpSpPr>
        <p:sp>
          <p:nvSpPr>
            <p:cNvPr id="342" name=""/>
            <p:cNvSpPr/>
            <p:nvPr/>
          </p:nvSpPr>
          <p:spPr>
            <a:xfrm flipH="1" flipV="1">
              <a:off x="6172200" y="1904760"/>
              <a:ext cx="604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81680" y="1981080"/>
              <a:ext cx="22100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pul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638680" y="3886200"/>
            <a:ext cx="3353040" cy="337320"/>
            <a:chOff x="5638680" y="3886200"/>
            <a:chExt cx="3353040" cy="337320"/>
          </a:xfrm>
        </p:grpSpPr>
        <p:sp>
          <p:nvSpPr>
            <p:cNvPr id="345" name=""/>
            <p:cNvSpPr/>
            <p:nvPr/>
          </p:nvSpPr>
          <p:spPr>
            <a:xfrm flipH="1">
              <a:off x="5638680" y="403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5880" y="3886200"/>
              <a:ext cx="2895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or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71-7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8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OrderProductModel for OrderProduct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rderProduct.getOrder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dd OrderProductModel to list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OrderProductModels in the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s.add( orderProduc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Collection of OrderProductModels to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Model.setOrderProductModels( orderProductModel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orking with Order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hipped fl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hipp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a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ed = flag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hipped fl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Shippe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ipp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409720" y="762120"/>
            <a:ext cx="3582000" cy="1266480"/>
            <a:chOff x="5409720" y="762120"/>
            <a:chExt cx="3582000" cy="1266480"/>
          </a:xfrm>
        </p:grpSpPr>
        <p:sp>
          <p:nvSpPr>
            <p:cNvPr id="350" name=""/>
            <p:cNvSpPr/>
            <p:nvPr/>
          </p:nvSpPr>
          <p:spPr>
            <a:xfrm flipH="1" flipV="1">
              <a:off x="5409720" y="762120"/>
              <a:ext cx="1366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05720" y="14479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486400" y="1599840"/>
            <a:ext cx="3505320" cy="1266840"/>
            <a:chOff x="5486400" y="1599840"/>
            <a:chExt cx="3505320" cy="1266840"/>
          </a:xfrm>
        </p:grpSpPr>
        <p:sp>
          <p:nvSpPr>
            <p:cNvPr id="353" name=""/>
            <p:cNvSpPr/>
            <p:nvPr/>
          </p:nvSpPr>
          <p:spPr>
            <a:xfrm flipH="1" flipV="1">
              <a:off x="5486400" y="1599840"/>
              <a:ext cx="2209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24480" y="2286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05520" y="2362320"/>
            <a:ext cx="3733560" cy="1190160"/>
            <a:chOff x="5105520" y="2362320"/>
            <a:chExt cx="3733560" cy="1190160"/>
          </a:xfrm>
        </p:grpSpPr>
        <p:sp>
          <p:nvSpPr>
            <p:cNvPr id="356" name=""/>
            <p:cNvSpPr/>
            <p:nvPr/>
          </p:nvSpPr>
          <p:spPr>
            <a:xfrm flipH="1" flipV="1">
              <a:off x="5105520" y="2362320"/>
              <a:ext cx="1519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400" y="29718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06-18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2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Order EJB using given OrderModel and us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ejbCreate( OrderModel order, String user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unique value for primary key of th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rder using SequenceFactory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SequenceFac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quenceFactoryHome sequenceFactoryHom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equenceFactory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bject, SequenceFactory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sequence for CustomerOrder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quenceFactory sequence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quenceFactoryHome.findByPrimaryKe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stomerOrde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unique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ID = sequenceFactory.getNext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date, cost, shipped flag and list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rderProduct from provided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Date = dateFormat.format( order.getOrderDat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ipped = order.getShipp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OrderProductModels that comprise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lection orderProductModel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.getOrderProductModel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028840" y="4419720"/>
            <a:ext cx="3429360" cy="337320"/>
            <a:chOff x="5028840" y="4419720"/>
            <a:chExt cx="3429360" cy="337320"/>
          </a:xfrm>
        </p:grpSpPr>
        <p:sp>
          <p:nvSpPr>
            <p:cNvPr id="361" name=""/>
            <p:cNvSpPr/>
            <p:nvPr/>
          </p:nvSpPr>
          <p:spPr>
            <a:xfrm flipH="1">
              <a:off x="5028840" y="45720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91320" y="44197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s unique ID for 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3760" y="761760"/>
            <a:ext cx="3505320" cy="1571400"/>
            <a:chOff x="5333760" y="761760"/>
            <a:chExt cx="3505320" cy="1571400"/>
          </a:xfrm>
        </p:grpSpPr>
        <p:sp>
          <p:nvSpPr>
            <p:cNvPr id="364" name=""/>
            <p:cNvSpPr/>
            <p:nvPr/>
          </p:nvSpPr>
          <p:spPr>
            <a:xfrm flipH="1" flipV="1">
              <a:off x="5333760" y="761760"/>
              <a:ext cx="2057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43600" y="175248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using data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52-1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OrderProduct EJBs for each Product 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rder to keep track of quantit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Order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Home orderProductHo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Home )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bject, OrderProduct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iterator = orderProductModel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n OrderProduct EJB with Product'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SBN, quantity and orderID for this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OrderProductModel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orderID for OrderProduct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setOrderID( ord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OrderProduc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Home.create( orderProduc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stomerID for customer placing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Custom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Home customerHo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CustomerHome )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, Customer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866920" y="3657600"/>
            <a:ext cx="3124800" cy="337320"/>
            <a:chOff x="5866920" y="3657600"/>
            <a:chExt cx="3124800" cy="337320"/>
          </a:xfrm>
        </p:grpSpPr>
        <p:sp>
          <p:nvSpPr>
            <p:cNvPr id="369" name=""/>
            <p:cNvSpPr/>
            <p:nvPr/>
          </p:nvSpPr>
          <p:spPr>
            <a:xfrm flipH="1">
              <a:off x="58669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95880" y="3657600"/>
              <a:ext cx="2895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or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2   EJB Architectur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525760" y="2738520"/>
            <a:ext cx="4092480" cy="1384200"/>
            <a:chOff x="2525760" y="2738520"/>
            <a:chExt cx="4092480" cy="138420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525760" y="2738520"/>
              <a:ext cx="40924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2743200" y="3124080"/>
              <a:ext cx="69696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638680" y="3124080"/>
              <a:ext cx="75564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5410080" y="2895480"/>
              <a:ext cx="119376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2546280" y="2895480"/>
              <a:ext cx="1187640" cy="11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990720" y="4191120"/>
            <a:ext cx="6705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9.1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between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GetProductServl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duc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73-17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7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se provided userID to find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 custo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Home.findByUserID( us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ID = ( Integer ) customer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EJ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( exception.getMessage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jb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orm any necessary post-creation tas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ostCreate( OrderModel order, String id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Format = DateFormat.getDateTimeInstan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eForma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teForma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105160" y="685440"/>
            <a:ext cx="3810240" cy="1495440"/>
            <a:chOff x="5105160" y="685440"/>
            <a:chExt cx="3810240" cy="1495440"/>
          </a:xfrm>
        </p:grpSpPr>
        <p:sp>
          <p:nvSpPr>
            <p:cNvPr id="374" name=""/>
            <p:cNvSpPr/>
            <p:nvPr/>
          </p:nvSpPr>
          <p:spPr>
            <a:xfrm flipH="1" flipV="1">
              <a:off x="5105160" y="685440"/>
              <a:ext cx="1595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05720" y="16002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for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648320" y="1295280"/>
            <a:ext cx="4343400" cy="1328040"/>
            <a:chOff x="4648320" y="1295280"/>
            <a:chExt cx="4343400" cy="1328040"/>
          </a:xfrm>
        </p:grpSpPr>
        <p:sp>
          <p:nvSpPr>
            <p:cNvPr id="377" name=""/>
            <p:cNvSpPr/>
            <p:nvPr/>
          </p:nvSpPr>
          <p:spPr>
            <a:xfrm flipH="1" flipV="1">
              <a:off x="4648320" y="1295280"/>
              <a:ext cx="3124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24480" y="228600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Order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ID = ( Integer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Order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Order EJB instanceC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Order EJB data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Stor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ad Order EJB data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Load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Order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s exist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Ho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nterface for finding and cre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JB inst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8-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2-2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6-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Home is the home interface for entity EJB Or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Order using given OrderModel and us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 create( OrderModel orderModel, String user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Order using given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 findByPrimaryKey( Integer order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Orders for given custom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findByCustomerID( Integer customer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943240" y="3429000"/>
            <a:ext cx="2972160" cy="337320"/>
            <a:chOff x="5943240" y="3429000"/>
            <a:chExt cx="2972160" cy="337320"/>
          </a:xfrm>
        </p:grpSpPr>
        <p:sp>
          <p:nvSpPr>
            <p:cNvPr id="386" name=""/>
            <p:cNvSpPr/>
            <p:nvPr/>
          </p:nvSpPr>
          <p:spPr>
            <a:xfrm flipH="1">
              <a:off x="5943240" y="35812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05720" y="342900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486040" y="4114800"/>
            <a:ext cx="2972160" cy="337320"/>
            <a:chOff x="5486040" y="4114800"/>
            <a:chExt cx="2972160" cy="337320"/>
          </a:xfrm>
        </p:grpSpPr>
        <p:sp>
          <p:nvSpPr>
            <p:cNvPr id="389" name=""/>
            <p:cNvSpPr/>
            <p:nvPr/>
          </p:nvSpPr>
          <p:spPr>
            <a:xfrm flipH="1">
              <a:off x="5486040" y="42670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48520" y="411480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s exis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943240" y="4952880"/>
            <a:ext cx="2972160" cy="824040"/>
            <a:chOff x="5943240" y="4952880"/>
            <a:chExt cx="2972160" cy="824040"/>
          </a:xfrm>
        </p:grpSpPr>
        <p:sp>
          <p:nvSpPr>
            <p:cNvPr id="392" name=""/>
            <p:cNvSpPr/>
            <p:nvPr/>
          </p:nvSpPr>
          <p:spPr>
            <a:xfrm flipH="1">
              <a:off x="5943240" y="51055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05720" y="49528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.4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OrderModel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apsulates details of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JB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9-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Model represents an Order and contains the order ID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, total cost and a boolean indicating whether or not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 has shipp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MLGener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rderModel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ord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orderD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ipp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orderProductModel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empty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Mode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ProductModel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order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rderID( Integer 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ID = i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962160" y="3809880"/>
            <a:ext cx="3962520" cy="337320"/>
            <a:chOff x="3962160" y="3809880"/>
            <a:chExt cx="3962520" cy="337320"/>
          </a:xfrm>
        </p:grpSpPr>
        <p:sp>
          <p:nvSpPr>
            <p:cNvPr id="399" name=""/>
            <p:cNvSpPr/>
            <p:nvPr/>
          </p:nvSpPr>
          <p:spPr>
            <a:xfrm flipH="1">
              <a:off x="3962160" y="39625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24280" y="3809880"/>
              <a:ext cx="3200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ve associated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OrderI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I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order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rderDate( Date dat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Date = da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getOrderD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Da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otal c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TotalCos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orderProductModel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culate Order's total c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OrderProduct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Model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Model 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OrderProduct extended price to tot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tal += ( productModel.getPrice() *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getQuantit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hipped fl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hipp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Shippe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ed = orderShipp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hipped fl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hippe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ipp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ist of OrderProductMode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rderProductModels( Collection model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ProductModels = model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ProductMode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getOrderProductModel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s.unmodifiableCollec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05-1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ML representation of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order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order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orderI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OrderID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DateFormat for writing Dat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Format formatter = DateFormat.getDateTimeInstanc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eForma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teForma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EDIU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orderDat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rmatter.format( getOrderDate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Format costFormatt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umberFormat.getCurrencyInstance(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otalCos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talC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stFormatter.format( getTotalCost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hippe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952520" y="685800"/>
            <a:ext cx="3657960" cy="1342800"/>
            <a:chOff x="4952520" y="685800"/>
            <a:chExt cx="3657960" cy="1342800"/>
          </a:xfrm>
        </p:grpSpPr>
        <p:sp>
          <p:nvSpPr>
            <p:cNvPr id="408" name=""/>
            <p:cNvSpPr/>
            <p:nvPr/>
          </p:nvSpPr>
          <p:spPr>
            <a:xfrm flipH="1" flipV="1">
              <a:off x="4952520" y="685800"/>
              <a:ext cx="1824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81680" y="14479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rom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ML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Shipped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Text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Text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orderProducts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orderProduct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Produc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getOrderProductModels(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orderProduct element for each Order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Model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s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.appendChild( orderProduct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ShoppingCar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ful session EJB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by customers to gather products as they browse 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business logic for managing each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JB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stateful so it will persist throughout user’s se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.4 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Order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.4 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Order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.4 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Order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-to-many relationship between Orders and 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1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mot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siness methods fo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rder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1 OrderProduct remote interface for modifying details of OrderProduct EJB instanc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8-1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 is the remote interface for entity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Product details as Order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Model getOrderProduct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257440" y="3124080"/>
            <a:ext cx="3581280" cy="1067400"/>
            <a:chOff x="5257440" y="3124080"/>
            <a:chExt cx="3581280" cy="1067400"/>
          </a:xfrm>
        </p:grpSpPr>
        <p:sp>
          <p:nvSpPr>
            <p:cNvPr id="428" name=""/>
            <p:cNvSpPr/>
            <p:nvPr/>
          </p:nvSpPr>
          <p:spPr>
            <a:xfrm>
              <a:off x="5865840" y="3124080"/>
              <a:ext cx="2972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the details of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or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257440" y="3504960"/>
              <a:ext cx="6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EJB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Product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rder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mote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2 OrderProductEJB implementation of OrderProduct remote interfac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-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tity EJB OrderProductEJB represents the mapping betw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Product and an Order, including the quantity of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 in the Or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PortableRemot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-managed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ord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a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Product details as Order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Model getOrderProductMode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ProductModel mod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roductModel for Product in this Order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047760" y="3962520"/>
            <a:ext cx="3581280" cy="580680"/>
            <a:chOff x="3047760" y="3962520"/>
            <a:chExt cx="3581280" cy="580680"/>
          </a:xfrm>
        </p:grpSpPr>
        <p:sp>
          <p:nvSpPr>
            <p:cNvPr id="435" name=""/>
            <p:cNvSpPr/>
            <p:nvPr/>
          </p:nvSpPr>
          <p:spPr>
            <a:xfrm>
              <a:off x="3656160" y="3962520"/>
              <a:ext cx="2972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container-managed field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antit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047760" y="4343400"/>
              <a:ext cx="6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257440" y="4724280"/>
            <a:ext cx="3581280" cy="1067400"/>
            <a:chOff x="5257440" y="4724280"/>
            <a:chExt cx="3581280" cy="1067400"/>
          </a:xfrm>
        </p:grpSpPr>
        <p:sp>
          <p:nvSpPr>
            <p:cNvPr id="438" name=""/>
            <p:cNvSpPr/>
            <p:nvPr/>
          </p:nvSpPr>
          <p:spPr>
            <a:xfrm>
              <a:off x="5865840" y="4724280"/>
              <a:ext cx="2972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the details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ord a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5257440" y="5105160"/>
              <a:ext cx="6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2 OrderProductEJB implementation of OrderProduct remote interfac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oductHome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Home productHome = ( Product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duct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Product using its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 produ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Home.findByPrimaryKey(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Model 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ProductModel in Order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del.setProductModel( produc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orderID and quantity in Order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del.setOrderID( ord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del.setQuantity( quantit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Order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2 OrderProductEJB implementation of OrderProduct remote interfac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2-7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0-8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OrderProduct details using Order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rderProductModel( OrderProductModel mode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model.getProductModel().getISB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ID = model.getOrder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quantity = model.getQuanti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OrderProduct for given Order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PK ejbCreate( OrderProductModel mode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OrderProductModel( 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orm any necessary post-creation tas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ostCreate( OrderProductModel model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OrderProduc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ProductPK primaryKe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OrderProductPK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4876560" y="762120"/>
            <a:ext cx="3809880" cy="824040"/>
            <a:chOff x="4876560" y="762120"/>
            <a:chExt cx="3809880" cy="824040"/>
          </a:xfrm>
        </p:grpSpPr>
        <p:sp>
          <p:nvSpPr>
            <p:cNvPr id="445" name=""/>
            <p:cNvSpPr/>
            <p:nvPr/>
          </p:nvSpPr>
          <p:spPr>
            <a:xfrm>
              <a:off x="5523840" y="762120"/>
              <a:ext cx="3162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details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ord, using data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876560" y="1142640"/>
              <a:ext cx="64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324480" y="1600200"/>
            <a:ext cx="2666880" cy="1067400"/>
            <a:chOff x="6324480" y="1600200"/>
            <a:chExt cx="2666880" cy="1067400"/>
          </a:xfrm>
        </p:grpSpPr>
        <p:sp>
          <p:nvSpPr>
            <p:cNvPr id="448" name=""/>
            <p:cNvSpPr/>
            <p:nvPr/>
          </p:nvSpPr>
          <p:spPr>
            <a:xfrm>
              <a:off x="6778080" y="1600200"/>
              <a:ext cx="2213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EJB container call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new instances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324480" y="1981080"/>
              <a:ext cx="4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038480" y="1981080"/>
            <a:ext cx="4343040" cy="824040"/>
            <a:chOff x="4038480" y="1981080"/>
            <a:chExt cx="4343040" cy="824040"/>
          </a:xfrm>
        </p:grpSpPr>
        <p:sp>
          <p:nvSpPr>
            <p:cNvPr id="451" name=""/>
            <p:cNvSpPr/>
            <p:nvPr/>
          </p:nvSpPr>
          <p:spPr>
            <a:xfrm>
              <a:off x="4775760" y="1981080"/>
              <a:ext cx="3605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mplete the creation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or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038480" y="2361960"/>
              <a:ext cx="7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.1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ShoppingCar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s business logic methods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method must declare exceptions thr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2 OrderProductEJB implementation of OrderProduct remote interfac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primaryKey.getISB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ID = primaryKey.getOrder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OrderProduc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OrderProduc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OrderProduct EJB data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Stor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ad OrderProduct EJB data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Load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ProductH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ne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rder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JB in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es exist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rder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3 OrderProductHome interface for finding and creating OrderProduct EJB instanc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-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-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2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Home is the home interface for entity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Coll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OrderProduct using given Order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 create( OrderProductModel 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OrderProduct for given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findByOrderID( Integer order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OrderProduct for given primary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 findByPrimaryKey( OrderProductPK pk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5866920" y="3276720"/>
            <a:ext cx="3048120" cy="1067400"/>
            <a:chOff x="5866920" y="3276720"/>
            <a:chExt cx="3048120" cy="1067400"/>
          </a:xfrm>
        </p:grpSpPr>
        <p:sp>
          <p:nvSpPr>
            <p:cNvPr id="460" name=""/>
            <p:cNvSpPr/>
            <p:nvPr/>
          </p:nvSpPr>
          <p:spPr>
            <a:xfrm>
              <a:off x="6385680" y="3276720"/>
              <a:ext cx="2529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rresponds to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866920" y="365724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5562360" y="3962520"/>
            <a:ext cx="3124080" cy="1310760"/>
            <a:chOff x="5562360" y="3962520"/>
            <a:chExt cx="3124080" cy="1310760"/>
          </a:xfrm>
        </p:grpSpPr>
        <p:sp>
          <p:nvSpPr>
            <p:cNvPr id="463" name=""/>
            <p:cNvSpPr/>
            <p:nvPr/>
          </p:nvSpPr>
          <p:spPr>
            <a:xfrm>
              <a:off x="6093000" y="3962520"/>
              <a:ext cx="2593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s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ords with the provide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referen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562360" y="434304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6172200" y="4724280"/>
            <a:ext cx="2590560" cy="1310760"/>
            <a:chOff x="6172200" y="4724280"/>
            <a:chExt cx="2590560" cy="1310760"/>
          </a:xfrm>
        </p:grpSpPr>
        <p:sp>
          <p:nvSpPr>
            <p:cNvPr id="466" name=""/>
            <p:cNvSpPr/>
            <p:nvPr/>
          </p:nvSpPr>
          <p:spPr>
            <a:xfrm>
              <a:off x="6612840" y="4724280"/>
              <a:ext cx="2149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ord, using an instanc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P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imary-key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172200" y="5105160"/>
              <a:ext cx="4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PK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rimary-Key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ProductP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mary-key class fo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rder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3 OrderProductPK primary-key class for OrderProduct EJB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-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PK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PK is a primary-key class for entity EJB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PK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mary-key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ord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-argu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PK() {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OrderProductPK with ISBN and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PK( String isbn, Integer 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ID =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SB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ISB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N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OrderI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I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895120" y="2057400"/>
            <a:ext cx="5943240" cy="580680"/>
            <a:chOff x="2895120" y="2057400"/>
            <a:chExt cx="5943240" cy="580680"/>
          </a:xfrm>
        </p:grpSpPr>
        <p:sp>
          <p:nvSpPr>
            <p:cNvPr id="473" name=""/>
            <p:cNvSpPr/>
            <p:nvPr/>
          </p:nvSpPr>
          <p:spPr>
            <a:xfrm>
              <a:off x="3904560" y="2057400"/>
              <a:ext cx="4933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w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rrespond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two primary-key field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895120" y="2438280"/>
              <a:ext cx="100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3 OrderProductPK primary-key class for OrderProduct EJB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4-5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lculate hashCode for thi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Cod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SBN().hashCode() ^ getOrderID().intValu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ustom implementation of Object equals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quals( Object objec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object is instance of OrderProductP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objec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PK )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PK otherKe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PK ) 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mpare ISBNs and orderI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ISBN().equals( otherKey.getISBN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&amp;&amp; getOrderID().equals( otherKey.getOrderID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895480" y="228600"/>
            <a:ext cx="6096240" cy="1797480"/>
            <a:chOff x="2895480" y="228600"/>
            <a:chExt cx="6096240" cy="1797480"/>
          </a:xfrm>
        </p:grpSpPr>
        <p:sp>
          <p:nvSpPr>
            <p:cNvPr id="478" name=""/>
            <p:cNvSpPr/>
            <p:nvPr/>
          </p:nvSpPr>
          <p:spPr>
            <a:xfrm>
              <a:off x="5638680" y="228600"/>
              <a:ext cx="335304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overridden implementations of method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sC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qual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nable the EJB container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clients to determine if tw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s are equal by comparing their primary-key class instan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2895480" y="685800"/>
              <a:ext cx="2743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4495320" y="114300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Product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resent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rder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c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5 OrderProductModel class for serializing OrderProduct data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Model represents a Product and its quantity 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 Order or Shopping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MLGener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rderProductModel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Model product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 qua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ord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oductModel( ProductModel 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 = 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Model getProduct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5 OrderProductModel class for serializing OrderProduct data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Quanti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Quantit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quantity = productQua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Quanti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a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rderID( Integer 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ID =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Order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ML representation of Order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orderProduc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orderProdu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end ProductModel produc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Product.appendChild 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ProductModel()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5 OrderProductModel class for serializing OrderProduct data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quantity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ant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 ( getQuantity() ) 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 for adding, removing and upd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, checking out and calcul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’s total cos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3-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7-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2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Car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Cart is the remote interface for stateful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JB Shopping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Array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ppingCar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ontents of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getContent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Product with given ISBN to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Product( String isbn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ProductNotFound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Product with given ISBN from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Product( String isbn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ProductNotFound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ange quantity of Product in ShoppingCart wi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iven ISBN to given 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oductQuantity( String isb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antit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ProductNotFoundExcep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llegalArgument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19560" y="3657600"/>
            <a:ext cx="2514960" cy="1067400"/>
            <a:chOff x="6019560" y="3657600"/>
            <a:chExt cx="2514960" cy="1067400"/>
          </a:xfrm>
        </p:grpSpPr>
        <p:sp>
          <p:nvSpPr>
            <p:cNvPr id="110" name=""/>
            <p:cNvSpPr/>
            <p:nvPr/>
          </p:nvSpPr>
          <p:spPr>
            <a:xfrm flipH="1">
              <a:off x="6019560" y="38098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81680" y="3657600"/>
              <a:ext cx="1752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638680" y="4267080"/>
            <a:ext cx="2438640" cy="824040"/>
            <a:chOff x="5638680" y="4267080"/>
            <a:chExt cx="2438640" cy="824040"/>
          </a:xfrm>
        </p:grpSpPr>
        <p:sp>
          <p:nvSpPr>
            <p:cNvPr id="113" name=""/>
            <p:cNvSpPr/>
            <p:nvPr/>
          </p:nvSpPr>
          <p:spPr>
            <a:xfrm flipH="1">
              <a:off x="5638680" y="441972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0800" y="426708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product to add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o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562360" y="5029200"/>
            <a:ext cx="2438640" cy="1067400"/>
            <a:chOff x="5562360" y="5029200"/>
            <a:chExt cx="2438640" cy="1067400"/>
          </a:xfrm>
        </p:grpSpPr>
        <p:sp>
          <p:nvSpPr>
            <p:cNvPr id="116" name=""/>
            <p:cNvSpPr/>
            <p:nvPr/>
          </p:nvSpPr>
          <p:spPr>
            <a:xfrm flipH="1">
              <a:off x="5562360" y="51814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24480" y="5029200"/>
              <a:ext cx="1676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943240" y="5486400"/>
            <a:ext cx="2667240" cy="1067400"/>
            <a:chOff x="5943240" y="5486400"/>
            <a:chExt cx="2667240" cy="1067400"/>
          </a:xfrm>
        </p:grpSpPr>
        <p:sp>
          <p:nvSpPr>
            <p:cNvPr id="119" name=""/>
            <p:cNvSpPr/>
            <p:nvPr/>
          </p:nvSpPr>
          <p:spPr>
            <a:xfrm flipH="1">
              <a:off x="5943240" y="62485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05720" y="5486400"/>
              <a:ext cx="1904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s quantit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N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Model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Model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990720" y="5791320"/>
            <a:ext cx="6705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9.27 (Part 1 of 2)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Product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ntity and deployment settings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Model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Model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 for adding, removing and upd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, checking out and calcul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’s total cos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7-3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447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out ShoppingCart (i.e., create new Orde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 checkout( String user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ProductNotFound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otal cost for Products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Tot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638680" y="837720"/>
            <a:ext cx="2895840" cy="1434240"/>
            <a:chOff x="5638680" y="837720"/>
            <a:chExt cx="2895840" cy="1434240"/>
          </a:xfrm>
        </p:grpSpPr>
        <p:sp>
          <p:nvSpPr>
            <p:cNvPr id="124" name=""/>
            <p:cNvSpPr/>
            <p:nvPr/>
          </p:nvSpPr>
          <p:spPr>
            <a:xfrm flipH="1" flipV="1">
              <a:off x="5638680" y="837720"/>
              <a:ext cx="12146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0" y="144792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c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9680" y="1447920"/>
            <a:ext cx="1676520" cy="1585800"/>
            <a:chOff x="2209680" y="1447920"/>
            <a:chExt cx="1676520" cy="1585800"/>
          </a:xfrm>
        </p:grpSpPr>
        <p:sp>
          <p:nvSpPr>
            <p:cNvPr id="127" name=""/>
            <p:cNvSpPr/>
            <p:nvPr/>
          </p:nvSpPr>
          <p:spPr>
            <a:xfrm flipV="1">
              <a:off x="2971800" y="1447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220968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total cos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Kyle Lomeli</cp:lastModifiedBy>
  <dcterms:modified xsi:type="dcterms:W3CDTF">2002-02-04T20:10:06Z</dcterms:modified>
  <cp:revision>122</cp:revision>
  <dc:subject/>
  <dc:title>PowerPoint Presentation</dc:title>
</cp:coreProperties>
</file>