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F8DD-6259-4059-B90F-5F610AF26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B241-AB99-4353-B92C-B1A346374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06FC-8E4F-4C0F-83D9-6206DAD84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0A45-6945-4356-A191-74083B4C1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10D4C-2F09-476A-B4D7-57D67D8369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19070-81CA-4616-8749-A31F3A1730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0706-1A67-4FC5-A398-6F041085E8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E29CE-AC23-406D-A920-75FDC95F6F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B751B-D1B2-4654-9F86-08F8783DF3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B9AA3-5260-4C9B-AE90-976557F800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A00EA-A16F-4E39-ACE9-D3243A6829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7CD8-4AC5-4E84-A5D2-0569F07DD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E324-670F-4735-88F6-584C07DF7D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A1460-A6D9-475E-A9FF-38FA4C08DB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65E7A-AD04-45DA-9238-1525A60BCE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7919B-A404-468A-9D20-97D6BB9132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A22E9-E354-4203-B7E5-EA32878A05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1F54-00C8-422E-8D8E-04DACEF13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1279-8E3C-496D-BEA7-60DC25140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F14F-BFE2-4176-82E4-A02C568ED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2580-9D4D-455F-B255-2CABDB489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488A-32E1-41C9-A00B-F7387D389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BFA8-C6D5-4C14-87C2-9A8BCA45B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0222-FFCE-454D-A389-E30942BE1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0D2F-D4F6-4CED-A092-C58ACAD4E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1123-6446-4F6A-8FCE-C6014E60C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1 Application Server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1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1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2EE Specification and Benefi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1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mercial Application Serv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1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EA WebLogic 6.0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1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Planet Application Server 6.0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1.3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BM WebSphere Advanced Application Server 4.0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1.3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Boss 2.2.2 Application Serv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1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ploying the Deitel Bookstore on BEA WebLogic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1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ploying the Deitel Bookstore on IBM WebSphe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1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 Deploying the Deitel Bookstore on BEA WebLog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Log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-docs.bea.com/wls/docs60/install/instprg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udsc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logic_sp.j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logic.j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udscape.j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on cons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calhost:7001/conso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 Deploying the Deitel Bookstore on BEA WebLogic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9" name="bea_console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400800" cy="4648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381320" y="5943600"/>
            <a:ext cx="60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1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Logic administration console. (Courtesy BEA Systems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 Deploying the Deitel Bookstore on BEA WebLogic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DBC data pool and data source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bea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85944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29040" y="5381640"/>
            <a:ext cx="663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1.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BC Connection pool properties. (Courtesy of BEA Systems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 Deploying the Deitel Bookstore on BEA WebLogic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ment descri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kstore.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r xvf bookstore.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-8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-3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-7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-2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8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9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4-4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3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7-29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1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ncod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eblogic-ejb-jar.xml deployment descriptor for bookstor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describes weblogic specific properties of each bea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weblogic-ejb-jar PUBL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-//BEA Systems, Inc.//DTD WebLogic 5.1.0 EJB//EN'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http://www.bea.com/servers/wls510/dtd/weblogic-ejb-jar.dtd'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ustomer EJB weblogic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weblogic-ejb-ja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weblogic-enterprise-bean&gt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determines caching properti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ax-beans-in-cach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ax-beans-in-cach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che-strateg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-Wri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ache-strateg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read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read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cmp types for bea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TA-INF/weblogic-cmp-rdbms-jar-Customer.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257800" y="914400"/>
            <a:ext cx="2057040" cy="580680"/>
            <a:chOff x="5257800" y="914400"/>
            <a:chExt cx="2057040" cy="580680"/>
          </a:xfrm>
        </p:grpSpPr>
        <p:sp>
          <p:nvSpPr>
            <p:cNvPr id="120" name=""/>
            <p:cNvSpPr/>
            <p:nvPr/>
          </p:nvSpPr>
          <p:spPr>
            <a:xfrm>
              <a:off x="5608440" y="914400"/>
              <a:ext cx="1706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he DTD for the descrip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257800" y="1295280"/>
              <a:ext cx="3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666880" y="1752480"/>
            <a:ext cx="5028840" cy="580680"/>
            <a:chOff x="2666880" y="1752480"/>
            <a:chExt cx="5028840" cy="580680"/>
          </a:xfrm>
        </p:grpSpPr>
        <p:sp>
          <p:nvSpPr>
            <p:cNvPr id="123" name=""/>
            <p:cNvSpPr/>
            <p:nvPr/>
          </p:nvSpPr>
          <p:spPr>
            <a:xfrm>
              <a:off x="3520800" y="1752480"/>
              <a:ext cx="4174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blogic-ejb-j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deployment information for all EJBs in the EJB JA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666880" y="2133360"/>
              <a:ext cx="85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429000" y="2133720"/>
            <a:ext cx="4876560" cy="580680"/>
            <a:chOff x="3429000" y="2133720"/>
            <a:chExt cx="4876560" cy="580680"/>
          </a:xfrm>
        </p:grpSpPr>
        <p:sp>
          <p:nvSpPr>
            <p:cNvPr id="126" name=""/>
            <p:cNvSpPr/>
            <p:nvPr/>
          </p:nvSpPr>
          <p:spPr>
            <a:xfrm>
              <a:off x="4257000" y="2133720"/>
              <a:ext cx="4048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blogic-enterprise-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deployment information for the Customer EJB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429000" y="2514600"/>
              <a:ext cx="82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962160" y="2362320"/>
            <a:ext cx="3124080" cy="580680"/>
            <a:chOff x="3962160" y="2362320"/>
            <a:chExt cx="3124080" cy="580680"/>
          </a:xfrm>
        </p:grpSpPr>
        <p:sp>
          <p:nvSpPr>
            <p:cNvPr id="129" name=""/>
            <p:cNvSpPr/>
            <p:nvPr/>
          </p:nvSpPr>
          <p:spPr>
            <a:xfrm>
              <a:off x="4491360" y="2362320"/>
              <a:ext cx="2594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-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ecifies the name of this bea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962160" y="27432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200400" y="2895480"/>
            <a:ext cx="2666520" cy="580680"/>
            <a:chOff x="3200400" y="2895480"/>
            <a:chExt cx="2666520" cy="580680"/>
          </a:xfrm>
        </p:grpSpPr>
        <p:sp>
          <p:nvSpPr>
            <p:cNvPr id="132" name=""/>
            <p:cNvSpPr/>
            <p:nvPr/>
          </p:nvSpPr>
          <p:spPr>
            <a:xfrm>
              <a:off x="3654000" y="2895480"/>
              <a:ext cx="2212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ain the descriptions of caching proper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200400" y="3276360"/>
              <a:ext cx="4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638320" y="3048120"/>
            <a:ext cx="3276720" cy="1067400"/>
            <a:chOff x="5638320" y="3048120"/>
            <a:chExt cx="3276720" cy="1067400"/>
          </a:xfrm>
        </p:grpSpPr>
        <p:sp>
          <p:nvSpPr>
            <p:cNvPr id="135" name=""/>
            <p:cNvSpPr/>
            <p:nvPr/>
          </p:nvSpPr>
          <p:spPr>
            <a:xfrm>
              <a:off x="6194880" y="3048120"/>
              <a:ext cx="27201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c-beans-in-cach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fines the maximum number of active instances the container should allo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638320" y="3428640"/>
              <a:ext cx="55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486040" y="3276720"/>
            <a:ext cx="3124080" cy="580680"/>
            <a:chOff x="5486040" y="3276720"/>
            <a:chExt cx="3124080" cy="580680"/>
          </a:xfrm>
        </p:grpSpPr>
        <p:sp>
          <p:nvSpPr>
            <p:cNvPr id="138" name=""/>
            <p:cNvSpPr/>
            <p:nvPr/>
          </p:nvSpPr>
          <p:spPr>
            <a:xfrm>
              <a:off x="6016680" y="3276720"/>
              <a:ext cx="2593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che-strateg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ts how EJBs should cache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5486040" y="36576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429000" y="4191120"/>
            <a:ext cx="4266720" cy="580680"/>
            <a:chOff x="3429000" y="4191120"/>
            <a:chExt cx="4266720" cy="580680"/>
          </a:xfrm>
        </p:grpSpPr>
        <p:sp>
          <p:nvSpPr>
            <p:cNvPr id="141" name=""/>
            <p:cNvSpPr/>
            <p:nvPr/>
          </p:nvSpPr>
          <p:spPr>
            <a:xfrm>
              <a:off x="4153320" y="4191120"/>
              <a:ext cx="3542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istence-descrip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fines the EJBs persistence propert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429000" y="4572000"/>
              <a:ext cx="72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200040" y="4572000"/>
            <a:ext cx="3886200" cy="824040"/>
            <a:chOff x="3200040" y="4572000"/>
            <a:chExt cx="3886200" cy="824040"/>
          </a:xfrm>
        </p:grpSpPr>
        <p:sp>
          <p:nvSpPr>
            <p:cNvPr id="144" name=""/>
            <p:cNvSpPr/>
            <p:nvPr/>
          </p:nvSpPr>
          <p:spPr>
            <a:xfrm>
              <a:off x="3860280" y="4572000"/>
              <a:ext cx="3225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istence-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the e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ype-identifi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must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bLogic_CMP_RDBM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200040" y="4952880"/>
              <a:ext cx="65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715000" y="5486400"/>
            <a:ext cx="2590920" cy="824040"/>
            <a:chOff x="5715000" y="5486400"/>
            <a:chExt cx="2590920" cy="824040"/>
          </a:xfrm>
        </p:grpSpPr>
        <p:sp>
          <p:nvSpPr>
            <p:cNvPr id="147" name=""/>
            <p:cNvSpPr/>
            <p:nvPr/>
          </p:nvSpPr>
          <p:spPr>
            <a:xfrm>
              <a:off x="6154920" y="5486400"/>
              <a:ext cx="2151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ype-stor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ecifies the location of the CMP descrip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715000" y="5867280"/>
              <a:ext cx="4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6-4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0-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transaction paramater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ans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rans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references to ejb nam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Ord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Ord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SequenceFacto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SequenceFacto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Addre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Addre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assigns JNDI name to EJB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Custom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123720" y="76320"/>
            <a:ext cx="4039200" cy="580680"/>
            <a:chOff x="3123720" y="76320"/>
            <a:chExt cx="4039200" cy="580680"/>
          </a:xfrm>
        </p:grpSpPr>
        <p:sp>
          <p:nvSpPr>
            <p:cNvPr id="152" name=""/>
            <p:cNvSpPr/>
            <p:nvPr/>
          </p:nvSpPr>
          <p:spPr>
            <a:xfrm>
              <a:off x="3809880" y="76320"/>
              <a:ext cx="3353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ll WebLogic to use the persistence given in the previous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123720" y="380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505320" y="2514600"/>
            <a:ext cx="4343040" cy="580680"/>
            <a:chOff x="3505320" y="2514600"/>
            <a:chExt cx="4343040" cy="580680"/>
          </a:xfrm>
        </p:grpSpPr>
        <p:sp>
          <p:nvSpPr>
            <p:cNvPr id="155" name=""/>
            <p:cNvSpPr/>
            <p:nvPr/>
          </p:nvSpPr>
          <p:spPr>
            <a:xfrm>
              <a:off x="4242600" y="2514600"/>
              <a:ext cx="3605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erence-descrip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aps each reference to the current JNDI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505320" y="2895480"/>
              <a:ext cx="7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weblogic-enterprise-bean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customer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Sequence factory EJB weblogic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weblogic-enterprise-bean&gt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quenceFacto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nages beans caching behavi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ax-beans-in-cach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ax-beans-in-cach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idle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dle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che-strateg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-Wri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ache-strateg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read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read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 bean to CMP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TA-INF/weblogic-cmp-rdbms-jar-Sequence.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transaction management properti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ans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rans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assigns JNDI name to bea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SequenceFacto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weblogic-enterprise-bean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end SequenceFactory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Order EJB weblogic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weblogic-enterprise-bean&gt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&lt;!-- defines caching properties, set to default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&lt;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ax-beans-in-cach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ax-beans-in-cach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idle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dle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che-strateg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-Wri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ache-strateg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read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read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bean to specific CMP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storage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TA-INF/weblogic-cmp-rdbms-jar-order.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defines transaction attribut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ans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rans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bean references to JNDI nam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SequenceFacto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SequenceFacto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Order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Order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Custom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Custom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Ord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weblogic-enterprise-bean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Order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ddress EJB weblogic deployment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weblogic-enterprise-bean&gt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defines caching properties for bea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ax-beans-in-cach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ax-beans-in-cach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idle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dle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che-strateg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-Wri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ache-strateg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read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read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EJB to specific cmp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ETA-INF/weblogic-cmp-rdbms-jar-address.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 Enterprise E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 Web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M Web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lanet Applicatio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Boss open-source applicatio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defines transaction properti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ans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rans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referenced to JNDI names of bean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SequenceFacto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SequenceFacto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assigns JNDI name to this bea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Addre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weblogic-enterprise-bean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Address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OrderProduct EJB weblogic deployment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weblogic-enterprise-bean&gt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sets default caching properti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ax-beans-in-cach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ax-beans-in-cach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idle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dle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che-strateg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-Wri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ache-strateg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read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read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this bean to specific cmp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ETA-INF/weblogic-cmp-rdbms-jar-orderProduct.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references to JNDI names of bean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assigns JNDI name of this bea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Order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weblogic-enterprise-bean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end OrderProduct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Product EJB weblogic deployment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weblogic-enterprise-bean&gt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defines caching properties for EJB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idle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dle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che-strateg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-Wri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ache-strateg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read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read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this bean to its CMP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TA-INF/weblogic-cmp-rdbms-jar-product.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15-35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defines transaction properti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ans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rans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assigns JNDI nam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weblogic-enterprise-bean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Product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ShoppingCart EJB weblogic deployment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weblogic-enterprise-bean&gt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ppingCar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defines chaching properties, set to default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ax-beans-in-cach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ax-beans-in-cach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idle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dle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che-strateg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-Wri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ache-strateg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read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read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assigns a store directory for bea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stateful-session-persistent-store-di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config/deitel/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stateful-session-persistent-store-di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defines transaction attribut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ans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rans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657600" y="1981080"/>
            <a:ext cx="4647960" cy="580680"/>
            <a:chOff x="3657600" y="1981080"/>
            <a:chExt cx="4647960" cy="580680"/>
          </a:xfrm>
        </p:grpSpPr>
        <p:sp>
          <p:nvSpPr>
            <p:cNvPr id="174" name=""/>
            <p:cNvSpPr/>
            <p:nvPr/>
          </p:nvSpPr>
          <p:spPr>
            <a:xfrm>
              <a:off x="4446720" y="1981080"/>
              <a:ext cx="3858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ful session EJB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ires slightly different deployment in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657600" y="2361960"/>
              <a:ext cx="78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EJB references to JNDI nam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Ord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Ord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ShoppingCar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weblogic-enterprise-bean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ShoppingCart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weblogic-ejb-jar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weblogic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 Deploying the Deitel Bookstore on BEA WebLogic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685800" y="5943600"/>
            <a:ext cx="7772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1.5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t 1 of 3)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tags for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-ejb-jar.xm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t used in tex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 Deploying the Deitel Bookstore on BEA WebLogic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5800" y="5791320"/>
            <a:ext cx="7772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1.5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t 2 of 3)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tags for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-ejb-jar.xm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t used in tex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 Deploying the Deitel Bookstore on BEA WebLogic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6 Weblogic-cmp-rdbms-jar-address.xml defines WebLogic CMP database properties for EJB Addres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-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ncod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eblogic-cmp-rdbms-jar-address.xml rdbms deployment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descriptor for EJB Address. Defines database properties --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weblogic-rdbms-bean PUBL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-//BEA Systems, Inc.//DTD WebLogic 5.1.0 EJB RDBMS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rsistence//EN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http://www.bea.com/servers/wls510/dtd/weblogic-rdbms-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rsistence.dtd'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main block for rdbms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weblogic-rdbms-bea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Sets data pool to BookstorePoo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ool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storePoo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ool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Sets database table to ADDRES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able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ble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EJB fields to database field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zipCod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zipCod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666520" y="2209680"/>
            <a:ext cx="4038840" cy="580680"/>
            <a:chOff x="2666520" y="2209680"/>
            <a:chExt cx="4038840" cy="580680"/>
          </a:xfrm>
        </p:grpSpPr>
        <p:sp>
          <p:nvSpPr>
            <p:cNvPr id="192" name=""/>
            <p:cNvSpPr/>
            <p:nvPr/>
          </p:nvSpPr>
          <p:spPr>
            <a:xfrm>
              <a:off x="3352680" y="220968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blogic-rdbms-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base element for the descrip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666520" y="25905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495320" y="2743200"/>
            <a:ext cx="3429000" cy="824040"/>
            <a:chOff x="4495320" y="2743200"/>
            <a:chExt cx="3429000" cy="824040"/>
          </a:xfrm>
        </p:grpSpPr>
        <p:sp>
          <p:nvSpPr>
            <p:cNvPr id="195" name=""/>
            <p:cNvSpPr/>
            <p:nvPr/>
          </p:nvSpPr>
          <p:spPr>
            <a:xfrm>
              <a:off x="5076360" y="2743200"/>
              <a:ext cx="2847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ol-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ust contain the name for a data pool already defined in WebLogi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5320" y="3124080"/>
              <a:ext cx="58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191120" y="3276720"/>
            <a:ext cx="2285640" cy="580680"/>
            <a:chOff x="4191120" y="3276720"/>
            <a:chExt cx="2285640" cy="580680"/>
          </a:xfrm>
        </p:grpSpPr>
        <p:sp>
          <p:nvSpPr>
            <p:cNvPr id="198" name=""/>
            <p:cNvSpPr/>
            <p:nvPr/>
          </p:nvSpPr>
          <p:spPr>
            <a:xfrm>
              <a:off x="4578120" y="3276720"/>
              <a:ext cx="189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rites to t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91120" y="36576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343040" y="4038480"/>
            <a:ext cx="3581280" cy="824040"/>
            <a:chOff x="4343040" y="4038480"/>
            <a:chExt cx="3581280" cy="824040"/>
          </a:xfrm>
        </p:grpSpPr>
        <p:sp>
          <p:nvSpPr>
            <p:cNvPr id="201" name=""/>
            <p:cNvSpPr/>
            <p:nvPr/>
          </p:nvSpPr>
          <p:spPr>
            <a:xfrm>
              <a:off x="4951440" y="4038480"/>
              <a:ext cx="2972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-lin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the mappings between the EJB fields and database fields for zipC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343040" y="4419360"/>
              <a:ext cx="60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6 Weblogic-cmp-rdbms-jar-address.xml defines WebLogic CMP database properties for EJB Addres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eetAddressLine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eetAddressLine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eetAddressLine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eetAddressLine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t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t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oneNumb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oneNumb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 J2EE Specification and Benefi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 Enterprise E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rtable application-server plat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2EE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I sup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loyment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6 Weblogic-cmp-rdbms-jar-address.xml defines WebLogic CMP database properties for EJB Addres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676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use-quoted-name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-quoted-nam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/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weblogic-rdbms-bean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Address RDBMS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7 WebLogic-cmp-rdbm-jar-Customer.xml defines WebLogic CMP database properties for EJB Customer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ncod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eblogic-cmp-rdbms-jar-Customer.xml ejb descriptor for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ustomerEJB defines rdbms properties for WebLogic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weblogic-rdbms-bean PUBL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-//BEA Systems, Inc.//DTD WebLogic 5.1.0 EJB RDBMS Persistence//EN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http://www.bea.com/servers/wls510/dtd/weblogic-rdbms-persistence.dtd'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lement containing rdbms properties for Customer EJB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weblogic-rdbms-bea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ssigns this bean to pool named BookstorePoo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ool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storePoo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ool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ssigns this bean to table named CUSTOME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able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ble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element containing field mapping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customer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creditCardExpirationDat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ditCardExpirationDa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ditCardExpirationDa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7 WebLogic-cmp-rdbm-jar-Customer.xml defines WebLogic CMP database properties for EJB Customer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shippingAddress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ippingAddress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ippingAddress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billingAddress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illingAddress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illingAddress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passwordHi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sword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sword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creditCardNam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ditCard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ditCard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firstNam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passwor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swor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swor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7 WebLogic-cmp-rdbm-jar-Customer.xml defines WebLogic CMP database properties for EJB CustomerEJB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1-12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9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6-9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lastNam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user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creditCardNumbe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ditCardNumb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ditCardNumb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list of custom finder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finder-lis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nder for findByUser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ByUs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method-param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lang.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par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method-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get fields where userID matches argument string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finder-query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![CDATA[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( like userID $0 )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]]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finder-que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209320" y="3809880"/>
            <a:ext cx="3810240" cy="580680"/>
            <a:chOff x="2209320" y="3809880"/>
            <a:chExt cx="3810240" cy="580680"/>
          </a:xfrm>
        </p:grpSpPr>
        <p:sp>
          <p:nvSpPr>
            <p:cNvPr id="214" name=""/>
            <p:cNvSpPr/>
            <p:nvPr/>
          </p:nvSpPr>
          <p:spPr>
            <a:xfrm>
              <a:off x="2856600" y="3809880"/>
              <a:ext cx="3162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er-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finder methods for the customer EJB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209320" y="4190760"/>
              <a:ext cx="64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105160" y="4572000"/>
            <a:ext cx="3657600" cy="824040"/>
            <a:chOff x="5105160" y="4572000"/>
            <a:chExt cx="3657600" cy="824040"/>
          </a:xfrm>
        </p:grpSpPr>
        <p:sp>
          <p:nvSpPr>
            <p:cNvPr id="217" name=""/>
            <p:cNvSpPr/>
            <p:nvPr/>
          </p:nvSpPr>
          <p:spPr>
            <a:xfrm>
              <a:off x="5726520" y="4572000"/>
              <a:ext cx="3036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-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string that matches a finder method defined in the home interf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105160" y="495288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971800" y="4724280"/>
            <a:ext cx="4571640" cy="824040"/>
            <a:chOff x="2971800" y="4724280"/>
            <a:chExt cx="4571640" cy="824040"/>
          </a:xfrm>
        </p:grpSpPr>
        <p:sp>
          <p:nvSpPr>
            <p:cNvPr id="220" name=""/>
            <p:cNvSpPr/>
            <p:nvPr/>
          </p:nvSpPr>
          <p:spPr>
            <a:xfrm>
              <a:off x="3747960" y="4724280"/>
              <a:ext cx="37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-param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-par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specifies the fully qualified type of any passed parame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971800" y="510516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7 WebLogic-cmp-rdbm-jar-Customer.xml defines WebLogic CMP database properties for EJB CustomerEJB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7-1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nder for findByLogi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ByLogi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method-param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lang.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par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method-param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lang.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par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method-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fields where userID and password match argument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finder-query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![CDATA[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(&amp; ( like userID $0 )( like password $1 ))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]]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finder-que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inder-lis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dditional option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use-quoted-name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-quoted-nam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weblogic-rdbms-bean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rdbms descriptor for CustomerEJB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23920" y="380880"/>
            <a:ext cx="3429000" cy="824040"/>
            <a:chOff x="4723920" y="380880"/>
            <a:chExt cx="3429000" cy="824040"/>
          </a:xfrm>
        </p:grpSpPr>
        <p:sp>
          <p:nvSpPr>
            <p:cNvPr id="225" name=""/>
            <p:cNvSpPr/>
            <p:nvPr/>
          </p:nvSpPr>
          <p:spPr>
            <a:xfrm>
              <a:off x="5306400" y="380880"/>
              <a:ext cx="284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ByLog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takes two arguments and returns only the fields that match bot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723920" y="761760"/>
              <a:ext cx="58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 Deploying the Deitel Bookstore on BEA WebLogic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9 Weblogic-cmp-rdbms-jar-order.xml defines WebLogic CMP database properties for EJB Order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ncod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eblogic-cmp-rdbms-jar-order.xml ejb descriptor for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OrderEJB defines rdbms properties for WebLogic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weblogic-rdbms-bean PUBL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-//BEA Systems, Inc.//DTD WebLogic 5.1.0 EJB RDBMS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rsistence//EN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http://www.bea.com/servers/wls510/dtd/weblogic-rdbms-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rsistence.dtd'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lement containing rdbms properties for OrderEJB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weblogic-rdbms-bea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ssigns this bean to pool named BookstorePoo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ool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storePoo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ool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ssigns this bean to table named CUSTOMERORDER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able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erOrder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ble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element containing field mapping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orderDat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Da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Da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shippe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9 Weblogic-cmp-rdbms-jar-order.xml defines WebLogic CMP database properties for EJB Order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ippe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ippe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customer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order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finder-lis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nder for findByCustomer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ByCustom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method-param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lang.Integ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par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method-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return enumeration where customerID = arg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finder-que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![CDATA[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( = customerID $0 )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]]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finder-que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inder-lis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9 Weblogic-cmp-rdbms-jar-order.xml defines WebLogic CMP database properties for EJB Order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dditional option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use-quoted-name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-quoted-nam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weblogic-rdbms-bea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rdbms descriptor for OrderEJB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10 Weblogic-cmp-rdbms-jar-orderProduct.xml defines WebLogic CMP database properties for the OrderProduct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ncod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eblogic-cmp-rdbms-jar-orderProduct.xml ejb descriptor f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OrderProductEJB defines rdbms properties for WebLogic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weblogic-rdbms-bean PUBL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-//BEA Systems, Inc.//DTD WebLogic 5.1.0 EJB RDBMS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rsistence//EN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http://www.bea.com/servers/wls510/dtd/weblogic-rdbms-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rsistence.dtd'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lement containing rdbms properties for OrderProductsEJB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weblogic-rdbms-bea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ssigns this bean to pool named BookstorePoo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ool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storePoo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ool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ssigns this bean to table named ORDERPRODUC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able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ble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element containing field mapping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attribute-map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quantity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antit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antit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ISB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 J2EE Specification and Benefi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10 Weblogic-cmp-rdbms-jar-orderProduct.xml defines WebLogic CMP database properties for the OrderProduct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order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finder-lis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&lt;!-- finder for findByOrder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ByOrd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method-param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lang.Integ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par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method-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select fields where orderID matches arg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finder-que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![CDATA[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( like orderID $0 )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]]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finder-que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inder-lis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dditional option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use-quoted-name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-quoted-nam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weblogic-rdbms-bean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OrderProduct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11 Weblogic-cmp-rdbms-jar-product.xml defines WebLogic CMP database properties for the Product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ncod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eblogic-cmp-rdbms-jar-product.xml ejb descriptor for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ProductEJB defines rdbms properties for WebLogic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weblogic-rdbms-bean PUBL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-//BEA Systems, Inc.//DTD WebLogic 5.1.0 EJB RDBMS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rsistence//EN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http://www.bea.com/servers/wls510/dtd/weblogic-rdbms-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rsistence.dtd'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lement containing rdbms properties for ProductEJB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weblogic-rdbms-bea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ssigns this bean to pool named BookstorePoo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ool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storePoo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ool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ssigns this bean to table named PRODUC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able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ble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element containing field mapping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pag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auth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11 Weblogic-cmp-rdbms-jar-product.xml defines WebLogic CMP database properties for the Product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publishe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sh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sh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pric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imag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ISB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titl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finder-lis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11 Weblogic-cmp-rdbms-jar-product.xml defines WebLogic CMP database properties for the Product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&lt;!-- finder for findAllProduct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find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AllProduc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select fields where ISBN is not nul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finder-que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![CDATA[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( isNotNull ISBN )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]]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finder-que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&lt;!-- finder for findByTitl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ByTit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method-param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lang.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par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method-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select fields that title matches arg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finder-que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![CDATA[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( like title $0 )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]]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finder-que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inder-lis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dditional option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use-quoted-name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-quoted-nam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weblogic-rdbms-bean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ProductEJB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12 Weblogic-cmp-rdbms-jar-sequence.xml defines WebLogic CMP database properties for the SequenceFactory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ncod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eblogic-cmp-rdbms-jar-sequence.xml ejb descriptor f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SequenceFactory defines rdbms properties for WebLogic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weblogic-rdbms-bean PUBL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-//BEA Systems, Inc.//DTD WebLogic 5.1.0 EJB RDBMS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rsistence//EN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http://www.bea.com/servers/wls510/dtd/weblogic-rdbms-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rsistence.dtd'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lement containing rdbms properties for SequenceFactoryEJB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weblogic-rdbms-bea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ssigns this bean to pool named BookstorePoo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ool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storePoo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ool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ssigns this bean to table SEQUENCEFACTORY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able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quenceFacto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ble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element containing field mapping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address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primaryKey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12 Weblogic-cmp-rdbms-jar-sequence.xml defines WebLogic CMP database properties for the SequenceFactory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use-quoted-name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-quoted-nam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weblogic-rdbms-bea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. 21.13 Weblogic.xml Web application deployment descripto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nes 22-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ncod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eblogic.xml Deployment descriptor for servlet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maps ejb references to JNDI nam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weblogic-web-app PUBL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"-//BEA Systems, Inc.//DTD Web Application 6.0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"http://www.bea.com/servers/wls600/dtd/weblogic-web-jar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main block for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weblogic-web-ap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optional, provides description for war file.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store servle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block contains ejb reference map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individual reference ma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reference name defined in web.x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ShoppingCar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JNDI name specified within weblogic-ejb-jar.x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ShoppingCar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individual reference ma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809520" y="3809880"/>
            <a:ext cx="3124440" cy="580680"/>
            <a:chOff x="3809520" y="3809880"/>
            <a:chExt cx="3124440" cy="580680"/>
          </a:xfrm>
        </p:grpSpPr>
        <p:sp>
          <p:nvSpPr>
            <p:cNvPr id="253" name=""/>
            <p:cNvSpPr/>
            <p:nvPr/>
          </p:nvSpPr>
          <p:spPr>
            <a:xfrm>
              <a:off x="4340160" y="3809880"/>
              <a:ext cx="2593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p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reference to its JNDI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3809520" y="419076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. 21.13 Weblogic.xml Web application deployment descripto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individual reference ma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Custom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Custom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individual reference ma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Ord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Ord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weblogic-web-ap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servlet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 Deploying the Deitel Bookstore on IBM WebSphe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udsc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Sphere application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BM HTTP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parser and XSL transfor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alan.j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erces.j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server ad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host:9090/adm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DBC driver and data source 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ment descri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 Deploying the Deitel Bookstore on IBM WebSpher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 Commercial Application Serv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application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A WebLog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Planet Application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BM WebSp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B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1 BEA WebLogic 6.0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Logic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poo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t deploy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ilover sup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-poo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ced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2 iPlanet Application Server 6.0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lanet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conn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icky load 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ghtweight Directory Access Protocol (LDA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ww.iplanet.com/ias_deit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3 IBM WebSphere Advanced Application Server 4.0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Sphere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ilover sup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poo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-level security contro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4 JBoss 2.2.2 Application Serv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Boss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t deploy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 memory footpr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zhang</cp:lastModifiedBy>
  <dcterms:modified xsi:type="dcterms:W3CDTF">2002-02-04T15:54:27Z</dcterms:modified>
  <cp:revision>27</cp:revision>
  <dc:subject/>
  <dc:title>PowerPoint Presentation</dc:title>
</cp:coreProperties>
</file>