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6248-3B73-4D37-ADCC-52D58CD22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44E0-0898-486D-B746-6EFDA738A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E1DF-BD4C-458C-8643-A86AB1C31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A341-E4CC-41C9-8A98-FD98E9B17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D4CD-2625-4ED3-91BF-B6E25149A1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B746-2ADB-4C45-ADCC-8F412228E0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CBA1-C458-411B-85D1-6AF6612E80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6BFB-BAC2-4682-9274-ED6DC30EB7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89D0-B04C-4B27-9AF8-0F3352AF9E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7212-6482-4601-B670-8AC84F642B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65DB-D6E1-405F-BB70-BEA77CDA4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6DDC-FEE8-4A26-BA35-BA8398BA1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03AD-67F4-47D1-B503-35E0C84497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5E5C-3EE7-4E35-AAD8-B0AFEAF419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9EAE-8973-4525-85AE-C8CCCBC5E1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1DF9-FAD9-40F0-9544-90A086D1EE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AA2DE-BC51-417A-B0EE-B5BC8E812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2D88-3E97-4475-B973-196A05371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0C64-D46B-4A40-98F5-D71499283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DB46-7DEC-4307-B0E5-AA5505EFB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9ABA-C10B-402E-885F-E6900C004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1F95-310B-42E0-9436-9672B64ED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F6ED-4D29-4C1E-9D48-19260175B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DBF7-82FB-4561-9B78-228AF00E5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5AB1-6969-4550-90F1-E9C6397F0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67FE-E5A4-4AB9-B410-784C934EC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ww.sun.com/jini/specs/js1_1.pdf" TargetMode="External"/><Relationship Id="rId2" Type="http://schemas.openxmlformats.org/officeDocument/2006/relationships/hyperlink" Target="http://www.javaworld.com/jw-11-1999/jw-11-jiniology.html" TargetMode="External"/><Relationship Id="rId3" Type="http://schemas.openxmlformats.org/officeDocument/2006/relationships/hyperlink" Target="http://www.javaworld.com/jw-01-2000/jw-01-jiniology.html" TargetMode="External"/><Relationship Id="rId4" Type="http://schemas.openxmlformats.org/officeDocument/2006/relationships/hyperlink" Target="http://www.javaworld.com/jw-03-2000/jw-03-jiniology.html" TargetMode="External"/><Relationship Id="rId5" Type="http://schemas.openxmlformats.org/officeDocument/2006/relationships/hyperlink" Target="http://www.javaworld.com/jw-04-2000/jw-0421-jiniology.html" TargetMode="External"/><Relationship Id="rId6" Type="http://schemas.openxmlformats.org/officeDocument/2006/relationships/hyperlink" Target="http://www.javaworld.com/jw-06-2000/jw-0623-jiniology.html" TargetMode="External"/><Relationship Id="rId7" Type="http://schemas.openxmlformats.org/officeDocument/2006/relationships/hyperlink" Target="http://www.byte.com/documents/s=146/BYT19990921S0001/index.htm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3 - JavaSpac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762120"/>
            <a:ext cx="69343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2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JavaSpaces Service Properties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3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JavaSpaces Service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4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Discovering the JavaSpaces Service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5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JavaSpace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 Interface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6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Defining an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7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Wri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8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Read and Take Operations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8.1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Read Operation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8.2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Take Operation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9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Notify Operation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0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Method Snapshot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1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Updating Entries with Jini Transaction Service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23.11.1 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Defining User Interface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1.2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Discovering the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TransactionManager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1.3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Updating an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Entry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2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Case Study: Distributed Image Processing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2.1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Defining an Image Processor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2.2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Partitioning an Image into Smaller Pie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2.3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Compiling and Running the example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3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Internet and World Wide Web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6 Defining an Ent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n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-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mitiv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95880" cy="3733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: AttendeeCount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AttendeeCounter Entry object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minarDa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attendeeCoun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) {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has a single String in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minarDay = da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162920" y="990720"/>
            <a:ext cx="1828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ttendeeCou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Emp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952880" y="1752480"/>
            <a:ext cx="1981440" cy="609840"/>
            <a:chOff x="4952880" y="1752480"/>
            <a:chExt cx="1981440" cy="609840"/>
          </a:xfrm>
        </p:grpSpPr>
        <p:sp>
          <p:nvSpPr>
            <p:cNvPr id="122" name=""/>
            <p:cNvSpPr/>
            <p:nvPr/>
          </p:nvSpPr>
          <p:spPr>
            <a:xfrm>
              <a:off x="5486400" y="17524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Entry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952880" y="2057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19720" y="2590920"/>
            <a:ext cx="2971800" cy="824040"/>
            <a:chOff x="4419720" y="2590920"/>
            <a:chExt cx="2971800" cy="824040"/>
          </a:xfrm>
        </p:grpSpPr>
        <p:sp>
          <p:nvSpPr>
            <p:cNvPr id="125" name=""/>
            <p:cNvSpPr/>
            <p:nvPr/>
          </p:nvSpPr>
          <p:spPr>
            <a:xfrm>
              <a:off x="5334120" y="259092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the Integer wrapper class to wrap the int primitive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419720" y="297144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038480" y="3580920"/>
            <a:ext cx="3810240" cy="414000"/>
            <a:chOff x="4038480" y="3580920"/>
            <a:chExt cx="3810240" cy="414000"/>
          </a:xfrm>
        </p:grpSpPr>
        <p:sp>
          <p:nvSpPr>
            <p:cNvPr id="128" name=""/>
            <p:cNvSpPr/>
            <p:nvPr/>
          </p:nvSpPr>
          <p:spPr>
            <a:xfrm>
              <a:off x="5562720" y="36576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-argument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38480" y="3580920"/>
              <a:ext cx="1524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7 Write Op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kes thre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ong value that specifies lease ti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write throws two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te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action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40080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WriteOperation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This application initializes an new Entry object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nd puts this Entry to the JavaSpa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javaspace.writ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et.jini.core.lease.Leas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core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riteOperation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[] day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9051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Write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70572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riteOperation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Operation( String host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posit new Entry to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Entry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AttendeeCounter Entry and deposit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try object in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nter.counter =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ace.write( count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ize the Entry: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Day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d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Count: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network failur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transac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obtain JavaSpace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Wri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initializ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write Entry into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3429000"/>
            <a:ext cx="2438640" cy="657000"/>
            <a:chOff x="5638680" y="3429000"/>
            <a:chExt cx="2438640" cy="657000"/>
          </a:xfrm>
        </p:grpSpPr>
        <p:sp>
          <p:nvSpPr>
            <p:cNvPr id="137" name=""/>
            <p:cNvSpPr/>
            <p:nvPr/>
          </p:nvSpPr>
          <p:spPr>
            <a:xfrm>
              <a:off x="6629400" y="350532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Entry into Java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638680" y="34290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66720" y="1447560"/>
            <a:ext cx="3429360" cy="413640"/>
            <a:chOff x="4266720" y="1447560"/>
            <a:chExt cx="3429360" cy="413640"/>
          </a:xfrm>
        </p:grpSpPr>
        <p:sp>
          <p:nvSpPr>
            <p:cNvPr id="140" name=""/>
            <p:cNvSpPr/>
            <p:nvPr/>
          </p:nvSpPr>
          <p:spPr>
            <a:xfrm>
              <a:off x="5029200" y="15238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4266720" y="144756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572000" y="4038480"/>
            <a:ext cx="3429000" cy="565920"/>
            <a:chOff x="4572000" y="4038480"/>
            <a:chExt cx="3429000" cy="565920"/>
          </a:xfrm>
        </p:grpSpPr>
        <p:sp>
          <p:nvSpPr>
            <p:cNvPr id="143" name=""/>
            <p:cNvSpPr/>
            <p:nvPr/>
          </p:nvSpPr>
          <p:spPr>
            <a:xfrm>
              <a:off x="5410080" y="426708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displayed to the 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72000" y="40384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5530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riteOperation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WriteOperation ho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= ( String ) JOptionPane.showInputDialog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riteOperation wri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Operation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rite.writeEntry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rite.showOutpu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get ho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647960" y="1752480"/>
            <a:ext cx="2438640" cy="657000"/>
            <a:chOff x="4647960" y="1752480"/>
            <a:chExt cx="2438640" cy="657000"/>
          </a:xfrm>
        </p:grpSpPr>
        <p:sp>
          <p:nvSpPr>
            <p:cNvPr id="148" name=""/>
            <p:cNvSpPr/>
            <p:nvPr/>
          </p:nvSpPr>
          <p:spPr>
            <a:xfrm>
              <a:off x="5334120" y="182880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s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647960" y="1752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562360" y="3962520"/>
            <a:ext cx="2743560" cy="609480"/>
            <a:chOff x="5562360" y="3962520"/>
            <a:chExt cx="2743560" cy="609480"/>
          </a:xfrm>
        </p:grpSpPr>
        <p:sp>
          <p:nvSpPr>
            <p:cNvPr id="151" name=""/>
            <p:cNvSpPr/>
            <p:nvPr/>
          </p:nvSpPr>
          <p:spPr>
            <a:xfrm>
              <a:off x="6553080" y="396252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360" y="411480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38880" y="1295280"/>
            <a:ext cx="19051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5" name="DaySelection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2571840" cy="1247760"/>
          </a:xfrm>
          <a:prstGeom prst="rect">
            <a:avLst/>
          </a:prstGeom>
          <a:ln w="0">
            <a:noFill/>
          </a:ln>
        </p:spPr>
      </p:pic>
      <p:pic>
        <p:nvPicPr>
          <p:cNvPr id="156" name="WriteInitial" descr=""/>
          <p:cNvPicPr/>
          <p:nvPr/>
        </p:nvPicPr>
        <p:blipFill>
          <a:blip r:embed="rId2"/>
          <a:stretch/>
        </p:blipFill>
        <p:spPr>
          <a:xfrm>
            <a:off x="1981080" y="2971800"/>
            <a:ext cx="2571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8 Read and Take Ope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m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ll acts as wildc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read and readIfEx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take and takeIfEx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8.1 Read Oper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tay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IfEx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argu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ai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s before return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If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40080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Operation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reads an Entry from the JavaSpace an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s the Entry information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read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UnusableEntry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Interrupted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Operation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day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1981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systems commun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Que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Space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Space fe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70572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gets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Operation( String host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Entry from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Entry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matching template, read templat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rom the JavaSpace and output the Entry inform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Entry from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resultCounter = ( AttendeeCounter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pace.read( counter,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avaSpa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WA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Count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rry, cannot find an Entry for "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d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Entry inform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 Inform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Da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esultCounter.seminarDa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Cou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resultCounter.counter.intValu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Obtain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ad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read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171840" y="2666880"/>
            <a:ext cx="2286360" cy="685800"/>
            <a:chOff x="6171840" y="2666880"/>
            <a:chExt cx="2286360" cy="685800"/>
          </a:xfrm>
        </p:grpSpPr>
        <p:sp>
          <p:nvSpPr>
            <p:cNvPr id="166" name=""/>
            <p:cNvSpPr/>
            <p:nvPr/>
          </p:nvSpPr>
          <p:spPr>
            <a:xfrm>
              <a:off x="6781680" y="266688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171840" y="281952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638680" y="3886200"/>
            <a:ext cx="2210040" cy="565920"/>
            <a:chOff x="5638680" y="3886200"/>
            <a:chExt cx="2210040" cy="565920"/>
          </a:xfrm>
        </p:grpSpPr>
        <p:sp>
          <p:nvSpPr>
            <p:cNvPr id="169" name=""/>
            <p:cNvSpPr/>
            <p:nvPr/>
          </p:nvSpPr>
          <p:spPr>
            <a:xfrm>
              <a:off x="6629400" y="4114800"/>
              <a:ext cx="1219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638680" y="38862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267080" y="4495680"/>
            <a:ext cx="2895840" cy="885600"/>
            <a:chOff x="4267080" y="4495680"/>
            <a:chExt cx="2895840" cy="885600"/>
          </a:xfrm>
        </p:grpSpPr>
        <p:sp>
          <p:nvSpPr>
            <p:cNvPr id="172" name=""/>
            <p:cNvSpPr/>
            <p:nvPr/>
          </p:nvSpPr>
          <p:spPr>
            <a:xfrm>
              <a:off x="5638680" y="4800600"/>
              <a:ext cx="152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uld not find a matching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267080" y="4495680"/>
              <a:ext cx="1371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562360" y="5638680"/>
            <a:ext cx="3124440" cy="337320"/>
            <a:chOff x="5562360" y="5638680"/>
            <a:chExt cx="3124440" cy="337320"/>
          </a:xfrm>
        </p:grpSpPr>
        <p:sp>
          <p:nvSpPr>
            <p:cNvPr id="175" name=""/>
            <p:cNvSpPr/>
            <p:nvPr/>
          </p:nvSpPr>
          <p:spPr>
            <a:xfrm>
              <a:off x="6629400" y="56386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 a matching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2360" y="5791320"/>
              <a:ext cx="1066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01992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network failure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transac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nusable Entry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usableEntry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terrupting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ead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adOperation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 Handle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4120" y="4419720"/>
            <a:ext cx="2666880" cy="838080"/>
            <a:chOff x="5334120" y="4419720"/>
            <a:chExt cx="2666880" cy="838080"/>
          </a:xfrm>
        </p:grpSpPr>
        <p:sp>
          <p:nvSpPr>
            <p:cNvPr id="180" name=""/>
            <p:cNvSpPr/>
            <p:nvPr/>
          </p:nvSpPr>
          <p:spPr>
            <a:xfrm>
              <a:off x="6172200" y="44197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he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334120" y="47242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55308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ReadOperation ho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= ( String ) JOptionPane.showInputDialog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adOperation 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Operation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ad.readEntry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ad.showOutpu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4" name="DaySelection" descr=""/>
          <p:cNvPicPr/>
          <p:nvPr/>
        </p:nvPicPr>
        <p:blipFill>
          <a:blip r:embed="rId1"/>
          <a:stretch/>
        </p:blipFill>
        <p:spPr>
          <a:xfrm>
            <a:off x="838080" y="4952880"/>
            <a:ext cx="2571840" cy="1247760"/>
          </a:xfrm>
          <a:prstGeom prst="rect">
            <a:avLst/>
          </a:prstGeom>
          <a:ln w="0">
            <a:noFill/>
          </a:ln>
        </p:spPr>
      </p:pic>
      <p:pic>
        <p:nvPicPr>
          <p:cNvPr id="185" name="ReadOperation" descr=""/>
          <p:cNvPicPr/>
          <p:nvPr/>
        </p:nvPicPr>
        <p:blipFill>
          <a:blip r:embed="rId2"/>
          <a:stretch/>
        </p:blipFill>
        <p:spPr>
          <a:xfrm>
            <a:off x="4191120" y="4724280"/>
            <a:ext cx="2571480" cy="161928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6095520" y="1828800"/>
            <a:ext cx="2514960" cy="685800"/>
            <a:chOff x="6095520" y="1828800"/>
            <a:chExt cx="2514960" cy="685800"/>
          </a:xfrm>
        </p:grpSpPr>
        <p:sp>
          <p:nvSpPr>
            <p:cNvPr id="187" name=""/>
            <p:cNvSpPr/>
            <p:nvPr/>
          </p:nvSpPr>
          <p:spPr>
            <a:xfrm>
              <a:off x="6858000" y="182880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day from a input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095520" y="228600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8.2 Take Op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s and remov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from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ilar to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keIfEx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ilar to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If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65530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keOperation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removes an Entry from the JavaSpa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tak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UnusableEntry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keOperation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 final String[] day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905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ke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70572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gets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keOperation( String host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Entry from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keAnEntry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endeeCounter result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matching template, remove templat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rom JavaSpace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Counter = ( AttendeeCounter ) space.take( count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avaSpa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WA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Count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Entry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available from the JavaSpac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ry is taken away from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avaSpace successfully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network failur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Obtain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mov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remov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 catch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67080" y="1371240"/>
            <a:ext cx="3581640" cy="489960"/>
            <a:chOff x="4267080" y="1371240"/>
            <a:chExt cx="3581640" cy="489960"/>
          </a:xfrm>
        </p:grpSpPr>
        <p:sp>
          <p:nvSpPr>
            <p:cNvPr id="196" name=""/>
            <p:cNvSpPr/>
            <p:nvPr/>
          </p:nvSpPr>
          <p:spPr>
            <a:xfrm>
              <a:off x="5181480" y="15238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4267080" y="137124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248520" y="3200400"/>
            <a:ext cx="2361960" cy="337320"/>
            <a:chOff x="6248520" y="3200400"/>
            <a:chExt cx="2361960" cy="337320"/>
          </a:xfrm>
        </p:grpSpPr>
        <p:sp>
          <p:nvSpPr>
            <p:cNvPr id="199" name=""/>
            <p:cNvSpPr/>
            <p:nvPr/>
          </p:nvSpPr>
          <p:spPr>
            <a:xfrm>
              <a:off x="7010280" y="32004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24852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724280" y="3733920"/>
            <a:ext cx="2895840" cy="489600"/>
            <a:chOff x="4724280" y="3733920"/>
            <a:chExt cx="2895840" cy="489600"/>
          </a:xfrm>
        </p:grpSpPr>
        <p:sp>
          <p:nvSpPr>
            <p:cNvPr id="202" name=""/>
            <p:cNvSpPr/>
            <p:nvPr/>
          </p:nvSpPr>
          <p:spPr>
            <a:xfrm>
              <a:off x="6172200" y="388620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4724280" y="373392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5867280" cy="5562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transac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nusable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usableEntry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terrup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TakeAn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akeOperation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16765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257440" y="3733920"/>
            <a:ext cx="2895840" cy="838080"/>
            <a:chOff x="5257440" y="3733920"/>
            <a:chExt cx="2895840" cy="838080"/>
          </a:xfrm>
        </p:grpSpPr>
        <p:sp>
          <p:nvSpPr>
            <p:cNvPr id="207" name=""/>
            <p:cNvSpPr/>
            <p:nvPr/>
          </p:nvSpPr>
          <p:spPr>
            <a:xfrm>
              <a:off x="6400800" y="37339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257440" y="4038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647712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TakeOperation ho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= ( String ) JOptionPane.showInputDialog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ake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keOperation tak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keOperation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ke.TakeAnEntry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ke.showOutpu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7524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1" name="DaySelection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2571840" cy="1247760"/>
          </a:xfrm>
          <a:prstGeom prst="rect">
            <a:avLst/>
          </a:prstGeom>
          <a:ln w="0">
            <a:noFill/>
          </a:ln>
        </p:spPr>
      </p:pic>
      <p:pic>
        <p:nvPicPr>
          <p:cNvPr id="212" name="TakeOperation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34671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172200" y="2666520"/>
            <a:ext cx="2362320" cy="490320"/>
            <a:chOff x="6172200" y="2666520"/>
            <a:chExt cx="2362320" cy="490320"/>
          </a:xfrm>
        </p:grpSpPr>
        <p:sp>
          <p:nvSpPr>
            <p:cNvPr id="214" name=""/>
            <p:cNvSpPr/>
            <p:nvPr/>
          </p:nvSpPr>
          <p:spPr>
            <a:xfrm>
              <a:off x="6705720" y="28195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172200" y="26665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9 Notify Op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ong value (lease ti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rshalled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te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action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ryListen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listener for the NotifyOper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lication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notif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UnicastRemoteObjec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eventListen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tryListene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Listener( RemoteEventListener listener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Listener = listen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port stub objec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RemoteObject.exportObjec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exporting stub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</a:t>
            </a:r>
            <a:r>
              <a:rPr b="0" lang="en-US" sz="4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9051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ry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486040" y="4114800"/>
            <a:ext cx="2438640" cy="609480"/>
            <a:chOff x="5486040" y="4114800"/>
            <a:chExt cx="2438640" cy="609480"/>
          </a:xfrm>
        </p:grpSpPr>
        <p:sp>
          <p:nvSpPr>
            <p:cNvPr id="221" name=""/>
            <p:cNvSpPr/>
            <p:nvPr/>
          </p:nvSpPr>
          <p:spPr>
            <a:xfrm>
              <a:off x="6095880" y="411480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ort stub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486040" y="4267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2 JavaSpaces Service Proper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Jini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mplate matc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omic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6324480" cy="1676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knownEventException, RemoteExcep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ward notifications to NotifyOperation applic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Listener.notify( remoteEven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9051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Forwar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800600" y="3200400"/>
            <a:ext cx="3200400" cy="565920"/>
            <a:chOff x="4800600" y="3200400"/>
            <a:chExt cx="3200400" cy="565920"/>
          </a:xfrm>
        </p:grpSpPr>
        <p:sp>
          <p:nvSpPr>
            <p:cNvPr id="226" name=""/>
            <p:cNvSpPr/>
            <p:nvPr/>
          </p:nvSpPr>
          <p:spPr>
            <a:xfrm>
              <a:off x="6095880" y="34290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4800600" y="3200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NotifyOperation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receives a notification when a matching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written to the JavaSpa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notif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Opera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days = {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gets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Operation( String hostname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1981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ify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028840" y="5715000"/>
            <a:ext cx="3505680" cy="457200"/>
            <a:chOff x="5028840" y="5715000"/>
            <a:chExt cx="3505680" cy="457200"/>
          </a:xfrm>
        </p:grpSpPr>
        <p:sp>
          <p:nvSpPr>
            <p:cNvPr id="231" name=""/>
            <p:cNvSpPr/>
            <p:nvPr/>
          </p:nvSpPr>
          <p:spPr>
            <a:xfrm>
              <a:off x="6095880" y="571500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028840" y="586728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55308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ll notify method of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Entry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Entry listen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Listener 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matching template, asks JavaSpace to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notification when matching entry is writte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o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rshalledObject handbac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rshalledObject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Space Notificatio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ace.notify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nt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en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handback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notifying 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notify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 String outpu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ifyOperation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Notify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specify handback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notif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5880" y="2742840"/>
            <a:ext cx="2667240" cy="718560"/>
            <a:chOff x="6095880" y="2742840"/>
            <a:chExt cx="2667240" cy="718560"/>
          </a:xfrm>
        </p:grpSpPr>
        <p:sp>
          <p:nvSpPr>
            <p:cNvPr id="236" name=""/>
            <p:cNvSpPr/>
            <p:nvPr/>
          </p:nvSpPr>
          <p:spPr>
            <a:xfrm>
              <a:off x="7086600" y="312408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 back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6095880" y="274284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723920" y="3352680"/>
            <a:ext cx="2743560" cy="718560"/>
            <a:chOff x="4723920" y="3352680"/>
            <a:chExt cx="2743560" cy="718560"/>
          </a:xfrm>
        </p:grpSpPr>
        <p:sp>
          <p:nvSpPr>
            <p:cNvPr id="239" name=""/>
            <p:cNvSpPr/>
            <p:nvPr/>
          </p:nvSpPr>
          <p:spPr>
            <a:xfrm>
              <a:off x="5867280" y="37339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fy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723920" y="33526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257800" y="5105520"/>
            <a:ext cx="2666880" cy="685800"/>
            <a:chOff x="5257800" y="5105520"/>
            <a:chExt cx="2666880" cy="685800"/>
          </a:xfrm>
        </p:grpSpPr>
        <p:sp>
          <p:nvSpPr>
            <p:cNvPr id="242" name=""/>
            <p:cNvSpPr/>
            <p:nvPr/>
          </p:nvSpPr>
          <p:spPr>
            <a:xfrm>
              <a:off x="6172200" y="51055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257800" y="541008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867280" cy="4419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epare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emoteEvent.getID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quence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remoteEvent.getSequenceNumber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handback = ( String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vent.getRegistrationObject().ge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ndb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handback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owOutpu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handback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9051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Receiv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248160" y="2057400"/>
            <a:ext cx="2362320" cy="337320"/>
            <a:chOff x="6248160" y="2057400"/>
            <a:chExt cx="2362320" cy="337320"/>
          </a:xfrm>
        </p:grpSpPr>
        <p:sp>
          <p:nvSpPr>
            <p:cNvPr id="247" name=""/>
            <p:cNvSpPr/>
            <p:nvPr/>
          </p:nvSpPr>
          <p:spPr>
            <a:xfrm>
              <a:off x="7391520" y="205740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event 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220968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019920" y="2590920"/>
            <a:ext cx="2971800" cy="580680"/>
            <a:chOff x="6019920" y="2590920"/>
            <a:chExt cx="2971800" cy="580680"/>
          </a:xfrm>
        </p:grpSpPr>
        <p:sp>
          <p:nvSpPr>
            <p:cNvPr id="250" name=""/>
            <p:cNvSpPr/>
            <p:nvPr/>
          </p:nvSpPr>
          <p:spPr>
            <a:xfrm>
              <a:off x="7238880" y="259092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event sequence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6019920" y="274284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095520" y="3200040"/>
            <a:ext cx="2743560" cy="414000"/>
            <a:chOff x="6095520" y="3200040"/>
            <a:chExt cx="2743560" cy="414000"/>
          </a:xfrm>
        </p:grpSpPr>
        <p:sp>
          <p:nvSpPr>
            <p:cNvPr id="253" name=""/>
            <p:cNvSpPr/>
            <p:nvPr/>
          </p:nvSpPr>
          <p:spPr>
            <a:xfrm>
              <a:off x="6781680" y="32767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hand back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6095520" y="32000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655344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NotifyOperation ho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= ( String ) JOptionPane.showInputDialog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yOperation notifyOperation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Operation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yOperation.notifyEntry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75248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7" name="Notify1" descr=""/>
          <p:cNvPicPr/>
          <p:nvPr/>
        </p:nvPicPr>
        <p:blipFill>
          <a:blip r:embed="rId1"/>
          <a:stretch/>
        </p:blipFill>
        <p:spPr>
          <a:xfrm>
            <a:off x="762120" y="4724280"/>
            <a:ext cx="2571480" cy="1619280"/>
          </a:xfrm>
          <a:prstGeom prst="rect">
            <a:avLst/>
          </a:prstGeom>
          <a:ln w="0">
            <a:noFill/>
          </a:ln>
        </p:spPr>
      </p:pic>
      <p:pic>
        <p:nvPicPr>
          <p:cNvPr id="258" name="Notify2" descr=""/>
          <p:cNvPicPr/>
          <p:nvPr/>
        </p:nvPicPr>
        <p:blipFill>
          <a:blip r:embed="rId2"/>
          <a:stretch/>
        </p:blipFill>
        <p:spPr>
          <a:xfrm>
            <a:off x="4038480" y="4648320"/>
            <a:ext cx="257184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6248160" y="1981080"/>
            <a:ext cx="2514960" cy="824040"/>
            <a:chOff x="6248160" y="1981080"/>
            <a:chExt cx="2514960" cy="824040"/>
          </a:xfrm>
        </p:grpSpPr>
        <p:sp>
          <p:nvSpPr>
            <p:cNvPr id="260" name=""/>
            <p:cNvSpPr/>
            <p:nvPr/>
          </p:nvSpPr>
          <p:spPr>
            <a:xfrm>
              <a:off x="7315200" y="1981080"/>
              <a:ext cx="1447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day from an input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248160" y="243828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0 Method Snapsho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mize interactions with the Jav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repeated serialization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napshot Entry only valid in the JavaSpace that generated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 specialized representation of the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670572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napshotUsage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removes entries from the JavaSpace using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thod snapshot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snapsho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UnusableEntry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napshotUsag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day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napshotU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5530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gets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napshotUsage( String host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napshot entry object, pass this object as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try parameter to take metho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napshotEntry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ecify matching template, snapshot templat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remove matching entries from JavaSpace using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napshot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y snapshotentry = space.snapshot( counter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resultCounter = ( AttendeeCounter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ace.take( snapshotentr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avaSpa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WA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keep removing entries until no more entry exist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 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Count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ing an entry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Counter = ( AttendeeCounter ) space.tak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napshotentr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avaSpa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WA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more entry to remove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napsho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snapshot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remov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095880" y="3200400"/>
            <a:ext cx="2514600" cy="457200"/>
            <a:chOff x="6095880" y="3200400"/>
            <a:chExt cx="2514600" cy="457200"/>
          </a:xfrm>
        </p:grpSpPr>
        <p:sp>
          <p:nvSpPr>
            <p:cNvPr id="269" name=""/>
            <p:cNvSpPr/>
            <p:nvPr/>
          </p:nvSpPr>
          <p:spPr>
            <a:xfrm>
              <a:off x="7162920" y="3200400"/>
              <a:ext cx="1447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napshot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095880" y="3352680"/>
              <a:ext cx="10670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248160" y="4191120"/>
            <a:ext cx="2743560" cy="656640"/>
            <a:chOff x="6248160" y="4191120"/>
            <a:chExt cx="2743560" cy="656640"/>
          </a:xfrm>
        </p:grpSpPr>
        <p:sp>
          <p:nvSpPr>
            <p:cNvPr id="272" name=""/>
            <p:cNvSpPr/>
            <p:nvPr/>
          </p:nvSpPr>
          <p:spPr>
            <a:xfrm>
              <a:off x="6858000" y="426708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Entry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6248160" y="41911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486400" y="5409720"/>
            <a:ext cx="3200400" cy="581040"/>
            <a:chOff x="5486400" y="5409720"/>
            <a:chExt cx="3200400" cy="581040"/>
          </a:xfrm>
        </p:grpSpPr>
        <p:sp>
          <p:nvSpPr>
            <p:cNvPr id="275" name=""/>
            <p:cNvSpPr/>
            <p:nvPr/>
          </p:nvSpPr>
          <p:spPr>
            <a:xfrm>
              <a:off x="6324480" y="54100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ep removing until no more Entry exists in 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5486400" y="54097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343400" y="1447560"/>
            <a:ext cx="3429000" cy="413640"/>
            <a:chOff x="4343400" y="1447560"/>
            <a:chExt cx="3429000" cy="413640"/>
          </a:xfrm>
        </p:grpSpPr>
        <p:sp>
          <p:nvSpPr>
            <p:cNvPr id="278" name=""/>
            <p:cNvSpPr/>
            <p:nvPr/>
          </p:nvSpPr>
          <p:spPr>
            <a:xfrm>
              <a:off x="5334120" y="15238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343400" y="144756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5530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network failur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transac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Exception transaction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nusable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usableEntryException unusableEntry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usableEntry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terrup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interrupted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rrupted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napshot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napshotUsage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5 catch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029200" y="4495680"/>
            <a:ext cx="2666880" cy="685800"/>
            <a:chOff x="5029200" y="4495680"/>
            <a:chExt cx="2666880" cy="685800"/>
          </a:xfrm>
        </p:grpSpPr>
        <p:sp>
          <p:nvSpPr>
            <p:cNvPr id="283" name=""/>
            <p:cNvSpPr/>
            <p:nvPr/>
          </p:nvSpPr>
          <p:spPr>
            <a:xfrm>
              <a:off x="6019920" y="449568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029200" y="48006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655344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age: SnapshotUsage ho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= ( String ) JOptionPane.showInputDialog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napshot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napshotUsage snapsho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napshotUsage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napshot.snapshotEntry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napshot.showOutpu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87" name="DaySelection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2571480" cy="1247760"/>
          </a:xfrm>
          <a:prstGeom prst="rect">
            <a:avLst/>
          </a:prstGeom>
          <a:ln w="0">
            <a:noFill/>
          </a:ln>
        </p:spPr>
      </p:pic>
      <p:pic>
        <p:nvPicPr>
          <p:cNvPr id="288" name="SnapshotUsage" descr=""/>
          <p:cNvPicPr/>
          <p:nvPr/>
        </p:nvPicPr>
        <p:blipFill>
          <a:blip r:embed="rId2"/>
          <a:stretch/>
        </p:blipFill>
        <p:spPr>
          <a:xfrm>
            <a:off x="4038480" y="4648320"/>
            <a:ext cx="2571840" cy="17809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6171840" y="1600200"/>
            <a:ext cx="2591280" cy="914400"/>
            <a:chOff x="6171840" y="1600200"/>
            <a:chExt cx="2591280" cy="914400"/>
          </a:xfrm>
        </p:grpSpPr>
        <p:sp>
          <p:nvSpPr>
            <p:cNvPr id="290" name=""/>
            <p:cNvSpPr/>
            <p:nvPr/>
          </p:nvSpPr>
          <p:spPr>
            <a:xfrm>
              <a:off x="6858000" y="16002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day from an input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171840" y="190512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3 JavaSpaces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shared storage for Java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 on Java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net.jini.core.entry.Entry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ublic no-argumen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primitive type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JavaSpace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ient Jav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sistent Jav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1 Updating Entry with Jini Transaction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the Entry from the Jav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the values of the Entry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insert the Entry back into the Jav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se steps are involved 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1.1 Defining the User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Input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y to up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people who will attend the seminar on that d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4008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InputWindow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is an user interface us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get the input data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updat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InputWindo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date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okButt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dateComboBox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firstLabel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numberTex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da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InputWindow( String 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Input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stname = 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center pane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ente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8288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pdateInput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800240" y="4724280"/>
            <a:ext cx="2895840" cy="900360"/>
            <a:chOff x="4800240" y="4724280"/>
            <a:chExt cx="2895840" cy="900360"/>
          </a:xfrm>
        </p:grpSpPr>
        <p:sp>
          <p:nvSpPr>
            <p:cNvPr id="299" name=""/>
            <p:cNvSpPr/>
            <p:nvPr/>
          </p:nvSpPr>
          <p:spPr>
            <a:xfrm>
              <a:off x="6019920" y="4800600"/>
              <a:ext cx="167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hostname as input arg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4800240" y="472428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662940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abe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choose a dat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firstLabe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ombo box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Combo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dates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ComboBox.setSelectedInde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dateComboBox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listener to combo box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ComboBox.addItemListener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Listener(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StateChanged( ItemEvent item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te = ( String )dateComboBox.getSelectedItem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abe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number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specify a numbe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numberLabe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ext fiel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numberTex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2133720"/>
            <a:ext cx="1523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952520" y="3962520"/>
            <a:ext cx="3429360" cy="413280"/>
            <a:chOff x="4952520" y="3962520"/>
            <a:chExt cx="3429360" cy="413280"/>
          </a:xfrm>
        </p:grpSpPr>
        <p:sp>
          <p:nvSpPr>
            <p:cNvPr id="305" name=""/>
            <p:cNvSpPr/>
            <p:nvPr/>
          </p:nvSpPr>
          <p:spPr>
            <a:xfrm>
              <a:off x="6248520" y="4038480"/>
              <a:ext cx="2133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specified 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4952520" y="396252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47712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listener to text fiel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Text.addActionListener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nt = Integer.parseInt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vent.getActionCommand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button panel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OK butt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k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okButton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stener to OK butt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kButton.addActionListen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user in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nt = Integer.parseInt( numberText.getText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167652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952880" y="1905120"/>
            <a:ext cx="3200400" cy="489600"/>
            <a:chOff x="4952880" y="1905120"/>
            <a:chExt cx="3200400" cy="489600"/>
          </a:xfrm>
        </p:grpSpPr>
        <p:sp>
          <p:nvSpPr>
            <p:cNvPr id="310" name=""/>
            <p:cNvSpPr/>
            <p:nvPr/>
          </p:nvSpPr>
          <p:spPr>
            <a:xfrm>
              <a:off x="6019920" y="2057400"/>
              <a:ext cx="2133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4952880" y="190512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6705720" cy="51818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ystem.out.println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Specify a 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pdateOperation update = new UpdateOperation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pdate.getServices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pdate.updateEntry( date, coun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pdate.showOutpu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everything togeth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center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window size and display i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pdateInputWindow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181480" y="2286000"/>
            <a:ext cx="3276720" cy="732960"/>
            <a:chOff x="5181480" y="2286000"/>
            <a:chExt cx="3276720" cy="732960"/>
          </a:xfrm>
        </p:grpSpPr>
        <p:sp>
          <p:nvSpPr>
            <p:cNvPr id="315" name=""/>
            <p:cNvSpPr/>
            <p:nvPr/>
          </p:nvSpPr>
          <p:spPr>
            <a:xfrm>
              <a:off x="6095880" y="24382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pdateOperation class and update the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5181480" y="2286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actionManagerFind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unicast discovers th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actionManager servi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server.Transaction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Find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 transaction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Finder( String jiniURL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okupLocator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 registr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9051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nsactionManagerF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715000" y="5029200"/>
            <a:ext cx="2743200" cy="838080"/>
            <a:chOff x="5715000" y="5029200"/>
            <a:chExt cx="2743200" cy="838080"/>
          </a:xfrm>
        </p:grpSpPr>
        <p:sp>
          <p:nvSpPr>
            <p:cNvPr id="320" name=""/>
            <p:cNvSpPr/>
            <p:nvPr/>
          </p:nvSpPr>
          <p:spPr>
            <a:xfrm>
              <a:off x="6553080" y="50292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715000" y="518148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62940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lookup service locator at "jini://hostname"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default por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gistrar for the loca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ar = locator.getRegistra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y service requiremen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[] ty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[] {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Manager.class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Template templat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Templ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yp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service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Manag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TransactionManager) registrar.lookup( templat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jini UR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malformedURL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lformedURL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/O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finding clas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NotFound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NotFound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get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3 find Transaction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4 catch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562360" y="3505320"/>
            <a:ext cx="3276720" cy="489600"/>
            <a:chOff x="5562360" y="3505320"/>
            <a:chExt cx="3276720" cy="489600"/>
          </a:xfrm>
        </p:grpSpPr>
        <p:sp>
          <p:nvSpPr>
            <p:cNvPr id="325" name=""/>
            <p:cNvSpPr/>
            <p:nvPr/>
          </p:nvSpPr>
          <p:spPr>
            <a:xfrm>
              <a:off x="6629400" y="36576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 Transaction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5562360" y="35053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638320" y="2514240"/>
            <a:ext cx="3200760" cy="414000"/>
            <a:chOff x="5638320" y="2514240"/>
            <a:chExt cx="3200760" cy="414000"/>
          </a:xfrm>
        </p:grpSpPr>
        <p:sp>
          <p:nvSpPr>
            <p:cNvPr id="328" name=""/>
            <p:cNvSpPr/>
            <p:nvPr/>
          </p:nvSpPr>
          <p:spPr>
            <a:xfrm>
              <a:off x="6400800" y="259092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matching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638320" y="25142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876920" y="1143000"/>
            <a:ext cx="3429000" cy="580680"/>
            <a:chOff x="4876920" y="1143000"/>
            <a:chExt cx="3429000" cy="580680"/>
          </a:xfrm>
        </p:grpSpPr>
        <p:sp>
          <p:nvSpPr>
            <p:cNvPr id="331" name=""/>
            <p:cNvSpPr/>
            <p:nvPr/>
          </p:nvSpPr>
          <p:spPr>
            <a:xfrm>
              <a:off x="5791320" y="11430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service registrar at “jini://hostnam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876920" y="1447920"/>
              <a:ext cx="914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655308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es not find any matching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Manag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matching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ansactionManagerFinde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 getTransactionManager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905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retur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nsactio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kButt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733920" y="2742840"/>
            <a:ext cx="5029200" cy="337680"/>
            <a:chOff x="3733920" y="2742840"/>
            <a:chExt cx="5029200" cy="337680"/>
          </a:xfrm>
        </p:grpSpPr>
        <p:sp>
          <p:nvSpPr>
            <p:cNvPr id="336" name=""/>
            <p:cNvSpPr/>
            <p:nvPr/>
          </p:nvSpPr>
          <p:spPr>
            <a:xfrm>
              <a:off x="4648320" y="2743200"/>
              <a:ext cx="4114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action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3733920" y="27428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40080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Operation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removes an Entry from the JavaSpace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s the variable's value in the returned Entry an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posits the updated Entry into the JavaSpace. All the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rations are occurred within a transaction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updat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UnusableEntry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server.Transaction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Opera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kButtonListen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 transaction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ho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Operation() {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19810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pdate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4 Discovering the JavaSpaces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persistent JavaSpace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u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access to the JavaSpace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gets JavaSpace and Transaction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rvices( String jiniURL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 and Transaction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ManagerFinder findTransaction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Manag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Transaction.getTransactionManag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Entry( String inputDa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Number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y = inputDa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Count = countNumb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endeeCounter result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.Created transactionCrea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eRenewalManager 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action and renew transaction's lea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Created = TransactionFactory.create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Manager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r.renewUntil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Created.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086240" y="990720"/>
            <a:ext cx="2057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Get JavaSpace and TransactionMa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Upda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create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renew transaction’s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19560" y="5181480"/>
            <a:ext cx="2743560" cy="533520"/>
            <a:chOff x="6019560" y="5181480"/>
            <a:chExt cx="2743560" cy="533520"/>
          </a:xfrm>
        </p:grpSpPr>
        <p:sp>
          <p:nvSpPr>
            <p:cNvPr id="343" name=""/>
            <p:cNvSpPr/>
            <p:nvPr/>
          </p:nvSpPr>
          <p:spPr>
            <a:xfrm>
              <a:off x="7010280" y="518148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019560" y="5334120"/>
              <a:ext cx="990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324120" y="5715000"/>
            <a:ext cx="2439000" cy="457200"/>
            <a:chOff x="6324120" y="5715000"/>
            <a:chExt cx="2439000" cy="457200"/>
          </a:xfrm>
        </p:grpSpPr>
        <p:sp>
          <p:nvSpPr>
            <p:cNvPr id="346" name=""/>
            <p:cNvSpPr/>
            <p:nvPr/>
          </p:nvSpPr>
          <p:spPr>
            <a:xfrm>
              <a:off x="7162920" y="57150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new the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324120" y="594360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267080" y="1066680"/>
            <a:ext cx="3657600" cy="609840"/>
            <a:chOff x="4267080" y="1066680"/>
            <a:chExt cx="3657600" cy="609840"/>
          </a:xfrm>
        </p:grpSpPr>
        <p:sp>
          <p:nvSpPr>
            <p:cNvPr id="349" name=""/>
            <p:cNvSpPr/>
            <p:nvPr/>
          </p:nvSpPr>
          <p:spPr>
            <a:xfrm>
              <a:off x="5257800" y="1066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267080" y="121932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657240" y="2514240"/>
            <a:ext cx="4724640" cy="414000"/>
            <a:chOff x="3657240" y="2514240"/>
            <a:chExt cx="4724640" cy="414000"/>
          </a:xfrm>
        </p:grpSpPr>
        <p:sp>
          <p:nvSpPr>
            <p:cNvPr id="352" name=""/>
            <p:cNvSpPr/>
            <p:nvPr/>
          </p:nvSpPr>
          <p:spPr>
            <a:xfrm>
              <a:off x="4724280" y="259092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action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3657240" y="251424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65530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transaction and renewing lea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matching template, remove templat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rom JavaSpace in transaction, chang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variable's value and write updated template back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o JavaSpace within a transac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ake Entry away from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Counter = ( AttendeeCounter ) space.take( count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Created.transaction, JavaSpa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WA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no matching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Count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output mess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No matching Entry is available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find a matching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pdate valu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ldCount = resultCounter.counter.intValu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Count = oldCount + inputCoun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ut updated Entry back to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Counter.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newCoun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pace.write( resultCounter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actionCreated.transaction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3 tak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4 upda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5 reinsert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6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477120" y="3200040"/>
            <a:ext cx="2133360" cy="414000"/>
            <a:chOff x="6477120" y="3200040"/>
            <a:chExt cx="2133360" cy="414000"/>
          </a:xfrm>
        </p:grpSpPr>
        <p:sp>
          <p:nvSpPr>
            <p:cNvPr id="357" name=""/>
            <p:cNvSpPr/>
            <p:nvPr/>
          </p:nvSpPr>
          <p:spPr>
            <a:xfrm>
              <a:off x="7391520" y="327672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6477120" y="320004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943240" y="5105520"/>
            <a:ext cx="2362680" cy="337320"/>
            <a:chOff x="5943240" y="5105520"/>
            <a:chExt cx="2362680" cy="337320"/>
          </a:xfrm>
        </p:grpSpPr>
        <p:sp>
          <p:nvSpPr>
            <p:cNvPr id="360" name=""/>
            <p:cNvSpPr/>
            <p:nvPr/>
          </p:nvSpPr>
          <p:spPr>
            <a:xfrm>
              <a:off x="7010280" y="5105520"/>
              <a:ext cx="1295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943240" y="5257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33520" y="5181480"/>
            <a:ext cx="1218960" cy="762120"/>
            <a:chOff x="533520" y="5181480"/>
            <a:chExt cx="1218960" cy="762120"/>
          </a:xfrm>
        </p:grpSpPr>
        <p:sp>
          <p:nvSpPr>
            <p:cNvPr id="363" name=""/>
            <p:cNvSpPr/>
            <p:nvPr/>
          </p:nvSpPr>
          <p:spPr>
            <a:xfrm>
              <a:off x="533520" y="5181480"/>
              <a:ext cx="914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insert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7920" y="55627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601992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utput result if transaction complet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 Inform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Da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resultCounter.d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Old Cou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oldCou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New Cou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newCou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mit transaction and release lea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Created.transaction.commi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r.remove( transactionCreated.leas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pdating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vert change and release lea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Created.transaction.abor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anager.remove( transactionCreated.leas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everting chan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abort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bort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update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7 commit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8 catch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866920" y="2361960"/>
            <a:ext cx="2591280" cy="809640"/>
            <a:chOff x="5866920" y="2361960"/>
            <a:chExt cx="2591280" cy="809640"/>
          </a:xfrm>
        </p:grpSpPr>
        <p:sp>
          <p:nvSpPr>
            <p:cNvPr id="368" name=""/>
            <p:cNvSpPr/>
            <p:nvPr/>
          </p:nvSpPr>
          <p:spPr>
            <a:xfrm>
              <a:off x="6629400" y="25909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it transaction and release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5866920" y="236196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662940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Operation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0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UpdateOperation ho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ostname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InputWindow inpu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InputWindow( hostnam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continue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876920" y="1981080"/>
            <a:ext cx="3886200" cy="642240"/>
            <a:chOff x="4876920" y="1981080"/>
            <a:chExt cx="3886200" cy="642240"/>
          </a:xfrm>
        </p:grpSpPr>
        <p:sp>
          <p:nvSpPr>
            <p:cNvPr id="373" name=""/>
            <p:cNvSpPr/>
            <p:nvPr/>
          </p:nvSpPr>
          <p:spPr>
            <a:xfrm>
              <a:off x="5638680" y="228600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4876920" y="19810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UpdateInputWindow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48120" cy="1238040"/>
          </a:xfrm>
          <a:prstGeom prst="rect">
            <a:avLst/>
          </a:prstGeom>
          <a:ln w="0">
            <a:noFill/>
          </a:ln>
        </p:spPr>
      </p:pic>
      <p:pic>
        <p:nvPicPr>
          <p:cNvPr id="376" name="UpdateResult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2571840" cy="17812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2 Case Study: Distributed Image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Space-based distribute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tion large image into smaller pie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multiple image processors in parall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image processor process the smaller 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processed subimages and build the complete processed im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2.1 Defining an Image Process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processor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from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Spac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process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ck to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Spa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l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3244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0 ImageEntry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Entry for the imag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ImageIc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numb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processed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imageIc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) {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Ent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 String imageName, String imageFilter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, boolean done, ImageIcon icon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image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 = image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order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cess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( don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Icon = ic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828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276360" y="4038480"/>
            <a:ext cx="2819520" cy="337320"/>
            <a:chOff x="3276360" y="4038480"/>
            <a:chExt cx="2819520" cy="337320"/>
          </a:xfrm>
        </p:grpSpPr>
        <p:sp>
          <p:nvSpPr>
            <p:cNvPr id="385" name=""/>
            <p:cNvSpPr/>
            <p:nvPr/>
          </p:nvSpPr>
          <p:spPr>
            <a:xfrm>
              <a:off x="4343400" y="403848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ty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276360" y="4191120"/>
              <a:ext cx="1066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724280" y="5257800"/>
            <a:ext cx="3124440" cy="413640"/>
            <a:chOff x="4724280" y="5257800"/>
            <a:chExt cx="3124440" cy="413640"/>
          </a:xfrm>
        </p:grpSpPr>
        <p:sp>
          <p:nvSpPr>
            <p:cNvPr id="388" name=""/>
            <p:cNvSpPr/>
            <p:nvPr/>
          </p:nvSpPr>
          <p:spPr>
            <a:xfrm>
              <a:off x="6172200" y="53341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e constr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724280" y="52578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579132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Ent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 String image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image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cess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( don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Ent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 String image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image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7086600" y="1066680"/>
            <a:ext cx="175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76560" y="2590560"/>
            <a:ext cx="2895840" cy="990720"/>
            <a:chOff x="4876560" y="2590560"/>
            <a:chExt cx="2895840" cy="990720"/>
          </a:xfrm>
        </p:grpSpPr>
        <p:sp>
          <p:nvSpPr>
            <p:cNvPr id="393" name=""/>
            <p:cNvSpPr/>
            <p:nvPr/>
          </p:nvSpPr>
          <p:spPr>
            <a:xfrm>
              <a:off x="6019920" y="29718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e constr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4952880" y="2590560"/>
              <a:ext cx="10670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4876560" y="320040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5530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1 ImageProcesso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kes entries from the JavaSpace, applies a filter to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image piece, and writes processed entry back to JavaSpa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server.Transaction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o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 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Processo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or ( String host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er.getJavaSpace()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Process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get JavaSpace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647960" y="5562720"/>
            <a:ext cx="3581640" cy="685800"/>
            <a:chOff x="4647960" y="5562720"/>
            <a:chExt cx="3581640" cy="685800"/>
          </a:xfrm>
        </p:grpSpPr>
        <p:sp>
          <p:nvSpPr>
            <p:cNvPr id="399" name=""/>
            <p:cNvSpPr/>
            <p:nvPr/>
          </p:nvSpPr>
          <p:spPr>
            <a:xfrm>
              <a:off x="5791320" y="556272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4647960" y="57913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172200" cy="57909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SpaceFind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unicast discovers the JavaSpaces servi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String jiniURL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okupLocator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 registr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</a:t>
            </a:r>
            <a:r>
              <a:rPr b="0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9051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avaSpaceF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181480" y="5029200"/>
            <a:ext cx="3276720" cy="609480"/>
            <a:chOff x="5181480" y="5029200"/>
            <a:chExt cx="3276720" cy="609480"/>
          </a:xfrm>
        </p:grpSpPr>
        <p:sp>
          <p:nvSpPr>
            <p:cNvPr id="100" name=""/>
            <p:cNvSpPr/>
            <p:nvPr/>
          </p:nvSpPr>
          <p:spPr>
            <a:xfrm>
              <a:off x="6553080" y="50292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181480" y="518148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47712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Transaction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ManagerFinder findTransaction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nag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Transaction.getTransactionManag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ait for unprocessed 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itForImage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eRenewalManager leaseManag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unprocessed image and process it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.Created transactionCreated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actionFactory.creat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anager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new transaction's lea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Manager.renewUntil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actionCreated.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Entry templ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Entry entry = ( ImageEntry ) space.tak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emplate, transactionCreated.transaction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934320" y="914400"/>
            <a:ext cx="2209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get Transactio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Wait for unprocessed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create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renew transaction’s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specify ImageEntry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 remove the unprocessed image from the JavaSpace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09720" y="1523520"/>
            <a:ext cx="2972160" cy="414000"/>
            <a:chOff x="5409720" y="1523520"/>
            <a:chExt cx="2972160" cy="414000"/>
          </a:xfrm>
        </p:grpSpPr>
        <p:sp>
          <p:nvSpPr>
            <p:cNvPr id="404" name=""/>
            <p:cNvSpPr/>
            <p:nvPr/>
          </p:nvSpPr>
          <p:spPr>
            <a:xfrm>
              <a:off x="6172200" y="16002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ransaction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5409720" y="152352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85800" y="4191120"/>
            <a:ext cx="1523880" cy="732960"/>
            <a:chOff x="685800" y="4191120"/>
            <a:chExt cx="1523880" cy="732960"/>
          </a:xfrm>
        </p:grpSpPr>
        <p:sp>
          <p:nvSpPr>
            <p:cNvPr id="407" name=""/>
            <p:cNvSpPr/>
            <p:nvPr/>
          </p:nvSpPr>
          <p:spPr>
            <a:xfrm>
              <a:off x="685800" y="4343400"/>
              <a:ext cx="1143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1828800" y="41911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723920" y="4343400"/>
            <a:ext cx="3505680" cy="457200"/>
            <a:chOff x="4723920" y="4343400"/>
            <a:chExt cx="3505680" cy="457200"/>
          </a:xfrm>
        </p:grpSpPr>
        <p:sp>
          <p:nvSpPr>
            <p:cNvPr id="410" name=""/>
            <p:cNvSpPr/>
            <p:nvPr/>
          </p:nvSpPr>
          <p:spPr>
            <a:xfrm>
              <a:off x="5867280" y="43434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new transaction’s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723920" y="457200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705360" y="4800600"/>
            <a:ext cx="2210040" cy="457200"/>
            <a:chOff x="6705360" y="4800600"/>
            <a:chExt cx="2210040" cy="457200"/>
          </a:xfrm>
        </p:grpSpPr>
        <p:sp>
          <p:nvSpPr>
            <p:cNvPr id="413" name=""/>
            <p:cNvSpPr/>
            <p:nvPr/>
          </p:nvSpPr>
          <p:spPr>
            <a:xfrm>
              <a:off x="7315200" y="48006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6705360" y="50292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09480" y="4724280"/>
            <a:ext cx="1600200" cy="1310760"/>
            <a:chOff x="609480" y="4724280"/>
            <a:chExt cx="1600200" cy="1310760"/>
          </a:xfrm>
        </p:grpSpPr>
        <p:sp>
          <p:nvSpPr>
            <p:cNvPr id="416" name=""/>
            <p:cNvSpPr/>
            <p:nvPr/>
          </p:nvSpPr>
          <p:spPr>
            <a:xfrm>
              <a:off x="609480" y="4724280"/>
              <a:ext cx="1219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unprocessed image from JavaSpaces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28800" y="548640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01992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try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image ic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Icon imageIcon = entry.imageIc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ters filt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ters( imageIcon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try.filter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ters.blur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try.filter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ters.colorFilt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try.filter.equals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NVER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ters.invert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try.filter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R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ters.sharpen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pdate the fields of result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try.imageIcon = filters.getImageIcon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try.process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put the updated Entry back to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ease writeLease = space.write( entry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ransactionCreated.transaction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easeManager.renewUntil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write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34320" y="914400"/>
            <a:ext cx="22096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5 process the image if gets one from the JavaSpace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6 upda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7 put processed image back to the JavaSpace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90720" y="1600200"/>
            <a:ext cx="1752480" cy="457200"/>
            <a:chOff x="990720" y="1600200"/>
            <a:chExt cx="1752480" cy="457200"/>
          </a:xfrm>
        </p:grpSpPr>
        <p:sp>
          <p:nvSpPr>
            <p:cNvPr id="421" name=""/>
            <p:cNvSpPr/>
            <p:nvPr/>
          </p:nvSpPr>
          <p:spPr>
            <a:xfrm>
              <a:off x="990720" y="1600200"/>
              <a:ext cx="1143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lur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33720" y="17524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914400" y="2133720"/>
            <a:ext cx="1828800" cy="457200"/>
            <a:chOff x="914400" y="2133720"/>
            <a:chExt cx="1828800" cy="457200"/>
          </a:xfrm>
        </p:grpSpPr>
        <p:sp>
          <p:nvSpPr>
            <p:cNvPr id="424" name=""/>
            <p:cNvSpPr/>
            <p:nvPr/>
          </p:nvSpPr>
          <p:spPr>
            <a:xfrm>
              <a:off x="914400" y="2133720"/>
              <a:ext cx="1219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or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33720" y="22860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914400" y="2666880"/>
            <a:ext cx="1828800" cy="457200"/>
            <a:chOff x="914400" y="2666880"/>
            <a:chExt cx="1828800" cy="457200"/>
          </a:xfrm>
        </p:grpSpPr>
        <p:sp>
          <p:nvSpPr>
            <p:cNvPr id="427" name=""/>
            <p:cNvSpPr/>
            <p:nvPr/>
          </p:nvSpPr>
          <p:spPr>
            <a:xfrm>
              <a:off x="914400" y="266688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ert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289548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143000" y="3200400"/>
            <a:ext cx="1600200" cy="580680"/>
            <a:chOff x="1143000" y="3200400"/>
            <a:chExt cx="1600200" cy="580680"/>
          </a:xfrm>
        </p:grpSpPr>
        <p:sp>
          <p:nvSpPr>
            <p:cNvPr id="430" name=""/>
            <p:cNvSpPr/>
            <p:nvPr/>
          </p:nvSpPr>
          <p:spPr>
            <a:xfrm>
              <a:off x="1143000" y="3200400"/>
              <a:ext cx="914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pen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3505320"/>
              <a:ext cx="68580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248160" y="4343400"/>
            <a:ext cx="1981440" cy="337320"/>
            <a:chOff x="6248160" y="4343400"/>
            <a:chExt cx="1981440" cy="337320"/>
          </a:xfrm>
        </p:grpSpPr>
        <p:sp>
          <p:nvSpPr>
            <p:cNvPr id="433" name=""/>
            <p:cNvSpPr/>
            <p:nvPr/>
          </p:nvSpPr>
          <p:spPr>
            <a:xfrm>
              <a:off x="6934320" y="434340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6248160" y="44193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790960" y="5105520"/>
            <a:ext cx="3200760" cy="732960"/>
            <a:chOff x="5790960" y="5105520"/>
            <a:chExt cx="3200760" cy="732960"/>
          </a:xfrm>
        </p:grpSpPr>
        <p:sp>
          <p:nvSpPr>
            <p:cNvPr id="436" name=""/>
            <p:cNvSpPr/>
            <p:nvPr/>
          </p:nvSpPr>
          <p:spPr>
            <a:xfrm>
              <a:off x="6477120" y="52578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t processed image back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5790960" y="51055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8 commit the transaction and release the leas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640080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ommit the transaction and release the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Created.transaction.comm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Manager.remove( transactionCreated.le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ait for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ho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age: ImageProcessor ho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Processor process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or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fo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cessor.waitFor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181480" y="990360"/>
            <a:ext cx="3429000" cy="885600"/>
            <a:chOff x="5181480" y="990360"/>
            <a:chExt cx="3429000" cy="885600"/>
          </a:xfrm>
        </p:grpSpPr>
        <p:sp>
          <p:nvSpPr>
            <p:cNvPr id="441" name=""/>
            <p:cNvSpPr/>
            <p:nvPr/>
          </p:nvSpPr>
          <p:spPr>
            <a:xfrm>
              <a:off x="6248520" y="129528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it the transaction and release the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5181480" y="990360"/>
              <a:ext cx="1067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56386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4: Filters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filters an imag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ters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ava2DImageFilter blur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ava2DImageFilter sharpen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ava2DImageFilter invert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ava2DImageFilter color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ufferedImage bufferedImag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655308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method initializes ImageFilters and pull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fferedImage out of ImageIc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ters( ImageIcon icon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r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rFilt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rpen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penFilt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vert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rtFilt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Filt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image = icon.get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.get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image.g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.TYPE_INT_RGB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g = bufferedImage.createGraphic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g.drawImage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BlurFilter to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rImage(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= blurFilter.processImage( bufferedImag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SharpenFilter to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penImage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= sharpenFilter.process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086240" y="990720"/>
            <a:ext cx="20574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Blur process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harpen process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019920" y="2743200"/>
            <a:ext cx="2895480" cy="642240"/>
            <a:chOff x="6019920" y="2743200"/>
            <a:chExt cx="2895480" cy="642240"/>
          </a:xfrm>
        </p:grpSpPr>
        <p:sp>
          <p:nvSpPr>
            <p:cNvPr id="448" name=""/>
            <p:cNvSpPr/>
            <p:nvPr/>
          </p:nvSpPr>
          <p:spPr>
            <a:xfrm>
              <a:off x="6781680" y="304812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019920" y="27432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334120" y="4647960"/>
            <a:ext cx="3352680" cy="990720"/>
            <a:chOff x="5334120" y="4647960"/>
            <a:chExt cx="3352680" cy="990720"/>
          </a:xfrm>
        </p:grpSpPr>
        <p:sp>
          <p:nvSpPr>
            <p:cNvPr id="451" name=""/>
            <p:cNvSpPr/>
            <p:nvPr/>
          </p:nvSpPr>
          <p:spPr>
            <a:xfrm>
              <a:off x="6629400" y="4952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filters to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5334120" y="464796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409720" y="51814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6172200" cy="3962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InvertFilter to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rtImage(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= invertFilter.process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ColorFilter to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Filter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= colorFilter.process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s and returns an ImageIcon from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getImageIcon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bufferedImage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Invert process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Color process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Return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486400" y="2057040"/>
            <a:ext cx="3352680" cy="990720"/>
            <a:chOff x="5486400" y="2057040"/>
            <a:chExt cx="3352680" cy="990720"/>
          </a:xfrm>
        </p:grpSpPr>
        <p:sp>
          <p:nvSpPr>
            <p:cNvPr id="457" name=""/>
            <p:cNvSpPr/>
            <p:nvPr/>
          </p:nvSpPr>
          <p:spPr>
            <a:xfrm>
              <a:off x="6781680" y="236196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filters to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5486400" y="205704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5562000" y="259056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2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artitioning an Image into Smaller Piece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tly filter the smaller im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ProcessingCli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624852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3 ImageProcessing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application asks for user-specified image file, im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ter type and image partition number, filters the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displays the processed 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server.Transaction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ing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operations = {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BL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E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RP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ok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operationCombo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image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number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get im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655344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ho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pe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tition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ingClient( String ho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ProcessIn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stname = ho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the center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ente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image lab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imag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 Fil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imag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open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ose file to proces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File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FileChooser fileChoo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ileChoo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eChooser.setFileSelectionM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FileChoos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LES_ON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fileChooser.showOpen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e 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400440" y="5410080"/>
            <a:ext cx="2591280" cy="609840"/>
            <a:chOff x="6400440" y="5410080"/>
            <a:chExt cx="2591280" cy="609840"/>
          </a:xfrm>
        </p:grpSpPr>
        <p:sp>
          <p:nvSpPr>
            <p:cNvPr id="467" name=""/>
            <p:cNvSpPr/>
            <p:nvPr/>
          </p:nvSpPr>
          <p:spPr>
            <a:xfrm>
              <a:off x="7010280" y="54100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image name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ileChoo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400440" y="5638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get partition numb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617220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ser clicked Cancel button on 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JFileChoos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e = fileChooser.getSelectedFi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ageName = file.get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Listen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open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umber lab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number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rtition Numbe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number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umber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numberTex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a listener to the number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Text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800240" y="4419720"/>
            <a:ext cx="3277080" cy="380880"/>
            <a:chOff x="4800240" y="4419720"/>
            <a:chExt cx="3277080" cy="380880"/>
          </a:xfrm>
        </p:grpSpPr>
        <p:sp>
          <p:nvSpPr>
            <p:cNvPr id="472" name=""/>
            <p:cNvSpPr/>
            <p:nvPr/>
          </p:nvSpPr>
          <p:spPr>
            <a:xfrm>
              <a:off x="5943600" y="441972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tition number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800240" y="464832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334120" y="1752120"/>
            <a:ext cx="3429000" cy="414000"/>
            <a:chOff x="5334120" y="1752120"/>
            <a:chExt cx="3429000" cy="414000"/>
          </a:xfrm>
        </p:grpSpPr>
        <p:sp>
          <p:nvSpPr>
            <p:cNvPr id="475" name=""/>
            <p:cNvSpPr/>
            <p:nvPr/>
          </p:nvSpPr>
          <p:spPr>
            <a:xfrm>
              <a:off x="6248520" y="18288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image name in full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5334120" y="175212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65530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lookup service locator at "jini://hostname"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default port and registrar of the loca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ar = locator.getRegistra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jini UR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malformedURL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lformedURL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/O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ava.io.IOException io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finding clas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NotFound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NotFound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the service requiremen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[] ty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[] { JavaSpace.class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Template templat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Templ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yp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service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ac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JavaSpace ) registrar.lookup( templat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get lookup loc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specify template to m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find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562360" y="4267080"/>
            <a:ext cx="2743560" cy="609840"/>
            <a:chOff x="5562360" y="4267080"/>
            <a:chExt cx="2743560" cy="609840"/>
          </a:xfrm>
        </p:grpSpPr>
        <p:sp>
          <p:nvSpPr>
            <p:cNvPr id="105" name=""/>
            <p:cNvSpPr/>
            <p:nvPr/>
          </p:nvSpPr>
          <p:spPr>
            <a:xfrm>
              <a:off x="6553080" y="426708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ching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562360" y="4495680"/>
              <a:ext cx="990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866920" y="5486400"/>
            <a:ext cx="2362680" cy="533520"/>
            <a:chOff x="5866920" y="5486400"/>
            <a:chExt cx="2362680" cy="533520"/>
          </a:xfrm>
        </p:grpSpPr>
        <p:sp>
          <p:nvSpPr>
            <p:cNvPr id="108" name=""/>
            <p:cNvSpPr/>
            <p:nvPr/>
          </p:nvSpPr>
          <p:spPr>
            <a:xfrm>
              <a:off x="6705720" y="548640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 Java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866920" y="571500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76920" y="1143000"/>
            <a:ext cx="2133360" cy="657000"/>
            <a:chOff x="4876920" y="1143000"/>
            <a:chExt cx="2133360" cy="657000"/>
          </a:xfrm>
        </p:grpSpPr>
        <p:sp>
          <p:nvSpPr>
            <p:cNvPr id="111" name=""/>
            <p:cNvSpPr/>
            <p:nvPr/>
          </p:nvSpPr>
          <p:spPr>
            <a:xfrm>
              <a:off x="5791320" y="1219320"/>
              <a:ext cx="1218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loc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876920" y="114300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get filter ty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the text when the user feeds a retur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aracter in the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artitionNumber = Integer.parseI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vent.getActionComma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operation lab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operation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ration Typ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operation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rationCombo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operation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rationComboBox.setSelectedInde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operationCombo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a listener to the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rationComboBox.addItem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n operation other than BLUR is sel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StateChanged( ItemEvent item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per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( String ) operationComboBox.getSelectedIte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400800" y="4800600"/>
            <a:ext cx="2362320" cy="685800"/>
            <a:chOff x="6400800" y="4800600"/>
            <a:chExt cx="2362320" cy="685800"/>
          </a:xfrm>
        </p:grpSpPr>
        <p:sp>
          <p:nvSpPr>
            <p:cNvPr id="480" name=""/>
            <p:cNvSpPr/>
            <p:nvPr/>
          </p:nvSpPr>
          <p:spPr>
            <a:xfrm>
              <a:off x="7391520" y="480060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filter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400800" y="50292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333760" y="3276720"/>
            <a:ext cx="2514960" cy="580680"/>
            <a:chOff x="5333760" y="3276720"/>
            <a:chExt cx="2514960" cy="580680"/>
          </a:xfrm>
        </p:grpSpPr>
        <p:sp>
          <p:nvSpPr>
            <p:cNvPr id="483" name=""/>
            <p:cNvSpPr/>
            <p:nvPr/>
          </p:nvSpPr>
          <p:spPr>
            <a:xfrm>
              <a:off x="6324480" y="3276720"/>
              <a:ext cx="152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bo box to select filter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5333760" y="3428640"/>
              <a:ext cx="9903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Ok button a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662940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the button panel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he O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k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ok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 listener to the O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k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artition image file into number of pieces us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pec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user inpu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artitionNumber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numberText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heck whether the us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fills in both text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partitionNumb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|| ( image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ither image name or partition number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specified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638680" y="3428640"/>
            <a:ext cx="2667240" cy="414000"/>
            <a:chOff x="5638680" y="3428640"/>
            <a:chExt cx="2667240" cy="414000"/>
          </a:xfrm>
        </p:grpSpPr>
        <p:sp>
          <p:nvSpPr>
            <p:cNvPr id="488" name=""/>
            <p:cNvSpPr/>
            <p:nvPr/>
          </p:nvSpPr>
          <p:spPr>
            <a:xfrm>
              <a:off x="6629400" y="35053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K button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5638680" y="342864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562360" y="4038480"/>
            <a:ext cx="3429360" cy="990720"/>
            <a:chOff x="5562360" y="4038480"/>
            <a:chExt cx="3429360" cy="990720"/>
          </a:xfrm>
        </p:grpSpPr>
        <p:sp>
          <p:nvSpPr>
            <p:cNvPr id="491" name=""/>
            <p:cNvSpPr/>
            <p:nvPr/>
          </p:nvSpPr>
          <p:spPr>
            <a:xfrm>
              <a:off x="6248520" y="40384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 message is displayed if the user does not supply image name or partition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562360" y="45720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Collect processed im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get JavaSpaces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partition the image into smaller piec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and store the sub images into a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ageSeparator imageSepar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Separat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imageName, operation, partition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ageSeparator.partition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ageSeparator.storeImage( ho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ageSeparator.display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ll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ActionListen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everything toge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center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mageProcessing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llect processed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 space = findtool.getJavaSp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495320" y="5715000"/>
            <a:ext cx="3429360" cy="457200"/>
            <a:chOff x="4495320" y="5715000"/>
            <a:chExt cx="3429360" cy="457200"/>
          </a:xfrm>
        </p:grpSpPr>
        <p:sp>
          <p:nvSpPr>
            <p:cNvPr id="496" name=""/>
            <p:cNvSpPr/>
            <p:nvPr/>
          </p:nvSpPr>
          <p:spPr>
            <a:xfrm>
              <a:off x="5791320" y="5715000"/>
              <a:ext cx="2133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JavaSpaces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4495320" y="5867280"/>
              <a:ext cx="1295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952880" y="2286000"/>
            <a:ext cx="4038840" cy="1052640"/>
            <a:chOff x="4952880" y="2286000"/>
            <a:chExt cx="4038840" cy="1052640"/>
          </a:xfrm>
        </p:grpSpPr>
        <p:sp>
          <p:nvSpPr>
            <p:cNvPr id="499" name=""/>
            <p:cNvSpPr/>
            <p:nvPr/>
          </p:nvSpPr>
          <p:spPr>
            <a:xfrm>
              <a:off x="5486400" y="2514600"/>
              <a:ext cx="350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tition the image, store subimages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 and then collect the processed sub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4952880" y="22860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get all processed 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 unOrderedImag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 orderedImag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s all images in the JavaSpa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at have the specified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Root = Math.sqrt( partition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th.floor( squareRoot ) != ( squareRoot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tition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y the matching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Entry templ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 image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napshot the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y snapshotEntry = space.snapshot( templ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llect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artitionNumber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Entry remove = ( ImageEntry ) space.tak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napshotEntr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nOrderedImages.add( remov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Count = unOrderedImages.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edImag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 image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the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imageCount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edImages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943240" y="3123720"/>
            <a:ext cx="3048480" cy="337680"/>
            <a:chOff x="5943240" y="3123720"/>
            <a:chExt cx="3048480" cy="337680"/>
          </a:xfrm>
        </p:grpSpPr>
        <p:sp>
          <p:nvSpPr>
            <p:cNvPr id="504" name=""/>
            <p:cNvSpPr/>
            <p:nvPr/>
          </p:nvSpPr>
          <p:spPr>
            <a:xfrm>
              <a:off x="6553080" y="312408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matching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5943240" y="312372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409720" y="4114800"/>
            <a:ext cx="3048480" cy="489600"/>
            <a:chOff x="5409720" y="4114800"/>
            <a:chExt cx="3048480" cy="489600"/>
          </a:xfrm>
        </p:grpSpPr>
        <p:sp>
          <p:nvSpPr>
            <p:cNvPr id="507" name=""/>
            <p:cNvSpPr/>
            <p:nvPr/>
          </p:nvSpPr>
          <p:spPr>
            <a:xfrm>
              <a:off x="6172200" y="42670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all processed 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09720" y="411480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638680" y="1676520"/>
            <a:ext cx="2590920" cy="580680"/>
            <a:chOff x="5638680" y="1676520"/>
            <a:chExt cx="2590920" cy="580680"/>
          </a:xfrm>
        </p:grpSpPr>
        <p:sp>
          <p:nvSpPr>
            <p:cNvPr id="510" name=""/>
            <p:cNvSpPr/>
            <p:nvPr/>
          </p:nvSpPr>
          <p:spPr>
            <a:xfrm>
              <a:off x="6629400" y="16765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ault partition number i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5638680" y="1981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order collected im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 build complete processed im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80520" y="457200"/>
            <a:ext cx="632484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rder the sub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imageCount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Entry im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ImageEntry ) unOrderedImages.elementA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edImages.setElement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.imageIcon, image.number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llecting im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images together and display the result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edImages.size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Parser imagePar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r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Icon icon = imageParser.putTogeth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edImag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Displayer imageDisplay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Displayer(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Displayer.setSize( icon.getIconWid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con.getIconHeigh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Display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Displayer.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486400" y="1676520"/>
            <a:ext cx="2971800" cy="641880"/>
            <a:chOff x="5486400" y="1676520"/>
            <a:chExt cx="2971800" cy="641880"/>
          </a:xfrm>
        </p:grpSpPr>
        <p:sp>
          <p:nvSpPr>
            <p:cNvPr id="515" name=""/>
            <p:cNvSpPr/>
            <p:nvPr/>
          </p:nvSpPr>
          <p:spPr>
            <a:xfrm>
              <a:off x="6324480" y="198108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 collected 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5486400" y="16765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638320" y="3886200"/>
            <a:ext cx="2286360" cy="580680"/>
            <a:chOff x="5638320" y="3886200"/>
            <a:chExt cx="2286360" cy="580680"/>
          </a:xfrm>
        </p:grpSpPr>
        <p:sp>
          <p:nvSpPr>
            <p:cNvPr id="518" name=""/>
            <p:cNvSpPr/>
            <p:nvPr/>
          </p:nvSpPr>
          <p:spPr>
            <a:xfrm>
              <a:off x="6324480" y="38862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complete processed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5638320" y="411444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562720" y="5714640"/>
            <a:ext cx="3200400" cy="337680"/>
            <a:chOff x="5562720" y="5714640"/>
            <a:chExt cx="3200400" cy="337680"/>
          </a:xfrm>
        </p:grpSpPr>
        <p:sp>
          <p:nvSpPr>
            <p:cNvPr id="521" name=""/>
            <p:cNvSpPr/>
            <p:nvPr/>
          </p:nvSpPr>
          <p:spPr>
            <a:xfrm>
              <a:off x="6400800" y="57150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 when closes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5562720" y="571464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571500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alid image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ll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ho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ImageProcessingClient ho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ProcessingClient process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ing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window size and display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cesso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cesso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24852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4 ImageSeparato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partitions the image into smaller pieces evenl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stores the smaller images into a JavaSpa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Separato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lterTyp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titionNumb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 imagePieces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ic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Separato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Separator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ame, String typ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Name = name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Sepa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266720" y="5257800"/>
            <a:ext cx="3962880" cy="914400"/>
            <a:chOff x="4266720" y="5257800"/>
            <a:chExt cx="3962880" cy="914400"/>
          </a:xfrm>
        </p:grpSpPr>
        <p:sp>
          <p:nvSpPr>
            <p:cNvPr id="528" name=""/>
            <p:cNvSpPr/>
            <p:nvPr/>
          </p:nvSpPr>
          <p:spPr>
            <a:xfrm>
              <a:off x="5410080" y="52578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image name, filter type and partition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266720" y="556272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Partition imag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Display imag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Write subimages into the JavaSpace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get JavaSpaces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58672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Type = ty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titionNumber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rtition the image into smaller pieces even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titionImag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Parser imagePar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r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imag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tition the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Pieces = imageParser.parseIm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, partition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the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Image( 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Displayer imageDisplay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Displayer(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Displayer.setSize( icon.getIconWid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.getIconHeigh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Display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rite image pieces into a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reImage( String hos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 space = findtool.getJavaSp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eRenewalManager lease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257800" y="1905120"/>
            <a:ext cx="2362320" cy="489600"/>
            <a:chOff x="5257800" y="1905120"/>
            <a:chExt cx="2362320" cy="489600"/>
          </a:xfrm>
        </p:grpSpPr>
        <p:sp>
          <p:nvSpPr>
            <p:cNvPr id="533" name=""/>
            <p:cNvSpPr/>
            <p:nvPr/>
          </p:nvSpPr>
          <p:spPr>
            <a:xfrm>
              <a:off x="6172200" y="205740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tition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5257800" y="19051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800600" y="2971800"/>
            <a:ext cx="2438280" cy="685800"/>
            <a:chOff x="4800600" y="2971800"/>
            <a:chExt cx="2438280" cy="685800"/>
          </a:xfrm>
        </p:grpSpPr>
        <p:sp>
          <p:nvSpPr>
            <p:cNvPr id="536" name=""/>
            <p:cNvSpPr/>
            <p:nvPr/>
          </p:nvSpPr>
          <p:spPr>
            <a:xfrm>
              <a:off x="5791320" y="2971800"/>
              <a:ext cx="1447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4800600" y="31240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181120" y="5181480"/>
            <a:ext cx="2972160" cy="609840"/>
            <a:chOff x="5181120" y="5181480"/>
            <a:chExt cx="2972160" cy="609840"/>
          </a:xfrm>
        </p:grpSpPr>
        <p:sp>
          <p:nvSpPr>
            <p:cNvPr id="539" name=""/>
            <p:cNvSpPr/>
            <p:nvPr/>
          </p:nvSpPr>
          <p:spPr>
            <a:xfrm>
              <a:off x="6019920" y="5181480"/>
              <a:ext cx="2133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JavaSpaces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181120" y="533412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put sumimages into JavaSp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6400800" cy="5562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sub images to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imagePieces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Icon subIm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ImageIcon ) imagePieces.elementA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Entry imageEntry = new ImageEnt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Name, filterType, i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ub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 writeLease = space.wri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Entr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Manager.renewUnti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rite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a network failure occurs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write operates under an invalid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Exception transaction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ore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86040" y="2743200"/>
            <a:ext cx="2591280" cy="657000"/>
            <a:chOff x="5486040" y="2743200"/>
            <a:chExt cx="2591280" cy="657000"/>
          </a:xfrm>
        </p:grpSpPr>
        <p:sp>
          <p:nvSpPr>
            <p:cNvPr id="544" name=""/>
            <p:cNvSpPr/>
            <p:nvPr/>
          </p:nvSpPr>
          <p:spPr>
            <a:xfrm>
              <a:off x="6629400" y="281952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t subimages into Java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486040" y="274320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09624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7: ImagePars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partitions an image into smaller pieces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URL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Vect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rser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ageIcon image;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rser() {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parseImage an ImageIcon on the number of piec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you want it split into the number of piece must be a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ect square - this can be extended lat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 parse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Icon imageIc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Pieces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 vec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Root = Math.sqrt( numberPieces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ath.floor( squareRoot ) != ( squareRoot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not a square number,"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tting to default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mberPiec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Par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rtition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191120" y="4572000"/>
            <a:ext cx="4267080" cy="337320"/>
            <a:chOff x="4191120" y="4572000"/>
            <a:chExt cx="4267080" cy="337320"/>
          </a:xfrm>
        </p:grpSpPr>
        <p:sp>
          <p:nvSpPr>
            <p:cNvPr id="549" name=""/>
            <p:cNvSpPr/>
            <p:nvPr/>
          </p:nvSpPr>
          <p:spPr>
            <a:xfrm>
              <a:off x="5867280" y="457200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tition image to sub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4191120" y="47242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400440" y="5410080"/>
            <a:ext cx="2286360" cy="824040"/>
            <a:chOff x="6400440" y="5410080"/>
            <a:chExt cx="2286360" cy="824040"/>
          </a:xfrm>
        </p:grpSpPr>
        <p:sp>
          <p:nvSpPr>
            <p:cNvPr id="552" name=""/>
            <p:cNvSpPr/>
            <p:nvPr/>
          </p:nvSpPr>
          <p:spPr>
            <a:xfrm>
              <a:off x="7010280" y="54100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not a square number, set to default which i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400440" y="57913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548640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oes not find any matching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pac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matching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JavaSpaceFinde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getJavaSpace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905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turn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62481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umber of rows and colum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Row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sqrt( numberPieces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Column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sqrt( numberPieces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Image from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image = imageIcon.get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buffered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.get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image.g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INT_RG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g = bufferedImage.createGraphic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g.drawImage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ize of each pie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bufferedImage.getWidth() / numberColumns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bufferedImage.getHeight() / numberRows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each of im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numberRows; x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y &lt; numberColumns; y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vecto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bufferedImage.getSubimage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x * width, y * height, width, height )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rse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905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Partition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248520" y="1980720"/>
            <a:ext cx="2743200" cy="581040"/>
            <a:chOff x="6248520" y="1980720"/>
            <a:chExt cx="2743200" cy="581040"/>
          </a:xfrm>
        </p:grpSpPr>
        <p:sp>
          <p:nvSpPr>
            <p:cNvPr id="557" name=""/>
            <p:cNvSpPr/>
            <p:nvPr/>
          </p:nvSpPr>
          <p:spPr>
            <a:xfrm>
              <a:off x="7086600" y="198108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image from buffered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248520" y="19807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715000" y="4267080"/>
            <a:ext cx="2362320" cy="533520"/>
            <a:chOff x="5715000" y="4267080"/>
            <a:chExt cx="2362320" cy="533520"/>
          </a:xfrm>
        </p:grpSpPr>
        <p:sp>
          <p:nvSpPr>
            <p:cNvPr id="560" name=""/>
            <p:cNvSpPr/>
            <p:nvPr/>
          </p:nvSpPr>
          <p:spPr>
            <a:xfrm>
              <a:off x="6629400" y="426708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sub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71500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624816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kes a vector of image icons (must be a square number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 elements and returns an image icon with the images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t back together agai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putTogether( Vector vector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= vector.siz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RowColumn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sqrt( siz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ep 1, get first 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tempImag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ImageIcon ) vector.g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.get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otal size of one pie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tempImage.get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tempImage.g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uffered 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totalPictu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dth * numberRowColumn, height * numberRowColumn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INT_RG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raphics for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 = totalPicture.createGraphic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9051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form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486040" y="1752120"/>
            <a:ext cx="3124440" cy="657360"/>
            <a:chOff x="5486040" y="1752120"/>
            <a:chExt cx="3124440" cy="657360"/>
          </a:xfrm>
        </p:grpSpPr>
        <p:sp>
          <p:nvSpPr>
            <p:cNvPr id="565" name=""/>
            <p:cNvSpPr/>
            <p:nvPr/>
          </p:nvSpPr>
          <p:spPr>
            <a:xfrm>
              <a:off x="7010280" y="18288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completed processed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5486040" y="1752120"/>
              <a:ext cx="1523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5867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images from the vector into buffered 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numberRowColumn; x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y &lt; numberRowColumn; y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 image = ( ( ImageIcon ) vector.get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y + numberRowColumn * x ) ).get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raphics.drawImage( image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ffineTransform.getTranslateInstanc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x * width, y * height 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totalPictur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utTogeth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8288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form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94360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8: ImageDisplay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is an user interface us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display an imag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Display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Displayer( ImageIcon icon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Displ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the center pane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ente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display labe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imag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,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imageLabe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center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mageDisplaye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Display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2.3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ompiling and Running the Exampl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 needed to execute th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 activation dae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Spa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ageProc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nd clients on different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5" name="Input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3333600" cy="1428480"/>
          </a:xfrm>
          <a:prstGeom prst="rect">
            <a:avLst/>
          </a:prstGeom>
          <a:ln w="0">
            <a:noFill/>
          </a:ln>
        </p:spPr>
      </p:pic>
      <p:pic>
        <p:nvPicPr>
          <p:cNvPr id="576" name="BeforeBlur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577" name="AfterBlur" descr=""/>
          <p:cNvPicPr/>
          <p:nvPr/>
        </p:nvPicPr>
        <p:blipFill>
          <a:blip r:embed="rId3"/>
          <a:stretch/>
        </p:blipFill>
        <p:spPr>
          <a:xfrm>
            <a:off x="4419720" y="2971800"/>
            <a:ext cx="2209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3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1"/>
              </a:rPr>
              <a:t>www.sun.com/jini/specs/js1_1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2"/>
              </a:rPr>
              <a:t>www.javaworld.com/jw-11-1999/jw-11-jiniolog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3"/>
              </a:rPr>
              <a:t>www.javaworld.com/jw-01-2000/jw-01-jiniolog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4"/>
              </a:rPr>
              <a:t>www.javaworld.com/jw-03-2000/jw-03-jiniology.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5"/>
              </a:rPr>
              <a:t>www.javaworld.com/jw-04-2000/jw-0421-jiniolog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6"/>
              </a:rPr>
              <a:t>www.javaworld.com/jw-06-2000/jw-0623-jiniolog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7"/>
              </a:rPr>
              <a:t>www.byte.com/documents/s=146/BYT19990921S0001/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5 JavaSpac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y operation: not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operation: read readIfEx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operation: take takeIfEx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operation: 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snapsh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8:03:32Z</dcterms:created>
  <dc:creator>zhang</dc:creator>
  <dc:description/>
  <dc:language>en-US</dc:language>
  <cp:lastModifiedBy>zhang</cp:lastModifiedBy>
  <dcterms:modified xsi:type="dcterms:W3CDTF">2000-08-31T17:02:46Z</dcterms:modified>
  <cp:revision>303</cp:revision>
  <dc:subject/>
  <dc:title>PowerPoint Presentation</dc:title>
</cp:coreProperties>
</file>