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59DC-2C81-42B8-A928-3C9ADE5CB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E29A-9E8B-4E6F-B91F-332A6A48F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80ED-23B1-4042-82F8-5271BB0E2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6848-1259-4B61-B8AB-05D0B9651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BFC0-05F4-41C1-9BEA-22FA7C00BD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E018-589E-4265-930A-508101EC82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CB12-F605-42A2-BD62-0E845BBF16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320E-36CC-4B4A-A6FF-EC63ACAC59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908A-3F20-4F6C-A94C-FD65F975A1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CB1E-AD1B-4C62-A94B-6779B4EEF2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FDF20-D178-4B14-A925-A1AA60EE0A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3D1D-9466-4F70-87D0-CDFE6B668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CD0E-92E9-4C9E-882C-CD0543BD66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E983-70FD-4E40-86CA-8603C38BBE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7C0D-5F3A-4477-920C-62400BF6E7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325F-F354-4132-8218-EC6342842D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910A-0FB1-4EC1-908D-1E48F09362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99CF-77F2-4943-8F29-435724921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81EB-9EE1-4E4A-8736-7EA9F423C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D4C2-8CA7-4E8D-9B8B-F4BA41188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50CD-90A5-4BCA-A301-CA5F5791A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0654-A6FD-4409-B970-66914037B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5344-3BE2-45E2-A366-FF6CC26D4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93C0-BCF6-44A7-B56A-18BBB3484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FD24-9895-4B67-AD9E-1D05173B9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B903-5C6F-429B-B8B0-60C859AD3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7: Common Object Request Broker Architecture(CORBA): Part 2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tic Invocation Interface (SII), Dynamic Invocation Interface (DII) and Dynamic Skeleton Interface (DSI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OAs, POAs and 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RBA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Naming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curity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bject Transaction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4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ersistent State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4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vent and Notification 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JBs and CORBAcompon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RBA vs. RMI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hen to Use RMI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hen to Use CORB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MI-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modified to support DII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 to execute clien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Client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exceptions that occur while client execu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thrown by SystemClockClien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2   Static Invocation Interface (SII, Dynamic Invocation Interface (DII) and Dynamic Skeleton Interface (DSI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terface Repository enables flexibility at runtime to discover more about types available in a distribut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 functions as a distributed version of the Java reflection mech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IDL is not a complete implementation of COR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designing a distributed system with CORBA, use a third party implement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vendors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-source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3   BOAs, POAs and 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ct ad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s between a distributed object and its O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clients to access ORB servic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R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/de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G specified two adapter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asic Object Adapter (BO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gue definition of an adapter which led to inconsistencies between different vendors’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rtable Object Adapter (PO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widely used, even though more complex than BO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3   BOAs, POAs and 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A connects an object reference to developer-written code using code found in IDL generated skele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fine-grained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objects inherit from a POA base definition generated by IDL 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distributed object to be usable by a PO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POA to control all access to servant through polic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3   BOAs, POAs and 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A polic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icitObjectActiv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s POA outside object created servant and activated 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DAssignmentPolic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s who is responsible for assigning a unique ID to a given ser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questProcessingPolic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object id either to find matching servant or invoke default service that uses object id to perform lookup in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y combinations provide POAs with fine-grained control over one or many serva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3   BOAs, POAs and 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way for developer to us a POA is to wrap their servants in a T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interaction with a POA without having servant’s object implementation inherit structure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AImp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ant can inherit from other base classes fre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   CORBAservi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services define base services and a support structure useful to a wide range of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most commonly used ser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ing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Transac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t Sta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and Notific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1   Naming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s name objects with arbitrary value (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 bind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th to a name binding consists of zero or m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ing contex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 collection of unique name binding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l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name binding returns object associated with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name creates association between a name and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name bindings can point to a singl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2   Security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two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basic security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authentic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cation security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ility of authentication principals to security-aware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applications to ignore system-security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support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 deleg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gle deleg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2   Security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everything level 1 provides in addition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ine-grained user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invocation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r control over secure inv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ors can set security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y of security policies by security-aware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y of security policies by ORBs and othe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7: Common Object Request Broker Architecture(CORBA): Part 2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219320"/>
            <a:ext cx="777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MIMessenger Case Study Ported to RMI-IIOP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Serv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MI-IIOP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Clien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MI-IIOP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7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iling and Runn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Serv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Cli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ture Dire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3   Object Transaction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RBA objects to execute as parts of distribu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ransaction describes a collection of interactions where multiple users may access and/or modify dat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ronym ACID describes four standard requirements for reliable transa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– completion of numerous steps must be conducted as one, otherwise each step must be und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– effects of transaction are repeatable and predic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lated – transaction not interrupted from outside and gives no indication if execution is proceeding serially or concurr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ble – transaction results are persis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3   Object Transaction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s complete in one of two way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are made to pers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ed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made to data are disca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As dictate transaction types supported by serv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har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and unshar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3   Object Transaction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s of transactional clients, transactional objects and recoverable objects define the 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al clients interact with OTS to create and commit or rollback a 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objects’ behaviors vary when invoked within a transaction (object’s data not recover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verable object is a transactional object in which data is recoverable (maintain their data and capable of restoring their lost st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ava Transaction Service (JT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Java implementation of distributed transaction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CORBA OTS specification to define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4   Persistent State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sistent State Service (PS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ores and retrieves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s interaction between objects and datas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sistent State Definition Language (PSD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es a distributed object schema in a portable fash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DL is a superset of I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two new constr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4   Persistent State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two definition typ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portable definition of the persistable state of a CORBA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rete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2 Persistent State Definition Language exampl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chema for a domain object. This is the abstract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eded by the PSS. The concrete definition of Customer is below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orage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accountNumber is our primary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adon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factory to be used to retrieve Customer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orageho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creation method will create persistent Custom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ustomer cre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r factory finder. Use the CustomerDirectory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any factories used by the system to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main objects like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alo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Director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vid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Home customerHo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is the concrete declaration of the Customer defi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ove. These declarations are empty as we are not ad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y addition structure to Customer or its facto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orage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{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orageho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Home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Imp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Home {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71600" y="761760"/>
            <a:ext cx="6095880" cy="1175760"/>
            <a:chOff x="1371600" y="761760"/>
            <a:chExt cx="6095880" cy="1175760"/>
          </a:xfrm>
        </p:grpSpPr>
        <p:sp>
          <p:nvSpPr>
            <p:cNvPr id="159" name=""/>
            <p:cNvSpPr/>
            <p:nvPr/>
          </p:nvSpPr>
          <p:spPr>
            <a:xfrm flipH="1" flipV="1">
              <a:off x="1371600" y="761760"/>
              <a:ext cx="2509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1600200"/>
              <a:ext cx="3581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orage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14400" y="1142640"/>
            <a:ext cx="3886200" cy="947160"/>
            <a:chOff x="914400" y="1142640"/>
            <a:chExt cx="3886200" cy="947160"/>
          </a:xfrm>
        </p:grpSpPr>
        <p:sp>
          <p:nvSpPr>
            <p:cNvPr id="162" name=""/>
            <p:cNvSpPr/>
            <p:nvPr/>
          </p:nvSpPr>
          <p:spPr>
            <a:xfrm flipV="1">
              <a:off x="1371600" y="1142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14400" y="1752480"/>
              <a:ext cx="388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a read-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38200" y="1371600"/>
            <a:ext cx="2590920" cy="1448280"/>
            <a:chOff x="538200" y="1371600"/>
            <a:chExt cx="2590920" cy="1448280"/>
          </a:xfrm>
        </p:grpSpPr>
        <p:sp>
          <p:nvSpPr>
            <p:cNvPr id="165" name=""/>
            <p:cNvSpPr/>
            <p:nvPr/>
          </p:nvSpPr>
          <p:spPr>
            <a:xfrm flipV="1">
              <a:off x="1143000" y="1371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8200" y="175248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readable/writable name using 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PSDL compiler of which fields to pers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28840" y="2209680"/>
            <a:ext cx="3886560" cy="824040"/>
            <a:chOff x="5028840" y="2209680"/>
            <a:chExt cx="3886560" cy="824040"/>
          </a:xfrm>
        </p:grpSpPr>
        <p:sp>
          <p:nvSpPr>
            <p:cNvPr id="168" name=""/>
            <p:cNvSpPr/>
            <p:nvPr/>
          </p:nvSpPr>
          <p:spPr>
            <a:xfrm flipH="1">
              <a:off x="502884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15000" y="220968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us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each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primary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5   Event and Notification Servi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 Serv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es mechanism that decouples delivery of events (messages) from source of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predefined event types in spec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eps track of action events and event liste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events that are processed by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sh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pplier sends event messages asynchronously to all consumers registered to receive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ll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umer polls supplier for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5   Event and Notification Servic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ication Service is a direct extension of the Event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can create and destroy event channels arbitrarily, and can filter output us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lter Objec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bject Constraint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5   Event and Notification Servic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flow of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ured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object reference to Notificaion Service (insta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entChannelFac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entChannelFac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eate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ent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 ask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entChann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plierAd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plierAd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um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xy (such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uredProxyPushConsum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an event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distributed events (through push or pull models) is accessible through 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5   Event and Notification Servic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82920" y="1481040"/>
            <a:ext cx="4176720" cy="3900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31200" y="5562720"/>
            <a:ext cx="635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7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ier-to-consumer flow using the Event/Notification Serv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IDL is the first step into the world of CORBA and distributed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of CORBA concepts at both the low level (i.e., object adapters) and high level (i.e., CORBAservices and CORBAcomponents) is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BA Component Model (CCM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quest for Proposal (R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ommends the JavaBeans component model as basis of a server-side fram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components bas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onent Implementation Framework (CIF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chit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F defines superset of Persistent State Definition Languag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onent IDL (CI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DL is component model for CORBA objects and a container-programming model where CORBA components exi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 Interface Definition Language (CIDL) is a superset of Persistent State Definition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in a way that enables automatic generation of component’s persistence 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implemen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d with a CIDL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organize components as an assembly with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s how components are deploy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pen Software Description (OSD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tainer class creates a containment hierarchy grouping components and other containers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programming model is a runtime environment in which component implementations use their enclosing containers to access various services the container prov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areas make up CCM container programming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rnal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s seen by client wanting to communicate with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 component uses to communicate with runtime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 Implementa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containers have different relationships with surrounding system. Three type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versa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ur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Each type defines its system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 component fits in overall frame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container’s internal interfaces, a component has full access to services a container sup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er defines APIs for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nent implements call-back interfaces to allow container-to-component commun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can be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ient,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created by fa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have primary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created by factories and located by fi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primary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two forms of 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 man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man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s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actions around invocation boundaries of an object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ation lifecy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arrives to ORB to invoke operation o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B sends request to P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A sends request to container managing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 activate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ivation policies defined by component’s deployment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istributed systems, clients don’t create remote objects. Cli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co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ote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y through file containing object’s 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y through Namin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ie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mponentH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) of remote systems create objects for their corresponding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nent definition must define component fa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component persistent, must defi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 using component’s primary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2   Static Invocation Interface (SII), Dynamic Invocation Interface (DII) and Dynamic Skeleton Interface (DSI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ys to invoke a requ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ally – us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tatic Invocation Interface (S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s on creating a request through invoking a static method in a 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b generated from compile-time definition of an object type (IDL interface) and object operations (methods within IDL interfac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ally – us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ynamic Invocation Interface (D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atically creates and send invocation request directly to ORB without assistance of 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rs responsible for guaranteeing sending proper type and number of arguments to inv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unaware of process that created the requ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components use subset of CORBAservices for Component Implementation Fra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component may have own security requi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d in component’s deployment 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er must keep track of active policies and apply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Transaction Service (lite 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er can control transacti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 can control transacti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t Sta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er-managed persistence, PSS transparent to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ideal for all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-managed persistence, should still use PSS to save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fication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ed in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 mediates use of event service by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 does not preclude direct use of Notifica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developers are encouraged to define events in IDL as way of keeping component’s functional description in one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umber of consumers can subscribe to an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declared with publishes expected to be part of shared interface of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consumer can subscribe to an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to be private channel used internally b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ustom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omponent IDL definition demonstrating keyword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ublishe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mit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or issuing even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r Customer can send two even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ditEvent if the customer's credit limit has been excee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internalStateEvent if the some data in the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s not been updated proper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sh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Event creditEv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mi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ariantEvent internalStateEv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04920" y="1371240"/>
            <a:ext cx="4114800" cy="1328400"/>
            <a:chOff x="304920" y="1371240"/>
            <a:chExt cx="4114800" cy="1328400"/>
          </a:xfrm>
        </p:grpSpPr>
        <p:sp>
          <p:nvSpPr>
            <p:cNvPr id="208" name=""/>
            <p:cNvSpPr/>
            <p:nvPr/>
          </p:nvSpPr>
          <p:spPr>
            <a:xfrm flipV="1">
              <a:off x="1371600" y="1371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920" y="2362320"/>
              <a:ext cx="4114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ows any number of subscribers to an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52280" y="1523520"/>
            <a:ext cx="3581640" cy="1633320"/>
            <a:chOff x="152280" y="1523520"/>
            <a:chExt cx="3581640" cy="1633320"/>
          </a:xfrm>
        </p:grpSpPr>
        <p:sp>
          <p:nvSpPr>
            <p:cNvPr id="211" name=""/>
            <p:cNvSpPr/>
            <p:nvPr/>
          </p:nvSpPr>
          <p:spPr>
            <a:xfrm flipV="1">
              <a:off x="1066680" y="15235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280" y="2819520"/>
              <a:ext cx="3581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ows one subscriber to an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CM and EJB models are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CM specification defines two component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rrors EJB model almost exa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thre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security, transaction and persistence services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es only singl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expose multiple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ced store types allows components to be properly persi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use of Ev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and OMG worked closely to ensure EJB model is CCM architecture sub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   CORBA vs. RM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is comprehensive view of distributed systems archit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describes only communication proxies and protocols between client object and server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.1   When to Use RM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suitable for smaller distributed applications in which scalability, architecture, heterogeneity, and extensibility are not major conc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of RMI and RMI capabilities to OMA encompasses only Applications Objects and the O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does not define Quality of Service or asynchronous invo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does not offer POA or range of control offered by PO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has dynamic class loading. CORBA places implementation burden on cl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.1   When to Use RMI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allows objects to participate in distributed systems consistently and predictab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is a natural choice for distributed systems built in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ure Java-distributed system needs to be considered from an architectural perspective where distributed issues can be discovered and resolved before the implementation issues are dec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.2   When to Use CORB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defines and provides implementations to many common requirements for most complex distributed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ality of Service (Q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terogene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.3   RMI-IIOP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and IBM implemen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MI-over-IIOP (RMI-IIOP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place RMI’s underlying communication protoco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Java Remote Method Protocol or JRM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se, Netscape, Oracle, Sun and IBM specified reverse mapping of Java-to ID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limit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 can be of primitive types or of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L normally does not support overloading of method na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lass cannot inherit a method with same signature from two different interf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s and value types must b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iler considers packages and interface names are not case-sensi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.3   RMI-IIOP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time limita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ing  a tree graph from ORB to ORB may be problematic if multiple nodes point to on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BA does not define distributed garbage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ing stubs may not work properly, so using the static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rmi.PortableRemote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ncourag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I downloads the stubs needed by client, CORBA does no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2   Static Invocation Interface (SII), Dynamic Invocation Interface (DII) and Dynamic Skeleton Interface (DSI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ace Repository (I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descriptive information about distributed obj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s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 of operations defined within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gument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ptions ra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needed to make DII 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tain object reference to server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up desired method in Interfac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 argument list using IR’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ration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nd initializ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wait for call to unblock (retur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.3   RMI-IIOP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s involved in writing distributed application using RMI-IIOP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rmi.PortableRemote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ead of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rmi.UnicastRemote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JND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Java Naming and Directory Interfac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ead of RMI 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downcast remote objects to subclass types; use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ableRemote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cast distributed objects as subclass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7   RMIMessenger Case Study Ported to RMI-IIOP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ing RMI messenger example  (Chapter 13) to RMI-IIOP is easier than porting application to COR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te interfaces remain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 classes remain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 implementations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mote interfa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tServerIm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tServerAdminist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ageMana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fa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MIIIOPMessageMana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itelMessen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7.1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Serv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MI-IIOP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ServerIm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t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rmi.PortableRemote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 not implement method regi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s registration with name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 Deitel messeng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RMI-IIOP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Impl implements the ChatServer and Stoppable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te interfaces using RMI over IIO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_iiop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MalformedURL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.Chat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rtableRemote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, StoppableChat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f ChatClient refere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 client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new ChatServer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742840" y="3885840"/>
            <a:ext cx="5181840" cy="733320"/>
            <a:chOff x="2742840" y="3885840"/>
            <a:chExt cx="5181840" cy="733320"/>
          </a:xfrm>
        </p:grpSpPr>
        <p:sp>
          <p:nvSpPr>
            <p:cNvPr id="236" name=""/>
            <p:cNvSpPr/>
            <p:nvPr/>
          </p:nvSpPr>
          <p:spPr>
            <a:xfrm flipH="1" flipV="1">
              <a:off x="2742840" y="3885840"/>
              <a:ext cx="299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47760" y="4038480"/>
              <a:ext cx="4876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cla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x.rmi.PortableRemote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s base class for RMI-IIOP remote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676520" y="4114800"/>
            <a:ext cx="4267080" cy="870840"/>
            <a:chOff x="1676520" y="4114800"/>
            <a:chExt cx="4267080" cy="870840"/>
          </a:xfrm>
        </p:grpSpPr>
        <p:sp>
          <p:nvSpPr>
            <p:cNvPr id="239" name=""/>
            <p:cNvSpPr/>
            <p:nvPr/>
          </p:nvSpPr>
          <p:spPr>
            <a:xfrm flipH="1" flipV="1">
              <a:off x="2514240" y="4114800"/>
              <a:ext cx="452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76520" y="4648320"/>
              <a:ext cx="4267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s remain unchanged for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971800" y="411480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 Deitel messeng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RMI-IIOP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new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Client( ChatClient 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lient to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s.add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ered Cli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egister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register 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registerClient( ChatClient 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client from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s.remove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registered Cli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unregister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st new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clients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 Deitel messeng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RMI-IIOP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essage to every Chat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Client client = ( ChatClient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deliver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os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ify each client that server is shutting down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e serv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Serv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rminating server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clients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serverStopping message to every Chat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Client client = ( ChatClient ) iterator.next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serverStopp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nnect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hread to terminate application af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pServer method returns to c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termin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 Deitel messeng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RMI-IIOP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leep for 5 seconds, print message and term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l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gnore Interrupted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termina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rminator.start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termination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op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7.1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Serv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MI-IIOP Implement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Server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tility program for starting and stopping RMI-IIO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Administrato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ication for starting and stopping RMI-II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0 and 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Administr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Administrator is a utility for starting and stopp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RMI-IIOP ChatServer implement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_iiop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activati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.StoppableChat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Administ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p ChatServ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Serv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ChatServer in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hatServerImp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ServerImpl chatServerImp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InitialContext for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naming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nding server to naming service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ind ChatServerImpl object to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.reb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hatServerImp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648320" y="3962520"/>
            <a:ext cx="3581280" cy="990360"/>
            <a:chOff x="4648320" y="3962520"/>
            <a:chExt cx="3581280" cy="990360"/>
          </a:xfrm>
        </p:grpSpPr>
        <p:sp>
          <p:nvSpPr>
            <p:cNvPr id="253" name=""/>
            <p:cNvSpPr/>
            <p:nvPr/>
          </p:nvSpPr>
          <p:spPr>
            <a:xfrm flipH="1">
              <a:off x="4800240" y="426708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48320" y="3962520"/>
              <a:ext cx="3581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instan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ServerImp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952880"/>
            <a:ext cx="3886200" cy="1524240"/>
            <a:chOff x="4952880" y="4952880"/>
            <a:chExt cx="3886200" cy="1524240"/>
          </a:xfrm>
        </p:grpSpPr>
        <p:sp>
          <p:nvSpPr>
            <p:cNvPr id="256" name=""/>
            <p:cNvSpPr/>
            <p:nvPr/>
          </p:nvSpPr>
          <p:spPr>
            <a:xfrm flipH="1">
              <a:off x="5562360" y="53341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52880" y="4952880"/>
              <a:ext cx="388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naming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172200" y="5334120"/>
              <a:ext cx="990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Administrato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ication for starting and stopping RMI-II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5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bound to naming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registering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ar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inateServ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and terminate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aming Context for looking up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naming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ChatServer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remote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aming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724280" y="4191120"/>
            <a:ext cx="3353040" cy="609480"/>
            <a:chOff x="4724280" y="4191120"/>
            <a:chExt cx="3353040" cy="609480"/>
          </a:xfrm>
        </p:grpSpPr>
        <p:sp>
          <p:nvSpPr>
            <p:cNvPr id="262" name=""/>
            <p:cNvSpPr/>
            <p:nvPr/>
          </p:nvSpPr>
          <p:spPr>
            <a:xfrm flipH="1">
              <a:off x="4724280" y="4343400"/>
              <a:ext cx="60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4120" y="419112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ial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257800" y="4876920"/>
            <a:ext cx="3048120" cy="914400"/>
            <a:chOff x="5257800" y="4876920"/>
            <a:chExt cx="3048120" cy="914400"/>
          </a:xfrm>
        </p:grpSpPr>
        <p:sp>
          <p:nvSpPr>
            <p:cNvPr id="265" name=""/>
            <p:cNvSpPr/>
            <p:nvPr/>
          </p:nvSpPr>
          <p:spPr>
            <a:xfrm flipH="1">
              <a:off x="5257800" y="5181480"/>
              <a:ext cx="17524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67280" y="487692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mot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2   Static Invocation Interface (SII), Dynamic Invocation Interface (DII) and Dynamic Skeleton Interface (DSI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1.3 does not ship with an Interface 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s needed to make DII call (without using Interface Repository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 object reference to serve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nd initialize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wait for call to unblock (retu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Administrato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ication for starting and stopping RMI-II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9-7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rrow remoteObject to Stoppable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oppableChatServer chatSer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toppableChatServer )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moteObject, StoppableChatServe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op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Server.stopServer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move ChatServer from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.unb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looking up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terminate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ChatServerAdministrato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command-line arguments and start or stop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rminate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81480" y="1066320"/>
            <a:ext cx="3581640" cy="1800360"/>
            <a:chOff x="5181480" y="1066320"/>
            <a:chExt cx="3581640" cy="1800360"/>
          </a:xfrm>
        </p:grpSpPr>
        <p:sp>
          <p:nvSpPr>
            <p:cNvPr id="270" name=""/>
            <p:cNvSpPr/>
            <p:nvPr/>
          </p:nvSpPr>
          <p:spPr>
            <a:xfrm flipH="1" flipV="1">
              <a:off x="5867280" y="1066320"/>
              <a:ext cx="106704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1480" y="2286000"/>
              <a:ext cx="3581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r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ast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oppable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876920" y="1828800"/>
            <a:ext cx="3276360" cy="337320"/>
            <a:chOff x="4876920" y="1828800"/>
            <a:chExt cx="3276360" cy="337320"/>
          </a:xfrm>
        </p:grpSpPr>
        <p:sp>
          <p:nvSpPr>
            <p:cNvPr id="273" name=""/>
            <p:cNvSpPr/>
            <p:nvPr/>
          </p:nvSpPr>
          <p:spPr>
            <a:xfrm flipH="1">
              <a:off x="4876920" y="1981080"/>
              <a:ext cx="52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10080" y="18288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from Naming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Administrato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ication for starting and stopping RMI-II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int usag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ChatServerAdministrator start | st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1752480"/>
            <a:ext cx="6858000" cy="374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ing server to naming servic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 bound to nam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gistered Client: IOR:0000000000000040524d493a636f6d2e64656974656c2e6d657373656e6765722e726d692e636c69656e742e43686174436c69656e743a3030303030303030303030303030303000000000010000000000000054000101000000000d3139322e3136382e312e3435000005e000000018afabcaff00000002243bba8f000000080000000100000000000000010000000100000014000000000001002000000000000101000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gistered Client: IOR:0000000000000040524d493a636f6d2e64656974656c2e6d657373656e6765722e726d692e636c69656e742e43686174436c69656e743a3030303030303030303030303030303000000000010000000000000054000101000000000d3139322e3136382e312e3435000005e500000018afabcaff00000002243bbbed000000080000000100000000000000010000000100000014000000000001002000000000000101000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gistered Client: IOR:0000000000000040524d493a636f6d2e64656974656c2e6d657373656e6765722e726d692e636c69656e742e43686174436c69656e743a3030303030303030303030303030303000000000010000000000000054000101000000000d3139322e3136382e312e3435000005ea00000018afabcaff00000002243bbd5c000000080000000100000000000000010000000100000014000000000001002000000000000101000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Administrato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ication for starting and stopping RMI-II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0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registered Clien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OR:0000000000000040524d493a636f6d2e64656974656c2e6d657373656e6765722e726d692e636c69656e742e43686174436c69656e743a3030303030303030303030303030303000000000010000000000000054000101000000000d3139322e3136382e312e3435000005e000000018afabcaff00000002243bba8f0000000800000001000000000000000100000001000000140000000000010020000000000001010000000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ing server ..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onnected: IOR:0000000000000040524d493a636f6d2e64656974656c2e6d657373656e6765722e726d692e636c69656e742e43686174436c69656e743a3030303030303030303030303030303000000000010000000000000054000101000000000d3139322e3136382e3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3435000005e500000018afabcaff00000002243bbbed0000000800000001000000000000000100000001000000140000000000010020000000000001010000000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onnected: IOR:0000000000000040524d493a636f6d2e64656974656c2e6d657373656e6765722e726d692e636c69656e742e43686174436c69656e743a3030303030303030303030303030303000000000010000000000000054000101000000000d3139322e3136382e312e3435000005ea00000018afabcaff00000002243bbd5c0000000800000001000000000000000100000001000000140000000000010020000000000001010000000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 termin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7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Clien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MI-IIOP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MI-IIOP messen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RMI-IIOP implementation of 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ssage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ne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itelMessen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pplication for launch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ientGU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ne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ssageMana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MIIIOPMessage 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Clie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s using RMI-IIOP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MIIIOPMessageMana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MIIIOPM22essageManager implements the ChatClient remo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and manages incoming and outgoing chat messag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RMI over IIO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_iiop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.Chat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.Chat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IIOPMessageManag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rtableRemote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Client, MessageMana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ers for incoming messages and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message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Listener disconnect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tServer for sending and receiv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 chat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MIMessageMana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IIOPMessageManag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105520" y="3048120"/>
            <a:ext cx="3352680" cy="1447560"/>
            <a:chOff x="5105520" y="3048120"/>
            <a:chExt cx="3352680" cy="1447560"/>
          </a:xfrm>
        </p:grpSpPr>
        <p:sp>
          <p:nvSpPr>
            <p:cNvPr id="285" name=""/>
            <p:cNvSpPr/>
            <p:nvPr/>
          </p:nvSpPr>
          <p:spPr>
            <a:xfrm flipH="1">
              <a:off x="5714640" y="3429000"/>
              <a:ext cx="12193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05520" y="3048120"/>
              <a:ext cx="33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rtableRemote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MIIIOPMessage 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Clie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s using RMI-II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nect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aming Context for looking up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xt naming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ChatServer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remote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( ChatServer )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Object, ChatServe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client with ChatServer to receive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listener for incom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nnect from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tServ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un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listener of dis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ServerDisconnect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800240" y="1752480"/>
            <a:ext cx="2895840" cy="580680"/>
            <a:chOff x="4800240" y="1752480"/>
            <a:chExt cx="2895840" cy="580680"/>
          </a:xfrm>
        </p:grpSpPr>
        <p:sp>
          <p:nvSpPr>
            <p:cNvPr id="290" name=""/>
            <p:cNvSpPr/>
            <p:nvPr/>
          </p:nvSpPr>
          <p:spPr>
            <a:xfrm flipH="1">
              <a:off x="4800240" y="190512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81480" y="17524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mote reference to RMI-IIOP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MIIIOPMessage 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Clie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s using RMI-IIOP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Chat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Message( String fromUser, String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tServ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atMessage with message text and user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Message chat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( fromUser,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t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postMessage( chat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Mess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delivery of ChatMessage from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ver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Listen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Listener.messageReceived( message.getSender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server shutting down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Stopping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ServerDisconnect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shut dow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MIIIOPMessage 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Clie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s using RMI-IIOP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listener for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isconnect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disconnect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ServerDisconnected(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isconnectListen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nnectListener.serverDisconnected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eitelMessen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reates 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ientGUI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MIIIOPMessageManag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 launch the RMI-IIOP messenger cli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Messen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Messenger uses ClientGUI and RMIIIOPMessageManag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 an RMI over IIOP chat cli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_iiop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itelMessen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DeitelMesseng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MIIIOPMessageManager for communicating with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Manager message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IIOPMessageManag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and display chat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 clientGUI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GUI( messageManag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Resiz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638680" y="1676520"/>
            <a:ext cx="2971800" cy="1523880"/>
            <a:chOff x="5638680" y="1676520"/>
            <a:chExt cx="2971800" cy="1523880"/>
          </a:xfrm>
        </p:grpSpPr>
        <p:sp>
          <p:nvSpPr>
            <p:cNvPr id="299" name=""/>
            <p:cNvSpPr/>
            <p:nvPr/>
          </p:nvSpPr>
          <p:spPr>
            <a:xfrm flipH="1">
              <a:off x="6552720" y="2057400"/>
              <a:ext cx="685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16765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MIIIOPMessage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257800" y="4114440"/>
            <a:ext cx="3581280" cy="1724040"/>
            <a:chOff x="5257800" y="4114440"/>
            <a:chExt cx="3581280" cy="1724040"/>
          </a:xfrm>
        </p:grpSpPr>
        <p:sp>
          <p:nvSpPr>
            <p:cNvPr id="302" name=""/>
            <p:cNvSpPr/>
            <p:nvPr/>
          </p:nvSpPr>
          <p:spPr>
            <a:xfrm flipH="1" flipV="1">
              <a:off x="6095880" y="411444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57800" y="5257800"/>
              <a:ext cx="3581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GUI instance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MIIIOP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7.3   Compiling and Running the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Serv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Client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java compiler 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tServerImp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tServerAdminist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MIIIOPMessageManager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itelMessen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ol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–ii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-line option generate RMI-IIOP stub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tServerImp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mic –iiop com.deitel.messenger.rmi_iiop.server.ChatServerIm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MIIIOPMessageMana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mic –iiop com.deitel.messenger.rmi_iiop.server.RMIIOPMessage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modified to support DII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ystemClock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 that uses DII to request the system time from a serva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di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DateForma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Option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MG CORB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reference to desired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bject time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B 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Client( String[] params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ToTimeServer( param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Tim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648320" y="3657600"/>
            <a:ext cx="4114800" cy="337320"/>
            <a:chOff x="4648320" y="3657600"/>
            <a:chExt cx="4114800" cy="337320"/>
          </a:xfrm>
        </p:grpSpPr>
        <p:sp>
          <p:nvSpPr>
            <p:cNvPr id="102" name=""/>
            <p:cNvSpPr/>
            <p:nvPr/>
          </p:nvSpPr>
          <p:spPr>
            <a:xfrm flipH="1">
              <a:off x="4648320" y="3809880"/>
              <a:ext cx="124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15000" y="365760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lds reference to remot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438280" y="3886200"/>
            <a:ext cx="4572000" cy="580680"/>
            <a:chOff x="2438280" y="3886200"/>
            <a:chExt cx="4572000" cy="580680"/>
          </a:xfrm>
        </p:grpSpPr>
        <p:sp>
          <p:nvSpPr>
            <p:cNvPr id="105" name=""/>
            <p:cNvSpPr/>
            <p:nvPr/>
          </p:nvSpPr>
          <p:spPr>
            <a:xfrm flipH="1">
              <a:off x="2438280" y="403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388620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d to connect client to server and to create support objects for invocation to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038480" y="4800600"/>
            <a:ext cx="3200400" cy="337320"/>
            <a:chOff x="4038480" y="4800600"/>
            <a:chExt cx="3200400" cy="337320"/>
          </a:xfrm>
        </p:grpSpPr>
        <p:sp>
          <p:nvSpPr>
            <p:cNvPr id="108" name=""/>
            <p:cNvSpPr/>
            <p:nvPr/>
          </p:nvSpPr>
          <p:spPr>
            <a:xfrm flipH="1">
              <a:off x="4038480" y="495288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480060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reference to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7.3   Compiling and Running the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Serv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Clien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namese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nameserv –ORBInitialPort 105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Server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java –Djava.naming.factory.initial=com.sun.jndi.cosnaming.CNCtxFactory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–Djava.naming.provider.url=iiop://localhost:1050 com.deitel.messenger.rmi_iiop.server.ChatServerAdministrator sta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java –Djava.naming.factory.initial=com.sun.jndi.cosnaming.CNCtxFactory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–Djava.naming.provider.url=iiop://localhost:1050 com.deitel.messenger.rmi_iiop.client.DeitelMessen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8   Future Dire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 guiding document for CORBA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lls short in average-size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Componen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s system issues through programming construc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working on architectural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Driven Architectu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sion of OMG’s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tains compatibility with previous embodi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s new vitality to OM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modified to support DII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NameService to connect to tim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ToTimeServer( String [] param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sNaming.NamingContext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Found, CannotProce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the SystemClock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= ORB.init( param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solve the object reference in nam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eComponen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e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Server = naming.resolve( pa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timer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Tim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threa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alk to server on a regular basis and display the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 d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Format forma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Format.getTimeInstance( 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modified to support DII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8-6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8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timeStr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Request reques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Server._reque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rrentTimeMill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quest.set_return_type( orb.get_primitive_tc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RBA.TCKind.tk_longlo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voke method currentTimeMillis using the reque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ime = timeServer.currentTimeMilli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invok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ime value from reque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 = request.result().value().extract_longlo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 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String = format.format( d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= JOptionPane.showConfirm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imeString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ystemClock Examp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K_CANCEL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==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ANCEL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57800" y="2438280"/>
            <a:ext cx="2971800" cy="337320"/>
            <a:chOff x="5257800" y="2438280"/>
            <a:chExt cx="2971800" cy="337320"/>
          </a:xfrm>
        </p:grpSpPr>
        <p:sp>
          <p:nvSpPr>
            <p:cNvPr id="115" name=""/>
            <p:cNvSpPr/>
            <p:nvPr/>
          </p:nvSpPr>
          <p:spPr>
            <a:xfrm flipH="1">
              <a:off x="525780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243828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iginal method invoca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029200" y="1143000"/>
            <a:ext cx="3886200" cy="870840"/>
            <a:chOff x="5029200" y="1143000"/>
            <a:chExt cx="3886200" cy="870840"/>
          </a:xfrm>
        </p:grpSpPr>
        <p:sp>
          <p:nvSpPr>
            <p:cNvPr id="118" name=""/>
            <p:cNvSpPr/>
            <p:nvPr/>
          </p:nvSpPr>
          <p:spPr>
            <a:xfrm flipH="1" flipV="1">
              <a:off x="5409720" y="1143000"/>
              <a:ext cx="1600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9200" y="1676520"/>
              <a:ext cx="388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used by client to call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276720" y="2590920"/>
            <a:ext cx="3200400" cy="337320"/>
            <a:chOff x="3276720" y="2590920"/>
            <a:chExt cx="3200400" cy="337320"/>
          </a:xfrm>
        </p:grpSpPr>
        <p:sp>
          <p:nvSpPr>
            <p:cNvPr id="121" name=""/>
            <p:cNvSpPr/>
            <p:nvPr/>
          </p:nvSpPr>
          <p:spPr>
            <a:xfrm flipH="1">
              <a:off x="3276720" y="274320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259092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request on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248160" y="3124080"/>
            <a:ext cx="2667240" cy="337320"/>
            <a:chOff x="6248160" y="3124080"/>
            <a:chExt cx="2667240" cy="337320"/>
          </a:xfrm>
        </p:grpSpPr>
        <p:sp>
          <p:nvSpPr>
            <p:cNvPr id="124" name=""/>
            <p:cNvSpPr/>
            <p:nvPr/>
          </p:nvSpPr>
          <p:spPr>
            <a:xfrm flipH="1">
              <a:off x="6248160" y="327672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3080" y="31240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server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Kyle Lomeli</cp:lastModifiedBy>
  <dcterms:modified xsi:type="dcterms:W3CDTF">2002-01-29T19:35:24Z</dcterms:modified>
  <cp:revision>136</cp:revision>
  <dc:subject/>
  <dc:title>PowerPoint Presentation</dc:title>
</cp:coreProperties>
</file>