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B442-2962-4B3E-AFA7-40AE7FF48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BC8C-1170-412E-80AB-7EA81969D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ABEF-A016-498A-B78A-B81F2EE31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2ED0-80E7-4102-AF6F-87132F089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0D49-99F8-48DA-9869-2086F0501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8713-6756-4FA2-A042-3595EF099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F629-D20A-4DE5-866D-9C8A797DF6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0592-6770-4686-8436-79E7329E31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5ADF-DB8F-49BD-8AC6-F02202298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C4FB-2766-41D3-96FE-441ED237C0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63EE-89F1-49A0-BE52-646D6F6F7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58E4-AE8F-49E3-B73E-5FFD1F897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05C3-0509-4E0D-9127-A309A400EE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F86A-9F4C-4FCE-B740-60D8A4CB05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B68C-4D1B-427A-925E-B2F83278D3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CC38-DBB2-4062-885F-B5A7B9E2C1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6F90-802C-480B-B0C7-079BE2E89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6145-3727-4ED0-9547-D9BC3CFA1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DA27-7342-46A7-844E-1516DE1C4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6ABE-76EB-4111-8493-139DA4749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97F0-797F-448A-B5E6-EA9DF9BAC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52D0-CFC6-4BBD-9345-D9664FD88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D58C-8C30-43DA-8466-22E4CA073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6A54-B6E4-40E4-9F74-88864F125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3F6-E549-43F9-AA34-047F49B85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AD07-9640-44E7-89E3-11B635EEC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4 – Java Management Extensions (JMX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20968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rument Resour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 the JMX Management Ag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roadcasting and Receiving Notif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nagement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Running th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Bea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64008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2.3: PrinterM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is class specifies the interface that will be impleme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by Printer, which will function as an MBea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erM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s it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olean is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s it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olean is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olean 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paper amount in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 getPaper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ink level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 get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ID of print job that is currently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getCurren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array of all queued up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[] getPendingPrintJob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sets availability status of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Online ( Boolean onli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266720" y="3352320"/>
            <a:ext cx="3810600" cy="414000"/>
            <a:chOff x="4266720" y="3352320"/>
            <a:chExt cx="3810600" cy="414000"/>
          </a:xfrm>
        </p:grpSpPr>
        <p:sp>
          <p:nvSpPr>
            <p:cNvPr id="160" name=""/>
            <p:cNvSpPr/>
            <p:nvPr/>
          </p:nvSpPr>
          <p:spPr>
            <a:xfrm>
              <a:off x="5943600" y="34290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266720" y="335232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9880" y="1828800"/>
            <a:ext cx="2743200" cy="809280"/>
            <a:chOff x="3809880" y="1828800"/>
            <a:chExt cx="2743200" cy="809280"/>
          </a:xfrm>
        </p:grpSpPr>
        <p:sp>
          <p:nvSpPr>
            <p:cNvPr id="163" name=""/>
            <p:cNvSpPr/>
            <p:nvPr/>
          </p:nvSpPr>
          <p:spPr>
            <a:xfrm>
              <a:off x="4800600" y="20574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name with MBean suff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809880" y="18288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657240" y="4267080"/>
            <a:ext cx="4115160" cy="337320"/>
            <a:chOff x="3657240" y="4267080"/>
            <a:chExt cx="4115160" cy="337320"/>
          </a:xfrm>
        </p:grpSpPr>
        <p:sp>
          <p:nvSpPr>
            <p:cNvPr id="166" name=""/>
            <p:cNvSpPr/>
            <p:nvPr/>
          </p:nvSpPr>
          <p:spPr>
            <a:xfrm>
              <a:off x="5334120" y="42670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value is serializ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657240" y="4419360"/>
              <a:ext cx="1676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943240" y="5181120"/>
            <a:ext cx="2286360" cy="657360"/>
            <a:chOff x="5943240" y="5181120"/>
            <a:chExt cx="2286360" cy="657360"/>
          </a:xfrm>
        </p:grpSpPr>
        <p:sp>
          <p:nvSpPr>
            <p:cNvPr id="169" name=""/>
            <p:cNvSpPr/>
            <p:nvPr/>
          </p:nvSpPr>
          <p:spPr>
            <a:xfrm>
              <a:off x="7162920" y="5257800"/>
              <a:ext cx="1066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, get, set metho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943240" y="518112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Listen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464832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ls up paper tray again with pa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743200"/>
            <a:ext cx="5181480" cy="2649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22.4: PrinterEventListener.jav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e listener interface for printer ev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mx.Printer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erEventListener 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utOfPaper(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wToner(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perJam(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4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86040" y="1066680"/>
            <a:ext cx="1829160" cy="337320"/>
            <a:chOff x="5486040" y="1066680"/>
            <a:chExt cx="1829160" cy="337320"/>
          </a:xfrm>
        </p:grpSpPr>
        <p:sp>
          <p:nvSpPr>
            <p:cNvPr id="175" name=""/>
            <p:cNvSpPr/>
            <p:nvPr/>
          </p:nvSpPr>
          <p:spPr>
            <a:xfrm>
              <a:off x="6248520" y="106668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486040" y="1218960"/>
              <a:ext cx="762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connect to printer de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4767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5: Prin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provides implementation for Printer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and registers a managing MBean for the Pr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vice, which is simulated by PrinterSimulator.jav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Threa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Bea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erEventListener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 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 final int PAPER_STACK_SIZE = 5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Instance eventBroadcasterInst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 eventBroadcast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 print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Server mBean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printer de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my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printerSimulator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38320" y="5257800"/>
            <a:ext cx="2134080" cy="609480"/>
            <a:chOff x="5638320" y="5257800"/>
            <a:chExt cx="2134080" cy="609480"/>
          </a:xfrm>
        </p:grpSpPr>
        <p:sp>
          <p:nvSpPr>
            <p:cNvPr id="180" name=""/>
            <p:cNvSpPr/>
            <p:nvPr/>
          </p:nvSpPr>
          <p:spPr>
            <a:xfrm>
              <a:off x="6400800" y="52578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 to printer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638320" y="5562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028840" y="3657600"/>
            <a:ext cx="3277080" cy="580680"/>
            <a:chOff x="5028840" y="3657600"/>
            <a:chExt cx="3277080" cy="580680"/>
          </a:xfrm>
        </p:grpSpPr>
        <p:sp>
          <p:nvSpPr>
            <p:cNvPr id="183" name=""/>
            <p:cNvSpPr/>
            <p:nvPr/>
          </p:nvSpPr>
          <p:spPr>
            <a:xfrm>
              <a:off x="5791320" y="36576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Bean class implements responding MBean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028840" y="37339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666520" y="5334120"/>
            <a:ext cx="2896200" cy="337320"/>
            <a:chOff x="2666520" y="5334120"/>
            <a:chExt cx="2896200" cy="337320"/>
          </a:xfrm>
        </p:grpSpPr>
        <p:sp>
          <p:nvSpPr>
            <p:cNvPr id="186" name=""/>
            <p:cNvSpPr/>
            <p:nvPr/>
          </p:nvSpPr>
          <p:spPr>
            <a:xfrm>
              <a:off x="3809880" y="53341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666520" y="54864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find MBean server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specify MBean server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4 identify MBean serv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66294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all MBean servers in current JV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List arrayLi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Factory.findMBean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the MBeanServer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List.size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find a MBeanServer!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MBeanServer that has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EventBroadcaster MBean registered with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List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BeanServer foundMBean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MBeanServer )arrayList.ge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btain the object nam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interEventBroadcast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name = foundMBeanServer.getDefaultDo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Broadcaster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when creating Objec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eck whether the PrinterEventBroadcaster MBean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gistered with this MBea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oundMBeanServer.isRegister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BroadcasterNam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BeanServer = foundMBean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409720" y="228600"/>
            <a:ext cx="1600560" cy="580680"/>
            <a:chOff x="5409720" y="228600"/>
            <a:chExt cx="1600560" cy="580680"/>
          </a:xfrm>
        </p:grpSpPr>
        <p:sp>
          <p:nvSpPr>
            <p:cNvPr id="191" name=""/>
            <p:cNvSpPr/>
            <p:nvPr/>
          </p:nvSpPr>
          <p:spPr>
            <a:xfrm>
              <a:off x="5791320" y="228600"/>
              <a:ext cx="1218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MBean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409720" y="533520"/>
              <a:ext cx="3812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477120" y="2971800"/>
            <a:ext cx="2209680" cy="990720"/>
            <a:chOff x="6477120" y="2971800"/>
            <a:chExt cx="2209680" cy="990720"/>
          </a:xfrm>
        </p:grpSpPr>
        <p:sp>
          <p:nvSpPr>
            <p:cNvPr id="194" name=""/>
            <p:cNvSpPr/>
            <p:nvPr/>
          </p:nvSpPr>
          <p:spPr>
            <a:xfrm>
              <a:off x="7238880" y="297180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Bean server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477120" y="3429000"/>
              <a:ext cx="7617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560" y="5867280"/>
            <a:ext cx="3124440" cy="381240"/>
            <a:chOff x="4876560" y="5867280"/>
            <a:chExt cx="3124440" cy="381240"/>
          </a:xfrm>
        </p:grpSpPr>
        <p:sp>
          <p:nvSpPr>
            <p:cNvPr id="197" name=""/>
            <p:cNvSpPr/>
            <p:nvPr/>
          </p:nvSpPr>
          <p:spPr>
            <a:xfrm>
              <a:off x="5943600" y="58672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MBea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876560" y="60199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Implement management solu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160" y="0"/>
            <a:ext cx="60958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-else to get the MBeanServer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Simulato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ill stop the printer thread from execu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nce execution should stop.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st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it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printerSimulator.isPrint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Onli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isOnlin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tray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PaperT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Paper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Implement management solu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5867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toner low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To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ID of print job that is currently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urrentPrintJob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Curren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rray of all queued up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status availability of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nline( Boolean onli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nline.booleanValue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imulator.set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imulator.setOff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ls up the paper tray again with pa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replenishPaperTray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APER_STACK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end out-of-paper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sen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8672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he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startPrintingPro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out of paper event to JMX 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OutOfPap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parameters and signa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OUT_OF_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.invoke( eventBroadcast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eter, signatur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410080" y="3048120"/>
            <a:ext cx="2743200" cy="609480"/>
            <a:chOff x="5410080" y="3048120"/>
            <a:chExt cx="2743200" cy="609480"/>
          </a:xfrm>
        </p:grpSpPr>
        <p:sp>
          <p:nvSpPr>
            <p:cNvPr id="206" name=""/>
            <p:cNvSpPr/>
            <p:nvPr/>
          </p:nvSpPr>
          <p:spPr>
            <a:xfrm>
              <a:off x="6324480" y="30481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410080" y="32004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19560" y="4572000"/>
            <a:ext cx="2743560" cy="380880"/>
            <a:chOff x="6019560" y="4572000"/>
            <a:chExt cx="2743560" cy="380880"/>
          </a:xfrm>
        </p:grpSpPr>
        <p:sp>
          <p:nvSpPr>
            <p:cNvPr id="209" name=""/>
            <p:cNvSpPr/>
            <p:nvPr/>
          </p:nvSpPr>
          <p:spPr>
            <a:xfrm>
              <a:off x="7162920" y="45720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019560" y="472428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end low-toner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specify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sen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60958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utOfPape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low toner event to JMX 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LowTon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parameters and signa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LOW_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.invoke( eventBroadcast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eter, signatur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105520" y="3048120"/>
            <a:ext cx="3047760" cy="609480"/>
            <a:chOff x="5105520" y="3048120"/>
            <a:chExt cx="3047760" cy="609480"/>
          </a:xfrm>
        </p:grpSpPr>
        <p:sp>
          <p:nvSpPr>
            <p:cNvPr id="214" name=""/>
            <p:cNvSpPr/>
            <p:nvPr/>
          </p:nvSpPr>
          <p:spPr>
            <a:xfrm>
              <a:off x="6324480" y="30481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105520" y="320040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91320" y="4572000"/>
            <a:ext cx="2971800" cy="380880"/>
            <a:chOff x="5791320" y="4572000"/>
            <a:chExt cx="2971800" cy="380880"/>
          </a:xfrm>
        </p:grpSpPr>
        <p:sp>
          <p:nvSpPr>
            <p:cNvPr id="217" name=""/>
            <p:cNvSpPr/>
            <p:nvPr/>
          </p:nvSpPr>
          <p:spPr>
            <a:xfrm>
              <a:off x="7162920" y="45720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791320" y="480060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Send paper-jam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notification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8672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lowTone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paper jam event to JMX 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PaperJam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parameters and signa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PAPER_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.invoke( eventBroadcast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eter, signatur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14640" y="3429000"/>
            <a:ext cx="2895840" cy="609480"/>
            <a:chOff x="5714640" y="3429000"/>
            <a:chExt cx="2895840" cy="609480"/>
          </a:xfrm>
        </p:grpSpPr>
        <p:sp>
          <p:nvSpPr>
            <p:cNvPr id="222" name=""/>
            <p:cNvSpPr/>
            <p:nvPr/>
          </p:nvSpPr>
          <p:spPr>
            <a:xfrm>
              <a:off x="6781680" y="34290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14640" y="36576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66920" y="4495680"/>
            <a:ext cx="2439000" cy="457200"/>
            <a:chOff x="5866920" y="4495680"/>
            <a:chExt cx="2439000" cy="457200"/>
          </a:xfrm>
        </p:grpSpPr>
        <p:sp>
          <p:nvSpPr>
            <p:cNvPr id="225" name=""/>
            <p:cNvSpPr/>
            <p:nvPr/>
          </p:nvSpPr>
          <p:spPr>
            <a:xfrm>
              <a:off x="6705720" y="449568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866920" y="4648320"/>
              <a:ext cx="838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sen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579096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catch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perJam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terface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utOfPap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elegat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OutOfPap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terface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w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elegat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LowTon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terface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elegat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PaperJam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2971440"/>
            <a:ext cx="4267080" cy="2438640"/>
            <a:chOff x="3657600" y="2971440"/>
            <a:chExt cx="4267080" cy="2438640"/>
          </a:xfrm>
        </p:grpSpPr>
        <p:sp>
          <p:nvSpPr>
            <p:cNvPr id="230" name=""/>
            <p:cNvSpPr/>
            <p:nvPr/>
          </p:nvSpPr>
          <p:spPr>
            <a:xfrm>
              <a:off x="5562720" y="388620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62160" y="297144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57600" y="4114800"/>
              <a:ext cx="1905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809520" y="4114800"/>
              <a:ext cx="1752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1 Introduc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anageme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network managemen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echnological adv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-level management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atio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Simul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9436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6: PrinterSimul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simulates a printer device on a netwo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printerSt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50 sheets of paper in tra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paperInT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00% full of i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tonerCartrid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eventListener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public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647960" y="5257800"/>
            <a:ext cx="2972160" cy="824040"/>
            <a:chOff x="4647960" y="5257800"/>
            <a:chExt cx="2972160" cy="824040"/>
          </a:xfrm>
        </p:grpSpPr>
        <p:sp>
          <p:nvSpPr>
            <p:cNvPr id="237" name=""/>
            <p:cNvSpPr/>
            <p:nvPr/>
          </p:nvSpPr>
          <p:spPr>
            <a:xfrm>
              <a:off x="5715000" y="52578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PrinterEventListener as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647960" y="56386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60958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s execution of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life-cycle of the printer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) if offline, it pauses and wa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2) if online, handles one print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in loop withi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Aliv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ause if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Onlin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waits for printer become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interrup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4767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rintingPro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Proces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rm up the printer, print top print job from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ck and adjust paper values and ton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rm up printer for incoming batch of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 *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paperInTray.intValu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nerCartridge.intValu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!isPaperJam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art the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getNex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12 seconds to print a norma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 *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ach print job uses 10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InTray( paperInTray.intValu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make sure no references are left dangl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10080" y="2743200"/>
            <a:ext cx="3276720" cy="718200"/>
            <a:chOff x="5410080" y="2743200"/>
            <a:chExt cx="3276720" cy="718200"/>
          </a:xfrm>
        </p:grpSpPr>
        <p:sp>
          <p:nvSpPr>
            <p:cNvPr id="244" name=""/>
            <p:cNvSpPr/>
            <p:nvPr/>
          </p:nvSpPr>
          <p:spPr>
            <a:xfrm>
              <a:off x="6400800" y="31240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ulate printing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410080" y="27432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63244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terrup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Printing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current printed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urren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On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( isOnli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paper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InT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perInT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( newValu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paper tray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perInTray.intValue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Listener.outOfPap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isPaperJ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33760" y="4343400"/>
            <a:ext cx="3124440" cy="642240"/>
            <a:chOff x="5333760" y="4343400"/>
            <a:chExt cx="3124440" cy="642240"/>
          </a:xfrm>
        </p:grpSpPr>
        <p:sp>
          <p:nvSpPr>
            <p:cNvPr id="249" name=""/>
            <p:cNvSpPr/>
            <p:nvPr/>
          </p:nvSpPr>
          <p:spPr>
            <a:xfrm>
              <a:off x="6324480" y="46483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aper to paper t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5333760" y="434340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61722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ck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toner available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fter every print job, toner levels drop 1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nerCartrid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nerCartridge.intValu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toner is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nerCartridge.intValue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Listener.lowTon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h.random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Listener.paperJam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number of pages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PaperTra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InT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181480" y="2895120"/>
            <a:ext cx="3048120" cy="657360"/>
            <a:chOff x="5181480" y="2895120"/>
            <a:chExt cx="3048120" cy="657360"/>
          </a:xfrm>
        </p:grpSpPr>
        <p:sp>
          <p:nvSpPr>
            <p:cNvPr id="254" name=""/>
            <p:cNvSpPr/>
            <p:nvPr/>
          </p:nvSpPr>
          <p:spPr>
            <a:xfrm>
              <a:off x="6705720" y="29718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oner in toner cart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181480" y="2895120"/>
              <a:ext cx="1524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572000" y="4572000"/>
            <a:ext cx="2819520" cy="580680"/>
            <a:chOff x="4572000" y="4572000"/>
            <a:chExt cx="2819520" cy="580680"/>
          </a:xfrm>
        </p:grpSpPr>
        <p:sp>
          <p:nvSpPr>
            <p:cNvPr id="257" name=""/>
            <p:cNvSpPr/>
            <p:nvPr/>
          </p:nvSpPr>
          <p:spPr>
            <a:xfrm>
              <a:off x="5867280" y="457200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sue paper jam event random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572000" y="46483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64767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mount of toner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nerCartrid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nerates a random number of print jobs with varying I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ulatePrint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OfJob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 ( 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 i &lt; numOfJobs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ck.add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_JOB_ID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next print job in stack, populating the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ex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.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populatePrintStack (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imulates absence of print job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562360" y="2666880"/>
            <a:ext cx="2514960" cy="381240"/>
            <a:chOff x="5562360" y="2666880"/>
            <a:chExt cx="2514960" cy="381240"/>
          </a:xfrm>
        </p:grpSpPr>
        <p:sp>
          <p:nvSpPr>
            <p:cNvPr id="262" name=""/>
            <p:cNvSpPr/>
            <p:nvPr/>
          </p:nvSpPr>
          <p:spPr>
            <a:xfrm>
              <a:off x="6248520" y="26668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print j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562360" y="28954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66294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terrup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 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topmost queued resour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Job = ( String ) printerStack.p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NextPrint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ll jobs yet to be pri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endingPrintJob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[] temp = printerStack.toArray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PrintJob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temp.length ]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 i &lt; pendingPrintJob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ndingPrintJobs [ i ] = ( String )temp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ndingPrintJob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endingPrint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486400" y="4191120"/>
            <a:ext cx="3124080" cy="685800"/>
            <a:chOff x="5486400" y="4191120"/>
            <a:chExt cx="3124080" cy="685800"/>
          </a:xfrm>
        </p:grpSpPr>
        <p:sp>
          <p:nvSpPr>
            <p:cNvPr id="267" name=""/>
            <p:cNvSpPr/>
            <p:nvPr/>
          </p:nvSpPr>
          <p:spPr>
            <a:xfrm>
              <a:off x="6324480" y="4191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ll jobs to be pri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86400" y="4343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63244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printer status to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n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all waiting st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yAll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printer status to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f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enishes amount of paper in paper tray to specif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Stack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PaperInTray( paperStack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85840" y="2057400"/>
            <a:ext cx="4267440" cy="580680"/>
            <a:chOff x="3885840" y="2057400"/>
            <a:chExt cx="4267440" cy="580680"/>
          </a:xfrm>
        </p:grpSpPr>
        <p:sp>
          <p:nvSpPr>
            <p:cNvPr id="272" name=""/>
            <p:cNvSpPr/>
            <p:nvPr/>
          </p:nvSpPr>
          <p:spPr>
            <a:xfrm>
              <a:off x="54864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printer becomes online, notify all waiting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85840" y="2133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2 Implementation of the JMX Management Ag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X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Bea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Beans (managed resour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adaptor or conn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Ag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mai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create MBeanServ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create RMI connector serv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create broadcaster MBe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3244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8: PrinterManagementAg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creates an MBeanServer and starts an RM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nector MBean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Manag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Ag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Instance rmiConnector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Instance pri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Instance broadcas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Name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 MBea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BeanServer 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Factory.createMBean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 RMI connector service, a printer sim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Bean and a broadcast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 RMI connector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miConnectorServer = server.createMBean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sun.jdmk.comm.RmiConnector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broadcast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 = server.getDefaultDomai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class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mx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Simulator.PrinterEventBroadcas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885840" y="3505320"/>
            <a:ext cx="3124440" cy="380880"/>
            <a:chOff x="3885840" y="3505320"/>
            <a:chExt cx="3124440" cy="380880"/>
          </a:xfrm>
        </p:grpSpPr>
        <p:sp>
          <p:nvSpPr>
            <p:cNvPr id="279" name=""/>
            <p:cNvSpPr/>
            <p:nvPr/>
          </p:nvSpPr>
          <p:spPr>
            <a:xfrm>
              <a:off x="5029200" y="350532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Bea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885840" y="365760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14640" y="4800600"/>
            <a:ext cx="3353040" cy="533520"/>
            <a:chOff x="5714640" y="4800600"/>
            <a:chExt cx="3353040" cy="533520"/>
          </a:xfrm>
        </p:grpSpPr>
        <p:sp>
          <p:nvSpPr>
            <p:cNvPr id="282" name=""/>
            <p:cNvSpPr/>
            <p:nvPr/>
          </p:nvSpPr>
          <p:spPr>
            <a:xfrm>
              <a:off x="6477120" y="48006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RMI connector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714640" y="5029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62360" y="5715000"/>
            <a:ext cx="3200760" cy="380880"/>
            <a:chOff x="5562360" y="5715000"/>
            <a:chExt cx="3200760" cy="380880"/>
          </a:xfrm>
        </p:grpSpPr>
        <p:sp>
          <p:nvSpPr>
            <p:cNvPr id="285" name=""/>
            <p:cNvSpPr/>
            <p:nvPr/>
          </p:nvSpPr>
          <p:spPr>
            <a:xfrm>
              <a:off x="6248520" y="57150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roaddcaster M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562360" y="59436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X prov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-independ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-independ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lligent ag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4 create printer simulator MBea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5 handle excep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60962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 = server.createMBea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assName, objectNam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printer simulato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erver.getDefaultDo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ame =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mx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Simulator.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roadcaster = server.createMBea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assName, objec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class not JMX-compliant MBe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Compliant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MBean constructor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MBean already exist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AlreadyExists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MBean constructor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57440" y="2286000"/>
            <a:ext cx="2591280" cy="824040"/>
            <a:chOff x="5257440" y="2286000"/>
            <a:chExt cx="2591280" cy="824040"/>
          </a:xfrm>
        </p:grpSpPr>
        <p:sp>
          <p:nvSpPr>
            <p:cNvPr id="290" name=""/>
            <p:cNvSpPr/>
            <p:nvPr/>
          </p:nvSpPr>
          <p:spPr>
            <a:xfrm>
              <a:off x="6477120" y="2286000"/>
              <a:ext cx="1371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printer simulator M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257440" y="251424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6 specify RMI connector server por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7 set RMI connector server por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8 start RMI connector serv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3244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 object nam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r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setPort on RmiConnectorServ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the RMI connect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er.inv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miConnectorServer.getObject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, signatu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er.inv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miConnectorServer.getObject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execut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029200" y="1066680"/>
            <a:ext cx="1676520" cy="824040"/>
            <a:chOff x="5029200" y="1066680"/>
            <a:chExt cx="1676520" cy="824040"/>
          </a:xfrm>
        </p:grpSpPr>
        <p:sp>
          <p:nvSpPr>
            <p:cNvPr id="295" name=""/>
            <p:cNvSpPr/>
            <p:nvPr/>
          </p:nvSpPr>
          <p:spPr>
            <a:xfrm>
              <a:off x="5410080" y="1066680"/>
              <a:ext cx="1295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RMI connector server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029200" y="15238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324480" y="2895480"/>
            <a:ext cx="2362320" cy="580680"/>
            <a:chOff x="6324480" y="2895480"/>
            <a:chExt cx="2362320" cy="580680"/>
          </a:xfrm>
        </p:grpSpPr>
        <p:sp>
          <p:nvSpPr>
            <p:cNvPr id="298" name=""/>
            <p:cNvSpPr/>
            <p:nvPr/>
          </p:nvSpPr>
          <p:spPr>
            <a:xfrm>
              <a:off x="6934320" y="28954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RMI connector server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324480" y="32004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48520" y="3809880"/>
            <a:ext cx="2361960" cy="580680"/>
            <a:chOff x="6248520" y="3809880"/>
            <a:chExt cx="2361960" cy="580680"/>
          </a:xfrm>
        </p:grpSpPr>
        <p:sp>
          <p:nvSpPr>
            <p:cNvPr id="301" name=""/>
            <p:cNvSpPr/>
            <p:nvPr/>
          </p:nvSpPr>
          <p:spPr>
            <a:xfrm>
              <a:off x="7010280" y="38098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RMI connector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6248520" y="396216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3047760"/>
            <a:ext cx="2057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nterEventBroadcasterMBean</a:t>
            </a:r>
            <a:br>
              <a:rPr sz="900"/>
            </a:br>
            <a:br>
              <a:rPr sz="9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5530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___________________________________________________________________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9: PrinterEventBroadcasterM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MBean interf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Notifi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BroadcasterM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Notification( Notification notifi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3 Broadcasting and Receiving Not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ication broadcaster M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Broadcas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594360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0: PrinterEventBroadcas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an MBean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s events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MBeanNotificationInf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NotificationBroadcasterSuppo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tends NotificationBroadcasterSupport to adopt i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al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Broadcas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BroadcasterSup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BroadcasterM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_OF_PAP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OUT_OF_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OW_TO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LOW_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PER_J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PAPER_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Implement getNotificationInfo to describe ev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60958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vide information about deliverab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NotificationInfo[] getNotificationInfo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containing descriptor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BeanNotificationInfo[] descriptorArra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NotificationInfo[ 1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fferent event 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notification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3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icationTyp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Broadcas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UT_OF_PA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icationTyp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Broadcas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W_TON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icationTyp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Broadcas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APER_JA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ication 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lass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 of MBeanNotification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escript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otification types for 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descript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or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NotificationInfo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icationTypes, classType,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Array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Notification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14640" y="1066680"/>
            <a:ext cx="2972160" cy="1357560"/>
            <a:chOff x="5714640" y="1066680"/>
            <a:chExt cx="2972160" cy="1357560"/>
          </a:xfrm>
        </p:grpSpPr>
        <p:sp>
          <p:nvSpPr>
            <p:cNvPr id="312" name=""/>
            <p:cNvSpPr/>
            <p:nvPr/>
          </p:nvSpPr>
          <p:spPr>
            <a:xfrm>
              <a:off x="6858000" y="16002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NotificationInfo to describe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5714640" y="106668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248160" y="4191120"/>
            <a:ext cx="2743560" cy="337320"/>
            <a:chOff x="6248160" y="4191120"/>
            <a:chExt cx="2743560" cy="337320"/>
          </a:xfrm>
        </p:grpSpPr>
        <p:sp>
          <p:nvSpPr>
            <p:cNvPr id="315" name=""/>
            <p:cNvSpPr/>
            <p:nvPr/>
          </p:nvSpPr>
          <p:spPr>
            <a:xfrm>
              <a:off x="7315200" y="41911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6248160" y="42670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105520" y="2590560"/>
            <a:ext cx="3047760" cy="686160"/>
            <a:chOff x="5105520" y="2590560"/>
            <a:chExt cx="3047760" cy="686160"/>
          </a:xfrm>
        </p:grpSpPr>
        <p:sp>
          <p:nvSpPr>
            <p:cNvPr id="318" name=""/>
            <p:cNvSpPr/>
            <p:nvPr/>
          </p:nvSpPr>
          <p:spPr>
            <a:xfrm>
              <a:off x="6324480" y="28954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event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5410080" y="25905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5105520" y="297144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12408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handle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nner class NotificationListener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63244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1: PrinterEventHand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lass adds a listener to the broadcaster MBean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s the event handlers when event occu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DMK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ClientNotification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5f5f5f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5f5f5f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.deitel.advjhtp1.jmx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Hand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eventTarg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ication listener an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Listener notificationListener =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Notifica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otification notification, Object handback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rieve notification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notificationType = notification.getTyp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different notifica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ificationType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OUT_OF_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handleOutOfPaperEve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866920" y="3657600"/>
            <a:ext cx="2591280" cy="580680"/>
            <a:chOff x="5866920" y="3657600"/>
            <a:chExt cx="2591280" cy="580680"/>
          </a:xfrm>
        </p:grpSpPr>
        <p:sp>
          <p:nvSpPr>
            <p:cNvPr id="325" name=""/>
            <p:cNvSpPr/>
            <p:nvPr/>
          </p:nvSpPr>
          <p:spPr>
            <a:xfrm>
              <a:off x="6553080" y="36576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Notification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866920" y="39625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set notification mod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register listener to RMI connector cl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28240" y="75960"/>
            <a:ext cx="670572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ificationType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LOW_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handleLowTonerEve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ificationType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PAPER_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handlePaperJam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handle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Handl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onnectorClient inputRmiCli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SidePrinterEventListener inputEventTarge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lient = input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 = inputEventTarg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notification push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rmiClient.setMode( ClientNotificationHandl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USH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miClient.getDefaultDomai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miClient.addNotificationListener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otificationListen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09720" y="4038480"/>
            <a:ext cx="3200760" cy="609840"/>
            <a:chOff x="5409720" y="4038480"/>
            <a:chExt cx="3200760" cy="609840"/>
          </a:xfrm>
        </p:grpSpPr>
        <p:sp>
          <p:nvSpPr>
            <p:cNvPr id="330" name=""/>
            <p:cNvSpPr/>
            <p:nvPr/>
          </p:nvSpPr>
          <p:spPr>
            <a:xfrm>
              <a:off x="6629400" y="403848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notification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409720" y="419112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486400" y="5334120"/>
            <a:ext cx="2895480" cy="761760"/>
            <a:chOff x="5486400" y="5334120"/>
            <a:chExt cx="2895480" cy="761760"/>
          </a:xfrm>
        </p:grpSpPr>
        <p:sp>
          <p:nvSpPr>
            <p:cNvPr id="333" name=""/>
            <p:cNvSpPr/>
            <p:nvPr/>
          </p:nvSpPr>
          <p:spPr>
            <a:xfrm>
              <a:off x="6400800" y="53341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listener to RMI connecto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486400" y="56386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Delegate printer ev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0199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does not exist in the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he format of the object name is wro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EventHand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gate out of paper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OutOfPap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.outOfPap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gate low toner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LowTon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.low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gate paper jam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PaperJam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.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1640" y="3428640"/>
            <a:ext cx="3734280" cy="2057760"/>
            <a:chOff x="4571640" y="3428640"/>
            <a:chExt cx="3734280" cy="2057760"/>
          </a:xfrm>
        </p:grpSpPr>
        <p:sp>
          <p:nvSpPr>
            <p:cNvPr id="338" name=""/>
            <p:cNvSpPr/>
            <p:nvPr/>
          </p:nvSpPr>
          <p:spPr>
            <a:xfrm>
              <a:off x="6172200" y="39625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gate printer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4724280" y="342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571640" y="411480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571640" y="411480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4 Management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pplication for the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for managing the pr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entPrinter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agerSidePrinterEvent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erManagement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57400" y="1752480"/>
            <a:ext cx="5257800" cy="3733920"/>
            <a:chOff x="2057400" y="1752480"/>
            <a:chExt cx="5257800" cy="3733920"/>
          </a:xfrm>
        </p:grpSpPr>
        <p:sp>
          <p:nvSpPr>
            <p:cNvPr id="96" name=""/>
            <p:cNvSpPr/>
            <p:nvPr/>
          </p:nvSpPr>
          <p:spPr>
            <a:xfrm>
              <a:off x="2057400" y="1752480"/>
              <a:ext cx="5257800" cy="37339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94520" y="1920960"/>
              <a:ext cx="1986120" cy="43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55"/>
                  </a:lnTo>
                  <a:lnTo>
                    <a:pt x="0" y="19955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7440" y="2080080"/>
              <a:ext cx="151956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ment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4520" y="1920960"/>
              <a:ext cx="1986120" cy="43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55"/>
                  </a:lnTo>
                  <a:lnTo>
                    <a:pt x="0" y="19955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5120" y="3072960"/>
              <a:ext cx="3184200" cy="676080"/>
            </a:xfrm>
            <a:prstGeom prst="roundRect">
              <a:avLst>
                <a:gd name="adj" fmla="val 16667"/>
              </a:avLst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4640" y="3350880"/>
              <a:ext cx="204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Java Dynamic Management Ag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87040" y="2358000"/>
              <a:ext cx="720" cy="71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2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720" y="4860000"/>
              <a:ext cx="1227240" cy="47736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4440" y="4860000"/>
              <a:ext cx="1227240" cy="47736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9280" y="4860000"/>
              <a:ext cx="1227240" cy="47736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87040" y="3747960"/>
              <a:ext cx="720" cy="111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2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3040" y="3747960"/>
              <a:ext cx="496440" cy="111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2"/>
                  </a:moveTo>
                  <a:lnTo>
                    <a:pt x="19971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64000" y="3747960"/>
              <a:ext cx="525240" cy="111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19982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7960" y="5018760"/>
              <a:ext cx="116892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d 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8400" y="5018760"/>
              <a:ext cx="116856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d 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2760" y="5018760"/>
              <a:ext cx="116892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d 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0720" y="3072960"/>
              <a:ext cx="3213360" cy="67608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720" y="4860000"/>
              <a:ext cx="1227240" cy="477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44440" y="4860000"/>
              <a:ext cx="1227240" cy="477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9280" y="4860000"/>
              <a:ext cx="1227240" cy="477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5720" y="5018760"/>
              <a:ext cx="14122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Instrumentation 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5720" y="3350880"/>
              <a:ext cx="84780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Agent 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15720" y="2080080"/>
              <a:ext cx="125640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r 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entPrinterManag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get RMI connector cl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64767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2: ClientPrinterManagem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establishes a connection to the MBea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creates an MBean for PrinterSimul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D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PrinterManag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tantiate clien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PrinterManag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nnector client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onnectorAddress rmi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Addr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724280" y="4495680"/>
            <a:ext cx="3200400" cy="609840"/>
            <a:chOff x="4724280" y="4495680"/>
            <a:chExt cx="3200400" cy="609840"/>
          </a:xfrm>
        </p:grpSpPr>
        <p:sp>
          <p:nvSpPr>
            <p:cNvPr id="347" name=""/>
            <p:cNvSpPr/>
            <p:nvPr/>
          </p:nvSpPr>
          <p:spPr>
            <a:xfrm>
              <a:off x="5638680" y="44956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RMI connecto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724280" y="4648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set RMI client por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establish connec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Get RmiConnectorClient referen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mai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invoke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invoke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632484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Address.setPo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stablish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lient.connect( rmi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netPrinterManage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RmiConnectorClient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getCli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ntiate clien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PrinterManagement client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PrinterManag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MIConnectorClient han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onnectorClient client = clientManager.get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GUI printerManagementGUI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GUI( cli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the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GUI.set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038120" y="228600"/>
            <a:ext cx="2286360" cy="580680"/>
            <a:chOff x="4038120" y="228600"/>
            <a:chExt cx="2286360" cy="580680"/>
          </a:xfrm>
        </p:grpSpPr>
        <p:sp>
          <p:nvSpPr>
            <p:cNvPr id="352" name=""/>
            <p:cNvSpPr/>
            <p:nvPr/>
          </p:nvSpPr>
          <p:spPr>
            <a:xfrm>
              <a:off x="5257800" y="228600"/>
              <a:ext cx="1066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RMI client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038120" y="533520"/>
              <a:ext cx="1219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495680" y="914400"/>
            <a:ext cx="2133720" cy="580680"/>
            <a:chOff x="4495680" y="914400"/>
            <a:chExt cx="2133720" cy="580680"/>
          </a:xfrm>
        </p:grpSpPr>
        <p:sp>
          <p:nvSpPr>
            <p:cNvPr id="355" name=""/>
            <p:cNvSpPr/>
            <p:nvPr/>
          </p:nvSpPr>
          <p:spPr>
            <a:xfrm>
              <a:off x="5486400" y="9144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ablish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4495680" y="114300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105160" y="4724280"/>
            <a:ext cx="2362320" cy="337320"/>
            <a:chOff x="5105160" y="4724280"/>
            <a:chExt cx="2362320" cy="337320"/>
          </a:xfrm>
        </p:grpSpPr>
        <p:sp>
          <p:nvSpPr>
            <p:cNvPr id="358" name=""/>
            <p:cNvSpPr/>
            <p:nvPr/>
          </p:nvSpPr>
          <p:spPr>
            <a:xfrm>
              <a:off x="6248520" y="472428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105160" y="4876920"/>
              <a:ext cx="1143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Inner class TextAppende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6324480" cy="6781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4: PrinterManagem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GUI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 management appl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AWT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D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mx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Appender appends text to a JTextArea. This Runn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using SwingUtil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s invokeLater or invokeAndWait as it modif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419360" y="5791320"/>
            <a:ext cx="2895840" cy="580680"/>
            <a:chOff x="4419360" y="5791320"/>
            <a:chExt cx="2895840" cy="580680"/>
          </a:xfrm>
        </p:grpSpPr>
        <p:sp>
          <p:nvSpPr>
            <p:cNvPr id="363" name=""/>
            <p:cNvSpPr/>
            <p:nvPr/>
          </p:nvSpPr>
          <p:spPr>
            <a:xfrm>
              <a:off x="5943600" y="579132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TextApp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4419360" y="594324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define status pan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4560" y="75960"/>
            <a:ext cx="647676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xtAppe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JTextArea area, String new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 = new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 = 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new text in J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append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setCaretPosi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xtAppend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 objec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Status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Event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GUI( RmiConnectorClient rmi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MX Printer Management Examp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Statu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105520" y="5562720"/>
            <a:ext cx="2133360" cy="838080"/>
            <a:chOff x="5105520" y="5562720"/>
            <a:chExt cx="2133360" cy="838080"/>
          </a:xfrm>
        </p:grpSpPr>
        <p:sp>
          <p:nvSpPr>
            <p:cNvPr id="368" name=""/>
            <p:cNvSpPr/>
            <p:nvPr/>
          </p:nvSpPr>
          <p:spPr>
            <a:xfrm>
              <a:off x="5943600" y="556272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status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105520" y="5867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define buttons pane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.1 define actions for the butt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6476760" cy="6781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statu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getViewport()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add( statu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tton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Check Status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heckStatus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Stat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Statu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heckStatu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Add Pape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Pap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Paper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Paper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00240" y="2057400"/>
            <a:ext cx="2514960" cy="580680"/>
            <a:chOff x="4800240" y="2057400"/>
            <a:chExt cx="2514960" cy="580680"/>
          </a:xfrm>
        </p:grpSpPr>
        <p:sp>
          <p:nvSpPr>
            <p:cNvPr id="373" name=""/>
            <p:cNvSpPr/>
            <p:nvPr/>
          </p:nvSpPr>
          <p:spPr>
            <a:xfrm>
              <a:off x="5867280" y="205740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buttons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800240" y="21337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867280" y="3581280"/>
            <a:ext cx="3124440" cy="1981440"/>
            <a:chOff x="5867280" y="3581280"/>
            <a:chExt cx="3124440" cy="1981440"/>
          </a:xfrm>
        </p:grpSpPr>
        <p:sp>
          <p:nvSpPr>
            <p:cNvPr id="376" name=""/>
            <p:cNvSpPr/>
            <p:nvPr/>
          </p:nvSpPr>
          <p:spPr>
            <a:xfrm>
              <a:off x="7315200" y="38862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ctions for the but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171840" y="35812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867280" y="4191120"/>
              <a:ext cx="1447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define events panel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04560" y="0"/>
            <a:ext cx="647676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Cancel Pending Print Jobs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ancelPendingPrintJobs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 Pending Print Job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ncelPendingPrintJob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ncelPendingPrintJob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hree buttons to the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heckStatu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addPaper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ancelPendingPrintJob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Even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event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getViewport().ad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add( event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he tex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Status: ---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vents: ---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all the panels tog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Statu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Even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952520" y="762120"/>
            <a:ext cx="3124800" cy="580680"/>
            <a:chOff x="4952520" y="762120"/>
            <a:chExt cx="3124800" cy="580680"/>
          </a:xfrm>
        </p:grpSpPr>
        <p:sp>
          <p:nvSpPr>
            <p:cNvPr id="382" name=""/>
            <p:cNvSpPr/>
            <p:nvPr/>
          </p:nvSpPr>
          <p:spPr>
            <a:xfrm>
              <a:off x="6629400" y="76212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ctions for the but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952520" y="762120"/>
              <a:ext cx="1676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086600" y="152388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486400" y="3580920"/>
            <a:ext cx="2743200" cy="337680"/>
            <a:chOff x="5486400" y="3580920"/>
            <a:chExt cx="2743200" cy="337680"/>
          </a:xfrm>
        </p:grpSpPr>
        <p:sp>
          <p:nvSpPr>
            <p:cNvPr id="386" name=""/>
            <p:cNvSpPr/>
            <p:nvPr/>
          </p:nvSpPr>
          <p:spPr>
            <a:xfrm>
              <a:off x="6400800" y="35812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events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486400" y="35809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start printer simul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5 get PrinterEventHandle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4560" y="0"/>
            <a:ext cx="65530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miConnectorClient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 =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startPrinting of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8dff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Simulato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 = client.getDefaultDomai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invoke( object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alid objec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lformedObjectNam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ntiate PrinterEventNotifi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Handler printerEventHandl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Handler( clie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257800" y="533520"/>
            <a:ext cx="1752480" cy="1218960"/>
            <a:chOff x="5257800" y="533520"/>
            <a:chExt cx="1752480" cy="1218960"/>
          </a:xfrm>
        </p:grpSpPr>
        <p:sp>
          <p:nvSpPr>
            <p:cNvPr id="391" name=""/>
            <p:cNvSpPr/>
            <p:nvPr/>
          </p:nvSpPr>
          <p:spPr>
            <a:xfrm>
              <a:off x="5715000" y="53352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printing via MBe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257800" y="83808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333760" y="5867280"/>
            <a:ext cx="2895840" cy="685800"/>
            <a:chOff x="5333760" y="5867280"/>
            <a:chExt cx="2895840" cy="685800"/>
          </a:xfrm>
        </p:grpSpPr>
        <p:sp>
          <p:nvSpPr>
            <p:cNvPr id="394" name=""/>
            <p:cNvSpPr/>
            <p:nvPr/>
          </p:nvSpPr>
          <p:spPr>
            <a:xfrm>
              <a:off x="5943600" y="58672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PrinterEvent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333760" y="601992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6 define actions when close wind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67820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register MBean when close th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nregister MBea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unregister the PrinterSimulato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lient.unregisterMBean( objec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unregister the PrinterEventBroadca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name = client.getDefaultDo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lient.unregisterMBean( objec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invalid objec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exception is caught from method preDe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Registra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866920" y="2057400"/>
            <a:ext cx="3048480" cy="1295280"/>
            <a:chOff x="5866920" y="2057400"/>
            <a:chExt cx="3048480" cy="1295280"/>
          </a:xfrm>
        </p:grpSpPr>
        <p:sp>
          <p:nvSpPr>
            <p:cNvPr id="399" name=""/>
            <p:cNvSpPr/>
            <p:nvPr/>
          </p:nvSpPr>
          <p:spPr>
            <a:xfrm>
              <a:off x="7086600" y="22096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register Mbeans when close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866920" y="205740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866920" y="2514600"/>
              <a:ext cx="1219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 display events in events pan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624852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terminate th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indowAdap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 of pape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erEvent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         "\nEVENT: Out of Paper!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ner low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erEvent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ENT: Toner Low!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per jam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erEvent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ENT: Paper Jam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876560" y="2819520"/>
            <a:ext cx="3810240" cy="2819160"/>
            <a:chOff x="4876560" y="2819520"/>
            <a:chExt cx="3810240" cy="2819160"/>
          </a:xfrm>
        </p:grpSpPr>
        <p:sp>
          <p:nvSpPr>
            <p:cNvPr id="405" name=""/>
            <p:cNvSpPr/>
            <p:nvPr/>
          </p:nvSpPr>
          <p:spPr>
            <a:xfrm>
              <a:off x="7238880" y="35053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714640" y="2819520"/>
              <a:ext cx="15238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876560" y="3657600"/>
              <a:ext cx="2361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562720" y="3657600"/>
              <a:ext cx="16761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Add paper to 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ancel pending print job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3244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aper to the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aperButtonAction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invoke( object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plenishPaperTr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Paper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Button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invoke( object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PendingPrintJo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876920" y="1447560"/>
            <a:ext cx="3429000" cy="961920"/>
            <a:chOff x="4876920" y="1447560"/>
            <a:chExt cx="3429000" cy="961920"/>
          </a:xfrm>
        </p:grpSpPr>
        <p:sp>
          <p:nvSpPr>
            <p:cNvPr id="412" name=""/>
            <p:cNvSpPr/>
            <p:nvPr/>
          </p:nvSpPr>
          <p:spPr>
            <a:xfrm>
              <a:off x="5715000" y="1828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aper to paper try when click Add Paper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876920" y="144756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05160" y="4572000"/>
            <a:ext cx="3581640" cy="1371600"/>
            <a:chOff x="5105160" y="4572000"/>
            <a:chExt cx="3581640" cy="1371600"/>
          </a:xfrm>
        </p:grpSpPr>
        <p:sp>
          <p:nvSpPr>
            <p:cNvPr id="415" name=""/>
            <p:cNvSpPr/>
            <p:nvPr/>
          </p:nvSpPr>
          <p:spPr>
            <a:xfrm>
              <a:off x="6248520" y="45720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 pending print jobs when click Cancel Pending Print Job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105160" y="502920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2 Install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J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Dynamic Management Kit (JDM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JDM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ww.sun.com/software/java-dynamic/try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mkrt.jar and jdmktk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Check printer’s statu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get printer’s stat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64008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ancelPendingPrintJobs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StatusButtonAction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online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aperJam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rinting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aperTray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endingPrintJobs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nage printer remo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on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nline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On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572000" y="4343400"/>
            <a:ext cx="3809880" cy="1295280"/>
            <a:chOff x="4572000" y="4343400"/>
            <a:chExt cx="3809880" cy="1295280"/>
          </a:xfrm>
        </p:grpSpPr>
        <p:sp>
          <p:nvSpPr>
            <p:cNvPr id="420" name=""/>
            <p:cNvSpPr/>
            <p:nvPr/>
          </p:nvSpPr>
          <p:spPr>
            <a:xfrm>
              <a:off x="6400800" y="43434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printer’s status when click Check Statu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72000" y="480060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prepare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560" y="75960"/>
            <a:ext cx="65530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paper jam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Jam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Paper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ing is pring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ing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Tray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aperTr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PrintJobs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endingPrintJob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online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Boolean ) onlineResponse ).boolea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400800" y="1523520"/>
            <a:ext cx="2362320" cy="1524960"/>
            <a:chOff x="6400800" y="1523520"/>
            <a:chExt cx="2362320" cy="1524960"/>
          </a:xfrm>
        </p:grpSpPr>
        <p:sp>
          <p:nvSpPr>
            <p:cNvPr id="425" name=""/>
            <p:cNvSpPr/>
            <p:nvPr/>
          </p:nvSpPr>
          <p:spPr>
            <a:xfrm>
              <a:off x="7238880" y="1981080"/>
              <a:ext cx="1524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printer’s status by calling methods on Printer M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6400800" y="15235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prepare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9436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Onlin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NLIN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FFLINE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aper jam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Boolean ) paperJamResponse ).boolea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aperJa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per jammed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o Paper Jam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rinting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Boolean )printingResponse ).boolea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324120" y="1218960"/>
            <a:ext cx="2591280" cy="3657960"/>
            <a:chOff x="6324120" y="1218960"/>
            <a:chExt cx="2591280" cy="3657960"/>
          </a:xfrm>
        </p:grpSpPr>
        <p:sp>
          <p:nvSpPr>
            <p:cNvPr id="430" name=""/>
            <p:cNvSpPr/>
            <p:nvPr/>
          </p:nvSpPr>
          <p:spPr>
            <a:xfrm>
              <a:off x="7467480" y="274320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printer status to output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6400440" y="1218960"/>
              <a:ext cx="10666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324120" y="2057040"/>
              <a:ext cx="1143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324120" y="312408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324120" y="3124080"/>
              <a:ext cx="11430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prepare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624816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rint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is currently print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 is not print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paper tray condi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Remain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Integer )paperTrayResponse )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new TextAppen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paper tray ha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aperRemaining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ges remaining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us for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endingPrintJob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Object[] ) pendingPrintJobs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ndingPrintJobsNumber = pendingPrintJobs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pending print job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PrintJobsNumb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StatusButtonA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867280" y="609480"/>
            <a:ext cx="2895840" cy="4800600"/>
            <a:chOff x="5867280" y="609480"/>
            <a:chExt cx="2895840" cy="4800600"/>
          </a:xfrm>
        </p:grpSpPr>
        <p:sp>
          <p:nvSpPr>
            <p:cNvPr id="438" name=""/>
            <p:cNvSpPr/>
            <p:nvPr/>
          </p:nvSpPr>
          <p:spPr>
            <a:xfrm>
              <a:off x="7315200" y="220968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printer status to output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6095520" y="609480"/>
              <a:ext cx="121932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6095520" y="1600200"/>
              <a:ext cx="1219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867280" y="2590920"/>
              <a:ext cx="1447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943600" y="2590920"/>
              <a:ext cx="137160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.5 Compiling and Running th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mkrt.jar and jdmktk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in package com.deitel.advjhtp1.jmx.Printer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in package com.deitel.advjhtp1.jmx.PrinterSim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ManagementAg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Printer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7" name="Initial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47628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6248160" y="2971800"/>
            <a:ext cx="2438640" cy="642240"/>
            <a:chOff x="6248160" y="2971800"/>
            <a:chExt cx="2438640" cy="642240"/>
          </a:xfrm>
        </p:grpSpPr>
        <p:sp>
          <p:nvSpPr>
            <p:cNvPr id="449" name=""/>
            <p:cNvSpPr/>
            <p:nvPr/>
          </p:nvSpPr>
          <p:spPr>
            <a:xfrm>
              <a:off x="7238880" y="32767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248160" y="297180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3" name="OutofpaperEvent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7624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6019560" y="4495680"/>
            <a:ext cx="2210040" cy="580680"/>
            <a:chOff x="6019560" y="4495680"/>
            <a:chExt cx="2210040" cy="580680"/>
          </a:xfrm>
        </p:grpSpPr>
        <p:sp>
          <p:nvSpPr>
            <p:cNvPr id="455" name=""/>
            <p:cNvSpPr/>
            <p:nvPr/>
          </p:nvSpPr>
          <p:spPr>
            <a:xfrm>
              <a:off x="6705720" y="44956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6019560" y="47242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019560" y="1981080"/>
            <a:ext cx="2819520" cy="580680"/>
            <a:chOff x="6019560" y="1981080"/>
            <a:chExt cx="2819520" cy="580680"/>
          </a:xfrm>
        </p:grpSpPr>
        <p:sp>
          <p:nvSpPr>
            <p:cNvPr id="458" name=""/>
            <p:cNvSpPr/>
            <p:nvPr/>
          </p:nvSpPr>
          <p:spPr>
            <a:xfrm>
              <a:off x="6629400" y="19810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6019560" y="22096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2" name="AddPaperAction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47624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6095880" y="2362320"/>
            <a:ext cx="2895840" cy="809280"/>
            <a:chOff x="6095880" y="2362320"/>
            <a:chExt cx="2895840" cy="809280"/>
          </a:xfrm>
        </p:grpSpPr>
        <p:sp>
          <p:nvSpPr>
            <p:cNvPr id="464" name=""/>
            <p:cNvSpPr/>
            <p:nvPr/>
          </p:nvSpPr>
          <p:spPr>
            <a:xfrm>
              <a:off x="7162920" y="25909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clicked Add Paper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095880" y="236232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8" name="PaperjamEvent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4762440" cy="476244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6019560" y="1981080"/>
            <a:ext cx="2819520" cy="580680"/>
            <a:chOff x="6019560" y="1981080"/>
            <a:chExt cx="2819520" cy="580680"/>
          </a:xfrm>
        </p:grpSpPr>
        <p:sp>
          <p:nvSpPr>
            <p:cNvPr id="470" name=""/>
            <p:cNvSpPr/>
            <p:nvPr/>
          </p:nvSpPr>
          <p:spPr>
            <a:xfrm>
              <a:off x="6629400" y="19810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019560" y="236232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95880" y="4495680"/>
            <a:ext cx="2133720" cy="580680"/>
            <a:chOff x="6095880" y="4495680"/>
            <a:chExt cx="2133720" cy="580680"/>
          </a:xfrm>
        </p:grpSpPr>
        <p:sp>
          <p:nvSpPr>
            <p:cNvPr id="473" name=""/>
            <p:cNvSpPr/>
            <p:nvPr/>
          </p:nvSpPr>
          <p:spPr>
            <a:xfrm>
              <a:off x="6705720" y="44956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095880" y="48006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7" name="RemoveJammedPaperAction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7624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6095880" y="2362320"/>
            <a:ext cx="2895840" cy="1128600"/>
            <a:chOff x="6095880" y="2362320"/>
            <a:chExt cx="2895840" cy="1128600"/>
          </a:xfrm>
        </p:grpSpPr>
        <p:sp>
          <p:nvSpPr>
            <p:cNvPr id="479" name=""/>
            <p:cNvSpPr/>
            <p:nvPr/>
          </p:nvSpPr>
          <p:spPr>
            <a:xfrm>
              <a:off x="7162920" y="266688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clicked Cancel Pending Print Job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6095880" y="2362320"/>
              <a:ext cx="10670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 Case Stud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 Case Stud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62320" y="1447920"/>
            <a:ext cx="4800600" cy="4724280"/>
            <a:chOff x="2362320" y="1447920"/>
            <a:chExt cx="4800600" cy="4724280"/>
          </a:xfrm>
        </p:grpSpPr>
        <p:sp>
          <p:nvSpPr>
            <p:cNvPr id="126" name=""/>
            <p:cNvSpPr/>
            <p:nvPr/>
          </p:nvSpPr>
          <p:spPr>
            <a:xfrm>
              <a:off x="2362320" y="1540800"/>
              <a:ext cx="4800600" cy="4631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2800" y="323028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2080" y="4419360"/>
              <a:ext cx="1680480" cy="37620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15360" y="4544640"/>
              <a:ext cx="8539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Printer MB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95360" y="1447920"/>
              <a:ext cx="27000" cy="6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419360"/>
              <a:ext cx="1680480" cy="37620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42800" y="276120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42800" y="276120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88960" y="2823840"/>
              <a:ext cx="1360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RmiConnectorClient: 55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2800" y="323028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75640" y="3292920"/>
              <a:ext cx="13870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 </a:t>
              </a: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RmiConnectorServer: 55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5640" y="3449520"/>
              <a:ext cx="2827440" cy="438480"/>
            </a:xfrm>
            <a:prstGeom prst="roundRect">
              <a:avLst>
                <a:gd name="adj" fmla="val 16667"/>
              </a:avLst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5640" y="3449520"/>
              <a:ext cx="2827440" cy="43848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09000" y="3637080"/>
              <a:ext cx="7207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Bean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22320" y="4419360"/>
              <a:ext cx="2480400" cy="40752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22320" y="4419360"/>
              <a:ext cx="2480400" cy="407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22280" y="4575960"/>
              <a:ext cx="16804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PrinterEventBroadcaster MB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42560" y="5451840"/>
              <a:ext cx="1200240" cy="594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19989" y="19974"/>
                  </a:lnTo>
                  <a:lnTo>
                    <a:pt x="0" y="19974"/>
                  </a:lnTo>
                  <a:lnTo>
                    <a:pt x="0" y="0"/>
                  </a:lnTo>
                  <a:lnTo>
                    <a:pt x="19989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2560" y="5451840"/>
              <a:ext cx="1200240" cy="594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19989" y="19974"/>
                  </a:lnTo>
                  <a:lnTo>
                    <a:pt x="0" y="19974"/>
                  </a:lnTo>
                  <a:lnTo>
                    <a:pt x="0" y="0"/>
                  </a:lnTo>
                  <a:lnTo>
                    <a:pt x="19989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62080" y="5702400"/>
              <a:ext cx="9604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PrinterSimul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2200" y="1666080"/>
              <a:ext cx="1893960" cy="438480"/>
            </a:xfrm>
            <a:prstGeom prst="roundRect">
              <a:avLst>
                <a:gd name="adj" fmla="val 16667"/>
              </a:avLst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2320" y="1822320"/>
              <a:ext cx="14137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ment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2200" y="1666080"/>
              <a:ext cx="1893960" cy="43848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9000" y="2103840"/>
              <a:ext cx="360" cy="65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9480" y="3887640"/>
              <a:ext cx="746640" cy="53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2" y="0"/>
                  </a:moveTo>
                  <a:lnTo>
                    <a:pt x="0" y="199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69680" y="3887640"/>
              <a:ext cx="640080" cy="53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9" y="199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41960" y="4794840"/>
              <a:ext cx="720" cy="656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1 Instrument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 a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M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e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ea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 interface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se attributes of a management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aliz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1 Instrument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 class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MBean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and concr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8:47:44Z</dcterms:created>
  <dc:creator>zhang</dc:creator>
  <dc:description/>
  <dc:language>en-US</dc:language>
  <cp:lastModifiedBy>zhang</cp:lastModifiedBy>
  <dcterms:modified xsi:type="dcterms:W3CDTF">2000-08-31T20:27:32Z</dcterms:modified>
  <cp:revision>170</cp:revision>
  <dc:subject/>
  <dc:title>Chapter 24 – Java Management Extensions (JMX)</dc:title>
</cp:coreProperties>
</file>