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3329-8133-47B6-8F43-27BCBE799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9DFC-EA19-401B-A62F-015DB58CC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C500-E0F3-43F6-8334-37BBCDA1C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01BF-BC25-4426-9DA0-56699DDFB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4677-04C4-4E28-A4B1-27C6C0A5BF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A6C6-F74F-44BF-857C-B2FFAB266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1174-F689-48DC-8337-7BA4683EE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3818-BEE4-4F37-8BB7-8A4876E459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39A3-AF79-407B-A503-91B9B3C06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5AC7-D4DE-4606-9A8E-121171796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4E27-D498-4E02-81DF-67AD23ED6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3174-54BB-4BEF-9634-665543FD3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38CA-9902-421B-9F9C-7757848CBA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8B01-D040-4E65-BFFB-5F892B5DCF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92BD-09C5-4000-A4B6-48E6F8801C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18F9-243E-4BB6-963E-692406D8F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D537-804F-4882-B182-CF1AABE1C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D0DE-C4AC-4F0E-8346-04D797ADA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ABDF-467F-404B-850B-A602D4E7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43A5-F3CD-4E80-9007-0CADFF12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BD82-1200-4E42-A191-C791F2AD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87DA-7173-4250-811C-E75FCC69D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4C96-DDBD-4672-82A0-A368669AF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8216-6DD8-4D5A-82A8-715D94154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EDD-8AA5-4737-84CC-336D1DA34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925-4CF3-413A-B275-E543E8A78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 - Advanced Swing Graphical User Interface Component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ebBrows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EditorPa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oolBa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wing Text Components and HTML Render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wing Toolba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w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SplitPa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abbedPa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Document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g and Dro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ational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bilit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-1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 is a JToolBar subclass that contains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navigating a WebBrowserPane. WebToolBar includes 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forward buttons and a text field for entering UR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back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forward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ur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WebBrowserPane brows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Web Navigation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= 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.addHyperlink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62520" y="2057400"/>
            <a:ext cx="3885840" cy="1067400"/>
            <a:chOff x="3962520" y="2057400"/>
            <a:chExt cx="3885840" cy="1067400"/>
          </a:xfrm>
        </p:grpSpPr>
        <p:sp>
          <p:nvSpPr>
            <p:cNvPr id="135" name=""/>
            <p:cNvSpPr/>
            <p:nvPr/>
          </p:nvSpPr>
          <p:spPr>
            <a:xfrm>
              <a:off x="4780440" y="2057400"/>
              <a:ext cx="3067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commonly used navigation components fo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962520" y="2438280"/>
              <a:ext cx="81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76560" y="3886200"/>
            <a:ext cx="3047760" cy="1067400"/>
            <a:chOff x="4876560" y="3886200"/>
            <a:chExt cx="3047760" cy="1067400"/>
          </a:xfrm>
        </p:grpSpPr>
        <p:sp>
          <p:nvSpPr>
            <p:cNvPr id="138" name=""/>
            <p:cNvSpPr/>
            <p:nvPr/>
          </p:nvSpPr>
          <p:spPr>
            <a:xfrm>
              <a:off x="5448240" y="3886200"/>
              <a:ext cx="2476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takes as an argumen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Web p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76560" y="4267080"/>
              <a:ext cx="571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53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6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UR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webBrowser to user-entere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ttempt to load URL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urlTextField.getText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invali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navigating to previous histor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66720" y="762120"/>
            <a:ext cx="3429360" cy="824040"/>
            <a:chOff x="4266720" y="762120"/>
            <a:chExt cx="3429360" cy="824040"/>
          </a:xfrm>
        </p:grpSpPr>
        <p:sp>
          <p:nvSpPr>
            <p:cNvPr id="143" name=""/>
            <p:cNvSpPr/>
            <p:nvPr/>
          </p:nvSpPr>
          <p:spPr>
            <a:xfrm>
              <a:off x="5410080" y="762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rl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266720" y="7621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15000" y="3886200"/>
            <a:ext cx="3276720" cy="824040"/>
            <a:chOff x="5715000" y="3886200"/>
            <a:chExt cx="3276720" cy="824040"/>
          </a:xfrm>
        </p:grpSpPr>
        <p:sp>
          <p:nvSpPr>
            <p:cNvPr id="146" name=""/>
            <p:cNvSpPr/>
            <p:nvPr/>
          </p:nvSpPr>
          <p:spPr>
            <a:xfrm>
              <a:off x="670572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715000" y="426708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9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te to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 url = webBrowserPane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navigating to next histor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forwar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te to next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 url = webBrowserPane.forw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new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s and JTextField to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ck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forwar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ur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bToolBar constructor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4120" y="2895480"/>
            <a:ext cx="3732840" cy="824040"/>
            <a:chOff x="5334120" y="2895480"/>
            <a:chExt cx="3732840" cy="824040"/>
          </a:xfrm>
        </p:grpSpPr>
        <p:sp>
          <p:nvSpPr>
            <p:cNvPr id="151" name=""/>
            <p:cNvSpPr/>
            <p:nvPr/>
          </p:nvSpPr>
          <p:spPr>
            <a:xfrm>
              <a:off x="6578280" y="2895480"/>
              <a:ext cx="2488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334120" y="2895480"/>
              <a:ext cx="1244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2680" y="5410080"/>
            <a:ext cx="5562720" cy="824040"/>
            <a:chOff x="3352680" y="5410080"/>
            <a:chExt cx="5562720" cy="824040"/>
          </a:xfrm>
        </p:grpSpPr>
        <p:sp>
          <p:nvSpPr>
            <p:cNvPr id="154" name=""/>
            <p:cNvSpPr/>
            <p:nvPr/>
          </p:nvSpPr>
          <p:spPr>
            <a:xfrm>
              <a:off x="4724280" y="541008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rl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352680" y="5867280"/>
              <a:ext cx="1371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HyperlinkEvents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Update( Hyperlink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hyperlink was activated, go to hyperlink'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Event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yperlinkEvent.EventType.ACTIVATE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RL from Hyperlink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event.getUR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vigate to URL and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1066680"/>
            <a:ext cx="35053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kes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Event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heck the event type and retriev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Event’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191120" y="15998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4 WebBrowser application for browsing Web sites using WebBrowserPane and WebToolBa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7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 is an application for browsing Web sit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ToolBar and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4648320"/>
            <a:ext cx="3581640" cy="580680"/>
            <a:chOff x="4952880" y="4648320"/>
            <a:chExt cx="3581640" cy="580680"/>
          </a:xfrm>
        </p:grpSpPr>
        <p:sp>
          <p:nvSpPr>
            <p:cNvPr id="163" name=""/>
            <p:cNvSpPr/>
            <p:nvPr/>
          </p:nvSpPr>
          <p:spPr>
            <a:xfrm>
              <a:off x="5867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952880" y="4952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562360" y="5486400"/>
            <a:ext cx="3353040" cy="824040"/>
            <a:chOff x="5562360" y="5486400"/>
            <a:chExt cx="3353040" cy="824040"/>
          </a:xfrm>
        </p:grpSpPr>
        <p:sp>
          <p:nvSpPr>
            <p:cNvPr id="166" name=""/>
            <p:cNvSpPr/>
            <p:nvPr/>
          </p:nvSpPr>
          <p:spPr>
            <a:xfrm>
              <a:off x="6095880" y="5486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’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6236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4 WebBrowser application for browsing Web sites using WebBrowserPane and WebToolBa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webbrowser_a" descr=""/>
          <p:cNvPicPr/>
          <p:nvPr/>
        </p:nvPicPr>
        <p:blipFill>
          <a:blip r:embed="rId1"/>
          <a:stretch/>
        </p:blipFill>
        <p:spPr>
          <a:xfrm>
            <a:off x="0" y="2057400"/>
            <a:ext cx="3581280" cy="2441520"/>
          </a:xfrm>
          <a:prstGeom prst="rect">
            <a:avLst/>
          </a:prstGeom>
          <a:ln w="0">
            <a:noFill/>
          </a:ln>
        </p:spPr>
      </p:pic>
      <p:pic>
        <p:nvPicPr>
          <p:cNvPr id="171" name="webbrowser_b" descr=""/>
          <p:cNvPicPr/>
          <p:nvPr/>
        </p:nvPicPr>
        <p:blipFill>
          <a:blip r:embed="rId2"/>
          <a:stretch/>
        </p:blipFill>
        <p:spPr>
          <a:xfrm>
            <a:off x="3505320" y="4219560"/>
            <a:ext cx="36590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webbrowser_toolbar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34387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 Swing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functionality once in a reusabl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d method of the Command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generated by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able or disabl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mmand design pattern with Swing A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ng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mple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Ac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ActionS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ampleAction was invo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81280" y="2666880"/>
            <a:ext cx="3962520" cy="580680"/>
            <a:chOff x="3581280" y="2666880"/>
            <a:chExt cx="3962520" cy="580680"/>
          </a:xfrm>
        </p:grpSpPr>
        <p:sp>
          <p:nvSpPr>
            <p:cNvPr id="178" name=""/>
            <p:cNvSpPr/>
            <p:nvPr/>
          </p:nvSpPr>
          <p:spPr>
            <a:xfrm>
              <a:off x="4191120" y="26668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5812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48320" y="3429000"/>
            <a:ext cx="3886200" cy="1310760"/>
            <a:chOff x="4648320" y="3429000"/>
            <a:chExt cx="3886200" cy="1310760"/>
          </a:xfrm>
        </p:grpSpPr>
        <p:sp>
          <p:nvSpPr>
            <p:cNvPr id="181" name=""/>
            <p:cNvSpPr/>
            <p:nvPr/>
          </p:nvSpPr>
          <p:spPr>
            <a:xfrm>
              <a:off x="5943600" y="342900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nonymous inner class that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s the instance to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48320" y="41148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67280" y="3733920"/>
            <a:ext cx="3124440" cy="1554120"/>
            <a:chOff x="5867280" y="3733920"/>
            <a:chExt cx="3124440" cy="1554120"/>
          </a:xfrm>
        </p:grpSpPr>
        <p:sp>
          <p:nvSpPr>
            <p:cNvPr id="184" name=""/>
            <p:cNvSpPr/>
            <p:nvPr/>
          </p:nvSpPr>
          <p:spPr>
            <a:xfrm>
              <a:off x="6400800" y="373392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 event mechanis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activates a GUI component associat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867280" y="44197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4120" y="5105520"/>
            <a:ext cx="3429000" cy="1067400"/>
            <a:chOff x="5334120" y="5105520"/>
            <a:chExt cx="3429000" cy="1067400"/>
          </a:xfrm>
        </p:grpSpPr>
        <p:sp>
          <p:nvSpPr>
            <p:cNvPr id="187" name=""/>
            <p:cNvSpPr/>
            <p:nvPr/>
          </p:nvSpPr>
          <p:spPr>
            <a:xfrm>
              <a:off x="6172200" y="510552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 dialog to inform the user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33412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68680" y="5943600"/>
            <a:ext cx="3760920" cy="580680"/>
            <a:chOff x="4468680" y="5943600"/>
            <a:chExt cx="3760920" cy="580680"/>
          </a:xfrm>
        </p:grpSpPr>
        <p:sp>
          <p:nvSpPr>
            <p:cNvPr id="190" name=""/>
            <p:cNvSpPr/>
            <p:nvPr/>
          </p:nvSpPr>
          <p:spPr>
            <a:xfrm>
              <a:off x="5334120" y="5943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468680" y="624852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 Actio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lp2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exitAc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exit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ActionS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exitAction was invo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81480" y="533520"/>
            <a:ext cx="3429000" cy="2209680"/>
            <a:chOff x="5181480" y="533520"/>
            <a:chExt cx="3429000" cy="2209680"/>
          </a:xfrm>
        </p:grpSpPr>
        <p:sp>
          <p:nvSpPr>
            <p:cNvPr id="195" name=""/>
            <p:cNvSpPr/>
            <p:nvPr/>
          </p:nvSpPr>
          <p:spPr>
            <a:xfrm>
              <a:off x="6629400" y="533520"/>
              <a:ext cx="1981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866920" y="762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24120" y="121932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562360" y="1219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81480" y="121932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47960" y="2590920"/>
            <a:ext cx="4115160" cy="1310760"/>
            <a:chOff x="4647960" y="2590920"/>
            <a:chExt cx="4115160" cy="1310760"/>
          </a:xfrm>
        </p:grpSpPr>
        <p:sp>
          <p:nvSpPr>
            <p:cNvPr id="201" name=""/>
            <p:cNvSpPr/>
            <p:nvPr/>
          </p:nvSpPr>
          <p:spPr>
            <a:xfrm>
              <a:off x="6172200" y="2590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nonymous inner class that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s the instance to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647960" y="327672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67280" y="2819520"/>
            <a:ext cx="3124440" cy="1554120"/>
            <a:chOff x="5867280" y="2819520"/>
            <a:chExt cx="3124440" cy="1554120"/>
          </a:xfrm>
        </p:grpSpPr>
        <p:sp>
          <p:nvSpPr>
            <p:cNvPr id="204" name=""/>
            <p:cNvSpPr/>
            <p:nvPr/>
          </p:nvSpPr>
          <p:spPr>
            <a:xfrm>
              <a:off x="6400800" y="281952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 event mechanis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activates a GUI component associat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867280" y="34290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1480" y="5181480"/>
            <a:ext cx="3810240" cy="1143000"/>
            <a:chOff x="5181480" y="5181480"/>
            <a:chExt cx="3810240" cy="1143000"/>
          </a:xfrm>
        </p:grpSpPr>
        <p:sp>
          <p:nvSpPr>
            <p:cNvPr id="207" name=""/>
            <p:cNvSpPr/>
            <p:nvPr/>
          </p:nvSpPr>
          <p:spPr>
            <a:xfrm>
              <a:off x="6553080" y="518148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5181480" y="563868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095880" y="57150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86400" y="4038480"/>
            <a:ext cx="3429000" cy="1067400"/>
            <a:chOff x="5486400" y="4038480"/>
            <a:chExt cx="3429000" cy="1067400"/>
          </a:xfrm>
        </p:grpSpPr>
        <p:sp>
          <p:nvSpPr>
            <p:cNvPr id="211" name=""/>
            <p:cNvSpPr/>
            <p:nvPr/>
          </p:nvSpPr>
          <p:spPr>
            <a:xfrm>
              <a:off x="6324480" y="40384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 dialog to inform the user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86400" y="4571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8-1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File menu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MenuItem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and add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JToolBar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Buttons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52520" y="228600"/>
            <a:ext cx="3657960" cy="1067400"/>
            <a:chOff x="4952520" y="228600"/>
            <a:chExt cx="3657960" cy="1067400"/>
          </a:xfrm>
        </p:grpSpPr>
        <p:sp>
          <p:nvSpPr>
            <p:cNvPr id="216" name=""/>
            <p:cNvSpPr/>
            <p:nvPr/>
          </p:nvSpPr>
          <p:spPr>
            <a:xfrm>
              <a:off x="6172200" y="2286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5409720" y="53316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952520" y="68580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038480" y="1676520"/>
            <a:ext cx="3760920" cy="580680"/>
            <a:chOff x="4038480" y="1676520"/>
            <a:chExt cx="3760920" cy="580680"/>
          </a:xfrm>
        </p:grpSpPr>
        <p:sp>
          <p:nvSpPr>
            <p:cNvPr id="220" name=""/>
            <p:cNvSpPr/>
            <p:nvPr/>
          </p:nvSpPr>
          <p:spPr>
            <a:xfrm>
              <a:off x="4903920" y="16765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038480" y="198144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733560" y="2590920"/>
            <a:ext cx="4496040" cy="1218960"/>
            <a:chOff x="3733560" y="2590920"/>
            <a:chExt cx="4496040" cy="1218960"/>
          </a:xfrm>
        </p:grpSpPr>
        <p:sp>
          <p:nvSpPr>
            <p:cNvPr id="223" name=""/>
            <p:cNvSpPr/>
            <p:nvPr/>
          </p:nvSpPr>
          <p:spPr>
            <a:xfrm>
              <a:off x="5181480" y="25909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set menu mnemonic ke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571640" y="2590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886200" y="30481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33560" y="3048120"/>
              <a:ext cx="1447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657600" y="4191120"/>
            <a:ext cx="5181480" cy="824040"/>
            <a:chOff x="3657600" y="4191120"/>
            <a:chExt cx="5181480" cy="824040"/>
          </a:xfrm>
        </p:grpSpPr>
        <p:sp>
          <p:nvSpPr>
            <p:cNvPr id="228" name=""/>
            <p:cNvSpPr/>
            <p:nvPr/>
          </p:nvSpPr>
          <p:spPr>
            <a:xfrm>
              <a:off x="4495680" y="4191120"/>
              <a:ext cx="434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6576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33560" y="5105520"/>
            <a:ext cx="4419720" cy="990360"/>
            <a:chOff x="3733560" y="5105520"/>
            <a:chExt cx="4419720" cy="990360"/>
          </a:xfrm>
        </p:grpSpPr>
        <p:sp>
          <p:nvSpPr>
            <p:cNvPr id="231" name=""/>
            <p:cNvSpPr/>
            <p:nvPr/>
          </p:nvSpPr>
          <p:spPr>
            <a:xfrm>
              <a:off x="5257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343400" y="53337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733560" y="556272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Windowing Toolkit (AW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w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Split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abbed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swing components to build applications for users with dis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3-11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8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mpl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Button.setAction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exi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x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exitAction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Buttons in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sampl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ex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buttonPanel to JFrame's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Sample samp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800240" y="304920"/>
            <a:ext cx="4267440" cy="1067400"/>
            <a:chOff x="4800240" y="304920"/>
            <a:chExt cx="4267440" cy="1067400"/>
          </a:xfrm>
        </p:grpSpPr>
        <p:sp>
          <p:nvSpPr>
            <p:cNvPr id="237" name=""/>
            <p:cNvSpPr/>
            <p:nvPr/>
          </p:nvSpPr>
          <p:spPr>
            <a:xfrm>
              <a:off x="5867280" y="3049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oc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800240" y="609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486400" y="762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0760" y="1828800"/>
            <a:ext cx="3505320" cy="337320"/>
            <a:chOff x="4190760" y="1828800"/>
            <a:chExt cx="3505320" cy="337320"/>
          </a:xfrm>
        </p:grpSpPr>
        <p:sp>
          <p:nvSpPr>
            <p:cNvPr id="241" name=""/>
            <p:cNvSpPr/>
            <p:nvPr/>
          </p:nvSpPr>
          <p:spPr>
            <a:xfrm>
              <a:off x="4876920" y="18288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333760" y="2438280"/>
            <a:ext cx="3048120" cy="824040"/>
            <a:chOff x="5333760" y="2438280"/>
            <a:chExt cx="3048120" cy="824040"/>
          </a:xfrm>
        </p:grpSpPr>
        <p:sp>
          <p:nvSpPr>
            <p:cNvPr id="244" name=""/>
            <p:cNvSpPr/>
            <p:nvPr/>
          </p:nvSpPr>
          <p:spPr>
            <a:xfrm>
              <a:off x="6019920" y="24382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33376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actionsample_a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248" name="actionsample_b" descr=""/>
          <p:cNvPicPr/>
          <p:nvPr/>
        </p:nvPicPr>
        <p:blipFill>
          <a:blip r:embed="rId2"/>
          <a:stretch/>
        </p:blipFill>
        <p:spPr>
          <a:xfrm>
            <a:off x="3886200" y="45720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249" name="actionsample_c" descr=""/>
          <p:cNvPicPr/>
          <p:nvPr/>
        </p:nvPicPr>
        <p:blipFill>
          <a:blip r:embed="rId3"/>
          <a:stretch/>
        </p:blipFill>
        <p:spPr>
          <a:xfrm>
            <a:off x="2438280" y="2133720"/>
            <a:ext cx="2390760" cy="1238040"/>
          </a:xfrm>
          <a:prstGeom prst="rect">
            <a:avLst/>
          </a:prstGeom>
          <a:ln w="0">
            <a:noFill/>
          </a:ln>
        </p:spPr>
      </p:pic>
      <p:pic>
        <p:nvPicPr>
          <p:cNvPr id="250" name="actionsample_d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251" name="actionsample_e" descr=""/>
          <p:cNvPicPr/>
          <p:nvPr/>
        </p:nvPicPr>
        <p:blipFill>
          <a:blip r:embed="rId5"/>
          <a:stretch/>
        </p:blipFill>
        <p:spPr>
          <a:xfrm>
            <a:off x="3962520" y="4114800"/>
            <a:ext cx="25714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447920" y="1336680"/>
          <a:ext cx="6095880" cy="40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36680"/>
                    <a:ext cx="609588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SplitPa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bedPa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information in a small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litP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wo components with a di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TabbedP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parate components with file-folder-style t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avorites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avoritesWebBrowser is an application for browsing Web sit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WebToolBar and WebBrowserPane and displaying an 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ge containing links to favorite Web si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split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favorites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for displaying favorite si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23920" y="5334120"/>
            <a:ext cx="3657960" cy="1067400"/>
            <a:chOff x="4723920" y="5334120"/>
            <a:chExt cx="3657960" cy="1067400"/>
          </a:xfrm>
        </p:grpSpPr>
        <p:sp>
          <p:nvSpPr>
            <p:cNvPr id="260" name=""/>
            <p:cNvSpPr/>
            <p:nvPr/>
          </p:nvSpPr>
          <p:spPr>
            <a:xfrm>
              <a:off x="5410080" y="5334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Web pages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navigat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723920" y="5867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257800" y="5791320"/>
            <a:ext cx="2590920" cy="824040"/>
            <a:chOff x="5257800" y="5791320"/>
            <a:chExt cx="2590920" cy="824040"/>
          </a:xfrm>
        </p:grpSpPr>
        <p:sp>
          <p:nvSpPr>
            <p:cNvPr id="263" name=""/>
            <p:cNvSpPr/>
            <p:nvPr/>
          </p:nvSpPr>
          <p:spPr>
            <a:xfrm>
              <a:off x="5715000" y="57913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ne to display favorites.htm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257800" y="62485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ToolBar as listen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favorites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.addHyperlinkListener( toolBar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favorites.html in favorites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.goToUR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s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plitPane with horizontal split (side-by-sid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WebBrowserPanes with JScrollPa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plitPane split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lit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lit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_SPL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avorites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 divider between WebBrowserPa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itPane.setDividerLoc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uttons for expanding/contracting div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itPane.setOneTouchExpan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splitPane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638680" y="990720"/>
            <a:ext cx="3353040" cy="1067400"/>
            <a:chOff x="5638680" y="990720"/>
            <a:chExt cx="3353040" cy="1067400"/>
          </a:xfrm>
        </p:grpSpPr>
        <p:sp>
          <p:nvSpPr>
            <p:cNvPr id="268" name=""/>
            <p:cNvSpPr/>
            <p:nvPr/>
          </p:nvSpPr>
          <p:spPr>
            <a:xfrm>
              <a:off x="6248520" y="9907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.ht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638680" y="1523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00240" y="2057400"/>
            <a:ext cx="3505680" cy="1067400"/>
            <a:chOff x="4800240" y="2057400"/>
            <a:chExt cx="3505680" cy="1067400"/>
          </a:xfrm>
        </p:grpSpPr>
        <p:sp>
          <p:nvSpPr>
            <p:cNvPr id="271" name=""/>
            <p:cNvSpPr/>
            <p:nvPr/>
          </p:nvSpPr>
          <p:spPr>
            <a:xfrm>
              <a:off x="5410080" y="205740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reate a horizontal-spli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80024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571640" y="2590920"/>
            <a:ext cx="3581640" cy="1554120"/>
            <a:chOff x="4571640" y="2590920"/>
            <a:chExt cx="3581640" cy="1554120"/>
          </a:xfrm>
        </p:grpSpPr>
        <p:sp>
          <p:nvSpPr>
            <p:cNvPr id="274" name=""/>
            <p:cNvSpPr/>
            <p:nvPr/>
          </p:nvSpPr>
          <p:spPr>
            <a:xfrm>
              <a:off x="5181480" y="2590920"/>
              <a:ext cx="29718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ividerLo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exact divider positio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57164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76560" y="3048120"/>
            <a:ext cx="3429360" cy="1797480"/>
            <a:chOff x="4876560" y="3048120"/>
            <a:chExt cx="3429360" cy="1797480"/>
          </a:xfrm>
        </p:grpSpPr>
        <p:sp>
          <p:nvSpPr>
            <p:cNvPr id="277" name=""/>
            <p:cNvSpPr/>
            <p:nvPr/>
          </p:nvSpPr>
          <p:spPr>
            <a:xfrm>
              <a:off x="5486400" y="3048120"/>
              <a:ext cx="28195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OneTouchExpand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wo buttons to the divider that enable the user to expand or collapse the divider to one side or the other with a single cli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87656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1" name="favoriteswebbrowser_a" descr=""/>
          <p:cNvPicPr/>
          <p:nvPr/>
        </p:nvPicPr>
        <p:blipFill>
          <a:blip r:embed="rId1"/>
          <a:stretch/>
        </p:blipFill>
        <p:spPr>
          <a:xfrm>
            <a:off x="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favoriteswebbrowser_b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8 Tabbed interface of Display Properties dialog box in Window 200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display_properties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3848400" cy="4267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560" y="5257800"/>
            <a:ext cx="67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bed interface of Display Properties dialog box in Windows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657600" y="76212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14800" y="7621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495680" y="7621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952880" y="7621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905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371600" y="7621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bedPane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bedPaneWebBrowser is an application that us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TabbedPane to display multiple Web brows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tabbed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abbedPane for displaying multiple browser ta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bedPane tabbed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bed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bbedPane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TabbedPane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Ta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Tabbed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abbedPan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638680" y="3352680"/>
            <a:ext cx="3200400" cy="580680"/>
            <a:chOff x="5638680" y="3352680"/>
            <a:chExt cx="3200400" cy="580680"/>
          </a:xfrm>
        </p:grpSpPr>
        <p:sp>
          <p:nvSpPr>
            <p:cNvPr id="296" name=""/>
            <p:cNvSpPr/>
            <p:nvPr/>
          </p:nvSpPr>
          <p:spPr>
            <a:xfrm>
              <a:off x="6095880" y="33526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3868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66880" y="4572000"/>
            <a:ext cx="4724640" cy="1067400"/>
            <a:chOff x="2666880" y="4572000"/>
            <a:chExt cx="4724640" cy="1067400"/>
          </a:xfrm>
        </p:grpSpPr>
        <p:sp>
          <p:nvSpPr>
            <p:cNvPr id="299" name=""/>
            <p:cNvSpPr/>
            <p:nvPr/>
          </p:nvSpPr>
          <p:spPr>
            <a:xfrm>
              <a:off x="4038480" y="457200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bbedPane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lace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66880" y="5105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19720" y="5181480"/>
            <a:ext cx="3352680" cy="824040"/>
            <a:chOff x="4419720" y="5181480"/>
            <a:chExt cx="3352680" cy="824040"/>
          </a:xfrm>
        </p:grpSpPr>
        <p:sp>
          <p:nvSpPr>
            <p:cNvPr id="302" name=""/>
            <p:cNvSpPr/>
            <p:nvPr/>
          </p:nvSpPr>
          <p:spPr>
            <a:xfrm>
              <a:off x="4876920" y="5181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bbedPane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41972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JMenu for creating new browser tab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abbedPane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NewTab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to contain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BrowserPane and WebToolBar to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Panel to JTabbed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bedPane.addTab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tabbedPane.getTabCoun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343040" y="533520"/>
            <a:ext cx="3886560" cy="1067400"/>
            <a:chOff x="4343040" y="533520"/>
            <a:chExt cx="3886560" cy="1067400"/>
          </a:xfrm>
        </p:grpSpPr>
        <p:sp>
          <p:nvSpPr>
            <p:cNvPr id="307" name=""/>
            <p:cNvSpPr/>
            <p:nvPr/>
          </p:nvSpPr>
          <p:spPr>
            <a:xfrm>
              <a:off x="5029200" y="5335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nu, and ad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343040" y="10666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428640" y="2362320"/>
            <a:ext cx="3886560" cy="824040"/>
            <a:chOff x="3428640" y="2362320"/>
            <a:chExt cx="3886560" cy="824040"/>
          </a:xfrm>
        </p:grpSpPr>
        <p:sp>
          <p:nvSpPr>
            <p:cNvPr id="310" name=""/>
            <p:cNvSpPr/>
            <p:nvPr/>
          </p:nvSpPr>
          <p:spPr>
            <a:xfrm>
              <a:off x="4114800" y="236232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s i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28640" y="2895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38320" y="3124080"/>
            <a:ext cx="3353400" cy="824040"/>
            <a:chOff x="5638320" y="3124080"/>
            <a:chExt cx="3353400" cy="824040"/>
          </a:xfrm>
        </p:grpSpPr>
        <p:sp>
          <p:nvSpPr>
            <p:cNvPr id="313" name=""/>
            <p:cNvSpPr/>
            <p:nvPr/>
          </p:nvSpPr>
          <p:spPr>
            <a:xfrm>
              <a:off x="6324480" y="3124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aying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638320" y="35053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952520" y="4266720"/>
            <a:ext cx="3962880" cy="824400"/>
            <a:chOff x="4952520" y="4266720"/>
            <a:chExt cx="3962880" cy="824400"/>
          </a:xfrm>
        </p:grpSpPr>
        <p:sp>
          <p:nvSpPr>
            <p:cNvPr id="316" name=""/>
            <p:cNvSpPr/>
            <p:nvPr/>
          </p:nvSpPr>
          <p:spPr>
            <a:xfrm>
              <a:off x="6248520" y="4267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dd them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52520" y="46483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5866920" y="426672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86400" y="4724280"/>
            <a:ext cx="3505320" cy="1797480"/>
            <a:chOff x="5486400" y="4724280"/>
            <a:chExt cx="3505320" cy="1797480"/>
          </a:xfrm>
        </p:grpSpPr>
        <p:sp>
          <p:nvSpPr>
            <p:cNvPr id="320" name=""/>
            <p:cNvSpPr/>
            <p:nvPr/>
          </p:nvSpPr>
          <p:spPr>
            <a:xfrm>
              <a:off x="6400800" y="472428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application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48640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 WebBrowser Us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EditorPa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oolBa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text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containe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1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reating new browser ta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ewTab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Browser Ta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Web Browser Ta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create new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NewTa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0" y="609480"/>
            <a:ext cx="4267080" cy="580680"/>
            <a:chOff x="4572000" y="609480"/>
            <a:chExt cx="4267080" cy="580680"/>
          </a:xfrm>
        </p:grpSpPr>
        <p:sp>
          <p:nvSpPr>
            <p:cNvPr id="325" name=""/>
            <p:cNvSpPr/>
            <p:nvPr/>
          </p:nvSpPr>
          <p:spPr>
            <a:xfrm>
              <a:off x="5562720" y="6094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Tab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0" y="6854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971800" y="2819520"/>
            <a:ext cx="4800600" cy="1067400"/>
            <a:chOff x="2971800" y="2819520"/>
            <a:chExt cx="4800600" cy="1067400"/>
          </a:xfrm>
        </p:grpSpPr>
        <p:sp>
          <p:nvSpPr>
            <p:cNvPr id="328" name=""/>
            <p:cNvSpPr/>
            <p:nvPr/>
          </p:nvSpPr>
          <p:spPr>
            <a:xfrm>
              <a:off x="3962520" y="281952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tab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971800" y="3123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343400" y="4267080"/>
            <a:ext cx="4267080" cy="580680"/>
            <a:chOff x="4343400" y="4267080"/>
            <a:chExt cx="4267080" cy="580680"/>
          </a:xfrm>
        </p:grpSpPr>
        <p:sp>
          <p:nvSpPr>
            <p:cNvPr id="331" name=""/>
            <p:cNvSpPr/>
            <p:nvPr/>
          </p:nvSpPr>
          <p:spPr>
            <a:xfrm>
              <a:off x="5334120" y="42670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4343400" y="43430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bedPane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5 Multiple-Document Interf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Docum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multiple documents in a singl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DesktopP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ternal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DI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DIWebBrowser is an application that uses J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JInternalFrames to create a multiple-document-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ication for Web brows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md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DesktopPane for multiple document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DesktopPane desktop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DI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DI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Desktop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desktopPan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81120" y="3048120"/>
            <a:ext cx="3277080" cy="824040"/>
            <a:chOff x="5181120" y="3048120"/>
            <a:chExt cx="3277080" cy="824040"/>
          </a:xfrm>
        </p:grpSpPr>
        <p:sp>
          <p:nvSpPr>
            <p:cNvPr id="340" name=""/>
            <p:cNvSpPr/>
            <p:nvPr/>
          </p:nvSpPr>
          <p:spPr>
            <a:xfrm>
              <a:off x="5867280" y="3048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a contain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181120" y="35053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95320" y="5486400"/>
            <a:ext cx="3353400" cy="580680"/>
            <a:chOff x="4495320" y="5486400"/>
            <a:chExt cx="3353400" cy="580680"/>
          </a:xfrm>
        </p:grpSpPr>
        <p:sp>
          <p:nvSpPr>
            <p:cNvPr id="343" name=""/>
            <p:cNvSpPr/>
            <p:nvPr/>
          </p:nvSpPr>
          <p:spPr>
            <a:xfrm>
              <a:off x="5181480" y="5486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5320" y="5715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JMenu for creating new window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NewWindow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InternalFrame that is resizable, closab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ximizable and iconif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InternalFrame fr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conif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BrowserPane and WebToolBar to J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frame.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038480" y="685800"/>
            <a:ext cx="4343400" cy="1371600"/>
            <a:chOff x="4038480" y="685800"/>
            <a:chExt cx="4343400" cy="1371600"/>
          </a:xfrm>
        </p:grpSpPr>
        <p:sp>
          <p:nvSpPr>
            <p:cNvPr id="348" name=""/>
            <p:cNvSpPr/>
            <p:nvPr/>
          </p:nvSpPr>
          <p:spPr>
            <a:xfrm>
              <a:off x="5029200" y="68580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the application menu.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nu includ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browser window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266720" y="1143000"/>
              <a:ext cx="76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38480" y="121932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733920" y="2286000"/>
            <a:ext cx="4647960" cy="824040"/>
            <a:chOff x="3733920" y="2286000"/>
            <a:chExt cx="4647960" cy="824040"/>
          </a:xfrm>
        </p:grpSpPr>
        <p:sp>
          <p:nvSpPr>
            <p:cNvPr id="352" name=""/>
            <p:cNvSpPr/>
            <p:nvPr/>
          </p:nvSpPr>
          <p:spPr>
            <a:xfrm>
              <a:off x="4495680" y="228600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response to the user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Windo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733920" y="274320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81280" y="3581280"/>
            <a:ext cx="4647960" cy="824040"/>
            <a:chOff x="3581280" y="3581280"/>
            <a:chExt cx="4647960" cy="824040"/>
          </a:xfrm>
        </p:grpSpPr>
        <p:sp>
          <p:nvSpPr>
            <p:cNvPr id="355" name=""/>
            <p:cNvSpPr/>
            <p:nvPr/>
          </p:nvSpPr>
          <p:spPr>
            <a:xfrm>
              <a:off x="4343040" y="3581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itle “Browser” and configure it as resizable, colsable, maximizable and iconif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581280" y="403848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876920" y="4419720"/>
            <a:ext cx="3809880" cy="824040"/>
            <a:chOff x="4876920" y="4419720"/>
            <a:chExt cx="3809880" cy="824040"/>
          </a:xfrm>
        </p:grpSpPr>
        <p:sp>
          <p:nvSpPr>
            <p:cNvPr id="358" name=""/>
            <p:cNvSpPr/>
            <p:nvPr/>
          </p:nvSpPr>
          <p:spPr>
            <a:xfrm>
              <a:off x="5638680" y="44197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and navigating Web p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876920" y="48769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562720" y="5410080"/>
            <a:ext cx="3200400" cy="1310760"/>
            <a:chOff x="5562720" y="5410080"/>
            <a:chExt cx="3200400" cy="1310760"/>
          </a:xfrm>
        </p:grpSpPr>
        <p:sp>
          <p:nvSpPr>
            <p:cNvPr id="361" name=""/>
            <p:cNvSpPr/>
            <p:nvPr/>
          </p:nvSpPr>
          <p:spPr>
            <a:xfrm>
              <a:off x="6019920" y="541008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 and 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562720" y="601956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4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InternalFrame opaque and set its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JInternalFrame to prevent it from obscuring ot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desktopPane.getAllFrames()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Location( offset, offse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InternalFrame to J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add( 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InternalFrame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reating new browser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ewWindow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SHORT_DESCRI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Web Browser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MNEMONIC_KEY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create new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581280" y="304920"/>
            <a:ext cx="5334120" cy="580680"/>
            <a:chOff x="3581280" y="304920"/>
            <a:chExt cx="5334120" cy="580680"/>
          </a:xfrm>
        </p:grpSpPr>
        <p:sp>
          <p:nvSpPr>
            <p:cNvPr id="366" name=""/>
            <p:cNvSpPr/>
            <p:nvPr/>
          </p:nvSpPr>
          <p:spPr>
            <a:xfrm>
              <a:off x="4038480" y="304920"/>
              <a:ext cx="4876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iz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ropriat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581280" y="53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95680" y="685800"/>
            <a:ext cx="4114800" cy="1067400"/>
            <a:chOff x="4495680" y="685800"/>
            <a:chExt cx="4114800" cy="1067400"/>
          </a:xfrm>
        </p:grpSpPr>
        <p:sp>
          <p:nvSpPr>
            <p:cNvPr id="369" name=""/>
            <p:cNvSpPr/>
            <p:nvPr/>
          </p:nvSpPr>
          <p:spPr>
            <a:xfrm>
              <a:off x="4952880" y="685800"/>
              <a:ext cx="36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Lo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an offset from the previous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495680" y="1219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05320" y="1600200"/>
            <a:ext cx="4572000" cy="580680"/>
            <a:chOff x="3505320" y="1600200"/>
            <a:chExt cx="4572000" cy="580680"/>
          </a:xfrm>
        </p:grpSpPr>
        <p:sp>
          <p:nvSpPr>
            <p:cNvPr id="372" name=""/>
            <p:cNvSpPr/>
            <p:nvPr/>
          </p:nvSpPr>
          <p:spPr>
            <a:xfrm>
              <a:off x="3962520" y="160020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0532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05320" y="2133720"/>
            <a:ext cx="5562360" cy="580680"/>
            <a:chOff x="3505320" y="2133720"/>
            <a:chExt cx="5562360" cy="580680"/>
          </a:xfrm>
        </p:grpSpPr>
        <p:sp>
          <p:nvSpPr>
            <p:cNvPr id="375" name=""/>
            <p:cNvSpPr/>
            <p:nvPr/>
          </p:nvSpPr>
          <p:spPr>
            <a:xfrm>
              <a:off x="3809880" y="2133720"/>
              <a:ext cx="5257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Visi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k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5053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57600" y="3200040"/>
            <a:ext cx="5029200" cy="414000"/>
            <a:chOff x="3657600" y="3200040"/>
            <a:chExt cx="5029200" cy="414000"/>
          </a:xfrm>
        </p:grpSpPr>
        <p:sp>
          <p:nvSpPr>
            <p:cNvPr id="378" name=""/>
            <p:cNvSpPr/>
            <p:nvPr/>
          </p:nvSpPr>
          <p:spPr>
            <a:xfrm>
              <a:off x="4952880" y="327672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Windo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3657600" y="32000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4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SHORT_DESCRIP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MNEMONIC_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DI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200040" y="685440"/>
            <a:ext cx="4343400" cy="414000"/>
            <a:chOff x="3200040" y="685440"/>
            <a:chExt cx="4343400" cy="414000"/>
          </a:xfrm>
        </p:grpSpPr>
        <p:sp>
          <p:nvSpPr>
            <p:cNvPr id="383" name=""/>
            <p:cNvSpPr/>
            <p:nvPr/>
          </p:nvSpPr>
          <p:spPr>
            <a:xfrm>
              <a:off x="4318920" y="762120"/>
              <a:ext cx="3224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3200040" y="685440"/>
              <a:ext cx="1118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mdiwebbrowser_a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3543480"/>
          </a:xfrm>
          <a:prstGeom prst="rect">
            <a:avLst/>
          </a:prstGeom>
          <a:ln w="0">
            <a:noFill/>
          </a:ln>
        </p:spPr>
      </p:pic>
      <p:pic>
        <p:nvPicPr>
          <p:cNvPr id="387" name="mdiwebbrowser_b" descr=""/>
          <p:cNvPicPr/>
          <p:nvPr/>
        </p:nvPicPr>
        <p:blipFill>
          <a:blip r:embed="rId2"/>
          <a:stretch/>
        </p:blipFill>
        <p:spPr>
          <a:xfrm>
            <a:off x="2895480" y="3486240"/>
            <a:ext cx="4497480" cy="33717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952880" y="2286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352320" y="457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523520" y="457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2057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on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36232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2720" y="2362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666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81680" y="30481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on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28600" y="34286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51814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828800" y="3962160"/>
            <a:ext cx="2362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685800"/>
            <a:ext cx="205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the mouse over any corner of a child window to resize the window (if resizing is allow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648320" y="1295280"/>
            <a:ext cx="3045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6 Drag and Dr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ve items around the desk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ve and copy data among applications using mouse ges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transfer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nD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nDWebBrowser is an application for viewing Web pag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 and dr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d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nD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ag-and-Drop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320" y="4572000"/>
            <a:ext cx="3810600" cy="1447920"/>
            <a:chOff x="4495320" y="4572000"/>
            <a:chExt cx="3810600" cy="1447920"/>
          </a:xfrm>
        </p:grpSpPr>
        <p:sp>
          <p:nvSpPr>
            <p:cNvPr id="408" name=""/>
            <p:cNvSpPr/>
            <p:nvPr/>
          </p:nvSpPr>
          <p:spPr>
            <a:xfrm>
              <a:off x="5257800" y="45720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onent for viewing Web pages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navigation contro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495320" y="510552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.1 Swing Text Components and HTML Rende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Tex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Fiel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single-line text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multiple lines text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rendering HTML documents and Rich Text Format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1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10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WebBrowserPane to accept drop operations,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opTargetHandler as the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.setDropTarg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( browserPa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Handler()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to handle DropTarget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( DropTargetDrop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ropped Transfer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 transferable = event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ransferable is a List of Files, accept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erable.isDataFlavorSuppor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the drop operation to copy the object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647960" y="990720"/>
            <a:ext cx="4115160" cy="824040"/>
            <a:chOff x="4647960" y="990720"/>
            <a:chExt cx="4115160" cy="824040"/>
          </a:xfrm>
        </p:grpSpPr>
        <p:sp>
          <p:nvSpPr>
            <p:cNvPr id="413" name=""/>
            <p:cNvSpPr/>
            <p:nvPr/>
          </p:nvSpPr>
          <p:spPr>
            <a:xfrm>
              <a:off x="5638680" y="99072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7960" y="9907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724280" y="1447920"/>
            <a:ext cx="4267440" cy="1218960"/>
            <a:chOff x="4724280" y="1447920"/>
            <a:chExt cx="4267440" cy="1218960"/>
          </a:xfrm>
        </p:grpSpPr>
        <p:sp>
          <p:nvSpPr>
            <p:cNvPr id="416" name=""/>
            <p:cNvSpPr/>
            <p:nvPr/>
          </p:nvSpPr>
          <p:spPr>
            <a:xfrm>
              <a:off x="5181480" y="144792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drag-and-drop operation events related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724280" y="20574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333760" y="2057400"/>
            <a:ext cx="3276360" cy="1219320"/>
            <a:chOff x="5333760" y="2057400"/>
            <a:chExt cx="3276360" cy="1219320"/>
          </a:xfrm>
        </p:grpSpPr>
        <p:sp>
          <p:nvSpPr>
            <p:cNvPr id="419" name=""/>
            <p:cNvSpPr/>
            <p:nvPr/>
          </p:nvSpPr>
          <p:spPr>
            <a:xfrm>
              <a:off x="5790960" y="20574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rop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 when the user drops an object o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333760" y="266724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486400" y="2514600"/>
            <a:ext cx="3276720" cy="1310760"/>
            <a:chOff x="5486400" y="2514600"/>
            <a:chExt cx="3276720" cy="1310760"/>
          </a:xfrm>
        </p:grpSpPr>
        <p:sp>
          <p:nvSpPr>
            <p:cNvPr id="422" name=""/>
            <p:cNvSpPr/>
            <p:nvPr/>
          </p:nvSpPr>
          <p:spPr>
            <a:xfrm>
              <a:off x="5943600" y="2514600"/>
              <a:ext cx="2819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86400" y="31244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181480" y="3200400"/>
            <a:ext cx="3581640" cy="1310760"/>
            <a:chOff x="5181480" y="3200400"/>
            <a:chExt cx="3581640" cy="1310760"/>
          </a:xfrm>
        </p:grpSpPr>
        <p:sp>
          <p:nvSpPr>
            <p:cNvPr id="425" name=""/>
            <p:cNvSpPr/>
            <p:nvPr/>
          </p:nvSpPr>
          <p:spPr>
            <a:xfrm>
              <a:off x="5638680" y="320040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DataFlavorSuppor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the type of data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conta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81480" y="3809880"/>
              <a:ext cx="457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3886200"/>
            <a:ext cx="3048120" cy="1554120"/>
            <a:chOff x="5867280" y="3886200"/>
            <a:chExt cx="3048120" cy="1554120"/>
          </a:xfrm>
        </p:grpSpPr>
        <p:sp>
          <p:nvSpPr>
            <p:cNvPr id="428" name=""/>
            <p:cNvSpPr/>
            <p:nvPr/>
          </p:nvSpPr>
          <p:spPr>
            <a:xfrm>
              <a:off x="6324480" y="388620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drop operation is allowed for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867280" y="4648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6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ocess list of files and display each in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List of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util.List file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java.util.List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 iterator = file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file = ( Fil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File in browser and complete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rowserPane.goToURL( file.toUR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ndicate successful drop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ading Transferabl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343040" y="152280"/>
            <a:ext cx="4724640" cy="990720"/>
            <a:chOff x="4343040" y="152280"/>
            <a:chExt cx="4724640" cy="990720"/>
          </a:xfrm>
        </p:grpSpPr>
        <p:sp>
          <p:nvSpPr>
            <p:cNvPr id="433" name=""/>
            <p:cNvSpPr/>
            <p:nvPr/>
          </p:nvSpPr>
          <p:spPr>
            <a:xfrm>
              <a:off x="4572000" y="152280"/>
              <a:ext cx="44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343040" y="6094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800600" y="1371600"/>
            <a:ext cx="3581280" cy="838080"/>
            <a:chOff x="4800600" y="1371600"/>
            <a:chExt cx="3581280" cy="838080"/>
          </a:xfrm>
        </p:grpSpPr>
        <p:sp>
          <p:nvSpPr>
            <p:cNvPr id="436" name=""/>
            <p:cNvSpPr/>
            <p:nvPr/>
          </p:nvSpPr>
          <p:spPr>
            <a:xfrm>
              <a:off x="5181480" y="13716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e List of Files, displaying each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800600" y="17524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495680" y="2438280"/>
            <a:ext cx="4267440" cy="1218960"/>
            <a:chOff x="4495680" y="2438280"/>
            <a:chExt cx="4267440" cy="1218960"/>
          </a:xfrm>
        </p:grpSpPr>
        <p:sp>
          <p:nvSpPr>
            <p:cNvPr id="439" name=""/>
            <p:cNvSpPr/>
            <p:nvPr/>
          </p:nvSpPr>
          <p:spPr>
            <a:xfrm>
              <a:off x="4952880" y="243828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Comp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true argument to indicate that the drag-and-drop operation was successf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495680" y="30477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3-1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0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ropped object is not file list, reject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rag operation entering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opTargetDrag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ata is javaFileListFlavor, accept drag for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isDataFlavorSuppor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ag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ject all other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ag(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when drag operation exits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opTargetEvent event ) {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when drag operation occurs over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if dropAction changes (e.g., from COPY to LINK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opTargetDrag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ropTarget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333760" y="152280"/>
            <a:ext cx="3657960" cy="1219320"/>
            <a:chOff x="5333760" y="152280"/>
            <a:chExt cx="3657960" cy="1219320"/>
          </a:xfrm>
        </p:grpSpPr>
        <p:sp>
          <p:nvSpPr>
            <p:cNvPr id="444" name=""/>
            <p:cNvSpPr/>
            <p:nvPr/>
          </p:nvSpPr>
          <p:spPr>
            <a:xfrm>
              <a:off x="5943600" y="15228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a drag-and-drop operation enter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333760" y="685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648320" y="1295280"/>
            <a:ext cx="3962160" cy="762120"/>
            <a:chOff x="4648320" y="1295280"/>
            <a:chExt cx="3962160" cy="762120"/>
          </a:xfrm>
        </p:grpSpPr>
        <p:sp>
          <p:nvSpPr>
            <p:cNvPr id="447" name=""/>
            <p:cNvSpPr/>
            <p:nvPr/>
          </p:nvSpPr>
          <p:spPr>
            <a:xfrm>
              <a:off x="5486400" y="1295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uppor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105160" y="1219320"/>
            <a:ext cx="3657960" cy="1310760"/>
            <a:chOff x="5105160" y="1219320"/>
            <a:chExt cx="3657960" cy="1310760"/>
          </a:xfrm>
        </p:grpSpPr>
        <p:sp>
          <p:nvSpPr>
            <p:cNvPr id="450" name=""/>
            <p:cNvSpPr/>
            <p:nvPr/>
          </p:nvSpPr>
          <p:spPr>
            <a:xfrm>
              <a:off x="5715000" y="121932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ag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105160" y="1752480"/>
              <a:ext cx="6094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504960" y="2057400"/>
            <a:ext cx="4115160" cy="1219320"/>
            <a:chOff x="3504960" y="2057400"/>
            <a:chExt cx="4115160" cy="1219320"/>
          </a:xfrm>
        </p:grpSpPr>
        <p:sp>
          <p:nvSpPr>
            <p:cNvPr id="453" name=""/>
            <p:cNvSpPr/>
            <p:nvPr/>
          </p:nvSpPr>
          <p:spPr>
            <a:xfrm>
              <a:off x="4114800" y="20574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jec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ag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allow this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504960" y="25909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nD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7" name="dnd_a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600720" cy="1990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0880" y="3124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3352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dnd_c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462" name="dnd_b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800600" y="6858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 cursor dragg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4191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152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05320" y="3808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285640" y="1066680"/>
            <a:ext cx="2514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320" y="3733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BrowserPa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play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7 Internation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entities that present in a particular country or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ourceBound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od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local-sensitive classes to forma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tionalized WebToolBar with components for navig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.MyAbstra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ur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WebBrowserPane browser, Locale loca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esource bundle for internationalized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ourceBundle resources = ResourceBundle.getBund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AndLabe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562720" y="3352680"/>
            <a:ext cx="2743200" cy="2286000"/>
            <a:chOff x="5562720" y="3352680"/>
            <a:chExt cx="2743200" cy="2286000"/>
          </a:xfrm>
        </p:grpSpPr>
        <p:sp>
          <p:nvSpPr>
            <p:cNvPr id="474" name=""/>
            <p:cNvSpPr/>
            <p:nvPr/>
          </p:nvSpPr>
          <p:spPr>
            <a:xfrm>
              <a:off x="5562720" y="335268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sAndLabe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Loca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019560" y="46483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419720" y="4343400"/>
            <a:ext cx="4572000" cy="1752480"/>
            <a:chOff x="4419720" y="4343400"/>
            <a:chExt cx="4572000" cy="1752480"/>
          </a:xfrm>
        </p:grpSpPr>
        <p:sp>
          <p:nvSpPr>
            <p:cNvPr id="477" name=""/>
            <p:cNvSpPr/>
            <p:nvPr/>
          </p:nvSpPr>
          <p:spPr>
            <a:xfrm>
              <a:off x="5257800" y="4343400"/>
              <a:ext cx="3733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ing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name to the retrieved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419720" y="525780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= 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.addHyperlink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UR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webBrowser to user-entere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to load URL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url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invali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7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7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1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ackAction and configure its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AbstractAction back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to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 url = webBrowserPane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Action.setSmall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Action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Tool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wardAction and configure its propertie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AbstractAction forwar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to next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 url = webBrowserPane.forw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new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33760" y="609480"/>
            <a:ext cx="3657960" cy="824040"/>
            <a:chOff x="5333760" y="609480"/>
            <a:chExt cx="3657960" cy="824040"/>
          </a:xfrm>
        </p:grpSpPr>
        <p:sp>
          <p:nvSpPr>
            <p:cNvPr id="484" name=""/>
            <p:cNvSpPr/>
            <p:nvPr/>
          </p:nvSpPr>
          <p:spPr>
            <a:xfrm>
              <a:off x="6019920" y="60948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5333760" y="6858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800240" y="2057400"/>
            <a:ext cx="3810240" cy="685800"/>
            <a:chOff x="4800240" y="2057400"/>
            <a:chExt cx="3810240" cy="685800"/>
          </a:xfrm>
        </p:grpSpPr>
        <p:sp>
          <p:nvSpPr>
            <p:cNvPr id="487" name=""/>
            <p:cNvSpPr/>
            <p:nvPr/>
          </p:nvSpPr>
          <p:spPr>
            <a:xfrm>
              <a:off x="5486400" y="20574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800240" y="22096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267080" y="2514600"/>
            <a:ext cx="3657600" cy="838080"/>
            <a:chOff x="4267080" y="2514600"/>
            <a:chExt cx="3657600" cy="838080"/>
          </a:xfrm>
        </p:grpSpPr>
        <p:sp>
          <p:nvSpPr>
            <p:cNvPr id="490" name=""/>
            <p:cNvSpPr/>
            <p:nvPr/>
          </p:nvSpPr>
          <p:spPr>
            <a:xfrm>
              <a:off x="5181480" y="2514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internationalized tooltip text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267080" y="28954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95320" y="3886200"/>
            <a:ext cx="4496400" cy="824040"/>
            <a:chOff x="4495320" y="3886200"/>
            <a:chExt cx="4496400" cy="824040"/>
          </a:xfrm>
        </p:grpSpPr>
        <p:sp>
          <p:nvSpPr>
            <p:cNvPr id="493" name=""/>
            <p:cNvSpPr/>
            <p:nvPr/>
          </p:nvSpPr>
          <p:spPr>
            <a:xfrm>
              <a:off x="5638680" y="388620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495320" y="41144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Action.setSmall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forwar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Action.setShortDescri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Tool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s and JTextField to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ck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forwar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ur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HyperlinkEvents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Update( Hyperlink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hyperlink was activated, go to hyperlink'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Event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yperlinkEvent.EventTy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VA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RL from Hyperlink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event.getUR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vigate to URL and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bBrowserPane.goToURL( event.getUR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320" y="228240"/>
            <a:ext cx="68580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Pan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Pane is a simple Web-browsing component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tends JEditorPane and maintains a history of visited UR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his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story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Pan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to enable hyperlin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given URL and add it to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ToURL( URL 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.add( ur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 = history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680" y="1981080"/>
            <a:ext cx="3276720" cy="685800"/>
            <a:chOff x="4495680" y="1981080"/>
            <a:chExt cx="3276720" cy="685800"/>
          </a:xfrm>
        </p:grpSpPr>
        <p:sp>
          <p:nvSpPr>
            <p:cNvPr id="98" name=""/>
            <p:cNvSpPr/>
            <p:nvPr/>
          </p:nvSpPr>
          <p:spPr>
            <a:xfrm>
              <a:off x="556272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Edito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nder HTML 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95680" y="22860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76360" y="4267080"/>
            <a:ext cx="3733920" cy="337320"/>
            <a:chOff x="3276360" y="4267080"/>
            <a:chExt cx="3733920" cy="337320"/>
          </a:xfrm>
        </p:grpSpPr>
        <p:sp>
          <p:nvSpPr>
            <p:cNvPr id="101" name=""/>
            <p:cNvSpPr/>
            <p:nvPr/>
          </p:nvSpPr>
          <p:spPr>
            <a:xfrm>
              <a:off x="5181480" y="42670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 text edi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276360" y="44197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3 MyAbstractAction AbstractAction subclass that provides set methods for Action propert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6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Abstract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AbstractAction is an AbstractAction subclass that provi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ethods for Action properties (e.g., name, icon, etc.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MyAbstractAction with given name,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 String name, Icon ic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, Integer mnemon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mallIcon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hortDescription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257800" y="2666880"/>
            <a:ext cx="3657600" cy="1067400"/>
            <a:chOff x="5257800" y="2666880"/>
            <a:chExt cx="3657600" cy="1067400"/>
          </a:xfrm>
        </p:grpSpPr>
        <p:sp>
          <p:nvSpPr>
            <p:cNvPr id="500" name=""/>
            <p:cNvSpPr/>
            <p:nvPr/>
          </p:nvSpPr>
          <p:spPr>
            <a:xfrm>
              <a:off x="6172200" y="266688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the nam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scription and mnemonic ke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257800" y="304776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581280" y="3733920"/>
            <a:ext cx="3505320" cy="838080"/>
            <a:chOff x="3581280" y="3733920"/>
            <a:chExt cx="3505320" cy="838080"/>
          </a:xfrm>
        </p:grpSpPr>
        <p:sp>
          <p:nvSpPr>
            <p:cNvPr id="503" name=""/>
            <p:cNvSpPr/>
            <p:nvPr/>
          </p:nvSpPr>
          <p:spPr>
            <a:xfrm>
              <a:off x="4495680" y="37339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the appropriate set methods to configu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given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581280" y="4114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3 MyAbstractAction AbstractAction subclass that provides set methods for Action properti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mallIcon( Icon ic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short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ortDescription( String descri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nemonic( Integer mnemon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actionPerformed method to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concrete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4 WebBrowse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 is an application for browsing Web sit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ToolBar and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ourceBundle resourc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 Locale lo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ources = ResourceBundle.getBund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AndLabe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114800" y="4038480"/>
            <a:ext cx="3885840" cy="838080"/>
            <a:chOff x="4114800" y="4038480"/>
            <a:chExt cx="3885840" cy="838080"/>
          </a:xfrm>
        </p:grpSpPr>
        <p:sp>
          <p:nvSpPr>
            <p:cNvPr id="510" name=""/>
            <p:cNvSpPr/>
            <p:nvPr/>
          </p:nvSpPr>
          <p:spPr>
            <a:xfrm>
              <a:off x="5086080" y="4038480"/>
              <a:ext cx="2914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n argum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hich the application should be localiz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14800" y="4419360"/>
              <a:ext cx="971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724280" y="4267080"/>
            <a:ext cx="4267440" cy="1067400"/>
            <a:chOff x="4724280" y="4267080"/>
            <a:chExt cx="4267440" cy="1067400"/>
          </a:xfrm>
        </p:grpSpPr>
        <p:sp>
          <p:nvSpPr>
            <p:cNvPr id="513" name=""/>
            <p:cNvSpPr/>
            <p:nvPr/>
          </p:nvSpPr>
          <p:spPr>
            <a:xfrm>
              <a:off x="5638680" y="426708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appropriate internationalized str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724280" y="48769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4876920"/>
            <a:ext cx="3810240" cy="1067400"/>
            <a:chOff x="5181480" y="4876920"/>
            <a:chExt cx="3810240" cy="1067400"/>
          </a:xfrm>
        </p:grpSpPr>
        <p:sp>
          <p:nvSpPr>
            <p:cNvPr id="516" name=""/>
            <p:cNvSpPr/>
            <p:nvPr/>
          </p:nvSpPr>
          <p:spPr>
            <a:xfrm>
              <a:off x="5791320" y="48769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lication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181480" y="5486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4 WebBrowse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owserLaunc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owserLauncher provides a list of Locales and launches a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tionalized WebBrowser for the selected Loca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ComboBox for selecting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locale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rowserLaunc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 Launc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ComboBox and add Loc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ited States, Engli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ance, Fren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ussia, Russ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5029200"/>
            <a:ext cx="3200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Combo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dd sample Locale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Combo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266720" y="4800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57200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new WebBrowser when Locale selection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StateChange() == Item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L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aunchBrowser( ( Loca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localeComboBox.getSelectedIte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Loca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localeComboBox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new WebBrowser for given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unchBrowser( Locale lo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ISPOSE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723920" y="1599840"/>
            <a:ext cx="4286880" cy="1311120"/>
            <a:chOff x="4723920" y="1599840"/>
            <a:chExt cx="4286880" cy="1311120"/>
          </a:xfrm>
        </p:grpSpPr>
        <p:sp>
          <p:nvSpPr>
            <p:cNvPr id="528" name=""/>
            <p:cNvSpPr/>
            <p:nvPr/>
          </p:nvSpPr>
          <p:spPr>
            <a:xfrm>
              <a:off x="5943600" y="1600200"/>
              <a:ext cx="3067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unch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owserLaun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aunch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selects a Local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4723920" y="159984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876920" y="3276720"/>
            <a:ext cx="3885840" cy="1067400"/>
            <a:chOff x="4876920" y="3276720"/>
            <a:chExt cx="3885840" cy="1067400"/>
          </a:xfrm>
        </p:grpSpPr>
        <p:sp>
          <p:nvSpPr>
            <p:cNvPr id="531" name=""/>
            <p:cNvSpPr/>
            <p:nvPr/>
          </p:nvSpPr>
          <p:spPr>
            <a:xfrm>
              <a:off x="5848200" y="3276720"/>
              <a:ext cx="291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unch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t its size and display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876920" y="3657240"/>
              <a:ext cx="971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Launcher launc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5" name="i18n_a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i18n_b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i18n_c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39" name="i18n_d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60962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6 Properties file for default Locale (US English) – StringsAndLabels.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English language strings for internationalized Web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applicatio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ication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itel Web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itle for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Bar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b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forward toolba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x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evious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7 Properties file for French Locale – StringsAndLabels_fr_FR.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French language strings for internationalized Web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ge pr\u00E9c\u00E9den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applicatio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ication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giciel de Navigation de Deit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itle for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Bar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vigation des Pages sur la To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forward toolba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ochain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-44 and 59-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xt history URL in 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 forw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go past end of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istoryIndex &gt;= history.size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Index = history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( URL ) history.get( history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revious history URL in 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 bac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go past beginning of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istoryInde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Inde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( URL ) history.get( history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given URL in J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Page( URL p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00400" y="2133720"/>
            <a:ext cx="4724280" cy="3047760"/>
            <a:chOff x="3200400" y="2133720"/>
            <a:chExt cx="4724280" cy="3047760"/>
          </a:xfrm>
        </p:grpSpPr>
        <p:sp>
          <p:nvSpPr>
            <p:cNvPr id="106" name=""/>
            <p:cNvSpPr/>
            <p:nvPr/>
          </p:nvSpPr>
          <p:spPr>
            <a:xfrm>
              <a:off x="5029200" y="21337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URL from the histo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isplay the URL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200400" y="2223720"/>
              <a:ext cx="182880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181120" y="2971800"/>
              <a:ext cx="9651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52680" y="3657600"/>
            <a:ext cx="4114800" cy="685800"/>
            <a:chOff x="3352680" y="3657600"/>
            <a:chExt cx="4114800" cy="685800"/>
          </a:xfrm>
        </p:grpSpPr>
        <p:sp>
          <p:nvSpPr>
            <p:cNvPr id="110" name=""/>
            <p:cNvSpPr/>
            <p:nvPr/>
          </p:nvSpPr>
          <p:spPr>
            <a:xfrm>
              <a:off x="5178600" y="3657600"/>
              <a:ext cx="2288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istoryInde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fall below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52680" y="403848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8 Accessib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accessible to people with dis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ccessibility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ltip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ptive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2 demonstrates the Accessibility featur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ng compon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accessibil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ng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mple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ample2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Ac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 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ption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ampleAction was invok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723920" y="3886200"/>
            <a:ext cx="3677040" cy="1067400"/>
            <a:chOff x="4723920" y="3886200"/>
            <a:chExt cx="3677040" cy="1067400"/>
          </a:xfrm>
        </p:grpSpPr>
        <p:sp>
          <p:nvSpPr>
            <p:cNvPr id="549" name=""/>
            <p:cNvSpPr/>
            <p:nvPr/>
          </p:nvSpPr>
          <p:spPr>
            <a:xfrm>
              <a:off x="5715000" y="3886200"/>
              <a:ext cx="2685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accessible text in the dialog box that open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i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723920" y="4495680"/>
              <a:ext cx="971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ccessibleContext for action and se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essibleContext action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ti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Context.setAccessible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 opens a dialog box to demonstr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he Action clas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and display dialog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.createDialog( ActionSample2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lp2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800600" y="0"/>
            <a:ext cx="4343400" cy="1067400"/>
            <a:chOff x="4800600" y="0"/>
            <a:chExt cx="4343400" cy="1067400"/>
          </a:xfrm>
        </p:grpSpPr>
        <p:sp>
          <p:nvSpPr>
            <p:cNvPr id="554" name=""/>
            <p:cNvSpPr/>
            <p:nvPr/>
          </p:nvSpPr>
          <p:spPr>
            <a:xfrm>
              <a:off x="5334120" y="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by call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800600" y="53352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248520" y="1143000"/>
            <a:ext cx="2743200" cy="732960"/>
            <a:chOff x="6248520" y="1143000"/>
            <a:chExt cx="2743200" cy="732960"/>
          </a:xfrm>
        </p:grpSpPr>
        <p:sp>
          <p:nvSpPr>
            <p:cNvPr id="557" name=""/>
            <p:cNvSpPr/>
            <p:nvPr/>
          </p:nvSpPr>
          <p:spPr>
            <a:xfrm>
              <a:off x="6629400" y="1295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ction’s nam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248520" y="1143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648320" y="1523880"/>
            <a:ext cx="4038480" cy="1067400"/>
            <a:chOff x="4648320" y="1523880"/>
            <a:chExt cx="4038480" cy="1067400"/>
          </a:xfrm>
        </p:grpSpPr>
        <p:sp>
          <p:nvSpPr>
            <p:cNvPr id="560" name=""/>
            <p:cNvSpPr/>
            <p:nvPr/>
          </p:nvSpPr>
          <p:spPr>
            <a:xfrm>
              <a:off x="5486400" y="15238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Accessible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638680" y="4114800"/>
            <a:ext cx="2590920" cy="914400"/>
            <a:chOff x="5638680" y="4114800"/>
            <a:chExt cx="2590920" cy="914400"/>
          </a:xfrm>
        </p:grpSpPr>
        <p:sp>
          <p:nvSpPr>
            <p:cNvPr id="563" name=""/>
            <p:cNvSpPr/>
            <p:nvPr/>
          </p:nvSpPr>
          <p:spPr>
            <a:xfrm>
              <a:off x="6477120" y="41148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short description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38680" y="4572000"/>
              <a:ext cx="819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9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exitAc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 exi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ption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exitAction was invok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ccessibleContext for exit and set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essibleContext exit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pens a dialog box to demonstrate t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ction class and then exits the progra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and display dialog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.createDialog( ActionSample2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xi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571640" y="228600"/>
            <a:ext cx="4210560" cy="1067400"/>
            <a:chOff x="4571640" y="228600"/>
            <a:chExt cx="4210560" cy="1067400"/>
          </a:xfrm>
        </p:grpSpPr>
        <p:sp>
          <p:nvSpPr>
            <p:cNvPr id="568" name=""/>
            <p:cNvSpPr/>
            <p:nvPr/>
          </p:nvSpPr>
          <p:spPr>
            <a:xfrm>
              <a:off x="6095880" y="228600"/>
              <a:ext cx="2686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accessible text in the dialog box that open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i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571640" y="53316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3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File menu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MenuItem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and add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JToolBar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Buttons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724280" y="2438280"/>
            <a:ext cx="4191120" cy="1067400"/>
            <a:chOff x="4724280" y="2438280"/>
            <a:chExt cx="4191120" cy="1067400"/>
          </a:xfrm>
        </p:grpSpPr>
        <p:sp>
          <p:nvSpPr>
            <p:cNvPr id="573" name=""/>
            <p:cNvSpPr/>
            <p:nvPr/>
          </p:nvSpPr>
          <p:spPr>
            <a:xfrm>
              <a:off x="5562720" y="243828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set mnemonic ke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24280" y="2895480"/>
              <a:ext cx="819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7-1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0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toolBar and set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tool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 contain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ampleAction button and exitAction butto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mpl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Button.setAction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sampleButton and set nam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sample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mpleButt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oduces a sampleAction 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exi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x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exitButton and set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exit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itButt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Butt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oduces an exitAction 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Buttons in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sampl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ex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267080" y="228600"/>
            <a:ext cx="3810240" cy="609480"/>
            <a:chOff x="4267080" y="228600"/>
            <a:chExt cx="3810240" cy="609480"/>
          </a:xfrm>
        </p:grpSpPr>
        <p:sp>
          <p:nvSpPr>
            <p:cNvPr id="578" name=""/>
            <p:cNvSpPr/>
            <p:nvPr/>
          </p:nvSpPr>
          <p:spPr>
            <a:xfrm>
              <a:off x="4876920" y="228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267080" y="533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181120" y="762120"/>
            <a:ext cx="3048480" cy="580680"/>
            <a:chOff x="5181120" y="762120"/>
            <a:chExt cx="3048480" cy="580680"/>
          </a:xfrm>
        </p:grpSpPr>
        <p:sp>
          <p:nvSpPr>
            <p:cNvPr id="581" name=""/>
            <p:cNvSpPr/>
            <p:nvPr/>
          </p:nvSpPr>
          <p:spPr>
            <a:xfrm>
              <a:off x="5867280" y="7621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toolbar’s nam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181120" y="1066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648320" y="1523880"/>
            <a:ext cx="4038480" cy="1067400"/>
            <a:chOff x="4648320" y="1523880"/>
            <a:chExt cx="4038480" cy="1067400"/>
          </a:xfrm>
        </p:grpSpPr>
        <p:sp>
          <p:nvSpPr>
            <p:cNvPr id="584" name=""/>
            <p:cNvSpPr/>
            <p:nvPr/>
          </p:nvSpPr>
          <p:spPr>
            <a:xfrm>
              <a:off x="5486400" y="15238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Accessible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oobar’s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buttonPanel to JFrame's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Sample2 samp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9 Actions sampleAction and exitAction of ActionSample2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access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590" name="access2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591" name="access3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592" name="access4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593" name="access5" descr=""/>
          <p:cNvPicPr/>
          <p:nvPr/>
        </p:nvPicPr>
        <p:blipFill>
          <a:blip r:embed="rId5"/>
          <a:stretch/>
        </p:blipFill>
        <p:spPr>
          <a:xfrm>
            <a:off x="2590920" y="3581280"/>
            <a:ext cx="2390760" cy="12384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95520" y="5416560"/>
            <a:ext cx="69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ple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amp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0 AccessibleDescription of sampleButt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access6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2390760" cy="1238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227240" y="526428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ssibleDescri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ple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733920" y="1600200"/>
            <a:ext cx="2743200" cy="2362320"/>
            <a:chOff x="3733920" y="1600200"/>
            <a:chExt cx="2743200" cy="2362320"/>
          </a:xfrm>
        </p:grpSpPr>
        <p:sp>
          <p:nvSpPr>
            <p:cNvPr id="599" name=""/>
            <p:cNvSpPr/>
            <p:nvPr/>
          </p:nvSpPr>
          <p:spPr>
            <a:xfrm>
              <a:off x="4495680" y="16002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mpleButton produces a sampleActio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733920" y="2438280"/>
              <a:ext cx="8380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1 AccessibleDesceiption of exitButt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access7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390760" cy="1238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12680" y="5035680"/>
            <a:ext cx="51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ssibleDescri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962520" y="1676520"/>
            <a:ext cx="2209680" cy="1981080"/>
            <a:chOff x="3962520" y="1676520"/>
            <a:chExt cx="2209680" cy="1981080"/>
          </a:xfrm>
        </p:grpSpPr>
        <p:sp>
          <p:nvSpPr>
            <p:cNvPr id="605" name=""/>
            <p:cNvSpPr/>
            <p:nvPr/>
          </p:nvSpPr>
          <p:spPr>
            <a:xfrm>
              <a:off x="3962520" y="1676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ExitButton produces an exitActio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800600" y="22860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Page( p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rom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76720" y="304920"/>
            <a:ext cx="3581280" cy="824040"/>
            <a:chOff x="3276720" y="304920"/>
            <a:chExt cx="3581280" cy="824040"/>
          </a:xfrm>
        </p:grpSpPr>
        <p:sp>
          <p:nvSpPr>
            <p:cNvPr id="115" name=""/>
            <p:cNvSpPr/>
            <p:nvPr/>
          </p:nvSpPr>
          <p:spPr>
            <a:xfrm>
              <a:off x="4191120" y="304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Edito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the page referen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276720" y="685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 descri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access8" descr=""/>
          <p:cNvPicPr/>
          <p:nvPr/>
        </p:nvPicPr>
        <p:blipFill>
          <a:blip r:embed="rId1"/>
          <a:stretch/>
        </p:blipFill>
        <p:spPr>
          <a:xfrm>
            <a:off x="3376440" y="2809800"/>
            <a:ext cx="2391120" cy="12384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838160" y="4883040"/>
            <a:ext cx="44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91120" y="1828800"/>
            <a:ext cx="1752480" cy="1295280"/>
            <a:chOff x="4191120" y="1828800"/>
            <a:chExt cx="1752480" cy="1295280"/>
          </a:xfrm>
        </p:grpSpPr>
        <p:sp>
          <p:nvSpPr>
            <p:cNvPr id="611" name=""/>
            <p:cNvSpPr/>
            <p:nvPr/>
          </p:nvSpPr>
          <p:spPr>
            <a:xfrm>
              <a:off x="4191120" y="1828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mple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343040" y="2133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menu item descri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access9" descr=""/>
          <p:cNvPicPr/>
          <p:nvPr/>
        </p:nvPicPr>
        <p:blipFill>
          <a:blip r:embed="rId1"/>
          <a:stretch/>
        </p:blipFill>
        <p:spPr>
          <a:xfrm>
            <a:off x="3376440" y="2809800"/>
            <a:ext cx="2391120" cy="1238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217240" y="510552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menu item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648320" y="1905120"/>
            <a:ext cx="609480" cy="914400"/>
            <a:chOff x="4648320" y="1905120"/>
            <a:chExt cx="609480" cy="914400"/>
          </a:xfrm>
        </p:grpSpPr>
        <p:sp>
          <p:nvSpPr>
            <p:cNvPr id="617" name=""/>
            <p:cNvSpPr/>
            <p:nvPr/>
          </p:nvSpPr>
          <p:spPr>
            <a:xfrm>
              <a:off x="4648320" y="1905120"/>
              <a:ext cx="609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648320" y="2209680"/>
              <a:ext cx="304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.2 Swing Toolba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bar – GUI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tt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toolbars with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 Toolbars for navigating the Web in Internet Explorer and Mozill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etoolbar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mozillatoolbar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4591080" cy="312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0840" y="6400800"/>
            <a:ext cx="64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s for navigating the Web in Internet Explorer and Mozi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37160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 but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200400" y="53316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666880" y="53316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209680" y="53316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1981080"/>
            <a:ext cx="228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198108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5335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495680" y="4568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914400"/>
            <a:ext cx="9903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3T19:39:30Z</dcterms:modified>
  <cp:revision>117</cp:revision>
  <dc:subject/>
  <dc:title>PowerPoint Presentation</dc:title>
</cp:coreProperties>
</file>