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7ECB-177C-440A-8450-01E96C72C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427C-81A0-4F89-B0D2-BB2087510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61A1-42AF-43DB-8E53-AD277F2A1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DF09-C45C-4A93-816A-D088D6688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E909C-5382-4A4A-96E3-641D2FD4FA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6A189-EBC9-4E14-9703-949A5B709E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7C2EE-01CB-45EB-BE2F-E108556F4A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C8DC8-7ABA-4587-9318-38086ABFF8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671AB-6361-4DEE-ACF9-5E04CAD67D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1F7A-45B4-4C9B-B794-16F8E456B5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E8FE3-C4C4-4389-8EC9-392EC57E04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EC72-6487-496A-B110-11C3B7D18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09D8-1610-4655-B3D5-92979B53C4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E81D9-A1FD-472F-90A5-FFC18581D2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D279A-22E2-482D-9943-ACED8962AD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AE146-0B3D-4BC3-B266-5041D74868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1E43-F77F-40D2-A158-AAAC3DEC3F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C93D-73F0-4310-9FDC-D67F20145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CC70-15FC-4C8D-8259-106C6A7E0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28C4-665E-44E3-B332-35CA070CC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E1FC-A706-45B4-B0B3-29C39A43D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AC63-41E7-4E4F-A384-C5FB2B4CA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7FEE-BE46-4776-B13D-6C00EB542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36D0-4CB6-4CDF-9A99-DF115DBBB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7578-4A71-4B71-B1FB-E91E834FB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42B4-7B87-40F1-A765-E6BF949EA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26: Common Object Request Broker Architecture(CORBA): Part 1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ep-by-Step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irst Exampl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ystemClock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ystemClock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.id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ystemClockImpl.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3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ystemClockClient.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3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unning the Exampl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chnical/Architectural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RBA Basic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larmClock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larmClock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.id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larmClockImpl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.jav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6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larmClockClien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.jav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istributed Exce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3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ystemClock.id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declared in IDL file is publ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IDL compiler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dl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mpil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ystemclock.id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comm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dlj –td c:\src –pkgPrefix clock com.deitel.advjhtp1.idl –fall systemclock.id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following fi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lock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lockOperations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SystemClockImplBas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 Java interface generated b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dlj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1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743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idl.clo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com/deitel/jhtp4/idl/clock/SystemClock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Generated by the IDL-to-Java compiler (portable), version "3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from systemclock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Wednesday, February 28, 2001 8:24:01 PM P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/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Operations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rg.omg.CORBA.Object, org.omg.CORBA.portable.IDLE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nterface SystemClo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52280" y="2438280"/>
            <a:ext cx="3581640" cy="1495080"/>
            <a:chOff x="152280" y="2438280"/>
            <a:chExt cx="3581640" cy="1495080"/>
          </a:xfrm>
        </p:grpSpPr>
        <p:sp>
          <p:nvSpPr>
            <p:cNvPr id="131" name=""/>
            <p:cNvSpPr/>
            <p:nvPr/>
          </p:nvSpPr>
          <p:spPr>
            <a:xfrm>
              <a:off x="152280" y="335268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RBA-defined types from which all CORBA-enabled objects inher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1447920" y="2438280"/>
              <a:ext cx="268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447920" y="2438280"/>
              <a:ext cx="2286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600" y="2209680"/>
            <a:ext cx="2743200" cy="1495080"/>
            <a:chOff x="5943600" y="2209680"/>
            <a:chExt cx="2743200" cy="1495080"/>
          </a:xfrm>
        </p:grpSpPr>
        <p:sp>
          <p:nvSpPr>
            <p:cNvPr id="135" name=""/>
            <p:cNvSpPr/>
            <p:nvPr/>
          </p:nvSpPr>
          <p:spPr>
            <a:xfrm>
              <a:off x="6019920" y="3124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s public operations of server (generated from ID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5943600" y="220968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Operations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nterface generated b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dlj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idl.clo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* com/deitel/advjhtp1/idl/clock/SystemClockOperation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* Generated by the IDL-to-Java compiler (portable), version "3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* from systemclock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* Sunday, July 1, 2001 10:36:53 PM PD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*/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definition of the CORBA-enabled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Operation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TimeMillis 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SystemClockOpe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971800" y="2971800"/>
            <a:ext cx="3276720" cy="1328040"/>
            <a:chOff x="2971800" y="2971800"/>
            <a:chExt cx="3276720" cy="1328040"/>
          </a:xfrm>
        </p:grpSpPr>
        <p:sp>
          <p:nvSpPr>
            <p:cNvPr id="140" name=""/>
            <p:cNvSpPr/>
            <p:nvPr/>
          </p:nvSpPr>
          <p:spPr>
            <a:xfrm>
              <a:off x="3581280" y="3962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defined in IDL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971800" y="2971800"/>
              <a:ext cx="19051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80880" y="2971800"/>
            <a:ext cx="2667240" cy="1571400"/>
            <a:chOff x="380880" y="2971800"/>
            <a:chExt cx="2667240" cy="1571400"/>
          </a:xfrm>
        </p:grpSpPr>
        <p:sp>
          <p:nvSpPr>
            <p:cNvPr id="143" name=""/>
            <p:cNvSpPr/>
            <p:nvPr/>
          </p:nvSpPr>
          <p:spPr>
            <a:xfrm>
              <a:off x="380880" y="3962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DL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apped to Jav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066680" y="29718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erver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4: SystemClock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ystemClock service implement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idl.clo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MG CORBA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NamingContextPack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SystemClockImpl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computer's current time in millisec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TimeMilli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.currentTimeMilli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SystemClockImpl object by calling method regis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Impl( String param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gister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ime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aram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SystemClockImpl object with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( String corbaName, String param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g.omg.CosNaming.NamingContext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nnotProceed, Not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4 Implementation of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erver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45-4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47-4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2-5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name of service. If name is null or blan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 not attempt to bind to Naming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corbaNam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||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orbaName.trim().length()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"Registration name cannot be null or blank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d initialize OR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 orb = ORB.init( param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this object with OR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.connect(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g.omg.CORBA.Object corbaObjec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b.resolve_initial_reference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Context naming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Helper.narrow( corbaObj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ameComponent array with path information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thi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namingCompon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Component( corbaNam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path[] = { namingCompon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ind SystemClockImpl object with OR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.rebind( pa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bind complet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in method to execut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he SystemClock CORBA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Clock timeServ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Impl(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419360" y="1676520"/>
            <a:ext cx="4115160" cy="337320"/>
            <a:chOff x="4419360" y="1676520"/>
            <a:chExt cx="4115160" cy="337320"/>
          </a:xfrm>
        </p:grpSpPr>
        <p:sp>
          <p:nvSpPr>
            <p:cNvPr id="150" name=""/>
            <p:cNvSpPr/>
            <p:nvPr/>
          </p:nvSpPr>
          <p:spPr>
            <a:xfrm>
              <a:off x="5867280" y="1676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ion of a new ORB objec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419360" y="1828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048120" y="2209680"/>
            <a:ext cx="5867280" cy="337320"/>
            <a:chOff x="3048120" y="2209680"/>
            <a:chExt cx="5867280" cy="337320"/>
          </a:xfrm>
        </p:grpSpPr>
        <p:sp>
          <p:nvSpPr>
            <p:cNvPr id="153" name=""/>
            <p:cNvSpPr/>
            <p:nvPr/>
          </p:nvSpPr>
          <p:spPr>
            <a:xfrm>
              <a:off x="5791320" y="2209680"/>
              <a:ext cx="3124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ss implementation object to OR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048120" y="23623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866920" y="2895480"/>
            <a:ext cx="3124800" cy="580680"/>
            <a:chOff x="5866920" y="2895480"/>
            <a:chExt cx="3124800" cy="580680"/>
          </a:xfrm>
        </p:grpSpPr>
        <p:sp>
          <p:nvSpPr>
            <p:cNvPr id="156" name=""/>
            <p:cNvSpPr/>
            <p:nvPr/>
          </p:nvSpPr>
          <p:spPr>
            <a:xfrm>
              <a:off x="6324480" y="28954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s Naming Service object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866920" y="3124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334120" y="3124080"/>
            <a:ext cx="3581280" cy="1067400"/>
            <a:chOff x="5334120" y="3124080"/>
            <a:chExt cx="3581280" cy="1067400"/>
          </a:xfrm>
        </p:grpSpPr>
        <p:sp>
          <p:nvSpPr>
            <p:cNvPr id="159" name=""/>
            <p:cNvSpPr/>
            <p:nvPr/>
          </p:nvSpPr>
          <p:spPr>
            <a:xfrm>
              <a:off x="6248520" y="31240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RBA mechanism to cast one Object reference to another (in this case, NamingContex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5334120" y="3429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723920" y="4038480"/>
            <a:ext cx="4267800" cy="824040"/>
            <a:chOff x="4723920" y="4038480"/>
            <a:chExt cx="4267800" cy="824040"/>
          </a:xfrm>
        </p:grpSpPr>
        <p:sp>
          <p:nvSpPr>
            <p:cNvPr id="162" name=""/>
            <p:cNvSpPr/>
            <p:nvPr/>
          </p:nvSpPr>
          <p:spPr>
            <a:xfrm>
              <a:off x="6324480" y="4038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 context (identifies object reference in naming servi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723920" y="4419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733920" y="4952880"/>
            <a:ext cx="5257800" cy="824040"/>
            <a:chOff x="3733920" y="4952880"/>
            <a:chExt cx="5257800" cy="824040"/>
          </a:xfrm>
        </p:grpSpPr>
        <p:sp>
          <p:nvSpPr>
            <p:cNvPr id="165" name=""/>
            <p:cNvSpPr/>
            <p:nvPr/>
          </p:nvSpPr>
          <p:spPr>
            <a:xfrm>
              <a:off x="6324480" y="49528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reference to current object using provided naming 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733920" y="510552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4 Implementation of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erver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905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it for requests from the outsid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.lang.Object objec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Objec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keep server ali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objec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.wa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ystemClock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3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SystemClockClient.java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s the client that connects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ystemCl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s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ystemCl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rvice, requests current time and displays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5 Client that connect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5: SystemClock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 application for the SystemClock examp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idl.clo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DateForma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Option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MG CORBA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NamingContextPack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 time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TimeClient( String param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ToTimeServer( param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tTim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NameService to connect to tim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ToTimeServer( String param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g.omg.CosNaming.NamingContext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tFound, CannotProce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SystemClock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 orb = ORB.init( param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343400" y="5410080"/>
            <a:ext cx="4572000" cy="1067040"/>
            <a:chOff x="4343400" y="5410080"/>
            <a:chExt cx="4572000" cy="1067040"/>
          </a:xfrm>
        </p:grpSpPr>
        <p:sp>
          <p:nvSpPr>
            <p:cNvPr id="174" name=""/>
            <p:cNvSpPr/>
            <p:nvPr/>
          </p:nvSpPr>
          <p:spPr>
            <a:xfrm>
              <a:off x="6248520" y="54100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OR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343400" y="5715000"/>
              <a:ext cx="1905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5 Client that connect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g.omg.CORBA.Object corbaObjec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b.resolve_initial_reference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Servic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Context naming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Helper.narrow( corbaObj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solve object reference in nam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nameCompon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Compon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path[] = { nameCompon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rbaObject = naming.resolve( pa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meServer = SystemClockHelper.narrow( corbaObj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timer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Tim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ead threa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ead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alk to server on regular basis and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e da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eFormat forma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eFormat.getTimeInstance( DateForma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timeStr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me = timeServer.currentTimeMilli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( ti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meString = format.format( da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34120" y="838080"/>
            <a:ext cx="3581280" cy="1328040"/>
            <a:chOff x="5334120" y="838080"/>
            <a:chExt cx="3581280" cy="1328040"/>
          </a:xfrm>
        </p:grpSpPr>
        <p:sp>
          <p:nvSpPr>
            <p:cNvPr id="179" name=""/>
            <p:cNvSpPr/>
            <p:nvPr/>
          </p:nvSpPr>
          <p:spPr>
            <a:xfrm>
              <a:off x="5791320" y="1828800"/>
              <a:ext cx="3124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to Naming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5334120" y="83808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952520" y="1600200"/>
            <a:ext cx="3505680" cy="580680"/>
            <a:chOff x="4952520" y="1600200"/>
            <a:chExt cx="3505680" cy="580680"/>
          </a:xfrm>
        </p:grpSpPr>
        <p:sp>
          <p:nvSpPr>
            <p:cNvPr id="182" name=""/>
            <p:cNvSpPr/>
            <p:nvPr/>
          </p:nvSpPr>
          <p:spPr>
            <a:xfrm>
              <a:off x="579132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of object bound to 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me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952520" y="18288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095520" y="2209680"/>
            <a:ext cx="2896200" cy="337320"/>
            <a:chOff x="6095520" y="2209680"/>
            <a:chExt cx="2896200" cy="337320"/>
          </a:xfrm>
        </p:grpSpPr>
        <p:sp>
          <p:nvSpPr>
            <p:cNvPr id="185" name=""/>
            <p:cNvSpPr/>
            <p:nvPr/>
          </p:nvSpPr>
          <p:spPr>
            <a:xfrm>
              <a:off x="6324480" y="22096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st to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095520" y="2362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952880" y="5715000"/>
            <a:ext cx="3962520" cy="457200"/>
            <a:chOff x="4952880" y="5715000"/>
            <a:chExt cx="3962520" cy="457200"/>
          </a:xfrm>
        </p:grpSpPr>
        <p:sp>
          <p:nvSpPr>
            <p:cNvPr id="188" name=""/>
            <p:cNvSpPr/>
            <p:nvPr/>
          </p:nvSpPr>
          <p:spPr>
            <a:xfrm>
              <a:off x="6019920" y="571500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on remote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952880" y="5867280"/>
              <a:ext cx="10670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5 Client that connect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 = JOptionPane.showConfirm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timeString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SystemClock Examp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OK_CANCEL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 ==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ANCEL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Get us out of he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in method to execute client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Client(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exceptions that occur while client execu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thrown by SystemClockClien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of class SystemClock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92" name="SystemClock1" descr=""/>
          <p:cNvPicPr/>
          <p:nvPr/>
        </p:nvPicPr>
        <p:blipFill>
          <a:blip r:embed="rId1"/>
          <a:stretch/>
        </p:blipFill>
        <p:spPr>
          <a:xfrm>
            <a:off x="609480" y="5410080"/>
            <a:ext cx="2568600" cy="1123920"/>
          </a:xfrm>
          <a:prstGeom prst="rect">
            <a:avLst/>
          </a:prstGeom>
          <a:ln w="0">
            <a:noFill/>
          </a:ln>
        </p:spPr>
      </p:pic>
      <p:pic>
        <p:nvPicPr>
          <p:cNvPr id="193" name="SystemClock2" descr=""/>
          <p:cNvPicPr/>
          <p:nvPr/>
        </p:nvPicPr>
        <p:blipFill>
          <a:blip r:embed="rId2"/>
          <a:stretch/>
        </p:blipFill>
        <p:spPr>
          <a:xfrm>
            <a:off x="3962520" y="5410080"/>
            <a:ext cx="257004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26: Common Object Request Broker Architecture(CORBA): Part 1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588600" y="1227240"/>
            <a:ext cx="570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ha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8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ha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.id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8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hatServerImpl.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8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itelMesseng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.jav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8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unning Cha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8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ssu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ments and Comparis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3.4   Running the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JDK 1.3 is installed on workstation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vironment variable includes JDK’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rec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s to execut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600" indent="-410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 IDL file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l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37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 (source code in c:\src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lj –pkgPrefix clock com.deitel.advjhtp1.idl –td c:\src    -fall SystemClock.i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600" indent="-410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and compile server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600" indent="-410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and compile clien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600" indent="-410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Naming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37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nameser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vided included in JDK 1.3 as a CORBA Object Service Naming Service test tool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37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nameserv -ORBInitialPort 10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600" indent="-410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37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 com.deitel.advjhtp1.idl.clock.SystemClockImpl –ORBInitialPort 10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3.4   Running the Exampl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.  run 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ava com.deitel.advjhtp1.idl.clock.SystemClockClient          -ORBInitialPort 10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  Technical/Architectural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B is the central mechanism of COR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B must exist for every object in a CORBA-enabled distributed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RB’s relationship to services in a distributed system is comparable to the relationship between a computer’s communication bus and devices connected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communicate with an ORB by u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L compiler generated stub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ynamic interface (using CORBA’s dynamic invocation API), 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B’s A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416640" cy="2023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144880" y="4572000"/>
            <a:ext cx="47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6.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path from a client to a distributed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 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RB communicates with servants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tatic skeleto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dynamic interface, 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ervant’s object adap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38480" y="2392200"/>
            <a:ext cx="4667040" cy="2076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52480" y="4800600"/>
            <a:ext cx="742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6.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 request-interface structure. Courtesy of Object Management Group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 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RBAser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baseline services available to all objects sitting on the ORB communication b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ing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 Management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fe Cycle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sistent State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currency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onship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rnalization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 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censing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perty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me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urity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ification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der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lections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 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RBAfacil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e in two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rizontal fac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client-side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tical fac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domain-specific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 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izontal facilities spec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bile Agents Fac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ing Fac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ationalization Fac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al facilities domain-specific services are being developed for various business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Enterprise Mod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ance/Insur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ctronic Comme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ufactu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lthc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lecommun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Object Request Broker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programs written in various languages to communicate with each other as would two processes in the same address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s leveraged by cli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ocation transpar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transpar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 transparenc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 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fe Science Resear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t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4I (Command, Control, Communications, Computers, and Intellig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451240" y="2444760"/>
            <a:ext cx="4241520" cy="1971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16640" y="4800600"/>
            <a:ext cx="46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6.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Management Architecture referenc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. Courtesy of Object Management Group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 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Objects are the top layer of the 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Objecs have the functionality not found at the domain layer, facilities layer or the services lay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concepts of distributed systems are the same regardless of the designed system’s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understanding of the OMA means a head start in developing an architecture, because most pieces needed are defined in the 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5   CORBA Basic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0 IDL file testing many of the IDL keywords and typ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5-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Any comments located outside of the module declaration a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ignored by the IDL compiler. This multi-line comment do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not appear in any of the files generated by idlj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/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single-line comment is also ignored by the IDL compi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ptes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is comment appears in the generated files for StructM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uctMap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is comment appears at start of the type 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Char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ct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cte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Stri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r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hor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Lo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ngLo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LongLo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xed fixedValue; not supported by Java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equ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uctMap&gt; StructMapSeq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equ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uctMap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BoundStructMapSeq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133720" y="1676520"/>
            <a:ext cx="6629040" cy="337320"/>
            <a:chOff x="2133720" y="1676520"/>
            <a:chExt cx="6629040" cy="337320"/>
          </a:xfrm>
        </p:grpSpPr>
        <p:sp>
          <p:nvSpPr>
            <p:cNvPr id="229" name=""/>
            <p:cNvSpPr/>
            <p:nvPr/>
          </p:nvSpPr>
          <p:spPr>
            <a:xfrm>
              <a:off x="5088600" y="1676520"/>
              <a:ext cx="3674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s directly to Java packa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pt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133720" y="1828800"/>
              <a:ext cx="29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666520" y="2209680"/>
            <a:ext cx="6325200" cy="824040"/>
            <a:chOff x="2666520" y="2209680"/>
            <a:chExt cx="6325200" cy="824040"/>
          </a:xfrm>
        </p:grpSpPr>
        <p:sp>
          <p:nvSpPr>
            <p:cNvPr id="232" name=""/>
            <p:cNvSpPr/>
            <p:nvPr/>
          </p:nvSpPr>
          <p:spPr>
            <a:xfrm>
              <a:off x="3352680" y="2209680"/>
              <a:ext cx="5639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s directly to a Java class nam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uct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uct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ay contain object references but is decla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n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prevents it from being subclassed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66652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505320" y="3504960"/>
            <a:ext cx="4876560" cy="1143360"/>
            <a:chOff x="3505320" y="3504960"/>
            <a:chExt cx="4876560" cy="1143360"/>
          </a:xfrm>
        </p:grpSpPr>
        <p:sp>
          <p:nvSpPr>
            <p:cNvPr id="235" name=""/>
            <p:cNvSpPr/>
            <p:nvPr/>
          </p:nvSpPr>
          <p:spPr>
            <a:xfrm>
              <a:off x="5181480" y="373392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mitive types map to corresponding Java primitive typ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3505320" y="3504960"/>
              <a:ext cx="1676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886200" y="4038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657240" y="4038480"/>
              <a:ext cx="15238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723920" y="6019920"/>
            <a:ext cx="3657960" cy="824040"/>
            <a:chOff x="4723920" y="6019920"/>
            <a:chExt cx="3657960" cy="824040"/>
          </a:xfrm>
        </p:grpSpPr>
        <p:sp>
          <p:nvSpPr>
            <p:cNvPr id="240" name=""/>
            <p:cNvSpPr/>
            <p:nvPr/>
          </p:nvSpPr>
          <p:spPr>
            <a:xfrm>
              <a:off x="5562720" y="6019920"/>
              <a:ext cx="2819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bounded sequence maps to a Java array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uct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3920" y="61722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486040" y="6267600"/>
            <a:ext cx="3200760" cy="580680"/>
            <a:chOff x="5486040" y="6267600"/>
            <a:chExt cx="3200760" cy="580680"/>
          </a:xfrm>
        </p:grpSpPr>
        <p:sp>
          <p:nvSpPr>
            <p:cNvPr id="243" name=""/>
            <p:cNvSpPr/>
            <p:nvPr/>
          </p:nvSpPr>
          <p:spPr>
            <a:xfrm>
              <a:off x="6019560" y="62676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unded sequence map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uct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 of s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486040" y="6419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0 IDL file testing many of the IDL keywords and typ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4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429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is comment appears abo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interface declaration for interface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faceN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mment above the readwrite attrib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ttribu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Attribu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adon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ttribu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Attribu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ant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mment above the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qMetho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uctMapSeq seq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SeqMetho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StructMapSeq seq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Metho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Array arra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OutMetho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out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odule map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428640" y="457200"/>
            <a:ext cx="5105880" cy="1175400"/>
            <a:chOff x="3428640" y="457200"/>
            <a:chExt cx="5105880" cy="1175400"/>
          </a:xfrm>
        </p:grpSpPr>
        <p:sp>
          <p:nvSpPr>
            <p:cNvPr id="248" name=""/>
            <p:cNvSpPr/>
            <p:nvPr/>
          </p:nvSpPr>
          <p:spPr>
            <a:xfrm>
              <a:off x="5410080" y="1295280"/>
              <a:ext cx="3124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s to array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s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3428640" y="457200"/>
              <a:ext cx="19810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752120" y="1219320"/>
            <a:ext cx="6934680" cy="2333160"/>
            <a:chOff x="1752120" y="1219320"/>
            <a:chExt cx="6934680" cy="2333160"/>
          </a:xfrm>
        </p:grpSpPr>
        <p:sp>
          <p:nvSpPr>
            <p:cNvPr id="251" name=""/>
            <p:cNvSpPr/>
            <p:nvPr/>
          </p:nvSpPr>
          <p:spPr>
            <a:xfrm>
              <a:off x="4343400" y="2971800"/>
              <a:ext cx="4343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s to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exposes public functionality available to remote client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1752120" y="1219320"/>
              <a:ext cx="48006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981080" y="1676520"/>
            <a:ext cx="6477120" cy="1677240"/>
            <a:chOff x="1981080" y="1676520"/>
            <a:chExt cx="6477120" cy="1677240"/>
          </a:xfrm>
        </p:grpSpPr>
        <p:sp>
          <p:nvSpPr>
            <p:cNvPr id="254" name=""/>
            <p:cNvSpPr/>
            <p:nvPr/>
          </p:nvSpPr>
          <p:spPr>
            <a:xfrm>
              <a:off x="4419720" y="1905120"/>
              <a:ext cx="4038480" cy="1448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s to methods with signature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anAttribute(int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anAttribut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1981080" y="1676520"/>
              <a:ext cx="24386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962160" y="1904760"/>
            <a:ext cx="4648320" cy="1774800"/>
            <a:chOff x="3962160" y="1904760"/>
            <a:chExt cx="4648320" cy="1774800"/>
          </a:xfrm>
        </p:grpSpPr>
        <p:sp>
          <p:nvSpPr>
            <p:cNvPr id="257" name=""/>
            <p:cNvSpPr/>
            <p:nvPr/>
          </p:nvSpPr>
          <p:spPr>
            <a:xfrm>
              <a:off x="5105520" y="2971800"/>
              <a:ext cx="3504960" cy="707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s to method with signatur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roAttribut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3962160" y="1904760"/>
              <a:ext cx="114300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819520" y="2133720"/>
            <a:ext cx="5105160" cy="2089800"/>
            <a:chOff x="2819520" y="2133720"/>
            <a:chExt cx="5105160" cy="2089800"/>
          </a:xfrm>
        </p:grpSpPr>
        <p:sp>
          <p:nvSpPr>
            <p:cNvPr id="260" name=""/>
            <p:cNvSpPr/>
            <p:nvPr/>
          </p:nvSpPr>
          <p:spPr>
            <a:xfrm>
              <a:off x="4038480" y="3886200"/>
              <a:ext cx="3886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s to immut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ield with valu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2819520" y="2133720"/>
              <a:ext cx="121896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838080" y="2590560"/>
            <a:ext cx="3657600" cy="2972520"/>
            <a:chOff x="838080" y="2590560"/>
            <a:chExt cx="3657600" cy="2972520"/>
          </a:xfrm>
        </p:grpSpPr>
        <p:sp>
          <p:nvSpPr>
            <p:cNvPr id="263" name=""/>
            <p:cNvSpPr/>
            <p:nvPr/>
          </p:nvSpPr>
          <p:spPr>
            <a:xfrm>
              <a:off x="838080" y="4495680"/>
              <a:ext cx="3657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s will pass a copy of argument, i.e.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-by-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methods defined with 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ss references as arguments, i.e.,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-by-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743200" y="259056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895480" y="29714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200400" y="274320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352320" y="3200400"/>
            <a:ext cx="4267800" cy="2271960"/>
            <a:chOff x="3352320" y="3200400"/>
            <a:chExt cx="4267800" cy="2271960"/>
          </a:xfrm>
        </p:grpSpPr>
        <p:sp>
          <p:nvSpPr>
            <p:cNvPr id="268" name=""/>
            <p:cNvSpPr/>
            <p:nvPr/>
          </p:nvSpPr>
          <p:spPr>
            <a:xfrm>
              <a:off x="4952880" y="4648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eats arguments as references, regardless of primitives or object typ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3352320" y="3200400"/>
              <a:ext cx="29718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1 IDL-generated f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uctMap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2, 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pt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maptest/StructMap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Generated by the IDL-to-Java compiler (portable), version "3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from maptest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Monday, May 14, 2001 4:18:09 PM PD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/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omment appears in the generated files for StructM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uctMap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rg.omg.CORBA.portable.IDLE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is comment appears at start of the type 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Va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CharVa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ctetVa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tring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wString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rtVa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hor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hortValue = (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shor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ngValue = (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LongVa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ngLongVa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LongLongVa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Va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Va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uctMap 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666520" y="6019920"/>
            <a:ext cx="6096600" cy="580680"/>
            <a:chOff x="2666520" y="6019920"/>
            <a:chExt cx="6096600" cy="580680"/>
          </a:xfrm>
        </p:grpSpPr>
        <p:sp>
          <p:nvSpPr>
            <p:cNvPr id="273" name=""/>
            <p:cNvSpPr/>
            <p:nvPr/>
          </p:nvSpPr>
          <p:spPr>
            <a:xfrm>
              <a:off x="5791320" y="601992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ault constructor-all fields initialized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666520" y="62485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029200" y="2514240"/>
            <a:ext cx="3809880" cy="609840"/>
            <a:chOff x="5029200" y="2514240"/>
            <a:chExt cx="3809880" cy="609840"/>
          </a:xfrm>
        </p:grpSpPr>
        <p:sp>
          <p:nvSpPr>
            <p:cNvPr id="276" name=""/>
            <p:cNvSpPr/>
            <p:nvPr/>
          </p:nvSpPr>
          <p:spPr>
            <a:xfrm>
              <a:off x="5867280" y="266688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ents appearing in IDL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029200" y="2819520"/>
              <a:ext cx="8380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5029200" y="251424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676520" y="1447920"/>
            <a:ext cx="4647960" cy="990360"/>
            <a:chOff x="1676520" y="1447920"/>
            <a:chExt cx="4647960" cy="990360"/>
          </a:xfrm>
        </p:grpSpPr>
        <p:sp>
          <p:nvSpPr>
            <p:cNvPr id="280" name=""/>
            <p:cNvSpPr/>
            <p:nvPr/>
          </p:nvSpPr>
          <p:spPr>
            <a:xfrm>
              <a:off x="3352680" y="144792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not inherit from this cl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676520" y="1600200"/>
              <a:ext cx="1676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1 IDL-generated f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uctMap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uctM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bool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charValu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wChar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octetValue, String _stringValu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wString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shortValu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uShort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long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uLongValu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longLong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uLongLongValu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float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double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lValue = _bool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rValue = _char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CharValue = _wChar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ctetValue = _octe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Value = _stri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StringValue = _wStri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ortValue = _shor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hortValue = _uShor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ngValue = _lo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LongValue = _uLo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ngLongValue = _longLo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LongLongValue = _uLongLo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loatValue = _floa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Value = _doubl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lass StructM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2 IDL-generated fi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NameOperations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6, 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3-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pt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maptest/InterfaceNameOperation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Generated by the IDL-to-Java compiler (portable), version "3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from maptest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Monday, May 14, 2001 4:18:09 PM PD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/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interface declaration for Interface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face InterfaceNameOperation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mment above the readwrite attrib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Attribu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mment above the readwrite attrib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Attribute(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AnAttribute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Attribu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mment above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qMethod( maptest.StructMap[] seq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SeqMethod( maptest.StructMap[] seq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Metho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ra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OutMethod( org.omg.CORBA.IntHolder in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InterfaceNameOpe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343040" y="2438280"/>
            <a:ext cx="4572360" cy="580680"/>
            <a:chOff x="4343040" y="2438280"/>
            <a:chExt cx="4572360" cy="580680"/>
          </a:xfrm>
        </p:grpSpPr>
        <p:sp>
          <p:nvSpPr>
            <p:cNvPr id="287" name=""/>
            <p:cNvSpPr/>
            <p:nvPr/>
          </p:nvSpPr>
          <p:spPr>
            <a:xfrm>
              <a:off x="5943600" y="24382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d from IDL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cla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343040" y="2590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666520" y="3123720"/>
            <a:ext cx="5715360" cy="657360"/>
            <a:chOff x="2666520" y="3123720"/>
            <a:chExt cx="5715360" cy="657360"/>
          </a:xfrm>
        </p:grpSpPr>
        <p:sp>
          <p:nvSpPr>
            <p:cNvPr id="290" name=""/>
            <p:cNvSpPr/>
            <p:nvPr/>
          </p:nvSpPr>
          <p:spPr>
            <a:xfrm>
              <a:off x="5791320" y="320040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d from attribu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Attrib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2666520" y="3123720"/>
              <a:ext cx="3124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3400" y="3352680"/>
              <a:ext cx="144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590920" y="3581280"/>
            <a:ext cx="6172200" cy="580680"/>
            <a:chOff x="2590920" y="3581280"/>
            <a:chExt cx="6172200" cy="580680"/>
          </a:xfrm>
        </p:grpSpPr>
        <p:sp>
          <p:nvSpPr>
            <p:cNvPr id="294" name=""/>
            <p:cNvSpPr/>
            <p:nvPr/>
          </p:nvSpPr>
          <p:spPr>
            <a:xfrm>
              <a:off x="5791320" y="35812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d from read-only attribu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Attrib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2590920" y="38862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866920" y="4572000"/>
            <a:ext cx="3048480" cy="337320"/>
            <a:chOff x="5866920" y="4572000"/>
            <a:chExt cx="3048480" cy="337320"/>
          </a:xfrm>
        </p:grpSpPr>
        <p:sp>
          <p:nvSpPr>
            <p:cNvPr id="297" name=""/>
            <p:cNvSpPr/>
            <p:nvPr/>
          </p:nvSpPr>
          <p:spPr>
            <a:xfrm>
              <a:off x="6172200" y="457200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d method defini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866920" y="4724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3 IDL-generated fi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Name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pt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maptest/InterfaceNa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Generated by the IDL-to-Java compiler (portable), version "3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from maptest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Monday, May 14, 2001 4:18:09 PM PD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/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interface declaration for Interface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faceNa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faceNameOperations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rg.omg.CORBA.Object, org.omg.CORBA.portable.IDLEntit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antValue = (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2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InterfaceN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267080" y="2895120"/>
            <a:ext cx="4496040" cy="1357920"/>
            <a:chOff x="4267080" y="2895120"/>
            <a:chExt cx="4496040" cy="1357920"/>
          </a:xfrm>
        </p:grpSpPr>
        <p:sp>
          <p:nvSpPr>
            <p:cNvPr id="302" name=""/>
            <p:cNvSpPr/>
            <p:nvPr/>
          </p:nvSpPr>
          <p:spPr>
            <a:xfrm>
              <a:off x="5791320" y="34290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ants will always appear in file named afte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cla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4267080" y="2895120"/>
              <a:ext cx="1524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1   Introdu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face Definition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ure description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developers to describe an interface they wish to use remotely in a language-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specific compiler required for each participating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files required by each language for CORBA related tasks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5   CORBA Basic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call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nchrono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makes call on remote blocking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method call on remot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makes call on remote non-blocking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 method qualifi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new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ifier in IDL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 method receives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ynchrono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makes synchronous call on remote method, remote service responds at a later time by calling method on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qualifi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new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prevent dead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5 CORBA Basic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327480" y="2532240"/>
            <a:ext cx="2489040" cy="17985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461240" y="4648320"/>
            <a:ext cx="615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6.1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dlock caused by client calling a server that calls the cl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6   Example: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AlarmClock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a typic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sh-model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sets alarm on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er notifies client each time internal alarm event ocur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1.idl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15: alarmclock1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IDL for the AlarmClock examp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long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Ti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Clock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armClo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neway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Alarm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ener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Listener 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lar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ener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long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04920" y="2438280"/>
            <a:ext cx="2971800" cy="2623320"/>
            <a:chOff x="304920" y="2438280"/>
            <a:chExt cx="2971800" cy="2623320"/>
          </a:xfrm>
        </p:grpSpPr>
        <p:sp>
          <p:nvSpPr>
            <p:cNvPr id="314" name=""/>
            <p:cNvSpPr/>
            <p:nvPr/>
          </p:nvSpPr>
          <p:spPr>
            <a:xfrm>
              <a:off x="304920" y="472428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non-blocking meth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1371600" y="24382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676160" y="2666880"/>
            <a:ext cx="5867640" cy="2090160"/>
            <a:chOff x="1676160" y="2666880"/>
            <a:chExt cx="5867640" cy="2090160"/>
          </a:xfrm>
        </p:grpSpPr>
        <p:sp>
          <p:nvSpPr>
            <p:cNvPr id="317" name=""/>
            <p:cNvSpPr/>
            <p:nvPr/>
          </p:nvSpPr>
          <p:spPr>
            <a:xfrm>
              <a:off x="4572000" y="441972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copy of listener st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1676160" y="2666880"/>
              <a:ext cx="28954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Impl.java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erver implement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16: AlarmClock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lementation of AlarmClock ser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idl.alar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NamingContextPack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Clock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AlarmClockImpl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 contains name/alarm pairs 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ed objects waiting for an ala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table alarm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tab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AlarmClockImpl object with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( String corbaName, String param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g.omg.CosNaming.NamingContext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nnotProceed, Not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corbaNam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||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orbaName.trim().length()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Registration name cannot be null or blan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d initialize OR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 orb = ORB.init( param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this object with OR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.connec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181120" y="2971800"/>
            <a:ext cx="3734280" cy="762120"/>
            <a:chOff x="5181120" y="2971800"/>
            <a:chExt cx="3734280" cy="762120"/>
          </a:xfrm>
        </p:grpSpPr>
        <p:sp>
          <p:nvSpPr>
            <p:cNvPr id="322" name=""/>
            <p:cNvSpPr/>
            <p:nvPr/>
          </p:nvSpPr>
          <p:spPr>
            <a:xfrm>
              <a:off x="5410080" y="2971800"/>
              <a:ext cx="3505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service with Naming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5181120" y="320040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Impl.java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erver implement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rieve reference to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g.omg.CORBA.Object corbaObjec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b.resolve_initial_references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NameServic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Context naming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Helper.narrow( corbaObj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ameComponent array with path information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thi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namingCompon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Component( corbaNam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path[] = { namingCompon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ind AlarmClockImpl object with OR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.rebind( pa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bind complet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used by clients wanting to regis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s callback/listener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AlarmListener( String listener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armListener listen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uplicateNam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enerNam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listenerName.trim().length()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llegalArgument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Name cannot be null or blan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larmList.get( listenerName )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"Name is already registered, please choose anoth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257440" y="2743200"/>
            <a:ext cx="3734280" cy="990720"/>
            <a:chOff x="5257440" y="2743200"/>
            <a:chExt cx="3734280" cy="990720"/>
          </a:xfrm>
        </p:grpSpPr>
        <p:sp>
          <p:nvSpPr>
            <p:cNvPr id="327" name=""/>
            <p:cNvSpPr/>
            <p:nvPr/>
          </p:nvSpPr>
          <p:spPr>
            <a:xfrm>
              <a:off x="6019920" y="274320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listener to internal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257440" y="2895480"/>
              <a:ext cx="7621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Impl.java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erver implement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9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en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   "Listener cannot be nul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Timer and save it under listener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armList.put( listener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Timer( listene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n alarm for a client.  If client not regis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ow a runtime excep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larm( String 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alarm for particula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armTimer timer = ( AlarmTimer ) alarmList.get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im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No clock found for the incoming 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mer.schedu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skWrapper(timer.getListener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conds), seconds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in method to execute AlarmClock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armClockImpl alar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ClockImp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arm.register( AlarmClock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.lang.Object objec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Objec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86400" y="3276720"/>
            <a:ext cx="3505320" cy="761760"/>
            <a:chOff x="5486400" y="3276720"/>
            <a:chExt cx="3505320" cy="761760"/>
          </a:xfrm>
        </p:grpSpPr>
        <p:sp>
          <p:nvSpPr>
            <p:cNvPr id="332" name=""/>
            <p:cNvSpPr/>
            <p:nvPr/>
          </p:nvSpPr>
          <p:spPr>
            <a:xfrm>
              <a:off x="6019920" y="327672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hedule an alarm for time specified by remot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486400" y="35812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Impl.java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erver implement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keep server ali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objec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.wa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very listener get an AlarmTimer assigned to the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Tim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// The listener this Timer is assigned to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Listener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Timer( AlarmListener 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listener = 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// Accessor method so we can get to the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// object referen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Listener getListen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f private inner class TaskWrap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askWrapper takes care of calling our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hen their alarm expir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skWrapp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rTask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e reference to our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Listener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ng second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257440" y="5334120"/>
            <a:ext cx="3734280" cy="337320"/>
            <a:chOff x="5257440" y="5334120"/>
            <a:chExt cx="3734280" cy="337320"/>
          </a:xfrm>
        </p:grpSpPr>
        <p:sp>
          <p:nvSpPr>
            <p:cNvPr id="337" name=""/>
            <p:cNvSpPr/>
            <p:nvPr/>
          </p:nvSpPr>
          <p:spPr>
            <a:xfrm>
              <a:off x="6019920" y="533412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s client when alarm expi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257440" y="5486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Impl.java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erver implement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4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askWrapper needs to know who to call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ow long was the alarm set (in seconds)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skWrapper( AlarmListener l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ener = 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onds = 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o wake them up!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ener.updateTime(seconds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card this TaskWrapper.  When th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ants a new alarm we create a new TaskWrapp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canc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vate inner class TaskWrap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AlarmClock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114800" y="2209680"/>
            <a:ext cx="3733920" cy="337320"/>
            <a:chOff x="4114800" y="2209680"/>
            <a:chExt cx="3733920" cy="337320"/>
          </a:xfrm>
        </p:grpSpPr>
        <p:sp>
          <p:nvSpPr>
            <p:cNvPr id="342" name=""/>
            <p:cNvSpPr/>
            <p:nvPr/>
          </p:nvSpPr>
          <p:spPr>
            <a:xfrm>
              <a:off x="5867280" y="2209680"/>
              <a:ext cx="1981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-b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114800" y="23623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ockClientGUI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nforms the user when the alarm has sounded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17: ClockClientGUI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UI used by the AlarmClockCli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idl.alar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ckClientGUI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 outputLab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p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ckClientGUI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ock GUI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Lab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larm has not gone off..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outputLab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efaultCloseOperation( JFram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Resiz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mension screenSiz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olkit.getDefaultToolkit().getScreen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Location( ( screenSize.width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screenSize.height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1   Introdu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of 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reference pointing to a remote obje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es from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bject ad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contain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(network addr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to the adapter that created object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sing object reference to transm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s messages needed by ORBs to communicate with each oth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IOP (Internet Inter-ORB Protocol)-GIOP implement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ockClientGUI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nforms the user when the alarm has sounded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abel's 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ext( String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Label.setText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f class ClockClient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Cli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18: AlarmClock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 of the AlarmClock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idl.alar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MG CORBA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NamingContextPack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Clock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AlarmListenerImpl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 to the GUI to be display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ckClientGUI gu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 to the alarm clock server we connect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Clock alarmClo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ame of this client used by server to make proper callb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ClockClient( String param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displayable name that is unique among VM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unning on same computer (or at least randomly uniqu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n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currentTimeMillis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GUI to display name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umber of seconds before alarm expir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ui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ckClientGUI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Time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ToAlarmServer( name, param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648320" y="5486400"/>
            <a:ext cx="3429000" cy="838080"/>
            <a:chOff x="4648320" y="5486400"/>
            <a:chExt cx="3429000" cy="838080"/>
          </a:xfrm>
        </p:grpSpPr>
        <p:sp>
          <p:nvSpPr>
            <p:cNvPr id="351" name=""/>
            <p:cNvSpPr/>
            <p:nvPr/>
          </p:nvSpPr>
          <p:spPr>
            <a:xfrm>
              <a:off x="5867280" y="548640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 to service through helper meth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648320" y="5791320"/>
              <a:ext cx="12189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Cli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41-6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GUI and wait for user to terminate a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ui.show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form connection to Alarm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ToAlarmServ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name, String param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g.omg.CosNaming.NamingContext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tFound, CannotProce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AlarmClockClient to an OR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 orb = ORB.init( param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Naming Service and fin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ference for AlarmClock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g.omg.CORBA.Object corbaObjec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b.resolve_initial_references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Name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Context naming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Helper.narrow( corbaObj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solve object reference in nam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nameComponen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Component( AlarmClock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path[] = { nameCompon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armClock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armClockHelper.narrow( naming.resolve( path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this object with AlarmClock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armClock.addAlarmListener( 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ui.show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562720" y="2666880"/>
            <a:ext cx="3429000" cy="381240"/>
            <a:chOff x="5562720" y="2666880"/>
            <a:chExt cx="3429000" cy="381240"/>
          </a:xfrm>
        </p:grpSpPr>
        <p:sp>
          <p:nvSpPr>
            <p:cNvPr id="356" name=""/>
            <p:cNvSpPr/>
            <p:nvPr/>
          </p:nvSpPr>
          <p:spPr>
            <a:xfrm>
              <a:off x="6019920" y="266688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to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5638320" y="274284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5562720" y="2895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5638320" y="2895480"/>
              <a:ext cx="381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181120" y="5486400"/>
            <a:ext cx="3734280" cy="337320"/>
            <a:chOff x="5181120" y="5486400"/>
            <a:chExt cx="3734280" cy="337320"/>
          </a:xfrm>
        </p:grpSpPr>
        <p:sp>
          <p:nvSpPr>
            <p:cNvPr id="361" name=""/>
            <p:cNvSpPr/>
            <p:nvPr/>
          </p:nvSpPr>
          <p:spPr>
            <a:xfrm>
              <a:off x="5943600" y="548640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listener with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5181120" y="5638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Cli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71-7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callback method defined in AlarmListen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Time( long second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up a length of time to use for the alarm sett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Tim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ui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arm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na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came in a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seconds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econds.  Resetting to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newTi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econd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armClock.setAlarm( name, newTi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in method to execut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armClockClient 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ClockClient(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exceptions that occur while client execu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thrown by AlarmClockClient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of class AlarmClock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486400" y="1752120"/>
            <a:ext cx="3505320" cy="490320"/>
            <a:chOff x="5486400" y="1752120"/>
            <a:chExt cx="3505320" cy="490320"/>
          </a:xfrm>
        </p:grpSpPr>
        <p:sp>
          <p:nvSpPr>
            <p:cNvPr id="366" name=""/>
            <p:cNvSpPr/>
            <p:nvPr/>
          </p:nvSpPr>
          <p:spPr>
            <a:xfrm>
              <a:off x="6019920" y="190512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 call-b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5486400" y="17521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Cli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ent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AlarmClock1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4268880" cy="949320"/>
          </a:xfrm>
          <a:prstGeom prst="rect">
            <a:avLst/>
          </a:prstGeom>
          <a:ln w="0">
            <a:noFill/>
          </a:ln>
        </p:spPr>
      </p:pic>
      <p:pic>
        <p:nvPicPr>
          <p:cNvPr id="370" name="AlarmClock2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57168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7   Distributed Excep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specifies two exception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stem Excep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for use by CORBA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 Excep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using IDL by develo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CORBA exceptions map to Java exceptions 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9 A user-defined CORBA exceptio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DataseException)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nd an operation capable of throwing the excep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76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mai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ce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baseExcep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ais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abase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28600" y="609120"/>
            <a:ext cx="2971800" cy="2395080"/>
            <a:chOff x="228600" y="609120"/>
            <a:chExt cx="2971800" cy="2395080"/>
          </a:xfrm>
        </p:grpSpPr>
        <p:sp>
          <p:nvSpPr>
            <p:cNvPr id="376" name=""/>
            <p:cNvSpPr/>
            <p:nvPr/>
          </p:nvSpPr>
          <p:spPr>
            <a:xfrm>
              <a:off x="228600" y="266688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ation of ex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1371600" y="6091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286000" y="1523880"/>
            <a:ext cx="2971800" cy="1328040"/>
            <a:chOff x="2286000" y="1523880"/>
            <a:chExt cx="2971800" cy="1328040"/>
          </a:xfrm>
        </p:grpSpPr>
        <p:sp>
          <p:nvSpPr>
            <p:cNvPr id="379" name=""/>
            <p:cNvSpPr/>
            <p:nvPr/>
          </p:nvSpPr>
          <p:spPr>
            <a:xfrm>
              <a:off x="2286000" y="251460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s to Java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hrow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ey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733920" y="1523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0 The generate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atabaseException.java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file (reformatted for clarity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971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final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bas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User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portable.IDLE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ms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uplicateNameException 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uplicateNameException( String _ms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sg = _ms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atabas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905120" y="609120"/>
            <a:ext cx="4647960" cy="4162680"/>
            <a:chOff x="1905120" y="609120"/>
            <a:chExt cx="4647960" cy="4162680"/>
          </a:xfrm>
        </p:grpSpPr>
        <p:sp>
          <p:nvSpPr>
            <p:cNvPr id="384" name=""/>
            <p:cNvSpPr/>
            <p:nvPr/>
          </p:nvSpPr>
          <p:spPr>
            <a:xfrm>
              <a:off x="1905120" y="4191120"/>
              <a:ext cx="4647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 exceptions inherit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which indirectly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.lang.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3429000" y="609120"/>
              <a:ext cx="0" cy="358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85800" y="1218960"/>
            <a:ext cx="2362320" cy="2775960"/>
            <a:chOff x="685800" y="1218960"/>
            <a:chExt cx="2362320" cy="2775960"/>
          </a:xfrm>
        </p:grpSpPr>
        <p:sp>
          <p:nvSpPr>
            <p:cNvPr id="387" name=""/>
            <p:cNvSpPr/>
            <p:nvPr/>
          </p:nvSpPr>
          <p:spPr>
            <a:xfrm>
              <a:off x="685800" y="365760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d in IDL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1905120" y="121896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2.id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 IDL for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exampl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-7, 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21: alarmclock2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IDL for the AlarmClock examp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ce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uplicateNameExcep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long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Ti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Clock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armClo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Alarm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ener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Listener listen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ais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DuplicateName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lar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ener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long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438280" y="1371600"/>
            <a:ext cx="6553440" cy="2057400"/>
            <a:chOff x="2438280" y="1371600"/>
            <a:chExt cx="6553440" cy="2057400"/>
          </a:xfrm>
        </p:grpSpPr>
        <p:sp>
          <p:nvSpPr>
            <p:cNvPr id="392" name=""/>
            <p:cNvSpPr/>
            <p:nvPr/>
          </p:nvSpPr>
          <p:spPr>
            <a:xfrm>
              <a:off x="4876920" y="2209680"/>
              <a:ext cx="4114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ges to previous alarm clock IDL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4190760" y="2362320"/>
              <a:ext cx="685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2438280" y="1371600"/>
              <a:ext cx="24386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2 Excerpt fro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Imp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AlarmListener( String listener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larmListener listener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uplicateNam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enerNam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enerName.trim().length()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 cannot be null or blank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.get( listenerName )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uplicateName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Name is already registered, please choose another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en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"Listener cannot be nul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a new Timer and save it under the listener n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larmList.put( listener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Timer( listene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029200" y="761760"/>
            <a:ext cx="3809880" cy="1328040"/>
            <a:chOff x="5029200" y="761760"/>
            <a:chExt cx="3809880" cy="1328040"/>
          </a:xfrm>
        </p:grpSpPr>
        <p:sp>
          <p:nvSpPr>
            <p:cNvPr id="398" name=""/>
            <p:cNvSpPr/>
            <p:nvPr/>
          </p:nvSpPr>
          <p:spPr>
            <a:xfrm>
              <a:off x="5562720" y="1752480"/>
              <a:ext cx="3276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can now throw excep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5029200" y="761760"/>
              <a:ext cx="5335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2   Step-by-Step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system implementation steps using Java and CORB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alysis and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problem into smaller fundamental services or sub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which subsystems to configure as distribute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the ID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functionality each service will ex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data structures received and returned by each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ing the serv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ing a 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ribution of servant’s object 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ning the servant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ning the cli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   Case Study: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basic network application using a central broadcasting point where a collection of clients pushes in messages and the middleware pushes out mess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use c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: A client finds and connects to a chat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nnect:  A client completes a chat session by disconnecting from the chat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message: A connected client creates a chat message and gives the message to the chat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 message: A connected client receives messages delivered by the chat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Cli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Message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nterface definition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3-22, 24-4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file contains the IDL defining the API to the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 well as the ChatClient and ChatMess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ba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atMessage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o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Cli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ceive new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iverMess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ethod called when server shuting d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Stopp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pableChat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Serv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t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gister new Chat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new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::ChatClient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819520" y="1143000"/>
            <a:ext cx="5486400" cy="1554120"/>
            <a:chOff x="2819520" y="1143000"/>
            <a:chExt cx="5486400" cy="1554120"/>
          </a:xfrm>
        </p:grpSpPr>
        <p:sp>
          <p:nvSpPr>
            <p:cNvPr id="405" name=""/>
            <p:cNvSpPr/>
            <p:nvPr/>
          </p:nvSpPr>
          <p:spPr>
            <a:xfrm>
              <a:off x="5029200" y="1143000"/>
              <a:ext cx="32767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stracting messag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nables each client to receive its own copy of message object. Prevents bottleneck problem associated with sending reference to one message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819520" y="12952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028840" y="3886200"/>
            <a:ext cx="3962880" cy="914400"/>
            <a:chOff x="5028840" y="3886200"/>
            <a:chExt cx="3962880" cy="914400"/>
          </a:xfrm>
        </p:grpSpPr>
        <p:sp>
          <p:nvSpPr>
            <p:cNvPr id="408" name=""/>
            <p:cNvSpPr/>
            <p:nvPr/>
          </p:nvSpPr>
          <p:spPr>
            <a:xfrm>
              <a:off x="5715000" y="419112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wo different scop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5028840" y="38862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5028840" y="43434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276720" y="4952880"/>
            <a:ext cx="3657600" cy="1219320"/>
            <a:chOff x="3276720" y="4952880"/>
            <a:chExt cx="3657600" cy="1219320"/>
          </a:xfrm>
        </p:grpSpPr>
        <p:sp>
          <p:nvSpPr>
            <p:cNvPr id="412" name=""/>
            <p:cNvSpPr/>
            <p:nvPr/>
          </p:nvSpPr>
          <p:spPr>
            <a:xfrm>
              <a:off x="3276720" y="495288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olves IDL namespace in same way “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 resolves Java package/class namesp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52880" y="55627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715000" y="4800600"/>
            <a:ext cx="3276720" cy="1295280"/>
            <a:chOff x="5715000" y="4800600"/>
            <a:chExt cx="3276720" cy="1295280"/>
          </a:xfrm>
        </p:grpSpPr>
        <p:sp>
          <p:nvSpPr>
            <p:cNvPr id="415" name=""/>
            <p:cNvSpPr/>
            <p:nvPr/>
          </p:nvSpPr>
          <p:spPr>
            <a:xfrm>
              <a:off x="5715000" y="480060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olve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cope level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790960" y="5410080"/>
              <a:ext cx="1523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Cli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Message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nterface definition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51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nregister Chat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::ChatClient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ost new 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Mess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combination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ice : ChatServer, StoppableChat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odule corb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ServerImpl.java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 compiler generates following server-side use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_ChatClientImplBas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server\_ChatServerImplBas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ChatClient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ChatClientOperations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hatMessag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server\ChatServ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server\ChatServerOperations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ServerImpl.java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 compiler also generates following support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hatMessageHelp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hatMessageHold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the CORB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Impl implements the CORBA ChatSer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corba.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MalformedURL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NamingContextPack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corba.Chat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corba.client.Chat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ChatServerImpl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ORB that connects us to the networ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B or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p of ChatClient refere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p client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new ChatServer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Impl( String[] arg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gister( ChatServ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67080" y="4724280"/>
            <a:ext cx="3429000" cy="1143000"/>
            <a:chOff x="4267080" y="4724280"/>
            <a:chExt cx="3429000" cy="1143000"/>
          </a:xfrm>
        </p:grpSpPr>
        <p:sp>
          <p:nvSpPr>
            <p:cNvPr id="426" name=""/>
            <p:cNvSpPr/>
            <p:nvPr/>
          </p:nvSpPr>
          <p:spPr>
            <a:xfrm>
              <a:off x="5638680" y="47242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267080" y="4876920"/>
              <a:ext cx="13716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295280" y="685800"/>
            <a:ext cx="5486400" cy="2895480"/>
            <a:chOff x="1295280" y="685800"/>
            <a:chExt cx="5486400" cy="2895480"/>
          </a:xfrm>
        </p:grpSpPr>
        <p:sp>
          <p:nvSpPr>
            <p:cNvPr id="429" name=""/>
            <p:cNvSpPr/>
            <p:nvPr/>
          </p:nvSpPr>
          <p:spPr>
            <a:xfrm>
              <a:off x="1295280" y="685800"/>
              <a:ext cx="5486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stract class that requir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tServerImp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mplement operations defined in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tServer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72000" y="12952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the CORB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new Chat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Client( ChatClient cli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client to Map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key = orb.object_to_string(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s.put( key,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gistered Cli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ke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register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register 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registerClient( ChatClient cli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client from Map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key = orb.object_to_string(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s.remove( ke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registered Cli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ke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unregister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st new 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Message( ChatMessage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terator for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 clients.entrySet() 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the CORB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message to every Chat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Client cli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ChatClient ) ( ( Map.Entry ) iterator.next() ).get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deliverMessage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ost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ChatServerImpl object with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( String serverName, String[] parameter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Found, CannotProceed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g.omg.CosNaming.NamingContext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g.omg.CORBA.ORBPackage.Invalid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rverNam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gistration name can not be nul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ind ChatServerImpl object to Naming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d initialize OR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 = ORB.init( parameter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ervant and register it with OR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.connec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g.omg.CORBA.Object corbaObjec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b.resolve_initial_reference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Context naming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Helper.narrow( corbaObj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namingComponen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Component( serverNam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path[] = { namingCompon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.rebind( pa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3733920" y="1371600"/>
            <a:ext cx="5257800" cy="718200"/>
            <a:chOff x="3733920" y="1371600"/>
            <a:chExt cx="5257800" cy="718200"/>
          </a:xfrm>
        </p:grpSpPr>
        <p:sp>
          <p:nvSpPr>
            <p:cNvPr id="436" name=""/>
            <p:cNvSpPr/>
            <p:nvPr/>
          </p:nvSpPr>
          <p:spPr>
            <a:xfrm>
              <a:off x="5029200" y="1752480"/>
              <a:ext cx="3962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te method invocation send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3733920" y="1371600"/>
              <a:ext cx="1295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the CORB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bound to nam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tify each client that server is shutting down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rminate serve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Serv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rminating server 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terator for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 clients.entrySet() 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serverStopping message to every Chat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Client client = ( ChatClient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serverStopp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connect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hread to terminate application af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pServer method returns to ca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ead termin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leep for 5 seconds, print message and term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lee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the CORB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ignore Interrupted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terminated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rminator.start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termination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stop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in method to execute ChatServer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ChatServerImpl object and bind to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ChatServerImpl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ServerImpl chatServerImp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Impl(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ava.lang.Object objec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Objec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keep server ali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objec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bject.wa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505320" y="5334120"/>
            <a:ext cx="5333760" cy="337320"/>
            <a:chOff x="3505320" y="5334120"/>
            <a:chExt cx="5333760" cy="337320"/>
          </a:xfrm>
        </p:grpSpPr>
        <p:sp>
          <p:nvSpPr>
            <p:cNvPr id="443" name=""/>
            <p:cNvSpPr/>
            <p:nvPr/>
          </p:nvSpPr>
          <p:spPr>
            <a:xfrm>
              <a:off x="4800600" y="5334120"/>
              <a:ext cx="4038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sure server object not garbage coll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3505320" y="5486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3   First Example: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ystemClock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 basic service by enabling client to query for curren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rieve the current system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 the retrieved time in GUI wind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the CORB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problems setting up ChatServerImpl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DeitelMessenger.java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 compiler generates following client-use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_ChatClientStub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server\_ChatServerStub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ChatClient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ChatClientOperations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hatMessag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server\ChatServ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server\ChatServerHelp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server\ChatServerOperations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DeitelMessenger.java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generated server-side files are available for client to accept callback invocations from ser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_ChatClientImplBas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ChatClient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ChatClientOperations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support files genera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ChatClientHelp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ChatClientHold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hatMessageHelp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hatMessageHold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server\ChatServerHold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ORBA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interfac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ing CORB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RBAMessageManag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RBAMessageManager implements the ChatClient remo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and manages incoming and outgoing chat messag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CORB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corba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NamingContextPack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corba.client.Chat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corba.Chat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corba.serv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BAMessageManag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ChatClientImpl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Manag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coming ORB configuration parame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configurationParamet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eners for incoming messages and disconnect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Listener message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Listener disconnect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atServer for sending and receiv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 chat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8600" y="914400"/>
            <a:ext cx="6705720" cy="3352680"/>
            <a:chOff x="228600" y="914400"/>
            <a:chExt cx="6705720" cy="3352680"/>
          </a:xfrm>
        </p:grpSpPr>
        <p:sp>
          <p:nvSpPr>
            <p:cNvPr id="454" name=""/>
            <p:cNvSpPr/>
            <p:nvPr/>
          </p:nvSpPr>
          <p:spPr>
            <a:xfrm>
              <a:off x="228600" y="914400"/>
              <a:ext cx="6705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stract class requir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RBA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 operation defined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tClientOper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liver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76920" y="152388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ORBA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interfac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ing CORB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43-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RBAMessageManag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BAMessageManager( String[] parameter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configurationParameters = paramet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nect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( Message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ChatServer remot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 orb = ORB.init( configurationParameter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g.omg.CORBA.Object corbaObjec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b.resolve_initial_reference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Context naming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Helper.narrow( corbaObj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solve the object reference in nam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nameComponen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Component( ChatServ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path[] = { nameCompon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ServerHelper.narrow( naming.resolve( path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client with ChatServer to receive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.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listener for incom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Listener =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971440" y="1828800"/>
            <a:ext cx="5715360" cy="565920"/>
            <a:chOff x="2971440" y="1828800"/>
            <a:chExt cx="5715360" cy="565920"/>
          </a:xfrm>
        </p:grpSpPr>
        <p:sp>
          <p:nvSpPr>
            <p:cNvPr id="459" name=""/>
            <p:cNvSpPr/>
            <p:nvPr/>
          </p:nvSpPr>
          <p:spPr>
            <a:xfrm>
              <a:off x="4495680" y="2057400"/>
              <a:ext cx="4191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s ORB and gets Naming Service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 flipV="1">
              <a:off x="2971440" y="1828800"/>
              <a:ext cx="1523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ORBA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interfac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ing CORB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92-9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connect from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( Message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atServ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.un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listener of dis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ServerDisconnecte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Chat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Message( String fromUser, String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atServ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hatMessage with message text and user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Message chatMess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( fromUser,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st 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.postMessage( chat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ndMessag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181480" y="4495680"/>
            <a:ext cx="3810240" cy="337320"/>
            <a:chOff x="5181480" y="4495680"/>
            <a:chExt cx="3810240" cy="337320"/>
          </a:xfrm>
        </p:grpSpPr>
        <p:sp>
          <p:nvSpPr>
            <p:cNvPr id="464" name=""/>
            <p:cNvSpPr/>
            <p:nvPr/>
          </p:nvSpPr>
          <p:spPr>
            <a:xfrm>
              <a:off x="5715000" y="449568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copy sent to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5181480" y="4648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ORBA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interfac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ing CORB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04-10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delivery of ChatMessage from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iverMessage( ChatMessage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essageListen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Listener.messageReceived( message.from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.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server shutting down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Stopping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ServerDisconnecte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shut down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listener for disconnect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Disconnect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nnectListener listen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nnectListener =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disconnect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ServerDisconnected( String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isconnectListen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connectListener.serverDisconnected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809880" y="1295280"/>
            <a:ext cx="5105520" cy="1175760"/>
            <a:chOff x="3809880" y="1295280"/>
            <a:chExt cx="5105520" cy="1175760"/>
          </a:xfrm>
        </p:grpSpPr>
        <p:sp>
          <p:nvSpPr>
            <p:cNvPr id="469" name=""/>
            <p:cNvSpPr/>
            <p:nvPr/>
          </p:nvSpPr>
          <p:spPr>
            <a:xfrm>
              <a:off x="5638680" y="213372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broadcasts from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flipV="1">
              <a:off x="3809880" y="1295280"/>
              <a:ext cx="18288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eitelMessen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pplication for launching the CORBA chat client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Messeng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Messenger uses ClientGUI and CORBAMessageManager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lement an CORBA chat cli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corba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itelMesseng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DeitelMessenge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ORBAMessageManager for communicating with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Manager messageManag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BAMessageManager(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and display chat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 clientGUI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GUI( messageManag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.setResiz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4   Running Ch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s for running example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 IDL file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l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dlj -pkgPrefix chat com.deitel.advjhtp1.id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td c:\src -fall chat.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and compile server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and compile client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window, ru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nameser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ing Serv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nameserv –ORBInitialPort 10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window, run serv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 com.deitel.messenger.corba.server.ChatServerIm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ORBInitialPort 10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window, run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 com.deitel.messenger.corba.client.DeitelMessen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ORBInitialPort 10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5   Issu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use local objects for the messages received by the cli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ould mak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tMess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distributed object alter the application’s complex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3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ystemClock.id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ystemCl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rver IDL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s a single 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urrentTimeMil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5   Issu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tMess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tag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rly defined API and proper encapsulat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t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be remote object (all clients could inspect message object and see any changes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advantag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s sharing single remote object could create network bottlen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deal with data locking issues due to synchronous data access by multiple cli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5   Issu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cts-by-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BV) specification defines new kind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ype-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lue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th behavior semantics (ability to support declaration of operati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ility to pass copies of “objects” around a distributed system that contain behavior in addition to da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t.id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tMessag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hanged to be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typ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7-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0-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3-1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27: Chat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file contains the IDL defining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I to the ChatServer as well as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Client and ChatMess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vcorba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atMessage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o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ender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Mess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cto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o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Cli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ceive new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iverMess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t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gister new Chat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::ChatClient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4648320" y="2057400"/>
            <a:ext cx="4114800" cy="337320"/>
            <a:chOff x="4648320" y="2057400"/>
            <a:chExt cx="4114800" cy="337320"/>
          </a:xfrm>
        </p:grpSpPr>
        <p:sp>
          <p:nvSpPr>
            <p:cNvPr id="484" name=""/>
            <p:cNvSpPr/>
            <p:nvPr/>
          </p:nvSpPr>
          <p:spPr>
            <a:xfrm>
              <a:off x="5486400" y="205740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alue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4648320" y="2209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809520" y="1905120"/>
            <a:ext cx="4115160" cy="337320"/>
            <a:chOff x="3809520" y="1905120"/>
            <a:chExt cx="4115160" cy="337320"/>
          </a:xfrm>
        </p:grpSpPr>
        <p:sp>
          <p:nvSpPr>
            <p:cNvPr id="487" name=""/>
            <p:cNvSpPr/>
            <p:nvPr/>
          </p:nvSpPr>
          <p:spPr>
            <a:xfrm>
              <a:off x="4648320" y="1905120"/>
              <a:ext cx="3276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eld decla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809520" y="20574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809520" y="2514600"/>
            <a:ext cx="4115160" cy="337320"/>
            <a:chOff x="3809520" y="2514600"/>
            <a:chExt cx="4115160" cy="337320"/>
          </a:xfrm>
        </p:grpSpPr>
        <p:sp>
          <p:nvSpPr>
            <p:cNvPr id="490" name=""/>
            <p:cNvSpPr/>
            <p:nvPr/>
          </p:nvSpPr>
          <p:spPr>
            <a:xfrm>
              <a:off x="4648320" y="2514600"/>
              <a:ext cx="3276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decla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809520" y="26668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666880" y="2133720"/>
            <a:ext cx="3276720" cy="838080"/>
            <a:chOff x="2666880" y="2133720"/>
            <a:chExt cx="3276720" cy="838080"/>
          </a:xfrm>
        </p:grpSpPr>
        <p:sp>
          <p:nvSpPr>
            <p:cNvPr id="493" name=""/>
            <p:cNvSpPr/>
            <p:nvPr/>
          </p:nvSpPr>
          <p:spPr>
            <a:xfrm>
              <a:off x="2666880" y="213372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decla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14800" y="2514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t.id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tMessag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hanged to be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typ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523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nregister Chat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ost new 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Mess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of module obvmessen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5   Issu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5   Issu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a Jav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lue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lue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an ID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 definition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dl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 new class from ba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lue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defini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Message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Message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29: ChatMessage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obvcorb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 for empty ChatMessageImpl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Imp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to initialize from and message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Impl( String sender, String 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from = sen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message = 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name of se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ender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o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Messag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648320" y="1066680"/>
            <a:ext cx="4114800" cy="1251720"/>
            <a:chOff x="4648320" y="1066680"/>
            <a:chExt cx="4114800" cy="1251720"/>
          </a:xfrm>
        </p:grpSpPr>
        <p:sp>
          <p:nvSpPr>
            <p:cNvPr id="505" name=""/>
            <p:cNvSpPr/>
            <p:nvPr/>
          </p:nvSpPr>
          <p:spPr>
            <a:xfrm>
              <a:off x="5486400" y="198108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rive gener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alue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4648320" y="1066680"/>
              <a:ext cx="83808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9   Comments and Comparis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I mechanism in JDK 1.2 implements stub-only communication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uses skeleton-stub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is a powerful means of designing robust distributed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gacy applications have become valuable long-term assets, and new applications have become reusable services that can exchange data in a platform-neutral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DL definition for ser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-2 and 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4, 1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9-1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1: systemclock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DL definition of SystemClock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ck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definition of the CORBA-enabled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TimeMilli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52280" y="609120"/>
            <a:ext cx="2667240" cy="2547720"/>
            <a:chOff x="152280" y="609120"/>
            <a:chExt cx="2667240" cy="2547720"/>
          </a:xfrm>
        </p:grpSpPr>
        <p:sp>
          <p:nvSpPr>
            <p:cNvPr id="106" name=""/>
            <p:cNvSpPr/>
            <p:nvPr/>
          </p:nvSpPr>
          <p:spPr>
            <a:xfrm>
              <a:off x="152280" y="2819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note single line 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33520" y="1371600"/>
              <a:ext cx="3808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33520" y="609120"/>
              <a:ext cx="15228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143000" y="990720"/>
            <a:ext cx="4648320" cy="2409480"/>
            <a:chOff x="1143000" y="990720"/>
            <a:chExt cx="4648320" cy="2409480"/>
          </a:xfrm>
        </p:grpSpPr>
        <p:sp>
          <p:nvSpPr>
            <p:cNvPr id="110" name=""/>
            <p:cNvSpPr/>
            <p:nvPr/>
          </p:nvSpPr>
          <p:spPr>
            <a:xfrm>
              <a:off x="3124080" y="281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du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eyword maps given name to a Java pack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1143000" y="990720"/>
              <a:ext cx="327672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" y="990360"/>
            <a:ext cx="2666880" cy="2943000"/>
            <a:chOff x="228600" y="990360"/>
            <a:chExt cx="2666880" cy="2943000"/>
          </a:xfrm>
        </p:grpSpPr>
        <p:sp>
          <p:nvSpPr>
            <p:cNvPr id="113" name=""/>
            <p:cNvSpPr/>
            <p:nvPr/>
          </p:nvSpPr>
          <p:spPr>
            <a:xfrm>
              <a:off x="228600" y="3352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ly braces denote scope boundaries of b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600200" y="990360"/>
              <a:ext cx="22860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685800" y="2133720"/>
              <a:ext cx="9144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838080" y="1828800"/>
            <a:ext cx="4953240" cy="2333160"/>
            <a:chOff x="838080" y="1828800"/>
            <a:chExt cx="4953240" cy="2333160"/>
          </a:xfrm>
        </p:grpSpPr>
        <p:sp>
          <p:nvSpPr>
            <p:cNvPr id="117" name=""/>
            <p:cNvSpPr/>
            <p:nvPr/>
          </p:nvSpPr>
          <p:spPr>
            <a:xfrm>
              <a:off x="3124080" y="35812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micolon identifies end of b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1066320" y="1828800"/>
              <a:ext cx="34290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838080" y="2057040"/>
              <a:ext cx="36576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8600" y="1523520"/>
            <a:ext cx="3276720" cy="3669480"/>
            <a:chOff x="228600" y="1523520"/>
            <a:chExt cx="3276720" cy="3669480"/>
          </a:xfrm>
        </p:grpSpPr>
        <p:sp>
          <p:nvSpPr>
            <p:cNvPr id="121" name=""/>
            <p:cNvSpPr/>
            <p:nvPr/>
          </p:nvSpPr>
          <p:spPr>
            <a:xfrm>
              <a:off x="228600" y="4114800"/>
              <a:ext cx="3276720" cy="1078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 type from client’s perspe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 implemented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905120" y="1523520"/>
              <a:ext cx="34920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523520" y="1752480"/>
            <a:ext cx="4800960" cy="3567240"/>
            <a:chOff x="1523520" y="1752480"/>
            <a:chExt cx="4800960" cy="3567240"/>
          </a:xfrm>
        </p:grpSpPr>
        <p:sp>
          <p:nvSpPr>
            <p:cNvPr id="124" name=""/>
            <p:cNvSpPr/>
            <p:nvPr/>
          </p:nvSpPr>
          <p:spPr>
            <a:xfrm>
              <a:off x="3657600" y="44956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type - maps to Jav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 sing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aps to Jav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1523520" y="1752480"/>
              <a:ext cx="342900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Edward J. Cadillo</cp:lastModifiedBy>
  <dcterms:modified xsi:type="dcterms:W3CDTF">2002-02-06T15:56:57Z</dcterms:modified>
  <cp:revision>178</cp:revision>
  <dc:subject/>
  <dc:title>PowerPoint Presentation</dc:title>
</cp:coreProperties>
</file>