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3.wmf" ContentType="image/x-wmf"/>
  <Override PartName="/ppt/media/image2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28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7D8A-8152-41AE-8A3B-42538E7B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9762-9567-4F0C-BA3B-EB7A7CC11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84C0-6343-48C3-99A3-2AAD12765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F28-2C60-4021-94D4-F292C189C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2BCA-0897-4930-9DDD-7CFA81EAC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4E86-2557-47C3-ADE2-8D2F502F7F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3863-3144-4CAD-8758-7DFA7C726B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A6D0-8C0F-46B6-B839-9123EB06F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818E-F31C-4479-9722-DE417568C2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7A82-5D39-445D-846C-E8EC45BFE8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15E3-2034-4A09-9ED3-B8E5D677B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6EBE-E432-4E83-9858-6CD697CC5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4451-C89C-499F-8CE9-BA5FF2BDD3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48FE-7157-44D8-AA27-2E24CC5C5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405F-9AF5-45DE-B2E5-08D8534C7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B05A-1093-4F54-B8A2-7D3F834E17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C524-0823-49A7-9353-34F9D2082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9C6C-D3FB-42D0-AEC0-1FF2CADD6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9D6F-B79B-40E7-B4E5-36F2B8057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3B34-3453-44E8-B279-522173ED2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B1FF-FCC6-4B15-A795-C6F50B1A9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5F67-2452-45FE-8C9E-7604940BF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BD41-A737-40DB-A3DC-4B504D943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050F-8D2B-4BDB-8B57-5E989DAA7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BCC-C929-4166-961D-045D706FA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B481-B9F5-4F6F-8F1A-A2421CB43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0: Enterprise Java Case Study: Business Logic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Bookstore Application Deployment with J2E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Deitel Bookstore CMP Entity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Deitel Bookstore Serv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1-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Order EJB to obtain list of Orders for Custom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Orders for this Custom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Home.findByCustomerID( custom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list of Orders to build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 order = ( Order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.next(), Ord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rieve OrderModel for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 orderModel = order.get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each OrderModel to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story.add( order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09720" y="1828800"/>
            <a:ext cx="3429360" cy="762120"/>
            <a:chOff x="5409720" y="1828800"/>
            <a:chExt cx="3429360" cy="762120"/>
          </a:xfrm>
        </p:grpSpPr>
        <p:sp>
          <p:nvSpPr>
            <p:cNvPr id="134" name=""/>
            <p:cNvSpPr/>
            <p:nvPr/>
          </p:nvSpPr>
          <p:spPr>
            <a:xfrm>
              <a:off x="6095880" y="1828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409720" y="21337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67280" y="3886200"/>
            <a:ext cx="3048120" cy="2119320"/>
            <a:chOff x="5867280" y="3886200"/>
            <a:chExt cx="3048120" cy="2119320"/>
          </a:xfrm>
        </p:grpSpPr>
        <p:sp>
          <p:nvSpPr>
            <p:cNvPr id="137" name=""/>
            <p:cNvSpPr/>
            <p:nvPr/>
          </p:nvSpPr>
          <p:spPr>
            <a:xfrm>
              <a:off x="5867280" y="5181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la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00800" y="388620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019920" y="464796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Order reco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OrderHistory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ord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ry found for the customer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Order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s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stomer data using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stomerModel( CustomerModel custom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stomer data members to CustomerMode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ID = customer.getUs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= customer.getPasswo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Hint = customer.getPasswordH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customer.getFir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customer.getLa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BillingAddress().getAddress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638680" y="3581280"/>
            <a:ext cx="2971800" cy="1067040"/>
            <a:chOff x="5638680" y="3581280"/>
            <a:chExt cx="2971800" cy="1067040"/>
          </a:xfrm>
        </p:grpSpPr>
        <p:sp>
          <p:nvSpPr>
            <p:cNvPr id="143" name=""/>
            <p:cNvSpPr/>
            <p:nvPr/>
          </p:nvSpPr>
          <p:spPr>
            <a:xfrm>
              <a:off x="6172200" y="35812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modifies the detail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638680" y="39625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1480" y="5334120"/>
            <a:ext cx="3581640" cy="824040"/>
            <a:chOff x="5181480" y="5334120"/>
            <a:chExt cx="3581640" cy="824040"/>
          </a:xfrm>
        </p:grpSpPr>
        <p:sp>
          <p:nvSpPr>
            <p:cNvPr id="146" name=""/>
            <p:cNvSpPr/>
            <p:nvPr/>
          </p:nvSpPr>
          <p:spPr>
            <a:xfrm>
              <a:off x="5791320" y="5334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81480" y="5715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ShippingAddress().getAddress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ame = customer.getCreditCard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umber = customer.getCreditCard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ExpirationD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CreditCardExpiration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CustomerMode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ustomer EJB using give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CustomerModel customer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u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next available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ID = sequenceFactory.getNext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14640" y="457200"/>
            <a:ext cx="3277080" cy="824040"/>
            <a:chOff x="5714640" y="457200"/>
            <a:chExt cx="3277080" cy="824040"/>
          </a:xfrm>
        </p:grpSpPr>
        <p:sp>
          <p:nvSpPr>
            <p:cNvPr id="151" name=""/>
            <p:cNvSpPr/>
            <p:nvPr/>
          </p:nvSpPr>
          <p:spPr>
            <a:xfrm>
              <a:off x="6019920" y="457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714640" y="83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360" y="2819160"/>
            <a:ext cx="3200760" cy="900360"/>
            <a:chOff x="5562360" y="2819160"/>
            <a:chExt cx="3200760" cy="900360"/>
          </a:xfrm>
        </p:grpSpPr>
        <p:sp>
          <p:nvSpPr>
            <p:cNvPr id="154" name=""/>
            <p:cNvSpPr/>
            <p:nvPr/>
          </p:nvSpPr>
          <p:spPr>
            <a:xfrm>
              <a:off x="6248520" y="2895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5562360" y="281916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7800" y="5715000"/>
            <a:ext cx="3657600" cy="762120"/>
            <a:chOff x="5257800" y="5715000"/>
            <a:chExt cx="3657600" cy="762120"/>
          </a:xfrm>
        </p:grpSpPr>
        <p:sp>
          <p:nvSpPr>
            <p:cNvPr id="157" name=""/>
            <p:cNvSpPr/>
            <p:nvPr/>
          </p:nvSpPr>
          <p:spPr>
            <a:xfrm>
              <a:off x="7010280" y="57150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unique ID for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257800" y="60199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5-2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s for billing and shipp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resses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Home addressHome = ( Address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Model billingAddress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Billing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 for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bill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create( billingAddress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in bill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illingAddressModel.setAddressID( ( Integ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illingAddress.getPrimaryKe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Model shippingAddress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Shipping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 for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shipp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create( shippingAddress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in shipp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ippingAddressModel.setAddressID( ( Integ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ippingAddress.getPrimaryKey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76560" y="2590560"/>
            <a:ext cx="3962520" cy="2743560"/>
            <a:chOff x="4876560" y="2590560"/>
            <a:chExt cx="3962520" cy="2743560"/>
          </a:xfrm>
        </p:grpSpPr>
        <p:sp>
          <p:nvSpPr>
            <p:cNvPr id="162" name=""/>
            <p:cNvSpPr/>
            <p:nvPr/>
          </p:nvSpPr>
          <p:spPr>
            <a:xfrm>
              <a:off x="6324480" y="27432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a billing address and shipping address, each of which is stor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876560" y="2590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486400" y="32767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10080" y="3276720"/>
              <a:ext cx="914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8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CustomerModel to set data for new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stomerModel( customerModel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, finding and using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JB container will return a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CustomerModel customer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9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Customer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Customer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reate methods for crea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finder methods for finding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and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Home is the home interface for entity EJB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ustomer EJB using give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create( CustomerModel customer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userID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Login( String userID, String pa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UserID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PrimaryKey( Integer custom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562360" y="1295280"/>
            <a:ext cx="3048120" cy="1828800"/>
            <a:chOff x="5562360" y="1295280"/>
            <a:chExt cx="3048120" cy="1828800"/>
          </a:xfrm>
        </p:grpSpPr>
        <p:sp>
          <p:nvSpPr>
            <p:cNvPr id="175" name=""/>
            <p:cNvSpPr/>
            <p:nvPr/>
          </p:nvSpPr>
          <p:spPr>
            <a:xfrm>
              <a:off x="6629400" y="129528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2360" y="18288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19920" y="2743200"/>
            <a:ext cx="2819160" cy="1310760"/>
            <a:chOff x="6019920" y="2743200"/>
            <a:chExt cx="2819160" cy="1310760"/>
          </a:xfrm>
        </p:grpSpPr>
        <p:sp>
          <p:nvSpPr>
            <p:cNvPr id="178" name=""/>
            <p:cNvSpPr/>
            <p:nvPr/>
          </p:nvSpPr>
          <p:spPr>
            <a:xfrm>
              <a:off x="6934320" y="2743200"/>
              <a:ext cx="1904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19920" y="3429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105520" y="4419720"/>
            <a:ext cx="3657600" cy="580680"/>
            <a:chOff x="5105520" y="4419720"/>
            <a:chExt cx="3657600" cy="580680"/>
          </a:xfrm>
        </p:grpSpPr>
        <p:sp>
          <p:nvSpPr>
            <p:cNvPr id="181" name=""/>
            <p:cNvSpPr/>
            <p:nvPr/>
          </p:nvSpPr>
          <p:spPr>
            <a:xfrm>
              <a:off x="6858000" y="4419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4724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43240" y="5181480"/>
            <a:ext cx="2895840" cy="580680"/>
            <a:chOff x="5943240" y="5181480"/>
            <a:chExt cx="2895840" cy="580680"/>
          </a:xfrm>
        </p:grpSpPr>
        <p:sp>
          <p:nvSpPr>
            <p:cNvPr id="184" name=""/>
            <p:cNvSpPr/>
            <p:nvPr/>
          </p:nvSpPr>
          <p:spPr>
            <a:xfrm>
              <a:off x="6553080" y="5181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943240" y="5486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clas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Model represents a Deitel Bookstore Custom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billing, shipping and credit card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stomer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H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bill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shipp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Expiration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581280" y="3352680"/>
            <a:ext cx="4800600" cy="2057400"/>
            <a:chOff x="3581280" y="3352680"/>
            <a:chExt cx="4800600" cy="2057400"/>
          </a:xfrm>
        </p:grpSpPr>
        <p:sp>
          <p:nvSpPr>
            <p:cNvPr id="191" name=""/>
            <p:cNvSpPr/>
            <p:nvPr/>
          </p:nvSpPr>
          <p:spPr>
            <a:xfrm>
              <a:off x="5486400" y="3352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581280" y="3809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266720" y="380988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19360" y="3809880"/>
              <a:ext cx="1066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ing custo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purchases more 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ique ID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stom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stomerID( Integer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Custom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ID( String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Us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ssword( String customerPasswor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= customerPasswor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7760" y="609480"/>
            <a:ext cx="5486760" cy="5257800"/>
            <a:chOff x="3047760" y="609480"/>
            <a:chExt cx="5486760" cy="5257800"/>
          </a:xfrm>
        </p:grpSpPr>
        <p:sp>
          <p:nvSpPr>
            <p:cNvPr id="198" name=""/>
            <p:cNvSpPr/>
            <p:nvPr/>
          </p:nvSpPr>
          <p:spPr>
            <a:xfrm flipH="1" flipV="1">
              <a:off x="3581280" y="1752120"/>
              <a:ext cx="2743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4266720" y="609480"/>
              <a:ext cx="205740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35053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76720" y="38098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962160" y="2895480"/>
              <a:ext cx="2361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333760" y="38098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047760" y="3809880"/>
              <a:ext cx="32763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1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assword h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sswordHint( String passwordHi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Hint =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76360" y="838080"/>
            <a:ext cx="5486760" cy="5257800"/>
            <a:chOff x="3276360" y="838080"/>
            <a:chExt cx="5486760" cy="5257800"/>
          </a:xfrm>
        </p:grpSpPr>
        <p:sp>
          <p:nvSpPr>
            <p:cNvPr id="208" name=""/>
            <p:cNvSpPr/>
            <p:nvPr/>
          </p:nvSpPr>
          <p:spPr>
            <a:xfrm>
              <a:off x="6553080" y="3733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505320" y="403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495320" y="3047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733560" y="1905120"/>
              <a:ext cx="281916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71640" y="838080"/>
              <a:ext cx="198108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886200" y="40384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276360" y="4038480"/>
              <a:ext cx="32763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7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illingAddress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Billing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ll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ingAddress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Shipping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am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320" y="990720"/>
            <a:ext cx="4343760" cy="4190760"/>
            <a:chOff x="4495320" y="990720"/>
            <a:chExt cx="4343760" cy="4190760"/>
          </a:xfrm>
        </p:grpSpPr>
        <p:sp>
          <p:nvSpPr>
            <p:cNvPr id="218" name=""/>
            <p:cNvSpPr/>
            <p:nvPr/>
          </p:nvSpPr>
          <p:spPr>
            <a:xfrm>
              <a:off x="6629400" y="2819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86692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495320" y="2057040"/>
              <a:ext cx="21337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952520" y="990720"/>
              <a:ext cx="16765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571640" y="3124080"/>
              <a:ext cx="2057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724280" y="3124080"/>
              <a:ext cx="19051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7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redit car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Number( String numb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umber = 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redit car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xpiration dat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ExpirationDate( String d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ExpirationDate = 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xpiration dat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ExpirationD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Expiration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86200" y="685800"/>
            <a:ext cx="4876920" cy="4191120"/>
            <a:chOff x="3886200" y="685800"/>
            <a:chExt cx="4876920" cy="4191120"/>
          </a:xfrm>
        </p:grpSpPr>
        <p:sp>
          <p:nvSpPr>
            <p:cNvPr id="227" name=""/>
            <p:cNvSpPr/>
            <p:nvPr/>
          </p:nvSpPr>
          <p:spPr>
            <a:xfrm>
              <a:off x="6553080" y="35053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4324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4114440" y="2742840"/>
              <a:ext cx="24382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114440" y="1752120"/>
              <a:ext cx="24382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886200" y="685800"/>
              <a:ext cx="26668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876920" y="3809880"/>
              <a:ext cx="16761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n XML representation of this Customer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 public properties as 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Custom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s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UserI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a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a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illing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billingAddress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00240" y="457200"/>
            <a:ext cx="3962880" cy="580680"/>
            <a:chOff x="4800240" y="457200"/>
            <a:chExt cx="3962880" cy="580680"/>
          </a:xfrm>
        </p:grpSpPr>
        <p:sp>
          <p:nvSpPr>
            <p:cNvPr id="236" name=""/>
            <p:cNvSpPr/>
            <p:nvPr/>
          </p:nvSpPr>
          <p:spPr>
            <a:xfrm>
              <a:off x="6324480" y="4572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describ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00240" y="762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pping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shippingAddress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Numb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Numb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ExpirationD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Expiration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ExpirationDat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asswordHi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asswordHi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371600"/>
          <a:ext cx="77500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50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85800" y="579132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6 (Part 1 of 2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990720"/>
          <a:ext cx="80391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039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customer in underlying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s billing and shipping addresses for ea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data in and retrieving data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 is the remote interface for entity EJB Addre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 data as a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Address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343040" y="2895480"/>
            <a:ext cx="4038840" cy="824040"/>
            <a:chOff x="4343040" y="2895480"/>
            <a:chExt cx="4038840" cy="824040"/>
          </a:xfrm>
        </p:grpSpPr>
        <p:sp>
          <p:nvSpPr>
            <p:cNvPr id="260" name=""/>
            <p:cNvSpPr/>
            <p:nvPr/>
          </p:nvSpPr>
          <p:spPr>
            <a:xfrm>
              <a:off x="5867280" y="2895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detail of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343040" y="3276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Address represents an Address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treet address, city, state and zip co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u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4419360"/>
            <a:ext cx="5639040" cy="1600560"/>
            <a:chOff x="3276360" y="4419360"/>
            <a:chExt cx="5639040" cy="1600560"/>
          </a:xfrm>
        </p:grpSpPr>
        <p:sp>
          <p:nvSpPr>
            <p:cNvPr id="267" name=""/>
            <p:cNvSpPr/>
            <p:nvPr/>
          </p:nvSpPr>
          <p:spPr>
            <a:xfrm>
              <a:off x="5715000" y="4572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ntainer-managed data members for information regarding person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52680" y="5029200"/>
              <a:ext cx="2362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276360" y="4419360"/>
              <a:ext cx="2438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6252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Address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AddressModel fields with Address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 me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AddressID( address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reetAddressLine1( streetAddressLine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reetAddressLine2( streetAddressLine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City( c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ate( st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ZipCode( zipC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Country( count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PhoneNumber( phone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 data us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Model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ddress' data members using values provid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the AddressModel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address.getFir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address.getLa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1 = address.getStreetAddressLine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2 = address.getStreetAddressLine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address.get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address.getSt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address.getZipC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343400" y="152280"/>
            <a:ext cx="4495680" cy="824040"/>
            <a:chOff x="4343400" y="152280"/>
            <a:chExt cx="4495680" cy="824040"/>
          </a:xfrm>
        </p:grpSpPr>
        <p:sp>
          <p:nvSpPr>
            <p:cNvPr id="274" name=""/>
            <p:cNvSpPr/>
            <p:nvPr/>
          </p:nvSpPr>
          <p:spPr>
            <a:xfrm>
              <a:off x="5638680" y="15228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et its properties to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43400" y="533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952520" y="3886200"/>
            <a:ext cx="3962880" cy="762120"/>
            <a:chOff x="4952520" y="3886200"/>
            <a:chExt cx="3962880" cy="762120"/>
          </a:xfrm>
        </p:grpSpPr>
        <p:sp>
          <p:nvSpPr>
            <p:cNvPr id="277" name=""/>
            <p:cNvSpPr/>
            <p:nvPr/>
          </p:nvSpPr>
          <p:spPr>
            <a:xfrm>
              <a:off x="5715000" y="3886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updating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ata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952520" y="4191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ry = address.getCou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address.getPhone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AddressModel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ddress EJB using give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AddressModel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u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Addres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next available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ID = sequenceFactory.getNextID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for Address (primary ke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.setAddressID( addressID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AddressModel to set data for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ddressModel( addre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181120" y="685800"/>
            <a:ext cx="3734280" cy="609480"/>
            <a:chOff x="5181120" y="685800"/>
            <a:chExt cx="3734280" cy="609480"/>
          </a:xfrm>
        </p:grpSpPr>
        <p:sp>
          <p:nvSpPr>
            <p:cNvPr id="282" name=""/>
            <p:cNvSpPr/>
            <p:nvPr/>
          </p:nvSpPr>
          <p:spPr>
            <a:xfrm>
              <a:off x="5562720" y="6858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181120" y="9907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181120" y="5029200"/>
            <a:ext cx="3734280" cy="824040"/>
            <a:chOff x="5181120" y="5029200"/>
            <a:chExt cx="3734280" cy="824040"/>
          </a:xfrm>
        </p:grpSpPr>
        <p:sp>
          <p:nvSpPr>
            <p:cNvPr id="285" name=""/>
            <p:cNvSpPr/>
            <p:nvPr/>
          </p:nvSpPr>
          <p:spPr>
            <a:xfrm>
              <a:off x="5867280" y="50292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hav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its primary ke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18112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sing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JB container will return a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AddressModel address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Address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Address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thods for creating and fin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business logic methods i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and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Home is the home interface for entity EJB Addre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ddress EJB using give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create( AddressModel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Address with given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findByPrimaryKey( Integer address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105520" y="2286000"/>
            <a:ext cx="3352680" cy="1143000"/>
            <a:chOff x="5105520" y="2286000"/>
            <a:chExt cx="3352680" cy="1143000"/>
          </a:xfrm>
        </p:grpSpPr>
        <p:sp>
          <p:nvSpPr>
            <p:cNvPr id="296" name=""/>
            <p:cNvSpPr/>
            <p:nvPr/>
          </p:nvSpPr>
          <p:spPr>
            <a:xfrm>
              <a:off x="6477120" y="228600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05520" y="2819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4640" y="3886200"/>
            <a:ext cx="2743560" cy="580680"/>
            <a:chOff x="5714640" y="3886200"/>
            <a:chExt cx="2743560" cy="580680"/>
          </a:xfrm>
        </p:grpSpPr>
        <p:sp>
          <p:nvSpPr>
            <p:cNvPr id="299" name=""/>
            <p:cNvSpPr/>
            <p:nvPr/>
          </p:nvSpPr>
          <p:spPr>
            <a:xfrm>
              <a:off x="6324480" y="3886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14640" y="4191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class generates an XML description of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Model represents a Customer's address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et, city, state and zip co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u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ID(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52320" y="3276360"/>
            <a:ext cx="5563080" cy="1600560"/>
            <a:chOff x="3352320" y="3276360"/>
            <a:chExt cx="5563080" cy="1600560"/>
          </a:xfrm>
        </p:grpSpPr>
        <p:sp>
          <p:nvSpPr>
            <p:cNvPr id="306" name=""/>
            <p:cNvSpPr/>
            <p:nvPr/>
          </p:nvSpPr>
          <p:spPr>
            <a:xfrm>
              <a:off x="6019920" y="35053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14800" y="39625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28640" y="3962520"/>
              <a:ext cx="2590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352320" y="3276360"/>
              <a:ext cx="266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Address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eetAddressLine1( String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1 = addres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352680" y="762120"/>
            <a:ext cx="5410440" cy="5333760"/>
            <a:chOff x="3352680" y="762120"/>
            <a:chExt cx="5410440" cy="5333760"/>
          </a:xfrm>
        </p:grpSpPr>
        <p:sp>
          <p:nvSpPr>
            <p:cNvPr id="313" name=""/>
            <p:cNvSpPr/>
            <p:nvPr/>
          </p:nvSpPr>
          <p:spPr>
            <a:xfrm>
              <a:off x="6553080" y="2590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505320" y="2895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4495320" y="1904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67080" y="2895480"/>
              <a:ext cx="2286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580920" y="762120"/>
              <a:ext cx="297180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352680" y="2895480"/>
              <a:ext cx="32004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181480" y="2895480"/>
              <a:ext cx="137160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4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eetAddressLine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etAddressLine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eetAddressLine2( String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2 = addres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eetAddressLine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etAddressLine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ity( String addressCit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addressCi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48120" y="990720"/>
            <a:ext cx="5790960" cy="4190760"/>
            <a:chOff x="3048120" y="990720"/>
            <a:chExt cx="5790960" cy="4190760"/>
          </a:xfrm>
        </p:grpSpPr>
        <p:sp>
          <p:nvSpPr>
            <p:cNvPr id="323" name=""/>
            <p:cNvSpPr/>
            <p:nvPr/>
          </p:nvSpPr>
          <p:spPr>
            <a:xfrm>
              <a:off x="6629400" y="2819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343400" y="3124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962520" y="31240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48120" y="3124080"/>
              <a:ext cx="35812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495320" y="2133360"/>
              <a:ext cx="2133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4267080" y="990720"/>
              <a:ext cx="23623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4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te( String addressSt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addressSt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zip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ZipCode( String zip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zi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zip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ZipCod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Cod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u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untry( String addressCount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ry = addressCou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u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unt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124080" y="685800"/>
            <a:ext cx="5486400" cy="5257800"/>
            <a:chOff x="3124080" y="685800"/>
            <a:chExt cx="5486400" cy="5257800"/>
          </a:xfrm>
        </p:grpSpPr>
        <p:sp>
          <p:nvSpPr>
            <p:cNvPr id="332" name=""/>
            <p:cNvSpPr/>
            <p:nvPr/>
          </p:nvSpPr>
          <p:spPr>
            <a:xfrm>
              <a:off x="6400800" y="35053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6720" y="38098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4038480" y="28954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124080" y="1752120"/>
              <a:ext cx="3276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3504960" y="685800"/>
              <a:ext cx="28954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33920" y="38098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76720" y="3809880"/>
              <a:ext cx="31240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0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Number( String phon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hone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XML representation of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address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ate fir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a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La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eetAddressLine1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AddressLine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581280" y="457200"/>
            <a:ext cx="5029200" cy="1295280"/>
            <a:chOff x="3581280" y="457200"/>
            <a:chExt cx="5029200" cy="1295280"/>
          </a:xfrm>
        </p:grpSpPr>
        <p:sp>
          <p:nvSpPr>
            <p:cNvPr id="342" name=""/>
            <p:cNvSpPr/>
            <p:nvPr/>
          </p:nvSpPr>
          <p:spPr>
            <a:xfrm>
              <a:off x="6400800" y="457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00240" y="762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762120"/>
              <a:ext cx="2819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800240" y="2438280"/>
            <a:ext cx="4115160" cy="824040"/>
            <a:chOff x="4800240" y="2438280"/>
            <a:chExt cx="4115160" cy="824040"/>
          </a:xfrm>
        </p:grpSpPr>
        <p:sp>
          <p:nvSpPr>
            <p:cNvPr id="346" name=""/>
            <p:cNvSpPr/>
            <p:nvPr/>
          </p:nvSpPr>
          <p:spPr>
            <a:xfrm>
              <a:off x="5867280" y="2438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800240" y="2895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6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reetAddressLine1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eetAddressLine2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AddressLin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reetAddressLine2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it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ci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at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zipCod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ZipCod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untr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Country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honeNumb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PhoneNumb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, get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story and password hi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 is the remote interface for entity EJB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 data as a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getCustomer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history for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Histo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NoOrderHistory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 for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320" y="2514600"/>
            <a:ext cx="4115160" cy="1143000"/>
            <a:chOff x="4495320" y="2514600"/>
            <a:chExt cx="4115160" cy="1143000"/>
          </a:xfrm>
        </p:grpSpPr>
        <p:sp>
          <p:nvSpPr>
            <p:cNvPr id="98" name=""/>
            <p:cNvSpPr/>
            <p:nvPr/>
          </p:nvSpPr>
          <p:spPr>
            <a:xfrm>
              <a:off x="6248520" y="251460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ializ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95320" y="281952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343040" y="3276720"/>
            <a:ext cx="4267440" cy="1310760"/>
            <a:chOff x="4343040" y="3276720"/>
            <a:chExt cx="4267440" cy="1310760"/>
          </a:xfrm>
        </p:grpSpPr>
        <p:sp>
          <p:nvSpPr>
            <p:cNvPr id="101" name=""/>
            <p:cNvSpPr/>
            <p:nvPr/>
          </p:nvSpPr>
          <p:spPr>
            <a:xfrm>
              <a:off x="6477120" y="3276720"/>
              <a:ext cx="2133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contains information about p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pla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343040" y="39625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3920" y="5257440"/>
            <a:ext cx="3962880" cy="1053000"/>
            <a:chOff x="4723920" y="5257440"/>
            <a:chExt cx="3962880" cy="1053000"/>
          </a:xfrm>
        </p:grpSpPr>
        <p:sp>
          <p:nvSpPr>
            <p:cNvPr id="104" name=""/>
            <p:cNvSpPr/>
            <p:nvPr/>
          </p:nvSpPr>
          <p:spPr>
            <a:xfrm>
              <a:off x="6172200" y="54864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hint to rem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forgotten pass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723920" y="5257440"/>
              <a:ext cx="1443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685800" y="5791320"/>
            <a:ext cx="769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13 (Part 1 of 2)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lds primary key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ly identifies row in databas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ed to define relationships between tables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interf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5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generating primary key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 is the remote interface for the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NextI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562360" y="2590920"/>
            <a:ext cx="2972160" cy="580680"/>
            <a:chOff x="5562360" y="2590920"/>
            <a:chExt cx="2972160" cy="580680"/>
          </a:xfrm>
        </p:grpSpPr>
        <p:sp>
          <p:nvSpPr>
            <p:cNvPr id="372" name=""/>
            <p:cNvSpPr/>
            <p:nvPr/>
          </p:nvSpPr>
          <p:spPr>
            <a:xfrm>
              <a:off x="6553080" y="25909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next available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562360" y="2895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EJ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SequenceFactory generates unique primary key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ableNam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le name for ID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nextID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ext available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Next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nextID for returning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xtID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crement ID to produce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xt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ID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00400" y="2286000"/>
            <a:ext cx="5334120" cy="1143000"/>
            <a:chOff x="3200400" y="2286000"/>
            <a:chExt cx="5334120" cy="1143000"/>
          </a:xfrm>
        </p:grpSpPr>
        <p:sp>
          <p:nvSpPr>
            <p:cNvPr id="379" name=""/>
            <p:cNvSpPr/>
            <p:nvPr/>
          </p:nvSpPr>
          <p:spPr>
            <a:xfrm>
              <a:off x="6400800" y="228600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manages synchron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with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00400" y="281952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2320" y="3657600"/>
            <a:ext cx="5334480" cy="1067400"/>
            <a:chOff x="3352320" y="3657600"/>
            <a:chExt cx="5334480" cy="1067400"/>
          </a:xfrm>
        </p:grpSpPr>
        <p:sp>
          <p:nvSpPr>
            <p:cNvPr id="382" name=""/>
            <p:cNvSpPr/>
            <p:nvPr/>
          </p:nvSpPr>
          <p:spPr>
            <a:xfrm>
              <a:off x="6477120" y="365760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next availabl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crementing current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352320" y="4191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Name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SequenceFactory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SequenceFactory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 interf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stance variables for ea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Home is the home interface for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SequenceFactory with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 findByPrimaryKey( String tab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876560" y="3048120"/>
            <a:ext cx="3962520" cy="1281240"/>
            <a:chOff x="4876560" y="3048120"/>
            <a:chExt cx="3962520" cy="12812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remote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quence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database table with given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876560" y="304812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 Deitel Bookstore Application Deployment with J2E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Deploy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2" name="cmp_deployment_step1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97360" cy="481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063880" y="6172200"/>
            <a:ext cx="46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 EJB to an enterprise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5" name="cmp_deployment_step2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76600" cy="4572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129480" y="5943600"/>
            <a:ext cx="32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8" name="cmp_deployment_step3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3790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142720" y="5332320"/>
            <a:ext cx="50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ot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1" name="cmp_deployment_step4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790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444040" y="5410080"/>
            <a:ext cx="43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EJB classes to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4" name="cmp_deployment_step5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76600" cy="4572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988640" y="5715000"/>
            <a:ext cx="51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adding EJB classes to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7" name="cmp_deployment_step6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327560" cy="44193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310760" y="5791320"/>
            <a:ext cx="62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classes for EJB, home interface and remote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Customer represents a Customer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ustomer's user name, password, bill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, shipping address and credit card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H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billing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shipping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9520" y="4876920"/>
            <a:ext cx="4953600" cy="1600200"/>
            <a:chOff x="3809520" y="4876920"/>
            <a:chExt cx="4953600" cy="1600200"/>
          </a:xfrm>
        </p:grpSpPr>
        <p:sp>
          <p:nvSpPr>
            <p:cNvPr id="111" name=""/>
            <p:cNvSpPr/>
            <p:nvPr/>
          </p:nvSpPr>
          <p:spPr>
            <a:xfrm>
              <a:off x="5638680" y="502920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variabl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809520" y="4876920"/>
              <a:ext cx="1824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809880" y="533412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62520" y="5334120"/>
              <a:ext cx="1676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0" name="cmp_deployment_step7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02080" cy="4496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977200" y="5865840"/>
            <a:ext cx="36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3" name="cmp_deployment_step8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3578400" cy="4343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611360" y="5638680"/>
            <a:ext cx="60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ing container-managed fields and primary-key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6" name="cmp_deployment_step9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29160" cy="3943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17240" y="5486400"/>
            <a:ext cx="48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other EJBs referenced by this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9" name="cmp_deployment_step10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57480" cy="3619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077120" y="5256360"/>
            <a:ext cx="74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er-Manag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a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JB business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2" name="cmp_deployment_step1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57480" cy="3619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535760" y="5332320"/>
            <a:ext cx="63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 descriptor generat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loy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5" name="cmp_deployment_step1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40200" cy="4030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369160" y="540864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J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loy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8" name="cmp_deployment_step13" descr=""/>
          <p:cNvPicPr/>
          <p:nvPr/>
        </p:nvPicPr>
        <p:blipFill>
          <a:blip r:embed="rId1"/>
          <a:stretch/>
        </p:blipFill>
        <p:spPr>
          <a:xfrm>
            <a:off x="2843280" y="1166760"/>
            <a:ext cx="3457440" cy="4524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519280" y="5865840"/>
            <a:ext cx="43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ing EJ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1" name="cmp_deployment_step1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562640" cy="13525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51040" y="4121280"/>
            <a:ext cx="69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og indicating methods that requi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for SQL qu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4" name="cmp_deployment_step15" descr=""/>
          <p:cNvPicPr/>
          <p:nvPr/>
        </p:nvPicPr>
        <p:blipFill>
          <a:blip r:embed="rId1"/>
          <a:stretch/>
        </p:blipFill>
        <p:spPr>
          <a:xfrm>
            <a:off x="2557440" y="1495440"/>
            <a:ext cx="4029120" cy="3867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837080" y="556272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SQL query for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dByCustomer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ExpirationDat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getCustom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 custo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CustomerModel with data for this Custom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ustomerID( custom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Password(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PasswordHint( passwordH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Address EJB to get Customer billing and shi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ress inst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Home addressHome = ( Address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Home.class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mote reference to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bill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findByPrimaryKey( billingAddress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billing AddressModel to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setBillingAddre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illingAddress.getAddressMode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6400" y="990360"/>
            <a:ext cx="3505320" cy="976680"/>
            <a:chOff x="5486400" y="990360"/>
            <a:chExt cx="3505320" cy="976680"/>
          </a:xfrm>
        </p:grpSpPr>
        <p:sp>
          <p:nvSpPr>
            <p:cNvPr id="118" name=""/>
            <p:cNvSpPr/>
            <p:nvPr/>
          </p:nvSpPr>
          <p:spPr>
            <a:xfrm>
              <a:off x="63244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ose data members contain valu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86400" y="99036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38320" y="4876920"/>
            <a:ext cx="3124800" cy="838080"/>
            <a:chOff x="5638320" y="4876920"/>
            <a:chExt cx="3124800" cy="838080"/>
          </a:xfrm>
        </p:grpSpPr>
        <p:sp>
          <p:nvSpPr>
            <p:cNvPr id="121" name=""/>
            <p:cNvSpPr/>
            <p:nvPr/>
          </p:nvSpPr>
          <p:spPr>
            <a:xfrm>
              <a:off x="6781680" y="48769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638320" y="5181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0" name="servlet_contex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811840" cy="4086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88760" y="5560920"/>
            <a:ext cx="60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Deitel Bookstore servl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3" name="servlet_context_parameters" descr=""/>
          <p:cNvPicPr/>
          <p:nvPr/>
        </p:nvPicPr>
        <p:blipFill>
          <a:blip r:embed="rId1"/>
          <a:stretch/>
        </p:blipFill>
        <p:spPr>
          <a:xfrm>
            <a:off x="1665360" y="1386000"/>
            <a:ext cx="5811840" cy="4086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99840" y="5641920"/>
            <a:ext cx="79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_LI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Deitel Bookstore servl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6" name="servlet_ejb_references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938920" cy="4503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823480" y="578952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J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mote reference to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shipp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findByPrimaryKey( shippingAddressID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shipping AddressModel to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setShippingAddress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ippingAddress.getAddressMode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sing Addres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redit card information i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Name( creditCar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Number( creditCard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ExpirationD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ditCardExpiration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history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Histo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OrderHistory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ection his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5520" y="914400"/>
            <a:ext cx="2667600" cy="580680"/>
            <a:chOff x="6095520" y="914400"/>
            <a:chExt cx="2667600" cy="580680"/>
          </a:xfrm>
        </p:grpSpPr>
        <p:sp>
          <p:nvSpPr>
            <p:cNvPr id="126" name=""/>
            <p:cNvSpPr/>
            <p:nvPr/>
          </p:nvSpPr>
          <p:spPr>
            <a:xfrm>
              <a:off x="6781680" y="914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095520" y="1219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90760" y="4343400"/>
            <a:ext cx="4648320" cy="990720"/>
            <a:chOff x="4190760" y="4343400"/>
            <a:chExt cx="4648320" cy="99072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la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190760" y="4724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2-04T18:24:15Z</dcterms:modified>
  <cp:revision>93</cp:revision>
  <dc:subject/>
  <dc:title>Chapter 20: Enterprise Java Case Study: Business Logic Part 2</dc:title>
</cp:coreProperties>
</file>