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5271-638C-4885-A0E6-6980D7A3C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A5AD-0C73-49E3-9E52-1BC125B25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91FB-8ECD-4CA1-A981-42E562D8D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420E-3FE1-49E7-A382-E07166DAB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7994-969A-457F-93B9-371EFDC34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EEA8-693D-488E-A4BF-F93923FBEC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66BA-D7AA-441A-8EC6-5D9A8976C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BA53-DAA8-4342-8203-AA8D247ACA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3959-1691-4ACA-B2AE-9FC693DBFA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F63D-D387-4AE0-B69F-167DD8054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1C91-ED71-404B-917D-54DBA0045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00B6-223D-4FDD-AE8C-89856C5C5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E138-274D-4490-87B3-623E012EFB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E34E-F262-4BD2-A824-45FBB6ADC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2F17-A788-4C3A-B5D0-8B81711D24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92D0-74CD-4E8B-A190-A0C106321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C6A0-5422-4DD6-B874-BD8AD70F1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2BAF-6473-4C6F-849E-FDEAC431A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4B2B-4AE9-4633-A33A-59185FFC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8689-197C-42E3-A4E6-CDA3CFBD9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5AC0-8312-4A1F-9309-4D55E8E5C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E536-36D8-4B87-A815-8A2A2689F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16E8-5C11-4EAD-B087-3CABD4C70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157D-A929-4E2A-8963-2F1DBECD8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EA2-E507-48C7-94EA-E5F404543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134-8F75-4013-B94F-DABD4F025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3: Remote Method Invocation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reating a Distributed System with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the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Executing the Server and the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Deitel Messenger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ctivat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ctivat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eitel Messenger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Messenger Client Architecture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the Deitel Messenger Server and Clien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7-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ementation for WeatherService interfac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WeatherInformatio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nform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Servic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ing WeatherService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 serv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remote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rverObjec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localhost/Weather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WeatherService remote object in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serverObjectName, serv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Service runn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57600" y="1905120"/>
            <a:ext cx="3047760" cy="824040"/>
            <a:chOff x="3657600" y="1905120"/>
            <a:chExt cx="3047760" cy="824040"/>
          </a:xfrm>
        </p:grpSpPr>
        <p:sp>
          <p:nvSpPr>
            <p:cNvPr id="141" name=""/>
            <p:cNvSpPr/>
            <p:nvPr/>
          </p:nvSpPr>
          <p:spPr>
            <a:xfrm>
              <a:off x="4309200" y="1905120"/>
              <a:ext cx="239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ing method defined in interface to respond to remote reque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657600" y="220968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629400" y="4038480"/>
            <a:ext cx="2286000" cy="1310760"/>
            <a:chOff x="6629400" y="4038480"/>
            <a:chExt cx="2286000" cy="1310760"/>
          </a:xfrm>
        </p:grpSpPr>
        <p:sp>
          <p:nvSpPr>
            <p:cNvPr id="144" name=""/>
            <p:cNvSpPr/>
            <p:nvPr/>
          </p:nvSpPr>
          <p:spPr>
            <a:xfrm>
              <a:off x="7117560" y="4038480"/>
              <a:ext cx="1797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 client can use to obtain a remote reference to the server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29400" y="43434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181120" y="4648320"/>
            <a:ext cx="3657600" cy="1310760"/>
            <a:chOff x="5181120" y="4648320"/>
            <a:chExt cx="3657600" cy="1310760"/>
          </a:xfrm>
        </p:grpSpPr>
        <p:sp>
          <p:nvSpPr>
            <p:cNvPr id="147" name=""/>
            <p:cNvSpPr/>
            <p:nvPr/>
          </p:nvSpPr>
          <p:spPr>
            <a:xfrm>
              <a:off x="5963400" y="4648320"/>
              <a:ext cx="2875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ervice to the RMI registry with the specified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1120" y="49528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maintains weather information for one c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Nam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of c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mperatur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ty's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escription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 imageNam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imageNames when class WeatherBe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loaded into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properti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weather descriptions and image names fro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perti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URL for properti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WeatherBea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names.propert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257800" y="5867280"/>
            <a:ext cx="3733560" cy="824040"/>
            <a:chOff x="5257800" y="5867280"/>
            <a:chExt cx="3733560" cy="824040"/>
          </a:xfrm>
        </p:grpSpPr>
        <p:sp>
          <p:nvSpPr>
            <p:cNvPr id="152" name=""/>
            <p:cNvSpPr/>
            <p:nvPr/>
          </p:nvSpPr>
          <p:spPr>
            <a:xfrm>
              <a:off x="6055920" y="5867280"/>
              <a:ext cx="2935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a property file that contains image names for displaying the weather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257800" y="617220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ad properties fil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Names.lo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url.getFi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from open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atic b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Bea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 String city, String weatherDescri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ityTemperatur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Name =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erature = cityTemperatu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ion = weatherDescription.tri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WeatherBea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Names.getProperty( descrip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nfo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weather image name or noinfo.jpg if weath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emperatur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eratur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escri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 uses the WeatherServic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retrieve wea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String 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 WeatherService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 and get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me of remote server object bound to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remote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eather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WeatherServiceImpl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Service weather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eatherService ) Naming.lookup( remot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weather information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weatherInform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Service.getWeatherInformation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81680" y="4267080"/>
            <a:ext cx="1981440" cy="1067400"/>
            <a:chOff x="6781680" y="4267080"/>
            <a:chExt cx="1981440" cy="1067400"/>
          </a:xfrm>
        </p:grpSpPr>
        <p:sp>
          <p:nvSpPr>
            <p:cNvPr id="161" name=""/>
            <p:cNvSpPr/>
            <p:nvPr/>
          </p:nvSpPr>
          <p:spPr>
            <a:xfrm>
              <a:off x="7205400" y="4267080"/>
              <a:ext cx="1557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URL for this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781680" y="4572000"/>
              <a:ext cx="42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4800600"/>
            <a:ext cx="3200040" cy="1310760"/>
            <a:chOff x="5486400" y="4800600"/>
            <a:chExt cx="3200040" cy="1310760"/>
          </a:xfrm>
        </p:grpSpPr>
        <p:sp>
          <p:nvSpPr>
            <p:cNvPr id="164" name=""/>
            <p:cNvSpPr/>
            <p:nvPr/>
          </p:nvSpPr>
          <p:spPr>
            <a:xfrm>
              <a:off x="6170400" y="4800600"/>
              <a:ext cx="2516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 at the specified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86400" y="5105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47960" y="5562720"/>
            <a:ext cx="3886560" cy="824040"/>
            <a:chOff x="4647960" y="5562720"/>
            <a:chExt cx="3886560" cy="824040"/>
          </a:xfrm>
        </p:grpSpPr>
        <p:sp>
          <p:nvSpPr>
            <p:cNvPr id="167" name=""/>
            <p:cNvSpPr/>
            <p:nvPr/>
          </p:nvSpPr>
          <p:spPr>
            <a:xfrm>
              <a:off x="5480640" y="556272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647960" y="5867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ListModel for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Model weatherLis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weatherInform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List, set ListCellRenderer and add to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weatherJLi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remo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nectException connec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ion to server failed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may be temporarily unavailabl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communicating with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WeatherService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sever IP address or host name specifi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"localhost"; otherwise use specified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28840" y="228600"/>
            <a:ext cx="3581280" cy="824040"/>
            <a:chOff x="5028840" y="228600"/>
            <a:chExt cx="3581280" cy="824040"/>
          </a:xfrm>
        </p:grpSpPr>
        <p:sp>
          <p:nvSpPr>
            <p:cNvPr id="172" name=""/>
            <p:cNvSpPr/>
            <p:nvPr/>
          </p:nvSpPr>
          <p:spPr>
            <a:xfrm>
              <a:off x="5796000" y="228600"/>
              <a:ext cx="2814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acilitate displaying the weather information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028840" y="5335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05720" y="1143000"/>
            <a:ext cx="2285640" cy="824040"/>
            <a:chOff x="6705720" y="1143000"/>
            <a:chExt cx="2285640" cy="824040"/>
          </a:xfrm>
        </p:grpSpPr>
        <p:sp>
          <p:nvSpPr>
            <p:cNvPr id="175" name=""/>
            <p:cNvSpPr/>
            <p:nvPr/>
          </p:nvSpPr>
          <p:spPr>
            <a:xfrm>
              <a:off x="7194240" y="1143000"/>
              <a:ext cx="179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CellRender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05720" y="14479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38320" y="5105520"/>
            <a:ext cx="3353400" cy="1295280"/>
            <a:chOff x="5638320" y="5105520"/>
            <a:chExt cx="3353400" cy="1295280"/>
          </a:xfrm>
        </p:grpSpPr>
        <p:sp>
          <p:nvSpPr>
            <p:cNvPr id="178" name=""/>
            <p:cNvSpPr/>
            <p:nvPr/>
          </p:nvSpPr>
          <p:spPr>
            <a:xfrm>
              <a:off x="6477120" y="5105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nects to an RMI registry running on localh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638320" y="571500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pack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Model extends AbstractListModel to provide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Model for storing a List of WeatherBea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AbstractLis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List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of elements in 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WeatherList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ist for Weather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List elementLi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elem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ize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iz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bject reference to element at given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Element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.ge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element to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( Objec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add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IntervalAdd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.size(), list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lement from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( Objec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list.indexOf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.remove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IntervalRemo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dex,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m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elements from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original size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list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ear all elements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s that content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ContentsChang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Procedure Calls (RP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 functions residing on another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 over 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shal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n interface definition language (ID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’s implementation of R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the marshaling of data across the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Java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IDL is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6 WeatherCellRenderer is a custom ListCellRenderer for displaying WeatherBeans in a JLis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CellRender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CellRenderer is a custom ListCellRenderer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s in a J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CellRender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 WeatherItem object that displays city's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 getListCellRendererComponent( JList li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electe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cu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( ( WeatherBean )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7 WeatherItem displays weather information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Item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Item displays a city's weather information in a J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 weatherBea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ckground Image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background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initializer block loads background image whe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Item is loaded into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RL for backgroun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WeatherItem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jp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ckground image for each city's weather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 Weather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( WeatherBean bea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Bean = 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95680" y="3886200"/>
            <a:ext cx="4038480" cy="1067400"/>
            <a:chOff x="4495680" y="3886200"/>
            <a:chExt cx="4038480" cy="1067400"/>
          </a:xfrm>
        </p:grpSpPr>
        <p:sp>
          <p:nvSpPr>
            <p:cNvPr id="193" name=""/>
            <p:cNvSpPr/>
            <p:nvPr/>
          </p:nvSpPr>
          <p:spPr>
            <a:xfrm>
              <a:off x="5358960" y="3886200"/>
              <a:ext cx="3175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tatic block loa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groun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memory when the virtual machine loa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95680" y="419112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7 WeatherItem displays weather information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information for city's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backgr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Image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ont and drawing colo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n display city name and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 fo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weatherBean.getCity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weatherBean.getTemperatur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Bean.getImage()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ke WeatherItem's preferred size the width and height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backgroun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backgroundImage.getIconWidth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ckgroundImage.getIcon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7960" y="457200"/>
            <a:ext cx="3886560" cy="824040"/>
            <a:chOff x="4647960" y="457200"/>
            <a:chExt cx="3886560" cy="824040"/>
          </a:xfrm>
        </p:grpSpPr>
        <p:sp>
          <p:nvSpPr>
            <p:cNvPr id="198" name=""/>
            <p:cNvSpPr/>
            <p:nvPr/>
          </p:nvSpPr>
          <p:spPr>
            <a:xfrm>
              <a:off x="5480640" y="45720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groun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city name, the temperature a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647960" y="7621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Compiling and Executing the Server and th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 the remote object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a stub class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RMI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erviceIm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ervice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20_06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644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20_07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6364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Compiling and Executing the Server Cli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5" name="20_08" descr=""/>
          <p:cNvPicPr/>
          <p:nvPr/>
        </p:nvPicPr>
        <p:blipFill>
          <a:blip r:embed="rId1"/>
          <a:stretch/>
        </p:blipFill>
        <p:spPr>
          <a:xfrm>
            <a:off x="3019320" y="2138400"/>
            <a:ext cx="3105360" cy="2581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39840" y="525780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ervice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Case Study: Deitel Messenger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ctivatab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RM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continuously on th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able RM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d by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 (rm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Case Study: Deitel Messenger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ctivatab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ev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1 Activatable Deitel Messenger Chat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able remote 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program for registering and unregistering remot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2 ChatServer remote interface for Deitel Messenger chat serv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 is a remote interface that defines how a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 for a chat, leaves a chat and posts chat messa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724280" y="2209680"/>
            <a:ext cx="4190760" cy="824040"/>
            <a:chOff x="4724280" y="2209680"/>
            <a:chExt cx="4190760" cy="824040"/>
          </a:xfrm>
        </p:grpSpPr>
        <p:sp>
          <p:nvSpPr>
            <p:cNvPr id="217" name=""/>
            <p:cNvSpPr/>
            <p:nvPr/>
          </p:nvSpPr>
          <p:spPr>
            <a:xfrm>
              <a:off x="5621760" y="2209680"/>
              <a:ext cx="329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tha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interface Remote, which RMI requires for all remot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24280" y="25146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743200"/>
            <a:ext cx="3733560" cy="824040"/>
            <a:chOff x="5257800" y="2743200"/>
            <a:chExt cx="3733560" cy="824040"/>
          </a:xfrm>
        </p:grpSpPr>
        <p:sp>
          <p:nvSpPr>
            <p:cNvPr id="220" name=""/>
            <p:cNvSpPr/>
            <p:nvPr/>
          </p:nvSpPr>
          <p:spPr>
            <a:xfrm>
              <a:off x="6055920" y="2743200"/>
              <a:ext cx="2935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ake part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57800" y="30481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410080" y="3505320"/>
            <a:ext cx="3200040" cy="824040"/>
            <a:chOff x="5410080" y="3505320"/>
            <a:chExt cx="3200040" cy="824040"/>
          </a:xfrm>
        </p:grpSpPr>
        <p:sp>
          <p:nvSpPr>
            <p:cNvPr id="223" name=""/>
            <p:cNvSpPr/>
            <p:nvPr/>
          </p:nvSpPr>
          <p:spPr>
            <a:xfrm>
              <a:off x="6094080" y="3505320"/>
              <a:ext cx="2516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clients to remove themselves from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10080" y="38098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81480" y="4267080"/>
            <a:ext cx="3276360" cy="580680"/>
            <a:chOff x="5181480" y="4267080"/>
            <a:chExt cx="3276360" cy="580680"/>
          </a:xfrm>
        </p:grpSpPr>
        <p:sp>
          <p:nvSpPr>
            <p:cNvPr id="226" name=""/>
            <p:cNvSpPr/>
            <p:nvPr/>
          </p:nvSpPr>
          <p:spPr>
            <a:xfrm>
              <a:off x="5880960" y="4267080"/>
              <a:ext cx="257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clients to post new messages to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81480" y="45720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3 StoppableChatServer remote interface for stopping a ChatServer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pableChat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pableChatServer is a remote interface that provid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chansim to terminate the chat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ableChatServ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Case Study: Creating a Distributed System with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distributed system with 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a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the remove objec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the client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and execute the remove object and the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hatServer remot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provide an RMI-based chat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gis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rver object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erObjec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ActivationID id, MarshalledObject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register activatable object and export on anonymous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d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267080" y="4038480"/>
            <a:ext cx="4190760" cy="580680"/>
            <a:chOff x="4267080" y="4038480"/>
            <a:chExt cx="4190760" cy="580680"/>
          </a:xfrm>
        </p:grpSpPr>
        <p:sp>
          <p:nvSpPr>
            <p:cNvPr id="233" name=""/>
            <p:cNvSpPr/>
            <p:nvPr/>
          </p:nvSpPr>
          <p:spPr>
            <a:xfrm>
              <a:off x="5164560" y="4038480"/>
              <a:ext cx="3293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Set for maintaining remote references to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267080" y="43434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742840" y="5867280"/>
            <a:ext cx="3809880" cy="580680"/>
            <a:chOff x="2742840" y="5867280"/>
            <a:chExt cx="3809880" cy="580680"/>
          </a:xfrm>
        </p:grpSpPr>
        <p:sp>
          <p:nvSpPr>
            <p:cNvPr id="236" name=""/>
            <p:cNvSpPr/>
            <p:nvPr/>
          </p:nvSpPr>
          <p:spPr>
            <a:xfrm>
              <a:off x="3557520" y="5867280"/>
              <a:ext cx="299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superclass constructor to complete activ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742840" y="617220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ChatServerImpl object with RMI regist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rmi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llegalArgumentException, MalformedUR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registration name was provi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mi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 name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ObjectName = rmi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Impl object to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 registry 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eRegistry.createRegist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ind RMI object to default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server to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.rebind( serverObjec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registry already exists, bind to existing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y already exists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to existing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rebind( serverObjec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724280" y="1143000"/>
            <a:ext cx="4267080" cy="824040"/>
            <a:chOff x="4724280" y="1143000"/>
            <a:chExt cx="4267080" cy="824040"/>
          </a:xfrm>
        </p:grpSpPr>
        <p:sp>
          <p:nvSpPr>
            <p:cNvPr id="241" name=""/>
            <p:cNvSpPr/>
            <p:nvPr/>
          </p:nvSpPr>
          <p:spPr>
            <a:xfrm>
              <a:off x="5636520" y="1143000"/>
              <a:ext cx="3354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legalArgument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provided name for the remote objec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724280" y="14479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571640" y="2971800"/>
            <a:ext cx="4496040" cy="824040"/>
            <a:chOff x="4571640" y="2971800"/>
            <a:chExt cx="4496040" cy="824040"/>
          </a:xfrm>
        </p:grpSpPr>
        <p:sp>
          <p:nvSpPr>
            <p:cNvPr id="244" name=""/>
            <p:cNvSpPr/>
            <p:nvPr/>
          </p:nvSpPr>
          <p:spPr>
            <a:xfrm>
              <a:off x="5334120" y="2971800"/>
              <a:ext cx="3733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local machine at port 1099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716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3760" y="3886200"/>
            <a:ext cx="3581640" cy="824040"/>
            <a:chOff x="5333760" y="3886200"/>
            <a:chExt cx="3581640" cy="824040"/>
          </a:xfrm>
        </p:grpSpPr>
        <p:sp>
          <p:nvSpPr>
            <p:cNvPr id="247" name=""/>
            <p:cNvSpPr/>
            <p:nvPr/>
          </p:nvSpPr>
          <p:spPr>
            <a:xfrm>
              <a:off x="6099840" y="3886200"/>
              <a:ext cx="281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activatable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760" y="41911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81120" y="5181480"/>
            <a:ext cx="3810600" cy="824040"/>
            <a:chOff x="5181120" y="5181480"/>
            <a:chExt cx="3810600" cy="824040"/>
          </a:xfrm>
        </p:grpSpPr>
        <p:sp>
          <p:nvSpPr>
            <p:cNvPr id="250" name=""/>
            <p:cNvSpPr/>
            <p:nvPr/>
          </p:nvSpPr>
          <p:spPr>
            <a:xfrm>
              <a:off x="5867280" y="518148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remote object to the existing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8112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-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add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57440" y="228600"/>
            <a:ext cx="3581640" cy="1067400"/>
            <a:chOff x="5257440" y="228600"/>
            <a:chExt cx="3581640" cy="1067400"/>
          </a:xfrm>
        </p:grpSpPr>
        <p:sp>
          <p:nvSpPr>
            <p:cNvPr id="255" name=""/>
            <p:cNvSpPr/>
            <p:nvPr/>
          </p:nvSpPr>
          <p:spPr>
            <a:xfrm>
              <a:off x="6023520" y="228600"/>
              <a:ext cx="2815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s to regist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articipate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57440" y="5335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504960" y="1143000"/>
            <a:ext cx="5333760" cy="580680"/>
            <a:chOff x="3504960" y="1143000"/>
            <a:chExt cx="5333760" cy="580680"/>
          </a:xfrm>
        </p:grpSpPr>
        <p:sp>
          <p:nvSpPr>
            <p:cNvPr id="258" name=""/>
            <p:cNvSpPr/>
            <p:nvPr/>
          </p:nvSpPr>
          <p:spPr>
            <a:xfrm>
              <a:off x="4645800" y="1143000"/>
              <a:ext cx="4192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to the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ticipating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504960" y="1447920"/>
              <a:ext cx="11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409720" y="2590920"/>
            <a:ext cx="2819520" cy="580680"/>
            <a:chOff x="5409720" y="2590920"/>
            <a:chExt cx="2819520" cy="580680"/>
          </a:xfrm>
        </p:grpSpPr>
        <p:sp>
          <p:nvSpPr>
            <p:cNvPr id="261" name=""/>
            <p:cNvSpPr/>
            <p:nvPr/>
          </p:nvSpPr>
          <p:spPr>
            <a:xfrm>
              <a:off x="6012720" y="259092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leave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409720" y="28958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809520" y="3505320"/>
            <a:ext cx="3581640" cy="824040"/>
            <a:chOff x="3809520" y="3505320"/>
            <a:chExt cx="3581640" cy="824040"/>
          </a:xfrm>
        </p:grpSpPr>
        <p:sp>
          <p:nvSpPr>
            <p:cNvPr id="264" name=""/>
            <p:cNvSpPr/>
            <p:nvPr/>
          </p:nvSpPr>
          <p:spPr>
            <a:xfrm>
              <a:off x="4574520" y="3505320"/>
              <a:ext cx="281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09520" y="38098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9-1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8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ttempt to send mess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lient if exception is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ing absent cli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nregisterClient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38480" y="609480"/>
            <a:ext cx="4952880" cy="1067400"/>
            <a:chOff x="4038480" y="609480"/>
            <a:chExt cx="4952880" cy="1067400"/>
          </a:xfrm>
        </p:grpSpPr>
        <p:sp>
          <p:nvSpPr>
            <p:cNvPr id="269" name=""/>
            <p:cNvSpPr/>
            <p:nvPr/>
          </p:nvSpPr>
          <p:spPr>
            <a:xfrm>
              <a:off x="5097600" y="609480"/>
              <a:ext cx="3893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and 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ive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liver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ach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038480" y="9144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3760" y="4419720"/>
            <a:ext cx="3657600" cy="824040"/>
            <a:chOff x="5333760" y="4419720"/>
            <a:chExt cx="3657600" cy="824040"/>
          </a:xfrm>
        </p:grpSpPr>
        <p:sp>
          <p:nvSpPr>
            <p:cNvPr id="272" name=""/>
            <p:cNvSpPr/>
            <p:nvPr/>
          </p:nvSpPr>
          <p:spPr>
            <a:xfrm>
              <a:off x="6116040" y="441972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ired by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pable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33760" y="47242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2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9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191120" y="228600"/>
            <a:ext cx="4267080" cy="1310760"/>
            <a:chOff x="4191120" y="228600"/>
            <a:chExt cx="4267080" cy="1310760"/>
          </a:xfrm>
        </p:grpSpPr>
        <p:sp>
          <p:nvSpPr>
            <p:cNvPr id="277" name=""/>
            <p:cNvSpPr/>
            <p:nvPr/>
          </p:nvSpPr>
          <p:spPr>
            <a:xfrm>
              <a:off x="5105520" y="228600"/>
              <a:ext cx="3352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Stopp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server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191120" y="53352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114440" y="1523880"/>
            <a:ext cx="4876920" cy="1067400"/>
            <a:chOff x="4114440" y="1523880"/>
            <a:chExt cx="4876920" cy="1067400"/>
          </a:xfrm>
        </p:grpSpPr>
        <p:sp>
          <p:nvSpPr>
            <p:cNvPr id="280" name=""/>
            <p:cNvSpPr/>
            <p:nvPr/>
          </p:nvSpPr>
          <p:spPr>
            <a:xfrm>
              <a:off x="5157360" y="1523880"/>
              <a:ext cx="3834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d start a new Thread to ensure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Administ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unbind the remote object from the RMI Registry before the remote object term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114440" y="182880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-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 is a utility program for launc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terminating the Activatable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Administ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activatable serv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erver( String polic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deba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RMI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policy for ActivatableGroup JV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ies propert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ie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security.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lic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vationGroupDesc for activat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Desc groupDes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ionGroupDesc( propert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ctivation group with RMI activation syste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ID group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tivationGroup.getSystem().registerGroup( groupDes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vation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.createGroup( groupID, groupDesc 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257800" y="2438280"/>
            <a:ext cx="3428640" cy="580680"/>
            <a:chOff x="5257800" y="2438280"/>
            <a:chExt cx="3428640" cy="580680"/>
          </a:xfrm>
        </p:grpSpPr>
        <p:sp>
          <p:nvSpPr>
            <p:cNvPr id="285" name=""/>
            <p:cNvSpPr/>
            <p:nvPr/>
          </p:nvSpPr>
          <p:spPr>
            <a:xfrm>
              <a:off x="5989680" y="243828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aunches the activa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257800" y="27432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05160" y="3733920"/>
            <a:ext cx="3962520" cy="1067400"/>
            <a:chOff x="5105160" y="3733920"/>
            <a:chExt cx="3962520" cy="1067400"/>
          </a:xfrm>
        </p:grpSpPr>
        <p:sp>
          <p:nvSpPr>
            <p:cNvPr id="288" name=""/>
            <p:cNvSpPr/>
            <p:nvPr/>
          </p:nvSpPr>
          <p:spPr>
            <a:xfrm>
              <a:off x="5791320" y="373392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add a property that specifies the policy file under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JVM should ru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10516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560" y="4419720"/>
            <a:ext cx="4191120" cy="580680"/>
            <a:chOff x="4876560" y="4419720"/>
            <a:chExt cx="4191120" cy="580680"/>
          </a:xfrm>
        </p:grpSpPr>
        <p:sp>
          <p:nvSpPr>
            <p:cNvPr id="291" name=""/>
            <p:cNvSpPr/>
            <p:nvPr/>
          </p:nvSpPr>
          <p:spPr>
            <a:xfrm>
              <a:off x="5486400" y="441972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, which is an activation group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87656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67280" y="5181480"/>
            <a:ext cx="3200040" cy="1067400"/>
            <a:chOff x="5867280" y="5181480"/>
            <a:chExt cx="3200040" cy="1067400"/>
          </a:xfrm>
        </p:grpSpPr>
        <p:sp>
          <p:nvSpPr>
            <p:cNvPr id="294" name=""/>
            <p:cNvSpPr/>
            <p:nvPr/>
          </p:nvSpPr>
          <p:spPr>
            <a:xfrm>
              <a:off x="6551280" y="518148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7280" y="54864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791320" y="5029200"/>
            <a:ext cx="3200400" cy="1143000"/>
            <a:chOff x="5791320" y="5029200"/>
            <a:chExt cx="3200400" cy="1143000"/>
          </a:xfrm>
        </p:grpSpPr>
        <p:sp>
          <p:nvSpPr>
            <p:cNvPr id="297" name=""/>
            <p:cNvSpPr/>
            <p:nvPr/>
          </p:nvSpPr>
          <p:spPr>
            <a:xfrm>
              <a:off x="5791320" y="50292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171840" y="58672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ctivation description for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Desc descrip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ionDesc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messenger.rmi.server.ChatServer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debas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description with rm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ChatServer ) Activatable.register( descri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tained ChatServerImpl stu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 in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rv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und object to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setup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erver( String host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ChatServer in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oppableChatServer server = ( StoppableChat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.stop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hatServer from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toppe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8680" y="228600"/>
            <a:ext cx="2971800" cy="824040"/>
            <a:chOff x="5638680" y="228600"/>
            <a:chExt cx="2971800" cy="824040"/>
          </a:xfrm>
        </p:grpSpPr>
        <p:sp>
          <p:nvSpPr>
            <p:cNvPr id="302" name=""/>
            <p:cNvSpPr/>
            <p:nvPr/>
          </p:nvSpPr>
          <p:spPr>
            <a:xfrm>
              <a:off x="6274080" y="228600"/>
              <a:ext cx="233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6386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486400" y="1219320"/>
            <a:ext cx="3505320" cy="824040"/>
            <a:chOff x="5486400" y="1219320"/>
            <a:chExt cx="3505320" cy="824040"/>
          </a:xfrm>
        </p:grpSpPr>
        <p:sp>
          <p:nvSpPr>
            <p:cNvPr id="305" name=""/>
            <p:cNvSpPr/>
            <p:nvPr/>
          </p:nvSpPr>
          <p:spPr>
            <a:xfrm>
              <a:off x="6235920" y="1219320"/>
              <a:ext cx="2755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register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486400" y="15238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028840" y="2057400"/>
            <a:ext cx="3809880" cy="824040"/>
            <a:chOff x="5028840" y="2057400"/>
            <a:chExt cx="3809880" cy="824040"/>
          </a:xfrm>
        </p:grpSpPr>
        <p:sp>
          <p:nvSpPr>
            <p:cNvPr id="308" name=""/>
            <p:cNvSpPr/>
            <p:nvPr/>
          </p:nvSpPr>
          <p:spPr>
            <a:xfrm>
              <a:off x="5843520" y="2057400"/>
              <a:ext cx="2995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28840" y="236232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248520" y="3886200"/>
            <a:ext cx="2895480" cy="1219320"/>
            <a:chOff x="6248520" y="3886200"/>
            <a:chExt cx="2895480" cy="1219320"/>
          </a:xfrm>
        </p:grpSpPr>
        <p:sp>
          <p:nvSpPr>
            <p:cNvPr id="311" name=""/>
            <p:cNvSpPr/>
            <p:nvPr/>
          </p:nvSpPr>
          <p:spPr>
            <a:xfrm>
              <a:off x="6248520" y="38862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400440" y="472428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124080" y="5486400"/>
            <a:ext cx="4952880" cy="580680"/>
            <a:chOff x="3124080" y="5486400"/>
            <a:chExt cx="4952880" cy="580680"/>
          </a:xfrm>
        </p:grpSpPr>
        <p:sp>
          <p:nvSpPr>
            <p:cNvPr id="314" name=""/>
            <p:cNvSpPr/>
            <p:nvPr/>
          </p:nvSpPr>
          <p:spPr>
            <a:xfrm>
              <a:off x="4183200" y="5486400"/>
              <a:ext cx="3893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client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124080" y="579132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562720" y="5334120"/>
            <a:ext cx="3429000" cy="1218960"/>
            <a:chOff x="5562720" y="5334120"/>
            <a:chExt cx="3429000" cy="1218960"/>
          </a:xfrm>
        </p:grpSpPr>
        <p:sp>
          <p:nvSpPr>
            <p:cNvPr id="317" name=""/>
            <p:cNvSpPr/>
            <p:nvPr/>
          </p:nvSpPr>
          <p:spPr>
            <a:xfrm>
              <a:off x="5562720" y="5334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 from the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6172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erminate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ChatServerAdministrato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for stop server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rminateServ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for start server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art server with user-provided policy, code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Registry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rtServ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ong number of arguments provided, so print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419360" y="1905120"/>
            <a:ext cx="4572000" cy="824040"/>
            <a:chOff x="4419360" y="1905120"/>
            <a:chExt cx="4572000" cy="824040"/>
          </a:xfrm>
        </p:grpSpPr>
        <p:sp>
          <p:nvSpPr>
            <p:cNvPr id="322" name=""/>
            <p:cNvSpPr/>
            <p:nvPr/>
          </p:nvSpPr>
          <p:spPr>
            <a:xfrm>
              <a:off x="5395680" y="190512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hut dow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specified host if the user passe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419360" y="220968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05160" y="3886200"/>
            <a:ext cx="3962520" cy="824040"/>
            <a:chOff x="5105160" y="3886200"/>
            <a:chExt cx="3962520" cy="824040"/>
          </a:xfrm>
        </p:grpSpPr>
        <p:sp>
          <p:nvSpPr>
            <p:cNvPr id="325" name=""/>
            <p:cNvSpPr/>
            <p:nvPr/>
          </p:nvSpPr>
          <p:spPr>
            <a:xfrm>
              <a:off x="5638680" y="3886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given policy file location and codebase if the user passe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105160" y="4191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structions for running ChatServerAdminist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ag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java com.deitel.messenger.rmi.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Administrator start &lt;policy&gt; &lt;codebase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java com.deitel.messenger.rmi.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Administrator stop &lt;registry host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6 Policy file for ChatServer’s ActivationGrou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914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ActivationGroup to terminate the virtual mach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Runtim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V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Defining the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s the remot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rmi.Rem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2 Deitel Messenger Client Architectur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Interfaces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GUI Interfaces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7 ChatClient remote interface to enable RMI callbac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is a remote interface that defines methods for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 client to receive messages and status information fr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by server to deliver mess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er shu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409720" y="2819520"/>
            <a:ext cx="3581640" cy="824040"/>
            <a:chOff x="5409720" y="2819520"/>
            <a:chExt cx="3581640" cy="824040"/>
          </a:xfrm>
        </p:grpSpPr>
        <p:sp>
          <p:nvSpPr>
            <p:cNvPr id="336" name=""/>
            <p:cNvSpPr/>
            <p:nvPr/>
          </p:nvSpPr>
          <p:spPr>
            <a:xfrm>
              <a:off x="6174720" y="2819520"/>
              <a:ext cx="281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409720" y="31240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790960" y="3505320"/>
            <a:ext cx="2819160" cy="1067400"/>
            <a:chOff x="5790960" y="3505320"/>
            <a:chExt cx="2819160" cy="1067400"/>
          </a:xfrm>
        </p:grpSpPr>
        <p:sp>
          <p:nvSpPr>
            <p:cNvPr id="339" name=""/>
            <p:cNvSpPr/>
            <p:nvPr/>
          </p:nvSpPr>
          <p:spPr>
            <a:xfrm>
              <a:off x="6392160" y="3505320"/>
              <a:ext cx="221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790960" y="380988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8 ChatMessage is a serializable class for transmitting messages over RMI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Message is a Serializable object for messages in the RM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and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nd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ers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Cha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ChatMessage with sender and messag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String sender,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ender( sen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ame of pers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nder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er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8 ChatMessage is a serializable class for transmitting messages over RMI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person sending 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essage( String messageBod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 = messageBod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Mess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representation of Cha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nd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9 MessageManager interface for classes that implement communication logic for a Chat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Manger is an interface for objects capable of manag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unications with a message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Manager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message server and route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given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message server and stop rou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coming messages to given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message to messag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,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1640" y="1828800"/>
            <a:ext cx="4343400" cy="1067400"/>
            <a:chOff x="4571640" y="1828800"/>
            <a:chExt cx="4343400" cy="1067400"/>
          </a:xfrm>
        </p:grpSpPr>
        <p:sp>
          <p:nvSpPr>
            <p:cNvPr id="348" name=""/>
            <p:cNvSpPr/>
            <p:nvPr/>
          </p:nvSpPr>
          <p:spPr>
            <a:xfrm>
              <a:off x="5500440" y="1828800"/>
              <a:ext cx="34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akes as an argum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deliver new incoming mess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571640" y="213372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800600" y="2743200"/>
            <a:ext cx="3962160" cy="1067400"/>
            <a:chOff x="4800600" y="2743200"/>
            <a:chExt cx="3962160" cy="1067400"/>
          </a:xfrm>
        </p:grpSpPr>
        <p:sp>
          <p:nvSpPr>
            <p:cNvPr id="351" name=""/>
            <p:cNvSpPr/>
            <p:nvPr/>
          </p:nvSpPr>
          <p:spPr>
            <a:xfrm>
              <a:off x="5647680" y="2743200"/>
              <a:ext cx="311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ps routing messages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00600" y="30481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410080" y="3505320"/>
            <a:ext cx="2285640" cy="580680"/>
            <a:chOff x="5410080" y="3505320"/>
            <a:chExt cx="2285640" cy="580680"/>
          </a:xfrm>
        </p:grpSpPr>
        <p:sp>
          <p:nvSpPr>
            <p:cNvPr id="354" name=""/>
            <p:cNvSpPr/>
            <p:nvPr/>
          </p:nvSpPr>
          <p:spPr>
            <a:xfrm>
              <a:off x="5898600" y="3505320"/>
              <a:ext cx="179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a messag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410080" y="3810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14800" y="4038480"/>
            <a:ext cx="4952880" cy="580680"/>
            <a:chOff x="4114800" y="4038480"/>
            <a:chExt cx="4952880" cy="580680"/>
          </a:xfrm>
        </p:grpSpPr>
        <p:sp>
          <p:nvSpPr>
            <p:cNvPr id="357" name=""/>
            <p:cNvSpPr/>
            <p:nvPr/>
          </p:nvSpPr>
          <p:spPr>
            <a:xfrm>
              <a:off x="5105520" y="4038480"/>
              <a:ext cx="3962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notified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114800" y="4343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MessageManager implements the ChatClient remot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manages incoming and outgoing chat messages using RM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,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e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MI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String serv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Address = 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( ChatServer ) Naming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erAddress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register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references to ChatServer and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105160" y="990720"/>
            <a:ext cx="3809880" cy="824040"/>
            <a:chOff x="5105160" y="990720"/>
            <a:chExt cx="3809880" cy="824040"/>
          </a:xfrm>
        </p:grpSpPr>
        <p:sp>
          <p:nvSpPr>
            <p:cNvPr id="364" name=""/>
            <p:cNvSpPr/>
            <p:nvPr/>
          </p:nvSpPr>
          <p:spPr>
            <a:xfrm>
              <a:off x="5921280" y="990720"/>
              <a:ext cx="2993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105160" y="129528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1676520"/>
            <a:ext cx="3047760" cy="824040"/>
            <a:chOff x="4343400" y="1676520"/>
            <a:chExt cx="3047760" cy="824040"/>
          </a:xfrm>
        </p:grpSpPr>
        <p:sp>
          <p:nvSpPr>
            <p:cNvPr id="367" name=""/>
            <p:cNvSpPr/>
            <p:nvPr/>
          </p:nvSpPr>
          <p:spPr>
            <a:xfrm>
              <a:off x="4996080" y="1676520"/>
              <a:ext cx="239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as the argument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343400" y="198108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72000" y="4419720"/>
            <a:ext cx="4266720" cy="1067400"/>
            <a:chOff x="4572000" y="4419720"/>
            <a:chExt cx="4266720" cy="1067400"/>
          </a:xfrm>
        </p:grpSpPr>
        <p:sp>
          <p:nvSpPr>
            <p:cNvPr id="370" name=""/>
            <p:cNvSpPr/>
            <p:nvPr/>
          </p:nvSpPr>
          <p:spPr>
            <a:xfrm>
              <a:off x="5485680" y="441972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n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572000" y="472428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getSender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er shut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throws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114800" y="1523880"/>
            <a:ext cx="3429000" cy="1067400"/>
            <a:chOff x="4114800" y="1523880"/>
            <a:chExt cx="3429000" cy="1067400"/>
          </a:xfrm>
        </p:grpSpPr>
        <p:sp>
          <p:nvSpPr>
            <p:cNvPr id="375" name=""/>
            <p:cNvSpPr/>
            <p:nvPr/>
          </p:nvSpPr>
          <p:spPr>
            <a:xfrm>
              <a:off x="4849200" y="1523880"/>
              <a:ext cx="269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obtain the user name from whom the message came and the message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114800" y="18288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723920" y="2209680"/>
            <a:ext cx="3582000" cy="1067400"/>
            <a:chOff x="4723920" y="2209680"/>
            <a:chExt cx="3582000" cy="1067400"/>
          </a:xfrm>
        </p:grpSpPr>
        <p:sp>
          <p:nvSpPr>
            <p:cNvPr id="378" name=""/>
            <p:cNvSpPr/>
            <p:nvPr/>
          </p:nvSpPr>
          <p:spPr>
            <a:xfrm>
              <a:off x="5491440" y="2209680"/>
              <a:ext cx="2814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t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723920" y="25146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562720" y="4038480"/>
            <a:ext cx="3428640" cy="1310760"/>
            <a:chOff x="5562720" y="4038480"/>
            <a:chExt cx="3428640" cy="1310760"/>
          </a:xfrm>
        </p:grpSpPr>
        <p:sp>
          <p:nvSpPr>
            <p:cNvPr id="381" name=""/>
            <p:cNvSpPr/>
            <p:nvPr/>
          </p:nvSpPr>
          <p:spPr>
            <a:xfrm>
              <a:off x="6297840" y="4038480"/>
              <a:ext cx="2693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Rece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incom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562720" y="43434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334120" y="4038480"/>
            <a:ext cx="3657600" cy="1600200"/>
            <a:chOff x="5334120" y="4038480"/>
            <a:chExt cx="3657600" cy="1600200"/>
          </a:xfrm>
        </p:grpSpPr>
        <p:sp>
          <p:nvSpPr>
            <p:cNvPr id="384" name=""/>
            <p:cNvSpPr/>
            <p:nvPr/>
          </p:nvSpPr>
          <p:spPr>
            <a:xfrm>
              <a:off x="5334120" y="4038480"/>
              <a:ext cx="3657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e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disconnecte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486040" y="53341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0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114800" y="228600"/>
            <a:ext cx="3505320" cy="1067400"/>
            <a:chOff x="4114800" y="228600"/>
            <a:chExt cx="3505320" cy="1067400"/>
          </a:xfrm>
        </p:grpSpPr>
        <p:sp>
          <p:nvSpPr>
            <p:cNvPr id="389" name=""/>
            <p:cNvSpPr/>
            <p:nvPr/>
          </p:nvSpPr>
          <p:spPr>
            <a:xfrm>
              <a:off x="4864320" y="228600"/>
              <a:ext cx="2755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for notification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114800" y="533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90960" y="1523880"/>
            <a:ext cx="3124440" cy="824040"/>
            <a:chOff x="5790960" y="1523880"/>
            <a:chExt cx="3124440" cy="824040"/>
          </a:xfrm>
        </p:grpSpPr>
        <p:sp>
          <p:nvSpPr>
            <p:cNvPr id="392" name=""/>
            <p:cNvSpPr/>
            <p:nvPr/>
          </p:nvSpPr>
          <p:spPr>
            <a:xfrm>
              <a:off x="6458400" y="15238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9096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1 MessageListener interface for receiving new messag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Listener is an interface for classes that wish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new chat messa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ew cha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Received( String from, String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 WeatherServic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 interface declares a method for obtai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List of WeatherBean objects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WeatherInformatio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05160" y="1676520"/>
            <a:ext cx="3048120" cy="580680"/>
            <a:chOff x="5105160" y="1676520"/>
            <a:chExt cx="3048120" cy="580680"/>
          </a:xfrm>
        </p:grpSpPr>
        <p:sp>
          <p:nvSpPr>
            <p:cNvPr id="98" name=""/>
            <p:cNvSpPr/>
            <p:nvPr/>
          </p:nvSpPr>
          <p:spPr>
            <a:xfrm>
              <a:off x="5757120" y="1676520"/>
              <a:ext cx="239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105160" y="198144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038480" y="2666520"/>
            <a:ext cx="4343400" cy="1129320"/>
            <a:chOff x="4038480" y="2666520"/>
            <a:chExt cx="4343400" cy="1129320"/>
          </a:xfrm>
        </p:grpSpPr>
        <p:sp>
          <p:nvSpPr>
            <p:cNvPr id="101" name=""/>
            <p:cNvSpPr/>
            <p:nvPr/>
          </p:nvSpPr>
          <p:spPr>
            <a:xfrm>
              <a:off x="4572000" y="297180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lients can invoke to retrieve weather information from the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038480" y="266652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2 DisconnectListener interface for receiving server disconnect notifica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Listener defines method serverDisconnected,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that the server has disconnected the clien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that server dis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Disconnected( String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GUI provides a GUI for sending and receiv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 messages using a MessageManag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Label for displaying connection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status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s for displaying and inputting message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essage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inputArea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connecting and disconnecting MessageMana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conne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disconne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en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Name to add to outgo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Manager message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Listener for receiv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manag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= 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MessageListe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dis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disconnectActio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876560" y="990720"/>
            <a:ext cx="3124440" cy="824040"/>
            <a:chOff x="4876560" y="990720"/>
            <a:chExt cx="3124440" cy="824040"/>
          </a:xfrm>
        </p:grpSpPr>
        <p:sp>
          <p:nvSpPr>
            <p:cNvPr id="403" name=""/>
            <p:cNvSpPr/>
            <p:nvPr/>
          </p:nvSpPr>
          <p:spPr>
            <a:xfrm>
              <a:off x="5544000" y="99072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nstructor creates and lays out the various user interface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76560" y="12952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message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and wrap words at end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essage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enter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p Enter key in inputArea to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 keyMap = inputArea.getKey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Stroke enterKey = KeyStroke.getKeyStr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.addActionForKeyStroke( enterKey, sen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inputArea and sendAction JButton in BoxLayo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Box to mess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Box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_AX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inpu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sendA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usBar JLabel with recessed b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Connec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Bar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velBorder( Bevel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WE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tatus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nnect and exit if user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nnect MessageManager when window c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 from chat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ssageManager.disconnect( messag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048120" y="2286000"/>
            <a:ext cx="5790600" cy="824040"/>
            <a:chOff x="3048120" y="2286000"/>
            <a:chExt cx="5790600" cy="824040"/>
          </a:xfrm>
        </p:grpSpPr>
        <p:sp>
          <p:nvSpPr>
            <p:cNvPr id="410" name=""/>
            <p:cNvSpPr/>
            <p:nvPr/>
          </p:nvSpPr>
          <p:spPr>
            <a:xfrm>
              <a:off x="4282560" y="2286000"/>
              <a:ext cx="455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dowAdap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ner class ensur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closes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048120" y="2590920"/>
              <a:ext cx="12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4-20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1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onnecting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ConnectA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images/Connect.gi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 to 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 to server to send Instant Messa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MessageManager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nnect MessageManager and register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connect( messag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isten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Handl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791320" y="762120"/>
            <a:ext cx="3276000" cy="824040"/>
            <a:chOff x="5791320" y="762120"/>
            <a:chExt cx="3276000" cy="824040"/>
          </a:xfrm>
        </p:grpSpPr>
        <p:sp>
          <p:nvSpPr>
            <p:cNvPr id="415" name=""/>
            <p:cNvSpPr/>
            <p:nvPr/>
          </p:nvSpPr>
          <p:spPr>
            <a:xfrm>
              <a:off x="6490800" y="76212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onnecting to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791320" y="106668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790960" y="1523880"/>
            <a:ext cx="3124440" cy="824040"/>
            <a:chOff x="5790960" y="1523880"/>
            <a:chExt cx="3124440" cy="824040"/>
          </a:xfrm>
        </p:grpSpPr>
        <p:sp>
          <p:nvSpPr>
            <p:cNvPr id="418" name=""/>
            <p:cNvSpPr/>
            <p:nvPr/>
          </p:nvSpPr>
          <p:spPr>
            <a:xfrm>
              <a:off x="6458400" y="15238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79096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181120" y="5334120"/>
            <a:ext cx="3810600" cy="1310760"/>
            <a:chOff x="5181120" y="5334120"/>
            <a:chExt cx="3810600" cy="1310760"/>
          </a:xfrm>
        </p:grpSpPr>
        <p:sp>
          <p:nvSpPr>
            <p:cNvPr id="421" name=""/>
            <p:cNvSpPr/>
            <p:nvPr/>
          </p:nvSpPr>
          <p:spPr>
            <a:xfrm>
              <a:off x="6019920" y="5334120"/>
              <a:ext cx="2971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connect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gist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ce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c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62720" y="5867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181120" y="601992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7-1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8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Actions, inputArea and status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requestFocus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usBar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message indicating user 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user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joined ch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connecting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connect to 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Connec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ctionPerform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181480" y="1295280"/>
            <a:ext cx="3810240" cy="1310760"/>
            <a:chOff x="5181480" y="1295280"/>
            <a:chExt cx="3810240" cy="1310760"/>
          </a:xfrm>
        </p:grpSpPr>
        <p:sp>
          <p:nvSpPr>
            <p:cNvPr id="427" name=""/>
            <p:cNvSpPr/>
            <p:nvPr/>
          </p:nvSpPr>
          <p:spPr>
            <a:xfrm>
              <a:off x="5715000" y="1295280"/>
              <a:ext cx="32767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mpt the user for a name to use in the chat session and update the user-interface components to allow the user to send messages and disconnect from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1814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248520" y="2590920"/>
            <a:ext cx="2819160" cy="1554120"/>
            <a:chOff x="6248520" y="2590920"/>
            <a:chExt cx="2819160" cy="1554120"/>
          </a:xfrm>
        </p:grpSpPr>
        <p:sp>
          <p:nvSpPr>
            <p:cNvPr id="430" name=""/>
            <p:cNvSpPr/>
            <p:nvPr/>
          </p:nvSpPr>
          <p:spPr>
            <a:xfrm>
              <a:off x="6705720" y="2590920"/>
              <a:ext cx="236196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nnounces the user’s arrival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24852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1-2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1-2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9-2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Disconnec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images/Disconnec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 from 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 to end Instant Messaging sess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nnect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connect MessageManager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message indicating user dis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user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xited ch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nnect from server and unregi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disconnect( messageListen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Actions, inputArea and status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usBar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Connec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657240" y="228600"/>
            <a:ext cx="4114800" cy="824040"/>
            <a:chOff x="3657240" y="228600"/>
            <a:chExt cx="4114800" cy="824040"/>
          </a:xfrm>
        </p:grpSpPr>
        <p:sp>
          <p:nvSpPr>
            <p:cNvPr id="435" name=""/>
            <p:cNvSpPr/>
            <p:nvPr/>
          </p:nvSpPr>
          <p:spPr>
            <a:xfrm>
              <a:off x="4534560" y="228600"/>
              <a:ext cx="3237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conn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657240" y="53352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248520" y="3886200"/>
            <a:ext cx="2743200" cy="1067400"/>
            <a:chOff x="6248520" y="3886200"/>
            <a:chExt cx="2743200" cy="1067400"/>
          </a:xfrm>
        </p:grpSpPr>
        <p:sp>
          <p:nvSpPr>
            <p:cNvPr id="438" name=""/>
            <p:cNvSpPr/>
            <p:nvPr/>
          </p:nvSpPr>
          <p:spPr>
            <a:xfrm>
              <a:off x="6834240" y="3886200"/>
              <a:ext cx="215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nounce the user’s departure from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248520" y="419112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943240" y="4800600"/>
            <a:ext cx="3124440" cy="1067400"/>
            <a:chOff x="5943240" y="4800600"/>
            <a:chExt cx="3124440" cy="1067400"/>
          </a:xfrm>
        </p:grpSpPr>
        <p:sp>
          <p:nvSpPr>
            <p:cNvPr id="441" name=""/>
            <p:cNvSpPr/>
            <p:nvPr/>
          </p:nvSpPr>
          <p:spPr>
            <a:xfrm>
              <a:off x="6610680" y="4800600"/>
              <a:ext cx="245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disconnect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connect from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943240" y="51055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647960" y="5334120"/>
            <a:ext cx="3581280" cy="1067400"/>
            <a:chOff x="4647960" y="5334120"/>
            <a:chExt cx="3581280" cy="1067400"/>
          </a:xfrm>
        </p:grpSpPr>
        <p:sp>
          <p:nvSpPr>
            <p:cNvPr id="444" name=""/>
            <p:cNvSpPr/>
            <p:nvPr/>
          </p:nvSpPr>
          <p:spPr>
            <a:xfrm>
              <a:off x="5412960" y="5334120"/>
              <a:ext cx="281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he user-interface components to disable the mess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isplay a message in the status b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647960" y="56386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1-29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disconnect from 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Disconnec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connect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en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an Instant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410080" y="2971800"/>
            <a:ext cx="2971440" cy="824040"/>
            <a:chOff x="5410080" y="2971800"/>
            <a:chExt cx="2971440" cy="824040"/>
          </a:xfrm>
        </p:grpSpPr>
        <p:sp>
          <p:nvSpPr>
            <p:cNvPr id="449" name=""/>
            <p:cNvSpPr/>
            <p:nvPr/>
          </p:nvSpPr>
          <p:spPr>
            <a:xfrm>
              <a:off x="6044400" y="29718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nding messages to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410080" y="3276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2-2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4-3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and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messag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userName and text in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send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Sending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nd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MessageListener listens for new messages from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Manager and displays the messages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ing a MessageDisplay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Message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new message received, display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Received( String from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181480" y="1371600"/>
            <a:ext cx="3886200" cy="1067400"/>
            <a:chOff x="5181480" y="1371600"/>
            <a:chExt cx="3886200" cy="1067400"/>
          </a:xfrm>
        </p:grpSpPr>
        <p:sp>
          <p:nvSpPr>
            <p:cNvPr id="454" name=""/>
            <p:cNvSpPr/>
            <p:nvPr/>
          </p:nvSpPr>
          <p:spPr>
            <a:xfrm>
              <a:off x="5791320" y="137160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 the cont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us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1814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00440" y="5334120"/>
            <a:ext cx="2133720" cy="824040"/>
            <a:chOff x="6400440" y="5334120"/>
            <a:chExt cx="2133720" cy="824040"/>
          </a:xfrm>
        </p:grpSpPr>
        <p:sp>
          <p:nvSpPr>
            <p:cNvPr id="457" name=""/>
            <p:cNvSpPr/>
            <p:nvPr/>
          </p:nvSpPr>
          <p:spPr>
            <a:xfrm>
              <a:off x="6856200" y="5334120"/>
              <a:ext cx="167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listens for incom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400440" y="56386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Implementing the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Service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1-3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1-3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7-3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2-3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message using MessageDisplayer and invokeLa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ensure thread-safe access to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from, mess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yMessageListener inner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Displayer displays a new messaage by app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essage to the messageArea JTextArea. This Runn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on the event-dispa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ead, as it modifies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U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ssageDisplay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String from, String bod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omUser =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Body = 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new message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romUs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Body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getText().length(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800240" y="380880"/>
            <a:ext cx="3886560" cy="1067400"/>
            <a:chOff x="4800240" y="380880"/>
            <a:chExt cx="3886560" cy="1067400"/>
          </a:xfrm>
        </p:grpSpPr>
        <p:sp>
          <p:nvSpPr>
            <p:cNvPr id="462" name=""/>
            <p:cNvSpPr/>
            <p:nvPr/>
          </p:nvSpPr>
          <p:spPr>
            <a:xfrm>
              <a:off x="5630400" y="380880"/>
              <a:ext cx="305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La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Utilit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Display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o display the new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800240" y="6858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15000" y="2209680"/>
            <a:ext cx="3200040" cy="1797480"/>
            <a:chOff x="5715000" y="2209680"/>
            <a:chExt cx="3200040" cy="1797480"/>
          </a:xfrm>
        </p:grpSpPr>
        <p:sp>
          <p:nvSpPr>
            <p:cNvPr id="465" name=""/>
            <p:cNvSpPr/>
            <p:nvPr/>
          </p:nvSpPr>
          <p:spPr>
            <a:xfrm>
              <a:off x="6398280" y="2209680"/>
              <a:ext cx="25167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Display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n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 that appends a new messag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at message to the u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715000" y="25146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638320" y="5105520"/>
            <a:ext cx="2667600" cy="824040"/>
            <a:chOff x="5638320" y="5105520"/>
            <a:chExt cx="2667600" cy="824040"/>
          </a:xfrm>
        </p:grpSpPr>
        <p:sp>
          <p:nvSpPr>
            <p:cNvPr id="468" name=""/>
            <p:cNvSpPr/>
            <p:nvPr/>
          </p:nvSpPr>
          <p:spPr>
            <a:xfrm>
              <a:off x="6208200" y="5105520"/>
              <a:ext cx="2097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message text and sender’s user nam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638320" y="541008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266720" y="6022800"/>
            <a:ext cx="2590920" cy="580680"/>
            <a:chOff x="4266720" y="6022800"/>
            <a:chExt cx="2590920" cy="580680"/>
          </a:xfrm>
        </p:grpSpPr>
        <p:sp>
          <p:nvSpPr>
            <p:cNvPr id="471" name=""/>
            <p:cNvSpPr/>
            <p:nvPr/>
          </p:nvSpPr>
          <p:spPr>
            <a:xfrm>
              <a:off x="4820040" y="6022800"/>
              <a:ext cx="203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the cursor to the en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266720" y="63277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0-3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6-3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ssageDisplayer inner cl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Handler listens for serverDisconnected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om the MessageManager and updates the user interf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ceive disconnect notif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Disconn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GUI in thread-safe man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Actions, inputs and status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atusBar.setText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nable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erDisconnecte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connectHandl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410080" y="152280"/>
            <a:ext cx="3581640" cy="1295640"/>
            <a:chOff x="5410080" y="152280"/>
            <a:chExt cx="3581640" cy="1295640"/>
          </a:xfrm>
        </p:grpSpPr>
        <p:sp>
          <p:nvSpPr>
            <p:cNvPr id="476" name=""/>
            <p:cNvSpPr/>
            <p:nvPr/>
          </p:nvSpPr>
          <p:spPr>
            <a:xfrm>
              <a:off x="5410080" y="15228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recei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cation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server disconn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781680" y="990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962160" y="2209680"/>
            <a:ext cx="3124440" cy="824040"/>
            <a:chOff x="3962160" y="2209680"/>
            <a:chExt cx="3124440" cy="824040"/>
          </a:xfrm>
        </p:grpSpPr>
        <p:sp>
          <p:nvSpPr>
            <p:cNvPr id="479" name=""/>
            <p:cNvSpPr/>
            <p:nvPr/>
          </p:nvSpPr>
          <p:spPr>
            <a:xfrm>
              <a:off x="4629600" y="22096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he user-interface components to indicate that the server dis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62160" y="25146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he Deitel Messenger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regis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d –J-Djava.security.policy=rmid.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4 DeitelMessenger launches a chat client using classes ClientGUI and RMIMessageManag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a ClientGUI and RMI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RMI-based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 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RMI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eitelMessen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ish configuring window and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13.25 Policy file for the RMI activation daemon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295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ActivationGroup to specify C:\activationGroup.polic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its VM’s security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rmi.rmid.ExecOption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Djava.security.policy=file:///C:/activationGroup.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and Client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7 Policy file for ChatServerAdministrato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ChatServerAdministrator to connect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vation daem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Socket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stname:1024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, accept, resol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Runtim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8 Policy file for the Deitel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client to connect to network resources on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 ports above 102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Socket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stname:1024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, accept, resol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5" name="messenger_1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543400" cy="4172040"/>
          </a:xfrm>
          <a:prstGeom prst="rect">
            <a:avLst/>
          </a:prstGeom>
          <a:ln w="0">
            <a:noFill/>
          </a:ln>
        </p:spPr>
      </p:pic>
      <p:pic>
        <p:nvPicPr>
          <p:cNvPr id="496" name="messenger_2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497" name="messenger_3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810160" cy="14194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0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messenger_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2" name="messenger_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543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Impl implements the WeatherService rem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o provide a WeatherService remote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weatherInformation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objec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WeatherCondi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WeatherCondi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’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943600" y="457200"/>
            <a:ext cx="3048120" cy="2057400"/>
            <a:chOff x="5943600" y="457200"/>
            <a:chExt cx="3048120" cy="2057400"/>
          </a:xfrm>
        </p:grpSpPr>
        <p:sp>
          <p:nvSpPr>
            <p:cNvPr id="108" name=""/>
            <p:cNvSpPr/>
            <p:nvPr/>
          </p:nvSpPr>
          <p:spPr>
            <a:xfrm>
              <a:off x="5943600" y="45720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basic functionality required for all remote objects and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72200" y="175248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3733920"/>
            <a:ext cx="3733560" cy="580680"/>
            <a:chOff x="2971800" y="3733920"/>
            <a:chExt cx="3733560" cy="580680"/>
          </a:xfrm>
        </p:grpSpPr>
        <p:sp>
          <p:nvSpPr>
            <p:cNvPr id="111" name=""/>
            <p:cNvSpPr/>
            <p:nvPr/>
          </p:nvSpPr>
          <p:spPr>
            <a:xfrm>
              <a:off x="3769920" y="3733920"/>
              <a:ext cx="29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default constructor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71800" y="403884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00800" y="5715000"/>
            <a:ext cx="2438280" cy="824040"/>
            <a:chOff x="6400800" y="5715000"/>
            <a:chExt cx="2438280" cy="824040"/>
          </a:xfrm>
        </p:grpSpPr>
        <p:sp>
          <p:nvSpPr>
            <p:cNvPr id="114" name=""/>
            <p:cNvSpPr/>
            <p:nvPr/>
          </p:nvSpPr>
          <p:spPr>
            <a:xfrm>
              <a:off x="6922080" y="5715000"/>
              <a:ext cx="191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Traveler’s Forecast Web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400800" y="601992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4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messenger_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6" name="messenger_7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7" name="messenger_8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543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edReader for reading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parator for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’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Infor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s containing weather dat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in weatherInformation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3240" y="1523880"/>
            <a:ext cx="3124440" cy="824040"/>
            <a:chOff x="5943240" y="1523880"/>
            <a:chExt cx="3124440" cy="824040"/>
          </a:xfrm>
        </p:grpSpPr>
        <p:sp>
          <p:nvSpPr>
            <p:cNvPr id="119" name=""/>
            <p:cNvSpPr/>
            <p:nvPr/>
          </p:nvSpPr>
          <p:spPr>
            <a:xfrm>
              <a:off x="6553080" y="15238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through the Traveler’s Forecast Web page until reaching the sentin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943240" y="1828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800240" y="4038480"/>
            <a:ext cx="2362680" cy="580680"/>
            <a:chOff x="4800240" y="4038480"/>
            <a:chExt cx="2362680" cy="580680"/>
          </a:xfrm>
        </p:grpSpPr>
        <p:sp>
          <p:nvSpPr>
            <p:cNvPr id="122" name=""/>
            <p:cNvSpPr/>
            <p:nvPr/>
          </p:nvSpPr>
          <p:spPr>
            <a:xfrm>
              <a:off x="5305680" y="4038480"/>
              <a:ext cx="18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next line from the Web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00240" y="43434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Bean object for city. First 16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city name. Next, six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re weather description. Next six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re HI/LO or LO/HI temperat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WeatherBean to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weath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updateWeather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609480"/>
            <a:ext cx="4190760" cy="824040"/>
            <a:chOff x="4724280" y="609480"/>
            <a:chExt cx="4190760" cy="824040"/>
          </a:xfrm>
        </p:grpSpPr>
        <p:sp>
          <p:nvSpPr>
            <p:cNvPr id="127" name=""/>
            <p:cNvSpPr/>
            <p:nvPr/>
          </p:nvSpPr>
          <p:spPr>
            <a:xfrm>
              <a:off x="5621760" y="609480"/>
              <a:ext cx="329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each city’s weather information and place this information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724280" y="9144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57800" y="1676520"/>
            <a:ext cx="3200040" cy="580680"/>
            <a:chOff x="5257800" y="1676520"/>
            <a:chExt cx="3200040" cy="580680"/>
          </a:xfrm>
        </p:grpSpPr>
        <p:sp>
          <p:nvSpPr>
            <p:cNvPr id="130" name=""/>
            <p:cNvSpPr/>
            <p:nvPr/>
          </p:nvSpPr>
          <p:spPr>
            <a:xfrm>
              <a:off x="5941800" y="1676520"/>
              <a:ext cx="251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57800" y="19814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76560" y="2743200"/>
            <a:ext cx="2819160" cy="580680"/>
            <a:chOff x="4876560" y="2743200"/>
            <a:chExt cx="2819160" cy="580680"/>
          </a:xfrm>
        </p:grpSpPr>
        <p:sp>
          <p:nvSpPr>
            <p:cNvPr id="133" name=""/>
            <p:cNvSpPr/>
            <p:nvPr/>
          </p:nvSpPr>
          <p:spPr>
            <a:xfrm>
              <a:off x="5479560" y="2743200"/>
              <a:ext cx="221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876560" y="30481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5520" y="3733920"/>
            <a:ext cx="2896200" cy="824040"/>
            <a:chOff x="6095520" y="3733920"/>
            <a:chExt cx="2896200" cy="824040"/>
          </a:xfrm>
        </p:grpSpPr>
        <p:sp>
          <p:nvSpPr>
            <p:cNvPr id="136" name=""/>
            <p:cNvSpPr/>
            <p:nvPr/>
          </p:nvSpPr>
          <p:spPr>
            <a:xfrm>
              <a:off x="6715080" y="3733920"/>
              <a:ext cx="227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fferedRea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095520" y="40384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gadzik</cp:lastModifiedBy>
  <dcterms:modified xsi:type="dcterms:W3CDTF">2002-02-01T14:08:40Z</dcterms:modified>
  <cp:revision>77</cp:revision>
  <dc:subject/>
  <dc:title>PowerPoint Presentation</dc:title>
</cp:coreProperties>
</file>