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32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3.png" ContentType="image/png"/>
  <Override PartName="/ppt/media/image34.png" ContentType="image/png"/>
  <Override PartName="/ppt/media/image17.wmf" ContentType="image/x-wmf"/>
  <Override PartName="/ppt/media/image11.png" ContentType="image/png"/>
  <Override PartName="/ppt/media/image35.png" ContentType="image/png"/>
  <Override PartName="/ppt/media/image6.png" ContentType="image/png"/>
  <Override PartName="/ppt/media/image1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8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05CC-EB97-4476-86C5-C8A105619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C9A0-D0E8-416D-A870-4197B10DC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521F-CDEC-4E17-9B02-031BFA449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2C8F-48E4-4966-97C1-5EAA8FDCD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9F7C2-19D8-4AD3-9800-08798FD31A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EA42-546A-4143-8C25-2EBE5EA78B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367DC-6BBE-448C-AE45-E3CB3F66FA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8DAFB-F501-4BDC-B9B5-A58795DA3A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E600F-4383-4174-9BE7-5D6D4C240B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538E6-011D-4128-8C86-D60B9BCF17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16890-DBC4-4DC2-B96E-4986DB5E41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7C3BF-8989-4DAE-8034-6746BD0A2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D315A-0474-456E-8B5E-A25C64CC93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403AA-C914-41DF-A536-1655487B2D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4EF17-F6E3-487F-8C2D-62750C7B5D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7E36-52F3-4576-9FAF-B940E7FECF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1DEBA-8120-48B7-BF15-9B4F93991E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CC358-8FA1-4446-B577-C7D19A848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18785-5239-4DA8-AA7C-D6439B0D9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EDF3-2717-46F0-860B-406D9D311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0339-8D78-4574-8717-9563CB676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A9B0-6D82-4A9C-80BF-D54AA4A27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A194-ABA7-4602-A76D-8619A37FB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9CE80-D5A6-4A9D-80F6-ACBAE2FCD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EEC2-CF1D-4ACC-82B1-B463344CA9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843D-2BAF-46A8-9685-02961D6989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0: JavaServer Pag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Server Pages Overview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 First JavaServer Page Exampl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plicit Objec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cript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5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cripting Componen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5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cripting Exampl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ndard A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6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&lt;jsp:include&gt;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6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&lt;jsp:forward&gt;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6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&lt;jsp:plugin&gt;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6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&lt;jsp:useBean&gt;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irectiv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7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ag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Directiv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7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includ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Directiv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JavaServer Pages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ervlets do not produce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voke other servlets and JS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s execute as part of a Web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SP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 first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SP container translates a JSP into a 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e the current and future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that represents the J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ced in servlet’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_jspServi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9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-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tag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-1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A tag that iterates over an ArrayList of GuestBea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objects, so they can be output in a JSP    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a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uestli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ag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m.deitel.advjhtp1.jsp.taglibrary.GuestBookTa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tag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ei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m.deitel.advjhtp1.jsp.taglibrary.GuestBookTagExtra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tei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cont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SP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cont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inf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es over a list of GuestBean obje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inf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828440" y="1447920"/>
            <a:ext cx="6858360" cy="580680"/>
            <a:chOff x="1828440" y="1447920"/>
            <a:chExt cx="6858360" cy="580680"/>
          </a:xfrm>
        </p:grpSpPr>
        <p:sp>
          <p:nvSpPr>
            <p:cNvPr id="518" name=""/>
            <p:cNvSpPr/>
            <p:nvPr/>
          </p:nvSpPr>
          <p:spPr>
            <a:xfrm>
              <a:off x="6705720" y="144792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custom tag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traInf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1828440" y="1752480"/>
              <a:ext cx="4876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JavaServer Pages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 err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lation-time erro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r when JSPs are translated into servl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est-time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r during request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spIn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spDestr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er invokes when initializing and terminating a JS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are defined in JSP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 of the JSP scripting mechanis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3   A First JavaServer Page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JSP example (Fig. 10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onstra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-template data (XHTML mark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a Java objec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util.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 conversion of JSP expression to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to refresh Web page at specified int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invoca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ock.js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e delay whi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 container translates the JSP into a serv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 container compiles the serv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 container executes the serv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nvocations should not experience the same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a JSP expression to insert the date and time in a Web page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1: clock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meta http-equiv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fres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ten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6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Simple JSP Exampl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yle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.big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family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elvetic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i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ans-ser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weight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o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font-size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sty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mple JSP Exampl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able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rder: 6px outse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ckground-color: black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: cyan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&lt;!-- JSP expression to insert date/tim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Date(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p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800240" y="5105520"/>
            <a:ext cx="4115160" cy="1067400"/>
            <a:chOff x="4800240" y="5105520"/>
            <a:chExt cx="4115160" cy="1067400"/>
          </a:xfrm>
        </p:grpSpPr>
        <p:sp>
          <p:nvSpPr>
            <p:cNvPr id="114" name=""/>
            <p:cNvSpPr/>
            <p:nvPr/>
          </p:nvSpPr>
          <p:spPr>
            <a:xfrm>
              <a:off x="6400800" y="510552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hat is converted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icitly and displayed in paragraph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el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800240" y="56386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486400" y="2057040"/>
            <a:ext cx="3276360" cy="1038240"/>
            <a:chOff x="5486400" y="2057040"/>
            <a:chExt cx="3276360" cy="1038240"/>
          </a:xfrm>
        </p:grpSpPr>
        <p:sp>
          <p:nvSpPr>
            <p:cNvPr id="117" name=""/>
            <p:cNvSpPr/>
            <p:nvPr/>
          </p:nvSpPr>
          <p:spPr>
            <a:xfrm>
              <a:off x="6198480" y="2514600"/>
              <a:ext cx="2564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 refreshes the Web page ever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6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co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5486400" y="2057040"/>
              <a:ext cx="712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a JSP expression to insert the date and time in a Web page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8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6360840" cy="2752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636084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4800240" y="2743200"/>
            <a:ext cx="4038840" cy="2971800"/>
            <a:chOff x="4800240" y="2743200"/>
            <a:chExt cx="4038840" cy="2971800"/>
          </a:xfrm>
        </p:grpSpPr>
        <p:sp>
          <p:nvSpPr>
            <p:cNvPr id="124" name=""/>
            <p:cNvSpPr/>
            <p:nvPr/>
          </p:nvSpPr>
          <p:spPr>
            <a:xfrm>
              <a:off x="6400800" y="274320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presenta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ppears he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029200" y="30481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800240" y="3048120"/>
              <a:ext cx="160020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4   Implicit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access to many servlet capabilities within a J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 sco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s owned by the container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servlet or JSP can manipulate thes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ge 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s that exist only in page in which they ar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page has its own instance of thes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est 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s exist for duration of client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s go out of scope when response sent to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ssion 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s exist for duration of client’s browsing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s go out of scope when client terminates session or when session timeout occ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4   Implicit Objec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 implicit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d classes or implement interf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in Chapter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ch objects can invoke public aspects of classes/interf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4   Implicit Objec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4360" y="993600"/>
          <a:ext cx="7711920" cy="952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93600"/>
                    <a:ext cx="7711920" cy="952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4   Implicit Objec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92280" y="1366920"/>
          <a:ext cx="7616520" cy="940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366920"/>
                    <a:ext cx="7616520" cy="940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   Script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ip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JSP programmers can insert Java code and log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urrently, JSP support scripting only with Ja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0: JavaServer Pag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14520" y="1143000"/>
            <a:ext cx="620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ustom Tag Librar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8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imple Custom Ta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8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ustom Tag with Attribut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8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valuating the Body of a Custom 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.1   Scripting Compon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 scripting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riptlets (delimited b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%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ents (delimited b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%-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-%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ressions (delimited b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%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cape seque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.1   Scripting 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.2   Scripting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e basic scripting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ponding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ing a JavaServer Page -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-23, 30-3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4: welcome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JSP that processes a "get" request containing data.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head section of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ing "get" requests with data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body section of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name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e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to insert fixed template data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Hello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Welcome to JavaServer Pages!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/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200040" y="2895480"/>
            <a:ext cx="5563080" cy="2667240"/>
            <a:chOff x="3200040" y="2895480"/>
            <a:chExt cx="5563080" cy="2667240"/>
          </a:xfrm>
        </p:grpSpPr>
        <p:sp>
          <p:nvSpPr>
            <p:cNvPr id="149" name=""/>
            <p:cNvSpPr/>
            <p:nvPr/>
          </p:nvSpPr>
          <p:spPr>
            <a:xfrm>
              <a:off x="7162920" y="289548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riptlets used to insert Java 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200040" y="3200400"/>
              <a:ext cx="39625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352680" y="3200400"/>
              <a:ext cx="381024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580920" y="4267080"/>
            <a:ext cx="5105880" cy="609840"/>
            <a:chOff x="3580920" y="4267080"/>
            <a:chExt cx="5105880" cy="609840"/>
          </a:xfrm>
        </p:grpSpPr>
        <p:sp>
          <p:nvSpPr>
            <p:cNvPr id="153" name=""/>
            <p:cNvSpPr/>
            <p:nvPr/>
          </p:nvSpPr>
          <p:spPr>
            <a:xfrm>
              <a:off x="7086600" y="426708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SP decla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580920" y="4419720"/>
              <a:ext cx="3505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095880" y="3581280"/>
            <a:ext cx="2819520" cy="580680"/>
            <a:chOff x="6095880" y="3581280"/>
            <a:chExt cx="2819520" cy="580680"/>
          </a:xfrm>
        </p:grpSpPr>
        <p:sp>
          <p:nvSpPr>
            <p:cNvPr id="156" name=""/>
            <p:cNvSpPr/>
            <p:nvPr/>
          </p:nvSpPr>
          <p:spPr>
            <a:xfrm>
              <a:off x="6705720" y="358128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que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icit object to get parame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6095880" y="3733560"/>
              <a:ext cx="609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ing a JavaServer Page -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5-4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809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to insert fixed template data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.js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 your first name and press Submi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&gt;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firstName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XHTML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428640" y="2286000"/>
            <a:ext cx="5105880" cy="580680"/>
            <a:chOff x="3428640" y="2286000"/>
            <a:chExt cx="5105880" cy="580680"/>
          </a:xfrm>
        </p:grpSpPr>
        <p:sp>
          <p:nvSpPr>
            <p:cNvPr id="161" name=""/>
            <p:cNvSpPr/>
            <p:nvPr/>
          </p:nvSpPr>
          <p:spPr>
            <a:xfrm>
              <a:off x="6934320" y="228600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riptlets used to insert Java 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428640" y="259092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ing a JavaServer Page -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5572080" cy="2362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55720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   Standard A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 standard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access to common tasks performed in a JS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ing content from other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ing requests to other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ing with JavaB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SP containers process actions at request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limited b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jsp: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/jsp: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   Standard A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4360" y="1366920"/>
          <a:ext cx="774360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66920"/>
                    <a:ext cx="774360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   Standard Action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4360" y="1366920"/>
          <a:ext cx="774360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66920"/>
                    <a:ext cx="774360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&lt;jsp:include&gt;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jsp:include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dynamic content to be included in a JS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flexible th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lud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irec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more overhead when page contents change frequ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Server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sion of Servlet techn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content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use existing Java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out programming Ja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ustom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apsulate complex function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and interfaces specific to J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x.servlet.js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x.servlet.jsp.tag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&lt;jsp:include&gt;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08120" y="2224080"/>
          <a:ext cx="7769160" cy="219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2224080"/>
                    <a:ext cx="776916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7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ner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nner.ht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to include across the top of the XHTML document created by Fig. 10.10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7: banner.html        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banner to include in another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div sty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580px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(TM), C, C++, Visual Basic(R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Technology, and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net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orld Wide Web Programming Training&amp;nbs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n-Site Seminars Delivered Worldwi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a 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ilto:deitel@deitel.co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itel@deitel.com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978.579.991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490B Boston Post Road, Suite 200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dbury, MA 0177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of contents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c.ht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to include down the left side of the XHTML document created by Fig.10.10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8: toc.html             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ontents to include in another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a 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deitel.com/books/index.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ublications/BookSto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a 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deitel.com/whatsnew.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hat's N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a 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deitel.com/books/downloads.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wnloads/Resour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a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deitel.com/faq/index.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AQ (Frequently Asked Questions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a 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deitel.com/intro.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ho we a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a 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deitel.com/index.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me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nd questions or comments about this site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a 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ilto:deitel@deitel.co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itel@deitel.co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/a&gt;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pyright 1995-2002 by Deitel &amp;amp; Associates, Inc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ll Rights Reserv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9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ck2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include as the main content in the XHTML document created by Fig.10.10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-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9: clock2.jsp                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date and time to include in another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ckground-color: black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: cyan; font-size: 3em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nt-weight: bold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&lt;%-- script to determine client local and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&lt;%-- format date accordingly             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client loca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ava.util.Locale locale = request.getLoca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DateFormat for client's Loca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ava.text.DateFormat dateForma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ava.text.DateFormat.getDateTimeInstanc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java.text.DateForma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java.text.DateForma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oca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&lt;%-- output date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Format.forma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Date() 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324120" y="2819520"/>
            <a:ext cx="2362680" cy="1067400"/>
            <a:chOff x="6324120" y="2819520"/>
            <a:chExt cx="2362680" cy="1067400"/>
          </a:xfrm>
        </p:grpSpPr>
        <p:sp>
          <p:nvSpPr>
            <p:cNvPr id="186" name=""/>
            <p:cNvSpPr/>
            <p:nvPr/>
          </p:nvSpPr>
          <p:spPr>
            <a:xfrm>
              <a:off x="7162920" y="2819520"/>
              <a:ext cx="1523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form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specifi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Form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324120" y="33526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ude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cludes resources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jsp: include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7: include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jsp:includ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yle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fami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ahom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elvetic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i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ans-ser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9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r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px groo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dd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p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ackground-col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#ddddd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/sty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160px; text-align: cent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mg src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logotiny.png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idth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40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eigh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3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l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&amp; Associates, Inc. Logo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ude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cludes resources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jsp: include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8-3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5-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&lt;%-- include banner.html in this JSP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include pag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nner.html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ush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160px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&lt;%-- include toc.html in this JSP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jsp:include pag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c.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ush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rtical-align: top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&lt;%-- include clock2.jsp in this JSP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include pag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ock2.js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flus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05520" y="685800"/>
            <a:ext cx="3581280" cy="580680"/>
            <a:chOff x="5105520" y="685800"/>
            <a:chExt cx="3581280" cy="580680"/>
          </a:xfrm>
        </p:grpSpPr>
        <p:sp>
          <p:nvSpPr>
            <p:cNvPr id="193" name=""/>
            <p:cNvSpPr/>
            <p:nvPr/>
          </p:nvSpPr>
          <p:spPr>
            <a:xfrm>
              <a:off x="6477120" y="68580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JSP action to inclu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nner.ht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105520" y="9907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867280" y="1676520"/>
            <a:ext cx="2819520" cy="914400"/>
            <a:chOff x="5867280" y="1676520"/>
            <a:chExt cx="2819520" cy="914400"/>
          </a:xfrm>
        </p:grpSpPr>
        <p:sp>
          <p:nvSpPr>
            <p:cNvPr id="196" name=""/>
            <p:cNvSpPr/>
            <p:nvPr/>
          </p:nvSpPr>
          <p:spPr>
            <a:xfrm>
              <a:off x="6781680" y="167652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JSP action to inclu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c.ht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867280" y="1981080"/>
              <a:ext cx="9144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028840" y="3809880"/>
            <a:ext cx="3734280" cy="580680"/>
            <a:chOff x="5028840" y="3809880"/>
            <a:chExt cx="3734280" cy="580680"/>
          </a:xfrm>
        </p:grpSpPr>
        <p:sp>
          <p:nvSpPr>
            <p:cNvPr id="199" name=""/>
            <p:cNvSpPr/>
            <p:nvPr/>
          </p:nvSpPr>
          <p:spPr>
            <a:xfrm>
              <a:off x="6629400" y="380988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JSP action to inclu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lock2.j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5028840" y="4114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ude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cludes resources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jsp: include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80880" y="1231920"/>
            <a:ext cx="640080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&lt;jsp:forward&gt;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jsp:forward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JSP to forward request to different 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forwarded requests only resources in same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jsp:param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ies name/value pairs of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/Value pairs are passed to other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ward1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ceive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rameter, adds a date to the request parameters and forwards the request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ward2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further processing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2-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11: forward1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ward request to another JSP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name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e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to insert fixed template data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forward pag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rward2.jsp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param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Date(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sp:forwar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to insert fixed template data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866920" y="4114800"/>
            <a:ext cx="2896200" cy="580680"/>
            <a:chOff x="5866920" y="4114800"/>
            <a:chExt cx="2896200" cy="580680"/>
          </a:xfrm>
        </p:grpSpPr>
        <p:sp>
          <p:nvSpPr>
            <p:cNvPr id="208" name=""/>
            <p:cNvSpPr/>
            <p:nvPr/>
          </p:nvSpPr>
          <p:spPr>
            <a:xfrm>
              <a:off x="7010280" y="4114800"/>
              <a:ext cx="1752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ward reques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ward2.j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866920" y="44197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ward1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ceive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rameter, adds a date to the request parameters and forwards the request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ward2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further processing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form 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rward1.js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 your first name and press Submi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&gt;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ubmit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XHTML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52480" y="3657600"/>
            <a:ext cx="37530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JavaServer Pages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rec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riptl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g libra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2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ward2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ceives a request (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ward1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is example) and uses the request parameters as part of the response to the client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3-2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orward2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ing a forwarded reque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style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.bi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fami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ahom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elvetic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i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ans-ser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we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o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sty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ello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Your request was received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d forwarded 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able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rder: 6px outse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ckground-color: black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: cyan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&lt;%=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638680" y="3124080"/>
            <a:ext cx="3048120" cy="1219320"/>
            <a:chOff x="5638680" y="3124080"/>
            <a:chExt cx="3048120" cy="1219320"/>
          </a:xfrm>
        </p:grpSpPr>
        <p:sp>
          <p:nvSpPr>
            <p:cNvPr id="216" name=""/>
            <p:cNvSpPr/>
            <p:nvPr/>
          </p:nvSpPr>
          <p:spPr>
            <a:xfrm>
              <a:off x="6553080" y="3124080"/>
              <a:ext cx="21337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request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ward1.js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then g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rs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ameter from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638680" y="3657600"/>
              <a:ext cx="914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486040" y="5486400"/>
            <a:ext cx="3124440" cy="580680"/>
            <a:chOff x="5486040" y="5486400"/>
            <a:chExt cx="3124440" cy="580680"/>
          </a:xfrm>
        </p:grpSpPr>
        <p:sp>
          <p:nvSpPr>
            <p:cNvPr id="219" name=""/>
            <p:cNvSpPr/>
            <p:nvPr/>
          </p:nvSpPr>
          <p:spPr>
            <a:xfrm>
              <a:off x="6705720" y="5486400"/>
              <a:ext cx="1904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ameter from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486040" y="5791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2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ward2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ceives a request (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ward1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is example) and uses the request parameters as part of the response to the client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762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52862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&lt;jsp:plugin&gt;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jsp:plugin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s an applet or JavaBean to a Web p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enables client to download and install Java Plug-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&lt;jsp:plugin&gt;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5800" y="914400"/>
          <a:ext cx="776916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7691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pplet to demonstr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jsp:plugin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Fig. 10.15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1-2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0.14: ShapesApp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let that demonstrates a Java2D GeneralPath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sp.appl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pp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e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sApp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pp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the app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color parameters from XHTML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d = Integer.parseInt( 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en = Integer.parseInt( 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re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lue = Integer.parseInt( 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or backgroundCol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( red, green, b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Background( background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there is an exception while processing the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rameters, catch it and ignore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o noth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477120" y="2971800"/>
            <a:ext cx="2514600" cy="1752480"/>
            <a:chOff x="6477120" y="2971800"/>
            <a:chExt cx="2514600" cy="1752480"/>
          </a:xfrm>
        </p:grpSpPr>
        <p:sp>
          <p:nvSpPr>
            <p:cNvPr id="232" name=""/>
            <p:cNvSpPr/>
            <p:nvPr/>
          </p:nvSpPr>
          <p:spPr>
            <a:xfrm>
              <a:off x="6781680" y="2971800"/>
              <a:ext cx="2210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pp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ackground color based on parameter val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477120" y="3809880"/>
              <a:ext cx="1371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629040" y="3809880"/>
              <a:ext cx="12193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114440" y="1752480"/>
            <a:ext cx="2438640" cy="838440"/>
            <a:chOff x="4114440" y="1752480"/>
            <a:chExt cx="2438640" cy="838440"/>
          </a:xfrm>
        </p:grpSpPr>
        <p:sp>
          <p:nvSpPr>
            <p:cNvPr id="236" name=""/>
            <p:cNvSpPr/>
            <p:nvPr/>
          </p:nvSpPr>
          <p:spPr>
            <a:xfrm>
              <a:off x="4876920" y="1752480"/>
              <a:ext cx="1676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pp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embed in J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114440" y="2057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pplet to demonstr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jsp:plugin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Fig. 10.15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0-6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int( Graphics 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rrays of x and y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Points[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Points[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reference to a Graphics2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2d = ( Graphics2D ) 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star from a series of poi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neralPath st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neralPat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the initial coordinate of the GeneralPa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.moveTo( xPoint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yPoint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he star--this does not draw the st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 xPoints.length; k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r.lineTo( xPoints[ k ], yPoints[ k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 the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.closePat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ranslate the origin to (200, 200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2d.transla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otate around origin and draw stars in random col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2d.rotate( Math.PI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343400" y="1676520"/>
            <a:ext cx="4343400" cy="3733560"/>
            <a:chOff x="4343400" y="1676520"/>
            <a:chExt cx="4343400" cy="3733560"/>
          </a:xfrm>
        </p:grpSpPr>
        <p:sp>
          <p:nvSpPr>
            <p:cNvPr id="241" name=""/>
            <p:cNvSpPr/>
            <p:nvPr/>
          </p:nvSpPr>
          <p:spPr>
            <a:xfrm>
              <a:off x="6705720" y="2895480"/>
              <a:ext cx="1981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neralPa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isplay several colored sta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5409720" y="1676520"/>
              <a:ext cx="129564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4647960" y="2742840"/>
              <a:ext cx="2057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562360" y="335268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343400" y="3352680"/>
              <a:ext cx="236232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495320" y="3352680"/>
              <a:ext cx="221004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pplet to demonstr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jsp:plugin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Fig. 10.15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8-7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2d.setColo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2d.fill( star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draw a filled st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333760" y="533520"/>
            <a:ext cx="3581640" cy="824040"/>
            <a:chOff x="5333760" y="533520"/>
            <a:chExt cx="3581640" cy="824040"/>
          </a:xfrm>
        </p:grpSpPr>
        <p:sp>
          <p:nvSpPr>
            <p:cNvPr id="250" name=""/>
            <p:cNvSpPr/>
            <p:nvPr/>
          </p:nvSpPr>
          <p:spPr>
            <a:xfrm>
              <a:off x="6934320" y="533520"/>
              <a:ext cx="1981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neralPa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isplay several colored sta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5790960" y="68544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333760" y="990720"/>
              <a:ext cx="1600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jsp:plugin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embed a Java 2 applet in a JSP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-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-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15: plugin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jsp:plugin to load an apple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plugin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ppl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d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jsp.applet.ShapesApplet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codebas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advjhtp1/jsp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idth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height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40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jsp: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param 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param nam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green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param 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lu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jsp: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jsp:plugi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715000" y="990720"/>
            <a:ext cx="2819520" cy="1066680"/>
            <a:chOff x="5715000" y="990720"/>
            <a:chExt cx="2819520" cy="1066680"/>
          </a:xfrm>
        </p:grpSpPr>
        <p:sp>
          <p:nvSpPr>
            <p:cNvPr id="256" name=""/>
            <p:cNvSpPr/>
            <p:nvPr/>
          </p:nvSpPr>
          <p:spPr>
            <a:xfrm>
              <a:off x="6705720" y="990720"/>
              <a:ext cx="1828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p:plug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ction to displ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pp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J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715000" y="144792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562720" y="2514600"/>
            <a:ext cx="3047760" cy="838080"/>
            <a:chOff x="5562720" y="2514600"/>
            <a:chExt cx="3047760" cy="838080"/>
          </a:xfrm>
        </p:grpSpPr>
        <p:sp>
          <p:nvSpPr>
            <p:cNvPr id="259" name=""/>
            <p:cNvSpPr/>
            <p:nvPr/>
          </p:nvSpPr>
          <p:spPr>
            <a:xfrm>
              <a:off x="6400800" y="251460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p:par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ction to spec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pp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ackground col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562720" y="297180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jsp:plugin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embed a Java 2 applet in a JS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5639040" cy="44388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37177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&lt;jsp:useBean&gt;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jsp:useBean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JSP to manipulate Java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Java object or locates an existing object for use in J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JavaServer Pages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ssage to JSP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program that compiles/executes JS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programmers to spec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to include from other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 tag libraries used in the J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&lt;jsp:useBean&gt;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85800" y="1295280"/>
          <a:ext cx="7743960" cy="43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774396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t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an that maintains a set of advertisements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5-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1-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0.17: Rotato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JavaBean that rotates advertisem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sp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tat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mages[] = {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mages/jhtp3.jp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"images/xmlhtp1.jp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ebechtp1.jp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iw3htp1.jp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cpphtp3.jpg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links[] =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http://www.amazon.com/exec/obidos/ASIN/0130125075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associat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amazon.com/exec/obidos/ASIN/0130284173/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deitelassociat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amazon.com/exec/obidos/ASIN/013028419X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associat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"http://www.amazon.com/exec/obidos/ASIN/0130161438/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deitelassociat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"http://www.amazon.com/exec/obidos/ASIN/0130895717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deitelassociat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lectedIndex = 0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s image file name for current ad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Imag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s[ selectedIndex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s the URL for ad's corresponding Web si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Link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ks[ selectedIndex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124080" y="4419720"/>
            <a:ext cx="5105520" cy="580680"/>
            <a:chOff x="3124080" y="4419720"/>
            <a:chExt cx="5105520" cy="580680"/>
          </a:xfrm>
        </p:grpSpPr>
        <p:sp>
          <p:nvSpPr>
            <p:cNvPr id="272" name=""/>
            <p:cNvSpPr/>
            <p:nvPr/>
          </p:nvSpPr>
          <p:spPr>
            <a:xfrm>
              <a:off x="6019920" y="441972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image file name for book cover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3124080" y="472428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047760" y="5562720"/>
            <a:ext cx="5029560" cy="580680"/>
            <a:chOff x="3047760" y="5562720"/>
            <a:chExt cx="5029560" cy="580680"/>
          </a:xfrm>
        </p:grpSpPr>
        <p:sp>
          <p:nvSpPr>
            <p:cNvPr id="275" name=""/>
            <p:cNvSpPr/>
            <p:nvPr/>
          </p:nvSpPr>
          <p:spPr>
            <a:xfrm>
              <a:off x="5943600" y="556272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hyperlink to book 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mazon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047760" y="58672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t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an that maintains a set of advertisements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8-4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447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selectedIndex so next calls to getImage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Link return a different advertis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A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lectedIndex = ( selectedIndex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% images.leng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743200" y="228600"/>
            <a:ext cx="6172200" cy="1310760"/>
            <a:chOff x="2743200" y="228600"/>
            <a:chExt cx="6172200" cy="1310760"/>
          </a:xfrm>
        </p:grpSpPr>
        <p:sp>
          <p:nvSpPr>
            <p:cNvPr id="280" name=""/>
            <p:cNvSpPr/>
            <p:nvPr/>
          </p:nvSpPr>
          <p:spPr>
            <a:xfrm>
              <a:off x="6477120" y="228600"/>
              <a:ext cx="24382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t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o subsequent call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Lin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 information for different advertis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2743200" y="761760"/>
              <a:ext cx="3733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rotator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se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t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an to display a different advertisement on each request to the page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-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9-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18: adrotator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useBean i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otat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co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pplicatio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jsp.beans.Rotat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Rotator Exampl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style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.bi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fami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elvetic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i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sans-serif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we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o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sty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update advertisement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tator.nextAd();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Rotator Exampl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a 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getProperty 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otat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pert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in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mg src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getProperty 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otator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perty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l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vertisemen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638680" y="1143000"/>
            <a:ext cx="3276720" cy="824040"/>
            <a:chOff x="5638680" y="1143000"/>
            <a:chExt cx="3276720" cy="824040"/>
          </a:xfrm>
        </p:grpSpPr>
        <p:sp>
          <p:nvSpPr>
            <p:cNvPr id="285" name=""/>
            <p:cNvSpPr/>
            <p:nvPr/>
          </p:nvSpPr>
          <p:spPr>
            <a:xfrm>
              <a:off x="6629400" y="114300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p:use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ction to obtain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t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638680" y="15238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352320" y="3886200"/>
            <a:ext cx="4953600" cy="580680"/>
            <a:chOff x="3352320" y="3886200"/>
            <a:chExt cx="4953600" cy="580680"/>
          </a:xfrm>
        </p:grpSpPr>
        <p:sp>
          <p:nvSpPr>
            <p:cNvPr id="288" name=""/>
            <p:cNvSpPr/>
            <p:nvPr/>
          </p:nvSpPr>
          <p:spPr>
            <a:xfrm>
              <a:off x="6477120" y="388620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t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extA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3352320" y="41911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562720" y="4800600"/>
            <a:ext cx="3124080" cy="1219320"/>
            <a:chOff x="5562720" y="4800600"/>
            <a:chExt cx="3124080" cy="1219320"/>
          </a:xfrm>
        </p:grpSpPr>
        <p:sp>
          <p:nvSpPr>
            <p:cNvPr id="291" name=""/>
            <p:cNvSpPr/>
            <p:nvPr/>
          </p:nvSpPr>
          <p:spPr>
            <a:xfrm>
              <a:off x="6858000" y="480060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hyperlink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mazon.co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562720" y="5105520"/>
              <a:ext cx="1295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5943600" y="510552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rotator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se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t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an to display a different advertisement on each request to the page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33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3390840" cy="40384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581280" y="1143000"/>
            <a:ext cx="3391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&lt;jsp:useBean&gt;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85800" y="914400"/>
          <a:ext cx="776916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7691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0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e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ores information for one guest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0.20: GuestBea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Bean to store data for a guest in the guest book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sp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rstName, lastName, emai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he guest's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rstName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Name = nam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he guest's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ir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he guest's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LastName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Name = nam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he guest's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La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572000" y="1371240"/>
            <a:ext cx="4267080" cy="1967400"/>
            <a:chOff x="4572000" y="1371240"/>
            <a:chExt cx="4267080" cy="1967400"/>
          </a:xfrm>
        </p:grpSpPr>
        <p:sp>
          <p:nvSpPr>
            <p:cNvPr id="304" name=""/>
            <p:cNvSpPr/>
            <p:nvPr/>
          </p:nvSpPr>
          <p:spPr>
            <a:xfrm>
              <a:off x="6019920" y="2514600"/>
              <a:ext cx="2819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uest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fines three guest properties: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rs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as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4572000" y="1371240"/>
              <a:ext cx="14479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0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e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ores information for one guest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286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he guest's email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mail( String addres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ail = 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he guest's email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Emai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ail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DataBe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erforms database access on behalf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Login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2-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0.21: GuestDataBea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GuestDataBean makes a database connection and suppor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ing and retrieving data from the datab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sp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Data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 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addRecord, getRecord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TitlesBean objec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DataBean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ad the Cloudscape dri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ass.for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cloudscape.core.RmiJdbcDri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the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nection = DriverManager.getConnec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dbc:rmi:jdbc:cloudscape:guestboo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Records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firstName, lastName, email FROM guest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cord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SERT INTO guests (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, lastName, email )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( ?, ?, ? )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105520" y="3962520"/>
            <a:ext cx="3504960" cy="580680"/>
            <a:chOff x="5105520" y="3962520"/>
            <a:chExt cx="3504960" cy="580680"/>
          </a:xfrm>
        </p:grpSpPr>
        <p:sp>
          <p:nvSpPr>
            <p:cNvPr id="311" name=""/>
            <p:cNvSpPr/>
            <p:nvPr/>
          </p:nvSpPr>
          <p:spPr>
            <a:xfrm>
              <a:off x="6019920" y="3962520"/>
              <a:ext cx="2590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uestData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nect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uestbo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5105520" y="4267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DataBe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erforms database access on behalf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Login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9-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an ArrayList of GuestBea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 getGuestLis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L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rrayList guest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list of tit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ultSet results = getRecords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row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s.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uestBean gue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Bea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uest.setFirstName( result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uest.setLastName( result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uest.setEmail( result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uestList.add( gues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sert a guest in guestbook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Guest( GuestBean gues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L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cord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guest.getFir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cord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guest.getLa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cord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guest.getEmail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cord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724280" y="990720"/>
            <a:ext cx="4114800" cy="3809880"/>
            <a:chOff x="4724280" y="990720"/>
            <a:chExt cx="4114800" cy="3809880"/>
          </a:xfrm>
        </p:grpSpPr>
        <p:sp>
          <p:nvSpPr>
            <p:cNvPr id="316" name=""/>
            <p:cNvSpPr/>
            <p:nvPr/>
          </p:nvSpPr>
          <p:spPr>
            <a:xfrm>
              <a:off x="6248520" y="2209680"/>
              <a:ext cx="25905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uestData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metho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Guest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Gue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manipulat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5028840" y="990720"/>
              <a:ext cx="1219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4724280" y="2743200"/>
              <a:ext cx="152424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JavaServer Pages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defined JSP tags that encapsulate function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ten performed based on information from client requ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used to create Java objects for use in scriptl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DataBe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erforms database access on behalf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Login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971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se statements and terminate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nal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to close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Records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cord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SQLException on close 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2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Server pa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Login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ables the user to submit a first name, a last name and an e-mail address to be placed in the guest book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1-1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22: guestBookLogin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page settings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ge errorPag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uestBookErrorPage.jsp"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beans used in this JSP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useBean i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uest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co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ge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com.deitel.advjhtp1.jsp.beans.GuestBea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useBean i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uestData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co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quest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jsp.beans.GuestDataBea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uest Book Logi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style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fami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hom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elvetic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ri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ans-ser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9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r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px groo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dd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p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ackground-col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#ddddd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sty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029200" y="762120"/>
            <a:ext cx="3352680" cy="824040"/>
            <a:chOff x="5029200" y="762120"/>
            <a:chExt cx="3352680" cy="824040"/>
          </a:xfrm>
        </p:grpSpPr>
        <p:sp>
          <p:nvSpPr>
            <p:cNvPr id="324" name=""/>
            <p:cNvSpPr/>
            <p:nvPr/>
          </p:nvSpPr>
          <p:spPr>
            <a:xfrm>
              <a:off x="6019920" y="76212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rective defines information that is globally available in J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5029200" y="114300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714640" y="1905120"/>
            <a:ext cx="3124440" cy="1067400"/>
            <a:chOff x="5714640" y="1905120"/>
            <a:chExt cx="3124440" cy="1067400"/>
          </a:xfrm>
        </p:grpSpPr>
        <p:sp>
          <p:nvSpPr>
            <p:cNvPr id="327" name=""/>
            <p:cNvSpPr/>
            <p:nvPr/>
          </p:nvSpPr>
          <p:spPr>
            <a:xfrm>
              <a:off x="6400800" y="1905120"/>
              <a:ext cx="2438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p:use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ctions to obtain reference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uest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uestData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714640" y="2438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2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Server pa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Login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ables the user to submit a first name, a last name and an e-mail address to be placed in the guest book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jsp:setProperty 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u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pert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*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uest.getFirstName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guest.getLastName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guest.getEmail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to insert fixed template data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form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uestBookLogin.jsp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your first name, last name and emai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ddress to register in our guest book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 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 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ai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333760" y="685800"/>
            <a:ext cx="3505320" cy="824040"/>
            <a:chOff x="5333760" y="685800"/>
            <a:chExt cx="3505320" cy="824040"/>
          </a:xfrm>
        </p:grpSpPr>
        <p:sp>
          <p:nvSpPr>
            <p:cNvPr id="332" name=""/>
            <p:cNvSpPr/>
            <p:nvPr/>
          </p:nvSpPr>
          <p:spPr>
            <a:xfrm>
              <a:off x="6477120" y="68580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properti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uest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request parameter val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5333760" y="68580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2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Server pa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Login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ables the user to submit a first name, a last name and an e-mail address to be placed in the guest book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ail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olspa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uestData.addGuest( gues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to insert jsp:forward action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%-- forward to display guest book contents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forward pag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uestBookView.js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334120" y="4648320"/>
            <a:ext cx="3200400" cy="656640"/>
            <a:chOff x="5334120" y="4648320"/>
            <a:chExt cx="3200400" cy="656640"/>
          </a:xfrm>
        </p:grpSpPr>
        <p:sp>
          <p:nvSpPr>
            <p:cNvPr id="337" name=""/>
            <p:cNvSpPr/>
            <p:nvPr/>
          </p:nvSpPr>
          <p:spPr>
            <a:xfrm>
              <a:off x="6172200" y="472428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ward reques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uestBookView.j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flipV="1">
              <a:off x="5334120" y="464832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Server pa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View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splays the contents of the guest book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9-1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-1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23: guestBookView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page settings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ge errorPag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uestBookErrorPage.jsp"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page impor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.util.*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ge impor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jsp.beans.*"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GuestDataBean to obtain guest list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useBean i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uestDat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co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qu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jsp.beans.GuestDataBean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uest Li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yle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fami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hom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elvetic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ri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ans-ser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xt-alig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9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r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px groo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dd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p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ackground-col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#ddddd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sty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028840" y="838080"/>
            <a:ext cx="3353040" cy="1067400"/>
            <a:chOff x="5028840" y="838080"/>
            <a:chExt cx="3353040" cy="1067400"/>
          </a:xfrm>
        </p:grpSpPr>
        <p:sp>
          <p:nvSpPr>
            <p:cNvPr id="342" name=""/>
            <p:cNvSpPr/>
            <p:nvPr/>
          </p:nvSpPr>
          <p:spPr>
            <a:xfrm>
              <a:off x="6095880" y="838080"/>
              <a:ext cx="2286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recti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o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pecify Java classes and packages that are used in JSP 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5028840" y="13716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95880" y="2286000"/>
            <a:ext cx="2819520" cy="824040"/>
            <a:chOff x="6095880" y="2286000"/>
            <a:chExt cx="2819520" cy="824040"/>
          </a:xfrm>
        </p:grpSpPr>
        <p:sp>
          <p:nvSpPr>
            <p:cNvPr id="345" name=""/>
            <p:cNvSpPr/>
            <p:nvPr/>
          </p:nvSpPr>
          <p:spPr>
            <a:xfrm>
              <a:off x="6629400" y="228600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p:use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ction to obtain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uestData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6095880" y="2743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Server pa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View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splays the contents of the guest book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0-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nt-size: 2em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uest Li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h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100px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 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h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100px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 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h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200px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ai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 guestList = guestData.getGuest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terator guestListIterator = guestList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uestBean gue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uestList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guest = ( GuestBean ) guestList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; insert fixed template data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&gt;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.getLastName(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.getFirstName(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a 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ilto: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uest.getEmail(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.getEmail(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486040" y="2362320"/>
            <a:ext cx="3353040" cy="3581280"/>
            <a:chOff x="5486040" y="2362320"/>
            <a:chExt cx="3353040" cy="3581280"/>
          </a:xfrm>
        </p:grpSpPr>
        <p:sp>
          <p:nvSpPr>
            <p:cNvPr id="350" name=""/>
            <p:cNvSpPr/>
            <p:nvPr/>
          </p:nvSpPr>
          <p:spPr>
            <a:xfrm>
              <a:off x="6400800" y="236232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riptlet displays last name, first name and email address for all g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6400440" y="3200400"/>
              <a:ext cx="1219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866920" y="3200400"/>
              <a:ext cx="175284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5486040" y="3200400"/>
              <a:ext cx="21337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5866920" y="3200400"/>
              <a:ext cx="17528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Server pa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View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splays the contents of the guest book 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362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&lt;%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Server pa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Error-View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sponds to exceptions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Login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View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24: guestBookErrorPage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page settings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sErrorPag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.util.*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.sql.*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!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yle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.bigR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l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we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o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sty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Re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criptlet to determine exception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output beginning of error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stanc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LExcep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n SQL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3580920" y="838080"/>
            <a:ext cx="5029560" cy="1067400"/>
            <a:chOff x="3580920" y="838080"/>
            <a:chExt cx="5029560" cy="1067400"/>
          </a:xfrm>
        </p:grpSpPr>
        <p:sp>
          <p:nvSpPr>
            <p:cNvPr id="360" name=""/>
            <p:cNvSpPr/>
            <p:nvPr/>
          </p:nvSpPr>
          <p:spPr>
            <a:xfrm>
              <a:off x="6095880" y="83808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recti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sErrorP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pecify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uestBookError-P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n error p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580920" y="1371600"/>
              <a:ext cx="2514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5181120" y="5410080"/>
            <a:ext cx="3277080" cy="824040"/>
            <a:chOff x="5181120" y="5410080"/>
            <a:chExt cx="3277080" cy="824040"/>
          </a:xfrm>
        </p:grpSpPr>
        <p:sp>
          <p:nvSpPr>
            <p:cNvPr id="363" name=""/>
            <p:cNvSpPr/>
            <p:nvPr/>
          </p:nvSpPr>
          <p:spPr>
            <a:xfrm>
              <a:off x="6019920" y="54100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implicit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etermine error to be disp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5181120" y="579132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Server pa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Error-View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sponds to exceptions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Login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View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stanc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NotFoundExcep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 ClassNotFound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n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%-- end scriptlet to insert fixed template data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%-- continue error message output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ccurred while interacting with the guestbook database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Re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he error message was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&lt;%=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.getMessage(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Re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ease try again lat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114440" y="685440"/>
            <a:ext cx="3962880" cy="1053000"/>
            <a:chOff x="4114440" y="685440"/>
            <a:chExt cx="3962880" cy="1053000"/>
          </a:xfrm>
        </p:grpSpPr>
        <p:sp>
          <p:nvSpPr>
            <p:cNvPr id="368" name=""/>
            <p:cNvSpPr/>
            <p:nvPr/>
          </p:nvSpPr>
          <p:spPr>
            <a:xfrm>
              <a:off x="5638680" y="914400"/>
              <a:ext cx="2438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implicit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etermine error to be disp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4114440" y="685440"/>
              <a:ext cx="1523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&lt;jsp:useBean&gt;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3352680" cy="24274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1066680" y="990720"/>
            <a:ext cx="2743200" cy="26589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4572000" y="3619440"/>
            <a:ext cx="3352680" cy="26892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1066680" y="3733920"/>
            <a:ext cx="285768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JavaServer Pages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ipt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called “Scripting Element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programmers to insert Java code in JS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s request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s with page elements and other components to implement dynamic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&lt;jsp:useBean&gt;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04920" y="1081080"/>
            <a:ext cx="2971800" cy="28814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3438360" y="2354400"/>
            <a:ext cx="5248440" cy="37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   Directiv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 dir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ssages to JSP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programmer t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pag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content from other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custom-tag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limited b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%@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   Directiv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84360" y="1366920"/>
          <a:ext cx="7743600" cy="273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66920"/>
                    <a:ext cx="77436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ag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irectiv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ies JSP’s global settings in JSP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ag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irectiv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684360" y="914400"/>
          <a:ext cx="7704000" cy="1019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14400"/>
                    <a:ext cx="7704000" cy="10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ag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irectiv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219320"/>
          <a:ext cx="7659720" cy="50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765972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ag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irectiv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684360" y="914400"/>
          <a:ext cx="7664400" cy="1012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14400"/>
                    <a:ext cx="7664400" cy="1012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irectiv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clu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s content of another resource at JSP translatio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s flexibl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jsp:includ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udeDirective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monstrates including content at translation-time with directive includ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28: includeDirective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include directiv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style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fami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hom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elvetic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ri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ans-ser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.9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r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3px groo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dd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ackground-col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dddd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sty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160px; text-align: cent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mg src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mages/logotiny.png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id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4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eigh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3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l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&amp; Associates, Inc. Log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495320" y="762120"/>
            <a:ext cx="4343760" cy="580680"/>
            <a:chOff x="4495320" y="762120"/>
            <a:chExt cx="4343760" cy="580680"/>
          </a:xfrm>
        </p:grpSpPr>
        <p:sp>
          <p:nvSpPr>
            <p:cNvPr id="399" name=""/>
            <p:cNvSpPr/>
            <p:nvPr/>
          </p:nvSpPr>
          <p:spPr>
            <a:xfrm>
              <a:off x="6095880" y="7621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imp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clude.js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clu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rec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4495320" y="10666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udeDirective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monstrates including content at translation-time with directive includ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&lt;%-- include banner.html in this JSP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clude fi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nner.html"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styl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width: 160px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&lt;%-- include toc.html in this JSP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clude fi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c.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td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rtical-align: top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&lt;%-- include clock2.jsp in this JSP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clude fi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ock2.jsp"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257440" y="609480"/>
            <a:ext cx="3581640" cy="580680"/>
            <a:chOff x="5257440" y="609480"/>
            <a:chExt cx="3581640" cy="580680"/>
          </a:xfrm>
        </p:grpSpPr>
        <p:sp>
          <p:nvSpPr>
            <p:cNvPr id="404" name=""/>
            <p:cNvSpPr/>
            <p:nvPr/>
          </p:nvSpPr>
          <p:spPr>
            <a:xfrm>
              <a:off x="6400800" y="6094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clu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rective to inclu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nner.ht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5257440" y="914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028840" y="2209680"/>
            <a:ext cx="3734280" cy="580680"/>
            <a:chOff x="5028840" y="2209680"/>
            <a:chExt cx="3734280" cy="580680"/>
          </a:xfrm>
        </p:grpSpPr>
        <p:sp>
          <p:nvSpPr>
            <p:cNvPr id="407" name=""/>
            <p:cNvSpPr/>
            <p:nvPr/>
          </p:nvSpPr>
          <p:spPr>
            <a:xfrm>
              <a:off x="6553080" y="220968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clu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rective to inclu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c.ht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5028840" y="2514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181480" y="3505320"/>
            <a:ext cx="3733920" cy="580680"/>
            <a:chOff x="5181480" y="3505320"/>
            <a:chExt cx="3733920" cy="580680"/>
          </a:xfrm>
        </p:grpSpPr>
        <p:sp>
          <p:nvSpPr>
            <p:cNvPr id="410" name=""/>
            <p:cNvSpPr/>
            <p:nvPr/>
          </p:nvSpPr>
          <p:spPr>
            <a:xfrm>
              <a:off x="6629400" y="350532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clu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rective to inclu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lock2.j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181480" y="38098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JavaServer Pages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Tag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SP’s tag extension mechanis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programmers to define new ta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s encapsulate complex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gs can manipulate JSP con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udeDirective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monstrates including content at translation-time with directive includ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626580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8   Custom Tag Librar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-tag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apsulates complex functionality for use in JS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custom ta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creating dynamic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es that implement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akg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x.servlet.jsp.tag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8   Custom Tag Librar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684360" y="1752480"/>
          <a:ext cx="7767360" cy="188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52480"/>
                    <a:ext cx="77673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Tag-Welcome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ses a simple custom tag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495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30: customTagWelcome.jsp       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JSP that uses a custom tag to output content.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taglib directive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glib uri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vjhtp1-taglib.tl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efi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vjhtp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mple Custom Tag Exampl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following text demonstrates a custom tag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advjhtp1:welcome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752480" y="4191120"/>
            <a:ext cx="4953240" cy="2584440"/>
          </a:xfrm>
          <a:prstGeom prst="rect">
            <a:avLst/>
          </a:prstGeom>
          <a:ln w="0">
            <a:noFill/>
          </a:ln>
        </p:spPr>
      </p:pic>
      <p:grpSp>
        <p:nvGrpSpPr>
          <p:cNvPr id="422" name=""/>
          <p:cNvGrpSpPr/>
          <p:nvPr/>
        </p:nvGrpSpPr>
        <p:grpSpPr>
          <a:xfrm>
            <a:off x="5409720" y="685800"/>
            <a:ext cx="3505680" cy="990720"/>
            <a:chOff x="5409720" y="685800"/>
            <a:chExt cx="3505680" cy="990720"/>
          </a:xfrm>
        </p:grpSpPr>
        <p:sp>
          <p:nvSpPr>
            <p:cNvPr id="423" name=""/>
            <p:cNvSpPr/>
            <p:nvPr/>
          </p:nvSpPr>
          <p:spPr>
            <a:xfrm>
              <a:off x="6248520" y="685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agli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rective to include use tags in tag libr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5409720" y="990720"/>
              <a:ext cx="8384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352320" y="3505320"/>
            <a:ext cx="5486760" cy="580680"/>
            <a:chOff x="3352320" y="3505320"/>
            <a:chExt cx="5486760" cy="580680"/>
          </a:xfrm>
        </p:grpSpPr>
        <p:sp>
          <p:nvSpPr>
            <p:cNvPr id="426" name=""/>
            <p:cNvSpPr/>
            <p:nvPr/>
          </p:nvSpPr>
          <p:spPr>
            <a:xfrm>
              <a:off x="6477120" y="3505320"/>
              <a:ext cx="236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custom ta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lc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insert text in the J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3352320" y="380988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Tag-Handl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tag handler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-3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0.31: WelcomeTagHandl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 tag handler that handles a simple ta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sp.taglibra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js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jsp.tag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lcomeTagHandl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gSuppor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called to begin tag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StartTag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p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tag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JspWriter to output cont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spWriter out = pageContext.getOu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utput cont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 to JSP Tag Libraries!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hrow IOException to JSP container as Jsp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pException( io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KIP_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gnore the tag's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038480" y="1143000"/>
            <a:ext cx="4343400" cy="1066680"/>
            <a:chOff x="4038480" y="1143000"/>
            <a:chExt cx="4343400" cy="1066680"/>
          </a:xfrm>
        </p:grpSpPr>
        <p:sp>
          <p:nvSpPr>
            <p:cNvPr id="431" name=""/>
            <p:cNvSpPr/>
            <p:nvPr/>
          </p:nvSpPr>
          <p:spPr>
            <a:xfrm>
              <a:off x="5562720" y="1143000"/>
              <a:ext cx="2819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lcomeTagHand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ements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a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y extending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agSup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4038480" y="1523880"/>
              <a:ext cx="1524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952520" y="2514600"/>
            <a:ext cx="3734280" cy="824040"/>
            <a:chOff x="4952520" y="2514600"/>
            <a:chExt cx="3734280" cy="824040"/>
          </a:xfrm>
        </p:grpSpPr>
        <p:sp>
          <p:nvSpPr>
            <p:cNvPr id="434" name=""/>
            <p:cNvSpPr/>
            <p:nvPr/>
          </p:nvSpPr>
          <p:spPr>
            <a:xfrm>
              <a:off x="5638680" y="251460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SP container call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StartTa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it encounters the starting custom t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4952520" y="2895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876560" y="3581280"/>
            <a:ext cx="3886560" cy="1067400"/>
            <a:chOff x="4876560" y="3581280"/>
            <a:chExt cx="3886560" cy="1067400"/>
          </a:xfrm>
        </p:grpSpPr>
        <p:sp>
          <p:nvSpPr>
            <p:cNvPr id="437" name=""/>
            <p:cNvSpPr/>
            <p:nvPr/>
          </p:nvSpPr>
          <p:spPr>
            <a:xfrm>
              <a:off x="6400800" y="3581280"/>
              <a:ext cx="2362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custom tag handler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ge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JSP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pWri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outputting 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4876560" y="3885840"/>
              <a:ext cx="1523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2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tag library descriptor fi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vjhtp1-taglib.t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9-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ncod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O-8859-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taglib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Sun Microsystems, Inc.//DTD JSP Tag Library 1.1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java.sun.com/j2ee/dtds/web-jsptaglibrary_1_1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a tag library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ag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lib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lib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sp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hort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vjhtp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hort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f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 simple tab library for the examp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/inf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 simple tag that outputs cont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a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ag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m.deitel.advjhtp1.jsp.taglibrary.WelcomeTagHand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g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bodycont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cont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f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serts content welcoming user to tag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inf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ta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g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447560" y="1295280"/>
            <a:ext cx="7086960" cy="580680"/>
            <a:chOff x="1447560" y="1295280"/>
            <a:chExt cx="7086960" cy="580680"/>
          </a:xfrm>
        </p:grpSpPr>
        <p:sp>
          <p:nvSpPr>
            <p:cNvPr id="442" name=""/>
            <p:cNvSpPr/>
            <p:nvPr/>
          </p:nvSpPr>
          <p:spPr>
            <a:xfrm>
              <a:off x="6553080" y="129528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custom-tag library descriptor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1447560" y="160020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371600" y="2514600"/>
            <a:ext cx="6781680" cy="914400"/>
            <a:chOff x="1371600" y="2514600"/>
            <a:chExt cx="6781680" cy="914400"/>
          </a:xfrm>
        </p:grpSpPr>
        <p:sp>
          <p:nvSpPr>
            <p:cNvPr id="445" name=""/>
            <p:cNvSpPr/>
            <p:nvPr/>
          </p:nvSpPr>
          <p:spPr>
            <a:xfrm>
              <a:off x="6019920" y="2514600"/>
              <a:ext cx="2133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a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 describ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lc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ustom t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1371600" y="2819520"/>
              <a:ext cx="4648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3047760" y="3352680"/>
            <a:ext cx="5258160" cy="685800"/>
            <a:chOff x="3047760" y="3352680"/>
            <a:chExt cx="5258160" cy="685800"/>
          </a:xfrm>
        </p:grpSpPr>
        <p:sp>
          <p:nvSpPr>
            <p:cNvPr id="448" name=""/>
            <p:cNvSpPr/>
            <p:nvPr/>
          </p:nvSpPr>
          <p:spPr>
            <a:xfrm>
              <a:off x="6477120" y="335268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custom tag name and cl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3047760" y="36576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5638320" y="3657600"/>
              <a:ext cx="838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8.2   Custom Tag with Attribu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HTML and JSP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ttributes to customize function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attributes for custom t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ying attributes for a custom ta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0 and 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33: customTagAttribute.jsp     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JSP that uses a custom tag to output content.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taglib directive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glib uri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vjhtp1-taglib.t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prefix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vjhtp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pecifying Custom Tag Attribute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monstrating an attribute with a string val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advjhtp1:welcom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rstNam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au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monstrating an attribute with an expression val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%-- scriptlet to obtain "name" request parameter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name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advjhtp1:welcome2 firstNam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723920" y="3124080"/>
            <a:ext cx="4191480" cy="2438640"/>
            <a:chOff x="4723920" y="3124080"/>
            <a:chExt cx="4191480" cy="2438640"/>
          </a:xfrm>
        </p:grpSpPr>
        <p:sp>
          <p:nvSpPr>
            <p:cNvPr id="456" name=""/>
            <p:cNvSpPr/>
            <p:nvPr/>
          </p:nvSpPr>
          <p:spPr>
            <a:xfrm>
              <a:off x="6858000" y="3124080"/>
              <a:ext cx="20574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lcome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g to insert text in JSP that is customized based 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rs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181120" y="38098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4723920" y="3809880"/>
              <a:ext cx="21337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ying attributes for a custom ta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4838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4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2Tag-Handl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tag handler for a tag with an attribute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4-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0.34: Welcome2TagHandl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 tag handler that handles a simple ta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sp.taglibra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js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jsp.tag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lcome2TagHandl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gSuppor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rst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called to begin tag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StartTag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p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tag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JspWriter to output cont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spWriter out = pageContext.getOu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utput cont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ll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firstName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&lt;br /&gt;Welcome to JSP Tag Libraries!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hrow IOException to JSP container as Jsp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pException( io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KIP_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gnore the tag's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657600" y="2438280"/>
            <a:ext cx="5029200" cy="337320"/>
            <a:chOff x="3657600" y="2438280"/>
            <a:chExt cx="5029200" cy="337320"/>
          </a:xfrm>
        </p:grpSpPr>
        <p:sp>
          <p:nvSpPr>
            <p:cNvPr id="464" name=""/>
            <p:cNvSpPr/>
            <p:nvPr/>
          </p:nvSpPr>
          <p:spPr>
            <a:xfrm>
              <a:off x="6019920" y="24382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rs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ttrib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3657600" y="259092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343400" y="3505320"/>
            <a:ext cx="4495680" cy="990360"/>
            <a:chOff x="4343400" y="3505320"/>
            <a:chExt cx="4495680" cy="990360"/>
          </a:xfrm>
        </p:grpSpPr>
        <p:sp>
          <p:nvSpPr>
            <p:cNvPr id="467" name=""/>
            <p:cNvSpPr/>
            <p:nvPr/>
          </p:nvSpPr>
          <p:spPr>
            <a:xfrm>
              <a:off x="5715000" y="350532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rs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ttribute value as part of text output by custom t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4343400" y="380988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JavaServer Pages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ok like standard HTML or XHTM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 include HTML or XHTML mar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n as fixed-templat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when content is mostly fixed-templat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 amounts of content generated dynam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when small amount of content is fixed-template d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content generated dynam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4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2Tag-Handl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tag handler for a tag with an attribute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7-4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219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rstName attribute to the users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rstName( String user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Name = user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3886200" y="609120"/>
            <a:ext cx="4038480" cy="1038240"/>
            <a:chOff x="3886200" y="609120"/>
            <a:chExt cx="4038480" cy="1038240"/>
          </a:xfrm>
        </p:grpSpPr>
        <p:sp>
          <p:nvSpPr>
            <p:cNvPr id="472" name=""/>
            <p:cNvSpPr/>
            <p:nvPr/>
          </p:nvSpPr>
          <p:spPr>
            <a:xfrm>
              <a:off x="4800600" y="106668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rresponding set accessor metho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rs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flipV="1">
              <a:off x="3886200" y="609120"/>
              <a:ext cx="9144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me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tag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-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A tag with an attribut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a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ag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m.deitel.advjhtp1.jsp.taglibrary.Welcome2TagHand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tag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cont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cont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inf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serts content welcoming user to tag libraries. Us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ttribute "name" to insert the user's na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inf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attribu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require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require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rtexprvalu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rtexprvalu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attribu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191120" y="2971800"/>
            <a:ext cx="4572000" cy="824040"/>
            <a:chOff x="4191120" y="2971800"/>
            <a:chExt cx="4572000" cy="824040"/>
          </a:xfrm>
        </p:grpSpPr>
        <p:sp>
          <p:nvSpPr>
            <p:cNvPr id="477" name=""/>
            <p:cNvSpPr/>
            <p:nvPr/>
          </p:nvSpPr>
          <p:spPr>
            <a:xfrm>
              <a:off x="5867280" y="2971800"/>
              <a:ext cx="2895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roduce 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ttrib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specifying the characteristics of a tag’s attrib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4191120" y="3429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8.3   Evaluating the Body of a Custom Ta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icularly useful for processing element bo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6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a custom tag that interacts with its body (Part 1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ustomTagBody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taglib directive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glib uri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vjhtp1-taglib.tl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efix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vjhtp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uest Li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style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fami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ahom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elvetic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i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ans-ser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xt-alig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9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r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px groo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dd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p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ackground-col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#ddddd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sty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&lt;p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nt-size: 2e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uest Li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6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a custom tag that interacts with its body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1-5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495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th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100p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Last 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th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100p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First 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h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200p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Emai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/t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%-- guestlist custom tag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advjhtp1:guestlis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&gt;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Name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&lt;td&gt;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a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ilto: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ail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ail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advjhtp1:guestlis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352680" y="1828800"/>
            <a:ext cx="5639040" cy="1981080"/>
            <a:chOff x="3352680" y="1828800"/>
            <a:chExt cx="5639040" cy="1981080"/>
          </a:xfrm>
        </p:grpSpPr>
        <p:sp>
          <p:nvSpPr>
            <p:cNvPr id="486" name=""/>
            <p:cNvSpPr/>
            <p:nvPr/>
          </p:nvSpPr>
          <p:spPr>
            <a:xfrm>
              <a:off x="6629400" y="228600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cust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uest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g to display last name, first name and em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3429000" y="2743200"/>
              <a:ext cx="32004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 flipV="1">
              <a:off x="3352680" y="1828800"/>
              <a:ext cx="32767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4419720" y="2666880"/>
              <a:ext cx="2209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6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a custom tag that interacts with its body 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48387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T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tag handler (Part 1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0.37: GuestBookTag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 tag handler that reads information from the guestboo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base and makes that data available in a JS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sp.taglibra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js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jsp.tag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sp.bea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BookTag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dyTagSuppor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ai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DataBean guest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Bean gue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rator iter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called to begin tag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StartTag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p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tag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uestDat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DataBea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 list = guestData.getGuest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= list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T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tag handler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6-2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cessNextGue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VAL_BODY_TA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ntinue body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KIP_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body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any exceptions occur, do not continue process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ag's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KIP_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gnore the tag's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body and determine if body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hould contin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AfterBod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to output body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dyContent.writeOut( getPrevious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exception occurs, terminate body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KIP_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body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dyContent.clearBod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3123720" y="3352680"/>
            <a:ext cx="5486760" cy="824040"/>
            <a:chOff x="3123720" y="3352680"/>
            <a:chExt cx="5486760" cy="824040"/>
          </a:xfrm>
        </p:grpSpPr>
        <p:sp>
          <p:nvSpPr>
            <p:cNvPr id="497" name=""/>
            <p:cNvSpPr/>
            <p:nvPr/>
          </p:nvSpPr>
          <p:spPr>
            <a:xfrm>
              <a:off x="5791320" y="3352680"/>
              <a:ext cx="2819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AfterBod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n be called many times to process the body of a custom t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3123720" y="380988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257800" y="4419720"/>
            <a:ext cx="3505320" cy="337320"/>
            <a:chOff x="5257800" y="4419720"/>
            <a:chExt cx="3505320" cy="337320"/>
          </a:xfrm>
        </p:grpSpPr>
        <p:sp>
          <p:nvSpPr>
            <p:cNvPr id="500" name=""/>
            <p:cNvSpPr/>
            <p:nvPr/>
          </p:nvSpPr>
          <p:spPr>
            <a:xfrm>
              <a:off x="6172200" y="441972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 the first client’s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257800" y="45720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505320" y="228600"/>
            <a:ext cx="5257800" cy="1067400"/>
            <a:chOff x="3505320" y="228600"/>
            <a:chExt cx="5257800" cy="1067400"/>
          </a:xfrm>
        </p:grpSpPr>
        <p:sp>
          <p:nvSpPr>
            <p:cNvPr id="503" name=""/>
            <p:cNvSpPr/>
            <p:nvPr/>
          </p:nvSpPr>
          <p:spPr>
            <a:xfrm>
              <a:off x="6095880" y="2286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tract information for first guest and create variable containing that information in the JSP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ge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3505320" y="533160"/>
              <a:ext cx="2590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428640" y="5867280"/>
            <a:ext cx="5486760" cy="824040"/>
            <a:chOff x="3428640" y="5867280"/>
            <a:chExt cx="5486760" cy="824040"/>
          </a:xfrm>
        </p:grpSpPr>
        <p:sp>
          <p:nvSpPr>
            <p:cNvPr id="506" name=""/>
            <p:cNvSpPr/>
            <p:nvPr/>
          </p:nvSpPr>
          <p:spPr>
            <a:xfrm>
              <a:off x="5486400" y="586728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sure that the outputted body content is not processed in subsequent call to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AfterBod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3428640" y="62485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T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tag handler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0-7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cessNextGue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VAL_BODY_TA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ntinue body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KIP_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body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s the next GuestBean and extracts its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cessNextGues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ext g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uest = ( GuestBean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geContext.setAttribut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guest.getFir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geContext.setAttribut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guest.getLa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geContext.setAttribut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ai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guest.getEmail(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276360" y="228600"/>
            <a:ext cx="4953240" cy="580680"/>
            <a:chOff x="3276360" y="228600"/>
            <a:chExt cx="4953240" cy="580680"/>
          </a:xfrm>
        </p:grpSpPr>
        <p:sp>
          <p:nvSpPr>
            <p:cNvPr id="511" name=""/>
            <p:cNvSpPr/>
            <p:nvPr/>
          </p:nvSpPr>
          <p:spPr>
            <a:xfrm>
              <a:off x="6095880" y="22860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tract information for next guest (if availa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3276360" y="5335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8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Tag-ExtraInf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sed by the container to define scripting variables in a JSP that uses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tag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0.38: GuestBookTagExtraInfo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that defines the variable names and types created b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 tag handler GuestBookTa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sp.taglibra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jsp.tag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BookTagExtraInfo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gExtraInfo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that returns information about the variabl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uestBookTag creates for use in a JS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Info [] getVariableInfo( TagData tagDat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riableInfo first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Info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VariableInfo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ES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riableInfo last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Info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VariableInfo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ES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riableInfo emai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Info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ai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VariableInfo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ES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riableInfo varableInfo [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firstName, lastName, email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ableInfo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Jonathan Gadzik</dc:creator>
  <dc:description/>
  <dc:language>en-US</dc:language>
  <cp:lastModifiedBy>gadzik</cp:lastModifiedBy>
  <dcterms:modified xsi:type="dcterms:W3CDTF">2002-02-01T21:34:14Z</dcterms:modified>
  <cp:revision>145</cp:revision>
  <dc:subject/>
  <dc:title>Chapter 10: JavaServer Pages</dc:title>
</cp:coreProperties>
</file>