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E398-9361-4CC6-9A25-03CF62F89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BAB0-CBB1-4025-8C01-B43B6AFA0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59D4-626D-4603-836B-AB5B2289C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34A8-57A2-4508-82F2-AA194A4D5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4701-E7E7-4E8E-A838-B4F755DE33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9F1E9-73E6-45D8-A76B-699A795F2D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9CE17-3739-4B02-929B-DFE508C0E2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7C1A-D52A-4B42-8360-D0400ECFA8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611B6-0855-4A15-8123-399B5C3686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FB893-6440-4319-8130-737B66EF60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9487C-3BDB-46FD-9DAC-EA709F48F2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8920-1FD4-4EA6-8720-C9F684A7F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17D3A-1E36-4DC6-B227-56E5637F1C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68C5-9C11-4A23-998E-66C0140880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132A-FE2C-462D-A568-BB116CF55F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D752-2BF7-4921-BBDE-626A31DEAE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B904F-FF40-47A7-8810-34AA5A6492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02AC-D257-4F23-BD90-8D0E1333E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7F1B-34ED-4A01-B648-782E8D820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3158-DBB4-4271-9FC2-7DE82C68C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51EF-5C1F-419C-B7B2-839D554D0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241F-D672-4F89-A012-3C6E3ADE6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DE5C-54B2-43AB-ABD9-7F0AC9C83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2417-986D-46D4-9203-4DBC892D4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F7ED-5D67-4FF3-9011-AB62077E9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C696-28B5-4A02-AB8B-AE5978A59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4: Session EJBs and Distributed Transac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JB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om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2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JB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2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JB Contain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ssion Bea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teful Session EJB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Session EJB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teless Session EJB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JB Transa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oneyTransf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 Home and Remote Interfa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ean-Managed Transaction Demar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tainer-Managed Transaction Demar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4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oneyTransf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 Cli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4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oneyTransf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.4   EJB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s EJB inte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inter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inv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s EJB life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ols EJB instances to enhanc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new EJB inst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s existing EJB inst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   Session Bea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business logic processing for a particular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per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represent database-sto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s are lost if EJB container cr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f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1   Stateful Session EJB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state information between business method inv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ping Cart Stateful Session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uld provide business methods for adding and removing items from the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JB would store state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items in the 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ty of each item in the 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 of items in the 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calculating simple interes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, 20, 27 and 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 is the remote interface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ful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Calculato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incipal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incip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interest 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nterestR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oan length in yea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er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loan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mount of interest ear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nterestEarne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267080" y="1066680"/>
            <a:ext cx="2667240" cy="1143000"/>
            <a:chOff x="4267080" y="1066680"/>
            <a:chExt cx="2667240" cy="1143000"/>
          </a:xfrm>
        </p:grpSpPr>
        <p:sp>
          <p:nvSpPr>
            <p:cNvPr id="116" name=""/>
            <p:cNvSpPr/>
            <p:nvPr/>
          </p:nvSpPr>
          <p:spPr>
            <a:xfrm>
              <a:off x="4267080" y="10666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te interface must extend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800600" y="16765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352680" y="3123720"/>
            <a:ext cx="4572000" cy="2439000"/>
            <a:chOff x="3352680" y="3123720"/>
            <a:chExt cx="4572000" cy="2439000"/>
          </a:xfrm>
        </p:grpSpPr>
        <p:sp>
          <p:nvSpPr>
            <p:cNvPr id="119" name=""/>
            <p:cNvSpPr/>
            <p:nvPr/>
          </p:nvSpPr>
          <p:spPr>
            <a:xfrm>
              <a:off x="5257800" y="3581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hrow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lause for each business method must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te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3352680" y="3123720"/>
              <a:ext cx="19051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352680" y="3886200"/>
              <a:ext cx="1905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352680" y="3962520"/>
              <a:ext cx="1905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038120" y="3962520"/>
              <a:ext cx="12193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647960" y="3962520"/>
              <a:ext cx="6094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Ho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for creat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-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Home is the home interface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ful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Calculator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InterestCalculato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Calculator cre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267080" y="1066680"/>
            <a:ext cx="2667240" cy="1143000"/>
            <a:chOff x="4267080" y="1066680"/>
            <a:chExt cx="2667240" cy="1143000"/>
          </a:xfrm>
        </p:grpSpPr>
        <p:sp>
          <p:nvSpPr>
            <p:cNvPr id="128" name=""/>
            <p:cNvSpPr/>
            <p:nvPr/>
          </p:nvSpPr>
          <p:spPr>
            <a:xfrm>
              <a:off x="4267080" y="10666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me interface must extend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Ho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800600" y="16765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048120" y="3124080"/>
            <a:ext cx="3657600" cy="1037880"/>
            <a:chOff x="3048120" y="3124080"/>
            <a:chExt cx="3657600" cy="1037880"/>
          </a:xfrm>
        </p:grpSpPr>
        <p:sp>
          <p:nvSpPr>
            <p:cNvPr id="131" name=""/>
            <p:cNvSpPr/>
            <p:nvPr/>
          </p:nvSpPr>
          <p:spPr>
            <a:xfrm>
              <a:off x="3048120" y="35812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enables clients to 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809880" y="31240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066680" y="3048120"/>
            <a:ext cx="4114800" cy="1875960"/>
            <a:chOff x="1066680" y="3048120"/>
            <a:chExt cx="4114800" cy="1875960"/>
          </a:xfrm>
        </p:grpSpPr>
        <p:sp>
          <p:nvSpPr>
            <p:cNvPr id="134" name=""/>
            <p:cNvSpPr/>
            <p:nvPr/>
          </p:nvSpPr>
          <p:spPr>
            <a:xfrm>
              <a:off x="1066680" y="4343400"/>
              <a:ext cx="4114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s must return the remote interface type (e.g.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666880" y="3048120"/>
              <a:ext cx="76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EJ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-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 is a stateful session EJB for calcula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mple intere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ful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Calculator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Context session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te varia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cip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R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incipal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incip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cipal = am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interest 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nterestR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restRate = r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67080" y="1066680"/>
            <a:ext cx="2667240" cy="1143000"/>
            <a:chOff x="4267080" y="1066680"/>
            <a:chExt cx="2667240" cy="1143000"/>
          </a:xfrm>
        </p:grpSpPr>
        <p:sp>
          <p:nvSpPr>
            <p:cNvPr id="139" name=""/>
            <p:cNvSpPr/>
            <p:nvPr/>
          </p:nvSpPr>
          <p:spPr>
            <a:xfrm>
              <a:off x="4267080" y="1066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ssion EJB implementations must implement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ssion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333760" y="190512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495680" y="2514600"/>
            <a:ext cx="2438640" cy="824040"/>
            <a:chOff x="4495680" y="2514600"/>
            <a:chExt cx="2438640" cy="824040"/>
          </a:xfrm>
        </p:grpSpPr>
        <p:sp>
          <p:nvSpPr>
            <p:cNvPr id="142" name=""/>
            <p:cNvSpPr/>
            <p:nvPr/>
          </p:nvSpPr>
          <p:spPr>
            <a:xfrm>
              <a:off x="5029200" y="251460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ssion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access to the EJB 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495680" y="2742840"/>
              <a:ext cx="533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428640" y="3352680"/>
            <a:ext cx="3505680" cy="900360"/>
            <a:chOff x="3428640" y="3352680"/>
            <a:chExt cx="3505680" cy="900360"/>
          </a:xfrm>
        </p:grpSpPr>
        <p:sp>
          <p:nvSpPr>
            <p:cNvPr id="145" name=""/>
            <p:cNvSpPr/>
            <p:nvPr/>
          </p:nvSpPr>
          <p:spPr>
            <a:xfrm>
              <a:off x="5029200" y="342900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mber variables maintain state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3428640" y="3657240"/>
              <a:ext cx="1600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3504960" y="3505320"/>
              <a:ext cx="1523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3504960" y="335268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EJ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3-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oan length in yea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er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rm = yea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loan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lanc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culate simple inter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cipal * Math.p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nterestRate, ter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mount of interest ear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nterestEarne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lance() - princip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ssion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ssionContext( SessionContext con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Context = 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InterestCalculato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Cre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InterestCalculato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InterestCalculato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657600" y="2590920"/>
            <a:ext cx="3276720" cy="1295280"/>
            <a:chOff x="3657600" y="2590920"/>
            <a:chExt cx="3276720" cy="1295280"/>
          </a:xfrm>
        </p:grpSpPr>
        <p:sp>
          <p:nvSpPr>
            <p:cNvPr id="152" name=""/>
            <p:cNvSpPr/>
            <p:nvPr/>
          </p:nvSpPr>
          <p:spPr>
            <a:xfrm>
              <a:off x="4648320" y="25909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Session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fter creating the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657600" y="3048120"/>
              <a:ext cx="99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352680" y="4343400"/>
            <a:ext cx="3581640" cy="1554120"/>
            <a:chOff x="3352680" y="4343400"/>
            <a:chExt cx="3581640" cy="1554120"/>
          </a:xfrm>
        </p:grpSpPr>
        <p:sp>
          <p:nvSpPr>
            <p:cNvPr id="155" name=""/>
            <p:cNvSpPr/>
            <p:nvPr/>
          </p:nvSpPr>
          <p:spPr>
            <a:xfrm>
              <a:off x="4800600" y="4343400"/>
              <a:ext cx="21337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a client invokes home interfac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a new EJB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352680" y="502920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352680" y="4800600"/>
            <a:ext cx="3748320" cy="1554120"/>
            <a:chOff x="3352680" y="4800600"/>
            <a:chExt cx="3748320" cy="1554120"/>
          </a:xfrm>
        </p:grpSpPr>
        <p:sp>
          <p:nvSpPr>
            <p:cNvPr id="158" name=""/>
            <p:cNvSpPr/>
            <p:nvPr/>
          </p:nvSpPr>
          <p:spPr>
            <a:xfrm>
              <a:off x="4876920" y="4800600"/>
              <a:ext cx="22240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Remov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a client invokes home interfac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v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stroy an EJB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352680" y="5638680"/>
              <a:ext cx="15242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657600" y="4952880"/>
            <a:ext cx="3519360" cy="1310760"/>
            <a:chOff x="3657600" y="4952880"/>
            <a:chExt cx="3519360" cy="1310760"/>
          </a:xfrm>
        </p:grpSpPr>
        <p:sp>
          <p:nvSpPr>
            <p:cNvPr id="161" name=""/>
            <p:cNvSpPr/>
            <p:nvPr/>
          </p:nvSpPr>
          <p:spPr>
            <a:xfrm>
              <a:off x="4952880" y="4952880"/>
              <a:ext cx="2224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Pass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server resources when an EJB has been in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657600" y="6095880"/>
              <a:ext cx="1295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EJ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InterestCalculato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743200" y="685800"/>
            <a:ext cx="4052880" cy="1691640"/>
            <a:chOff x="2743200" y="685800"/>
            <a:chExt cx="4052880" cy="1691640"/>
          </a:xfrm>
        </p:grpSpPr>
        <p:sp>
          <p:nvSpPr>
            <p:cNvPr id="166" name=""/>
            <p:cNvSpPr/>
            <p:nvPr/>
          </p:nvSpPr>
          <p:spPr>
            <a:xfrm>
              <a:off x="4572000" y="1066680"/>
              <a:ext cx="2224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Act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store an EJB instance that the container passivated previous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2743200" y="685800"/>
              <a:ext cx="1828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7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Client is a GUI for interacting with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ful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ful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Calculator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terestCalculator remote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Calculator calcul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principal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rate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term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balance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interestEarned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72000" y="4191120"/>
            <a:ext cx="3886200" cy="824040"/>
            <a:chOff x="4572000" y="4191120"/>
            <a:chExt cx="3886200" cy="824040"/>
          </a:xfrm>
        </p:grpSpPr>
        <p:sp>
          <p:nvSpPr>
            <p:cNvPr id="171" name=""/>
            <p:cNvSpPr/>
            <p:nvPr/>
          </p:nvSpPr>
          <p:spPr>
            <a:xfrm>
              <a:off x="5867280" y="41911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te reference to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572000" y="4648320"/>
              <a:ext cx="1295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800600" y="5029200"/>
            <a:ext cx="4038480" cy="580680"/>
            <a:chOff x="4800600" y="5029200"/>
            <a:chExt cx="4038480" cy="580680"/>
          </a:xfrm>
        </p:grpSpPr>
        <p:sp>
          <p:nvSpPr>
            <p:cNvPr id="174" name=""/>
            <p:cNvSpPr/>
            <p:nvPr/>
          </p:nvSpPr>
          <p:spPr>
            <a:xfrm>
              <a:off x="6095880" y="50292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obtaining input values from 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800600" y="5486400"/>
              <a:ext cx="1295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terestCalculator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CalculatorCli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eful Session EJB Examp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nterestCalculator for calculating inter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InterestCalcul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for entering principal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Principal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for entering interest 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ate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for entering loan te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Term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uneditable JTextFields for displaying balan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interest ear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lanc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lanceTextField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restEarned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restEarnedTextField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out components for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youtGUI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WindowListener to remove EJB instances when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s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 getWindowListen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prise JavaBeans (EJB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nent model for enterprise application business 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EJ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ful and Statel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sure data integrity across databases and across application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0-8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4-8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95-9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0-10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restCalculator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InterestCalculator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InterestCalculat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up InterestCalculatorHome and cre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terestCalculato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up InterestCalculato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home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itial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restCalculat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InterestCalculatorHome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restCalculatorHome calculatorHo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InterestCalculatorHo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ortableRemoteObject.narrow( home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nterestCalculator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InterestCalculator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lculator = calculatorHome.cre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InterestCalculator EJB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ndle exception when creating InterestCalculato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}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343400" y="457200"/>
            <a:ext cx="2590920" cy="1447920"/>
            <a:chOff x="4343400" y="457200"/>
            <a:chExt cx="2590920" cy="1447920"/>
          </a:xfrm>
        </p:grpSpPr>
        <p:sp>
          <p:nvSpPr>
            <p:cNvPr id="181" name=""/>
            <p:cNvSpPr/>
            <p:nvPr/>
          </p:nvSpPr>
          <p:spPr>
            <a:xfrm>
              <a:off x="4343400" y="45720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access to the JNDI directory for locating the EJB home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647960" y="15238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885840" y="1450800"/>
            <a:ext cx="3048480" cy="1140120"/>
            <a:chOff x="3885840" y="1450800"/>
            <a:chExt cx="3048480" cy="1140120"/>
          </a:xfrm>
        </p:grpSpPr>
        <p:sp>
          <p:nvSpPr>
            <p:cNvPr id="184" name=""/>
            <p:cNvSpPr/>
            <p:nvPr/>
          </p:nvSpPr>
          <p:spPr>
            <a:xfrm>
              <a:off x="4343400" y="145080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home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885840" y="228600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57200" y="2060640"/>
            <a:ext cx="3886200" cy="1216080"/>
            <a:chOff x="457200" y="2060640"/>
            <a:chExt cx="3886200" cy="1216080"/>
          </a:xfrm>
        </p:grpSpPr>
        <p:sp>
          <p:nvSpPr>
            <p:cNvPr id="187" name=""/>
            <p:cNvSpPr/>
            <p:nvPr/>
          </p:nvSpPr>
          <p:spPr>
            <a:xfrm>
              <a:off x="457200" y="2060640"/>
              <a:ext cx="3886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t home interface reference us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rtableRemoteObject.narr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nsure RMI-IIOP-compatible ca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14400" y="289548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343400" y="2714760"/>
            <a:ext cx="2590920" cy="1704960"/>
            <a:chOff x="4343400" y="2714760"/>
            <a:chExt cx="2590920" cy="1704960"/>
          </a:xfrm>
        </p:grpSpPr>
        <p:sp>
          <p:nvSpPr>
            <p:cNvPr id="190" name=""/>
            <p:cNvSpPr/>
            <p:nvPr/>
          </p:nvSpPr>
          <p:spPr>
            <a:xfrm>
              <a:off x="4343400" y="2714760"/>
              <a:ext cx="2590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home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to 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 and store remote referenc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lc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876560" y="4038480"/>
              <a:ext cx="990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57200" y="3552840"/>
            <a:ext cx="2590920" cy="1704960"/>
            <a:chOff x="457200" y="3552840"/>
            <a:chExt cx="2590920" cy="1704960"/>
          </a:xfrm>
        </p:grpSpPr>
        <p:sp>
          <p:nvSpPr>
            <p:cNvPr id="193" name=""/>
            <p:cNvSpPr/>
            <p:nvPr/>
          </p:nvSpPr>
          <p:spPr>
            <a:xfrm>
              <a:off x="457200" y="3552840"/>
              <a:ext cx="2590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ok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row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ing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re is an error locating the home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8080" y="48769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57200" y="4467240"/>
            <a:ext cx="2895480" cy="1704960"/>
            <a:chOff x="457200" y="4467240"/>
            <a:chExt cx="2895480" cy="1704960"/>
          </a:xfrm>
        </p:grpSpPr>
        <p:sp>
          <p:nvSpPr>
            <p:cNvPr id="196" name=""/>
            <p:cNvSpPr/>
            <p:nvPr/>
          </p:nvSpPr>
          <p:spPr>
            <a:xfrm>
              <a:off x="457200" y="4467240"/>
              <a:ext cx="28954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row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te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re is an error accessing the remote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82720" y="5791320"/>
              <a:ext cx="341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5-10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22-12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ndle exception when creating InterestCalculato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reateException crea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InterestCalc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JTextField for entering principal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PrincipalTextFiel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cipal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cipalTextField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et principal amount in InterestCalc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cipal = Double.parseDoub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principal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alculator.setPrincipal( principa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setting principal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wrong numbe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Forma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numberForma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numberForma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9480" y="761760"/>
            <a:ext cx="3048120" cy="1753560"/>
            <a:chOff x="609480" y="761760"/>
            <a:chExt cx="3048120" cy="1753560"/>
          </a:xfrm>
        </p:grpSpPr>
        <p:sp>
          <p:nvSpPr>
            <p:cNvPr id="201" name=""/>
            <p:cNvSpPr/>
            <p:nvPr/>
          </p:nvSpPr>
          <p:spPr>
            <a:xfrm>
              <a:off x="609480" y="144792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row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re is an error creating the EJB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62120" y="76176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715000" y="3962160"/>
            <a:ext cx="3200400" cy="566280"/>
            <a:chOff x="5715000" y="3962160"/>
            <a:chExt cx="3200400" cy="566280"/>
          </a:xfrm>
        </p:grpSpPr>
        <p:sp>
          <p:nvSpPr>
            <p:cNvPr id="204" name=""/>
            <p:cNvSpPr/>
            <p:nvPr/>
          </p:nvSpPr>
          <p:spPr>
            <a:xfrm>
              <a:off x="5867280" y="419112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se user-entered principal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5715000" y="396216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3581280"/>
            <a:ext cx="3047760" cy="762120"/>
            <a:chOff x="533520" y="3581280"/>
            <a:chExt cx="3047760" cy="762120"/>
          </a:xfrm>
        </p:grpSpPr>
        <p:sp>
          <p:nvSpPr>
            <p:cNvPr id="207" name=""/>
            <p:cNvSpPr/>
            <p:nvPr/>
          </p:nvSpPr>
          <p:spPr>
            <a:xfrm>
              <a:off x="533520" y="358128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principal valu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19320" y="4191120"/>
              <a:ext cx="9903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5-1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PrincipalTextFiel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JTextField for entering interest 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RateTextFiel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at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ateTextField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et interest rate in InterestCalc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e = Double.parseDoub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rate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convert from percent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alculator.setInterestRate( rate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when setting interest 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RateTextFiel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105160" y="3429000"/>
            <a:ext cx="3353040" cy="337320"/>
            <a:chOff x="5105160" y="3429000"/>
            <a:chExt cx="3353040" cy="337320"/>
          </a:xfrm>
        </p:grpSpPr>
        <p:sp>
          <p:nvSpPr>
            <p:cNvPr id="212" name=""/>
            <p:cNvSpPr/>
            <p:nvPr/>
          </p:nvSpPr>
          <p:spPr>
            <a:xfrm>
              <a:off x="5638680" y="3429000"/>
              <a:ext cx="2819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se user-entered interest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105160" y="3657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33520" y="3276720"/>
            <a:ext cx="3047760" cy="914400"/>
            <a:chOff x="533520" y="3276720"/>
            <a:chExt cx="3047760" cy="914400"/>
          </a:xfrm>
        </p:grpSpPr>
        <p:sp>
          <p:nvSpPr>
            <p:cNvPr id="215" name=""/>
            <p:cNvSpPr/>
            <p:nvPr/>
          </p:nvSpPr>
          <p:spPr>
            <a:xfrm>
              <a:off x="533520" y="327672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interest rat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19320" y="388620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3-18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JTextField for entering loan te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TermTextFiel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rm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rmTextField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et loan term in InterestCalc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erm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alculator.setTerm( ter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when setting loan te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TermTextFiel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JButton for starting calcul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getCalculateButt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calculate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cul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lculate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800600" y="1295280"/>
            <a:ext cx="2178000" cy="1295640"/>
            <a:chOff x="4800600" y="1295280"/>
            <a:chExt cx="2178000" cy="1295640"/>
          </a:xfrm>
        </p:grpSpPr>
        <p:sp>
          <p:nvSpPr>
            <p:cNvPr id="220" name=""/>
            <p:cNvSpPr/>
            <p:nvPr/>
          </p:nvSpPr>
          <p:spPr>
            <a:xfrm>
              <a:off x="4800600" y="1295280"/>
              <a:ext cx="2178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se user-entered te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921200" y="1676520"/>
              <a:ext cx="1403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33520" y="2209680"/>
            <a:ext cx="3809880" cy="838440"/>
            <a:chOff x="533520" y="2209680"/>
            <a:chExt cx="3809880" cy="838440"/>
          </a:xfrm>
        </p:grpSpPr>
        <p:sp>
          <p:nvSpPr>
            <p:cNvPr id="223" name=""/>
            <p:cNvSpPr/>
            <p:nvPr/>
          </p:nvSpPr>
          <p:spPr>
            <a:xfrm>
              <a:off x="533520" y="220968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number of years interest will accru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90680" y="2819520"/>
              <a:ext cx="743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3-2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use InterestCalculator to calculate inter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get balance and interest ear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ouble balance = calculator.getBal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ouble interes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calculator.getInterestEarn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NumberFormat dollarFormatt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NumberFormat.getCurrencyInstan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balanceTextField.setTex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dollarFormatter.format( balanc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nterestEarnedTextField.setTex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dollarFormatter.format( interes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when calculating inter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lculateButt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Calculate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" y="1447920"/>
            <a:ext cx="2178000" cy="1371960"/>
            <a:chOff x="457200" y="1447920"/>
            <a:chExt cx="2178000" cy="1371960"/>
          </a:xfrm>
        </p:grpSpPr>
        <p:sp>
          <p:nvSpPr>
            <p:cNvPr id="228" name=""/>
            <p:cNvSpPr/>
            <p:nvPr/>
          </p:nvSpPr>
          <p:spPr>
            <a:xfrm>
              <a:off x="457200" y="1752480"/>
              <a:ext cx="2178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Bal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siness method to calculate balance plus inter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447920" y="1447920"/>
              <a:ext cx="7617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038480" y="533520"/>
            <a:ext cx="2940120" cy="1143000"/>
            <a:chOff x="4038480" y="533520"/>
            <a:chExt cx="2940120" cy="1143000"/>
          </a:xfrm>
        </p:grpSpPr>
        <p:sp>
          <p:nvSpPr>
            <p:cNvPr id="231" name=""/>
            <p:cNvSpPr/>
            <p:nvPr/>
          </p:nvSpPr>
          <p:spPr>
            <a:xfrm>
              <a:off x="4648320" y="533520"/>
              <a:ext cx="2330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InterestEarn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siness method to calculate earned inter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038480" y="990720"/>
              <a:ext cx="609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y out GUI components in J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youtGUI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out user interface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inpu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cip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principal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rest Rate (%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rate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rm (years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term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balance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rest Ear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interestEarnedTextField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inputPanel to content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input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Panel for calculate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control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rolPanel.add( getCalculateButt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control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8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indowListener for exiting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Listener getWindowListe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heck to see if calculator is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alculator.equals( null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remove InterestCalculato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alculator.remov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removing InterestCalc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veException remov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v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removing InterestCalc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Window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190760" y="1447920"/>
            <a:ext cx="2667240" cy="1676160"/>
            <a:chOff x="4190760" y="1447920"/>
            <a:chExt cx="2667240" cy="1676160"/>
          </a:xfrm>
        </p:grpSpPr>
        <p:sp>
          <p:nvSpPr>
            <p:cNvPr id="238" name=""/>
            <p:cNvSpPr/>
            <p:nvPr/>
          </p:nvSpPr>
          <p:spPr>
            <a:xfrm>
              <a:off x="4419720" y="144792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 when user closes wind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190760" y="25146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447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th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CalculatorCli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40482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729040" cy="507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608120" y="6095880"/>
            <a:ext cx="59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New Application in Application Deployment To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33680" y="2728800"/>
            <a:ext cx="4076640" cy="1400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369520" y="4495680"/>
            <a:ext cx="45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AR file for New Appl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  EJB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publicly available methods of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re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s for creating new EJB inst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s for removing EJB inst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n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s for locating EJB inst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implementations for EJB business methods declared in remote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implementation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re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n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s declared in home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time environment for managing EJB lifecy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40520" cy="43434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597400" y="5562720"/>
            <a:ext cx="37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 New Enterprise Be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5057640" cy="4811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445840" y="5943600"/>
            <a:ext cx="42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InterestCalculator EJB cla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666880" y="1047600"/>
            <a:ext cx="3810240" cy="4762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914840" y="5943600"/>
            <a:ext cx="496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InterestCalculator EJB classes to ad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676760" cy="4448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95000" y="5791320"/>
            <a:ext cx="49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f adding InterestCalculator EJB cla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058000" cy="4811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36120" y="6019920"/>
            <a:ext cx="60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nterprise Bean Class for InterestCalculator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424480" cy="4799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50320" y="5867280"/>
            <a:ext cx="71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InterestCalculator EJB classes and Stateful Session Bean Typ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424480" cy="47991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079280" y="5867280"/>
            <a:ext cx="695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Container Managed Transactions for InterestCalculator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500800" cy="48657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764000" y="5943600"/>
            <a:ext cx="56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 deployment descriptor for InterestCalculator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50840" y="1662120"/>
            <a:ext cx="7040520" cy="3533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991880" y="5486400"/>
            <a:ext cx="522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JNDI Name for InterestCalculator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424480" cy="48006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064960" y="5867280"/>
            <a:ext cx="480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ing enterprise application to localho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EJB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roles for enterprise-system implemen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erprise Bean Prov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s business logic as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 Assemb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s application components from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lo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s application components to a J2EE applicati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JB Server Prov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s a J2EE-compliant applicati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JB Container Prov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s the application server’s runtime environment for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228320" y="5943600"/>
            <a:ext cx="68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the Application Deployment Tool should Return Client J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686480" cy="415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141640" y="5715000"/>
            <a:ext cx="486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completion of deployment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3   Stateless Session EJB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no state information between business method inv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Stateless Session EJB instance of a particular type can respond to any clien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.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calculating factorias and generating Fibonacci seri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 and 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09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Too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Tool is the remote interface for the MathTool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less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bonacci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getFibonacciSeri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wMan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IllegalArgument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actorial of give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Factori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IllegalArgument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885840" y="914400"/>
            <a:ext cx="2940480" cy="1066680"/>
            <a:chOff x="3885840" y="914400"/>
            <a:chExt cx="2940480" cy="1066680"/>
          </a:xfrm>
        </p:grpSpPr>
        <p:sp>
          <p:nvSpPr>
            <p:cNvPr id="290" name=""/>
            <p:cNvSpPr/>
            <p:nvPr/>
          </p:nvSpPr>
          <p:spPr>
            <a:xfrm>
              <a:off x="4648320" y="914400"/>
              <a:ext cx="2178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te interface must extend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885840" y="129528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52280" y="3047760"/>
            <a:ext cx="2590920" cy="1967400"/>
            <a:chOff x="152280" y="3047760"/>
            <a:chExt cx="2590920" cy="1967400"/>
          </a:xfrm>
        </p:grpSpPr>
        <p:grpSp>
          <p:nvGrpSpPr>
            <p:cNvPr id="293" name=""/>
            <p:cNvGrpSpPr/>
            <p:nvPr/>
          </p:nvGrpSpPr>
          <p:grpSpPr>
            <a:xfrm>
              <a:off x="152280" y="3047760"/>
              <a:ext cx="2590920" cy="1967400"/>
              <a:chOff x="152280" y="3047760"/>
              <a:chExt cx="2590920" cy="1967400"/>
            </a:xfrm>
          </p:grpSpPr>
          <p:sp>
            <p:nvSpPr>
              <p:cNvPr id="294" name=""/>
              <p:cNvSpPr/>
              <p:nvPr/>
            </p:nvSpPr>
            <p:spPr>
              <a:xfrm>
                <a:off x="152280" y="4191120"/>
                <a:ext cx="2590920" cy="8240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hrow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lauses of business methods must include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RemoteExcep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1066680" y="3047760"/>
                <a:ext cx="91440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V="1">
              <a:off x="1066680" y="3809520"/>
              <a:ext cx="914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257440" y="3047760"/>
            <a:ext cx="3048480" cy="1891080"/>
            <a:chOff x="5257440" y="3047760"/>
            <a:chExt cx="3048480" cy="1891080"/>
          </a:xfrm>
        </p:grpSpPr>
        <p:sp>
          <p:nvSpPr>
            <p:cNvPr id="298" name=""/>
            <p:cNvSpPr/>
            <p:nvPr/>
          </p:nvSpPr>
          <p:spPr>
            <a:xfrm>
              <a:off x="5562720" y="411480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hrow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lauses of business methods can include application-specific exce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5257440" y="3047760"/>
              <a:ext cx="12193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5333760" y="380952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Tool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ToolEJB is a stateless session EJB with methods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ing Fibonacci series and factorial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less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Context session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bonacci seri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getFibonacciSeri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wMan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IllegalArgumentException if series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s less than zer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howMany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not generate Fibonacci series of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ength less than two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ing poi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Point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Point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rray to contain Fibonacci sequ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seri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howMany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base ca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i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i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886200" y="762120"/>
            <a:ext cx="3124080" cy="990360"/>
            <a:chOff x="3886200" y="762120"/>
            <a:chExt cx="3124080" cy="990360"/>
          </a:xfrm>
        </p:grpSpPr>
        <p:sp>
          <p:nvSpPr>
            <p:cNvPr id="304" name=""/>
            <p:cNvSpPr/>
            <p:nvPr/>
          </p:nvSpPr>
          <p:spPr>
            <a:xfrm>
              <a:off x="4419720" y="762120"/>
              <a:ext cx="2590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implementation must implement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ssion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3886200" y="12193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191120" y="2285640"/>
            <a:ext cx="2590560" cy="1129320"/>
            <a:chOff x="4191120" y="2285640"/>
            <a:chExt cx="2590560" cy="1129320"/>
          </a:xfrm>
        </p:grpSpPr>
        <p:sp>
          <p:nvSpPr>
            <p:cNvPr id="307" name=""/>
            <p:cNvSpPr/>
            <p:nvPr/>
          </p:nvSpPr>
          <p:spPr>
            <a:xfrm>
              <a:off x="4191120" y="2590920"/>
              <a:ext cx="2590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ssion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access to EJB 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4419720" y="228564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nerate Fibonacci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howMany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alculate next number in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ies[ i ] = startPoint1 + startPoint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start points for next it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tPoint1 = startPoint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tPoint2 = series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Fibonacci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actorial of give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Factori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IllegalArgumentException if number less than zer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not calculate factorial of negative numbers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ase case for recursion, return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l getFactorial recursively to calculate factori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* getFactorial( 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Factori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ssion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ssionContext( SessionContext con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Context = 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MathTool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Cre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MathTool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MathTool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MathTool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face for creating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Tool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ToolHome is the home interface for the MathTool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less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Ho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MathTool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 cre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191120" y="1085760"/>
            <a:ext cx="2666880" cy="1143000"/>
            <a:chOff x="4191120" y="1085760"/>
            <a:chExt cx="2666880" cy="1143000"/>
          </a:xfrm>
        </p:grpSpPr>
        <p:sp>
          <p:nvSpPr>
            <p:cNvPr id="316" name=""/>
            <p:cNvSpPr/>
            <p:nvPr/>
          </p:nvSpPr>
          <p:spPr>
            <a:xfrm>
              <a:off x="4191120" y="108576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me interface must extend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Ho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723920" y="169560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895120" y="3048120"/>
            <a:ext cx="3734280" cy="1132920"/>
            <a:chOff x="2895120" y="3048120"/>
            <a:chExt cx="3734280" cy="1132920"/>
          </a:xfrm>
        </p:grpSpPr>
        <p:sp>
          <p:nvSpPr>
            <p:cNvPr id="319" name=""/>
            <p:cNvSpPr/>
            <p:nvPr/>
          </p:nvSpPr>
          <p:spPr>
            <a:xfrm>
              <a:off x="2971800" y="360036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enables clients to 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2895120" y="3048120"/>
              <a:ext cx="12956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4920" y="1847880"/>
            <a:ext cx="4114800" cy="971640"/>
            <a:chOff x="304920" y="1847880"/>
            <a:chExt cx="4114800" cy="971640"/>
          </a:xfrm>
        </p:grpSpPr>
        <p:sp>
          <p:nvSpPr>
            <p:cNvPr id="322" name=""/>
            <p:cNvSpPr/>
            <p:nvPr/>
          </p:nvSpPr>
          <p:spPr>
            <a:xfrm>
              <a:off x="304920" y="1847880"/>
              <a:ext cx="4114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s must return the remote interface type (e.g.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5248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3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Tool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ToolClient is a GUI for calculating factorials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bonacci series using the MathTool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less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less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Client extends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Home mathToolHo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 mathToo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resultsText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number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thTool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Cli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eless Session EJB Examp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MathTool for calculating factoria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Fibonacci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MathToo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581280" y="3048120"/>
            <a:ext cx="2667240" cy="1143000"/>
            <a:chOff x="3581280" y="3048120"/>
            <a:chExt cx="2667240" cy="1143000"/>
          </a:xfrm>
        </p:grpSpPr>
        <p:sp>
          <p:nvSpPr>
            <p:cNvPr id="327" name=""/>
            <p:cNvSpPr/>
            <p:nvPr/>
          </p:nvSpPr>
          <p:spPr>
            <a:xfrm>
              <a:off x="3581280" y="30481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114800" y="365796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352680" y="4419720"/>
            <a:ext cx="3581640" cy="580680"/>
            <a:chOff x="3352680" y="4419720"/>
            <a:chExt cx="3581640" cy="580680"/>
          </a:xfrm>
        </p:grpSpPr>
        <p:sp>
          <p:nvSpPr>
            <p:cNvPr id="330" name=""/>
            <p:cNvSpPr/>
            <p:nvPr/>
          </p:nvSpPr>
          <p:spPr>
            <a:xfrm>
              <a:off x="4267080" y="44197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te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352680" y="441972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6-5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0-6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d lay out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GUI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 getWindowListen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thTool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MathTool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MathToo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up MathToolHome and create MathTool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up MathTool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home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itial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thToo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MathToolHome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thToolHome = ( MathToolHo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home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athToolHome.class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MathTool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thTool = mathToolHome.cre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191120" y="2133720"/>
            <a:ext cx="2666880" cy="1143000"/>
            <a:chOff x="4191120" y="2133720"/>
            <a:chExt cx="2666880" cy="1143000"/>
          </a:xfrm>
        </p:grpSpPr>
        <p:sp>
          <p:nvSpPr>
            <p:cNvPr id="335" name=""/>
            <p:cNvSpPr/>
            <p:nvPr/>
          </p:nvSpPr>
          <p:spPr>
            <a:xfrm>
              <a:off x="4191120" y="2133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looking up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495320" y="29718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0880" y="2971800"/>
            <a:ext cx="2667240" cy="914400"/>
            <a:chOff x="380880" y="2971800"/>
            <a:chExt cx="2667240" cy="914400"/>
          </a:xfrm>
        </p:grpSpPr>
        <p:sp>
          <p:nvSpPr>
            <p:cNvPr id="338" name=""/>
            <p:cNvSpPr/>
            <p:nvPr/>
          </p:nvSpPr>
          <p:spPr>
            <a:xfrm>
              <a:off x="380880" y="2971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 up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 in JN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2120" y="35812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191120" y="3886200"/>
            <a:ext cx="2666880" cy="914400"/>
            <a:chOff x="4191120" y="3886200"/>
            <a:chExt cx="2666880" cy="914400"/>
          </a:xfrm>
        </p:grpSpPr>
        <p:sp>
          <p:nvSpPr>
            <p:cNvPr id="341" name=""/>
            <p:cNvSpPr/>
            <p:nvPr/>
          </p:nvSpPr>
          <p:spPr>
            <a:xfrm>
              <a:off x="4191120" y="3886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 to proper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495320" y="4495680"/>
              <a:ext cx="83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" y="4422600"/>
            <a:ext cx="2666880" cy="1140120"/>
            <a:chOff x="457200" y="4422600"/>
            <a:chExt cx="2666880" cy="1140120"/>
          </a:xfrm>
        </p:grpSpPr>
        <p:sp>
          <p:nvSpPr>
            <p:cNvPr id="344" name=""/>
            <p:cNvSpPr/>
            <p:nvPr/>
          </p:nvSpPr>
          <p:spPr>
            <a:xfrm>
              <a:off x="457200" y="4422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 for use throughout this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80" y="52578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.1  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s business methods that EJB clients can invoke to perform business-logic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extend 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x.ejb.EJB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 clause for each method must includ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te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 clause for each method may include application-specific exceptions (e.g.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llegalArgument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MathTool EJB i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reating MathTool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reating MathTool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reateException crea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MathToo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JButton for calculating factori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getFactorialButt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factorialButt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culate Factori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ctionListener for factorial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actorial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use MathTool EJB to calculate factori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number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0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get Factorial of number input by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mathTool.getFactorial( 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display results in resultsTex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sultsTextArea.setText( number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resul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calculating factori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ialButt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Factorial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JButton for generating Fibonacci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getFibonacciButt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fibonacciButton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bonacci Seri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ctionListener for generating Fibonacci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bonacci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62120" y="609480"/>
            <a:ext cx="2666880" cy="1600920"/>
            <a:chOff x="762120" y="609480"/>
            <a:chExt cx="2666880" cy="1600920"/>
          </a:xfrm>
        </p:grpSpPr>
        <p:sp>
          <p:nvSpPr>
            <p:cNvPr id="351" name=""/>
            <p:cNvSpPr/>
            <p:nvPr/>
          </p:nvSpPr>
          <p:spPr>
            <a:xfrm>
              <a:off x="762120" y="11430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Factori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siness method in statel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to calculate facto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600200" y="60948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4-14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6-1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nerate Fibonacci series using MathTool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get number entered by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number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get Fibonacci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series = mathTool.getFibonacciSerie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create StringBuffer to store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tringBuffer buff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firs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buffer.append( 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Fibonacci number(s):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append each number in series to buf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eries.length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// do not add comma before firs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// append next number in series to buf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buffer.append( String.valueOf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series[ i ]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display series in resultsTex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sultsTextArea.setText( buffer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62120" y="1981080"/>
            <a:ext cx="3276360" cy="1600920"/>
            <a:chOff x="762120" y="1981080"/>
            <a:chExt cx="3276360" cy="1600920"/>
          </a:xfrm>
        </p:grpSpPr>
        <p:sp>
          <p:nvSpPr>
            <p:cNvPr id="356" name=""/>
            <p:cNvSpPr/>
            <p:nvPr/>
          </p:nvSpPr>
          <p:spPr>
            <a:xfrm>
              <a:off x="762120" y="2514600"/>
              <a:ext cx="3276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FibonacciSeri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siness method in statel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to calculate Fibonacci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1600200" y="198108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334120" y="4191120"/>
            <a:ext cx="3504960" cy="1066680"/>
            <a:chOff x="5334120" y="4191120"/>
            <a:chExt cx="3504960" cy="1066680"/>
          </a:xfrm>
        </p:grpSpPr>
        <p:sp>
          <p:nvSpPr>
            <p:cNvPr id="359" name=""/>
            <p:cNvSpPr/>
            <p:nvPr/>
          </p:nvSpPr>
          <p:spPr>
            <a:xfrm>
              <a:off x="6172200" y="41911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 each value in Fibonacci sequence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Buf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isp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5334120" y="44956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calculating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Butt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Fibonacci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lay out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GUI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Area to show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Tex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TextArea.setLineWr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TextArea.setWrapStyleWo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Text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for user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calculating factori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factorialButton = getFactorialButt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generating Fibonacci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fibonacciButton = getFibonacciButt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ut resultsTextArea in a JScroll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ScrollPane resultsScrollPan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ew JScrollPane( resultsTextArea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resultsScrollPan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input components to new J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inpu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n 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number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Button components to new J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utt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factorial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fibonacciButton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inputPanel and buttonPanel to new J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controlPan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rolPanel.add( input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rolPanel.add( button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control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indowListener for exiting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Listener getWindowListe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move MathTool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athTool.remov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when removing MathTool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veException remov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mov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when removing MathTool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windowClo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Window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hToolClient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Cli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09480" y="837720"/>
            <a:ext cx="2667240" cy="1132560"/>
            <a:chOff x="609480" y="837720"/>
            <a:chExt cx="2667240" cy="1132560"/>
          </a:xfrm>
        </p:grpSpPr>
        <p:sp>
          <p:nvSpPr>
            <p:cNvPr id="368" name=""/>
            <p:cNvSpPr/>
            <p:nvPr/>
          </p:nvSpPr>
          <p:spPr>
            <a:xfrm>
              <a:off x="609480" y="114624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 when user closes wind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828800" y="83772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048200" cy="19047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1981080" y="3124080"/>
            <a:ext cx="4048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4   EJB Transa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transactions include multiple databases and/or multiple application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.g., a transfer of funds from one bank to an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a transfer must occur in the context of an atomic transaction, otherwise there is the potential for data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n-managed transaction demarcation enables bean developers to specify transaction boundaries using the Java Transaction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-managed transaction demarcation enables EJB deployers to specify transaction boundaries declaratively when deploying EJ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transferring money and getting account bal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, 18 and 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 is the remote interface for the MoneyTransf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transactio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er amount from BankABC to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er( double amoun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 BankABC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nkABC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BankXYZ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nkXYZ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5943600" y="3123720"/>
            <a:ext cx="2666880" cy="2366280"/>
            <a:chOff x="5943600" y="3123720"/>
            <a:chExt cx="2666880" cy="2366280"/>
          </a:xfrm>
        </p:grpSpPr>
        <p:sp>
          <p:nvSpPr>
            <p:cNvPr id="378" name=""/>
            <p:cNvSpPr/>
            <p:nvPr/>
          </p:nvSpPr>
          <p:spPr>
            <a:xfrm>
              <a:off x="5943600" y="44226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siness methods whose implementations include programmer-defined transaction bound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6172200" y="411444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6248520" y="358092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6476760" y="3123720"/>
              <a:ext cx="6858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cre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Home is the home interface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Home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transactio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 cre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.1 Remote Interfa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transaction demar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0-2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2-2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9-3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EJB is a stateless session EJB for transfer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ds from an Account at BankABC to an Account at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bean-managed transaction demarc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transactions.beanmanag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transacti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Context session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bankOne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bankTwo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withdrawalStat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depositStat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er funds from BankABC to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ransaction for transferring fu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Transaction transac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ssionContext.getUserTrans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egin bean-managed transaction demar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action.be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038480" y="2514600"/>
            <a:ext cx="2667240" cy="1447920"/>
            <a:chOff x="4038480" y="2514600"/>
            <a:chExt cx="2667240" cy="1447920"/>
          </a:xfrm>
        </p:grpSpPr>
        <p:sp>
          <p:nvSpPr>
            <p:cNvPr id="387" name=""/>
            <p:cNvSpPr/>
            <p:nvPr/>
          </p:nvSpPr>
          <p:spPr>
            <a:xfrm>
              <a:off x="4038480" y="2514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bank datab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343040" y="312408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343040" y="3124080"/>
              <a:ext cx="7621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952520" y="4038480"/>
            <a:ext cx="3505680" cy="824040"/>
            <a:chOff x="4952520" y="4038480"/>
            <a:chExt cx="3505680" cy="824040"/>
          </a:xfrm>
        </p:grpSpPr>
        <p:sp>
          <p:nvSpPr>
            <p:cNvPr id="391" name=""/>
            <p:cNvSpPr/>
            <p:nvPr/>
          </p:nvSpPr>
          <p:spPr>
            <a:xfrm>
              <a:off x="579132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withdrawing from, and depositing to, bank accou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5181480" y="4191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4952520" y="4419360"/>
              <a:ext cx="8384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952880" y="5181480"/>
            <a:ext cx="3581640" cy="824040"/>
            <a:chOff x="4952880" y="5181480"/>
            <a:chExt cx="3581640" cy="824040"/>
          </a:xfrm>
        </p:grpSpPr>
        <p:sp>
          <p:nvSpPr>
            <p:cNvPr id="395" name=""/>
            <p:cNvSpPr/>
            <p:nvPr/>
          </p:nvSpPr>
          <p:spPr>
            <a:xfrm>
              <a:off x="5867280" y="5181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UserTransaction for transferring money between accou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952880" y="5562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352320" y="6172200"/>
            <a:ext cx="2972160" cy="337320"/>
            <a:chOff x="3352320" y="6172200"/>
            <a:chExt cx="2972160" cy="337320"/>
          </a:xfrm>
        </p:grpSpPr>
        <p:sp>
          <p:nvSpPr>
            <p:cNvPr id="398" name=""/>
            <p:cNvSpPr/>
            <p:nvPr/>
          </p:nvSpPr>
          <p:spPr>
            <a:xfrm>
              <a:off x="4648320" y="6172200"/>
              <a:ext cx="1676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gin 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352320" y="6324480"/>
              <a:ext cx="1295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transaction demar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8-4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8-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exception if method begin f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row EJBException indicating transaction fai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ansfer funds from account in BankABC to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 BankXYZ using bean-managed transaction demar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.s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ithdraw funds from account at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.s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posit funds in account at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mmit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action.comm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s when withdrawing, depositing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mmitting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ttempt rollback of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action.rollb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190760" y="1447560"/>
            <a:ext cx="2743560" cy="1143720"/>
            <a:chOff x="4190760" y="1447560"/>
            <a:chExt cx="2743560" cy="1143720"/>
          </a:xfrm>
        </p:grpSpPr>
        <p:sp>
          <p:nvSpPr>
            <p:cNvPr id="403" name=""/>
            <p:cNvSpPr/>
            <p:nvPr/>
          </p:nvSpPr>
          <p:spPr>
            <a:xfrm>
              <a:off x="5257800" y="1523880"/>
              <a:ext cx="1676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transaction cannot be started, throw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4190760" y="144756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572000" y="3124080"/>
            <a:ext cx="2286000" cy="1666800"/>
            <a:chOff x="4572000" y="3124080"/>
            <a:chExt cx="2286000" cy="1666800"/>
          </a:xfrm>
        </p:grpSpPr>
        <p:sp>
          <p:nvSpPr>
            <p:cNvPr id="406" name=""/>
            <p:cNvSpPr/>
            <p:nvPr/>
          </p:nvSpPr>
          <p:spPr>
            <a:xfrm>
              <a:off x="5181480" y="42102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er funds between accou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5029200" y="3124080"/>
              <a:ext cx="9907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4572000" y="396216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3429000" y="3962520"/>
            <a:ext cx="3581280" cy="824040"/>
            <a:chOff x="3429000" y="3962520"/>
            <a:chExt cx="3581280" cy="824040"/>
          </a:xfrm>
        </p:grpSpPr>
        <p:sp>
          <p:nvSpPr>
            <p:cNvPr id="410" name=""/>
            <p:cNvSpPr/>
            <p:nvPr/>
          </p:nvSpPr>
          <p:spPr>
            <a:xfrm>
              <a:off x="4724280" y="39625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database updates are successful,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comm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429000" y="4419720"/>
              <a:ext cx="1295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886200" y="5105520"/>
            <a:ext cx="3124080" cy="1310760"/>
            <a:chOff x="3886200" y="5105520"/>
            <a:chExt cx="3124080" cy="1310760"/>
          </a:xfrm>
        </p:grpSpPr>
        <p:sp>
          <p:nvSpPr>
            <p:cNvPr id="413" name=""/>
            <p:cNvSpPr/>
            <p:nvPr/>
          </p:nvSpPr>
          <p:spPr>
            <a:xfrm>
              <a:off x="4724280" y="5105520"/>
              <a:ext cx="22860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there are problems with any of the database updates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llba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store the original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886200" y="60958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transaction demar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4-11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when rolling back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Exception system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ystem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row EJBException indicating transaction fai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trans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balance of Account at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nkABC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alance of Account at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lect balance for Account # 123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balance FROM Accou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HERE accountID = 1234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select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ankOneConnection.prepareStatement( sel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selectStatement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first record in ResultSet and return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et.next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.g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867280" y="2362320"/>
            <a:ext cx="2819160" cy="1067400"/>
            <a:chOff x="5867280" y="2362320"/>
            <a:chExt cx="2819160" cy="1067400"/>
          </a:xfrm>
        </p:grpSpPr>
        <p:sp>
          <p:nvSpPr>
            <p:cNvPr id="418" name=""/>
            <p:cNvSpPr/>
            <p:nvPr/>
          </p:nvSpPr>
          <p:spPr>
            <a:xfrm>
              <a:off x="6344640" y="2362320"/>
              <a:ext cx="234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simple SQL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 to retrieve the balances of the accounts at each ban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867280" y="2742840"/>
              <a:ext cx="47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transaction demar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4-1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getting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BankABC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balance of Account at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nkXYZ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alance of Account at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lect balance for Account # 5432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balance FROM Accou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HERE accountID = 5432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select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ankTwoConnection.prepareStatement( sel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selectStatement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first record in ResultSet and return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et.next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.g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getting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5867280" y="1447920"/>
            <a:ext cx="2819160" cy="1067400"/>
            <a:chOff x="5867280" y="1447920"/>
            <a:chExt cx="2819160" cy="1067400"/>
          </a:xfrm>
        </p:grpSpPr>
        <p:sp>
          <p:nvSpPr>
            <p:cNvPr id="423" name=""/>
            <p:cNvSpPr/>
            <p:nvPr/>
          </p:nvSpPr>
          <p:spPr>
            <a:xfrm>
              <a:off x="6344640" y="1447920"/>
              <a:ext cx="234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simple SQL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 to retrieve the balances of the accounts at each ban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867280" y="1828440"/>
              <a:ext cx="47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transaction demar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9 and 170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8 and 1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BankXYZBalance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ssion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ssionContext( SessionContext con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Context = context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nDatabaseResour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MoneyTransf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Cre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MoneyTransf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oseDatabaseResour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MoneyTransf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oseDatabaseResour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MoneyTransf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nDatabaseResour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429000" y="1828800"/>
            <a:ext cx="5029200" cy="3809880"/>
            <a:chOff x="3429000" y="1828800"/>
            <a:chExt cx="5029200" cy="3809880"/>
          </a:xfrm>
        </p:grpSpPr>
        <p:sp>
          <p:nvSpPr>
            <p:cNvPr id="428" name=""/>
            <p:cNvSpPr/>
            <p:nvPr/>
          </p:nvSpPr>
          <p:spPr>
            <a:xfrm>
              <a:off x="6172200" y="4191120"/>
              <a:ext cx="22860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ocate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when the EJB container provid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ssion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 activates the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3429000" y="1828800"/>
              <a:ext cx="274320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580920" y="5105520"/>
              <a:ext cx="25909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504960" y="2971800"/>
            <a:ext cx="3733920" cy="1600200"/>
            <a:chOff x="3504960" y="2971800"/>
            <a:chExt cx="3733920" cy="1600200"/>
          </a:xfrm>
        </p:grpSpPr>
        <p:sp>
          <p:nvSpPr>
            <p:cNvPr id="432" name=""/>
            <p:cNvSpPr/>
            <p:nvPr/>
          </p:nvSpPr>
          <p:spPr>
            <a:xfrm>
              <a:off x="4952880" y="297180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when the container removes or passiavates the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3581280" y="350496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3504960" y="3657600"/>
              <a:ext cx="1447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transaction demar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4-19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02-25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database Connections and Prepared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seDatabaseResource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database 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Prepared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database Conn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One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OneConne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Two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TwoConne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losing database conn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loseDatabase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pen database Connections and create Prepared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nDatabaseResource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the BankABC and BankXYZ DataSources and cre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ions for ea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6095880" y="5257800"/>
            <a:ext cx="2742840" cy="1554120"/>
            <a:chOff x="6095880" y="5257800"/>
            <a:chExt cx="2742840" cy="1554120"/>
          </a:xfrm>
        </p:grpSpPr>
        <p:sp>
          <p:nvSpPr>
            <p:cNvPr id="438" name=""/>
            <p:cNvSpPr/>
            <p:nvPr/>
          </p:nvSpPr>
          <p:spPr>
            <a:xfrm>
              <a:off x="6560280" y="5257800"/>
              <a:ext cx="227844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each database for use throughout the lifetim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095880" y="5638680"/>
              <a:ext cx="46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248160" y="152280"/>
            <a:ext cx="2819160" cy="824040"/>
            <a:chOff x="6248160" y="152280"/>
            <a:chExt cx="2819160" cy="824040"/>
          </a:xfrm>
        </p:grpSpPr>
        <p:sp>
          <p:nvSpPr>
            <p:cNvPr id="441" name=""/>
            <p:cNvSpPr/>
            <p:nvPr/>
          </p:nvSpPr>
          <p:spPr>
            <a:xfrm>
              <a:off x="6725880" y="152280"/>
              <a:ext cx="234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6248160" y="533160"/>
              <a:ext cx="47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transaction demar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DataSource reference from JNDI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Source dataSource = ( DataSour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jdbc/BankAB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onnection from Data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OneConnection = dataSource.get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Source = ( DataSource) initialContext.lookup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jdbc/BankXYZ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TwoConnection = dataSource.get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epare withdraw statement for account #12345 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withdraw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Account SET balance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 - ? WHERE accountID = 1234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ankOneConnection.prepareStatement( withdrawa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epare deposit statment for account #54321 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eposi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Account SET balance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 + ? WHERE accountID = 5432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ankTwoConnection.prepareStatement( deposi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DataSource not found in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naming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transaction demar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Connection to Data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openDatabase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transaction demar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EJB is a stateless session EJB for transfer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ds from an Account at BankABC to an Account at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container-managed transaction demarc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transactions.containermanag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Context session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bankOne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bankTwo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withdrawalStat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depositStat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er funds from BankABC to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ansfer funds from account in BankABC to account 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ankXYZ using container-managed transaction demar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.s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ithdraw funds from account at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transaction demarcation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8</a:t>
            </a: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.s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posit funds in account at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ithdrawing and deposi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row EJBException to indicate transfer fail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nd roll back container-managed transaction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trans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balance of Account at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nkABC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alance of Account at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lect balance for Account # 123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balance FROM Accou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HERE accountID = 1234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select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ankOneConnection.prepareStatement( sel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selectStatement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257440" y="2133720"/>
            <a:ext cx="3429000" cy="824040"/>
            <a:chOff x="5257440" y="2133720"/>
            <a:chExt cx="3429000" cy="824040"/>
          </a:xfrm>
        </p:grpSpPr>
        <p:sp>
          <p:nvSpPr>
            <p:cNvPr id="452" name=""/>
            <p:cNvSpPr/>
            <p:nvPr/>
          </p:nvSpPr>
          <p:spPr>
            <a:xfrm>
              <a:off x="5838480" y="2133720"/>
              <a:ext cx="2847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row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response to any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rown from lines 29-4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257440" y="2514240"/>
              <a:ext cx="58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.2   Hom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s methods for creating, removing and finding EJB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exte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x.ejb.EJB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n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 enable clients to locate particular EJB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transaction demar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first record in ResultSet and return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et.next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.g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getting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BankABC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balance of Account at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nkXYZ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alance of Account at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lect balance for Account # 5432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balance FROM Accou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HERE accountID = 5432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select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ankTwoConnection.prepareStatement( sel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selectStatement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first record in ResultSet and return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et.next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.g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transaction demar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not found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getting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BankXYZBalance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ssion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ssionContext( SessionContext con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Context = context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nDatabaseResour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MoneyTransf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Cre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MoneyTransf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oseDatabaseResour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MoneyTransf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oseDatabaseResour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transaction demar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MoneyTransf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nDatabaseResour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database Connections and Prepared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seDatabaseResource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database 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Prepared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database Conn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One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OneConne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Two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TwoConne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losing database conn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loseDatabaseConn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transaction demar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pen database Connections and create Prepared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nDatabaseResource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the BankABC and BankXYZ DataSources and cre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ions for ea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DataSource reference from JNDI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Source dataSource = ( DataSour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jdbc/BankAB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onnection from Data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OneConnection = dataSource.get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Source = ( DataSource) initialContext.lookup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jdbc/BankXYZ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TwoConnection = dataSource.get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epare withdraw statement for account #12345 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withdraw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Account SET balance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 - ? WHERE accountID = 1234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ankOneConnection.prepareStatement( withdrawa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epare deposit statment for account #54321 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eposi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Account SET balance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 + ? WHERE accountID = 5432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transaction demar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ankTwoConnection.prepareStatement( deposi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DataSource not found in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naming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Connection to Data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openDatabaseConn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.3 Container-Managed Transaction Demar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3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4-2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EJB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EJBClient is a client for interacting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MoneyTransfer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transactions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transac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EJB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 moneyTransf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bankABCBalance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bankXYZBalance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transferAmount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neyTransferEJB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EJBClient( String JNDI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eyTransferEJBCl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MoneyTransfer EJB for transferring mon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MoneyTransfer( JNDI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4952520" y="4191120"/>
            <a:ext cx="3429000" cy="824040"/>
            <a:chOff x="4952520" y="4191120"/>
            <a:chExt cx="3429000" cy="824040"/>
          </a:xfrm>
        </p:grpSpPr>
        <p:sp>
          <p:nvSpPr>
            <p:cNvPr id="470" name=""/>
            <p:cNvSpPr/>
            <p:nvPr/>
          </p:nvSpPr>
          <p:spPr>
            <a:xfrm>
              <a:off x="5533560" y="4191120"/>
              <a:ext cx="2847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display the account balances and accept a user-input transfer amou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4952520" y="4571640"/>
              <a:ext cx="58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267080" y="6019920"/>
            <a:ext cx="4571280" cy="580680"/>
            <a:chOff x="4267080" y="6019920"/>
            <a:chExt cx="4571280" cy="580680"/>
          </a:xfrm>
        </p:grpSpPr>
        <p:sp>
          <p:nvSpPr>
            <p:cNvPr id="473" name=""/>
            <p:cNvSpPr/>
            <p:nvPr/>
          </p:nvSpPr>
          <p:spPr>
            <a:xfrm>
              <a:off x="5041080" y="6019920"/>
              <a:ext cx="3797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Money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267080" y="640080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3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7-8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4-5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d lay out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GUI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current balances at BankABC and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Balan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MoneyTransferEJB for transferring mon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MoneyTransfer( String JNDI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MoneyTransfer EJB using given JNDI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up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homeObject = context.lookup( JNDI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MoneyTransfer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neyTransferHome moneyTransferHo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MoneyTransferHome )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homeObject, MoneyTransferHome.class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MathTool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neyTransfer = moneyTransferHome.cre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438280" y="152280"/>
            <a:ext cx="4571280" cy="580680"/>
            <a:chOff x="2438280" y="152280"/>
            <a:chExt cx="4571280" cy="580680"/>
          </a:xfrm>
        </p:grpSpPr>
        <p:sp>
          <p:nvSpPr>
            <p:cNvPr id="478" name=""/>
            <p:cNvSpPr/>
            <p:nvPr/>
          </p:nvSpPr>
          <p:spPr>
            <a:xfrm>
              <a:off x="3212280" y="152280"/>
              <a:ext cx="3797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GU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and lay out GUI components for the appli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2438280" y="53316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971440" y="685800"/>
            <a:ext cx="5714640" cy="580680"/>
            <a:chOff x="2971440" y="685800"/>
            <a:chExt cx="5714640" cy="580680"/>
          </a:xfrm>
        </p:grpSpPr>
        <p:sp>
          <p:nvSpPr>
            <p:cNvPr id="481" name=""/>
            <p:cNvSpPr/>
            <p:nvPr/>
          </p:nvSpPr>
          <p:spPr>
            <a:xfrm>
              <a:off x="3939480" y="685800"/>
              <a:ext cx="4746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Balan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the current account balances a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nkAB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nkXYZ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2971440" y="1066680"/>
              <a:ext cx="97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714640" y="1981080"/>
            <a:ext cx="3352680" cy="1067400"/>
            <a:chOff x="5714640" y="1981080"/>
            <a:chExt cx="3352680" cy="1067400"/>
          </a:xfrm>
        </p:grpSpPr>
        <p:sp>
          <p:nvSpPr>
            <p:cNvPr id="484" name=""/>
            <p:cNvSpPr/>
            <p:nvPr/>
          </p:nvSpPr>
          <p:spPr>
            <a:xfrm>
              <a:off x="6282720" y="1981080"/>
              <a:ext cx="278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Money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 to 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714640" y="2361960"/>
              <a:ext cx="56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714640" y="2743200"/>
            <a:ext cx="3200400" cy="824040"/>
            <a:chOff x="5714640" y="2743200"/>
            <a:chExt cx="3200400" cy="824040"/>
          </a:xfrm>
        </p:grpSpPr>
        <p:sp>
          <p:nvSpPr>
            <p:cNvPr id="487" name=""/>
            <p:cNvSpPr/>
            <p:nvPr/>
          </p:nvSpPr>
          <p:spPr>
            <a:xfrm>
              <a:off x="6256800" y="2743200"/>
              <a:ext cx="2658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locat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 the JNDI direc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714640" y="3124080"/>
              <a:ext cx="5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5867280" y="3276720"/>
            <a:ext cx="2666880" cy="1310760"/>
            <a:chOff x="5867280" y="3276720"/>
            <a:chExt cx="2666880" cy="1310760"/>
          </a:xfrm>
        </p:grpSpPr>
        <p:sp>
          <p:nvSpPr>
            <p:cNvPr id="490" name=""/>
            <p:cNvSpPr/>
            <p:nvPr/>
          </p:nvSpPr>
          <p:spPr>
            <a:xfrm>
              <a:off x="6318720" y="3276720"/>
              <a:ext cx="2215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a remote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867280" y="3657240"/>
              <a:ext cx="4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486040" y="4724280"/>
            <a:ext cx="3429000" cy="1067400"/>
            <a:chOff x="5486040" y="4724280"/>
            <a:chExt cx="3429000" cy="1067400"/>
          </a:xfrm>
        </p:grpSpPr>
        <p:sp>
          <p:nvSpPr>
            <p:cNvPr id="493" name=""/>
            <p:cNvSpPr/>
            <p:nvPr/>
          </p:nvSpPr>
          <p:spPr>
            <a:xfrm>
              <a:off x="6067080" y="4724280"/>
              <a:ext cx="28479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 by 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5486040" y="5105160"/>
              <a:ext cx="58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3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reateException crea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MoneyTrans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alance in account at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alanc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and display BankABC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 = moneyTransfer.getBankABCBal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ABCBalanceTextField.setTex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.valueOf( balance )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and display BankXYZ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lance = moneyTransfer.getBankXYZBal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XYZBalanceTextField.setTex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.valueOf( balance ) )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invoke MoneyTransfer EJB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display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3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8-14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20-1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button to transfer funds between accou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getTransferButt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transfer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f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er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get transfer amount from J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ouble amount = Double.parseDoubl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ransferAmount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transfer mon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oneyTransfer.transfer( 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display new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isplayBalan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when transferring mon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Message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MoneyTransferEJBClien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remote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erButt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190760" y="304920"/>
            <a:ext cx="3657600" cy="824040"/>
            <a:chOff x="4190760" y="304920"/>
            <a:chExt cx="3657600" cy="824040"/>
          </a:xfrm>
        </p:grpSpPr>
        <p:sp>
          <p:nvSpPr>
            <p:cNvPr id="500" name=""/>
            <p:cNvSpPr/>
            <p:nvPr/>
          </p:nvSpPr>
          <p:spPr>
            <a:xfrm>
              <a:off x="4810320" y="304920"/>
              <a:ext cx="3038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Transfer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JButton to transfer fund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nkAB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nkXYZ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4190760" y="68544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790960" y="2514600"/>
            <a:ext cx="2895480" cy="1067400"/>
            <a:chOff x="5790960" y="2514600"/>
            <a:chExt cx="2895480" cy="1067400"/>
          </a:xfrm>
        </p:grpSpPr>
        <p:sp>
          <p:nvSpPr>
            <p:cNvPr id="503" name=""/>
            <p:cNvSpPr/>
            <p:nvPr/>
          </p:nvSpPr>
          <p:spPr>
            <a:xfrm>
              <a:off x="6280560" y="2514600"/>
              <a:ext cx="2405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m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user and 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transf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790960" y="2895480"/>
              <a:ext cx="49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114800" y="3809880"/>
            <a:ext cx="4571280" cy="580680"/>
            <a:chOff x="4114800" y="3809880"/>
            <a:chExt cx="4571280" cy="580680"/>
          </a:xfrm>
        </p:grpSpPr>
        <p:sp>
          <p:nvSpPr>
            <p:cNvPr id="506" name=""/>
            <p:cNvSpPr/>
            <p:nvPr/>
          </p:nvSpPr>
          <p:spPr>
            <a:xfrm>
              <a:off x="4888800" y="3809880"/>
              <a:ext cx="3797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Balan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update the display with the new account balan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114800" y="419076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.2   Home Interfa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3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Transfer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nd lay out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GUI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s for user input and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nkABCBalanc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nkABCBalanceTextField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nkXYZBalanc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nkXYZBalanceTextField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erAmount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utton to transfer between accou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transferButton = getTransferButt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out user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transfer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transferAmount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nk ABC Balanc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bankABCBalance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nk XYZ Balanc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bankXYZBalanceTextField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3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indowListener for exiting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Listener getWindowListe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MoneyTransfer EJB when user exits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move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oneyTransfer.remov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removing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veException remov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mov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removing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windowClo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Window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3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user provided JNDI name for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java MoneyTransferEJBClient &lt;JNDI Nam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application using provided JNDI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EJBClient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Client.jav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2057400" y="3581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.5 Deplo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oneyTransf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resource references to the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.5 Deplo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oneyTransf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00840" cy="49705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534680" y="6172200"/>
            <a:ext cx="60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3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References dialog of New Enterprise Bean Wiz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.5 Deplo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oneyTransf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850000" cy="48466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442600" y="6019920"/>
            <a:ext cx="43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Resource Reference for BankAB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.5 Deplo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oneyTransf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21400" cy="46558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2367720" y="6019920"/>
            <a:ext cx="43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3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Resource Reference for BankXY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.5 Deplo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oneyTransf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848120" cy="29527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445120" y="4724280"/>
            <a:ext cx="42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3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Bean-Managed Transa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.5 Deplo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oneyTransf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3" name=""/>
          <p:cNvSpPr/>
          <p:nvPr/>
        </p:nvSpPr>
        <p:spPr>
          <a:xfrm>
            <a:off x="2217600" y="4952880"/>
            <a:ext cx="466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3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Container-Managed Transa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848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.3   EJB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business methods declared in the remot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re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inder methods declared in the hom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EJBs must implement 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x.ejb.Session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zhang</cp:lastModifiedBy>
  <dcterms:modified xsi:type="dcterms:W3CDTF">2002-02-04T18:05:22Z</dcterms:modified>
  <cp:revision>99</cp:revision>
  <dc:subject/>
  <dc:title>PowerPoint Presentation</dc:title>
</cp:coreProperties>
</file>