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6.wmf" ContentType="image/x-wmf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2ABB-680D-412A-BD06-61076D06B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1F99-6F73-4279-9830-E7FCEBB84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F8E5-7346-4066-A3F1-335A3F44F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807E-5AAA-446A-8426-5B7BD9064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A094-3C52-450B-9EBE-4B4275CD9A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6310-193D-454F-9971-B324EFA1E0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82AB-0E36-47C1-B0F8-144E5EA7BB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F287-29D5-4F62-AF89-10D62701D9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5F60-3779-4038-8572-2511A8B5DB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4E99-B948-493C-9DC1-37043EEA2B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6C11-CA98-4003-AD02-544D56A7E5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F5B9-D661-4CC6-92B3-190C54BF4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E270-B9F5-4939-893A-E6EF4622F8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15BB-5DE4-4EC2-9499-2D3600D646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550B-DCD4-4E7C-B16D-DD8516CAB7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67BB-722D-4088-B157-DE963F1840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514A-274E-42EB-A6EB-1745FA57E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BB61-CDF8-44C5-B00B-138C82244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9C52-A08B-425E-A03C-B59CF4578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493D-6239-4628-A2BD-87BD4F417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8C7A-7280-419A-BC9F-545488677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1F35-9309-435D-A254-D5689DD61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90EF-4859-4822-9166-58F3971DE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5C83-CF8D-44F6-BDBE-A4CC8175C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5FA0-E346-44A8-B4B6-415CFB75C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E52E-6DEA-4FEA-A169-57C49CA96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– Model-View-Controller 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60958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odel-View-Controller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bservabl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bserv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li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tab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tre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faultTree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reeModel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5 AbstractAccountView abstract base class for observing Accou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9-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isplay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ckground(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or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te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lor.black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 for which this view is an Ob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 getAc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display with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updates from Observable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( Observable observable, Object objec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647960" y="1447920"/>
            <a:ext cx="4343760" cy="1310760"/>
            <a:chOff x="4647960" y="1447920"/>
            <a:chExt cx="4343760" cy="1310760"/>
          </a:xfrm>
        </p:grpSpPr>
        <p:sp>
          <p:nvSpPr>
            <p:cNvPr id="144" name=""/>
            <p:cNvSpPr/>
            <p:nvPr/>
          </p:nvSpPr>
          <p:spPr>
            <a:xfrm>
              <a:off x="5334120" y="1447920"/>
              <a:ext cx="36576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marked abstract, requiring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to provide an appropriate implementation for display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647960" y="20574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047760" y="3200400"/>
            <a:ext cx="5639040" cy="900360"/>
            <a:chOff x="3047760" y="3200400"/>
            <a:chExt cx="5639040" cy="900360"/>
          </a:xfrm>
        </p:grpSpPr>
        <p:sp>
          <p:nvSpPr>
            <p:cNvPr id="147" name=""/>
            <p:cNvSpPr/>
            <p:nvPr/>
          </p:nvSpPr>
          <p:spPr>
            <a:xfrm>
              <a:off x="4038480" y="3276720"/>
              <a:ext cx="4648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ach tim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tifi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a cha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3047760" y="320040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6 AccountTextView for displaying observed Account information in JTextField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Text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TextView is an AbstractAccountView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t displays an Account balance in a JTextFiel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Number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Text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countView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Field for display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balanc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umberFormat for US doll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Format moneyForma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Format.getCurrencyInstance(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TextView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TextView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balanceTextField readon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TextField.setEdita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balanc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038120" y="2666880"/>
            <a:ext cx="4496400" cy="900360"/>
            <a:chOff x="4038120" y="2666880"/>
            <a:chExt cx="4496400" cy="900360"/>
          </a:xfrm>
        </p:grpSpPr>
        <p:sp>
          <p:nvSpPr>
            <p:cNvPr id="152" name=""/>
            <p:cNvSpPr/>
            <p:nvPr/>
          </p:nvSpPr>
          <p:spPr>
            <a:xfrm>
              <a:off x="5181480" y="2743200"/>
              <a:ext cx="3353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a text-based view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038120" y="26668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14440" y="3048120"/>
            <a:ext cx="4267440" cy="609480"/>
            <a:chOff x="4114440" y="3048120"/>
            <a:chExt cx="4267440" cy="609480"/>
          </a:xfrm>
        </p:grpSpPr>
        <p:sp>
          <p:nvSpPr>
            <p:cNvPr id="155" name=""/>
            <p:cNvSpPr/>
            <p:nvPr/>
          </p:nvSpPr>
          <p:spPr>
            <a:xfrm>
              <a:off x="4724280" y="304812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ield to form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 as U.S. dolla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114440" y="33526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647960" y="4495680"/>
            <a:ext cx="3733920" cy="838440"/>
            <a:chOff x="4647960" y="4495680"/>
            <a:chExt cx="3733920" cy="838440"/>
          </a:xfrm>
        </p:grpSpPr>
        <p:sp>
          <p:nvSpPr>
            <p:cNvPr id="158" name=""/>
            <p:cNvSpPr/>
            <p:nvPr/>
          </p:nvSpPr>
          <p:spPr>
            <a:xfrm>
              <a:off x="5334120" y="449568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neditable to prevent users from modifying the balance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647960" y="48769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6 AccountTextView for displaying observed Account information in JTextField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display with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Displ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ext in balanceTextField to formatte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TextField.setText( moneyFormat.form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Account().getBalanc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504960" y="152280"/>
            <a:ext cx="4876920" cy="824040"/>
            <a:chOff x="3504960" y="152280"/>
            <a:chExt cx="4876920" cy="824040"/>
          </a:xfrm>
        </p:grpSpPr>
        <p:sp>
          <p:nvSpPr>
            <p:cNvPr id="163" name=""/>
            <p:cNvSpPr/>
            <p:nvPr/>
          </p:nvSpPr>
          <p:spPr>
            <a:xfrm>
              <a:off x="4495680" y="15228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abstrac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504960" y="609480"/>
              <a:ext cx="990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266720" y="1447920"/>
            <a:ext cx="4420080" cy="580680"/>
            <a:chOff x="4266720" y="1447920"/>
            <a:chExt cx="4420080" cy="580680"/>
          </a:xfrm>
        </p:grpSpPr>
        <p:sp>
          <p:nvSpPr>
            <p:cNvPr id="166" name=""/>
            <p:cNvSpPr/>
            <p:nvPr/>
          </p:nvSpPr>
          <p:spPr>
            <a:xfrm>
              <a:off x="5410080" y="14479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text to the format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266720" y="1447920"/>
              <a:ext cx="11430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7 AccountBarGraphView for rendering observed Account information as a bar graph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BarGraph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BarGraphView is an AbstractAccountView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t displays an Account balance as a bar grap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BarGraph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countView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BarGraphView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BarGraphView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Account balance as a bar grap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proper painting sequ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= getAccount().get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integer height for bar graph (grap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s 200 pixels wide and represents Account balanc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om -$5,000.00to +$5,000.0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rLength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( balanc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86200" y="2438280"/>
            <a:ext cx="4495320" cy="900360"/>
            <a:chOff x="3886200" y="2438280"/>
            <a:chExt cx="4495320" cy="900360"/>
          </a:xfrm>
        </p:grpSpPr>
        <p:sp>
          <p:nvSpPr>
            <p:cNvPr id="171" name=""/>
            <p:cNvSpPr/>
            <p:nvPr/>
          </p:nvSpPr>
          <p:spPr>
            <a:xfrm>
              <a:off x="5028840" y="251460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a bar-graph view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3886200" y="2438280"/>
              <a:ext cx="114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66720" y="4114800"/>
            <a:ext cx="3734280" cy="900360"/>
            <a:chOff x="4266720" y="4114800"/>
            <a:chExt cx="3734280" cy="900360"/>
          </a:xfrm>
        </p:grpSpPr>
        <p:sp>
          <p:nvSpPr>
            <p:cNvPr id="174" name=""/>
            <p:cNvSpPr/>
            <p:nvPr/>
          </p:nvSpPr>
          <p:spPr>
            <a:xfrm>
              <a:off x="5410080" y="41911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int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bar graph for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266720" y="411480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7 AccountBarGraphView for rendering observed Account information as a bar graph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balance is positive, draw graph in bl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alance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Color.bl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ar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balance is negative, draw graph in r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Color.r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ar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-bar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vertical and horizontal ax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Color( Color.bl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Lin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Lin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graph lab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Fo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s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ont.PLAI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$5,0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+$5,0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int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aint graph when display is upd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Displa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09520" y="609480"/>
            <a:ext cx="4725000" cy="1219320"/>
            <a:chOff x="3809520" y="609480"/>
            <a:chExt cx="4725000" cy="1219320"/>
          </a:xfrm>
        </p:grpSpPr>
        <p:sp>
          <p:nvSpPr>
            <p:cNvPr id="179" name=""/>
            <p:cNvSpPr/>
            <p:nvPr/>
          </p:nvSpPr>
          <p:spPr>
            <a:xfrm>
              <a:off x="5410080" y="609480"/>
              <a:ext cx="312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the bar graph in black for posit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 and in red for negat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885840" y="685800"/>
              <a:ext cx="1523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09520" y="106668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743200" y="5105520"/>
            <a:ext cx="3657600" cy="824040"/>
            <a:chOff x="2743200" y="5105520"/>
            <a:chExt cx="3657600" cy="824040"/>
          </a:xfrm>
        </p:grpSpPr>
        <p:sp>
          <p:nvSpPr>
            <p:cNvPr id="183" name=""/>
            <p:cNvSpPr/>
            <p:nvPr/>
          </p:nvSpPr>
          <p:spPr>
            <a:xfrm>
              <a:off x="3657600" y="510552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bar graph’s displ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2743200" y="52574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038120" y="5562720"/>
            <a:ext cx="4953600" cy="914400"/>
            <a:chOff x="4038120" y="5562720"/>
            <a:chExt cx="4953600" cy="914400"/>
          </a:xfrm>
        </p:grpSpPr>
        <p:sp>
          <p:nvSpPr>
            <p:cNvPr id="186" name=""/>
            <p:cNvSpPr/>
            <p:nvPr/>
          </p:nvSpPr>
          <p:spPr>
            <a:xfrm>
              <a:off x="4800600" y="556272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men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specifi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referred size as 210 pixels wide by 50 pixels hig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038120" y="59436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7 AccountBarGraphView for rendering observed Account information as a bar graph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minimum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maximum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ax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962520" y="838080"/>
            <a:ext cx="4419360" cy="1310760"/>
            <a:chOff x="3962520" y="838080"/>
            <a:chExt cx="4419360" cy="1310760"/>
          </a:xfrm>
        </p:grpSpPr>
        <p:sp>
          <p:nvSpPr>
            <p:cNvPr id="191" name=""/>
            <p:cNvSpPr/>
            <p:nvPr/>
          </p:nvSpPr>
          <p:spPr>
            <a:xfrm>
              <a:off x="5334120" y="838080"/>
              <a:ext cx="30477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Minimum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Maximum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ur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referred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3962520" y="91440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962520" y="1447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etPieChart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etPieChartView is an AbstractAccountView subclass th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s multiple asset Account balances as a pie ch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etPieChart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f observed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accoun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p of Colors for drawing pie chart wed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colo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Account to pie chart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Account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add null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ccoun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llPointer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count to accounts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s.add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olor to Hashtable for drawing Account's we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s.put( account, getRandomColor(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647960" y="4343400"/>
            <a:ext cx="3886560" cy="824040"/>
            <a:chOff x="4647960" y="4343400"/>
            <a:chExt cx="3886560" cy="824040"/>
          </a:xfrm>
        </p:grpSpPr>
        <p:sp>
          <p:nvSpPr>
            <p:cNvPr id="197" name=""/>
            <p:cNvSpPr/>
            <p:nvPr/>
          </p:nvSpPr>
          <p:spPr>
            <a:xfrm>
              <a:off x="5715000" y="43434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s an Account to the List of Accounts shown in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47960" y="4724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876920" y="5486400"/>
            <a:ext cx="3657600" cy="990720"/>
            <a:chOff x="4876920" y="5486400"/>
            <a:chExt cx="3657600" cy="990720"/>
          </a:xfrm>
        </p:grpSpPr>
        <p:sp>
          <p:nvSpPr>
            <p:cNvPr id="200" name=""/>
            <p:cNvSpPr/>
            <p:nvPr/>
          </p:nvSpPr>
          <p:spPr>
            <a:xfrm>
              <a:off x="5257800" y="548640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Random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dds the rand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76920" y="60199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5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1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as Observer to receive Account up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display with new Account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ccount from pie chart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Account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 receiving updates from given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.delete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Account from accounts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s.remove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Account's Color from Hash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s.remove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display to remove Account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Account balances in a pie 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proper painting sequ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pie 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PieChar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33920" y="304920"/>
            <a:ext cx="4952880" cy="824040"/>
            <a:chOff x="3733920" y="304920"/>
            <a:chExt cx="4952880" cy="824040"/>
          </a:xfrm>
        </p:grpSpPr>
        <p:sp>
          <p:nvSpPr>
            <p:cNvPr id="205" name=""/>
            <p:cNvSpPr/>
            <p:nvPr/>
          </p:nvSpPr>
          <p:spPr>
            <a:xfrm>
              <a:off x="4495680" y="30492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pd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733920" y="685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133360" y="914400"/>
            <a:ext cx="3886560" cy="824040"/>
            <a:chOff x="2133360" y="914400"/>
            <a:chExt cx="3886560" cy="824040"/>
          </a:xfrm>
        </p:grpSpPr>
        <p:sp>
          <p:nvSpPr>
            <p:cNvPr id="208" name=""/>
            <p:cNvSpPr/>
            <p:nvPr/>
          </p:nvSpPr>
          <p:spPr>
            <a:xfrm>
              <a:off x="3200400" y="9144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e pie chart with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133360" y="1295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352680" y="2057400"/>
            <a:ext cx="4343400" cy="580680"/>
            <a:chOff x="3352680" y="2057400"/>
            <a:chExt cx="4343400" cy="580680"/>
          </a:xfrm>
        </p:grpSpPr>
        <p:sp>
          <p:nvSpPr>
            <p:cNvPr id="211" name=""/>
            <p:cNvSpPr/>
            <p:nvPr/>
          </p:nvSpPr>
          <p:spPr>
            <a:xfrm>
              <a:off x="4419720" y="2057400"/>
              <a:ext cx="3276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v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352680" y="213372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038120" y="1981080"/>
            <a:ext cx="4191480" cy="1067400"/>
            <a:chOff x="4038120" y="1981080"/>
            <a:chExt cx="4191480" cy="1067400"/>
          </a:xfrm>
        </p:grpSpPr>
        <p:sp>
          <p:nvSpPr>
            <p:cNvPr id="214" name=""/>
            <p:cNvSpPr/>
            <p:nvPr/>
          </p:nvSpPr>
          <p:spPr>
            <a:xfrm>
              <a:off x="4876920" y="1981080"/>
              <a:ext cx="3352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lete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nregis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038120" y="2514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571640" y="4419720"/>
            <a:ext cx="3886560" cy="1067400"/>
            <a:chOff x="4571640" y="4419720"/>
            <a:chExt cx="3886560" cy="1067400"/>
          </a:xfrm>
        </p:grpSpPr>
        <p:sp>
          <p:nvSpPr>
            <p:cNvPr id="217" name=""/>
            <p:cNvSpPr/>
            <p:nvPr/>
          </p:nvSpPr>
          <p:spPr>
            <a:xfrm>
              <a:off x="5257800" y="441972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int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PieCh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Leg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pie chart and chart legend respectiv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571640" y="495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1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8-1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legend to describe pie chart wed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Legend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pie chart on given Graphics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PieChar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ombined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Balance = getTotal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emporary variables for pie chart calcul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cent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Ang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cAng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accountIterator = account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pie wedge for each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ccount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Account from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count = ( Account ) accountIterator.nex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wedges only for included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udeAccountInChart( account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ercentage of total balance held in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centage = account.getBalance() / total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lculate arc angle for percent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rcAngl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ound( percentage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1640" y="990720"/>
            <a:ext cx="4267440" cy="580680"/>
            <a:chOff x="4571640" y="990720"/>
            <a:chExt cx="4267440" cy="580680"/>
          </a:xfrm>
        </p:grpSpPr>
        <p:sp>
          <p:nvSpPr>
            <p:cNvPr id="222" name=""/>
            <p:cNvSpPr/>
            <p:nvPr/>
          </p:nvSpPr>
          <p:spPr>
            <a:xfrm>
              <a:off x="5638680" y="9907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PieCh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pie-chart wedge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571640" y="1295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7960" y="3429000"/>
            <a:ext cx="4038840" cy="824040"/>
            <a:chOff x="4647960" y="3429000"/>
            <a:chExt cx="4038840" cy="824040"/>
          </a:xfrm>
        </p:grpSpPr>
        <p:sp>
          <p:nvSpPr>
            <p:cNvPr id="225" name=""/>
            <p:cNvSpPr/>
            <p:nvPr/>
          </p:nvSpPr>
          <p:spPr>
            <a:xfrm>
              <a:off x="5334120" y="342900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op calculates the percentage of the total balance held in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raw the wed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38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885840" y="4800600"/>
            <a:ext cx="4877280" cy="824040"/>
            <a:chOff x="3885840" y="4800600"/>
            <a:chExt cx="4877280" cy="824040"/>
          </a:xfrm>
        </p:grpSpPr>
        <p:sp>
          <p:nvSpPr>
            <p:cNvPr id="228" name=""/>
            <p:cNvSpPr/>
            <p:nvPr/>
          </p:nvSpPr>
          <p:spPr>
            <a:xfrm>
              <a:off x="4572000" y="480060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AccountInCh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if the pie chart should include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885840" y="50288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5-1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1-1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1-144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drawing Color for Account pie we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( Color ) colors.get( accou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Account pie we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fillAr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artAngle, arcAng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lculate startAngle for next pie we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Angle += arcAng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awPie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pie chart legend on given Graphics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Legend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accountIterator = account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nt for Accou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 fo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s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ont.BOLD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Font( fo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ontMetrics for calculating offset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itioning descri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Metrics metrics = getFontMetrics( fo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cent = metrics.getMaxAsc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ffsetY = asce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description for each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ccountIterator.hasNext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Account from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count = ( Account ) account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943600" y="152280"/>
            <a:ext cx="3048120" cy="914400"/>
            <a:chOff x="5943600" y="152280"/>
            <a:chExt cx="3048120" cy="914400"/>
          </a:xfrm>
        </p:grpSpPr>
        <p:sp>
          <p:nvSpPr>
            <p:cNvPr id="233" name=""/>
            <p:cNvSpPr/>
            <p:nvPr/>
          </p:nvSpPr>
          <p:spPr>
            <a:xfrm>
              <a:off x="6477120" y="1522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Ar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ie wed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943600" y="5335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343040" y="2209680"/>
            <a:ext cx="3886560" cy="824040"/>
            <a:chOff x="4343040" y="2209680"/>
            <a:chExt cx="3886560" cy="824040"/>
          </a:xfrm>
        </p:grpSpPr>
        <p:sp>
          <p:nvSpPr>
            <p:cNvPr id="236" name=""/>
            <p:cNvSpPr/>
            <p:nvPr/>
          </p:nvSpPr>
          <p:spPr>
            <a:xfrm>
              <a:off x="5410080" y="220968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Leg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legend to show which color represents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343040" y="25905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86400" y="3581280"/>
            <a:ext cx="3429000" cy="1067400"/>
            <a:chOff x="5486400" y="3581280"/>
            <a:chExt cx="3429000" cy="1067400"/>
          </a:xfrm>
        </p:grpSpPr>
        <p:sp>
          <p:nvSpPr>
            <p:cNvPr id="239" name=""/>
            <p:cNvSpPr/>
            <p:nvPr/>
          </p:nvSpPr>
          <p:spPr>
            <a:xfrm>
              <a:off x="6858000" y="3581280"/>
              <a:ext cx="2057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ntMetr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calculate the heights of characters in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5867280" y="36576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86400" y="411480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943600" y="5029200"/>
            <a:ext cx="2743200" cy="824040"/>
            <a:chOff x="5943600" y="5029200"/>
            <a:chExt cx="2743200" cy="824040"/>
          </a:xfrm>
        </p:grpSpPr>
        <p:sp>
          <p:nvSpPr>
            <p:cNvPr id="243" name=""/>
            <p:cNvSpPr/>
            <p:nvPr/>
          </p:nvSpPr>
          <p:spPr>
            <a:xfrm>
              <a:off x="6858000" y="502920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op draw the legend item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943600" y="548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 Introduc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-view-controll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-processing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-model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8-16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Account color swatch at next off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( Color ) colors.get( accou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ffsetY * i, ascent, asc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Account name next to color sw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Color.bl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drawString( account.getNam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ffsetY * i + asc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awLeg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mbined balance of all observed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Balan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accountIterator = account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total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ccount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count = ( Account ) account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nly included Accounts to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cludeAccountInChart( account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um += account.get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885840" y="2133720"/>
            <a:ext cx="3886560" cy="824040"/>
            <a:chOff x="3885840" y="2133720"/>
            <a:chExt cx="3886560" cy="824040"/>
          </a:xfrm>
        </p:grpSpPr>
        <p:sp>
          <p:nvSpPr>
            <p:cNvPr id="248" name=""/>
            <p:cNvSpPr/>
            <p:nvPr/>
          </p:nvSpPr>
          <p:spPr>
            <a:xfrm>
              <a:off x="4952880" y="21337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otal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culates the total balance for all inclu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885840" y="25142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343040" y="4495680"/>
            <a:ext cx="3962880" cy="824040"/>
            <a:chOff x="4343040" y="4495680"/>
            <a:chExt cx="3962880" cy="824040"/>
          </a:xfrm>
        </p:grpSpPr>
        <p:sp>
          <p:nvSpPr>
            <p:cNvPr id="251" name=""/>
            <p:cNvSpPr/>
            <p:nvPr/>
          </p:nvSpPr>
          <p:spPr>
            <a:xfrm>
              <a:off x="5410080" y="449568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balance to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calculation should inclu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343040" y="48769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9-17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7-18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9-19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given Account should be included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ie 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ludeAccountInChart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clude only Asset accounts (Accounts with posit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alance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.getBalanc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 random Color for drawing pie wed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Random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random red, green and blu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en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newly create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, green, b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updates from Observable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( Observable observable, Object objec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038480" y="761760"/>
            <a:ext cx="4953240" cy="900360"/>
            <a:chOff x="4038480" y="761760"/>
            <a:chExt cx="4953240" cy="900360"/>
          </a:xfrm>
        </p:grpSpPr>
        <p:sp>
          <p:nvSpPr>
            <p:cNvPr id="256" name=""/>
            <p:cNvSpPr/>
            <p:nvPr/>
          </p:nvSpPr>
          <p:spPr>
            <a:xfrm>
              <a:off x="4952880" y="838080"/>
              <a:ext cx="403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AccountInCh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ol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dicating wheth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included in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038480" y="7617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733560" y="1828800"/>
            <a:ext cx="3886560" cy="1067400"/>
            <a:chOff x="3733560" y="1828800"/>
            <a:chExt cx="3886560" cy="1067400"/>
          </a:xfrm>
        </p:grpSpPr>
        <p:sp>
          <p:nvSpPr>
            <p:cNvPr id="259" name=""/>
            <p:cNvSpPr/>
            <p:nvPr/>
          </p:nvSpPr>
          <p:spPr>
            <a:xfrm>
              <a:off x="4800600" y="18288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Random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nerate a different Color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733560" y="2209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07760" y="4495320"/>
            <a:ext cx="4883760" cy="581040"/>
            <a:chOff x="2507760" y="4495320"/>
            <a:chExt cx="4883760" cy="581040"/>
          </a:xfrm>
        </p:grpSpPr>
        <p:sp>
          <p:nvSpPr>
            <p:cNvPr id="262" name=""/>
            <p:cNvSpPr/>
            <p:nvPr/>
          </p:nvSpPr>
          <p:spPr>
            <a:xfrm>
              <a:off x="3733920" y="44956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pie-chart displ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507760" y="4495320"/>
              <a:ext cx="122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ax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9 Accountcontroller for obtaining user input to modify Account inform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Controller is a controller for Accounts. It provi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JTextField for inputting a deposit or withdraw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JButtons for depositing or withdrawing fund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 to contr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 accoun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Field for deposit or withdraw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amount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Controller( Account controlledAcc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ccount to contr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= controlledAccount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ount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52520" y="2362320"/>
            <a:ext cx="3886560" cy="824040"/>
            <a:chOff x="4952520" y="2362320"/>
            <a:chExt cx="3886560" cy="824040"/>
          </a:xfrm>
        </p:grpSpPr>
        <p:sp>
          <p:nvSpPr>
            <p:cNvPr id="269" name=""/>
            <p:cNvSpPr/>
            <p:nvPr/>
          </p:nvSpPr>
          <p:spPr>
            <a:xfrm>
              <a:off x="6019560" y="23623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the controller in the MVC architectu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952520" y="27428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800240" y="5410080"/>
            <a:ext cx="4038480" cy="1067400"/>
            <a:chOff x="4800240" y="5410080"/>
            <a:chExt cx="4038480" cy="1067400"/>
          </a:xfrm>
        </p:grpSpPr>
        <p:sp>
          <p:nvSpPr>
            <p:cNvPr id="272" name=""/>
            <p:cNvSpPr/>
            <p:nvPr/>
          </p:nvSpPr>
          <p:spPr>
            <a:xfrm>
              <a:off x="5909040" y="5410080"/>
              <a:ext cx="2929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which users can enter an amount to withdraw from, or deposit in, the controll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800240" y="5790960"/>
              <a:ext cx="110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9 Accountcontroller for obtaining user input to modify Account inform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8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depos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depos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pos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posit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eposit amount entered in amount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account.deposit( Double.parse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mountTextField.getTex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ccountControll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a valid am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OptionPane.ERROR_MESSAG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withdrawa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withdraw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dra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thdraw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419360" y="685800"/>
            <a:ext cx="3810240" cy="824040"/>
            <a:chOff x="4419360" y="685800"/>
            <a:chExt cx="3810240" cy="824040"/>
          </a:xfrm>
        </p:grpSpPr>
        <p:sp>
          <p:nvSpPr>
            <p:cNvPr id="277" name=""/>
            <p:cNvSpPr/>
            <p:nvPr/>
          </p:nvSpPr>
          <p:spPr>
            <a:xfrm>
              <a:off x="5638680" y="685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epositing the given amount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419360" y="685800"/>
              <a:ext cx="1190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419360" y="5257800"/>
            <a:ext cx="3810240" cy="824040"/>
            <a:chOff x="4419360" y="5257800"/>
            <a:chExt cx="3810240" cy="824040"/>
          </a:xfrm>
        </p:grpSpPr>
        <p:sp>
          <p:nvSpPr>
            <p:cNvPr id="280" name=""/>
            <p:cNvSpPr/>
            <p:nvPr/>
          </p:nvSpPr>
          <p:spPr>
            <a:xfrm>
              <a:off x="5638680" y="5257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withdrawing the given amoun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419360" y="5257800"/>
              <a:ext cx="1190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9 Accountcontroller for obtaining user input to modify Accoun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withdraw amount entered in amount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account.withdraw( Double.parse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mountTextField.getTex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ccountControll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a valid am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OptionPane.ERROR_MESSAG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ntroll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mou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amount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deposi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withdraw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0 AccountManager application for displaying and modifying Account information using the model-view-controller architectu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 and 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 and 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Manager is an application that uses the MVC de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ttern to manage bank Account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Manager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Manag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Mana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1 with initial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1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UI for account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account1Panel = createAccountPanel( account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2 with initial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2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UI for account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account2Panel = createAccountPanel( account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PieChartView to show Account pie 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ssetPieChartView pieChartView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etPieChartVie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29200" y="4267080"/>
            <a:ext cx="3962520" cy="1797480"/>
            <a:chOff x="5029200" y="4267080"/>
            <a:chExt cx="3962520" cy="1797480"/>
          </a:xfrm>
        </p:grpSpPr>
        <p:sp>
          <p:nvSpPr>
            <p:cNvPr id="287" name=""/>
            <p:cNvSpPr/>
            <p:nvPr/>
          </p:nvSpPr>
          <p:spPr>
            <a:xfrm>
              <a:off x="6400800" y="426708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Account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view and controller component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5029200" y="48769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029200" y="518148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866920" y="3809880"/>
            <a:ext cx="3124800" cy="1554120"/>
            <a:chOff x="5866920" y="3809880"/>
            <a:chExt cx="3124800" cy="1554120"/>
          </a:xfrm>
        </p:grpSpPr>
        <p:sp>
          <p:nvSpPr>
            <p:cNvPr id="291" name=""/>
            <p:cNvSpPr/>
            <p:nvPr/>
          </p:nvSpPr>
          <p:spPr>
            <a:xfrm>
              <a:off x="6705720" y="3809880"/>
              <a:ext cx="22860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 $1,000.00 balance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 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$3,000.00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866920" y="426672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866920" y="4648320"/>
              <a:ext cx="838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191120" y="5638680"/>
            <a:ext cx="4419360" cy="838440"/>
            <a:chOff x="4191120" y="5638680"/>
            <a:chExt cx="4419360" cy="838440"/>
          </a:xfrm>
        </p:grpSpPr>
        <p:sp>
          <p:nvSpPr>
            <p:cNvPr id="295" name=""/>
            <p:cNvSpPr/>
            <p:nvPr/>
          </p:nvSpPr>
          <p:spPr>
            <a:xfrm>
              <a:off x="5105520" y="5638680"/>
              <a:ext cx="3504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a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191120" y="6019920"/>
              <a:ext cx="885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0 AccountManager application for displaying and modifying Account information using the model-view-controller architectu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3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2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1-8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both Accounts to AccountPieChart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ieChartView.addAccount( account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ieChartView.addAccount( account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AccountPieChart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ieChar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ieChartPan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e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ieChartPanel.add( pieChartView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account1, account2 and pie char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account1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account2Pane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pieChart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countMana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GUI components for given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createAccountPanel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Account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accoun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JPanel's border to show Accou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Pan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account.ge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495680" y="304920"/>
            <a:ext cx="4191120" cy="1067400"/>
            <a:chOff x="4495680" y="304920"/>
            <a:chExt cx="4191120" cy="1067400"/>
          </a:xfrm>
        </p:grpSpPr>
        <p:sp>
          <p:nvSpPr>
            <p:cNvPr id="300" name=""/>
            <p:cNvSpPr/>
            <p:nvPr/>
          </p:nvSpPr>
          <p:spPr>
            <a:xfrm>
              <a:off x="5562720" y="30492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495680" y="8380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040" y="1523880"/>
            <a:ext cx="3657960" cy="824040"/>
            <a:chOff x="4343040" y="1523880"/>
            <a:chExt cx="3657960" cy="824040"/>
          </a:xfrm>
        </p:grpSpPr>
        <p:sp>
          <p:nvSpPr>
            <p:cNvPr id="303" name=""/>
            <p:cNvSpPr/>
            <p:nvPr/>
          </p:nvSpPr>
          <p:spPr>
            <a:xfrm>
              <a:off x="5638680" y="15238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tledB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343040" y="1905120"/>
              <a:ext cx="12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419360" y="3048120"/>
            <a:ext cx="4496040" cy="580680"/>
            <a:chOff x="4419360" y="3048120"/>
            <a:chExt cx="4496040" cy="580680"/>
          </a:xfrm>
        </p:grpSpPr>
        <p:sp>
          <p:nvSpPr>
            <p:cNvPr id="306" name=""/>
            <p:cNvSpPr/>
            <p:nvPr/>
          </p:nvSpPr>
          <p:spPr>
            <a:xfrm>
              <a:off x="5486400" y="30481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y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account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419360" y="3352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266720" y="4724280"/>
            <a:ext cx="4725000" cy="1554120"/>
            <a:chOff x="4266720" y="4724280"/>
            <a:chExt cx="4725000" cy="1554120"/>
          </a:xfrm>
        </p:grpSpPr>
        <p:sp>
          <p:nvSpPr>
            <p:cNvPr id="309" name=""/>
            <p:cNvSpPr/>
            <p:nvPr/>
          </p:nvSpPr>
          <p:spPr>
            <a:xfrm>
              <a:off x="5562720" y="4724280"/>
              <a:ext cx="34290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Account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Tex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4266720" y="502920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419720" y="5257800"/>
            <a:ext cx="4495680" cy="824040"/>
            <a:chOff x="4419720" y="5257800"/>
            <a:chExt cx="4495680" cy="824040"/>
          </a:xfrm>
        </p:grpSpPr>
        <p:sp>
          <p:nvSpPr>
            <p:cNvPr id="312" name=""/>
            <p:cNvSpPr/>
            <p:nvPr/>
          </p:nvSpPr>
          <p:spPr>
            <a:xfrm>
              <a:off x="5791320" y="525780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tledB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GUI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419720" y="5715000"/>
              <a:ext cx="1371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0 AccountManager application for displaying and modifying Account information using the model-view-controller architectu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1-7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7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9-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3-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TextView for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TextView accountTextView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TextView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BarGraphView for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BarGraphView accountBarGraphView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BarGraphView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Controller for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Controller accountControll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Controller( account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Account's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Panel.add( accountController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Panel.add( accountTextView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Panel.add( accountBarGraphView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Panel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AccountPane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Manager 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.setDefaultCloseOperation( EXIT_ON_CLO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.setVisi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495320" y="304920"/>
            <a:ext cx="4039200" cy="580680"/>
            <a:chOff x="4495320" y="304920"/>
            <a:chExt cx="4039200" cy="580680"/>
          </a:xfrm>
        </p:grpSpPr>
        <p:sp>
          <p:nvSpPr>
            <p:cNvPr id="317" name=""/>
            <p:cNvSpPr/>
            <p:nvPr/>
          </p:nvSpPr>
          <p:spPr>
            <a:xfrm>
              <a:off x="5638680" y="30492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Tex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495320" y="609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723920" y="1066680"/>
            <a:ext cx="4115160" cy="580680"/>
            <a:chOff x="4723920" y="1066680"/>
            <a:chExt cx="4115160" cy="580680"/>
          </a:xfrm>
        </p:grpSpPr>
        <p:sp>
          <p:nvSpPr>
            <p:cNvPr id="320" name=""/>
            <p:cNvSpPr/>
            <p:nvPr/>
          </p:nvSpPr>
          <p:spPr>
            <a:xfrm>
              <a:off x="5486400" y="10666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723920" y="1371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495320" y="1828800"/>
            <a:ext cx="4343760" cy="580680"/>
            <a:chOff x="4495320" y="1828800"/>
            <a:chExt cx="4343760" cy="580680"/>
          </a:xfrm>
        </p:grpSpPr>
        <p:sp>
          <p:nvSpPr>
            <p:cNvPr id="323" name=""/>
            <p:cNvSpPr/>
            <p:nvPr/>
          </p:nvSpPr>
          <p:spPr>
            <a:xfrm>
              <a:off x="5638680" y="18288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495320" y="2133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724280" y="2362320"/>
            <a:ext cx="4038840" cy="1067400"/>
            <a:chOff x="4724280" y="2362320"/>
            <a:chExt cx="4038840" cy="1067400"/>
          </a:xfrm>
        </p:grpSpPr>
        <p:sp>
          <p:nvSpPr>
            <p:cNvPr id="326" name=""/>
            <p:cNvSpPr/>
            <p:nvPr/>
          </p:nvSpPr>
          <p:spPr>
            <a:xfrm>
              <a:off x="5638680" y="2362320"/>
              <a:ext cx="3124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y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Tex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ponents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4280" y="2895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0 AccountManager application for displaying and modifying Account information using the model-view-controller architectu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account_a" descr=""/>
          <p:cNvPicPr/>
          <p:nvPr/>
        </p:nvPicPr>
        <p:blipFill>
          <a:blip r:embed="rId1"/>
          <a:stretch/>
        </p:blipFill>
        <p:spPr>
          <a:xfrm>
            <a:off x="152280" y="0"/>
            <a:ext cx="3238560" cy="3429000"/>
          </a:xfrm>
          <a:prstGeom prst="rect">
            <a:avLst/>
          </a:prstGeom>
          <a:ln w="0">
            <a:noFill/>
          </a:ln>
        </p:spPr>
      </p:pic>
      <p:pic>
        <p:nvPicPr>
          <p:cNvPr id="330" name="account_b" descr=""/>
          <p:cNvPicPr/>
          <p:nvPr/>
        </p:nvPicPr>
        <p:blipFill>
          <a:blip r:embed="rId2"/>
          <a:stretch/>
        </p:blipFill>
        <p:spPr>
          <a:xfrm>
            <a:off x="3505320" y="0"/>
            <a:ext cx="3438360" cy="3352680"/>
          </a:xfrm>
          <a:prstGeom prst="rect">
            <a:avLst/>
          </a:prstGeom>
          <a:ln w="0">
            <a:noFill/>
          </a:ln>
        </p:spPr>
      </p:pic>
      <p:pic>
        <p:nvPicPr>
          <p:cNvPr id="331" name="account_c" descr=""/>
          <p:cNvPicPr/>
          <p:nvPr/>
        </p:nvPicPr>
        <p:blipFill>
          <a:blip r:embed="rId3"/>
          <a:stretch/>
        </p:blipFill>
        <p:spPr>
          <a:xfrm>
            <a:off x="152280" y="3429000"/>
            <a:ext cx="3238560" cy="3429000"/>
          </a:xfrm>
          <a:prstGeom prst="rect">
            <a:avLst/>
          </a:prstGeom>
          <a:ln w="0">
            <a:noFill/>
          </a:ln>
        </p:spPr>
      </p:pic>
      <p:pic>
        <p:nvPicPr>
          <p:cNvPr id="332" name="account_d" descr=""/>
          <p:cNvPicPr/>
          <p:nvPr/>
        </p:nvPicPr>
        <p:blipFill>
          <a:blip r:embed="rId4"/>
          <a:stretch/>
        </p:blipFill>
        <p:spPr>
          <a:xfrm>
            <a:off x="3505320" y="3343320"/>
            <a:ext cx="3395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 Model-View-Controller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al presentation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ic for processing 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16736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95720" y="5486400"/>
            <a:ext cx="40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-view-controller archite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4 JLi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the delegate-model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gate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/unregis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Data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3206880" cy="761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840320" y="5257800"/>
            <a:ext cx="55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Mod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egate-model archite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2 PhilosophersJList application demonstrating Jlist and DefaultList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hilosophersJLis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VC architecture using JList with a Default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Lis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 philosoph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 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hilosophersJLi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Lis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 Philosoph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DefaultListModel to store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ra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t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isto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. Thomas Aquin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ren Kierkegaa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manuel Ka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edrich Nietzsc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nnah Arend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JList for philosophers Default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philosophers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723920" y="4038480"/>
            <a:ext cx="4115160" cy="824040"/>
            <a:chOff x="4723920" y="4038480"/>
            <a:chExt cx="4115160" cy="824040"/>
          </a:xfrm>
        </p:grpSpPr>
        <p:sp>
          <p:nvSpPr>
            <p:cNvPr id="340" name=""/>
            <p:cNvSpPr/>
            <p:nvPr/>
          </p:nvSpPr>
          <p:spPr>
            <a:xfrm>
              <a:off x="5486400" y="403848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ich provides a basic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723920" y="4343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638680" y="4876920"/>
            <a:ext cx="3124440" cy="580680"/>
            <a:chOff x="5638680" y="4876920"/>
            <a:chExt cx="3124440" cy="580680"/>
          </a:xfrm>
        </p:grpSpPr>
        <p:sp>
          <p:nvSpPr>
            <p:cNvPr id="343" name=""/>
            <p:cNvSpPr/>
            <p:nvPr/>
          </p:nvSpPr>
          <p:spPr>
            <a:xfrm>
              <a:off x="6248520" y="48769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several philosopher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38680" y="5181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266720" y="5867280"/>
            <a:ext cx="4267800" cy="824040"/>
            <a:chOff x="4266720" y="5867280"/>
            <a:chExt cx="4267800" cy="824040"/>
          </a:xfrm>
        </p:grpSpPr>
        <p:sp>
          <p:nvSpPr>
            <p:cNvPr id="346" name=""/>
            <p:cNvSpPr/>
            <p:nvPr/>
          </p:nvSpPr>
          <p:spPr>
            <a:xfrm>
              <a:off x="5029200" y="586728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sses the philosoph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266720" y="6324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2 PhilosophersJList application demonstrating Jlist and DefaultList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user to select only one philosopher at a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.setSelectionM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SelectionModel.SINGLE_SEL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adding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Philosop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prompt user for new philosopher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name = JOptionPane.showInputDialog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hilosophersJ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dd new philosopher 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hilosophers.addElement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removing selected philosop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remove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 Selected Philosop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move selected philosopher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hilosophers.removeEl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ist.getSelected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266720" y="228600"/>
            <a:ext cx="4648680" cy="580680"/>
            <a:chOff x="4266720" y="228600"/>
            <a:chExt cx="4648680" cy="580680"/>
          </a:xfrm>
        </p:grpSpPr>
        <p:sp>
          <p:nvSpPr>
            <p:cNvPr id="351" name=""/>
            <p:cNvSpPr/>
            <p:nvPr/>
          </p:nvSpPr>
          <p:spPr>
            <a:xfrm>
              <a:off x="5029200" y="228600"/>
              <a:ext cx="3886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selection mode to allow the user to select only one philosopher at a 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6720" y="533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962520" y="1295280"/>
            <a:ext cx="4647960" cy="580680"/>
            <a:chOff x="3962520" y="1295280"/>
            <a:chExt cx="4647960" cy="580680"/>
          </a:xfrm>
        </p:grpSpPr>
        <p:sp>
          <p:nvSpPr>
            <p:cNvPr id="354" name=""/>
            <p:cNvSpPr/>
            <p:nvPr/>
          </p:nvSpPr>
          <p:spPr>
            <a:xfrm>
              <a:off x="4724280" y="1295280"/>
              <a:ext cx="3886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dding new philosopher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962520" y="1600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028840" y="2819520"/>
            <a:ext cx="3886560" cy="824040"/>
            <a:chOff x="5028840" y="2819520"/>
            <a:chExt cx="3886560" cy="824040"/>
          </a:xfrm>
        </p:grpSpPr>
        <p:sp>
          <p:nvSpPr>
            <p:cNvPr id="357" name=""/>
            <p:cNvSpPr/>
            <p:nvPr/>
          </p:nvSpPr>
          <p:spPr>
            <a:xfrm>
              <a:off x="5791320" y="281952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he new philosopher to the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028840" y="3276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191120" y="4648320"/>
            <a:ext cx="4800600" cy="580680"/>
            <a:chOff x="4191120" y="4648320"/>
            <a:chExt cx="4800600" cy="580680"/>
          </a:xfrm>
        </p:grpSpPr>
        <p:sp>
          <p:nvSpPr>
            <p:cNvPr id="360" name=""/>
            <p:cNvSpPr/>
            <p:nvPr/>
          </p:nvSpPr>
          <p:spPr>
            <a:xfrm>
              <a:off x="4952880" y="4648320"/>
              <a:ext cx="4038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eleting a philosopher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191120" y="4952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2 PhilosophersJList application demonstrating Jlist and DefaultList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ad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remov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list, BorderLayout.CENTER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NOR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EXIT_ON_CLOS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PhilosophersJLi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885840" y="762120"/>
            <a:ext cx="4800960" cy="580680"/>
            <a:chOff x="3885840" y="762120"/>
            <a:chExt cx="4800960" cy="580680"/>
          </a:xfrm>
        </p:grpSpPr>
        <p:sp>
          <p:nvSpPr>
            <p:cNvPr id="365" name=""/>
            <p:cNvSpPr/>
            <p:nvPr/>
          </p:nvSpPr>
          <p:spPr>
            <a:xfrm>
              <a:off x="4648320" y="76212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y out the GUI components and 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 for the application wind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2 PhilosophersJList application demonstrating Jlist and DefaultList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list_a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369" name="list_b" descr=""/>
          <p:cNvPicPr/>
          <p:nvPr/>
        </p:nvPicPr>
        <p:blipFill>
          <a:blip r:embed="rId2"/>
          <a:stretch/>
        </p:blipFill>
        <p:spPr>
          <a:xfrm>
            <a:off x="3657600" y="0"/>
            <a:ext cx="3429000" cy="2457360"/>
          </a:xfrm>
          <a:prstGeom prst="rect">
            <a:avLst/>
          </a:prstGeom>
          <a:ln w="0">
            <a:noFill/>
          </a:ln>
        </p:spPr>
      </p:pic>
      <p:pic>
        <p:nvPicPr>
          <p:cNvPr id="370" name="list_c" descr=""/>
          <p:cNvPicPr/>
          <p:nvPr/>
        </p:nvPicPr>
        <p:blipFill>
          <a:blip r:embed="rId3"/>
          <a:stretch/>
        </p:blipFill>
        <p:spPr>
          <a:xfrm>
            <a:off x="0" y="25909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371" name="list_d" descr=""/>
          <p:cNvPicPr/>
          <p:nvPr/>
        </p:nvPicPr>
        <p:blipFill>
          <a:blip r:embed="rId4"/>
          <a:stretch/>
        </p:blipFill>
        <p:spPr>
          <a:xfrm>
            <a:off x="3657600" y="228600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372" name="list_e" descr=""/>
          <p:cNvPicPr/>
          <p:nvPr/>
        </p:nvPicPr>
        <p:blipFill>
          <a:blip r:embed="rId5"/>
          <a:stretch/>
        </p:blipFill>
        <p:spPr>
          <a:xfrm>
            <a:off x="152280" y="5334120"/>
            <a:ext cx="2810160" cy="1199880"/>
          </a:xfrm>
          <a:prstGeom prst="rect">
            <a:avLst/>
          </a:prstGeom>
          <a:ln w="0">
            <a:noFill/>
          </a:ln>
        </p:spPr>
      </p:pic>
      <p:pic>
        <p:nvPicPr>
          <p:cNvPr id="373" name="list_f" descr=""/>
          <p:cNvPicPr/>
          <p:nvPr/>
        </p:nvPicPr>
        <p:blipFill>
          <a:blip r:embed="rId6"/>
          <a:stretch/>
        </p:blipFill>
        <p:spPr>
          <a:xfrm>
            <a:off x="3657600" y="44956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 JTab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the delegate-model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gate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able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ble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ing and modify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743200" y="4267080"/>
            <a:ext cx="3311640" cy="7621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611720" y="526428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bleMod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egate-model archite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ab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698400" y="5788080"/>
            <a:ext cx="63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3 (Part 1 of 2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bleMod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methods and descrip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ab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84360" y="136836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836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698400" y="5943600"/>
            <a:ext cx="63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3 (Part 2 of 2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bleMod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methods and descrip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5 PhilosophersJTable application demonstrating JTable and DefaultTabl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hilosophersJTab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VC architecture using JTable with a Defaul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t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abl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ab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TableModel philosoph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le t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hilosophersJTab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abl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 Philosoph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DefaultTableModel to store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TableModel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olumns to Defaul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Colum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Colum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Colum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a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hilosopher names and dates to Defaul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ocrate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ra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69-399 B.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socrat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800600" y="4267080"/>
            <a:ext cx="2895480" cy="580680"/>
            <a:chOff x="4800600" y="4267080"/>
            <a:chExt cx="2895480" cy="580680"/>
          </a:xfrm>
        </p:grpSpPr>
        <p:sp>
          <p:nvSpPr>
            <p:cNvPr id="389" name=""/>
            <p:cNvSpPr/>
            <p:nvPr/>
          </p:nvSpPr>
          <p:spPr>
            <a:xfrm>
              <a:off x="5261040" y="4267080"/>
              <a:ext cx="2435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philosoph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800600" y="4571640"/>
              <a:ext cx="4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648320" y="4876920"/>
            <a:ext cx="4419360" cy="824040"/>
            <a:chOff x="4648320" y="4876920"/>
            <a:chExt cx="4419360" cy="824040"/>
          </a:xfrm>
        </p:grpSpPr>
        <p:sp>
          <p:nvSpPr>
            <p:cNvPr id="392" name=""/>
            <p:cNvSpPr/>
            <p:nvPr/>
          </p:nvSpPr>
          <p:spPr>
            <a:xfrm>
              <a:off x="5105520" y="4876920"/>
              <a:ext cx="3962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column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philosophers’ first names, last names and years in which they li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64832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191120" y="6019920"/>
            <a:ext cx="4343400" cy="337320"/>
            <a:chOff x="4191120" y="6019920"/>
            <a:chExt cx="4343400" cy="337320"/>
          </a:xfrm>
        </p:grpSpPr>
        <p:sp>
          <p:nvSpPr>
            <p:cNvPr id="395" name=""/>
            <p:cNvSpPr/>
            <p:nvPr/>
          </p:nvSpPr>
          <p:spPr>
            <a:xfrm>
              <a:off x="5410080" y="601992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rows for seven philosoph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91120" y="6172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5 PhilosophersJTable application demonstrating JTable and DefaultTabl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plato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t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28-347 B.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plato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aquina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om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quin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25-127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aquina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kierkegaard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r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ierkegaa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813-18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kierkegaa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kant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manu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a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724-180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ka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nietzsche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edri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ietzsc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844-19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nietzsch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arendt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nna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end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906-197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arend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JTable for philosophers Defaul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le( philosopher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adding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Philosop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reate empty array for new philosopher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[] philosopher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dd empty philosopher row 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hilosophers.addRow( philosop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114440" y="533520"/>
            <a:ext cx="4420080" cy="3124080"/>
            <a:chOff x="4114440" y="533520"/>
            <a:chExt cx="4420080" cy="3124080"/>
          </a:xfrm>
        </p:grpSpPr>
        <p:sp>
          <p:nvSpPr>
            <p:cNvPr id="400" name=""/>
            <p:cNvSpPr/>
            <p:nvPr/>
          </p:nvSpPr>
          <p:spPr>
            <a:xfrm>
              <a:off x="6705720" y="19810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rows for seven philosoph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4114440" y="533520"/>
              <a:ext cx="25909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4190760" y="1066320"/>
              <a:ext cx="25146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419720" y="182880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267080" y="2286000"/>
              <a:ext cx="2438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343400" y="2286000"/>
              <a:ext cx="2362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114440" y="2286000"/>
              <a:ext cx="2590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495320" y="3886200"/>
            <a:ext cx="3581640" cy="824040"/>
            <a:chOff x="4495320" y="3886200"/>
            <a:chExt cx="3581640" cy="824040"/>
          </a:xfrm>
        </p:grpSpPr>
        <p:sp>
          <p:nvSpPr>
            <p:cNvPr id="408" name=""/>
            <p:cNvSpPr/>
            <p:nvPr/>
          </p:nvSpPr>
          <p:spPr>
            <a:xfrm>
              <a:off x="5065200" y="3886200"/>
              <a:ext cx="3011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will act as a delegate for the philosoph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495320" y="4190760"/>
              <a:ext cx="56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09520" y="4876920"/>
            <a:ext cx="4724640" cy="824040"/>
            <a:chOff x="3809520" y="4876920"/>
            <a:chExt cx="4724640" cy="824040"/>
          </a:xfrm>
        </p:grpSpPr>
        <p:sp>
          <p:nvSpPr>
            <p:cNvPr id="411" name=""/>
            <p:cNvSpPr/>
            <p:nvPr/>
          </p:nvSpPr>
          <p:spPr>
            <a:xfrm>
              <a:off x="4561200" y="4876920"/>
              <a:ext cx="3972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dding a new philosopher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809520" y="518148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 Model-View-Controller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-model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nt of MV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the view and controller into a singl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13200" y="3049560"/>
            <a:ext cx="3117600" cy="762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09680" y="4191120"/>
            <a:ext cx="495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gate-model architecture in Java Swing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5 PhilosophersJTable application demonstrating JTable and DefaultTabl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8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6-9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removing selected philosop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remove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 Selected Philosop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move selected philosopher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hilosophers.remove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able.getSelectedRow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ad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remov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tabl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hilosophersJTab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190760" y="1295280"/>
            <a:ext cx="4724280" cy="824040"/>
            <a:chOff x="4190760" y="1295280"/>
            <a:chExt cx="4724280" cy="824040"/>
          </a:xfrm>
        </p:grpSpPr>
        <p:sp>
          <p:nvSpPr>
            <p:cNvPr id="416" name=""/>
            <p:cNvSpPr/>
            <p:nvPr/>
          </p:nvSpPr>
          <p:spPr>
            <a:xfrm>
              <a:off x="4942440" y="1295280"/>
              <a:ext cx="3972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removing a philosopher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190760" y="159984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876920" y="4648320"/>
            <a:ext cx="2514600" cy="580680"/>
            <a:chOff x="4876920" y="4648320"/>
            <a:chExt cx="2514600" cy="580680"/>
          </a:xfrm>
        </p:grpSpPr>
        <p:sp>
          <p:nvSpPr>
            <p:cNvPr id="419" name=""/>
            <p:cNvSpPr/>
            <p:nvPr/>
          </p:nvSpPr>
          <p:spPr>
            <a:xfrm>
              <a:off x="5276880" y="4648320"/>
              <a:ext cx="2114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croll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876920" y="4952880"/>
              <a:ext cx="39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5 PhilosophersJTable application demonstrating JTable and DefaultTabl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3" name="table_a" descr=""/>
          <p:cNvPicPr/>
          <p:nvPr/>
        </p:nvPicPr>
        <p:blipFill>
          <a:blip r:embed="rId1"/>
          <a:stretch/>
        </p:blipFill>
        <p:spPr>
          <a:xfrm>
            <a:off x="0" y="1600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24" name="table_b" descr=""/>
          <p:cNvPicPr/>
          <p:nvPr/>
        </p:nvPicPr>
        <p:blipFill>
          <a:blip r:embed="rId2"/>
          <a:stretch/>
        </p:blipFill>
        <p:spPr>
          <a:xfrm>
            <a:off x="3657600" y="16002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25" name="table_c" descr=""/>
          <p:cNvPicPr/>
          <p:nvPr/>
        </p:nvPicPr>
        <p:blipFill>
          <a:blip r:embed="rId3"/>
          <a:stretch/>
        </p:blipFill>
        <p:spPr>
          <a:xfrm>
            <a:off x="0" y="42292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426" name="table_d" descr=""/>
          <p:cNvPicPr/>
          <p:nvPr/>
        </p:nvPicPr>
        <p:blipFill>
          <a:blip r:embed="rId4"/>
          <a:stretch/>
        </p:blipFill>
        <p:spPr>
          <a:xfrm>
            <a:off x="3657600" y="42292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 JTre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the delegate-model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gate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ee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erarchic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b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en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re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0" name="sampletree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810240" cy="42483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229040" y="5562720"/>
            <a:ext cx="65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. 3.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Tr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howing a hierarchy of philosoph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.1 Us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faultTree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ee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methods for representing tre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faultTree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tableTree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aultMutableTree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2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hilosophersJTre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VC architecture using JTree with a DefaultTre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tr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re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PhilosophersJTree extends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ree tr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TreeModel philosoph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 rootN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hilosophersJTr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re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 Philosoph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ree of philosopher DefaultMutableTreeNo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philosophersNod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PhilosopherTr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hilosophers DefaultTreeMod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TreeModel( philosophersNod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ree for philosophers DefaultTre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ree( philosophe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181480" y="4114800"/>
            <a:ext cx="3810240" cy="1554120"/>
            <a:chOff x="5181480" y="4114800"/>
            <a:chExt cx="3810240" cy="1554120"/>
          </a:xfrm>
        </p:grpSpPr>
        <p:sp>
          <p:nvSpPr>
            <p:cNvPr id="437" name=""/>
            <p:cNvSpPr/>
            <p:nvPr/>
          </p:nvSpPr>
          <p:spPr>
            <a:xfrm>
              <a:off x="5943600" y="4114800"/>
              <a:ext cx="30481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Philosopher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roo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all the philosopher nod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181480" y="4952880"/>
              <a:ext cx="74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876560" y="4495680"/>
            <a:ext cx="4115160" cy="1067400"/>
            <a:chOff x="4876560" y="4495680"/>
            <a:chExt cx="4115160" cy="1067400"/>
          </a:xfrm>
        </p:grpSpPr>
        <p:sp>
          <p:nvSpPr>
            <p:cNvPr id="440" name=""/>
            <p:cNvSpPr/>
            <p:nvPr/>
          </p:nvSpPr>
          <p:spPr>
            <a:xfrm>
              <a:off x="5486400" y="4495680"/>
              <a:ext cx="3505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s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hilosophers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876560" y="5105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267080" y="5105520"/>
            <a:ext cx="4278600" cy="1066680"/>
            <a:chOff x="4267080" y="5105520"/>
            <a:chExt cx="4278600" cy="1066680"/>
          </a:xfrm>
        </p:grpSpPr>
        <p:sp>
          <p:nvSpPr>
            <p:cNvPr id="443" name=""/>
            <p:cNvSpPr/>
            <p:nvPr/>
          </p:nvSpPr>
          <p:spPr>
            <a:xfrm>
              <a:off x="5257800" y="5105520"/>
              <a:ext cx="3287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hilosopher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4267080" y="55627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5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adding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removing selected philosop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remove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ve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ad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remov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tre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CEN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885840" y="152280"/>
            <a:ext cx="4343400" cy="1067400"/>
            <a:chOff x="3885840" y="152280"/>
            <a:chExt cx="4343400" cy="1067400"/>
          </a:xfrm>
        </p:grpSpPr>
        <p:sp>
          <p:nvSpPr>
            <p:cNvPr id="448" name=""/>
            <p:cNvSpPr/>
            <p:nvPr/>
          </p:nvSpPr>
          <p:spPr>
            <a:xfrm>
              <a:off x="4954680" y="152280"/>
              <a:ext cx="3274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dding a philosopher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hilosoph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885840" y="76212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114440" y="2666880"/>
            <a:ext cx="4343400" cy="1067400"/>
            <a:chOff x="4114440" y="2666880"/>
            <a:chExt cx="4343400" cy="1067400"/>
          </a:xfrm>
        </p:grpSpPr>
        <p:sp>
          <p:nvSpPr>
            <p:cNvPr id="451" name=""/>
            <p:cNvSpPr/>
            <p:nvPr/>
          </p:nvSpPr>
          <p:spPr>
            <a:xfrm>
              <a:off x="5183280" y="2666880"/>
              <a:ext cx="3274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removing a philosopher from the philosoph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114440" y="327672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10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9-10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NOR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EXIT_ON_CLO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hilosophersJTr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new philosopher to selected er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Elem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lected er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parent = getSelectedNod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user selected era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en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hilosophersJTre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an era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ERROR_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mpt user for philosopher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ame = JOptionPane.showInputDialog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hilosophersJTre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Nam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ew philosopher to selected er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insertNodeInto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nam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ent, parent.getChildCount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ad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352320" y="1600200"/>
            <a:ext cx="4572000" cy="1067400"/>
            <a:chOff x="3352320" y="1600200"/>
            <a:chExt cx="4572000" cy="1067400"/>
          </a:xfrm>
        </p:grpSpPr>
        <p:sp>
          <p:nvSpPr>
            <p:cNvPr id="456" name=""/>
            <p:cNvSpPr/>
            <p:nvPr/>
          </p:nvSpPr>
          <p:spPr>
            <a:xfrm>
              <a:off x="4477320" y="1600200"/>
              <a:ext cx="344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the currently selected node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serts the new philosopher node as a child of the currently selected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352320" y="2210040"/>
              <a:ext cx="112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962520" y="5181480"/>
            <a:ext cx="4647960" cy="824040"/>
            <a:chOff x="3962520" y="5181480"/>
            <a:chExt cx="4647960" cy="824040"/>
          </a:xfrm>
        </p:grpSpPr>
        <p:sp>
          <p:nvSpPr>
            <p:cNvPr id="459" name=""/>
            <p:cNvSpPr/>
            <p:nvPr/>
          </p:nvSpPr>
          <p:spPr>
            <a:xfrm>
              <a:off x="5105520" y="5181480"/>
              <a:ext cx="3504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sertNodeIn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sert the new philosopher in the mode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962520" y="5638680"/>
              <a:ext cx="11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495320" y="5410080"/>
            <a:ext cx="4572000" cy="1067400"/>
            <a:chOff x="4495320" y="5410080"/>
            <a:chExt cx="4572000" cy="1067400"/>
          </a:xfrm>
        </p:grpSpPr>
        <p:sp>
          <p:nvSpPr>
            <p:cNvPr id="462" name=""/>
            <p:cNvSpPr/>
            <p:nvPr/>
          </p:nvSpPr>
          <p:spPr>
            <a:xfrm>
              <a:off x="5620320" y="5410080"/>
              <a:ext cx="344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Child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total number of children in no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495320" y="6019920"/>
              <a:ext cx="112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7-1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5-19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8-1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2-13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6-1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currently selected philosop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Elem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lected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selectedNode = getSelectedNod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electedNode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lectedNod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hilosophers.removeNodeFromParent( selectedNod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rrently selected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 getSelectedNod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lected DefaultMutableTree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faultMutableTreeNod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ee.getLastSelectedPathComponent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ree of philosopher DefaultMutableTreeNo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 createPhilosopherTr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ot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rootNod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ilosoph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cient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anci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c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anc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cien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ra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cien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at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cien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isto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504960" y="228600"/>
            <a:ext cx="4973760" cy="580680"/>
            <a:chOff x="3504960" y="228600"/>
            <a:chExt cx="4973760" cy="580680"/>
          </a:xfrm>
        </p:grpSpPr>
        <p:sp>
          <p:nvSpPr>
            <p:cNvPr id="467" name=""/>
            <p:cNvSpPr/>
            <p:nvPr/>
          </p:nvSpPr>
          <p:spPr>
            <a:xfrm>
              <a:off x="4572000" y="228600"/>
              <a:ext cx="390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elected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currently selected node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504960" y="533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809520" y="1066680"/>
            <a:ext cx="4496040" cy="1067400"/>
            <a:chOff x="3809520" y="1066680"/>
            <a:chExt cx="4496040" cy="1067400"/>
          </a:xfrm>
        </p:grpSpPr>
        <p:sp>
          <p:nvSpPr>
            <p:cNvPr id="470" name=""/>
            <p:cNvSpPr/>
            <p:nvPr/>
          </p:nvSpPr>
          <p:spPr>
            <a:xfrm>
              <a:off x="4915800" y="1066680"/>
              <a:ext cx="3389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NodeFrom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mo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lected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mode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3809520" y="1676520"/>
              <a:ext cx="11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419720" y="2362320"/>
            <a:ext cx="4572000" cy="1067400"/>
            <a:chOff x="4419720" y="2362320"/>
            <a:chExt cx="4572000" cy="1067400"/>
          </a:xfrm>
        </p:grpSpPr>
        <p:sp>
          <p:nvSpPr>
            <p:cNvPr id="473" name=""/>
            <p:cNvSpPr/>
            <p:nvPr/>
          </p:nvSpPr>
          <p:spPr>
            <a:xfrm>
              <a:off x="5181480" y="2362320"/>
              <a:ext cx="381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astSelectedPath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a reference to the currently selected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419720" y="2971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647960" y="4114440"/>
            <a:ext cx="4340520" cy="1144080"/>
            <a:chOff x="4647960" y="4114440"/>
            <a:chExt cx="4340520" cy="1144080"/>
          </a:xfrm>
        </p:grpSpPr>
        <p:sp>
          <p:nvSpPr>
            <p:cNvPr id="476" name=""/>
            <p:cNvSpPr/>
            <p:nvPr/>
          </p:nvSpPr>
          <p:spPr>
            <a:xfrm>
              <a:off x="5181480" y="4191120"/>
              <a:ext cx="380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Philosopher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veral philosophers and for the eras in which the philosophers li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4647960" y="4114440"/>
              <a:ext cx="533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343400" y="4267080"/>
            <a:ext cx="4648320" cy="580680"/>
            <a:chOff x="4343400" y="4267080"/>
            <a:chExt cx="4648320" cy="580680"/>
          </a:xfrm>
        </p:grpSpPr>
        <p:sp>
          <p:nvSpPr>
            <p:cNvPr id="479" name=""/>
            <p:cNvSpPr/>
            <p:nvPr/>
          </p:nvSpPr>
          <p:spPr>
            <a:xfrm>
              <a:off x="5334120" y="42670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tree’s roo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343400" y="4572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267080" y="4724280"/>
            <a:ext cx="4038480" cy="1310760"/>
            <a:chOff x="4267080" y="4724280"/>
            <a:chExt cx="4038480" cy="1310760"/>
          </a:xfrm>
        </p:grpSpPr>
        <p:sp>
          <p:nvSpPr>
            <p:cNvPr id="482" name=""/>
            <p:cNvSpPr/>
            <p:nvPr/>
          </p:nvSpPr>
          <p:spPr>
            <a:xfrm>
              <a:off x="5260680" y="4724280"/>
              <a:ext cx="3044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ancient era of philosophy and add no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c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chil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ot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4267080" y="53341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952880" y="4724280"/>
            <a:ext cx="4038840" cy="1310760"/>
            <a:chOff x="4952880" y="4724280"/>
            <a:chExt cx="4038840" cy="1310760"/>
          </a:xfrm>
        </p:grpSpPr>
        <p:sp>
          <p:nvSpPr>
            <p:cNvPr id="485" name=""/>
            <p:cNvSpPr/>
            <p:nvPr/>
          </p:nvSpPr>
          <p:spPr>
            <a:xfrm>
              <a:off x="5946840" y="4724280"/>
              <a:ext cx="3044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ree ancient philosophers and add each as a chil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c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9528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1-1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edieval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medieva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diev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mediev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dieva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. Thomas Aquin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naissance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renaissan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naiss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renaiss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naissanc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omas Mo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arly Modern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earlyModer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arly Moder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earlyModer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arlyModern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hn Lock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lightenment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enlighten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lighten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enlightenment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lightenmen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manuel Ka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885840" y="914040"/>
            <a:ext cx="5102640" cy="4343760"/>
            <a:chOff x="3885840" y="914040"/>
            <a:chExt cx="5102640" cy="4343760"/>
          </a:xfrm>
        </p:grpSpPr>
        <p:sp>
          <p:nvSpPr>
            <p:cNvPr id="490" name=""/>
            <p:cNvSpPr/>
            <p:nvPr/>
          </p:nvSpPr>
          <p:spPr>
            <a:xfrm>
              <a:off x="5943600" y="2362320"/>
              <a:ext cx="3044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everal addit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other eras in the history of philosophy and for philosophers in those era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4191120" y="914040"/>
              <a:ext cx="17524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3962160" y="2361960"/>
              <a:ext cx="1981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885840" y="3048120"/>
              <a:ext cx="2057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038480" y="3048120"/>
              <a:ext cx="19051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 Observable Class and Observer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se coup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mplementation of observer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java.util.Observ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 Ob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4408560" cy="191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14840" y="6095880"/>
            <a:ext cx="53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Man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 MVC archite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1-1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19th Century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nineteenth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9th Centu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nineteenth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ineteenth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ren Kierkegaa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ineteenth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edrich Nietzsc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20th Century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twentieth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th Centu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twentieth )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wentieth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annah Arend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N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hilosopher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r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809520" y="914400"/>
            <a:ext cx="5178960" cy="2057400"/>
            <a:chOff x="3809520" y="914400"/>
            <a:chExt cx="5178960" cy="2057400"/>
          </a:xfrm>
        </p:grpSpPr>
        <p:sp>
          <p:nvSpPr>
            <p:cNvPr id="498" name=""/>
            <p:cNvSpPr/>
            <p:nvPr/>
          </p:nvSpPr>
          <p:spPr>
            <a:xfrm>
              <a:off x="5943600" y="1523880"/>
              <a:ext cx="3044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everal addit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other eras in the history of philosophy and for philosophers in those era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4191120" y="914400"/>
              <a:ext cx="17524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809520" y="2209680"/>
              <a:ext cx="2133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hilosophertree_a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03" name="philosophertree_b" descr=""/>
          <p:cNvPicPr/>
          <p:nvPr/>
        </p:nvPicPr>
        <p:blipFill>
          <a:blip r:embed="rId2"/>
          <a:stretch/>
        </p:blipFill>
        <p:spPr>
          <a:xfrm>
            <a:off x="3429000" y="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04" name="philosophertree_c" descr=""/>
          <p:cNvPicPr/>
          <p:nvPr/>
        </p:nvPicPr>
        <p:blipFill>
          <a:blip r:embed="rId3"/>
          <a:stretch/>
        </p:blipFill>
        <p:spPr>
          <a:xfrm>
            <a:off x="0" y="26668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505" name="philosophertree_d" descr=""/>
          <p:cNvPicPr/>
          <p:nvPr/>
        </p:nvPicPr>
        <p:blipFill>
          <a:blip r:embed="rId4"/>
          <a:stretch/>
        </p:blipFill>
        <p:spPr>
          <a:xfrm>
            <a:off x="3657600" y="2819520"/>
            <a:ext cx="2809800" cy="1199880"/>
          </a:xfrm>
          <a:prstGeom prst="rect">
            <a:avLst/>
          </a:prstGeom>
          <a:ln w="0">
            <a:noFill/>
          </a:ln>
        </p:spPr>
      </p:pic>
      <p:pic>
        <p:nvPicPr>
          <p:cNvPr id="506" name="philosophertree_e" descr=""/>
          <p:cNvPicPr/>
          <p:nvPr/>
        </p:nvPicPr>
        <p:blipFill>
          <a:blip r:embed="rId5"/>
          <a:stretch/>
        </p:blipFill>
        <p:spPr>
          <a:xfrm>
            <a:off x="3505320" y="417204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.2 Custom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ree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ee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System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32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System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eModel implementation using File objects as tree nod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tree.filesys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re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System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Mod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ierarchy roo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 roo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eeModelListen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listen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SystemMod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SystemModel( File rootDirecto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root = rootDire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hierarchy root (root directory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Roo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410080" y="2438280"/>
            <a:ext cx="3048120" cy="824040"/>
            <a:chOff x="5410080" y="2438280"/>
            <a:chExt cx="3048120" cy="824040"/>
          </a:xfrm>
        </p:grpSpPr>
        <p:sp>
          <p:nvSpPr>
            <p:cNvPr id="512" name=""/>
            <p:cNvSpPr/>
            <p:nvPr/>
          </p:nvSpPr>
          <p:spPr>
            <a:xfrm>
              <a:off x="6063840" y="2438280"/>
              <a:ext cx="2394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410080" y="274320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76360" y="4495680"/>
            <a:ext cx="3886200" cy="580680"/>
            <a:chOff x="3276360" y="4495680"/>
            <a:chExt cx="3886200" cy="580680"/>
          </a:xfrm>
        </p:grpSpPr>
        <p:sp>
          <p:nvSpPr>
            <p:cNvPr id="515" name=""/>
            <p:cNvSpPr/>
            <p:nvPr/>
          </p:nvSpPr>
          <p:spPr>
            <a:xfrm>
              <a:off x="4110120" y="4495680"/>
              <a:ext cx="3052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 File argumen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oo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276360" y="48006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514600" y="5562720"/>
            <a:ext cx="4038480" cy="580680"/>
            <a:chOff x="2514600" y="5562720"/>
            <a:chExt cx="4038480" cy="580680"/>
          </a:xfrm>
        </p:grpSpPr>
        <p:sp>
          <p:nvSpPr>
            <p:cNvPr id="518" name=""/>
            <p:cNvSpPr/>
            <p:nvPr/>
          </p:nvSpPr>
          <p:spPr>
            <a:xfrm>
              <a:off x="3380760" y="5562720"/>
              <a:ext cx="317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oot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514600" y="586764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-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9-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rent's child at given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Child( Object pare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rent Fi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directory = ( File ) par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ist of files in parent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children = directory.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File at given index and override to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ethod to return only the File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File( directory, children[ inde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rent's number of childr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hildCount( Object par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rent Fi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file = ( File ) par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umber of files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.isDirector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[] fileList = file.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Lis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.list()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ildCount is 0 for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486400" y="228600"/>
            <a:ext cx="3200040" cy="824040"/>
            <a:chOff x="5486400" y="228600"/>
            <a:chExt cx="3200040" cy="824040"/>
          </a:xfrm>
        </p:grpSpPr>
        <p:sp>
          <p:nvSpPr>
            <p:cNvPr id="523" name=""/>
            <p:cNvSpPr/>
            <p:nvPr/>
          </p:nvSpPr>
          <p:spPr>
            <a:xfrm>
              <a:off x="6172560" y="228600"/>
              <a:ext cx="251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Chi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hild node at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de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4864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800240" y="2819520"/>
            <a:ext cx="3657960" cy="824040"/>
            <a:chOff x="4800240" y="2819520"/>
            <a:chExt cx="3657960" cy="824040"/>
          </a:xfrm>
        </p:grpSpPr>
        <p:sp>
          <p:nvSpPr>
            <p:cNvPr id="526" name=""/>
            <p:cNvSpPr/>
            <p:nvPr/>
          </p:nvSpPr>
          <p:spPr>
            <a:xfrm>
              <a:off x="5585040" y="2819520"/>
              <a:ext cx="2873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Child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number of children contained in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800240" y="312408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7-7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9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6-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node is a file, false if it is a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Leaf( Object nod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file = ( File ) n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.isFi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umeric index of given child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dexOfChild( Object parent, Object chil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rent Fi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directory = ( File ) par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hild Fi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file = ( File ) chi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ile list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children = directory.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File list for given chi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hildren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.getName().equals( children[ i ]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turn matching File's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child index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IndexOfChi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343040" y="228600"/>
            <a:ext cx="4572000" cy="580680"/>
            <a:chOff x="4343040" y="228600"/>
            <a:chExt cx="4572000" cy="580680"/>
          </a:xfrm>
        </p:grpSpPr>
        <p:sp>
          <p:nvSpPr>
            <p:cNvPr id="531" name=""/>
            <p:cNvSpPr/>
            <p:nvPr/>
          </p:nvSpPr>
          <p:spPr>
            <a:xfrm>
              <a:off x="5319360" y="228600"/>
              <a:ext cx="3595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Lea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ermines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leaf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343040" y="53352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428640" y="1905120"/>
            <a:ext cx="4169160" cy="900000"/>
            <a:chOff x="3428640" y="1905120"/>
            <a:chExt cx="4169160" cy="900000"/>
          </a:xfrm>
        </p:grpSpPr>
        <p:sp>
          <p:nvSpPr>
            <p:cNvPr id="534" name=""/>
            <p:cNvSpPr/>
            <p:nvPr/>
          </p:nvSpPr>
          <p:spPr>
            <a:xfrm>
              <a:off x="4648320" y="1981080"/>
              <a:ext cx="2949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dexOfChi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i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index in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3428640" y="190512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410080" y="3733920"/>
            <a:ext cx="3505320" cy="580680"/>
            <a:chOff x="5410080" y="3733920"/>
            <a:chExt cx="3505320" cy="580680"/>
          </a:xfrm>
        </p:grpSpPr>
        <p:sp>
          <p:nvSpPr>
            <p:cNvPr id="537" name=""/>
            <p:cNvSpPr/>
            <p:nvPr/>
          </p:nvSpPr>
          <p:spPr>
            <a:xfrm>
              <a:off x="6162840" y="3733920"/>
              <a:ext cx="2752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op search through the list for the given chi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410080" y="403884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1-13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5-1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d by delegate if value of Object at giv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eePath chan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ForPathChanged( TreePath path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ile object that w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oldFile = ( File ) path.getLastPathCompon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rent directory of change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ParentPath = oldFile.getPar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value of newFileName entered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ewFileName = ( String )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object with newFileName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naming old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target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ParentPath, new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name oldFile to target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ldFile.renameTo( target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ile object for parent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par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fileParentPa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nt array for renamed File's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changedChildrenIndic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getIndexOfChild( parent, targetFile)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bject array containing only rename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changedChildren = { targetFile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57800" y="457200"/>
            <a:ext cx="3733920" cy="824040"/>
            <a:chOff x="5257800" y="457200"/>
            <a:chExt cx="3733920" cy="824040"/>
          </a:xfrm>
        </p:grpSpPr>
        <p:sp>
          <p:nvSpPr>
            <p:cNvPr id="542" name=""/>
            <p:cNvSpPr/>
            <p:nvPr/>
          </p:nvSpPr>
          <p:spPr>
            <a:xfrm>
              <a:off x="5791320" y="4572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ForPath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legate when the user edits a node in the tr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257800" y="762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257800" y="1523880"/>
            <a:ext cx="3657600" cy="1143720"/>
            <a:chOff x="5257800" y="1523880"/>
            <a:chExt cx="3657600" cy="1143720"/>
          </a:xfrm>
        </p:grpSpPr>
        <p:sp>
          <p:nvSpPr>
            <p:cNvPr id="545" name=""/>
            <p:cNvSpPr/>
            <p:nvPr/>
          </p:nvSpPr>
          <p:spPr>
            <a:xfrm>
              <a:off x="6172200" y="16002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astPath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File object to re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257800" y="15238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809880" y="2971800"/>
            <a:ext cx="3962160" cy="580680"/>
            <a:chOff x="3809880" y="2971800"/>
            <a:chExt cx="3962160" cy="580680"/>
          </a:xfrm>
        </p:grpSpPr>
        <p:sp>
          <p:nvSpPr>
            <p:cNvPr id="548" name=""/>
            <p:cNvSpPr/>
            <p:nvPr/>
          </p:nvSpPr>
          <p:spPr>
            <a:xfrm>
              <a:off x="4659480" y="2971800"/>
              <a:ext cx="3112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rget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new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809880" y="32767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038480" y="3733920"/>
            <a:ext cx="4800240" cy="580680"/>
            <a:chOff x="4038480" y="3733920"/>
            <a:chExt cx="4800240" cy="580680"/>
          </a:xfrm>
        </p:grpSpPr>
        <p:sp>
          <p:nvSpPr>
            <p:cNvPr id="551" name=""/>
            <p:cNvSpPr/>
            <p:nvPr/>
          </p:nvSpPr>
          <p:spPr>
            <a:xfrm>
              <a:off x="5068080" y="3733920"/>
              <a:ext cx="3770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name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ld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rget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038480" y="4038840"/>
              <a:ext cx="10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28840" y="4267080"/>
            <a:ext cx="3581280" cy="580680"/>
            <a:chOff x="5028840" y="4267080"/>
            <a:chExt cx="3581280" cy="580680"/>
          </a:xfrm>
        </p:grpSpPr>
        <p:sp>
          <p:nvSpPr>
            <p:cNvPr id="554" name=""/>
            <p:cNvSpPr/>
            <p:nvPr/>
          </p:nvSpPr>
          <p:spPr>
            <a:xfrm>
              <a:off x="5798160" y="4267080"/>
              <a:ext cx="281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renamed file’s parent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028840" y="45720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2-13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9-1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3-1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0-1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7-1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TreeModelListeners of node 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TreeNodesChanged( path.getParentPath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ngedChildrenIndices, changedChildren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valueForPath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y TreeModelListeners that children of parent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iven TreePath with given indices were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TreeNodesChanged( TreePath parentPath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indices, Object[] childre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eeModelEvent to indicate node 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ModelEvent ev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ModelEv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entPath, indices, childr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listeners.iterator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ModelListener 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TreeModelEvent to each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 = ( TreeModelListener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.treeNodesChanged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fireTreeNodes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given TreeModel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reeModel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Model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s.add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181120" y="228600"/>
            <a:ext cx="3657960" cy="824040"/>
            <a:chOff x="5181120" y="228600"/>
            <a:chExt cx="3657960" cy="824040"/>
          </a:xfrm>
        </p:grpSpPr>
        <p:sp>
          <p:nvSpPr>
            <p:cNvPr id="559" name=""/>
            <p:cNvSpPr/>
            <p:nvPr/>
          </p:nvSpPr>
          <p:spPr>
            <a:xfrm>
              <a:off x="5965920" y="228600"/>
              <a:ext cx="2873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TreeNodes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ssu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181120" y="53352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800600" y="1980720"/>
            <a:ext cx="4267080" cy="1311120"/>
            <a:chOff x="4800600" y="1980720"/>
            <a:chExt cx="4267080" cy="1311120"/>
          </a:xfrm>
        </p:grpSpPr>
        <p:sp>
          <p:nvSpPr>
            <p:cNvPr id="562" name=""/>
            <p:cNvSpPr/>
            <p:nvPr/>
          </p:nvSpPr>
          <p:spPr>
            <a:xfrm>
              <a:off x="5656320" y="1981080"/>
              <a:ext cx="34113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TreeNodes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su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ll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Listen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indicating that node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ve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4800600" y="19807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76920" y="2438280"/>
            <a:ext cx="3504960" cy="580680"/>
            <a:chOff x="4876920" y="2438280"/>
            <a:chExt cx="3504960" cy="580680"/>
          </a:xfrm>
        </p:grpSpPr>
        <p:sp>
          <p:nvSpPr>
            <p:cNvPr id="565" name=""/>
            <p:cNvSpPr/>
            <p:nvPr/>
          </p:nvSpPr>
          <p:spPr>
            <a:xfrm>
              <a:off x="5629680" y="2438280"/>
              <a:ext cx="2752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vent with the given even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4876920" y="274320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267080" y="2971800"/>
            <a:ext cx="4496040" cy="914400"/>
            <a:chOff x="4267080" y="2971800"/>
            <a:chExt cx="4496040" cy="914400"/>
          </a:xfrm>
        </p:grpSpPr>
        <p:sp>
          <p:nvSpPr>
            <p:cNvPr id="568" name=""/>
            <p:cNvSpPr/>
            <p:nvPr/>
          </p:nvSpPr>
          <p:spPr>
            <a:xfrm>
              <a:off x="5181480" y="2971800"/>
              <a:ext cx="358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op iterates through the lis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Listen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en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ac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267080" y="3429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962520" y="4800600"/>
            <a:ext cx="4266720" cy="824040"/>
            <a:chOff x="3962520" y="4800600"/>
            <a:chExt cx="4266720" cy="824040"/>
          </a:xfrm>
        </p:grpSpPr>
        <p:sp>
          <p:nvSpPr>
            <p:cNvPr id="571" name=""/>
            <p:cNvSpPr/>
            <p:nvPr/>
          </p:nvSpPr>
          <p:spPr>
            <a:xfrm>
              <a:off x="4877640" y="4800600"/>
              <a:ext cx="3351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TreeModel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Listen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962520" y="51055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4-16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2-1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given TreeModel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TreeModel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Model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s.remove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eeFile is a File subclass that overrides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String to return only the File name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Fi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eeFi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File( File parent, String chil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arent, chi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verride method toString to return only th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not the full 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oStr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nner class Tree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267080" y="228600"/>
            <a:ext cx="4724280" cy="824040"/>
            <a:chOff x="4267080" y="228600"/>
            <a:chExt cx="4724280" cy="824040"/>
          </a:xfrm>
        </p:grpSpPr>
        <p:sp>
          <p:nvSpPr>
            <p:cNvPr id="576" name=""/>
            <p:cNvSpPr/>
            <p:nvPr/>
          </p:nvSpPr>
          <p:spPr>
            <a:xfrm>
              <a:off x="5281560" y="228600"/>
              <a:ext cx="3709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TreeModel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Listen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nregiste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267080" y="533520"/>
              <a:ext cx="10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419360" y="1676520"/>
            <a:ext cx="4572000" cy="580680"/>
            <a:chOff x="4419360" y="1676520"/>
            <a:chExt cx="4572000" cy="580680"/>
          </a:xfrm>
        </p:grpSpPr>
        <p:sp>
          <p:nvSpPr>
            <p:cNvPr id="579" name=""/>
            <p:cNvSpPr/>
            <p:nvPr/>
          </p:nvSpPr>
          <p:spPr>
            <a:xfrm>
              <a:off x="5401440" y="1676520"/>
              <a:ext cx="3589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super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419360" y="198144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9 FileTreeFrame application for browsing and editing a file system using JTree and FileSystem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TreeFra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Frame for displaying file system contents in a J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custom TreeMod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tree.filesys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re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Fra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ree for displaying file sys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ree fileTr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SystemModel TreeModel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SystemModel fileSystem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Area for displaying selected file's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fileDetailsTex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TreeFra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Frame( String directo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Tree FileSystem Vie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displaying Fil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Details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DetailsTex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"/>
          <p:cNvSpPr/>
          <p:nvPr/>
        </p:nvSpPr>
        <p:spPr>
          <a:xfrm>
            <a:off x="6019920" y="5410080"/>
            <a:ext cx="25146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unedit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TextAre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displaying file info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952880" y="57913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ount Observable class that represents a bank accou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3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 is an Observable class that represents a ban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 in which funds may be deposited or withdraw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Observ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only Accou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( String account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ingDeposi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accoun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lance( openingDepos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count balance and notify observers of 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al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 = account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ust call setChanged before notifyObserver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dicate model h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Observers that model h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yObserve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80920" y="1904760"/>
            <a:ext cx="4648680" cy="581040"/>
            <a:chOff x="3580920" y="1904760"/>
            <a:chExt cx="4648680" cy="581040"/>
          </a:xfrm>
        </p:grpSpPr>
        <p:sp>
          <p:nvSpPr>
            <p:cNvPr id="106" name=""/>
            <p:cNvSpPr/>
            <p:nvPr/>
          </p:nvSpPr>
          <p:spPr>
            <a:xfrm>
              <a:off x="4267080" y="1905120"/>
              <a:ext cx="3962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cts as a model in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580920" y="19047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809520" y="3581280"/>
            <a:ext cx="3505680" cy="580680"/>
            <a:chOff x="3809520" y="3581280"/>
            <a:chExt cx="3505680" cy="580680"/>
          </a:xfrm>
        </p:grpSpPr>
        <p:sp>
          <p:nvSpPr>
            <p:cNvPr id="109" name=""/>
            <p:cNvSpPr/>
            <p:nvPr/>
          </p:nvSpPr>
          <p:spPr>
            <a:xfrm>
              <a:off x="5105520" y="35812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809520" y="38862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33560" y="4876560"/>
            <a:ext cx="4115160" cy="581040"/>
            <a:chOff x="3733560" y="4876560"/>
            <a:chExt cx="4115160" cy="581040"/>
          </a:xfrm>
        </p:grpSpPr>
        <p:sp>
          <p:nvSpPr>
            <p:cNvPr id="112" name=""/>
            <p:cNvSpPr/>
            <p:nvPr/>
          </p:nvSpPr>
          <p:spPr>
            <a:xfrm>
              <a:off x="4419720" y="48769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nges the model by updating the account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733560" y="48765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37920" y="5486400"/>
            <a:ext cx="5105880" cy="580680"/>
            <a:chOff x="2437920" y="5486400"/>
            <a:chExt cx="5105880" cy="580680"/>
          </a:xfrm>
        </p:grpSpPr>
        <p:sp>
          <p:nvSpPr>
            <p:cNvPr id="115" name=""/>
            <p:cNvSpPr/>
            <p:nvPr/>
          </p:nvSpPr>
          <p:spPr>
            <a:xfrm>
              <a:off x="3276720" y="5486400"/>
              <a:ext cx="4267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he model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la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437920" y="57913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895480" y="5638680"/>
            <a:ext cx="6096240" cy="762120"/>
            <a:chOff x="2895480" y="5638680"/>
            <a:chExt cx="6096240" cy="762120"/>
          </a:xfrm>
        </p:grpSpPr>
        <p:sp>
          <p:nvSpPr>
            <p:cNvPr id="118" name=""/>
            <p:cNvSpPr/>
            <p:nvPr/>
          </p:nvSpPr>
          <p:spPr>
            <a:xfrm>
              <a:off x="3505320" y="5638680"/>
              <a:ext cx="548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otifyObserv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b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cha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895480" y="59436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9 FileTreeFrame application for browsing and editing a file system using JTree and FileSystem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6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5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SystemModel for give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System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SystemMode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director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ree for FileSystem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Tre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ree( fileSystem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JTree editable for renaming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Tree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 TreeSele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Tree.addTreeSele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Sele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details of newly selected File wh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lection chan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Chang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eeSele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 file = ( Fi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eTree.getLastSelectedPathCompon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DetailsTextArea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FileDetails( fil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TreeSele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fileTree and fileDetailsTextArea in a JSpli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plitPane split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litPan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plitPane.HORIZONTAL_SPLI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fileTre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fileDetailsTex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split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724280" y="228600"/>
            <a:ext cx="3505320" cy="580680"/>
            <a:chOff x="4724280" y="228600"/>
            <a:chExt cx="3505320" cy="580680"/>
          </a:xfrm>
        </p:grpSpPr>
        <p:sp>
          <p:nvSpPr>
            <p:cNvPr id="588" name=""/>
            <p:cNvSpPr/>
            <p:nvPr/>
          </p:nvSpPr>
          <p:spPr>
            <a:xfrm>
              <a:off x="5477040" y="228600"/>
              <a:ext cx="2752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ose root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re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724280" y="53352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114800" y="1523880"/>
            <a:ext cx="3962160" cy="824040"/>
            <a:chOff x="4114800" y="1523880"/>
            <a:chExt cx="3962160" cy="824040"/>
          </a:xfrm>
        </p:grpSpPr>
        <p:sp>
          <p:nvSpPr>
            <p:cNvPr id="591" name=""/>
            <p:cNvSpPr/>
            <p:nvPr/>
          </p:nvSpPr>
          <p:spPr>
            <a:xfrm>
              <a:off x="4965480" y="1523880"/>
              <a:ext cx="3111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ditable propert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o allow users to rename files displayed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4114800" y="182880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876560" y="914400"/>
            <a:ext cx="2819160" cy="580680"/>
            <a:chOff x="4876560" y="914400"/>
            <a:chExt cx="2819160" cy="580680"/>
          </a:xfrm>
        </p:grpSpPr>
        <p:sp>
          <p:nvSpPr>
            <p:cNvPr id="594" name=""/>
            <p:cNvSpPr/>
            <p:nvPr/>
          </p:nvSpPr>
          <p:spPr>
            <a:xfrm>
              <a:off x="5481360" y="914400"/>
              <a:ext cx="2214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4876560" y="12193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267080" y="2286000"/>
            <a:ext cx="4724280" cy="824040"/>
            <a:chOff x="4267080" y="2286000"/>
            <a:chExt cx="4724280" cy="824040"/>
          </a:xfrm>
        </p:grpSpPr>
        <p:sp>
          <p:nvSpPr>
            <p:cNvPr id="597" name=""/>
            <p:cNvSpPr/>
            <p:nvPr/>
          </p:nvSpPr>
          <p:spPr>
            <a:xfrm>
              <a:off x="5281560" y="2286000"/>
              <a:ext cx="3709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Sele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isten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SelectionEven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267080" y="2590920"/>
              <a:ext cx="10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14440" y="3581280"/>
            <a:ext cx="4877280" cy="337320"/>
            <a:chOff x="4114440" y="3581280"/>
            <a:chExt cx="4877280" cy="337320"/>
          </a:xfrm>
        </p:grpSpPr>
        <p:sp>
          <p:nvSpPr>
            <p:cNvPr id="600" name=""/>
            <p:cNvSpPr/>
            <p:nvPr/>
          </p:nvSpPr>
          <p:spPr>
            <a:xfrm>
              <a:off x="4876920" y="3581280"/>
              <a:ext cx="411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selec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4114440" y="3809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724280" y="5410080"/>
            <a:ext cx="3962160" cy="580680"/>
            <a:chOff x="4724280" y="5410080"/>
            <a:chExt cx="3962160" cy="580680"/>
          </a:xfrm>
        </p:grpSpPr>
        <p:sp>
          <p:nvSpPr>
            <p:cNvPr id="603" name=""/>
            <p:cNvSpPr/>
            <p:nvPr/>
          </p:nvSpPr>
          <p:spPr>
            <a:xfrm>
              <a:off x="5574960" y="5410080"/>
              <a:ext cx="3111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li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par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724280" y="571500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9 FileTreeFrame application for browsing and editing a file system using JTree and FileSystem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8-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EXIT_ON_CLOS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a String to display file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leDetails( File 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return details for null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File information in a StringBuf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Buffer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le.getNam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th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le.getPath()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le.leng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that user provided director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1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FileTreeFrame &lt;path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pplication using provided director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Frame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876920" y="1371600"/>
            <a:ext cx="3504960" cy="1067400"/>
            <a:chOff x="4876920" y="1371600"/>
            <a:chExt cx="3504960" cy="1067400"/>
          </a:xfrm>
        </p:grpSpPr>
        <p:sp>
          <p:nvSpPr>
            <p:cNvPr id="608" name=""/>
            <p:cNvSpPr/>
            <p:nvPr/>
          </p:nvSpPr>
          <p:spPr>
            <a:xfrm>
              <a:off x="5628600" y="1371600"/>
              <a:ext cx="2753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FileDetai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and returns a String conta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name, path and leng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876920" y="167652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9 FileTreeFrame application for browsing and editing a file system using JTree and FileSystem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filetree_a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12" name="filetree_b" descr=""/>
          <p:cNvPicPr/>
          <p:nvPr/>
        </p:nvPicPr>
        <p:blipFill>
          <a:blip r:embed="rId2"/>
          <a:stretch/>
        </p:blipFill>
        <p:spPr>
          <a:xfrm>
            <a:off x="3352680" y="609480"/>
            <a:ext cx="3619800" cy="1757520"/>
          </a:xfrm>
          <a:prstGeom prst="rect">
            <a:avLst/>
          </a:prstGeom>
          <a:ln w="0">
            <a:noFill/>
          </a:ln>
        </p:spPr>
      </p:pic>
      <p:pic>
        <p:nvPicPr>
          <p:cNvPr id="613" name="filetree_c" descr=""/>
          <p:cNvPicPr/>
          <p:nvPr/>
        </p:nvPicPr>
        <p:blipFill>
          <a:blip r:embed="rId3"/>
          <a:stretch/>
        </p:blipFill>
        <p:spPr>
          <a:xfrm>
            <a:off x="152280" y="2438280"/>
            <a:ext cx="3924360" cy="1905120"/>
          </a:xfrm>
          <a:prstGeom prst="rect">
            <a:avLst/>
          </a:prstGeom>
          <a:ln w="0">
            <a:noFill/>
          </a:ln>
        </p:spPr>
      </p:pic>
      <p:pic>
        <p:nvPicPr>
          <p:cNvPr id="614" name="filetree_d" descr=""/>
          <p:cNvPicPr/>
          <p:nvPr/>
        </p:nvPicPr>
        <p:blipFill>
          <a:blip r:embed="rId4"/>
          <a:stretch/>
        </p:blipFill>
        <p:spPr>
          <a:xfrm>
            <a:off x="2895480" y="4410000"/>
            <a:ext cx="3934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ount Observable class that represents a bank accou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6-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ithdraw funds from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thdra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moun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withdraw negative am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lance( getBalance() -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posit funds in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pos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moun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deposit negative am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lance( getBalance() +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590920" y="762120"/>
            <a:ext cx="2666880" cy="580680"/>
            <a:chOff x="2590920" y="762120"/>
            <a:chExt cx="2666880" cy="580680"/>
          </a:xfrm>
        </p:grpSpPr>
        <p:sp>
          <p:nvSpPr>
            <p:cNvPr id="123" name=""/>
            <p:cNvSpPr/>
            <p:nvPr/>
          </p:nvSpPr>
          <p:spPr>
            <a:xfrm>
              <a:off x="3429000" y="7621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590920" y="1066680"/>
              <a:ext cx="838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43400" y="1676520"/>
            <a:ext cx="3505320" cy="824040"/>
            <a:chOff x="4343400" y="1676520"/>
            <a:chExt cx="3505320" cy="824040"/>
          </a:xfrm>
        </p:grpSpPr>
        <p:sp>
          <p:nvSpPr>
            <p:cNvPr id="126" name=""/>
            <p:cNvSpPr/>
            <p:nvPr/>
          </p:nvSpPr>
          <p:spPr>
            <a:xfrm>
              <a:off x="51814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ith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tracts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343400" y="18284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66720" y="3886200"/>
            <a:ext cx="3124800" cy="824040"/>
            <a:chOff x="4266720" y="3886200"/>
            <a:chExt cx="3124800" cy="824040"/>
          </a:xfrm>
        </p:grpSpPr>
        <p:sp>
          <p:nvSpPr>
            <p:cNvPr id="129" name=""/>
            <p:cNvSpPr/>
            <p:nvPr/>
          </p:nvSpPr>
          <p:spPr>
            <a:xfrm>
              <a:off x="5105520" y="38862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pos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pu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266720" y="403812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ount Observable class that represents a bank account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 name (readonly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5 AbstractAccountView abstract base class for observing Accou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Account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AccountView is an abstract class that repres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view of an Accou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count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 to obser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stractAccountView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countView( Account observable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llPointer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allow null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bservableAccoun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llPointer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ccount data member to new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= observable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as an Observer to receive account up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19720" y="4114440"/>
            <a:ext cx="4419360" cy="581040"/>
            <a:chOff x="4419720" y="4114440"/>
            <a:chExt cx="4419360" cy="581040"/>
          </a:xfrm>
        </p:grpSpPr>
        <p:sp>
          <p:nvSpPr>
            <p:cNvPr id="136" name=""/>
            <p:cNvSpPr/>
            <p:nvPr/>
          </p:nvSpPr>
          <p:spPr>
            <a:xfrm>
              <a:off x="5257800" y="4114800"/>
              <a:ext cx="3581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to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419720" y="41144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85840" y="5029200"/>
            <a:ext cx="5029560" cy="1067400"/>
            <a:chOff x="3885840" y="5029200"/>
            <a:chExt cx="5029560" cy="1067400"/>
          </a:xfrm>
        </p:grpSpPr>
        <p:sp>
          <p:nvSpPr>
            <p:cNvPr id="139" name=""/>
            <p:cNvSpPr/>
            <p:nvPr/>
          </p:nvSpPr>
          <p:spPr>
            <a:xfrm>
              <a:off x="5105520" y="5029200"/>
              <a:ext cx="3809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the new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885840" y="556272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24T18:39:14Z</dcterms:modified>
  <cp:revision>120</cp:revision>
  <dc:subject/>
  <dc:title>PowerPoint Presentation</dc:title>
</cp:coreProperties>
</file>