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943C-68BE-4F05-94E4-B87FF8CF3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470C-E4F7-4AFE-BC24-6A338B6D4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CA54-4D58-4A5C-9BA2-06C8C2CD7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C3C0-9933-4743-B693-08DA06670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B9E8-28EF-46B3-8926-A826BCB092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D2CB-B125-4BA0-9FDF-17A1F9A222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8381-67FB-426B-A3B8-D79AFF31CA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8F48-0F16-4C3C-8765-5B27DFCF41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CF0F-52A3-4687-8C48-5CEE8C4DC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66AA-EDA2-4B78-8D9D-A481DC7BA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1B8D-6625-4A5D-A3A3-C8BA7A91A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4559-5A1A-4F52-98F7-6757B300B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7D26-862F-486F-8B19-5C45107369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6A09-A1DD-4225-B3A2-80068AF8FA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ADBA-7C4C-4CCC-AE44-013EB1A9C3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5863-6221-4EC1-9AF5-DB444E1F24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7141-9A58-466E-AB74-B8C741370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E467-5932-4587-8FC0-26A9AA837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4CCD-E200-4639-8E98-AB7F83695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6D7D-6F0A-4663-A085-C65A96742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DE50-DBD0-4EBE-9CE5-2E24113EB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6569-B423-4A5A-AA6E-BF00FFF02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D2B2-8A4A-4343-88E5-B00DE6434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84FE-66D1-4EF8-848A-AE15D938C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E945-43A3-492A-B265-7328E4AB9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6310-2B21-4559-893C-943FE9889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Case Study: Servlet and JSP Bookstor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ookstore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tering the Booksto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btaining the Book List from the Databas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ewing a Book’s Detail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dding an Item to the Shopping Car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ewing the Shopping Car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ecking O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cessing th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3 Bookstore home page (index.html)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torea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48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4 Shared cascading style sheet (style.css) used to apply common formatting across XHTML documents rendered on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-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, 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-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xt-alig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B0C4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bigFo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00008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ita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ty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xt-alig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6495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rgin-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rgin-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495320" y="76320"/>
            <a:ext cx="1905480" cy="580680"/>
            <a:chOff x="4495320" y="76320"/>
            <a:chExt cx="1905480" cy="580680"/>
          </a:xfrm>
        </p:grpSpPr>
        <p:sp>
          <p:nvSpPr>
            <p:cNvPr id="120" name=""/>
            <p:cNvSpPr/>
            <p:nvPr/>
          </p:nvSpPr>
          <p:spPr>
            <a:xfrm>
              <a:off x="4903560" y="76320"/>
              <a:ext cx="149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495320" y="38124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114800" y="380880"/>
            <a:ext cx="2286000" cy="580680"/>
            <a:chOff x="4114800" y="380880"/>
            <a:chExt cx="2286000" cy="580680"/>
          </a:xfrm>
        </p:grpSpPr>
        <p:sp>
          <p:nvSpPr>
            <p:cNvPr id="123" name=""/>
            <p:cNvSpPr/>
            <p:nvPr/>
          </p:nvSpPr>
          <p:spPr>
            <a:xfrm>
              <a:off x="4604400" y="380880"/>
              <a:ext cx="179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bo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pply bold fo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114800" y="6858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038120" y="838080"/>
            <a:ext cx="2896200" cy="580680"/>
            <a:chOff x="4038120" y="838080"/>
            <a:chExt cx="2896200" cy="580680"/>
          </a:xfrm>
        </p:grpSpPr>
        <p:sp>
          <p:nvSpPr>
            <p:cNvPr id="126" name=""/>
            <p:cNvSpPr/>
            <p:nvPr/>
          </p:nvSpPr>
          <p:spPr>
            <a:xfrm>
              <a:off x="4659480" y="838080"/>
              <a:ext cx="2274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bigF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four CSS attrib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038120" y="11430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67080" y="1447920"/>
            <a:ext cx="4632480" cy="580680"/>
            <a:chOff x="4267080" y="1447920"/>
            <a:chExt cx="4632480" cy="580680"/>
          </a:xfrm>
        </p:grpSpPr>
        <p:sp>
          <p:nvSpPr>
            <p:cNvPr id="129" name=""/>
            <p:cNvSpPr/>
            <p:nvPr/>
          </p:nvSpPr>
          <p:spPr>
            <a:xfrm>
              <a:off x="5334120" y="1447920"/>
              <a:ext cx="356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ita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pply italic font style and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r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ight justify tex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267080" y="1599840"/>
              <a:ext cx="1067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67080" y="1752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191120" y="1828800"/>
            <a:ext cx="1904760" cy="580680"/>
            <a:chOff x="4191120" y="1828800"/>
            <a:chExt cx="1904760" cy="580680"/>
          </a:xfrm>
        </p:grpSpPr>
        <p:sp>
          <p:nvSpPr>
            <p:cNvPr id="133" name=""/>
            <p:cNvSpPr/>
            <p:nvPr/>
          </p:nvSpPr>
          <p:spPr>
            <a:xfrm>
              <a:off x="4599000" y="1828800"/>
              <a:ext cx="149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, 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191120" y="2133720"/>
              <a:ext cx="40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191120" y="2286000"/>
            <a:ext cx="1904760" cy="580680"/>
            <a:chOff x="4191120" y="2286000"/>
            <a:chExt cx="1904760" cy="580680"/>
          </a:xfrm>
        </p:grpSpPr>
        <p:sp>
          <p:nvSpPr>
            <p:cNvPr id="136" name=""/>
            <p:cNvSpPr/>
            <p:nvPr/>
          </p:nvSpPr>
          <p:spPr>
            <a:xfrm>
              <a:off x="4599000" y="2286000"/>
              <a:ext cx="149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191120" y="2590920"/>
              <a:ext cx="40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Obtaining the Book List from the Databa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.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an XHTML document containing hyper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a database 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query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5 TitlesBean for obtaining book information from the books database and creating an ArrayList of BookBea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-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tles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itlesBean makes a database connection and retriev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books from the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sBea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titles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TitlesBean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sBea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database connection and setup SQL 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ic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sourc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DataSource ) ic.looku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ook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8120" y="3505320"/>
            <a:ext cx="4038480" cy="824040"/>
            <a:chOff x="3048120" y="3505320"/>
            <a:chExt cx="4038480" cy="824040"/>
          </a:xfrm>
        </p:grpSpPr>
        <p:sp>
          <p:nvSpPr>
            <p:cNvPr id="143" name=""/>
            <p:cNvSpPr/>
            <p:nvPr/>
          </p:nvSpPr>
          <p:spPr>
            <a:xfrm>
              <a:off x="3914280" y="3505320"/>
              <a:ext cx="317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s the connection to the database using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048120" y="380988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57440" y="4267080"/>
            <a:ext cx="1905480" cy="580680"/>
            <a:chOff x="5257440" y="4267080"/>
            <a:chExt cx="1905480" cy="580680"/>
          </a:xfrm>
        </p:grpSpPr>
        <p:sp>
          <p:nvSpPr>
            <p:cNvPr id="146" name=""/>
            <p:cNvSpPr/>
            <p:nvPr/>
          </p:nvSpPr>
          <p:spPr>
            <a:xfrm>
              <a:off x="5665680" y="4267080"/>
              <a:ext cx="149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257440" y="457200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14800" y="4800600"/>
            <a:ext cx="4266720" cy="580680"/>
            <a:chOff x="4114800" y="4800600"/>
            <a:chExt cx="4266720" cy="580680"/>
          </a:xfrm>
        </p:grpSpPr>
        <p:sp>
          <p:nvSpPr>
            <p:cNvPr id="149" name=""/>
            <p:cNvSpPr/>
            <p:nvPr/>
          </p:nvSpPr>
          <p:spPr>
            <a:xfrm>
              <a:off x="5028480" y="480060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cate the books data sour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14800" y="51055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76560" y="5334120"/>
            <a:ext cx="2819160" cy="580680"/>
            <a:chOff x="4876560" y="5334120"/>
            <a:chExt cx="2819160" cy="580680"/>
          </a:xfrm>
        </p:grpSpPr>
        <p:sp>
          <p:nvSpPr>
            <p:cNvPr id="152" name=""/>
            <p:cNvSpPr/>
            <p:nvPr/>
          </p:nvSpPr>
          <p:spPr>
            <a:xfrm>
              <a:off x="5479560" y="5334120"/>
              <a:ext cx="221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nect to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876560" y="563904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5 TitlesBean for obtaining book information from the books database and creating an ArrayList of BookBea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tlesQue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isbn, title, editionNumber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pyright, publisherID, imageFile, pric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FROM titles ORDER BY titl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exceptions during database set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problems locating data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 List of BookBea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getTitl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titles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list of tit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 = titlesQuery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ow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Bean boo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Bea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ISBN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Title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867280" y="4876920"/>
            <a:ext cx="2511720" cy="337320"/>
            <a:chOff x="5867280" y="4876920"/>
            <a:chExt cx="2511720" cy="337320"/>
          </a:xfrm>
        </p:grpSpPr>
        <p:sp>
          <p:nvSpPr>
            <p:cNvPr id="157" name=""/>
            <p:cNvSpPr/>
            <p:nvPr/>
          </p:nvSpPr>
          <p:spPr>
            <a:xfrm>
              <a:off x="6400800" y="4876920"/>
              <a:ext cx="1978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Qu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867280" y="510552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648320" y="5638680"/>
            <a:ext cx="2971440" cy="337320"/>
            <a:chOff x="4648320" y="5638680"/>
            <a:chExt cx="2971440" cy="337320"/>
          </a:xfrm>
        </p:grpSpPr>
        <p:sp>
          <p:nvSpPr>
            <p:cNvPr id="160" name=""/>
            <p:cNvSpPr/>
            <p:nvPr/>
          </p:nvSpPr>
          <p:spPr>
            <a:xfrm>
              <a:off x="5279400" y="5638680"/>
              <a:ext cx="2340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648320" y="586728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866920" y="5867280"/>
            <a:ext cx="2667600" cy="824040"/>
            <a:chOff x="5866920" y="5867280"/>
            <a:chExt cx="2667600" cy="824040"/>
          </a:xfrm>
        </p:grpSpPr>
        <p:sp>
          <p:nvSpPr>
            <p:cNvPr id="163" name=""/>
            <p:cNvSpPr/>
            <p:nvPr/>
          </p:nvSpPr>
          <p:spPr>
            <a:xfrm>
              <a:off x="6438600" y="5867280"/>
              <a:ext cx="209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attribute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lumn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866920" y="61722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5 TitlesBean for obtaining book information from the books database and creating an ArrayList of BookBea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EditionNumb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s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dition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Copyright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righ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PublisherI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s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ImageFile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Price( results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itlesList.add( book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exceptions during database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the list of tit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s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statements and terminat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85840" y="1523880"/>
            <a:ext cx="2895480" cy="580680"/>
            <a:chOff x="3885840" y="1523880"/>
            <a:chExt cx="2895480" cy="580680"/>
          </a:xfrm>
        </p:grpSpPr>
        <p:sp>
          <p:nvSpPr>
            <p:cNvPr id="168" name=""/>
            <p:cNvSpPr/>
            <p:nvPr/>
          </p:nvSpPr>
          <p:spPr>
            <a:xfrm>
              <a:off x="4506120" y="1523880"/>
              <a:ext cx="227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ay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885840" y="18288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5 TitlesBean for obtaining book information from the books database and creating an ArrayList of BookBean object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SQLException on close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ok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BookBean object contains the data for one boo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Bea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, title, copyright, image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ditionNumber, publish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SB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SBN( String isb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ISB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SB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book tit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book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book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book tit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opyright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pyright( String yea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pyright =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copyright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pyrigh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e name of image representing product co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mageFile( String fil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File = 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file name of image representing product co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mageFi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ditio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dition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di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ditionNumber = edi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editio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dition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dition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ublisher ID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ublisherI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blisher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ublisher ID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ublisher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sh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 = am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Case Study: Servlet and JSP Bookstor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19320"/>
            <a:ext cx="777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the Bookstore Application in J2EE 1.2.1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figur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ook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ata Sour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aunching the Cloudscape Database and J2EE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rv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aunching the J2EE Application Deployment Too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eating the Bookstore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eat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ookServ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ToCartServlet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b Compon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dding Non-Servlet Components to the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pecifying the Web Context, Resource References,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NDI Names and Welcome Fil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8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and Executing the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9-1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n XML representation of the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oduct roo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roduc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sbn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getISBN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itle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getTitl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currency formatting object for US doll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Format price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Format.getCurrencyInstance( Locale.U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ice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ceFormatter.format( getPrice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mageFile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ImageFil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638320" y="1295280"/>
            <a:ext cx="2896200" cy="824040"/>
            <a:chOff x="5638320" y="1295280"/>
            <a:chExt cx="2896200" cy="824040"/>
          </a:xfrm>
        </p:grpSpPr>
        <p:sp>
          <p:nvSpPr>
            <p:cNvPr id="181" name=""/>
            <p:cNvSpPr/>
            <p:nvPr/>
          </p:nvSpPr>
          <p:spPr>
            <a:xfrm>
              <a:off x="6258960" y="1295280"/>
              <a:ext cx="227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638320" y="16002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477120" y="1523880"/>
            <a:ext cx="2285640" cy="1310760"/>
            <a:chOff x="6477120" y="1523880"/>
            <a:chExt cx="2285640" cy="1310760"/>
          </a:xfrm>
        </p:grpSpPr>
        <p:sp>
          <p:nvSpPr>
            <p:cNvPr id="184" name=""/>
            <p:cNvSpPr/>
            <p:nvPr/>
          </p:nvSpPr>
          <p:spPr>
            <a:xfrm>
              <a:off x="6965640" y="1523880"/>
              <a:ext cx="1797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Text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pecify the tex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477120" y="18288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809880" y="1676520"/>
            <a:ext cx="3733560" cy="824040"/>
            <a:chOff x="3809880" y="1676520"/>
            <a:chExt cx="3733560" cy="824040"/>
          </a:xfrm>
        </p:grpSpPr>
        <p:sp>
          <p:nvSpPr>
            <p:cNvPr id="187" name=""/>
            <p:cNvSpPr/>
            <p:nvPr/>
          </p:nvSpPr>
          <p:spPr>
            <a:xfrm>
              <a:off x="4609440" y="1676520"/>
              <a:ext cx="2934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s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child of element product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Chi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809880" y="198108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105520" y="3200400"/>
            <a:ext cx="3276000" cy="1067400"/>
            <a:chOff x="5105520" y="3200400"/>
            <a:chExt cx="3276000" cy="1067400"/>
          </a:xfrm>
        </p:grpSpPr>
        <p:sp>
          <p:nvSpPr>
            <p:cNvPr id="190" name=""/>
            <p:cNvSpPr/>
            <p:nvPr/>
          </p:nvSpPr>
          <p:spPr>
            <a:xfrm>
              <a:off x="5807160" y="3200400"/>
              <a:ext cx="2574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mber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formats currency for the U.S. local to format the book price in US dolla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105520" y="35053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038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pyright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righ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Copyrigh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ublisherID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PublisherID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ditionNumber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dition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String.valueOf( getEditionNumber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produc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7 JSP books.jsp returns to the client an XHTML document containing the book li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ooks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JSP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langu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store.*, java.util.*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s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egin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link r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vailable Book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a link to view book inform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%-- begin JSP scriptlet to create list of book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sBean titlesBea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sBea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titles = titlesBean.getTitl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Bean current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638320" y="1523880"/>
            <a:ext cx="1905480" cy="580680"/>
            <a:chOff x="5638320" y="1523880"/>
            <a:chExt cx="1905480" cy="580680"/>
          </a:xfrm>
        </p:grpSpPr>
        <p:sp>
          <p:nvSpPr>
            <p:cNvPr id="197" name=""/>
            <p:cNvSpPr/>
            <p:nvPr/>
          </p:nvSpPr>
          <p:spPr>
            <a:xfrm>
              <a:off x="6046560" y="1523880"/>
              <a:ext cx="149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e JSP page sett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638320" y="182880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105160" y="5867280"/>
            <a:ext cx="2575080" cy="337320"/>
            <a:chOff x="5105160" y="5867280"/>
            <a:chExt cx="2575080" cy="337320"/>
          </a:xfrm>
        </p:grpSpPr>
        <p:sp>
          <p:nvSpPr>
            <p:cNvPr id="200" name=""/>
            <p:cNvSpPr/>
            <p:nvPr/>
          </p:nvSpPr>
          <p:spPr>
            <a:xfrm>
              <a:off x="5638680" y="5867280"/>
              <a:ext cx="2041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105160" y="6019920"/>
              <a:ext cx="51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648320" y="5867280"/>
            <a:ext cx="4419000" cy="580680"/>
            <a:chOff x="4648320" y="5867280"/>
            <a:chExt cx="4419000" cy="580680"/>
          </a:xfrm>
        </p:grpSpPr>
        <p:sp>
          <p:nvSpPr>
            <p:cNvPr id="203" name=""/>
            <p:cNvSpPr/>
            <p:nvPr/>
          </p:nvSpPr>
          <p:spPr>
            <a:xfrm>
              <a:off x="5594760" y="5867280"/>
              <a:ext cx="3472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Tit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48320" y="617220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7 JSP books.jsp returns to the client an XHTML document containing the book li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titles in session for further 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tl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an Iterator to the set of keys in the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title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the Iterator to get each BookBean and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 link to each 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Book = ( BookBean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literal XHTML and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JSP expressions output from this loop    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link to a book's information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pan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playBook?isbn=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Book.getISBN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Book.getTitl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currentBook.getEditionNumber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"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span&gt;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lo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029200" y="228600"/>
            <a:ext cx="3200040" cy="824040"/>
            <a:chOff x="5029200" y="228600"/>
            <a:chExt cx="3200040" cy="824040"/>
          </a:xfrm>
        </p:grpSpPr>
        <p:sp>
          <p:nvSpPr>
            <p:cNvPr id="208" name=""/>
            <p:cNvSpPr/>
            <p:nvPr/>
          </p:nvSpPr>
          <p:spPr>
            <a:xfrm>
              <a:off x="5712480" y="228600"/>
              <a:ext cx="251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ssion attribute to st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user later in the client’s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0292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723920" y="762120"/>
            <a:ext cx="2362320" cy="580680"/>
            <a:chOff x="4723920" y="762120"/>
            <a:chExt cx="2362320" cy="580680"/>
          </a:xfrm>
        </p:grpSpPr>
        <p:sp>
          <p:nvSpPr>
            <p:cNvPr id="211" name=""/>
            <p:cNvSpPr/>
            <p:nvPr/>
          </p:nvSpPr>
          <p:spPr>
            <a:xfrm>
              <a:off x="5230080" y="762120"/>
              <a:ext cx="185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23920" y="106704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62720" y="1905120"/>
            <a:ext cx="3352680" cy="1523880"/>
            <a:chOff x="5562720" y="1905120"/>
            <a:chExt cx="3352680" cy="1523880"/>
          </a:xfrm>
        </p:grpSpPr>
        <p:sp>
          <p:nvSpPr>
            <p:cNvPr id="214" name=""/>
            <p:cNvSpPr/>
            <p:nvPr/>
          </p:nvSpPr>
          <p:spPr>
            <a:xfrm>
              <a:off x="5562720" y="1905120"/>
              <a:ext cx="3352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a JSP expression to insert the book’s ISBN number as the value in a name/value pair that is passed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let as an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477120" y="29718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715000" y="3581280"/>
            <a:ext cx="3200040" cy="1067400"/>
            <a:chOff x="5715000" y="3581280"/>
            <a:chExt cx="3200040" cy="1067400"/>
          </a:xfrm>
        </p:grpSpPr>
        <p:sp>
          <p:nvSpPr>
            <p:cNvPr id="217" name=""/>
            <p:cNvSpPr/>
            <p:nvPr/>
          </p:nvSpPr>
          <p:spPr>
            <a:xfrm>
              <a:off x="6399000" y="3581280"/>
              <a:ext cx="2516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nother JSP expression to insert the book’s title and edition number as the text displayed for the hyperlin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715000" y="38862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7 JSP books.jsp returns to the client an XHTML document containing the book li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storeb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5818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Viewing a Book’s Detai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orms XML into and XHTML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.x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SL style sheet used in trans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8 BookServlet obtains the XML representation of a book and applies an XSL transformation to output an XHTML document as the response to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ok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let to return one book's information to the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ervlet produces XML which is transformed with XSL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e the client XHTML p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parser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strea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xml.sax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questDispatcher to forward client to bookstore ho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ge if no session exists or no books are 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Dispatcher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RequestDispatch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index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791320" y="4952880"/>
            <a:ext cx="3276000" cy="580680"/>
            <a:chOff x="5791320" y="4952880"/>
            <a:chExt cx="3276000" cy="580680"/>
          </a:xfrm>
        </p:grpSpPr>
        <p:sp>
          <p:nvSpPr>
            <p:cNvPr id="226" name=""/>
            <p:cNvSpPr/>
            <p:nvPr/>
          </p:nvSpPr>
          <p:spPr>
            <a:xfrm>
              <a:off x="6492960" y="4952880"/>
              <a:ext cx="2574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urrent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791320" y="525780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029200" y="5715000"/>
            <a:ext cx="3733560" cy="580680"/>
            <a:chOff x="5029200" y="5715000"/>
            <a:chExt cx="3733560" cy="580680"/>
          </a:xfrm>
        </p:grpSpPr>
        <p:sp>
          <p:nvSpPr>
            <p:cNvPr id="229" name=""/>
            <p:cNvSpPr/>
            <p:nvPr/>
          </p:nvSpPr>
          <p:spPr>
            <a:xfrm>
              <a:off x="5828760" y="5715000"/>
              <a:ext cx="2934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Dispatc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/index.html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029200" y="60199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8 BookServlet obtains the XML representation of a book and applies an XSL transformation to output an XHTML document as the response to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0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8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session does not exist, forward to index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ooks from session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titl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List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cate BookBean object for selected 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title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Bean boo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sb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ok = ( BookBean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bn.equals( book.getISBN()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ave the book in a session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ToAd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oo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bn matches current 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book is not in list, forward to index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ook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XML document and transform for browse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 DocumentBuilderFactory for cre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 DocumentBuilder (i.e., an XML pars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Factory 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Build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23920" y="990720"/>
            <a:ext cx="3124440" cy="580680"/>
            <a:chOff x="4723920" y="990720"/>
            <a:chExt cx="3124440" cy="580680"/>
          </a:xfrm>
        </p:grpSpPr>
        <p:sp>
          <p:nvSpPr>
            <p:cNvPr id="234" name=""/>
            <p:cNvSpPr/>
            <p:nvPr/>
          </p:nvSpPr>
          <p:spPr>
            <a:xfrm>
              <a:off x="5392080" y="990720"/>
              <a:ext cx="2456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Lis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rom the sessio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723920" y="129564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191120" y="2590920"/>
            <a:ext cx="4038120" cy="580680"/>
            <a:chOff x="4191120" y="2590920"/>
            <a:chExt cx="4038120" cy="580680"/>
          </a:xfrm>
        </p:grpSpPr>
        <p:sp>
          <p:nvSpPr>
            <p:cNvPr id="237" name=""/>
            <p:cNvSpPr/>
            <p:nvPr/>
          </p:nvSpPr>
          <p:spPr>
            <a:xfrm>
              <a:off x="5055840" y="2590920"/>
              <a:ext cx="3173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 a linear search to loc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selected boo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191120" y="289584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724280" y="6019920"/>
            <a:ext cx="4038840" cy="580680"/>
            <a:chOff x="4724280" y="6019920"/>
            <a:chExt cx="4038840" cy="580680"/>
          </a:xfrm>
        </p:grpSpPr>
        <p:sp>
          <p:nvSpPr>
            <p:cNvPr id="240" name=""/>
            <p:cNvSpPr/>
            <p:nvPr/>
          </p:nvSpPr>
          <p:spPr>
            <a:xfrm>
              <a:off x="5589360" y="6019920"/>
              <a:ext cx="3173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an XML par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632484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8 BookServlet obtains the XML representation of a book and applies an XSL transformation to output an XHTML document as the response to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3-8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 DocumentBuilder for building the DOM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new Document (empty DOM tre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messageDocument = builder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XML from BookBean and append to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bookElement = book.getXML( message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Document.appendChild( book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ntWriter for writing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InputStream for XSL docu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eam xsl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sourceAsStrea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book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ransform XML document using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( messageDocument, xslStream, o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lush and close Print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flus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XML parser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c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c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86200" y="380880"/>
            <a:ext cx="5028840" cy="1067400"/>
            <a:chOff x="3886200" y="380880"/>
            <a:chExt cx="5028840" cy="1067400"/>
          </a:xfrm>
        </p:grpSpPr>
        <p:sp>
          <p:nvSpPr>
            <p:cNvPr id="245" name=""/>
            <p:cNvSpPr/>
            <p:nvPr/>
          </p:nvSpPr>
          <p:spPr>
            <a:xfrm>
              <a:off x="4963320" y="380880"/>
              <a:ext cx="3951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ser object that enables the program to create a Document object tree in which the XML document elements are represent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886200" y="68580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66920" y="1143000"/>
            <a:ext cx="3124440" cy="824040"/>
            <a:chOff x="5866920" y="1143000"/>
            <a:chExt cx="3124440" cy="824040"/>
          </a:xfrm>
        </p:grpSpPr>
        <p:sp>
          <p:nvSpPr>
            <p:cNvPr id="248" name=""/>
            <p:cNvSpPr/>
            <p:nvPr/>
          </p:nvSpPr>
          <p:spPr>
            <a:xfrm>
              <a:off x="6535080" y="1143000"/>
              <a:ext cx="2456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866920" y="14479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1676520"/>
            <a:ext cx="2743200" cy="1310760"/>
            <a:chOff x="6324480" y="1676520"/>
            <a:chExt cx="2743200" cy="1310760"/>
          </a:xfrm>
        </p:grpSpPr>
        <p:sp>
          <p:nvSpPr>
            <p:cNvPr id="251" name=""/>
            <p:cNvSpPr/>
            <p:nvPr/>
          </p:nvSpPr>
          <p:spPr>
            <a:xfrm>
              <a:off x="6912000" y="1676520"/>
              <a:ext cx="2155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obtain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ation of the boo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24480" y="198108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105520" y="2514600"/>
            <a:ext cx="3733200" cy="824040"/>
            <a:chOff x="5105520" y="2514600"/>
            <a:chExt cx="3733200" cy="824040"/>
          </a:xfrm>
        </p:grpSpPr>
        <p:sp>
          <p:nvSpPr>
            <p:cNvPr id="254" name=""/>
            <p:cNvSpPr/>
            <p:nvPr/>
          </p:nvSpPr>
          <p:spPr>
            <a:xfrm>
              <a:off x="5905080" y="2514600"/>
              <a:ext cx="293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e response content type and 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utput the response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105520" y="28195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800240" y="3200400"/>
            <a:ext cx="3886560" cy="824040"/>
            <a:chOff x="4800240" y="3200400"/>
            <a:chExt cx="3886560" cy="824040"/>
          </a:xfrm>
        </p:grpSpPr>
        <p:sp>
          <p:nvSpPr>
            <p:cNvPr id="257" name=""/>
            <p:cNvSpPr/>
            <p:nvPr/>
          </p:nvSpPr>
          <p:spPr>
            <a:xfrm>
              <a:off x="5632920" y="3200400"/>
              <a:ext cx="305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will be used by the XSL transformation processor to read the XSL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800240" y="35053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8 BookServlet obtains the XML representation of a book and applies an XSL transformation to output an XHTML document as the response to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5-1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6-12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 XML document using provided XSLT InputStrea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write resulting document to provided Print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( Document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Stream xslStream, PrintWriter 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MSource for sourc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mlSour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Source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Source for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slSourc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Source( xsl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Result for transformatio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resul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Result(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erFactory to obtain a Transfor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Factory transformer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er for performing XSL trans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 transfor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Transformer( xslSour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erform transformation and deliver cont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transform( xmlSource, resul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transform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ormerException transform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Exception.printStackTrace( System.er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638680" y="1295280"/>
            <a:ext cx="2743200" cy="824040"/>
            <a:chOff x="5638680" y="1295280"/>
            <a:chExt cx="2743200" cy="824040"/>
          </a:xfrm>
        </p:grpSpPr>
        <p:sp>
          <p:nvSpPr>
            <p:cNvPr id="262" name=""/>
            <p:cNvSpPr/>
            <p:nvPr/>
          </p:nvSpPr>
          <p:spPr>
            <a:xfrm>
              <a:off x="6226200" y="1295280"/>
              <a:ext cx="215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represents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638680" y="160020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09880" y="1905120"/>
            <a:ext cx="2743200" cy="580680"/>
            <a:chOff x="3809880" y="1905120"/>
            <a:chExt cx="2743200" cy="580680"/>
          </a:xfrm>
        </p:grpSpPr>
        <p:sp>
          <p:nvSpPr>
            <p:cNvPr id="265" name=""/>
            <p:cNvSpPr/>
            <p:nvPr/>
          </p:nvSpPr>
          <p:spPr>
            <a:xfrm>
              <a:off x="4397400" y="1905120"/>
              <a:ext cx="2155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XSL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809880" y="221004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410080" y="2590920"/>
            <a:ext cx="3200040" cy="1067400"/>
            <a:chOff x="5410080" y="2590920"/>
            <a:chExt cx="3200040" cy="1067400"/>
          </a:xfrm>
        </p:grpSpPr>
        <p:sp>
          <p:nvSpPr>
            <p:cNvPr id="268" name=""/>
            <p:cNvSpPr/>
            <p:nvPr/>
          </p:nvSpPr>
          <p:spPr>
            <a:xfrm>
              <a:off x="6094080" y="2590920"/>
              <a:ext cx="2516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Res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er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which the results of the XSL transformation are writt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410080" y="28954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10080" y="3886200"/>
            <a:ext cx="3276360" cy="824040"/>
            <a:chOff x="5410080" y="3886200"/>
            <a:chExt cx="3276360" cy="824040"/>
          </a:xfrm>
        </p:grpSpPr>
        <p:sp>
          <p:nvSpPr>
            <p:cNvPr id="271" name=""/>
            <p:cNvSpPr/>
            <p:nvPr/>
          </p:nvSpPr>
          <p:spPr>
            <a:xfrm>
              <a:off x="6111720" y="3886200"/>
              <a:ext cx="2574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410080" y="41911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486040" y="4648320"/>
            <a:ext cx="3581280" cy="1554120"/>
            <a:chOff x="5486040" y="4648320"/>
            <a:chExt cx="3581280" cy="1554120"/>
          </a:xfrm>
        </p:grpSpPr>
        <p:sp>
          <p:nvSpPr>
            <p:cNvPr id="274" name=""/>
            <p:cNvSpPr/>
            <p:nvPr/>
          </p:nvSpPr>
          <p:spPr>
            <a:xfrm>
              <a:off x="6253200" y="4648320"/>
              <a:ext cx="28141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XSL transformation on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writes the result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Res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49528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tore Web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EE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ttp://java.sun.com/j2ee/download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9 XSL style sheet (books.xsl) that transforms a book’s XML representation into an XHTML docum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 and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xmlns:xs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output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mit-xml-declara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den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system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w3.org/TR/xhtml1/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doctype-publi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ook.xsl            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SL document that transforms XML into X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template matc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obtain book title from JSP to place in titl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38320" y="4114800"/>
            <a:ext cx="3413520" cy="1371600"/>
            <a:chOff x="5638320" y="4114800"/>
            <a:chExt cx="3413520" cy="1371600"/>
          </a:xfrm>
        </p:grpSpPr>
        <p:sp>
          <p:nvSpPr>
            <p:cNvPr id="279" name=""/>
            <p:cNvSpPr/>
            <p:nvPr/>
          </p:nvSpPr>
          <p:spPr>
            <a:xfrm>
              <a:off x="6400800" y="4114800"/>
              <a:ext cx="2651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the book’s title in the documen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and in a paragraph at the beginning of the documen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, respectiv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5638320" y="44197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714640" y="48006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9 XSL style sheet (books.xsl) that transforms a book’s XML representation into an XHTML docum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, 51, 59 and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 for product imag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rowspa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ell spans 5 row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bord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n solid black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r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Fi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{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s for price in row 1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s for ISBN in row 2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 #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s for edition in row 3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dition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ditionNumb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s for copyright in row 4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Copyright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righ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638680" y="457200"/>
            <a:ext cx="3276360" cy="1554120"/>
            <a:chOff x="5638680" y="457200"/>
            <a:chExt cx="3276360" cy="1554120"/>
          </a:xfrm>
        </p:grpSpPr>
        <p:sp>
          <p:nvSpPr>
            <p:cNvPr id="285" name=""/>
            <p:cNvSpPr/>
            <p:nvPr/>
          </p:nvSpPr>
          <p:spPr>
            <a:xfrm>
              <a:off x="6340320" y="457200"/>
              <a:ext cx="25747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i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in which the valu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of an XML document specifies the name of the file representing the book’s cover im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638680" y="7621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2360" y="2057400"/>
            <a:ext cx="3326040" cy="4267080"/>
            <a:chOff x="5562360" y="2057400"/>
            <a:chExt cx="3326040" cy="4267080"/>
          </a:xfrm>
        </p:grpSpPr>
        <p:sp>
          <p:nvSpPr>
            <p:cNvPr id="288" name=""/>
            <p:cNvSpPr/>
            <p:nvPr/>
          </p:nvSpPr>
          <p:spPr>
            <a:xfrm>
              <a:off x="6553080" y="3505320"/>
              <a:ext cx="233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the book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ion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pyr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able ce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638680" y="35053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715000" y="3962520"/>
              <a:ext cx="838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562360" y="2057400"/>
              <a:ext cx="99036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866920" y="3962520"/>
              <a:ext cx="68580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9 XSL style sheet (books.xsl) that transforms a book’s XML representation into an XHTML docum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Add to Cart button in row 5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View Cart button in row 5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 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tml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9 XSL style sheet (books.xsl) that transforms a book’s XML representation into an XHTML docum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storec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53146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 Adding an Item to the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To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s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Item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items in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0 CartItemBeans contain a BookBean and the quantity of a book in the shopping car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tItem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hat maintains a book and its quant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tItemBea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Bean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 CartIte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tItemBean( BookBean bookToAd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 = bookToAd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quantity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book (this is a read-only property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Bean getBook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Quanti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quantity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Quanti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1 AddToCartServlet places an item in the shopping cart and invokes viewCart.jsp to display the cart conte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-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3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To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let to add a book to the shopping 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Dispatcher dispatc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session does not exist, forward to index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quest.getRequestDispatch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/index.htm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ssion exists, get cart Map and book to ad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p cart = ( Map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Bean book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BookBean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ToAd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rt does not exist, create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r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r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715000" y="3124080"/>
            <a:ext cx="3200040" cy="580680"/>
            <a:chOff x="5715000" y="3124080"/>
            <a:chExt cx="3200040" cy="580680"/>
          </a:xfrm>
        </p:grpSpPr>
        <p:sp>
          <p:nvSpPr>
            <p:cNvPr id="304" name=""/>
            <p:cNvSpPr/>
            <p:nvPr/>
          </p:nvSpPr>
          <p:spPr>
            <a:xfrm>
              <a:off x="6399000" y="3124080"/>
              <a:ext cx="251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urrent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715000" y="34290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505320" y="3886200"/>
            <a:ext cx="4800240" cy="580680"/>
            <a:chOff x="3505320" y="3886200"/>
            <a:chExt cx="4800240" cy="580680"/>
          </a:xfrm>
        </p:grpSpPr>
        <p:sp>
          <p:nvSpPr>
            <p:cNvPr id="307" name=""/>
            <p:cNvSpPr/>
            <p:nvPr/>
          </p:nvSpPr>
          <p:spPr>
            <a:xfrm>
              <a:off x="4533480" y="3886200"/>
              <a:ext cx="3772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s the request to the bookstore home p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ex.ht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a session does not ex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505320" y="4191120"/>
              <a:ext cx="10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715000" y="5105520"/>
            <a:ext cx="2514600" cy="580680"/>
            <a:chOff x="5715000" y="5105520"/>
            <a:chExt cx="2514600" cy="580680"/>
          </a:xfrm>
        </p:grpSpPr>
        <p:sp>
          <p:nvSpPr>
            <p:cNvPr id="310" name=""/>
            <p:cNvSpPr/>
            <p:nvPr/>
          </p:nvSpPr>
          <p:spPr>
            <a:xfrm>
              <a:off x="6253560" y="5105520"/>
              <a:ext cx="197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value of session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715000" y="54104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333760" y="5410080"/>
            <a:ext cx="3124080" cy="580680"/>
            <a:chOff x="5333760" y="5410080"/>
            <a:chExt cx="3124080" cy="580680"/>
          </a:xfrm>
        </p:grpSpPr>
        <p:sp>
          <p:nvSpPr>
            <p:cNvPr id="313" name=""/>
            <p:cNvSpPr/>
            <p:nvPr/>
          </p:nvSpPr>
          <p:spPr>
            <a:xfrm>
              <a:off x="6003000" y="5410080"/>
              <a:ext cx="2454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value of session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ToAd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333760" y="57150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123720" y="6022800"/>
            <a:ext cx="5868000" cy="580680"/>
            <a:chOff x="3123720" y="6022800"/>
            <a:chExt cx="5868000" cy="580680"/>
          </a:xfrm>
        </p:grpSpPr>
        <p:sp>
          <p:nvSpPr>
            <p:cNvPr id="316" name=""/>
            <p:cNvSpPr/>
            <p:nvPr/>
          </p:nvSpPr>
          <p:spPr>
            <a:xfrm>
              <a:off x="3886200" y="6022800"/>
              <a:ext cx="5105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sh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tore the cart contents and pla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sh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 of the sessio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123720" y="6400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1 AddToCartServlet places an item in the shopping cart and invokes viewCart.jsp to display the cart conte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2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3-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the cart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if book is in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tItemBean cart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CartItemBean ) cart.get( book.getISB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book is already in cart, update its quant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therwise, create an entry in the 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rtItem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rtItem.setQuantity( cartItem.getQuantity() + 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rt.put( book.getISBN(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tItemBean( book, 1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the user to viewCart.js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RequestDispatch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viewCart.jsp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876560" y="1219320"/>
            <a:ext cx="3657600" cy="580680"/>
            <a:chOff x="4876560" y="1219320"/>
            <a:chExt cx="3657600" cy="580680"/>
          </a:xfrm>
        </p:grpSpPr>
        <p:sp>
          <p:nvSpPr>
            <p:cNvPr id="321" name=""/>
            <p:cNvSpPr/>
            <p:nvPr/>
          </p:nvSpPr>
          <p:spPr>
            <a:xfrm>
              <a:off x="5658840" y="1219320"/>
              <a:ext cx="287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Item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book being added to the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876560" y="152424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171840" y="2209680"/>
            <a:ext cx="2819520" cy="580680"/>
            <a:chOff x="6171840" y="2209680"/>
            <a:chExt cx="2819520" cy="580680"/>
          </a:xfrm>
        </p:grpSpPr>
        <p:sp>
          <p:nvSpPr>
            <p:cNvPr id="324" name=""/>
            <p:cNvSpPr/>
            <p:nvPr/>
          </p:nvSpPr>
          <p:spPr>
            <a:xfrm>
              <a:off x="6774840" y="2209680"/>
              <a:ext cx="221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ments the quantity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Item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171840" y="25146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705360" y="2590920"/>
            <a:ext cx="2133720" cy="1310760"/>
            <a:chOff x="6705360" y="2590920"/>
            <a:chExt cx="2133720" cy="1310760"/>
          </a:xfrm>
        </p:grpSpPr>
        <p:sp>
          <p:nvSpPr>
            <p:cNvPr id="327" name=""/>
            <p:cNvSpPr/>
            <p:nvPr/>
          </p:nvSpPr>
          <p:spPr>
            <a:xfrm>
              <a:off x="7163280" y="2590920"/>
              <a:ext cx="1675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Item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quantity of 1 and put it into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705360" y="289548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262480" y="3200400"/>
            <a:ext cx="3805200" cy="824040"/>
            <a:chOff x="5262480" y="3200400"/>
            <a:chExt cx="3805200" cy="824040"/>
          </a:xfrm>
        </p:grpSpPr>
        <p:sp>
          <p:nvSpPr>
            <p:cNvPr id="330" name=""/>
            <p:cNvSpPr/>
            <p:nvPr/>
          </p:nvSpPr>
          <p:spPr>
            <a:xfrm>
              <a:off x="5867280" y="32004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Dispatc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JSP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.js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processing of the request to that JS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262480" y="3505320"/>
              <a:ext cx="60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Viewing the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Cart.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ct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tItemBe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from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totals each item in the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tals all the items in the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n XHTML document to view the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viewCart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JSP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langu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s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store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util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text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start scriptlet to display shopping cart content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ap cart = ( Map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r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cart.size() == 0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Shopping cart is currently empty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variables used in display of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 cartItems = cart.keyS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cartItem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562720" y="4572000"/>
            <a:ext cx="3428640" cy="580680"/>
            <a:chOff x="5562720" y="4572000"/>
            <a:chExt cx="3428640" cy="580680"/>
          </a:xfrm>
        </p:grpSpPr>
        <p:sp>
          <p:nvSpPr>
            <p:cNvPr id="337" name=""/>
            <p:cNvSpPr/>
            <p:nvPr/>
          </p:nvSpPr>
          <p:spPr>
            <a:xfrm>
              <a:off x="6297840" y="4572000"/>
              <a:ext cx="2693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the session attribute for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62720" y="48769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Bookstore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tier distributed Web-base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s and serv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5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Bean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tItemBean cart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, subtot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for literal XHTML outpu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head&gt;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&gt;&lt;/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get book data; calculate subtotal and tot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rtItem = ( CartItemBean ) cart.get( iterator.n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ok = cartItem.getBoo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antity = cartItem.getQuant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ce = book.getPr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btotal = quantity *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 += subtot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for literal XHTML and  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JSP expressions output from this loo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200040" y="2133720"/>
            <a:ext cx="3352680" cy="824040"/>
            <a:chOff x="3200040" y="2133720"/>
            <a:chExt cx="3352680" cy="824040"/>
          </a:xfrm>
        </p:grpSpPr>
        <p:sp>
          <p:nvSpPr>
            <p:cNvPr id="342" name=""/>
            <p:cNvSpPr/>
            <p:nvPr/>
          </p:nvSpPr>
          <p:spPr>
            <a:xfrm>
              <a:off x="3918240" y="2133720"/>
              <a:ext cx="2634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the literal XHTML markup that begins the table that appears in the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200040" y="2438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038480" y="3505320"/>
            <a:ext cx="4800240" cy="1310760"/>
            <a:chOff x="4038480" y="3505320"/>
            <a:chExt cx="4800240" cy="1310760"/>
          </a:xfrm>
        </p:grpSpPr>
        <p:sp>
          <p:nvSpPr>
            <p:cNvPr id="345" name=""/>
            <p:cNvSpPr/>
            <p:nvPr/>
          </p:nvSpPr>
          <p:spPr>
            <a:xfrm>
              <a:off x="5066640" y="3505320"/>
              <a:ext cx="3772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while loop uses each key in the Map to obtain the correspon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Item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extracts the data from that bean, calculates the dollar subtotal for that product and calculates the dollar total for all produ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038480" y="3809880"/>
              <a:ext cx="10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8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5-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display table row of book title, quantity,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price and subtotal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.getTitl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imalForma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format( pri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 righ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imalForm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format( subtota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      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while lo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for literal XHTML and  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display table row containing shopping cart total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olspa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 righ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imalForma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format( total 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440" y="380880"/>
            <a:ext cx="3657960" cy="580680"/>
            <a:chOff x="4114440" y="380880"/>
            <a:chExt cx="3657960" cy="580680"/>
          </a:xfrm>
        </p:grpSpPr>
        <p:sp>
          <p:nvSpPr>
            <p:cNvPr id="350" name=""/>
            <p:cNvSpPr/>
            <p:nvPr/>
          </p:nvSpPr>
          <p:spPr>
            <a:xfrm>
              <a:off x="4898160" y="380880"/>
              <a:ext cx="287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preceding data is formatted into a row in the XHTML t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114440" y="6858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257440" y="4952880"/>
            <a:ext cx="2590920" cy="580680"/>
            <a:chOff x="5257440" y="4952880"/>
            <a:chExt cx="2590920" cy="580680"/>
          </a:xfrm>
        </p:grpSpPr>
        <p:sp>
          <p:nvSpPr>
            <p:cNvPr id="353" name=""/>
            <p:cNvSpPr/>
            <p:nvPr/>
          </p:nvSpPr>
          <p:spPr>
            <a:xfrm>
              <a:off x="5812560" y="4952880"/>
              <a:ext cx="2035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the dollar total of all items in the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257440" y="525780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make current total a session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( tota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f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link back to books.jsp to continue shopping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 gre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s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e Shopp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orm to proceed to checkou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095520" y="609480"/>
            <a:ext cx="2667600" cy="580680"/>
            <a:chOff x="6095520" y="609480"/>
            <a:chExt cx="2667600" cy="580680"/>
          </a:xfrm>
        </p:grpSpPr>
        <p:sp>
          <p:nvSpPr>
            <p:cNvPr id="358" name=""/>
            <p:cNvSpPr/>
            <p:nvPr/>
          </p:nvSpPr>
          <p:spPr>
            <a:xfrm>
              <a:off x="6667200" y="609480"/>
              <a:ext cx="2095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a session attribute containing the tot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095520" y="9144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stored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55814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Checking 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order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 Check Ou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Form to input user information and credit card.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Note: No need to input real data in this example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-weight: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lease input the following information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table of form elemen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b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ty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ip cod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one #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 Card #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iration (mm/yy)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ires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ires2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enable user to submit the form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storee" descr=""/>
          <p:cNvPicPr/>
          <p:nvPr/>
        </p:nvPicPr>
        <p:blipFill>
          <a:blip r:embed="rId1"/>
          <a:stretch/>
        </p:blipFill>
        <p:spPr>
          <a:xfrm>
            <a:off x="905040" y="76320"/>
            <a:ext cx="5572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Bookstore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527720" cy="1658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62080" y="4572000"/>
            <a:ext cx="51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2Bug.com bookstore component inter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9 Processing the Or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cess.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alize the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the user’s credit-car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order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4 JSP process.jsp performs the final order process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process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JSP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langu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s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text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k You!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order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 d = ( Double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 total = d.double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alidate session because processing is comp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ssion.invali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k You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order has been processed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943600" y="3886200"/>
            <a:ext cx="2286000" cy="580680"/>
            <a:chOff x="5943600" y="3886200"/>
            <a:chExt cx="2286000" cy="580680"/>
          </a:xfrm>
        </p:grpSpPr>
        <p:sp>
          <p:nvSpPr>
            <p:cNvPr id="379" name=""/>
            <p:cNvSpPr/>
            <p:nvPr/>
          </p:nvSpPr>
          <p:spPr>
            <a:xfrm>
              <a:off x="6433200" y="3886200"/>
              <a:ext cx="179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session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943600" y="4191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047760" y="4648320"/>
            <a:ext cx="3657600" cy="824040"/>
            <a:chOff x="3047760" y="4648320"/>
            <a:chExt cx="3657600" cy="824040"/>
          </a:xfrm>
        </p:grpSpPr>
        <p:sp>
          <p:nvSpPr>
            <p:cNvPr id="382" name=""/>
            <p:cNvSpPr/>
            <p:nvPr/>
          </p:nvSpPr>
          <p:spPr>
            <a:xfrm>
              <a:off x="3830040" y="4648320"/>
              <a:ext cx="287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card the session object for the current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047760" y="495288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4 JSP process.jsp performs the final order process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credit card has been bill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pan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$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imalForm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format( total 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p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6" name="storef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5572080" cy="276228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6171840" y="380880"/>
            <a:ext cx="2819520" cy="824040"/>
            <a:chOff x="6171840" y="380880"/>
            <a:chExt cx="2819520" cy="824040"/>
          </a:xfrm>
        </p:grpSpPr>
        <p:sp>
          <p:nvSpPr>
            <p:cNvPr id="388" name=""/>
            <p:cNvSpPr/>
            <p:nvPr/>
          </p:nvSpPr>
          <p:spPr>
            <a:xfrm>
              <a:off x="6774840" y="380880"/>
              <a:ext cx="221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a JSP expression to insert the dollar total of all items purcha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171840" y="6858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 Deploying the Bookstore Application in J2EE 1.2.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and install J2EE 1.2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Bookstore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gur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unch the Cloudscape database server and J2E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unc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pplication Deployment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new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library JA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new Web component for the Book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new Web component for the AddToCart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nonservlet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e Web con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e database re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 Deploying the Bookstore Application in J2EE 1.2.1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up the JNDI name for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up the welco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 th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th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1 Configure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 Sour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the Cloudscape data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ify default.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jdbc/books|jdbc:cloudscape:rmi:books;create=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30481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NDI name for th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5146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31240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BC 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02920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database if the database does not already ex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2 Launching the Cloudscape Database and J2EE Serv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 the Cloudscap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oudscape -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he J2E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2ee -verb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the J2E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2ee -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3 Launching the J2EE Application Deployment Too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Deployment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s the deployment descripto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s all components into an EA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 Application Deployment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ploy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3 Launching the J2EE Application Deployment Tool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07" name="deploy1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876560" cy="363852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1828800" y="1219320"/>
            <a:ext cx="1676520" cy="1371600"/>
            <a:chOff x="1828800" y="1219320"/>
            <a:chExt cx="1676520" cy="1371600"/>
          </a:xfrm>
        </p:grpSpPr>
        <p:sp>
          <p:nvSpPr>
            <p:cNvPr id="409" name=""/>
            <p:cNvSpPr/>
            <p:nvPr/>
          </p:nvSpPr>
          <p:spPr>
            <a:xfrm>
              <a:off x="1828800" y="1219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86000" y="1523880"/>
              <a:ext cx="3808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657600" y="1295280"/>
            <a:ext cx="2057400" cy="1219320"/>
            <a:chOff x="3657600" y="1295280"/>
            <a:chExt cx="2057400" cy="1219320"/>
          </a:xfrm>
        </p:grpSpPr>
        <p:sp>
          <p:nvSpPr>
            <p:cNvPr id="412" name=""/>
            <p:cNvSpPr/>
            <p:nvPr/>
          </p:nvSpPr>
          <p:spPr>
            <a:xfrm>
              <a:off x="3657600" y="12952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 Web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657600" y="160020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257800" y="1523880"/>
            <a:ext cx="1447920" cy="990720"/>
            <a:chOff x="5257800" y="1523880"/>
            <a:chExt cx="1447920" cy="990720"/>
          </a:xfrm>
        </p:grpSpPr>
        <p:sp>
          <p:nvSpPr>
            <p:cNvPr id="415" name=""/>
            <p:cNvSpPr/>
            <p:nvPr/>
          </p:nvSpPr>
          <p:spPr>
            <a:xfrm>
              <a:off x="5943600" y="1523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257800" y="182880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52280" y="2895480"/>
            <a:ext cx="2514600" cy="824040"/>
            <a:chOff x="152280" y="2895480"/>
            <a:chExt cx="2514600" cy="824040"/>
          </a:xfrm>
        </p:grpSpPr>
        <p:sp>
          <p:nvSpPr>
            <p:cNvPr id="418" name=""/>
            <p:cNvSpPr/>
            <p:nvPr/>
          </p:nvSpPr>
          <p:spPr>
            <a:xfrm>
              <a:off x="152280" y="289548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 names and application component names appear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35268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368080" y="5867280"/>
            <a:ext cx="47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ployment Tool main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4 Creating the Bookstore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 App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in fiel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 App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deploy2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076640" cy="1400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746080" y="4572000"/>
            <a:ext cx="32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Application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Bookstore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607400" y="5867280"/>
            <a:ext cx="63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 (Part 1 of 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let and JSP components for bookstore case stu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4 Creating the Bookstor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6" name="deploy3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240240" cy="5220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850320" y="6248520"/>
            <a:ext cx="736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ployment Tool main window after creating a new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BookServlet and AddToCartServlet Web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iz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kServ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eb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ToCartServ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eb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1" name="deploy6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11960" cy="49532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58240" y="6172200"/>
            <a:ext cx="54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Introduction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4" name="deploy7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459320" cy="4671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000080" y="6095880"/>
            <a:ext cx="68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WAR File General Properti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7" name=""/>
          <p:cNvSpPr/>
          <p:nvPr/>
        </p:nvSpPr>
        <p:spPr>
          <a:xfrm>
            <a:off x="1909800" y="6172200"/>
            <a:ext cx="50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ontent Fil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deploy8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0" name="deploy9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215080" y="6172200"/>
            <a:ext cx="488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lass Fil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3" name="deploy10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838760" cy="3114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593440" y="5181480"/>
            <a:ext cx="37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Root Directory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6" name="deploy11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380960" y="6019920"/>
            <a:ext cx="607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lass Files window after select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ot directory in which the files are lo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9" name="deploy12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381560" cy="47484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912680" y="6019920"/>
            <a:ext cx="530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WAR File Gener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window after selecting the file BookServlet.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2" name="deploy13" descr=""/>
          <p:cNvPicPr/>
          <p:nvPr/>
        </p:nvPicPr>
        <p:blipFill>
          <a:blip r:embed="rId1"/>
          <a:stretch/>
        </p:blipFill>
        <p:spPr>
          <a:xfrm>
            <a:off x="1928880" y="2457360"/>
            <a:ext cx="5286240" cy="19432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223640" y="5029200"/>
            <a:ext cx="656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Choose Component Type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Bookstore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5" name="deploy14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4876560" cy="45590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70760" y="6019920"/>
            <a:ext cx="699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Component General Properti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8" name="deploy15" descr=""/>
          <p:cNvPicPr/>
          <p:nvPr/>
        </p:nvPicPr>
        <p:blipFill>
          <a:blip r:embed="rId1"/>
          <a:stretch/>
        </p:blipFill>
        <p:spPr>
          <a:xfrm>
            <a:off x="1928880" y="2381400"/>
            <a:ext cx="5286240" cy="20952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54040" y="4952880"/>
            <a:ext cx="608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Component Alias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6 Adding Non-Servlet Components to the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on-servle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HTML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yle she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Be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6 Adding Non-Servlet Components to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3" name="deploy16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581440" cy="46018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2445120" y="5943600"/>
            <a:ext cx="44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ployment Tool wind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deploying BookServlet and AddToCartServl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6 Adding Non-Servlet Components to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6" name="deploy17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062080" y="5943600"/>
            <a:ext cx="50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ontent Fil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6 Adding Non-Servlet Components to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9" name="deploy18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214720" y="6019920"/>
            <a:ext cx="48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lass Files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jhtp1/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bc/boo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NDI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bc/boo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com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x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4" name="deploy19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4000" cy="23428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303200" y="4876920"/>
            <a:ext cx="64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Web Context in the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7" name="deploy20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72240" cy="451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152720" y="6095880"/>
            <a:ext cx="66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Resource Ref’s in the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0" name="deploy21" descr=""/>
          <p:cNvPicPr/>
          <p:nvPr/>
        </p:nvPicPr>
        <p:blipFill>
          <a:blip r:embed="rId1"/>
          <a:stretch/>
        </p:blipFill>
        <p:spPr>
          <a:xfrm>
            <a:off x="1084320" y="1952640"/>
            <a:ext cx="6973920" cy="2952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229040" y="5257800"/>
            <a:ext cx="66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Resource Ref’s in the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Entering the Bookst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com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home page for the bookstore casestu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3" name="deploy2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14920" cy="44006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371320" y="5943600"/>
            <a:ext cx="435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welcome file in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Ref’s tab of the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8 Deploying and Executing the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pplication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Applic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nd Redeploy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8 Deploying and Executing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8" name="tools" descr=""/>
          <p:cNvPicPr/>
          <p:nvPr/>
        </p:nvPicPr>
        <p:blipFill>
          <a:blip r:embed="rId1"/>
          <a:stretch/>
        </p:blipFill>
        <p:spPr>
          <a:xfrm>
            <a:off x="4124160" y="3271680"/>
            <a:ext cx="895680" cy="3146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057400" y="3886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Application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81280" y="3505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5146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 Applicati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39625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and Redeplo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105160" y="3581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10880" y="5105520"/>
            <a:ext cx="487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ployment Tool toolbar button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dating application files and deploying appl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8 Deploying and Executing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97" name="deploy23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453680" y="5943600"/>
            <a:ext cx="583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 JSP and Servlet Bookstore - Introduction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3 Bookstore home page (index.htm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-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ndex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 Case Stud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g2Bug.co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 italic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itel &amp; Associates, Inc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pping Cart Case Stu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form to request books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s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Butto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enter sto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029200" y="1905120"/>
            <a:ext cx="2514600" cy="580680"/>
            <a:chOff x="5029200" y="1905120"/>
            <a:chExt cx="2514600" cy="580680"/>
          </a:xfrm>
        </p:grpSpPr>
        <p:sp>
          <p:nvSpPr>
            <p:cNvPr id="110" name=""/>
            <p:cNvSpPr/>
            <p:nvPr/>
          </p:nvSpPr>
          <p:spPr>
            <a:xfrm>
              <a:off x="5567760" y="1905120"/>
              <a:ext cx="197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a linked style shee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s.c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029200" y="22100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952520" y="4267080"/>
            <a:ext cx="3124800" cy="824040"/>
            <a:chOff x="4952520" y="4267080"/>
            <a:chExt cx="3124800" cy="824040"/>
          </a:xfrm>
        </p:grpSpPr>
        <p:sp>
          <p:nvSpPr>
            <p:cNvPr id="113" name=""/>
            <p:cNvSpPr/>
            <p:nvPr/>
          </p:nvSpPr>
          <p:spPr>
            <a:xfrm>
              <a:off x="5622120" y="4267080"/>
              <a:ext cx="2455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orm provid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m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tton that enables the users to enter the st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952520" y="45720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30T14:58:53Z</dcterms:modified>
  <cp:revision>103</cp:revision>
  <dc:subject/>
  <dc:title>PowerPoint Presentation</dc:title>
</cp:coreProperties>
</file>