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645-7D24-4C31-99B6-8628C3EC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922-961A-4CFD-BD46-CD09CC3B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8B3-F0D6-4724-9EDB-F90A5C28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9B5-17ED-4108-A2CB-D3095D4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B83-AB7E-4FD8-A276-BF10F814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8BC-34E5-43A7-9185-8A849CCD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AA4-1CDC-4026-805E-0AF8BB3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EB6-A5BE-489C-BFF3-4B25FE02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2B4-1753-4EB6-9D2C-13753B25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86A-6750-4250-A39A-5D96DC1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72D-DB5A-4CFA-9B82-D6FAC28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C15-74FC-4C85-8E2A-10E32D2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B11-F74E-4201-82C4-B348410C9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369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sues in Knowledg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Brief History of AI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presentational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ceptual Graphs: A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ternatives to Explicit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ent Based and Distributed Problem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90504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6AF-3471-4FBE-A0DE-9E0F32A9DF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73080" y="54000"/>
            <a:ext cx="90709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representing “John ate the egg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chank and Rieger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&#9;F0609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1676520" y="838080"/>
            <a:ext cx="5783040" cy="1614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3080" y="2860560"/>
            <a:ext cx="9070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representation of the sentence “John prevented Mary from giving a book to Bill” (Schank and Rieger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&#9;F0610.pct                                                      0002728E_x000c_Macintosh HD                   ABA78158:"/>
          <p:cNvPicPr/>
          <p:nvPr/>
        </p:nvPicPr>
        <p:blipFill>
          <a:blip r:embed="rId2"/>
          <a:stretch/>
        </p:blipFill>
        <p:spPr>
          <a:xfrm>
            <a:off x="2362320" y="3581280"/>
            <a:ext cx="4167000" cy="2671920"/>
          </a:xfrm>
          <a:prstGeom prst="rect">
            <a:avLst/>
          </a:prstGeom>
          <a:ln w="0">
            <a:noFill/>
          </a:ln>
        </p:spPr>
      </p:pic>
      <p:sp>
        <p:nvSpPr>
          <p:cNvPr id="88" name="Line 7"/>
          <p:cNvSpPr/>
          <p:nvPr/>
        </p:nvSpPr>
        <p:spPr>
          <a:xfrm>
            <a:off x="184320" y="2654280"/>
            <a:ext cx="877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361-DB38-4828-A499-D42CD94075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estaurant script (Schank and Abelson, 197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226040" cy="582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EAB4-BC99-4C30-AA8D-CE754AB9A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10400" cy="4764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04920" y="380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ram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175-DA0E-4652-8408-064010981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 of a frame description of a hotel room. “Specialization” indicates a point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a super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600440" cy="4200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BAA-6F20-4CAE-883B-1312A4E48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tial frame for viewing a cube (Minsky, 197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&#9;F0613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214200" y="1244520"/>
            <a:ext cx="8715600" cy="436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ECF-ECE2-46AE-8486-37D0C7F1F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3080" y="304920"/>
            <a:ext cx="9070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relations of different ar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415120" cy="441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84CE-5C48-4250-B18D-BD00E215F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“Mary gave John the book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66960" y="2533680"/>
            <a:ext cx="7210080" cy="179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1E7-FF9D-4315-B719-C79DE87DD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the dog named Emma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905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a particular (but unnamed) dog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3505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a dog named Emma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77160" cy="59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6095880" cy="58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019920" cy="1590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635D-33FB-40FB-A5B0-415E9A87C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04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a person with three n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19320" y="1628640"/>
            <a:ext cx="670536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9599-2B86-4543-A4C2-D8CE035E2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sentence “The dog scratches its ear with its paw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09480" y="1805040"/>
            <a:ext cx="7925040" cy="3247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55BD-BAB5-45AD-9DD9-CFEC6250D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685800"/>
            <a:ext cx="8305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ig 7.1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mantic network developed by Collins and Quillian in their research on human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information storage and response times (Harmon and King, 1985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57520" y="1490760"/>
            <a:ext cx="5628960" cy="387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87C-210B-4701-9C7E-0CB7567FA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80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ype lattice illustrating subtypes, supertypes, the universal type, and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urd type. Arcs represent the relation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86080" cy="4905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D5BF-8871-409D-A205-410A0C2F4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of restrict, join, and simplify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603600" cy="5667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C414-2F16-4867-96F8-C66B053DE2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heritance in conceptual grap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876320" y="1766880"/>
            <a:ext cx="5391360" cy="3324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FAE-6B3A-4086-BF98-0ED28DE05B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statement “Tom believes that Jane likes pizza,”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wing the use of a propositional con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38280" y="1542960"/>
            <a:ext cx="6067440" cy="3772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F6D-AF6C-41D5-B047-3B3A78F2B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proposition “There are no pink dog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562040" y="2238480"/>
            <a:ext cx="6019920" cy="2381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76F-3F69-4DB1-9054-C75154CD6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nctions of the three-layered subsumption architecture from Brook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991a). The layers are described by the AVOID, WANDER, and EXPLO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814400" y="1657440"/>
            <a:ext cx="5515200" cy="3543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58AB-A152-4BE0-B5A6-8CF102F80F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ossible state of the copycat workspace. Several examples of bonds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s between the letters are shown; adapted from Mitchell (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447920" y="1957320"/>
            <a:ext cx="6248160" cy="2943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740-4167-4BBE-8C20-3E167EAF8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mall part of copycat’s slipnet with nodes, links, and label nodes shown;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apted from Mitchell (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909720" y="1881360"/>
            <a:ext cx="7324560" cy="3095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6B31-5CD3-4BEE-97AF-28F8F6AA8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conceptual graphs to be translated into Engl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52680" y="814320"/>
            <a:ext cx="6038640" cy="5229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5590-5579-4173-B84A-5AECC402F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3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of analogy test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081400" cy="3074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381880" y="6576840"/>
            <a:ext cx="76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C9A9-21D7-4A27-AF39-7EF83BBD8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609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representation of properties of snow and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895400" y="1015920"/>
            <a:ext cx="5114880" cy="5060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4F4-510B-4DAA-997D-06CB00526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380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planes representing three definitions of the word “plant” (Quillian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6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34348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14FC-8F5B-4F14-ADFD-494C1BD09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section path between “cry” and “comfort” (Quillian 196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958080" cy="4187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8BD8-360A-4807-A39C-C148B214F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304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e frame representation of the sentence “Sarah fixed the chair wi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u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10320" cy="2867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DE0-EFDA-4B55-AFA8-77AA993D0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_x000e_pg206A_unl.pct                                                 00026932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762120"/>
            <a:ext cx="8085240" cy="5578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57200" y="228600"/>
            <a:ext cx="6172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304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theory of four primitive conceptu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F1D1-1FB9-43A4-91B1-18FD7697B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dependencies (Schank and Rieger,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&#9;F0606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914400"/>
            <a:ext cx="6172200" cy="5307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F064-0588-46A1-BE99-D9C98CCB9D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bacis conceptual dependencies and their use in representing mo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x English sentences, adapted from Schank and Colby (197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581360" cy="523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0C6D-C220-4A30-B690-DE66BACE2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9:46:47Z</dcterms:created>
  <dc:creator>Pearson Shared Services</dc:creator>
  <dc:description/>
  <dc:language>en-US</dc:language>
  <cp:lastModifiedBy>George Luger</cp:lastModifiedBy>
  <dcterms:modified xsi:type="dcterms:W3CDTF">2008-05-20T07:57:24Z</dcterms:modified>
  <cp:revision>18</cp:revision>
  <dc:subject/>
  <dc:title>PowerPoint Presentation</dc:title>
</cp:coreProperties>
</file>