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36F-CD06-4B3C-AAAE-FA7535F1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F08-C56A-44EB-82EE-011F386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D75-826A-434E-8935-8E906237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5EE-A831-4089-B518-96551202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94F-17C5-4779-84B2-262A620E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A84-C12E-4342-8D19-598F6A2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43C-D0F6-49E1-B66F-A943AF6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D5B-E1F1-4731-8C83-9D25E27C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4DF-9446-4218-8D21-C1743E58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AD0-EE39-41EA-A3E9-D60D5DA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647-1E6B-4074-884D-92C4F49A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AD9-B1EF-4C46-BCDE-70723EB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E787-D059-411A-ABDB-CB3A1B7DBC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3697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ding Control Algorithms For State Space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ursion-Based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876920" y="1817640"/>
            <a:ext cx="411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Blackboard Architecture f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23760" cy="905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2670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al moves of a chess kn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757760" cy="4020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8600" y="9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3 x 3 chessboard with move rules for the simplified knight tou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095880" cy="3147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6.1 Production rules for the 3 x 3 knight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781520" cy="4791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12193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6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roduction system solution to the 3 x 3 knight’s tour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867280" cy="2981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2193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cursive path algorithm as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55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2280" y="11430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ta-driven search in a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38840" cy="4228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2193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-driven search in a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61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12193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directional search missing in both directions, resulting in excessi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209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directional search meeting in the middle, eliminating much of the spac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ined by unidirectional sea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09920" cy="3800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114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jor advantages of production systems for artificial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2209680"/>
            <a:ext cx="76197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eparation of Knowledge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Natural Mapping onto State Space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odularity of Produc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attern-Directe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Opportunities for Heuristic Control of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racing and Expla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Language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Plausible Model of Human Problem-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0400" cy="4476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6094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lackboar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681280" y="1947960"/>
            <a:ext cx="3781440" cy="2962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810560" cy="3772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724800" cy="646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413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4562640" cy="2505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00880" cy="3886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457200" y="457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roduction system. Control loops until working memory pattern n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er matches the conditions of any produ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0640" y="1214280"/>
            <a:ext cx="5562720" cy="4429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457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e of a simple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65800" cy="5476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457200" y="304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8-puzzle as a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4667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0492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8-puzzle searched by a production system with loop detection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th-bound , from 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59:50Z</dcterms:created>
  <dc:creator>Pearson Shared Services</dc:creator>
  <dc:description/>
  <dc:language>en-US</dc:language>
  <cp:lastModifiedBy>George Luger</cp:lastModifiedBy>
  <dcterms:modified xsi:type="dcterms:W3CDTF">2008-05-20T07:56:17Z</dcterms:modified>
  <cp:revision>22</cp:revision>
  <dc:subject/>
  <dc:title>PowerPoint Presentation</dc:title>
</cp:coreProperties>
</file>