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73A0-EE08-401E-B16F-BC4BD5EF00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FC9C-7D1B-410D-B277-FD8F5E87F8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7B99-0F7E-43AD-AFA4-A4E21B75C6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A22F-B2DA-45C0-9768-B8C7DDFB04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79F0-A3B1-47F4-BF27-AA074E476D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5892-3DD5-4442-9189-8A97F9ADC0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1C0A-2C58-4347-9F87-9CCB73092C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4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C8D7-BAF0-4812-81A9-FA321A68C9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0AA9-69E8-4367-A666-FE480878A2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4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6ABA-2242-42FC-B974-ACE0436BBF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A230-101A-4CA1-A67E-A230BE743D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4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6B4D-262D-4B70-AF8E-A54A386F8E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8885-8D47-4B89-9D7C-0ECC403EDE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def box page 1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3F3F-5D68-42DC-8F03-726CEA5301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def box, pg 1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FA2F-61D8-48EC-8DB0-4FF0C38B50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def box, pg 1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58FD-B038-4F9B-8ABB-115391BE0E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9D7C-4523-4723-863E-5A2801B69F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EA8A-2125-4A35-A4CF-2CDBD3A5AE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4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867B-5140-40FA-B70A-ED082B8030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4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1B22-4551-40E0-9B8F-5BFF335A64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D4E8-8CC4-440D-BABD-7796182ECF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6B72-D09C-4C93-92E5-C45DFD9A9F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158D-586F-464B-9CAC-BACE2DDF0E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C550-3FC1-4A2A-BB73-50B421EB1B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01F9-6E19-4FA3-A2A5-3EF1CE6F47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7CB6-6F0E-4D93-B2C5-3B479F85CE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C2A5-11FD-4F02-A6D8-D668E24148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3620-D49C-491B-BD2C-DAC3C0C74E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EFCA-C74F-4A6C-9A48-B5BE7839C4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72AC-2982-4F75-AB4E-C82799D840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6E7C-EFDF-4ACC-9E33-650558092A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35F9-5860-4F9F-A912-562ADFE57C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6E92-15D8-4B50-8531-2E78E491C2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4.5 WITH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ADDCABD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BADC    B   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B82B-727B-4425-952E-9CC2017BA1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F573-0D41-4254-91E2-48D9B1DF9E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7C7E-64F2-4FE4-A315-66486BC769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4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03C-B844-497C-B94C-DC2491C4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935-23B5-4266-A38D-67F6A122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8AD-CEF5-4F30-B52B-E71238E1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0F9-7E65-41F3-B4D6-2C90DF48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ABE-3F1F-4114-9826-BA09E07A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F2F-4195-41E1-9124-0C0CD0BD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6C5-2857-40B6-AEDE-F9C133AE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CA9-7813-482C-B059-607156B3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67A-AA71-43D5-9C23-EDA42873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BEA-B039-46CB-BC03-9D126C5D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BE1-FB88-4D22-B8AD-00BEFBF9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8C4-0B02-452D-BA4C-D7291E98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E75E-C768-4E24-9E77-136AE1B069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057400" y="369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URISTIC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80880" y="1817640"/>
            <a:ext cx="3962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1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 Algorithm for Heuristic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missibility, Monotonicity, an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formed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876920" y="1817640"/>
            <a:ext cx="4114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ing Heuristics I n G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lexity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923760" cy="90504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7A75-9FFC-43A1-AE50-221A6309A9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1" descr="cover.jpeg"/>
          <p:cNvPicPr/>
          <p:nvPr/>
        </p:nvPicPr>
        <p:blipFill>
          <a:blip r:embed="rId2"/>
          <a:stretch/>
        </p:blipFill>
        <p:spPr>
          <a:xfrm>
            <a:off x="0" y="4267080"/>
            <a:ext cx="2209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472240" cy="270972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79D2-8145-4539-8265-8D23214BFA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4419720"/>
            <a:ext cx="4038480" cy="2189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In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ntention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delete I, cos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etention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replace n with e, cos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exention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replace t with x, cos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exenution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insert u, cos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execution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replace n with c, cost 2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971800" y="1219320"/>
            <a:ext cx="3429000" cy="30938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228600" y="380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ig 4.9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lete array of minimum edit difference between intention and execution (adapted from Jurafsky and Martin, 2000) (of several possible) string align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F0E2-78A0-4A9A-BFC9-2CE5AFFA34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886720" cy="596268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37C2-A0D8-4E97-84F9-ABCA0B176E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166840" y="1428840"/>
            <a:ext cx="4810320" cy="4000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609480" y="457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uristic search of a hypothetical state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51EC-43AF-4AD0-90B2-3896508E68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_x000c_pg129_nl.pct                                                   0002692F_x000c_Macintosh HD                   ABA78158:"/>
          <p:cNvPicPr/>
          <p:nvPr/>
        </p:nvPicPr>
        <p:blipFill>
          <a:blip r:embed="rId1"/>
          <a:stretch/>
        </p:blipFill>
        <p:spPr>
          <a:xfrm>
            <a:off x="304920" y="1922400"/>
            <a:ext cx="8534160" cy="3013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trace of the execution of best_first_search for Figure 4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3FE8-D3A0-4266-A955-E0EE0EF7F2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658120" cy="4896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533520" y="3808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uristic search of a hypothetical state space with open and close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s highligh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2F41-32F2-4645-BD3C-7F8685B24D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5335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tart state, first moves, and goal state for an example-8 puzz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83D8-865B-481A-A0A9-8D0AAF0835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195560" y="1343160"/>
            <a:ext cx="6752880" cy="4171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685800" y="609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e heuristics applied to states in the 8-puzz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3A0B-1DE9-41B6-A401-4B103ECB9C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905520" cy="5267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80880" y="3049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heuristic f applied to states in the 8-puzz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DF2E-4734-444D-8F06-B8578239FE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0c_pg134_nl.pct                                                   0002692F_x000c_Macintosh HD                   ABA78158:"/>
          <p:cNvPicPr/>
          <p:nvPr/>
        </p:nvPicPr>
        <p:blipFill>
          <a:blip r:embed="rId1"/>
          <a:stretch/>
        </p:blipFill>
        <p:spPr>
          <a:xfrm>
            <a:off x="1981080" y="533520"/>
            <a:ext cx="5145120" cy="5941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uccessive stages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e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lose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at generate this graph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05B0-3455-4A9B-8B7F-41A22783AC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1119240" y="1166760"/>
            <a:ext cx="6905520" cy="4524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380880" y="38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 three levels of the tic-tac-toe state space reduced by 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8755-C589-4E2C-93BF-160B871E87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676760" cy="5257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09480" y="380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space generated in heuristic search of the 8-puzzle 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DDBA-D00F-4156-92CD-CE25F1E0E5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5219640" cy="5553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533520" y="3049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n and closed as they appear after the 3rd iteration of heuristic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BD04-3259-4948-8C6F-EFAF786FD4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147680" y="933480"/>
            <a:ext cx="6848640" cy="499104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E5DA-2EE4-4795-8216-FD80DFA91E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63040" cy="3143160"/>
          </a:xfrm>
          <a:prstGeom prst="rect">
            <a:avLst/>
          </a:prstGeom>
          <a:ln w="0">
            <a:noFill/>
          </a:ln>
        </p:spPr>
      </p:pic>
      <p:sp>
        <p:nvSpPr>
          <p:cNvPr id="14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6744-B89D-4D34-A320-7D974BE02F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153360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BB53-8055-486E-94A0-282F5BA7D6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086440" cy="5010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685800" y="380880"/>
            <a:ext cx="8077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ig 4.1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arison of state space searched using heuristic search with space searched by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readth-first search. The proportion of the graph searched heuristically is shaded.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optimal search selection is in bold. Heuristic used is f(n) = g(n) + h(n) wher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(n) is tiles out of pl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38A5-A9B6-403D-B67A-D4BD7EE8E4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76720" cy="4896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3352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space for a variant of nim. Each state partitions the seve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tches into one or more p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9C2D-AF44-41A2-A81F-F6180459A1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039000" cy="509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762120" y="3049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haustive minimax for the game of nim. Bold lines indicat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ced win for MAX. Each node is marked with its derived valu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0 or 1) under minim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88A0-BB2F-4036-8ECE-266EBDE37B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405480" cy="3301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838080" y="53352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nimax to a hypothetical state space. Leafstates show heuristic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lues; internal states show backed-up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26A9-6777-4333-9830-3F52114A04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572000" cy="54579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685800" y="304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uristic measuring conflict applied to states of tic-tac-to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A72F-8DC3-4538-957E-95529C5B61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153200" cy="2837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457200" y="4572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“most wins” heuristic applied to the first children in tic-tac-to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37A9-D134-467F-B05E-59C1C2A0B5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533520" y="1592280"/>
            <a:ext cx="7391160" cy="4446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80880" y="3808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-ply minimax applied to the opening move of tic-tac-toe, fro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ilsson (197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483A-B635-48E6-BA28-CE065E1539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734160" cy="53244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685800" y="3808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ply minimax, and one of two possible MAX second moves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Nilsson (197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DF4D-005E-4DB6-B948-82A3137E34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862680" cy="4878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533520" y="380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-ply minimax applied to X’s move near the end of the game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Nilsson (197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98AD-53DA-48A9-9D6F-9724D69C2F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57840" cy="4964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09480" y="3049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pha-beta pruning applied to state space of Fig 4.21. States withou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umbers are not evalu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87FC-26DA-4E91-966B-172D414A6D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772400" cy="5048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30492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umber of nodes generated as a function of branching factor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, for various lengths, L, of solution paths. The relating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quation 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B(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)/(B – 1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adapted from Nilsson (198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79FE-B4FE-4F16-AA40-FFCF126F4E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67440" cy="4267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685800" y="45720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formal plot of cost of searching and cost of computing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uristic evaluation against informedness of heuristic, adapte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Nilsson (198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F529-3382-450B-86D7-FA898ABE46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5695920" cy="9428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685800" y="5335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liding block puzz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49E4-B3BC-4D24-A014-D88115AE97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2571840" y="1600200"/>
            <a:ext cx="4000320" cy="36576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762120" y="380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3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3131-8C20-469C-AD34-31A0F536C9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2666880" y="1185840"/>
            <a:ext cx="3810240" cy="44863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609480" y="3808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3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3878-5BBE-4380-92FF-731F81EABD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200400" y="65833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329440" cy="5686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609480" y="45720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uristically reduced state space for tic-tac-to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CB82-9B57-4C69-90BD-C2469C3588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4933800" cy="4098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685800" y="5335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ocal maximum problem for hill-climbing with 3-level look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AE88-A624-4F01-B33B-7FD7DF28B6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4724280" cy="2908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1143000" y="1720800"/>
            <a:ext cx="2819520" cy="736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143000" y="4572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initialization stage and first step in completing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ray for character alignment using dynamic program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5012-094B-4CB4-AAD8-BCF67351D5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552920" cy="28670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533520" y="6094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ompleted array reflecting the maximum alignment informati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the str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A9CA-9D25-449F-A517-33FB508B46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343240" y="2043000"/>
            <a:ext cx="4457520" cy="277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609480" y="6094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mpleted backward component of the dynamic programming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 giving one (of several possible) string align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123F-41A7-4F88-BD53-D904054745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638440" y="1724040"/>
            <a:ext cx="3867120" cy="3409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685800" y="609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itialization of minimum edit difference matrix betwee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ten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adapted from Jurafsky and Martin, 2000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3670-3C4C-40CB-A0C9-4171990CC0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7:43:17Z</dcterms:created>
  <dc:creator>Pearson Shared Services</dc:creator>
  <dc:description/>
  <dc:language>en-US</dc:language>
  <cp:lastModifiedBy>George Luger</cp:lastModifiedBy>
  <dcterms:modified xsi:type="dcterms:W3CDTF">2008-05-20T07:53:53Z</dcterms:modified>
  <cp:revision>31</cp:revision>
  <dc:subject/>
  <dc:title>PowerPoint Presentation</dc:title>
</cp:coreProperties>
</file>