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41CA-40E2-467E-9386-4FF1AB0D54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991-21E7-4F20-824A-4B59764D8C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21B-9546-4935-B67F-CD2B167D43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921-6690-4BCB-A2CF-FBA4D403C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B2A3-8CC7-4B35-8561-C7092628E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22D-F6EA-41B0-8C7D-4EA2A116A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1CA-2D77-4462-BA44-6578947A3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45C5-BA59-43D5-96E3-8239E21FC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041-B9D1-4A88-9828-E9F4C9601E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4950-3527-415F-88F8-6A24952B9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354-4CA5-47C5-9892-C11B4D3E7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fig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A61-4B1C-440E-B06B-03D5FB6BA6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914-7607-4338-A0B3-9209983B99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46C-A55A-4917-BF1C-FD382A28FD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591-B3FC-40C9-B641-6D643A4CF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C782-C724-4BE8-87DC-857E10596D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759-9303-4FDC-BE91-755F15F6C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381-C1D5-4B43-A178-74AEE20E7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7305-FFA7-465F-99E7-686582D31B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E72-259D-4E58-B6A0-59737AE8FF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2292-FA77-480E-9C6C-08D648A65F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5C8-CDC8-4BDE-BA87-DE2C208E2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237-D678-477E-B5DC-020844680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C5F-98FB-46A0-A4CD-FCF537FCD4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A35-FAB5-4D2B-B410-FE338391F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D19-A0B9-4728-B5EB-3630E8C0E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1CE-0B08-4F9D-BAB1-CF00A2CCEF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 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108-4686-4834-80FA-A893F226CF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def box p85 plus fig 3.5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1F2C-8389-4B83-B416-4609CA913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def box p 86 plus fig 3.6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6A2C-7227-4A02-8EB7-5162BAF38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6B5-649E-4564-B2AE-0530F19F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423-546F-4438-8BEA-6E084D2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CB4-2BF0-4875-8B82-674708E9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9F-6371-48A4-9760-85184A1D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3EF-3210-49F4-AE68-427CA0E6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32F-61F2-46BB-95D4-B9DA6E6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709-C2FE-4985-B985-BCC5F70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F5D-0BC9-4980-8696-5002E670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A30-097B-4C5B-A544-9D85A5F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0A0-EE45-4B7C-9F4D-D22C41B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A77-6963-4404-A325-6ECA32C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1D4-3465-494A-8F44-35E95FD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2861-FC6C-4694-BC20-1577CA89F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ctures and Strategies For Space Stat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0880" y="181764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aph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ategies for Space State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Space State to Represe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soning with the Predicat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CDF-A36A-4D6F-B077-0E139279B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1560" y="905040"/>
            <a:ext cx="7400880" cy="504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335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8 State space of the 8-puzzle generated by “move blank”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246-A416-4384-89C7-29E6706BFD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57640" cy="3735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3352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9 An instance of the travelling salespers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58E5-F1D2-4300-A453-13EC51B3B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38360" y="905040"/>
            <a:ext cx="7667280" cy="5047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80880" y="30492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720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 for the travelling salesperson problem. Each arc is marked wi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otal weight of all paths from the start node (A) to its end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AE55-FF02-43A3-8979-15D21D90B4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3792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04920" y="457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nstance of the travelling salesperson problem with the neares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ighbor path in bold. Note this path (A, E, D, B, C, A), at a cost of 550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not the shortest path. The comparatively high cost of arc (C, A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ated the heuri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5BCD-EFA5-4ACF-894C-DE78DC050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81800" cy="355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57200" y="457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in which goal-directed search effectively prun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raneous search pa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5F88-E9EB-431A-B33F-354EABB87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370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33520" y="533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in which data-directed search prunes irrelevant data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ir consequents and determines one of a number of possible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ECD-1A4C-4B3C-86EC-7A2B2ACA9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&#13;pg97_code.pct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28600" y="533520"/>
            <a:ext cx="7550280" cy="6037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0" y="0"/>
            <a:ext cx="419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backtrack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8E7-681B-4379-A676-F0CEA3642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_x000e_pg98_tabl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87280" y="760320"/>
            <a:ext cx="8567640" cy="5338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backtrack on the graph of figure 3.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D0A-E027-405E-A2F1-84468D2EA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00800" cy="4599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tracking search of a hypothetical state spac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A3D-54F7-4260-8294-DA983E51A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62600" cy="4097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3808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for breadth - and depth - first search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9B34-D750-4B98-B298-D5C26C264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8280" y="254160"/>
            <a:ext cx="422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1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 city of Königsber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330372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F033-B76A-4B28-93B4-AA54ACB08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_x000e_pg100_cod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301680" y="1001880"/>
            <a:ext cx="8540640" cy="485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breadth_first search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C8C-CBCA-4184-A245-5FAA3F5CE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x000c_pg101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04840" y="2048040"/>
            <a:ext cx="8732880" cy="276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breadth_first_search on the graph of Figure 3.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71BA-1204-46DE-B27E-B37EDB4585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29440" cy="366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3352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Fig 3.15 at iteration 6 of breadth-first search. States 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re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1F58-F6AC-414A-B8EF-A63A949CE4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_x000e_pg102_cod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81080" y="1208160"/>
            <a:ext cx="8781840" cy="4443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pth_first_search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6B3-7D1E-4575-82C1-5A5381091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_x000c_pg103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79360" y="1725480"/>
            <a:ext cx="8526600" cy="3405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depth_first_search on the graph of Figure 3.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AD0-F150-4418-91B7-21BBA707F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96120" cy="5334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09480" y="2286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eadth-first search of the 8-puzzle, showing order in which stat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re removed from o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5AF-5E32-455B-A001-6BA8E19E7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77200" cy="4934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83808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fig 3.15 at iteration 6 of depth-first search. States 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re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CC9B-B698-464F-864D-F66228FCC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5803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066680" y="2286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th-first search of the 8-puzzle with a depth bound of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409-871E-44D4-904D-04EC0E94B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91040" cy="2819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838080" y="609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graph of a set of implications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culu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3D6C-D48F-4654-B827-00913B7990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948040" y="2181240"/>
            <a:ext cx="3247920" cy="2495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143000" y="762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the express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244B-22CD-4D71-B366-D6B5BD6DE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2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 of the Königsberg bridg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257800" cy="47862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FBD3-30F7-4AE1-BDD6-A08BB9869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81760" cy="323856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461-2829-4593-846E-BCFC9246F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166920" y="2062080"/>
            <a:ext cx="2810160" cy="273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09480" y="6094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the express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→ 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8C66-E3FD-4236-BD3F-932DC1E43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467080" y="1147680"/>
            <a:ext cx="4209840" cy="4562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457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a set of propositional calculus expre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CFA-1770-4501-BF3C-A6B1DF507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762880" cy="5429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85800" y="457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part of the state space for integrating a function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7A95-822C-45CD-877E-AB747A86E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_x000c_pg113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020600" y="1019160"/>
            <a:ext cx="7102800" cy="5505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76320" y="5076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acts and rules of this example are given as English sentences followed by their predicate calculus equival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F3E-91C6-4811-8D30-E22300638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62640" cy="381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762120" y="380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olution subgraph showing that Fred is at the muse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D0E-9596-4BA9-A89D-F5896376E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_x000c_pg117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795320" y="816120"/>
            <a:ext cx="5553360" cy="563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ve rules for a simple subset of English grammar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9DE-07D9-4770-967C-B102AE23C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799240" cy="5810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searched by the financial advi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EB0-65C5-4F7B-8371-8DF2CA485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229360" cy="4038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914400" y="5335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for the grammar of Example 3.3.6. Some of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des (np, art, etc) have been written more than once to simplif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rawing the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E19E-2A8B-46B8-8135-64C7D5BA6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809880" cy="37051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457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se tree for the sentence “The dog bites the man.” Note this is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tree of the graph of fig 3.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7AB-D254-4479-B6BF-12064DDABF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3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abeled directed grap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062840" cy="4024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541-3C19-4291-8FF1-FAF3B4A96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3657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533520" y="609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raph to be sear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E2D-0285-4114-B897-FBCA7BBFF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6320" y="22860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4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rooted tree, exemplifying family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33800" cy="34351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0803-BBF6-4294-84B9-CECCB158B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553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1676520" y="5715000"/>
            <a:ext cx="5715000" cy="79056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372-B1A8-4D1D-ADF3-7462EC5F2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486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219640" cy="1685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914400" y="5334120"/>
            <a:ext cx="74674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g 3.5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a) The finite state graph for a flip flop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b) its transition matri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9DCF-D301-4B14-BC50-A4ADCFE2F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4864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5419440" cy="188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219320" y="54100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g 3.6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a) The finite state graph and (b) the transition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trix for string recognition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42BD-5A60-4A20-8BD6-47C97CF01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838920" cy="435276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5F8-4F52-46F7-8C3D-8F3F29DE8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14:09Z</dcterms:created>
  <dc:creator>Pearson Shared Services</dc:creator>
  <dc:description/>
  <dc:language>en-US</dc:language>
  <cp:lastModifiedBy>George Luger</cp:lastModifiedBy>
  <dcterms:modified xsi:type="dcterms:W3CDTF">2008-05-20T07:52:40Z</dcterms:modified>
  <cp:revision>22</cp:revision>
  <dc:subject/>
  <dc:title>PowerPoint Presentation</dc:title>
</cp:coreProperties>
</file>