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DC5-9107-4861-93D7-A8AB0E2E5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AFE-4047-442B-B3A6-721852F8F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CF4-D086-432A-8E80-61803D603C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81FE-C759-42D0-AF60-F5EFD03C12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8C04-4A35-4E66-A468-DCA9F5BF85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fig 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BE5-6EB7-43C4-8ED4-580742F01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67C2-B050-4190-9342-5C1447F54A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B33-6CEE-4041-903F-51E4E807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55F-2BB8-4185-81CC-8C8E87EC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71B-B236-4C66-87FD-AF7E5865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92E-F4D1-4285-9B68-204D1CFC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32D-7B43-4577-8A8D-5B3D16E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09B-0637-4432-9CC8-4BA2D170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919-36BA-413F-9359-AFBF7AC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9B6-AA85-4907-9BA3-5EA8861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B0D-4CD7-4162-893C-2748C3B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2A4-C7D8-4622-B8A8-B84A25D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E31-AD6F-4078-B27B-02776CD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1F1-F92D-44F0-8334-9CC3887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61E-A4A1-4B57-9012-B8F36CC4B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dicate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880" y="1817640"/>
            <a:ext cx="39625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Propositional 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Predicate 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Inference Rules to Produ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dicate Calculus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plication: A Logic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nancial Ad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95256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8DCB-DC65-47BA-9206-4607AE669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152280" y="44197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3892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DA1-7DC7-41A6-8191-96715F44C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673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877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75D2-6C47-4B50-82B1-883B285D7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x0008_pg57.pct    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177840" y="660240"/>
            <a:ext cx="8362800" cy="585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_sentenc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5CCF-55FD-44FC-A765-6E818ECC2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48640" cy="39909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3990-54CC-46F6-B2A8-75115EB5A7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84864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867360" cy="3219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F3D-C0DB-4D26-86A9-652E26934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8255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94D5-C30B-48FD-9F27-A8A8431B4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609480" y="457200"/>
            <a:ext cx="75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igure 2.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 blocks world with its predicate calculate descrip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1852560" y="1133640"/>
            <a:ext cx="5438880" cy="4590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FBD-B2B4-41CB-B0CF-832127646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BA0E-3A41-473C-AFA1-8F30D76FC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0304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623D-3135-4F74-8D1A-D49E7FA466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38080" y="822240"/>
            <a:ext cx="7848720" cy="314028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B111-8449-43AA-9887-1899FE3D2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36514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802-890B-4549-99D9-591EA85CB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9560" cy="15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28573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4A52-78A8-477A-A80B-3401417BD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193500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0F7E-AB7E-4FE1-9C59-89DA557B0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&#13;pg71_code.pct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68280" y="635040"/>
            <a:ext cx="6899400" cy="5883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5673-71B4-46DA-96F4-516853D55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320" y="5076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5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rther steps in the unification of (parents X (father X) (mother bill)) and (parents bill (father bill) 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090440" y="1390680"/>
            <a:ext cx="6963120" cy="407664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0F7-5633-4244-82DB-FC3C6BA0A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6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nal trace of the unification of (parents X (father X) (mother bill)) and (parents bill (father bill) 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68840" cy="559116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E8A6-A71B-44FE-9FE6-E1E9635EB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_x000b_pg77_nl.pct 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80880" y="609480"/>
            <a:ext cx="7566120" cy="544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75EF-3951-4D4E-AEE3-DC8B7DECCE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86440" cy="50101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AA0-D3C6-4BF8-A381-38A0629E9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486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4AE-E822-40C8-9B0C-67FE05A11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positional express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_x000c_pg51_unl.pct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17520" y="1241280"/>
            <a:ext cx="8510400" cy="4375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016F-A0F9-470D-B922-DDC35D96D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th table for the opera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58164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D6A-29F6-47BD-80A2-E4311A664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457200"/>
            <a:ext cx="906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2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uth table demonstrating the equivalence of P Æ Q and ÿ P ⁄ Q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72480" cy="243828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996-48C4-4A80-A7B9-2998028F1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395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684864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C74-9CD7-456A-B9D5-FEB486678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48280" cy="40957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89F3-F0CD-47B8-B26D-130639561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8:20:46Z</dcterms:created>
  <dc:creator>Pearson Shared Services</dc:creator>
  <dc:description/>
  <dc:language>en-US</dc:language>
  <cp:lastModifiedBy>George Luger</cp:lastModifiedBy>
  <dcterms:modified xsi:type="dcterms:W3CDTF">2008-05-20T07:51:26Z</dcterms:modified>
  <cp:revision>28</cp:revision>
  <dc:subject/>
  <dc:title>PowerPoint Presentation</dc:title>
</cp:coreProperties>
</file>