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ct" ContentType="image/x-pict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AB9-14C4-468D-AB66-723340C1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FE9-A02A-4ED9-B4C4-8DDBB92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700-4CCD-46B0-ACB6-3B2E7A9F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005-0005-4110-A3CC-FEEF3D8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9F4-5F1C-4D19-B145-2F7F52A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0F0-9F68-47FD-AE3F-FCA3872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3F2-15ED-4B10-844F-E1E64BC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725-D329-44C4-BCC6-0D24CD1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669-B09D-4AE1-A803-C4E9AC4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31A-321B-4513-AE1D-54611B0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7F1-E0FB-452A-A81A-10C81BB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A75-4AAD-4942-8052-8777EEB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D7F7-A401-419C-9B8C-292DFF29B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ing Natura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ole of Knowledge in Languag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onstructing Language: A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ic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tax and Knowledge with AT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Tools for Languag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tural Languag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152280" y="4419720"/>
            <a:ext cx="19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-762120" y="914400"/>
            <a:ext cx="9601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PREDICTOR((A Æ … . B …, [i,  j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(B Æ RHS) in grammar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TOCHART((B Æ  . RHS, [j,  j]), chart[j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SCANNER((A Æ … . L …, [i,  j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L Æ word[j]) is_in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ADDTOCHART((L Æ word[j] ., [j,  j + 1]), chart[j + 1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COMPLETER((B Æ …  ., [j, k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(A Æ … . B …, [i, j]) in chart[j]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TOCHART((A Æ … B . …, [i, k]), chart[k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ADDTOCHART(state, state-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tate is not in state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ADDTOEND(state, state-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666880" y="64771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network definition of a simple English gram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-code for a transition network parser appears on the following two slides. It is defined using two mutually recursive function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24720" cy="527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7238880" y="6324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424160" y="1123920"/>
            <a:ext cx="629568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e of a transition network parse of the sentence “Dog bite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00840" cy="5667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s representing the sentence, noun phrase, and verb phrase nonterminals of the gram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28800" y="2386080"/>
            <a:ext cx="7286400" cy="2085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 entries for a simple A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89640" cy="574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N grammar that checks number agreement and builds a pars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76440" y="1400040"/>
            <a:ext cx="7791120" cy="405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14520" y="1109520"/>
            <a:ext cx="7914960" cy="463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14520" y="1109520"/>
            <a:ext cx="7914960" cy="4638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8200" y="1090440"/>
            <a:ext cx="8067600" cy="467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247760" y="1933560"/>
            <a:ext cx="664848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locks world, adapted from Winograd (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76640" y="1300320"/>
            <a:ext cx="4590720" cy="425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tree for the sentence “The dog likes a man” returned by an ATN par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704960" y="1166760"/>
            <a:ext cx="5734080" cy="4524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hierarchy used in “dogs world”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829400" cy="5362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frames for the verbs “like” and “bit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90880" y="1371600"/>
            <a:ext cx="496224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457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our example are described as pseudo-code procedures. In each procedure, if a specified join or other test fails, that interpretation is rejected as semantically in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85800" y="1592280"/>
            <a:ext cx="6172200" cy="3979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086600" y="6172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5986440" cy="43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on of a semantic representation from the parse tree of Figure 15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133720" y="857160"/>
            <a:ext cx="4933800" cy="5143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different parses of “Print the file on the printer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4137120" cy="5457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graph for the question “Who loves Jan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695600" y="2486160"/>
            <a:ext cx="5752800" cy="188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relations in an employe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&#9;F1315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272880" y="1471680"/>
            <a:ext cx="8596440" cy="3076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nage this complexity, linguists have defined different levels of analysis for natural langu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&#13;pg556_nl2.pct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1312920" y="1166760"/>
            <a:ext cx="6154560" cy="5348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-relationship diagrams of the manager_of_hir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_salary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000160" y="1609560"/>
            <a:ext cx="5143680" cy="3638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base entry for “hire” qu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300400" y="1828800"/>
            <a:ext cx="454320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database query from the graph of a natural langua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put.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90960" cy="5238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text, template summary, and information extraction for compu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cience advertis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&#9;F1319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1143000"/>
            <a:ext cx="7367760" cy="5384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chitecture for information extraction, from Cardie 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&#9;F1320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152280" y="1219320"/>
            <a:ext cx="8740800" cy="4800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s in producing an internal representation of a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42880" y="861840"/>
            <a:ext cx="6258240" cy="5134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se tree for the sentence “The man bites the dog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57800" cy="3124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219320"/>
            <a:ext cx="830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.  Noun  Verb                   predict:  Noun followed by a 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. mary                                      predict:  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--&gt;  mary  .                                       scanned:   mar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--&gt;  Noun  .  Verb                       completed:  Noun;    predict:  Ver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--&gt;   .  runs                                         predict:  ru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--&gt;  runs  .                                          scanned:  ru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--&gt;  Noun  Verb  .                       completed:  Ver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: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09680" y="64008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943600" cy="373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895480" y="6477120"/>
            <a:ext cx="624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62120" y="685800"/>
            <a:ext cx="769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rt for mary runs, with three state lists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$  --&gt;  . S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 --&gt;  . Noun Verb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Noun  --&gt;  mary .),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 --&gt;  Noun . Verb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Verb  --&gt;  runs .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--&gt; Noun Verb .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 --&gt; S .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3302640" y="6458040"/>
            <a:ext cx="566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2280" y="353880"/>
            <a:ext cx="8382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EARLEY-PARSE(words, grammar)  returns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t := emp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TOCHART(($ Æ . S, [0, 0]), chart[0]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% dummy star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i from 0 to LENGTH(words)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 in chart[i]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rule_rhs(state) = … . A … and A is not a part of spe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PREDICTOR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 if rule_rhs(state) = … . L 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% L is part of spe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SCANNER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 COMLETER(state)                                                                            % rule_rhs = R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819520" y="632448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2:33Z</dcterms:created>
  <dc:creator>Pearson Shared Services</dc:creator>
  <dc:description/>
  <dc:language>en-US</dc:language>
  <cp:lastModifiedBy>George Luger</cp:lastModifiedBy>
  <dcterms:modified xsi:type="dcterms:W3CDTF">2008-05-20T08:06:00Z</dcterms:modified>
  <cp:revision>20</cp:revision>
  <dc:subject/>
  <dc:title>PowerPoint Presentation</dc:title>
</cp:coreProperties>
</file>