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6D6-30BC-4488-A3A6-E54873E2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91D-3078-43E9-8D84-01573D95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715-E612-45EC-8117-4A18C8F6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B59-2920-4124-B52B-D763F527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EC7-1737-4691-9F25-FB2CC3C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DCA-AB0D-471E-8B77-5C41E49D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CFC-FF34-4030-893A-08765D0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399-A326-4BBC-987B-84F11965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7B1-587B-4970-BE65-A38F8D6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4F1-31B6-47B8-B22D-C3A1324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892-6693-4279-9EDC-6CE5ACB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2A2-4F65-4EA9-B36A-EE65D79B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7C0A-6742-444F-AB6C-3B53697ED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mated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 to Weak Methods i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orem Pr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General Problem Solver an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fference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olution Theorem Pr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LOG and Automated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rther Issues in Automated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380880" y="43434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refutation for the “happy student”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629400" cy="5535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lution proof for the “exciting life”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86520" cy="522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other resolution refutation for the example of Fig 14.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29240" cy="4962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te state space for the “exciting life” problem generated b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eadth-first search (to two level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04720" y="1647720"/>
            <a:ext cx="8134560" cy="356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ing the unit preference strategy on the “exciting life”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3146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0 Unification substitutions of Fig 14.6 applied to the original que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023920" cy="5424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1 Answer extraction process on the “finding fido”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181160" y="1690560"/>
            <a:ext cx="6781680" cy="3476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2 Skolemization as part of the answer extraction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29680" cy="5067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3 Data-driven reasoning with n and/or graph in the proposition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al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44832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4 Goal-driven reasoning with an and/or graph in the proposition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alcul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71760" y="1371600"/>
            <a:ext cx="34941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a Transformation rules for logic problems, from Newell and Sim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196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724560" cy="494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&#13;pg549_unl.pct                                                  00026B6D_x000c_Macintosh HD                   ABA78158:"/>
          <p:cNvPicPr/>
          <p:nvPr/>
        </p:nvPicPr>
        <p:blipFill>
          <a:blip r:embed="rId1"/>
          <a:stretch/>
        </p:blipFill>
        <p:spPr>
          <a:xfrm>
            <a:off x="131760" y="666720"/>
            <a:ext cx="8881920" cy="5524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b A proof of a theorem in propositional calculus, from Newell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imon (196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200480" cy="3990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ow chart and difference reduction table for the General Proble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r, from Newell and Simon (1963b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24480" cy="4971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lution refutation proofs involve the following ste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05960" cy="26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lution proof for the “dead dog” problem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24400" cy="470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resolution proof for an example from the propositional calcul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505240" y="1066680"/>
            <a:ext cx="4133520" cy="472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&#13;pg526_unl.pct                                                  00026B6D_x000c_Macintosh HD                   ABA78158:"/>
          <p:cNvPicPr/>
          <p:nvPr/>
        </p:nvPicPr>
        <p:blipFill>
          <a:blip r:embed="rId1"/>
          <a:stretch/>
        </p:blipFill>
        <p:spPr>
          <a:xfrm>
            <a:off x="1025640" y="192240"/>
            <a:ext cx="7092720" cy="6346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_x000e_pg526_unl1.pct                                                 00026B6D_x000c_Macintosh HD                   ABA78158:"/>
          <p:cNvPicPr/>
          <p:nvPr/>
        </p:nvPicPr>
        <p:blipFill>
          <a:blip r:embed="rId1"/>
          <a:stretch/>
        </p:blipFill>
        <p:spPr>
          <a:xfrm>
            <a:off x="641520" y="254160"/>
            <a:ext cx="7860960" cy="6161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6:01:24Z</dcterms:created>
  <dc:creator>Pearson Shared Services</dc:creator>
  <dc:description/>
  <dc:language>en-US</dc:language>
  <cp:lastModifiedBy>George Luger</cp:lastModifiedBy>
  <dcterms:modified xsi:type="dcterms:W3CDTF">2008-05-20T08:04:59Z</dcterms:modified>
  <cp:revision>12</cp:revision>
  <dc:subject/>
  <dc:title>PowerPoint Presentation</dc:title>
</cp:coreProperties>
</file>