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8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AF5-E8C2-4648-AE65-BACDDDE9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113-78B1-4590-A29F-B4276D0B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7A3-2505-4384-AB69-870D7E92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7DD-233F-4C3E-9404-859F4129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52B-9304-493A-BEB0-E27FA14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474-B89D-44F9-B1A5-1F647D1E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4BA-064E-4ABC-AA35-62544F92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A71-A69A-49AA-AFCD-25954424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218-4E1B-497F-BC31-7C7BD253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5E8-A317-4006-9987-1EB69562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E03-FFBC-43AA-B5A8-5D41EB2F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E0A-8715-408E-A625-EA0904FA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6DC9-F84A-4FCA-9A24-91EAF6A914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685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earning: Probabi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ochastic and dynamic Models o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ynamic Bayesian Networks and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ochastic Extensions to Reinforceme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34340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981080" y="4648320"/>
            <a:ext cx="704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gure 13.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trace of the Viterbi algorithm on several of the paths of Figure 13.7. Ro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he maximum value for Viterbi on each word for each input value (top row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ed from Jurafsky and Martin (200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28600" y="304920"/>
            <a:ext cx="87631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t = 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#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i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#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path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x .00013 = .000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13 x 1.0 = .000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13 x .52 = .00006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path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x .00056 = .0005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56 x 1.0 = .0005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56 x .11 = .00006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path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x .001 = .0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1 x .36 = .0003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36 x 1.0 = .0003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n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pa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x .000024 = .00002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024 x 1.0 = .00002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024 x 1.0 = .00002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be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.00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464560" y="6553080"/>
            <a:ext cx="574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4920" y="609480"/>
            <a:ext cx="86868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 Viterbi(Observations of length T, Probabilistic F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:= number of states in F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probability matrix viterbi[R = N + 2, C = T + 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terbi[0, 0] := 1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ach time step (observation) t from 0 to T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ach state si from i = 0 to number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ach transition from si to sj in the Probabilistic FSM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-count := viterbi[si, t] x path[si, sj] x p(sj | s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(viterbi[sj, t + 1] = 0) or (new-count &gt; viterbi[sj, t + 1]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terbi[si, t + 1] := new-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end back-pointer [sj , t + 1] to back-pointer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iterbi[R, C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back-pointer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71160" y="6629400"/>
            <a:ext cx="554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502000" y="2389320"/>
            <a:ext cx="4140000" cy="2082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2666880" y="6477120"/>
            <a:ext cx="563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647800" y="2573280"/>
            <a:ext cx="3848400" cy="1714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819520" y="640080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463840" y="2071800"/>
            <a:ext cx="4216320" cy="2717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921040" y="6458040"/>
            <a:ext cx="554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324160" y="1563840"/>
            <a:ext cx="4495680" cy="3733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971800" y="6400800"/>
            <a:ext cx="152280" cy="172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09480" y="2055960"/>
            <a:ext cx="8305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E F I N I T I O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MARKOV DECISION PROCESS, or 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Markov Decision Process is a tuple &lt;S, A, P, R&gt; wher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is a set of stat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is a set of 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(st , st+1) = p(st+1  | st , at = a) is the probability that if the agent exec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on a Œ A from state st at time t, it results in state st+1 at time t+1. Si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robability, pa Œ P is defined over the entire state-space of actions, i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ten represented with a transition matri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s) is the reward received by the agent when in state 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743200" y="645804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09480" y="1584360"/>
            <a:ext cx="838224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E F I N I T I O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PARTIALLY OBSERVABLE MARKOV DECISION PROCESS, or PO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Partially Observable Markov Decision Process is a tuple &lt;S, A, O, P, R&gt; wher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is a set of stat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is a set of 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 is the set of observations denoting what the agent can see about its wor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ce the agent cannot directly observe its current state, the observations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abilistically related to the underlying actual state of the wor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(st, o, st+1) = p(st+1 , ot = o | st , at = a) is the probability that when the ag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cutes action a from state st at time t, it results in an observation 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s to an underlying state st +1 at time t+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st, a, st+1) is the reward received by the agent when it executes action a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st and transitions to state st+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66880" y="6477120"/>
            <a:ext cx="632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381400" y="2268360"/>
            <a:ext cx="4381200" cy="2324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819520" y="645804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267440" cy="2438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819520" y="6553080"/>
            <a:ext cx="59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371600" y="746280"/>
            <a:ext cx="746748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E F I N I T I O N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MARKOV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raphical model is called a hidden Markov model (HMM) if it is a Markov model whose states are not directly observable but are hidden by a further stochastic system interpreting their output. More formally, given a set of states S =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given a set of state transition probabilities A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, ..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re is a set of observation likelihoods, O =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each expressing the probability of an observation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t time t) being generated by a sta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971800" y="6400800"/>
            <a:ext cx="594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895480" y="2057400"/>
            <a:ext cx="321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270160" y="1812960"/>
            <a:ext cx="474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685800"/>
          <a:ext cx="6476760" cy="39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647676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Box 7"/>
          <p:cNvSpPr/>
          <p:nvPr/>
        </p:nvSpPr>
        <p:spPr>
          <a:xfrm>
            <a:off x="2743200" y="6458040"/>
            <a:ext cx="567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600200" y="0"/>
          <a:ext cx="80010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8001000" cy="4267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TextBox 2"/>
          <p:cNvSpPr/>
          <p:nvPr/>
        </p:nvSpPr>
        <p:spPr>
          <a:xfrm>
            <a:off x="2597040" y="6324480"/>
            <a:ext cx="562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676520" y="1981080"/>
            <a:ext cx="9144000" cy="3353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971800" y="6477120"/>
            <a:ext cx="58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580360" cy="2781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590920" y="655308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5992920" cy="3187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2514600" y="6400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367000" y="1720800"/>
            <a:ext cx="4406760" cy="3416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919960" y="6477120"/>
            <a:ext cx="543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58960" y="2057400"/>
            <a:ext cx="382284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2666880" y="6553080"/>
            <a:ext cx="563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5:07:40Z</dcterms:created>
  <dc:creator>Pearson Shared Services</dc:creator>
  <dc:description/>
  <dc:language>en-US</dc:language>
  <cp:lastModifiedBy>George Luger</cp:lastModifiedBy>
  <dcterms:modified xsi:type="dcterms:W3CDTF">2008-05-20T08:03:51Z</dcterms:modified>
  <cp:revision>27</cp:revision>
  <dc:subject/>
  <dc:title>PowerPoint Presentation</dc:title>
</cp:coreProperties>
</file>