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635E-4A06-4B29-9B2B-E8C554529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121D-B0F0-4C76-A57A-1CBE09FBD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D3DE-07AA-466D-B674-F487BECA6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ABCC-E58A-48F3-B44C-B28A9F3E8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59E9-D5CC-4304-A1F2-269D3A2A8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0A46-E72E-4409-B773-54AAC39FB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A703-0F7D-4721-B5F0-37381AC9A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1BE9-86DD-4575-A199-2B69FB9EF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7C64-5470-4FEA-8DE0-6ABA62BEF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4B37-06A7-499F-B11C-AD7691D27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E405-88D3-4DCF-8AE5-81A7EBBC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E526-B5DC-4622-AB16-07C527BDC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AB5B3-29E7-4441-BA3B-AB5F5F0889A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2286000" y="4637160"/>
            <a:ext cx="66294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eorge F Lu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RTIFICIAL INTELLIGENC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6th e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tructures and Strategies for Complex Problem Solv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Line 4"/>
          <p:cNvSpPr/>
          <p:nvPr/>
        </p:nvSpPr>
        <p:spPr>
          <a:xfrm>
            <a:off x="2133720" y="4637160"/>
            <a:ext cx="6781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5"/>
          <p:cNvSpPr/>
          <p:nvPr/>
        </p:nvSpPr>
        <p:spPr>
          <a:xfrm>
            <a:off x="2133720" y="6008760"/>
            <a:ext cx="670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2057400" y="685800"/>
            <a:ext cx="65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chine Learning: Social and Emerg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380880" y="1817640"/>
            <a:ext cx="41148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2.0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ocial and Emergent Models of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2.1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he Genetic Algorith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2.2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lassifier Systems and Gene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rogram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4495680" y="1817640"/>
            <a:ext cx="44960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2.3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rtificial Life and Society-Based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2.4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pilogue and Refere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2.5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xerci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933480" cy="9046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2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1" descr="cover.jpeg"/>
          <p:cNvPicPr/>
          <p:nvPr/>
        </p:nvPicPr>
        <p:blipFill>
          <a:blip r:embed="rId2"/>
          <a:stretch/>
        </p:blipFill>
        <p:spPr>
          <a:xfrm>
            <a:off x="0" y="4419720"/>
            <a:ext cx="2133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380880" y="30492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able 12.3 A set of fitness cases, with planetary data taken from Urey (1952). A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is Earth’s semi-major axis of orbit and P is in units of Earth-yea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1800360" y="2138400"/>
            <a:ext cx="5543280" cy="25812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380880" y="3049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2.7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target program relating orbit to period for Kepler’s third la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3267000" y="1719360"/>
            <a:ext cx="2610000" cy="34192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380880" y="304920"/>
            <a:ext cx="815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2.8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embers from the initial population of programs to solve the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rbital period probl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976320" y="1276200"/>
            <a:ext cx="7191360" cy="43056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753320" cy="26859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4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380880" y="3049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2.9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shaded region indicates the set of neighbors for the “game of life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3071880" y="1814400"/>
            <a:ext cx="3000240" cy="32292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380880" y="3049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2.10 A set of neighbors generating the “blinking” light phenomen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80880" y="35053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2.11 What happens to these patterns at the next time cycl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1"/>
          <a:stretch/>
        </p:blipFill>
        <p:spPr>
          <a:xfrm>
            <a:off x="2286000" y="1066680"/>
            <a:ext cx="4495680" cy="2162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"/>
          <p:cNvPicPr/>
          <p:nvPr/>
        </p:nvPicPr>
        <p:blipFill>
          <a:blip r:embed="rId2"/>
          <a:stretch/>
        </p:blipFill>
        <p:spPr>
          <a:xfrm>
            <a:off x="2438280" y="4038480"/>
            <a:ext cx="4429080" cy="190512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7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380880" y="3049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2.12 A “glider” moves across the displ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304920" y="31240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2.13 a “glider” is “consumed” by another “entity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6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229520" cy="13906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"/>
          <p:cNvPicPr/>
          <p:nvPr/>
        </p:nvPicPr>
        <p:blipFill>
          <a:blip r:embed="rId2"/>
          <a:stretch/>
        </p:blipFill>
        <p:spPr>
          <a:xfrm>
            <a:off x="914400" y="3962520"/>
            <a:ext cx="7229520" cy="15523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8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380880" y="304920"/>
            <a:ext cx="8763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2.14 Space-time diagrams showing the behavior of two As., discovered by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the genetic algorithm on different runs. They employ embedded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particles for the nonlocal computation of general emerging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patterns seen. Each space-time diagram iterates over a range of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time steps, with 1s given as black cells, 0s as white cells; time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increases down the page, from Crutchfield and Mitchell (1995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7801200" cy="389556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380880" y="304920"/>
            <a:ext cx="83822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2.15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llustration of a one-dimensional, binary-state, nearest-neighbor cellular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automaton with N = 11. Both the lattice and the rule table for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updating the lattice are illustrated. The lattice configuration is show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over one time step. The cellular automaton is circular in that the two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end values are neighbo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6981840" cy="38764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380880" y="304920"/>
            <a:ext cx="8382240" cy="19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able 12.4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talog of regular domains, particles (domain boundaries), particl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velocities (in parentheses), and particle interactions of the space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time behavior of the CA of Figure 11.14a. The notation p ~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means that p is  the particle forming the boundary between regular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domains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2057400" y="1905120"/>
            <a:ext cx="5114880" cy="43527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3" descr="_x000e_pg471_code.pct                                                 00026B37_x000c_Macintosh HD                   ABA78158:"/>
          <p:cNvPicPr/>
          <p:nvPr/>
        </p:nvPicPr>
        <p:blipFill>
          <a:blip r:embed="rId1"/>
          <a:stretch/>
        </p:blipFill>
        <p:spPr>
          <a:xfrm>
            <a:off x="179280" y="1631880"/>
            <a:ext cx="8785440" cy="35942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380880" y="3049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general form of the genetic algorith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380880" y="304920"/>
            <a:ext cx="8534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2.16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sis of the emergent logic for density classification of 11.14a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This CA has three domains, six particles, and six particl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iterations, as noted in Table 11.3. The domains have bee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filtered out using an 18-state nonlinear transducer; adapte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from Crutchfield and Mitchell (1994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5" descr=""/>
          <p:cNvPicPr/>
          <p:nvPr/>
        </p:nvPicPr>
        <p:blipFill>
          <a:blip r:embed="rId1"/>
          <a:stretch/>
        </p:blipFill>
        <p:spPr>
          <a:xfrm>
            <a:off x="1066680" y="2133720"/>
            <a:ext cx="7020000" cy="34574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6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0880" y="3049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2.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se of crossover on two bit strings of length eight. # is “don’t care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2057400" y="1676520"/>
            <a:ext cx="4981680" cy="22381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380880" y="3049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able 12.1 The gray coded bit patterns for the binary numbers 0, 1, …, 1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3186000" y="1285920"/>
            <a:ext cx="2772000" cy="42861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380880" y="30492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2.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enetic algorithms visualized as parallel hill climbing, adapted from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olland (1986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1519200" y="2147760"/>
            <a:ext cx="6105600" cy="25624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380880" y="30492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2.3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classifier system interacting with the environment, adapted from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olland (1986)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6567480" cy="43671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380880" y="30492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2.4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random generation of a program to initialize. The circled nodes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re from the set of func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1071720" y="1171440"/>
            <a:ext cx="7000560" cy="45151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380880" y="30492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2.5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wo programs, selected on fitness for crossover. Points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from a and b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re randomly selected for crossov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438200" y="1366920"/>
            <a:ext cx="6267600" cy="412416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380880" y="3049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2.6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child programs produced by crossover of the points in Fig 12.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504800" y="1319040"/>
            <a:ext cx="6134400" cy="42199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04:54:42Z</dcterms:created>
  <dc:creator>Pearson Shared Services</dc:creator>
  <dc:description/>
  <dc:language>en-US</dc:language>
  <cp:lastModifiedBy>George Luger</cp:lastModifiedBy>
  <dcterms:modified xsi:type="dcterms:W3CDTF">2008-05-20T08:02:56Z</dcterms:modified>
  <cp:revision>15</cp:revision>
  <dc:subject/>
  <dc:title>PowerPoint Presentation</dc:title>
</cp:coreProperties>
</file>