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16C-C08E-44A5-9BBD-6DA83F67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976-897F-48A2-A7DF-96FBA4F0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80BA-6003-4F52-9FEE-D446FD8B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F590-3F96-4757-8B38-A01C2351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705-5768-4AF9-8921-8FD20B08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68D-728C-4355-85A4-6F340D6A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CA0-6BDB-42F5-BDFC-978379BE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E93-8C6B-4985-B630-D732FD12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4B0-0464-4FFD-87A9-110E6244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A17D-F635-43C0-830E-CF59EDB1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B3B7-C2EC-4E53-920A-D8C806FA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AA5-EBDF-4018-B7BD-F7A5B21D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36FD-8293-4B50-8245-C6D0C934BA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5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057400" y="6858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earning: Connection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80880" y="1817640"/>
            <a:ext cx="41148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1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1.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undations for Connectionis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1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rceptron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1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ackpropagation Learn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495680" y="1817640"/>
            <a:ext cx="44960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1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petitiv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1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ebbian Coincidenc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1.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ttractor Networks or “Memori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1.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1.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" descr="cover.jpeg"/>
          <p:cNvPicPr/>
          <p:nvPr/>
        </p:nvPicPr>
        <p:blipFill>
          <a:blip r:embed="rId2"/>
          <a:stretch/>
        </p:blipFill>
        <p:spPr>
          <a:xfrm>
            <a:off x="152280" y="4343400"/>
            <a:ext cx="1905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3808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perceptron net for the example data of Table 11.3.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resholding function is linear and bipolar (see fig 11.7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481040" y="2190600"/>
            <a:ext cx="6181920" cy="2476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3367080" y="3581280"/>
            <a:ext cx="79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resholding fun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081080" y="1895400"/>
            <a:ext cx="6981840" cy="3067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85800" y="3808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error surface in two dimensions. Constant c dictates the size of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earning st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52480" y="1528920"/>
            <a:ext cx="5639040" cy="3800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ckpropagation in a connectionist network having a hidden lay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152360" y="1523880"/>
            <a:ext cx="6839280" cy="38102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191280" cy="3409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143000" y="4724280"/>
            <a:ext cx="7029360" cy="800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1 The network topology of NETtal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914400" y="1843200"/>
            <a:ext cx="7315200" cy="31716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85800" y="380880"/>
            <a:ext cx="815328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2 A backpropagation net to solve the exclusive-or problem.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j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e the weights and H is the hidden no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671480" y="2300400"/>
            <a:ext cx="5801040" cy="2257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85800" y="3808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3 A layer of nodes for application of a winner-take-all algorithm.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old input vectors support the winning n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038320" y="1428840"/>
            <a:ext cx="5067360" cy="4000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85800" y="3808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4 The use of a Kohonen layer, unsupervised, to generate a sequenc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of prototypes to represent the classes of Table 11.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629240" cy="46389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5800" y="3808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5 The architecture of the Kohonen based learning network for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data of Table 11.3 and classification of Fig 11.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5943600" cy="2133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85800" y="380880"/>
            <a:ext cx="861048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artificial neuron, input vecto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weights on each input line, and 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resholding function f that determines the neuron’s output value.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are with the actual neuron in fig 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1805040" y="2066760"/>
            <a:ext cx="5533920" cy="27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85800" y="38088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6 The “outstar” of node J, the “winner” in a winner-take-all network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Y vector supervises the response on the output layer i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rossberg training. The “outstar” is bold with all weights, 1; al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ther weights are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305480" cy="4372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85800" y="380880"/>
            <a:ext cx="815328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7 A counterpropagation network to recognize the classes in Tabl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11.3. We train the outstar weights of node A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d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429240" cy="4848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85800" y="38088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8 A SVM learning the boundaries of a chess board from point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generated according to the uniform distribution using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Gaussian kernels. The dots are the data points with the large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ots comprising the set of support vectors, the darker area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dicate the confidence in the classification. Adapted from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ristianini and Shawe-Taylor (200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4933800" cy="3610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 11.4 The signs and product of signs of node output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652760" y="2405160"/>
            <a:ext cx="5838480" cy="20476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5800" y="3808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9 An example neuron for application of a hybrid Hebbian node wher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learning is supervis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10480" cy="31813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20 A supervised Hebbian network for learning pattern associ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795320" y="1467000"/>
            <a:ext cx="5553360" cy="3924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380880"/>
            <a:ext cx="830592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21 The linear association network. The vecto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entered as input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and the associated vector Y is produced as output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linear combination of the x input. In training each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i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supplied with its correct output sign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647960" cy="44006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85800" y="3808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22 A linear associator network for the example in Section 11.5.4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The weight matrix is calculated using the formula presente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in the previous s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2286000" y="1962000"/>
            <a:ext cx="4572000" cy="2934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3808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23 A BAM network for the examples of Section 11.6.2. Each node may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also be connected to itself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2076480" y="1790640"/>
            <a:ext cx="4991040" cy="32767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85800" y="380880"/>
            <a:ext cx="83059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24 An autoassociative network with an input vecto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We assum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single links between nodes with unique indices, thu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j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j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and the weight matrix is symmetr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542960" y="2486160"/>
            <a:ext cx="6058080" cy="18856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cCulloch-Pitts neurons to calculate the logic functions and and 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281720" cy="1797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11.1 The McCulloch-Pitts model for logical 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914400" y="1832040"/>
            <a:ext cx="7391520" cy="3149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11.2 The truth table for exclusive-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772400" cy="3389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85800" y="3808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exclusive-or problem. No straight line in two-dimensions ca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parate the (0, 1) and (1, 0) data points from (0, 0) and (1, 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2476440" y="1638360"/>
            <a:ext cx="4191120" cy="3581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full classification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085760" y="1876320"/>
            <a:ext cx="6972480" cy="3105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11.3 A data set for perceptron classif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409840" y="809640"/>
            <a:ext cx="4324320" cy="5238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85800" y="3808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two-dimensional plot of the data oints in Table 11.3.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ceptron of Section 11.2.1 provides a linear separation of the data s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239160" cy="4857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4:33:11Z</dcterms:created>
  <dc:creator>Pearson Shared Services</dc:creator>
  <dc:description/>
  <dc:language>en-US</dc:language>
  <cp:lastModifiedBy>George Luger</cp:lastModifiedBy>
  <dcterms:modified xsi:type="dcterms:W3CDTF">2008-05-20T08:02:01Z</dcterms:modified>
  <cp:revision>15</cp:revision>
  <dc:subject/>
  <dc:title>PowerPoint Presentation</dc:title>
</cp:coreProperties>
</file>