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EDE-9853-44D7-AA8F-A553F78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ED4-A7EC-427D-9956-412CE37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9F0-75ED-45D0-8AF9-55AD32C2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E4A-5DD7-4BF0-914C-AD15923E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7C4-A307-4EAF-BC4F-B451CA48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F79-87C4-423A-8807-F140AB6B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D45-C3C7-46ED-8DC4-87A7A8E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A59-02BB-4732-8CC5-983BCC0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39B-7128-424F-8097-B7118640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E55-3CA2-4444-9FA8-333F058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675-E0CA-4A4C-B4AF-9E10C10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33B-56D7-4ACA-A4B3-0ECA4AE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4E4A-B25B-4D30-8B65-A6D5F189A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Symbol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80880" y="1817640"/>
            <a:ext cx="4114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Framework for Symbol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ersion Space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ID3 Decision Tree Inductio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ductive Bias and Learn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495680" y="1817640"/>
            <a:ext cx="44960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ledge and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419720"/>
            <a:ext cx="197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ole of negative examples in preventing overgenera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4856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fic to gerneral search of the version space learning the concep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5073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lgorithm specializes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generalizes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til they converge on the target concept. The algorithm is def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_x000e_pg365_unl1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371600"/>
            <a:ext cx="7658280" cy="4794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to specific search of the version space learning the concep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66680" y="1330200"/>
            <a:ext cx="7086600" cy="4956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andidate elimination algorithm learning the concept “red 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41988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0 Converging boundaries of the G and S sets in the candid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limination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62120" y="14302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1 A portion of LEX’s hierarchy of symb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67800" cy="5349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2 A version space for OP2, adapted from Mitchell et al. (198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29360" cy="4981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0.1 Data from credit history of loan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76520" y="971640"/>
            <a:ext cx="5790960" cy="4914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3 A decision tree for credit risk assess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03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model of the learn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066680" y="1379520"/>
            <a:ext cx="6858000" cy="4888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4 a simplified decision tree for credit risk assess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80960" y="1442880"/>
            <a:ext cx="8182080" cy="3972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457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duction algorithm begins with a sample of correctly classified members of the target categories. ID3 constructs a decision tree according to the algorith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_x000e_pg376_code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187280" y="1600200"/>
            <a:ext cx="7956720" cy="4402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5 A partially constructed decision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3276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6 Another partially constructed decision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7077240" cy="1933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6629400" cy="289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10.2 The evaluation of I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29640" cy="293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7 Specific and generalized proof that an object, X, is a c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172200" cy="5479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8 An explanation structure of the cup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228680" y="1057320"/>
            <a:ext cx="6686640" cy="474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9 An analogical ma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0 The steps of a CLUSTER/2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62120" y="1382760"/>
            <a:ext cx="8153280" cy="4751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1 A COBWEB clustering for four one-celled organisms, adap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rom Gennari et al. (198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07200" cy="5224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_x000e_pg404_code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822320" y="914400"/>
            <a:ext cx="5205600" cy="5653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BWEB algorithm is def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and near misses for the concept “arch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04800" y="947880"/>
            <a:ext cx="6134400" cy="49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2 Merging and splitting of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0160" cy="5000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45720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3 A sequence of tic-tac-toe moves. Dashed arrows indic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ossible move choices, down solid arrows indicate selec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oves, up solid arrows indicate reward, when rew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unction changes state’s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133440" cy="4786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4 Backup diagrams for (a) V* and (b) Q*, adapted from Sutt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arto (199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414440" y="2300400"/>
            <a:ext cx="6315120" cy="2257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5 A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762120" y="3048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6 An example of a 4 x 4 grid world, adapted form Sutton and Bar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199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19480" cy="1390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229360" cy="2124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ization of descriptions to include multipl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605640" cy="436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eneralization of descriptions to include multiple example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19920" cy="39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alization of a description to exclude a near miss. In 10.4c w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constraints to 10.4a so that it can’t match with 10.4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448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ncept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pecific to general search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hypothesis set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_x000e_pg362_unl1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219320"/>
            <a:ext cx="7937640" cy="450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762120" y="457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lgorithm, negative instances lead to the specialization of candidate concepts; the algorithm uses positive instances to eliminate overly specialized conce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&#13;pg363_unl.pct 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988920" y="1676520"/>
            <a:ext cx="8155080" cy="4397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2:26:06Z</dcterms:created>
  <dc:creator>Pearson Shared Services</dc:creator>
  <dc:description/>
  <dc:language>en-US</dc:language>
  <cp:lastModifiedBy>George Luger</cp:lastModifiedBy>
  <dcterms:modified xsi:type="dcterms:W3CDTF">2008-05-20T08:00:50Z</dcterms:modified>
  <cp:revision>19</cp:revision>
  <dc:subject/>
  <dc:title>PowerPoint Presentation</dc:title>
</cp:coreProperties>
</file>