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378A-70B2-4713-8457-B0FE3D5E8D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FBB0-6DA7-407B-AB3F-64F184D879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chapter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A5CD-0FA5-4EB8-9868-8885FFB86A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09E-CD96-488D-807B-1D5AFD2A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8D9-77AD-4D40-B7F5-0F11F4AD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92C-A04B-4518-B0F2-CF8C701C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147-DA21-419A-809C-B782FE21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E15-7870-4958-87B1-F9D3C6ED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E69-24A6-44BD-AC84-2469E265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DB6-F090-4154-BBB8-1F06AF43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039-B29B-4317-9039-B0B39FF3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7EA-8949-4829-9676-217C0C2B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0E9-3AA7-4C1E-8EF2-1CD87F46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2DB-7C4A-4388-96D2-3D33546A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C9C-C507-48E7-8C62-25B839D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D46C-4562-4DB1-946E-9C0D7C179A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E4E9-4E52-49D9-8C70-D61F615DD5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0" y="464832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133720" y="464832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2133720" y="60199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05740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tificial Intellig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057400" y="8380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s Roots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80880" y="1828800"/>
            <a:ext cx="396252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rom Eden to ENIAC: Attit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ward Intelligence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nowledge, and Human Arti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verview of AI Application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876920" y="1828800"/>
            <a:ext cx="4114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rtificial Intelligence – A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5256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cover.jpeg"/>
          <p:cNvPicPr/>
          <p:nvPr/>
        </p:nvPicPr>
        <p:blipFill>
          <a:blip r:embed="rId2"/>
          <a:stretch/>
        </p:blipFill>
        <p:spPr>
          <a:xfrm>
            <a:off x="0" y="419112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C484-AF2F-4F7E-BB5F-6166119005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1557360" y="1714680"/>
            <a:ext cx="602928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5335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.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uring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4268-01B9-4776-A736-2800CFA2F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0880" y="304920"/>
            <a:ext cx="609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imes New Roman"/>
              </a:rPr>
              <a:t>Important Research and Application Are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762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me Pla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omated Reasoning and Theorem Pr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er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ural Language Understanding and Semantic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ling Huma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nning and Robo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nguages and Environments for 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ternative Representations: Neural Nets and Genetic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 and Philos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1261-C1D0-44A6-8377-29CB45186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808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mportant Features of Artificial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80880" y="762120"/>
            <a:ext cx="82296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use of computers to do reasoning, pattern recognition, learning, or some other form of in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focus on problems that do not respond to algorithmic solutions. This underlies the reliance on heuristic search as an AI problem-solving techn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concern with problem-solving using inexact, missing, or poorly defined information and the use of representational formalisms that enable the programmer to compensate for these probl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soning about the significant qualitative features of a situ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 attempt to deal with issues of semantic meaning as well as syntactic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swers that are neither exact nor optimal, but are in some sense “sufficient”. This is a result of the essential reliance on heuristic problem-solving methods in situations where optimal or exact results are either too expensive or not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use of large amounts of domain-specific knowledge in solving problems. This is the basis of expert sys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use of meta-level knowledge to effect more sophisticated control of problem-solving strategies. Although this is a very difficult problem, addressed in relatively few current systems, it is emerging as an essential are of resear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7:17:57Z</dcterms:created>
  <dc:creator>Pearson Shared Services</dc:creator>
  <dc:description/>
  <dc:language>en-US</dc:language>
  <cp:lastModifiedBy>George Luger</cp:lastModifiedBy>
  <dcterms:modified xsi:type="dcterms:W3CDTF">2008-05-20T07:49:51Z</dcterms:modified>
  <cp:revision>21</cp:revision>
  <dc:subject/>
  <dc:title>PowerPoint Presentation</dc:title>
</cp:coreProperties>
</file>