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8.pct" ContentType="image/x-pict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2BC-1382-4BFC-8F8A-85451857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9F2-27BB-4DBD-BB04-04D59A41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E32-F711-435A-978D-E3890A9D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9FC-D619-4B2C-B16F-28059934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706-C493-4279-8610-A64288E0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3BC-9534-4196-B105-82E939FB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AEE-21ED-418C-9DDE-52ABC1B1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E45-0B7D-47E0-BC0C-9D12A910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A08-C38C-4101-8600-B5003661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856-C6F7-49EB-920E-9942B9E8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FBC-47C8-4F21-8EBB-CB6E1D8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951-8921-406D-ACF8-168AE4CB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2092-5B14-4161-8EE8-FE168D904E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8.pct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533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soning in Uncertain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gic-Based Abductive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bduction: Alternatives to Logi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tochastic Approach to Un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9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267080"/>
            <a:ext cx="21337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regions for the input valu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a) and 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/d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b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781200" y="2124000"/>
            <a:ext cx="7581600" cy="261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regions of the output value u, indicating the movemen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f the pendulum base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028880" y="2185920"/>
            <a:ext cx="7086600" cy="2486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90720" y="533520"/>
            <a:ext cx="7924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ificzation of the input measur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923760" y="2343240"/>
            <a:ext cx="7296480" cy="21715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Associative Matrix (FAM) for the pendulum problem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input values are on the left and top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685960" y="2228760"/>
            <a:ext cx="3772080" cy="2400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433600" y="1928880"/>
            <a:ext cx="4276800" cy="3000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consequents (a) and their union (b). The centroid of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on (-2) is the crisp output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976560" cy="5019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mpster’s rule states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300400" y="2819520"/>
            <a:ext cx="4543200" cy="1218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90720" y="533520"/>
            <a:ext cx="7924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9.1 Using Dempster’s rule to obtain a belief distribution fo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923760" y="2467080"/>
            <a:ext cx="7296480" cy="192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76720" y="6572160"/>
            <a:ext cx="55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79250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9.2 Using Dempster’s rule to combin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to ge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1"/>
          <a:stretch/>
        </p:blipFill>
        <p:spPr>
          <a:xfrm>
            <a:off x="642960" y="1795320"/>
            <a:ext cx="7858080" cy="3267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raphical model for the traffic problem, first introduced i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tion 5.3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838160" y="2576520"/>
            <a:ext cx="5467680" cy="1704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justification network to believe that David studies hard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390680" y="2252520"/>
            <a:ext cx="6362640" cy="2352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6304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990720" y="533520"/>
            <a:ext cx="7924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is a serial connection of nodes where influence runs between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 unless V is instantiated. 9.15b is a diverging connection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influence runs between V’s children, unless V 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antiated. In 9.15c, a converging connection, if nothing 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nown about V the its parents are independent, otherwi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rrelations exist between its par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00200" y="2449440"/>
            <a:ext cx="6553080" cy="3313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81760" cy="3171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552760" y="2224080"/>
            <a:ext cx="4038480" cy="2409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990720" y="533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9.4 The probability distribution for p(WS), a function of p(W)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p(R) given the effect of S. We calculate the effect for x, 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 = t and W = 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90720" y="533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example of a Bayesian probabilistic network, where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bability dependencies are located next to each node. Th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 is from Pearl (198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190520" y="1967040"/>
            <a:ext cx="6762960" cy="2923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junction tree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57240" y="1523880"/>
            <a:ext cx="8186760" cy="3591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90720" y="533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junction tree (a) for the Bayesian probabilistic network of (b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 that we started to construct the transition table for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tangle R, W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23920" y="2009880"/>
            <a:ext cx="5096160" cy="28382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1435320" cy="71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1435320" cy="71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4267080" y="1523880"/>
            <a:ext cx="1435320" cy="711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695960" y="2286000"/>
            <a:ext cx="370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 - 1          --&gt;             t             --&gt;           t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260360" y="2838600"/>
            <a:ext cx="477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9.18. The traffic problem, Figure 9.14, represen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 dynamic Bayesian net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3200400" y="655308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4375080" cy="2229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057400" y="3657600"/>
            <a:ext cx="547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9.19 Typical time series data to be analyz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ynamic Bayesian net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2590920" y="647712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          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19320" y="533520"/>
            <a:ext cx="79246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1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Markov state machine or Markov chain with four states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..., s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619280" y="2247840"/>
            <a:ext cx="5905440" cy="2362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.2(a) is a premise justification, and 9.2 (b) the ANDing of two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liefs, a and not b, to support c (Goodwin 1982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63040" cy="2457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63040" cy="2952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362480" cy="1467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1523880" y="3581280"/>
            <a:ext cx="6953400" cy="1590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53320" cy="2581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536560" y="4191120"/>
            <a:ext cx="382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MM is discussed further in Chapter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w labelling of fig 9.1 associated with the new premi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ty_person(david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00200" y="1913040"/>
            <a:ext cx="5867280" cy="3011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TMS labeling of nodes in a dependency network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43000" y="1949400"/>
            <a:ext cx="7391520" cy="3422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attice for the premises of the network of fig 9.4. Circled set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dicate the hierarchy inconsistencies, after Martins (199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172200" cy="3902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zzy set representation for “small integers.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38360" y="2209680"/>
            <a:ext cx="5867280" cy="2438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907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fuzzy set representation for the sets short, medium, and tal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le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66760" y="2104920"/>
            <a:ext cx="6810480" cy="2648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907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9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inverted pendulum and the angl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dt input value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19200" y="1486080"/>
            <a:ext cx="430560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8381880" y="6576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6:34:51Z</dcterms:created>
  <dc:creator>Pearson Shared Services</dc:creator>
  <dc:description/>
  <dc:language>en-US</dc:language>
  <cp:lastModifiedBy>George Luger</cp:lastModifiedBy>
  <dcterms:modified xsi:type="dcterms:W3CDTF">2008-05-20T07:59:46Z</dcterms:modified>
  <cp:revision>24</cp:revision>
  <dc:subject/>
  <dc:title>PowerPoint Presentation</dc:title>
</cp:coreProperties>
</file>