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3B6-E04E-4158-8856-67617B25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CF1-4096-4FE2-885D-DE39529B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C2E-0D22-47CB-858E-850F40B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74B-5353-4692-87F8-171732D0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AA9-C035-4382-9A76-34FE7DA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507-28BB-42CC-B80F-D3D052E2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CFB-E08D-4E3F-9A20-E8F5C43F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802-A229-4CF1-891F-62B4DA70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589-1F8D-4B1F-A1A7-07FBD87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76A-8581-4081-BE1E-A558A91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80C-E9B1-4CBD-88B7-3D7F0BB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0CF-8D8C-4375-A3DA-5604989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CD6-94CB-4000-B9F2-01394D824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33720" y="457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ong Method Problem Sol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verview of Expert Syste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le-Based Expe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el-Based, Case-Based an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914400" cy="92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191120"/>
            <a:ext cx="2278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33520" y="5335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nd/or graph searched in the car diagnosis example, with the conclusion of Rule 4 matching the first premise of Rul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181480" cy="5043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0492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dialogue begins with the computer asking the user about the goals present in working memo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5800" y="1143000"/>
            <a:ext cx="77724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fuel tan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carburet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ngine will turn ov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 has been established tha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1. The engine is getting g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. The engine will turn o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 the problem is the spark plu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the engine is getting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is follows from rule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fuel tank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carbur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ngine is getting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fuel tank was given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as in carburetor was given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8580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t the start of a consultation for data-drive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so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671480" y="1967040"/>
            <a:ext cx="5801040" cy="2923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762120" y="6094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fter evaluating the first premise of Rule 2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then f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581280" cy="1749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762120" y="33526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data-driven production system after considering Rule 4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ginning its second pass through the r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2514600" y="4160880"/>
            <a:ext cx="3886200" cy="2319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380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earch graph as described by the contents of working memor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WM) for the data-driven breadth-first search of the rule set of Sec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.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486400" cy="505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14400" y="533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ehavior description of an adder after Davis and Hamsch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728800" y="2009880"/>
            <a:ext cx="3686400" cy="2838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king advantage of direction of information flow, after Dav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Hamscher (199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638360" y="1490760"/>
            <a:ext cx="5867280" cy="3876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chematic of the simplified Livingstone propulsion system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Williams and Nayak (1996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5172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odel-based configuration management system,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lliams and Nayak (1996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290680" y="1833480"/>
            <a:ext cx="4562640" cy="3191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282680" y="380880"/>
            <a:ext cx="6578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-based reasoners share a common structure. For each new problem they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ppropriate cases from memor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 a retrieved case so that it will apply to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situ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the transformed ca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he solution, with a record of success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, for future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e of a typical expert system for a particular problem do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&#9;F0701.pct    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63520" y="1301760"/>
            <a:ext cx="8618400" cy="4253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77760" y="387360"/>
            <a:ext cx="7188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lodner (1993) offers a set of possible preference heuristics to help organize the storage and retrieval of cases. These includ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al-directed preferenc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ganize cases, at least in part,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 descriptions. Retrieve cases that have the same goal a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situa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ient-feature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er cases that match the mo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features or those matching the largest number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featur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pecify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for as exact as possible matches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s before considering more general match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requency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first the most frequently match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cency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er cases used most recent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ase of adaptation preference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irst cases most easi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to the current sit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formational analogy, adapted from Carbonell (198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614600" y="1247760"/>
            <a:ext cx="5914800" cy="4362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_x000c_pg280_nl.pct 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63520" y="334800"/>
            <a:ext cx="8616960" cy="5399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&#13;pg281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16000" y="330120"/>
            <a:ext cx="8483400" cy="5311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&#13;pg281_nl2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330120" y="347760"/>
            <a:ext cx="8483760" cy="6162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&#13;pg282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311040" y="330120"/>
            <a:ext cx="8520120" cy="3070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&#13;pg282_nl3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266760" y="241200"/>
            <a:ext cx="8610480" cy="4707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&#13;pg283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531720" y="330120"/>
            <a:ext cx="8080560" cy="251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&#13;pg283_nl2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517680" y="330120"/>
            <a:ext cx="8108640" cy="276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&#13;pg283_nl3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512640" y="330120"/>
            <a:ext cx="8116920" cy="2587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851040" y="1447920"/>
            <a:ext cx="8292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ed for the solution justifies the cost and effort of building an exper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expertise is not available in all situations where it is nee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may be solved using symbolic reaso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domain is well structured and does not require commonsense reaso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may not be solved using traditional computing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ve and articulate experts ex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s of proper size and sc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uidelines to determine whether a problem is appropriate for expert system solu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locks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704960" y="1500120"/>
            <a:ext cx="5734080" cy="3857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_x000f_pg286_table.pct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1676520" y="1295280"/>
            <a:ext cx="5484600" cy="2198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_x000f_pg288_table.pct                                                00026930_x000c_Macintosh HD                   ABA78158:"/>
          <p:cNvPicPr/>
          <p:nvPr/>
        </p:nvPicPr>
        <p:blipFill>
          <a:blip r:embed="rId2"/>
          <a:stretch/>
        </p:blipFill>
        <p:spPr>
          <a:xfrm>
            <a:off x="1752480" y="3809880"/>
            <a:ext cx="5430960" cy="2151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locks world of figure 8.18 may now be represented by the following set of predic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&#13;pg287_nl1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1219320" y="1523880"/>
            <a:ext cx="7599240" cy="4052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number of truth relations or rules for performance are created for the clear (X), ontable (X), and gripping (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rtion of the state space for a portion of the blocks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757520" y="1176480"/>
            <a:ext cx="5628960" cy="4505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#13;pg290_unl.pct                                                  00026930_x000c_Macintosh HD                   ABA78158:"/>
          <p:cNvPicPr/>
          <p:nvPr/>
        </p:nvPicPr>
        <p:blipFill>
          <a:blip r:embed="rId1"/>
          <a:stretch/>
        </p:blipFill>
        <p:spPr>
          <a:xfrm>
            <a:off x="1905120" y="1752480"/>
            <a:ext cx="5638680" cy="4183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ing blocks example, the four operators pickup, putdown, stack, and unstack are represented as triples of descri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 state for the blocks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28960" y="1523880"/>
            <a:ext cx="5086080" cy="38102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riangle table, adapted from 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033560" y="966960"/>
            <a:ext cx="7076880" cy="492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imple TR tree showing condition action rules supporting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p-level goal, from Klein et al. (2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190600" y="1200240"/>
            <a:ext cx="4762800" cy="4457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-based reactive configuration management, from Willia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Nayak (1996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123920" y="1643040"/>
            <a:ext cx="6896160" cy="3571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990720" y="533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ransition system model of a valve, from Williams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yak (1996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295280" y="1871640"/>
            <a:ext cx="6553440" cy="3114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oratory development 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800520" cy="5067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 estimation (ME), from Williams and Nayak (1996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776160" y="1386000"/>
            <a:ext cx="7591680" cy="408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90720" y="5335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 reconfiguration (MR), from Williams and Nayak (1996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28480" y="1442880"/>
            <a:ext cx="8087040" cy="3972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3520" y="14479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ole of mental or conceptual models in problem solv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6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304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mall expert system for analysis of automotive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295280" y="914400"/>
            <a:ext cx="762012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1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is getting ga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will turn o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spark plu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2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does not turn ove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lights do not com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battery or c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3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does not turn ove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lights do com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the starter mo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ule 4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gas in the fuel tank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gas in the carbur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ngine is getting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838080" y="609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t the start of a consultation in the ca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nostic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171880" y="1776240"/>
            <a:ext cx="4800600" cy="3305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457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oduction system after Rule 1 has f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09720" y="1685880"/>
            <a:ext cx="5524560" cy="34862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094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8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ystem after Rule 4 has fired. Note the stack-based approach t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 re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943280" y="1366920"/>
            <a:ext cx="5257800" cy="412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09:41:01Z</dcterms:created>
  <dc:creator>Pearson Shared Services</dc:creator>
  <dc:description/>
  <dc:language>en-US</dc:language>
  <cp:lastModifiedBy>George Luger</cp:lastModifiedBy>
  <dcterms:modified xsi:type="dcterms:W3CDTF">2008-05-20T07:58:38Z</dcterms:modified>
  <cp:revision>18</cp:revision>
  <dc:subject/>
  <dc:title>PowerPoint Presentation</dc:title>
</cp:coreProperties>
</file>