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F69C-9EB8-49E9-AF3A-5FCBA339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1DED-CDCC-4C6F-86F4-9F51355A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74C1-08B0-4CA5-AA10-6180EACD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6EC6-61BD-4C82-A0D9-9899A740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03F8-65F4-4185-A61F-5BCD2641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A5D5-0C78-4F31-953F-9FC58DA3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784A-7F68-4C65-AD37-C7C25EEB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8188-05A3-491F-8EB8-20113D82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656C-4153-41A8-B2F4-439361C4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38DB-0E3C-4FF6-BDBF-166D83F2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1FD2-AFBE-458F-B6BA-E499DD7A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82C9-6E41-4530-819F-6C8289D4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56B5-58F4-4B95-BE2E-DA1F788737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286000" y="4637160"/>
            <a:ext cx="6629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orge F L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RTIFICIAL INTELLIGENC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6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uctures and Strategies for Complex Problem 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4"/>
          <p:cNvSpPr/>
          <p:nvPr/>
        </p:nvSpPr>
        <p:spPr>
          <a:xfrm>
            <a:off x="2133720" y="463716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5"/>
          <p:cNvSpPr/>
          <p:nvPr/>
        </p:nvSpPr>
        <p:spPr>
          <a:xfrm>
            <a:off x="2133720" y="600876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057400" y="3697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nowledge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80880" y="1817640"/>
            <a:ext cx="41148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7.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ssues in Knowledge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7.1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 Brief History of AI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presentational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7.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nceptual Graphs: A Networ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495680" y="1817640"/>
            <a:ext cx="449604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7.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lternatives to Explicit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7.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gent Based and Distributed Problem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7.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pilogue and 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7.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905040" cy="91440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97B5-C5ED-4EC9-856E-D1264E0521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1" descr="cover.jpeg"/>
          <p:cNvPicPr/>
          <p:nvPr/>
        </p:nvPicPr>
        <p:blipFill>
          <a:blip r:embed="rId2"/>
          <a:stretch/>
        </p:blipFill>
        <p:spPr>
          <a:xfrm>
            <a:off x="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73080" y="54000"/>
            <a:ext cx="90709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7.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ptual dependency representing “John ate the egg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chank and Rieger 1974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&#9;F0609.pct                                                      0002728E_x000c_Macintosh HD                   ABA78158:"/>
          <p:cNvPicPr/>
          <p:nvPr/>
        </p:nvPicPr>
        <p:blipFill>
          <a:blip r:embed="rId1"/>
          <a:stretch/>
        </p:blipFill>
        <p:spPr>
          <a:xfrm>
            <a:off x="1676520" y="838080"/>
            <a:ext cx="5783040" cy="16146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73080" y="2860560"/>
            <a:ext cx="9070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34960" indent="-143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7.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ptual dependency representation of the sentence “John prevented Mary from giving a book to Bill” (Schank and Rieger 1974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&#9;F0610.pct                                                      0002728E_x000c_Macintosh HD                   ABA78158:"/>
          <p:cNvPicPr/>
          <p:nvPr/>
        </p:nvPicPr>
        <p:blipFill>
          <a:blip r:embed="rId2"/>
          <a:stretch/>
        </p:blipFill>
        <p:spPr>
          <a:xfrm>
            <a:off x="2362320" y="3581280"/>
            <a:ext cx="4167000" cy="2671920"/>
          </a:xfrm>
          <a:prstGeom prst="rect">
            <a:avLst/>
          </a:prstGeom>
          <a:ln w="0">
            <a:noFill/>
          </a:ln>
        </p:spPr>
      </p:pic>
      <p:sp>
        <p:nvSpPr>
          <p:cNvPr id="88" name="Line 7"/>
          <p:cNvSpPr/>
          <p:nvPr/>
        </p:nvSpPr>
        <p:spPr>
          <a:xfrm>
            <a:off x="184320" y="2654280"/>
            <a:ext cx="8775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4387-997A-4240-AD11-9027DC2A77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1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restaurant script (Schank and Abelson, 1977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4226040" cy="5829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3327-AF83-4768-90E2-F69D5D48AF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510400" cy="47642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304920" y="3808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frame inclu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48F0-4BF1-422C-87FC-652DA19BD7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0" y="304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1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rt of a frame description of a hotel room. “Specialization” indicates a pointe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a super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600440" cy="42004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EE77-D215-4C87-BEC0-CC00EA694D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304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1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patial frame for viewing a cube (Minsky, 1975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&#9;F0613.pct                                                      0002728E_x000c_Macintosh HD                   ABA78158:"/>
          <p:cNvPicPr/>
          <p:nvPr/>
        </p:nvPicPr>
        <p:blipFill>
          <a:blip r:embed="rId1"/>
          <a:stretch/>
        </p:blipFill>
        <p:spPr>
          <a:xfrm>
            <a:off x="214200" y="1244520"/>
            <a:ext cx="8715600" cy="4368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AC62-D60B-4B49-874D-60AB1A3DA8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73080" y="304920"/>
            <a:ext cx="9070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34960" indent="-143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7.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ptual relations of different ar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5415120" cy="4413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09AF-DA48-4344-BB6B-7E1130C955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304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1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raph of “Mary gave John the book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966960" y="2533680"/>
            <a:ext cx="7210080" cy="1790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04EF-3690-4A74-B7F2-412508C9AC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1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ceptual graph indicating that the dog named Emma is bro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1905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1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ceptual graph indicating that a particular (but unnamed) dog is bro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0" y="3505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1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ceptual graph indicating that a dog named Emma is bro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077160" cy="590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1447920" y="2514600"/>
            <a:ext cx="6095880" cy="581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3"/>
          <a:stretch/>
        </p:blipFill>
        <p:spPr>
          <a:xfrm>
            <a:off x="1523880" y="4191120"/>
            <a:ext cx="6019920" cy="15904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0323-E76B-4FBD-96EA-FC1F61C3BA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30492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1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ceptual graph of a person with three na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219320" y="1628640"/>
            <a:ext cx="6705360" cy="3600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A439-73AD-43D1-B49C-B89BCE42B6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304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2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ceptual graph of the sentence “The dog scratches its ear with its paw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609480" y="1805040"/>
            <a:ext cx="7925040" cy="32479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C293-7EC8-48BD-A052-8802DD8AB6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80880" y="685800"/>
            <a:ext cx="83059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Fig 7.1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Semantic network developed by Collins and Quillian in their research on human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information storage and response times (Harmon and King, 1985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1757520" y="1490760"/>
            <a:ext cx="5628960" cy="3876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C048-45FB-4B82-8DF9-6FA984C6FC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380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2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type lattice illustrating subtypes, supertypes, the universal type, and th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bsurd type. Arcs represent the relationshi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3286080" cy="4905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9380-324C-4532-80E3-61F09A584A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2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ples of restrict, join, and simplify oper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2819520" y="838080"/>
            <a:ext cx="3603600" cy="56674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ADF5-CE7E-4D87-8684-EBF9436910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2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heritance in conceptual grap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876320" y="1766880"/>
            <a:ext cx="5391360" cy="3324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3B40-30A3-496E-9EDA-0D77F7C829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0" y="228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2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ceptual graph of the statement “Tom believes that Jane likes pizza,”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howing the use of a propositional conce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1538280" y="1542960"/>
            <a:ext cx="6067440" cy="37720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2898-E56D-4AAB-9415-A65ED7382A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0" y="304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2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ceptual graph of the proposition “There are no pink dogs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562040" y="2238480"/>
            <a:ext cx="6019920" cy="23810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8909-F841-4BBA-A3E4-B478D9D53C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3808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2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functions of the three-layered subsumption architecture from Brook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1991a). The layers are described by the AVOID, WANDER, and EXPLOR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haviou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814400" y="1657440"/>
            <a:ext cx="5515200" cy="35431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003E-BA79-43B9-8315-3D1BDA6110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0" y="304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2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possible state of the copycat workspace. Several examples of bonds an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nks between the letters are shown; adapted from Mitchell (199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447920" y="1957320"/>
            <a:ext cx="6248160" cy="2943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5734-BFAC-4732-AF20-F1C9E6A76D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228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2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small part of copycat’s slipnet with nodes, links, and label nodes shown;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apted from Mitchell (199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909720" y="1881360"/>
            <a:ext cx="7324560" cy="30952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87B1-D527-4D73-8EAD-8731645EEA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0" y="304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2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wo conceptual graphs to be translated into Engli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1552680" y="814320"/>
            <a:ext cx="6038640" cy="52293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8BAB-A5BB-4FAB-AF23-2683278490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3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ple of analogy test probl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081400" cy="30747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8381880" y="6576840"/>
            <a:ext cx="76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E979-36AB-44E3-9F76-3112427025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80880" y="6094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twork representation of properties of snow and 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895400" y="1015920"/>
            <a:ext cx="5114880" cy="50608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8664-EB47-48A3-AB8F-1BB7120786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04920" y="3808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ree planes representing three definitions of the word “plant” (Quillian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967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343480" cy="4714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7BEB-4589-4569-BE17-DFF2CB981C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04920" y="380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rsection path between “cry” and “comfort” (Quillian 1967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6958080" cy="41878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BCC4-1748-4F31-A83E-A97877B9CB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04920" y="30492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se frame representation of the sentence “Sarah fixed the chair with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lu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610320" cy="28670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8EA2-7082-45B3-AC1B-4AF979C12A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_x000e_pg206A_unl.pct                                                 00026932_x000c_Macintosh HD                   ABA78158:"/>
          <p:cNvPicPr/>
          <p:nvPr/>
        </p:nvPicPr>
        <p:blipFill>
          <a:blip r:embed="rId1"/>
          <a:stretch/>
        </p:blipFill>
        <p:spPr>
          <a:xfrm>
            <a:off x="457200" y="762120"/>
            <a:ext cx="8085240" cy="55782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457200" y="228600"/>
            <a:ext cx="6172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0" y="3049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ptual dependency theory of four primitive conceptual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58A7-B9B8-464F-B92D-4DC84959B5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ceptual dependencies (Schank and Rieger, 1974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&#9;F0606.pct                                                      0002728E_x000c_Macintosh HD                   ABA78158:"/>
          <p:cNvPicPr/>
          <p:nvPr/>
        </p:nvPicPr>
        <p:blipFill>
          <a:blip r:embed="rId1"/>
          <a:stretch/>
        </p:blipFill>
        <p:spPr>
          <a:xfrm>
            <a:off x="1219320" y="914400"/>
            <a:ext cx="6172200" cy="53071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6DC2-C378-4053-BFD6-A816F71260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228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7.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bacis conceptual dependencies and their use in representing mor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lex English sentences, adapted from Schank and Colby (197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4581360" cy="5238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2B4C-3048-4426-B94E-DB68B648FC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9:46:47Z</dcterms:created>
  <dc:creator>Pearson Shared Services</dc:creator>
  <dc:description/>
  <dc:language>en-US</dc:language>
  <cp:lastModifiedBy>George Luger</cp:lastModifiedBy>
  <dcterms:modified xsi:type="dcterms:W3CDTF">2008-05-20T07:57:24Z</dcterms:modified>
  <cp:revision>18</cp:revision>
  <dc:subject/>
  <dc:title>PowerPoint Presentation</dc:title>
</cp:coreProperties>
</file>