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8A5B-6FB0-4540-9E1D-09FC29D1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22C-0D3F-4E1C-95FA-C6598EE2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6D3A-C079-4FF6-83A9-E0E7575B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348-E368-4E81-85A0-6969C4FC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681-DEFF-4D9C-83C7-D0E33758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3755-40A5-4DD0-BD84-616E45A5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D429-1E04-4F85-A83E-91030345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43F9-CB9C-4F1B-9C2A-02DE6DBF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1215-4007-47A4-B8A6-360AB5E3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300B-3637-4E97-BB03-3F9EC28D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CA1A-2C41-477D-BAD1-9C1C0E78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D4A-B812-44C1-A976-022AFEA1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05D2-11F7-4DB9-BD3C-6356EC7209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286000" y="463716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4"/>
          <p:cNvSpPr/>
          <p:nvPr/>
        </p:nvSpPr>
        <p:spPr>
          <a:xfrm>
            <a:off x="2133720" y="463716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5"/>
          <p:cNvSpPr/>
          <p:nvPr/>
        </p:nvSpPr>
        <p:spPr>
          <a:xfrm>
            <a:off x="2133720" y="600876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057400" y="36972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ilding Control Algorithms For State Space Sea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80880" y="1817640"/>
            <a:ext cx="3962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1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ursion-Based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876920" y="1817640"/>
            <a:ext cx="41148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5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Blackboard Architecture for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5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5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923760" cy="9050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2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1" descr="cover.jpeg"/>
          <p:cNvPicPr/>
          <p:nvPr/>
        </p:nvPicPr>
        <p:blipFill>
          <a:blip r:embed="rId2"/>
          <a:stretch/>
        </p:blipFill>
        <p:spPr>
          <a:xfrm>
            <a:off x="0" y="4267080"/>
            <a:ext cx="2133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04920" y="838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6.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gal moves of a chess knig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757760" cy="40208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28600" y="9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6.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3 x 3 chessboard with move rules for the simplified knight tou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095880" cy="31478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52280" y="838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ble 6.1 Production rules for the 3 x 3 knight 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4781520" cy="4791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04920" y="121932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6.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production system solution to the 3 x 3 knight’s tour 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5867280" cy="29811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28600" y="12193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6.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ecursive path algorithm as production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48360" cy="4552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52280" y="114300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6.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ata-driven search in a production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5838840" cy="4228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28600" y="12193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6.1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al-driven search in a production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477120" cy="4619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28600" y="12193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6.1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idirectional search missing in both directions, resulting in excessiv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ar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2098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1143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6.1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idirectional search meeting in the middle, eliminating much of the spac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ined by unidirectional sear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209920" cy="38005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28600" y="1143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jor advantages of production systems for artificial intelli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762120" y="2209680"/>
            <a:ext cx="76197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eparation of Knowledge and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 Natural Mapping onto State Space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Modularity of Production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Pattern-Directed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Opportunities for Heuristic Control of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Tracing and Expla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Language In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 Plausible Model of Human Problem-Sol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0400" cy="44766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28600" y="6094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6.1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lackboard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2681280" y="1947960"/>
            <a:ext cx="3781440" cy="2962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810560" cy="3772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724800" cy="6467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209680" y="0"/>
            <a:ext cx="4572000" cy="4133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2209680" y="4038480"/>
            <a:ext cx="4562640" cy="2505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600880" cy="38862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457200" y="4572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6.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production system. Control loops until working memory pattern no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nger matches the conditions of any produ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0640" y="1214280"/>
            <a:ext cx="5562720" cy="4429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380880" y="4572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6.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ace of a simple production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365800" cy="54766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457200" y="304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6.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8-puzzle as a production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867280" cy="46670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304920" y="4572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6.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8-puzzle searched by a production system with loop detection an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pth-bound , from Nilsson (197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59:50Z</dcterms:created>
  <dc:creator>Pearson Shared Services</dc:creator>
  <dc:description/>
  <dc:language>en-US</dc:language>
  <cp:lastModifiedBy>George Luger</cp:lastModifiedBy>
  <dcterms:modified xsi:type="dcterms:W3CDTF">2008-05-20T07:56:17Z</dcterms:modified>
  <cp:revision>22</cp:revision>
  <dc:subject/>
  <dc:title>PowerPoint Presentation</dc:title>
</cp:coreProperties>
</file>