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90D-4B6A-419E-9504-ED1703856F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005-6AB9-4AB6-83C9-53369EF69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0F3-BB6C-4FE7-8C1D-39F10DD36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C03F-DDEC-4816-A7C7-DDCE659F28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B1F-F33C-4418-80CF-11CF8680E4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B02-F151-4C7F-92B1-399B2951E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0A9-C3CA-4D53-832C-85E3191E5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FB5-66E0-4976-85A7-438D21F32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48A7-34AB-448C-B71A-104A73464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9E8-387A-4197-926F-D2E55C3D32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295-81EC-4C74-8AD3-AFABB35AA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fig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8798-D53D-4D78-A903-2A4A8256A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0B03-4AFE-4412-A62B-2BF7C51829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6B0F-6D37-4E53-815E-9A1D70765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45A-7AD8-46C1-AABE-39B563795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594A-3F20-4A12-BCD6-1C9C9E2C8E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B64-71E0-463C-81EE-7F55399C90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563C-4503-4E70-BDF1-6F46A1B86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5F4-A71F-4738-8EE9-E8E9659733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fig 3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E1D-9CB8-432C-8549-907DE94B00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AA6-7513-4267-8D2A-7BAB73ED08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744-986E-4297-ADC0-C2783333D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43C-7172-4802-99BA-2604784E7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87C9-91FA-440F-8972-8375C3C9D7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D951-521C-4CB2-A7E2-68F0207E9A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6880-ECF7-422B-A9B4-7F1AB2E0DD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E19-098A-4139-9A92-AE7B9E669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 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556-ABAF-453F-B1F8-1BEC7B3A9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def box p85 plus fig 3.5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BDF-1234-4F02-904D-C523FA76BD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def box p 86 plus fig 3.6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053-3C7C-42C7-8054-9AAA79801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rt def box p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C9A-644C-43AB-BB97-90A57592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D45-29E2-4EA6-8376-F62F8379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3F1-692F-4FEE-BA57-AA157A4C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60F-8F3D-4C16-B36A-4166CC57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5E3-49C2-4D6B-A96D-F5FC99CB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A41-ED3C-41FE-AA73-01FE798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EEF-5E81-445B-B569-5037889E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343-0159-4EBD-9D5B-A56CFD2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6C3-320D-45E7-86A2-9D26666D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6E2-BC9F-40A0-873D-4FF59DB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331-CF1C-4230-ACE7-220973C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96B-268B-4F28-B722-5D5FFC3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9C55-427E-4460-9D0A-E7174F265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ctures and Strategies For Space Stat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0880" y="181764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aph The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ategies for Space State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Space State to Represent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soning with the Predicat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BC56-F99F-45D4-A117-2FEB4BE4E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1560" y="905040"/>
            <a:ext cx="7400880" cy="5047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33520" y="304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8 State space of the 8-puzzle generated by “move blank”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8D76-21A8-4C9E-8ABE-ECE91EF67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57640" cy="3735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3352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9 An instance of the travelling salespers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7FE-1DD5-4DFE-9427-5AE7FA0CC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38360" y="905040"/>
            <a:ext cx="7667280" cy="5047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80880" y="304920"/>
            <a:ext cx="8458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5720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 for the travelling salesperson problem. Each arc is marked wi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otal weight of all paths from the start node (A) to its end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5A9-EDB9-4AEE-BF93-6F7F1324B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3792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04920" y="457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nstance of the travelling salesperson problem with the neares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ighbor path in bold. Note this path (A, E, D, B, C, A), at a cost of 550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not the shortest path. The comparatively high cost of arc (C, A)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ated the heuri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F2A-C989-48CD-A9B1-E06CAF70E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81800" cy="3559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57200" y="457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in which goal-directed search effectively prun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raneous search pa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7D3-6CD6-4131-92DA-B7F5FDB6A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370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533520" y="533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in which data-directed search prunes irrelevant data an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ir consequents and determines one of a number of possible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DCC-BE14-4093-A825-84BE19BB7E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&#13;pg97_code.pct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28600" y="533520"/>
            <a:ext cx="7550280" cy="6037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0" y="0"/>
            <a:ext cx="419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backtrack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B385-5E04-4AB5-B3C7-451B0F198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_x000e_pg98_tabl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87280" y="760320"/>
            <a:ext cx="8567640" cy="5338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backtrack on the graph of figure 3.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F116-2FF2-45A7-BAD9-CC5D1804A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00800" cy="4599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cktracking search of a hypothetical state space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111E-5651-40A1-9C19-8CE3A602D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62600" cy="4097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3808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for breadth - and depth - first search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974-2BF4-4DE0-A0ED-F94ED5BB3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8280" y="254160"/>
            <a:ext cx="422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1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 city of Königsber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330372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CFB-CBA0-4694-96B5-8A87FC2CC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_x000e_pg100_cod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301680" y="1001880"/>
            <a:ext cx="8540640" cy="485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breadth_first search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590-E2CE-4F75-9BF4-895414653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x000c_pg101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04840" y="2048040"/>
            <a:ext cx="8732880" cy="276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breadth_first_search on the graph of Figure 3.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743F-5AA3-40D5-8293-254A40F03D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29440" cy="366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33520" y="3808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Fig 3.15 at iteration 6 of breadth-first search. States 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re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CF46-9D9E-46C1-AA2B-386157A54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_x000e_pg102_code.pct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81080" y="1208160"/>
            <a:ext cx="8781840" cy="4443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pth_first_search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983-7CAB-42F0-8E61-3F7BB9B79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_x000c_pg103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279360" y="1725480"/>
            <a:ext cx="8526600" cy="3405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race of depth_first_search on the graph of Figure 3.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E8A-6CCE-48C4-8B58-A61FB1DC6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96120" cy="5334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09480" y="2286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eadth-first search of the 8-puzzle, showing order in which stat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re removed from o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BF2A-68D4-4F92-8DE5-5A3EDE435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77200" cy="4934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83808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of fig 3.15 at iteration 6 of depth-first search. States 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 and closed are highligh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1F5-B7FC-4414-9B3B-FD1C780B6F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010640" cy="5803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066680" y="2286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1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th-first search of the 8-puzzle with a depth bound of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B535-8BBE-4AF8-B064-5B955D9E4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91040" cy="2819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838080" y="609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space graph of a set of implications in the propositiona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lculu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1D4-60F6-4589-91E3-D8B06A1BB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948040" y="2181240"/>
            <a:ext cx="3247920" cy="2495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143000" y="762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the express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Λ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52BB-04E3-40CF-BF4A-5DB04890F4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2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 of the Königsberg bridg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257800" cy="47862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039-BFB9-4ADC-974C-5F54FC203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81760" cy="323856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7B5-493D-47D4-B9B2-449FC957A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166920" y="2062080"/>
            <a:ext cx="2810160" cy="273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09480" y="6094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the express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→ 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837-D828-4F65-B91D-24B937F1F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467080" y="1147680"/>
            <a:ext cx="4209840" cy="4562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457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a set of propositional calculus expre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61B3-567A-45F4-A55F-35C0D07F0C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762880" cy="5429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85800" y="457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of part of the state space for integrating a function, fro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lsson (19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67A-4DF0-4528-AB78-7EDAC19C5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_x000c_pg113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020600" y="1019160"/>
            <a:ext cx="7102800" cy="5505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76320" y="5076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acts and rules of this example are given as English sentences followed by their predicate calculus equival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E6A-C16E-4383-86D3-C3473DE2C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62640" cy="381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762120" y="380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olution subgraph showing that Fred is at the muse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E27-FA3D-4FB5-826A-AA0251FA7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_x000c_pg117_nl.pct                                                   000260AE_x000c_Macintosh HD                   ABA78158:"/>
          <p:cNvPicPr/>
          <p:nvPr/>
        </p:nvPicPr>
        <p:blipFill>
          <a:blip r:embed="rId1"/>
          <a:stretch/>
        </p:blipFill>
        <p:spPr>
          <a:xfrm>
            <a:off x="1795320" y="816120"/>
            <a:ext cx="5553360" cy="5634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ve rules for a simple subset of English grammar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E51-4432-44B8-A9A0-15A6B61AB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799240" cy="5810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searched by the financial advi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772-510E-46F1-84B5-52AC7BFF1C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229360" cy="4038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914400" y="5335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/or graph for the grammar of Example 3.3.6. Some of th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des (np, art, etc) have been written more than once to simplif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rawing the 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CD7-BA2B-44C1-84B0-A70F8C627C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809880" cy="37051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457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se tree for the sentence “The dog bites the man.” Note this is 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tree of the graph of fig 3.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9720-FA8A-4914-B76F-2CF435146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76320" y="5076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3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abeled directed grap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062840" cy="4024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29E8-4CA1-4225-97DF-3820FE00A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542960" y="1600200"/>
            <a:ext cx="6058080" cy="3657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533520" y="609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3.2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raph to be sear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7A4-7205-4591-9936-C0ADB5F99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6320" y="22860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3.4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rooted tree, exemplifying family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933800" cy="34351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188-9A07-4415-8EB4-5D442D446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553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1676520" y="5715000"/>
            <a:ext cx="5715000" cy="79056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6B2-A381-41ED-880D-D284E954D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486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5219640" cy="1685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914400" y="5334120"/>
            <a:ext cx="74674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g 3.5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a) The finite state graph for a flip flop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b) its transition matri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D6E-A9CF-4B78-A365-6764652E8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4864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905120" y="3200400"/>
            <a:ext cx="5419440" cy="188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219320" y="54100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ig 3.6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a) The finite state graph and (b) the transition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trix for string recognition 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FE2-79FD-4FE2-9B79-83CD6CB0D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838920" cy="435276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6AA-EBD5-4801-BCF4-AD1C1C44A8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14:09Z</dcterms:created>
  <dc:creator>Pearson Shared Services</dc:creator>
  <dc:description/>
  <dc:language>en-US</dc:language>
  <cp:lastModifiedBy>George Luger</cp:lastModifiedBy>
  <dcterms:modified xsi:type="dcterms:W3CDTF">2008-05-20T07:52:40Z</dcterms:modified>
  <cp:revision>22</cp:revision>
  <dc:subject/>
  <dc:title>PowerPoint Presentation</dc:title>
</cp:coreProperties>
</file>