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EA0F-5231-4EBD-9F6A-A63B5EE38B2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34DB-D3DF-4F87-8DA7-8848FC4E9A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WEN: Insert chapter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AA9B-833B-4DE9-80C0-4261C65BC5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BB21-78EB-4D69-91A3-FB7C54E51B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E678-62F3-42A5-BBFF-FEEBE64AE3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WEN: Insert fig 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839B-B5F3-472C-A61B-078EEEC0C7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7AAB-8839-4AAB-B82B-CA81530C45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C5B1-CF26-4259-BB43-60082EAED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76B4-0875-47EC-90F5-F0B65958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49FF-7E98-40F1-8965-421CE7B84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80BE-9427-46BD-95E3-0FA127340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6FEE-54D3-42C5-9E3A-A163B04A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25AB-A2C5-4DBC-AA1B-5AE03430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89FD-BB4D-41DF-91CD-6A5EF7C5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0DFE-5551-4D65-891A-466DF947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F1AB-5025-49B0-8B42-22FDBC9C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93F4-7BFE-471C-B411-C700A1F9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9D57-5173-4BAC-B5A2-2CD2603A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A393-14C6-4F5D-93C2-46657FCF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9838-F3F8-4251-8DDB-DCBDAD4513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2286000" y="4637160"/>
            <a:ext cx="6629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eorge F Lu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RTIFICIAL INTELLIGENC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6th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ructures and Strategies for Complex Problem Sol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4"/>
          <p:cNvSpPr/>
          <p:nvPr/>
        </p:nvSpPr>
        <p:spPr>
          <a:xfrm>
            <a:off x="2133720" y="4637160"/>
            <a:ext cx="6781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5"/>
          <p:cNvSpPr/>
          <p:nvPr/>
        </p:nvSpPr>
        <p:spPr>
          <a:xfrm>
            <a:off x="2133720" y="600876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2057400" y="3697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Predicate Calcu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3200400" y="658332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380880" y="1817640"/>
            <a:ext cx="396252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.0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.1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e Propositional Calcul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e Predicate Calcul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.3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sing Inference Rules to Produce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redicate Calculus Expres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4876920" y="1817640"/>
            <a:ext cx="41148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.4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pplication: A Logic-Based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inancial Advi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.5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pilogue and Refer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.6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xerci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1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952560" cy="904680"/>
          </a:xfrm>
          <a:prstGeom prst="rect">
            <a:avLst/>
          </a:prstGeom>
          <a:ln w="0">
            <a:noFill/>
          </a:ln>
        </p:spPr>
      </p:pic>
      <p:sp>
        <p:nvSpPr>
          <p:cNvPr id="56" name="Slide Number Placeholder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E387-8284-4D38-A243-76D5944295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1" descr="cover.jpeg"/>
          <p:cNvPicPr/>
          <p:nvPr/>
        </p:nvPicPr>
        <p:blipFill>
          <a:blip r:embed="rId2"/>
          <a:stretch/>
        </p:blipFill>
        <p:spPr>
          <a:xfrm>
            <a:off x="152280" y="4419720"/>
            <a:ext cx="1828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838920" cy="2828880"/>
          </a:xfrm>
          <a:prstGeom prst="rect">
            <a:avLst/>
          </a:prstGeom>
          <a:ln w="0">
            <a:noFill/>
          </a:ln>
        </p:spPr>
      </p:pic>
      <p:sp>
        <p:nvSpPr>
          <p:cNvPr id="8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EBCB-F166-4730-812C-DF5F5EF1E3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867360" cy="2514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2"/>
          <a:stretch/>
        </p:blipFill>
        <p:spPr>
          <a:xfrm>
            <a:off x="1143000" y="3429000"/>
            <a:ext cx="6877080" cy="1143000"/>
          </a:xfrm>
          <a:prstGeom prst="rect">
            <a:avLst/>
          </a:prstGeom>
          <a:ln w="0">
            <a:noFill/>
          </a:ln>
        </p:spPr>
      </p:pic>
      <p:sp>
        <p:nvSpPr>
          <p:cNvPr id="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D848-401F-4DC9-91AE-5FBDA21A8D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_x0008_pg57.pct                                                       00025CFB_x000c_Macintosh HD                   ABA78158:"/>
          <p:cNvPicPr/>
          <p:nvPr/>
        </p:nvPicPr>
        <p:blipFill>
          <a:blip r:embed="rId1"/>
          <a:stretch/>
        </p:blipFill>
        <p:spPr>
          <a:xfrm>
            <a:off x="177840" y="660240"/>
            <a:ext cx="8362800" cy="58597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76320" y="50760"/>
            <a:ext cx="9067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ify_sentence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A323-5BC4-44E4-A0B6-AFA46A1335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848640" cy="3990960"/>
          </a:xfrm>
          <a:prstGeom prst="rect">
            <a:avLst/>
          </a:prstGeom>
          <a:ln w="0">
            <a:noFill/>
          </a:ln>
        </p:spPr>
      </p:pic>
      <p:sp>
        <p:nvSpPr>
          <p:cNvPr id="9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6CE3-7063-492D-B477-1C74146955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143000" y="0"/>
            <a:ext cx="6848640" cy="3743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1143000" y="3429000"/>
            <a:ext cx="6867360" cy="32194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83818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1160-1FAA-4301-AC0A-93A56222A0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1825560"/>
          </a:xfrm>
          <a:prstGeom prst="rect">
            <a:avLst/>
          </a:prstGeom>
          <a:ln w="0">
            <a:noFill/>
          </a:ln>
        </p:spPr>
      </p:pic>
      <p:sp>
        <p:nvSpPr>
          <p:cNvPr id="10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DC33-28E0-43D0-A0AB-24DC3D7C87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6"/>
          <p:cNvSpPr/>
          <p:nvPr/>
        </p:nvSpPr>
        <p:spPr>
          <a:xfrm>
            <a:off x="609480" y="457200"/>
            <a:ext cx="7543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Figure 2.3: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A blocks world with its predicate calculate description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8" descr=""/>
          <p:cNvPicPr/>
          <p:nvPr/>
        </p:nvPicPr>
        <p:blipFill>
          <a:blip r:embed="rId1"/>
          <a:stretch/>
        </p:blipFill>
        <p:spPr>
          <a:xfrm>
            <a:off x="1852560" y="1133640"/>
            <a:ext cx="5438880" cy="4590720"/>
          </a:xfrm>
          <a:prstGeom prst="rect">
            <a:avLst/>
          </a:prstGeom>
          <a:ln w="0">
            <a:noFill/>
          </a:ln>
        </p:spPr>
      </p:pic>
      <p:sp>
        <p:nvSpPr>
          <p:cNvPr id="1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5CD7-F401-439F-804B-F57748DD81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858000" cy="3886200"/>
          </a:xfrm>
          <a:prstGeom prst="rect">
            <a:avLst/>
          </a:prstGeom>
          <a:ln w="0">
            <a:noFill/>
          </a:ln>
        </p:spPr>
      </p:pic>
      <p:sp>
        <p:nvSpPr>
          <p:cNvPr id="11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F202-0F03-4483-AA70-46BCF79FC4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030400"/>
          </a:xfrm>
          <a:prstGeom prst="rect">
            <a:avLst/>
          </a:prstGeom>
          <a:ln w="0">
            <a:noFill/>
          </a:ln>
        </p:spPr>
      </p:pic>
      <p:sp>
        <p:nvSpPr>
          <p:cNvPr id="11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54AE-D32A-42E6-A06E-37E914F440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838080" y="822240"/>
            <a:ext cx="7848720" cy="3140280"/>
          </a:xfrm>
          <a:prstGeom prst="rect">
            <a:avLst/>
          </a:prstGeom>
          <a:ln w="0">
            <a:noFill/>
          </a:ln>
        </p:spPr>
      </p:pic>
      <p:sp>
        <p:nvSpPr>
          <p:cNvPr id="12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E993-0EF0-49A9-9A44-EE2D4E19D2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686800" cy="3651480"/>
          </a:xfrm>
          <a:prstGeom prst="rect">
            <a:avLst/>
          </a:prstGeom>
          <a:ln w="0">
            <a:noFill/>
          </a:ln>
        </p:spPr>
      </p:pic>
      <p:sp>
        <p:nvSpPr>
          <p:cNvPr id="6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8721-8CDF-4943-B060-7AE186E315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6829560" cy="1590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2"/>
          <a:stretch/>
        </p:blipFill>
        <p:spPr>
          <a:xfrm>
            <a:off x="1143000" y="2133720"/>
            <a:ext cx="6838920" cy="2857320"/>
          </a:xfrm>
          <a:prstGeom prst="rect">
            <a:avLst/>
          </a:prstGeom>
          <a:ln w="0">
            <a:noFill/>
          </a:ln>
        </p:spPr>
      </p:pic>
      <p:sp>
        <p:nvSpPr>
          <p:cNvPr id="1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EA60-0E84-4314-9429-C33BA73189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382240" cy="1935000"/>
          </a:xfrm>
          <a:prstGeom prst="rect">
            <a:avLst/>
          </a:prstGeom>
          <a:ln w="0">
            <a:noFill/>
          </a:ln>
        </p:spPr>
      </p:pic>
      <p:sp>
        <p:nvSpPr>
          <p:cNvPr id="12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A5F9-3EC6-49A0-A62F-339D1DB034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&#13;pg71_code.pct                                                  00025CFB_x000c_Macintosh HD                   ABA78158:"/>
          <p:cNvPicPr/>
          <p:nvPr/>
        </p:nvPicPr>
        <p:blipFill>
          <a:blip r:embed="rId1"/>
          <a:stretch/>
        </p:blipFill>
        <p:spPr>
          <a:xfrm>
            <a:off x="368280" y="635040"/>
            <a:ext cx="6899400" cy="58831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87D5-499A-4013-9333-83820B2CE5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76320" y="5076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igure 2.5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rther steps in the unification of (parents X (father X) (mother bill)) and (parents bill (father bill) Y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090440" y="1390680"/>
            <a:ext cx="6963120" cy="4076640"/>
          </a:xfrm>
          <a:prstGeom prst="rect">
            <a:avLst/>
          </a:prstGeom>
          <a:ln w="0">
            <a:noFill/>
          </a:ln>
        </p:spPr>
      </p:pic>
      <p:sp>
        <p:nvSpPr>
          <p:cNvPr id="13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EFF9-04C8-45ED-BA35-E02498598B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609480" y="38088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igure 2.6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Final trace of the unification of (parents X (father X) (mother bill)) and (parents bill (father bill) Y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2209680" y="1066680"/>
            <a:ext cx="4668840" cy="5591160"/>
          </a:xfrm>
          <a:prstGeom prst="rect">
            <a:avLst/>
          </a:prstGeom>
          <a:ln w="0">
            <a:noFill/>
          </a:ln>
        </p:spPr>
      </p:pic>
      <p:sp>
        <p:nvSpPr>
          <p:cNvPr id="1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3AF1-EB42-47CF-B025-42733AB30F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_x000b_pg77_nl.pct                                                    00025CFB_x000c_Macintosh HD                   ABA78158:"/>
          <p:cNvPicPr/>
          <p:nvPr/>
        </p:nvPicPr>
        <p:blipFill>
          <a:blip r:embed="rId1"/>
          <a:stretch/>
        </p:blipFill>
        <p:spPr>
          <a:xfrm>
            <a:off x="380880" y="609480"/>
            <a:ext cx="7566120" cy="54421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D61F-7541-41B3-AF31-6CCF1845BC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219320" y="457200"/>
            <a:ext cx="6886440" cy="5010120"/>
          </a:xfrm>
          <a:prstGeom prst="rect">
            <a:avLst/>
          </a:prstGeom>
          <a:ln w="0">
            <a:noFill/>
          </a:ln>
        </p:spPr>
      </p:pic>
      <p:sp>
        <p:nvSpPr>
          <p:cNvPr id="6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19FC-8C01-49F5-B39B-43D8423992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6848640" cy="5172120"/>
          </a:xfrm>
          <a:prstGeom prst="rect">
            <a:avLst/>
          </a:prstGeom>
          <a:ln w="0">
            <a:noFill/>
          </a:ln>
        </p:spPr>
      </p:pic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EE90-919F-4491-885D-5A54114555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76320" y="50760"/>
            <a:ext cx="9067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opositional expression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" descr="_x000c_pg51_unl.pct                                                   00025CFB_x000c_Macintosh HD                   ABA78158:"/>
          <p:cNvPicPr/>
          <p:nvPr/>
        </p:nvPicPr>
        <p:blipFill>
          <a:blip r:embed="rId1"/>
          <a:stretch/>
        </p:blipFill>
        <p:spPr>
          <a:xfrm>
            <a:off x="317520" y="1241280"/>
            <a:ext cx="8510400" cy="43754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7D01-1F71-4769-A07B-C4E971821C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76320" y="50760"/>
            <a:ext cx="9067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 2.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uth table for the operat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2666880" y="1600200"/>
            <a:ext cx="3581640" cy="3024360"/>
          </a:xfrm>
          <a:prstGeom prst="rect">
            <a:avLst/>
          </a:prstGeom>
          <a:ln w="0">
            <a:noFill/>
          </a:ln>
        </p:spPr>
      </p:pic>
      <p:sp>
        <p:nvSpPr>
          <p:cNvPr id="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79B3-2403-4ACA-AEB8-014E0669F1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76320" y="457200"/>
            <a:ext cx="9067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igure 2.2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ruth table demonstrating the equivalence of P Æ Q and ÿ P ⁄ Q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972480" cy="2438280"/>
          </a:xfrm>
          <a:prstGeom prst="rect">
            <a:avLst/>
          </a:prstGeom>
          <a:ln w="0">
            <a:noFill/>
          </a:ln>
        </p:spPr>
      </p:pic>
      <p:sp>
        <p:nvSpPr>
          <p:cNvPr id="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BB69-38BE-4E68-A138-9ED1224331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6858000" cy="3952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2"/>
          <a:stretch/>
        </p:blipFill>
        <p:spPr>
          <a:xfrm>
            <a:off x="1143000" y="4343400"/>
            <a:ext cx="6848640" cy="1476360"/>
          </a:xfrm>
          <a:prstGeom prst="rect">
            <a:avLst/>
          </a:prstGeom>
          <a:ln w="0">
            <a:noFill/>
          </a:ln>
        </p:spPr>
      </p:pic>
      <p:sp>
        <p:nvSpPr>
          <p:cNvPr id="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ECEA-BA9D-46F5-9D63-CA8FCB0D6A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"/>
          <p:cNvSpPr/>
          <p:nvPr/>
        </p:nvSpPr>
        <p:spPr>
          <a:xfrm>
            <a:off x="3200400" y="657216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848280" cy="4095720"/>
          </a:xfrm>
          <a:prstGeom prst="rect">
            <a:avLst/>
          </a:prstGeom>
          <a:ln w="0">
            <a:noFill/>
          </a:ln>
        </p:spPr>
      </p:pic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D172-CCB9-4E4C-B14A-C6DCAD996E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8:20:46Z</dcterms:created>
  <dc:creator>Pearson Shared Services</dc:creator>
  <dc:description/>
  <dc:language>en-US</dc:language>
  <cp:lastModifiedBy>George Luger</cp:lastModifiedBy>
  <dcterms:modified xsi:type="dcterms:W3CDTF">2008-05-20T07:51:26Z</dcterms:modified>
  <cp:revision>28</cp:revision>
  <dc:subject/>
  <dc:title>PowerPoint Presentation</dc:title>
</cp:coreProperties>
</file>