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96DA-6FF7-4DCE-A206-6747B5094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39F0-CF43-48FF-9D0F-083FCEDD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1C4A-630A-4D7C-B112-5799AD6E3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3491-726C-4E41-906E-9666F98D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6E66-C35B-41B9-BFDA-B04F06FE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E85F-B4E2-4110-9E34-3C2EB979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6701-E448-4607-957E-D3905221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C0DC-FC20-4E57-95F2-C92466BD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0685-A71B-4AA6-8907-8D6B243F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41DC-8C01-422A-927E-F5D21643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9B68-2EA4-42C4-AEB0-47EA7CB9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9DB2-07F7-43B4-AA8D-0635016E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7830-658C-483A-BBCC-40D2232B5C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2286000" y="4637160"/>
            <a:ext cx="6629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orge F Lu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RTIFICIAL INTELLIGENC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6th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uctures and Strategies for Complex Problem Sol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4"/>
          <p:cNvSpPr/>
          <p:nvPr/>
        </p:nvSpPr>
        <p:spPr>
          <a:xfrm>
            <a:off x="2133720" y="4637160"/>
            <a:ext cx="6781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5"/>
          <p:cNvSpPr/>
          <p:nvPr/>
        </p:nvSpPr>
        <p:spPr>
          <a:xfrm>
            <a:off x="2133720" y="600876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057400" y="6858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utomated Reas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380880" y="1817640"/>
            <a:ext cx="41148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4.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troduction to Weak Methods in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orem Pro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4.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 General Problem Solver and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ifference T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4.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solution Theorem Pro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4495680" y="1817640"/>
            <a:ext cx="449604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4.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OLOG and Automated Reaso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4.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urther Issues in Automated Reaso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4.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pilogue and Re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4.6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erci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1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914400" cy="92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cover.jpeg"/>
          <p:cNvPicPr/>
          <p:nvPr/>
        </p:nvPicPr>
        <p:blipFill>
          <a:blip r:embed="rId2"/>
          <a:stretch/>
        </p:blipFill>
        <p:spPr>
          <a:xfrm>
            <a:off x="380880" y="4343400"/>
            <a:ext cx="1828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609480" y="609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4.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ne refutation for the “happy student” probl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629400" cy="5535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609480" y="609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4.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solution proof for the “exciting life” probl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6086520" cy="522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609480" y="609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4.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other resolution refutation for the example of Fig 14.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429240" cy="49626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09480" y="60948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4.8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plete state space for the “exciting life” problem generated by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readth-first search (to two levels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504720" y="1647720"/>
            <a:ext cx="8134560" cy="35625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609480" y="609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4.9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ing the unit preference strategy on the “exciting life” probl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314680" cy="52671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609480" y="609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4.10 Unification substitutions of Fig 14.6 applied to the original quer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429000" y="1066680"/>
            <a:ext cx="2023920" cy="54244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609480" y="609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4.11 Answer extraction process on the “finding fido” probl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1181160" y="1690560"/>
            <a:ext cx="6781680" cy="34768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609480" y="609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4.12 Skolemization as part of the answer extraction proc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429680" cy="50673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609480" y="60948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4.13 Data-driven reasoning with n and/or graph in the propositional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calcu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6448320" cy="50385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609480" y="60948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4.14 Goal-driven reasoning with an and/or graph in the propositional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calculu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2471760" y="1371600"/>
            <a:ext cx="3494160" cy="5157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609480" y="60948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4.1a Transformation rules for logic problems, from Newell and Simon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(1961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2666880" y="1219320"/>
            <a:ext cx="3724560" cy="4943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&#13;pg549_unl.pct                                                  00026B6D_x000c_Macintosh HD                   ABA78158:"/>
          <p:cNvPicPr/>
          <p:nvPr/>
        </p:nvPicPr>
        <p:blipFill>
          <a:blip r:embed="rId1"/>
          <a:stretch/>
        </p:blipFill>
        <p:spPr>
          <a:xfrm>
            <a:off x="131760" y="666720"/>
            <a:ext cx="8881920" cy="55245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609480" y="60948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4.1b A proof of a theorem in propositional calculus, from Newell and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Simon (1961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200480" cy="39909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609480" y="60948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4.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low chart and difference reduction table for the General Problem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lver, from Newell and Simon (1963b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4524480" cy="49719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609480" y="609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solution refutation proofs involve the following step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905960" cy="2629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609480" y="609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4.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solution proof for the “dead dog” problem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5324400" cy="47052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609480" y="609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4.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ne resolution proof for an example from the propositional calculu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2505240" y="1066680"/>
            <a:ext cx="4133520" cy="47246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&#13;pg526_unl.pct                                                  00026B6D_x000c_Macintosh HD                   ABA78158:"/>
          <p:cNvPicPr/>
          <p:nvPr/>
        </p:nvPicPr>
        <p:blipFill>
          <a:blip r:embed="rId1"/>
          <a:stretch/>
        </p:blipFill>
        <p:spPr>
          <a:xfrm>
            <a:off x="1025640" y="192240"/>
            <a:ext cx="7092720" cy="63468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_x000e_pg526_unl1.pct                                                 00026B6D_x000c_Macintosh HD                   ABA78158:"/>
          <p:cNvPicPr/>
          <p:nvPr/>
        </p:nvPicPr>
        <p:blipFill>
          <a:blip r:embed="rId1"/>
          <a:stretch/>
        </p:blipFill>
        <p:spPr>
          <a:xfrm>
            <a:off x="641520" y="254160"/>
            <a:ext cx="7860960" cy="61610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1T16:01:24Z</dcterms:created>
  <dc:creator>Pearson Shared Services</dc:creator>
  <dc:description/>
  <dc:language>en-US</dc:language>
  <cp:lastModifiedBy>George Luger</cp:lastModifiedBy>
  <dcterms:modified xsi:type="dcterms:W3CDTF">2008-05-20T08:04:59Z</dcterms:modified>
  <cp:revision>12</cp:revision>
  <dc:subject/>
  <dc:title>PowerPoint Presentation</dc:title>
</cp:coreProperties>
</file>