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611-BACE-49BD-9C43-DAE9207E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5A7-A70C-46BC-A45F-2E3E99AF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45A-02D6-4822-BD64-9B7F9746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32B-8BD4-405E-9DB8-F8FFBCCC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5FF-BF32-4F89-8721-1CF89F91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79E-3FDB-4368-B448-5011B64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408-C3AE-4E04-9887-EFA3A6C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B10-445C-4669-90D9-698B998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ED9-AA37-4D2A-8855-5CD6495C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072-6E28-42C7-B962-8FD52E4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EF8-8A1B-48FD-82AE-8477FF72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A9F-B024-4DF4-89A2-8CAB8D0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BE4B-D51D-4AB6-A6D8-968C65F90C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Probabi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chastic and dynamic Models o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ynamic Bayesian Networks and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chastic Extensions to Reinforceme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3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34340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981080" y="4648320"/>
            <a:ext cx="704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ure 13.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trace of the Viterbi algorithm on several of the paths of Figure 13.7. R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the maximum value for Viterbi on each word for each input value (top row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ed from Jurafsky and Martin (200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28600" y="304920"/>
            <a:ext cx="87631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t = 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i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ath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013 = .000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13 x 1.0 = .000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13 x .52 = .00006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ath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056 = .0005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56 x 1.0 = .0005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56 x .11 = .00006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path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1 = .0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1 x .36 = .0003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36 x 1.0 = .0003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n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pa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x .000024 = .0000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24 x 1.0 = .0000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000024 x 1.0 = .0000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be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.00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464560" y="6553080"/>
            <a:ext cx="574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609480"/>
            <a:ext cx="86868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Viterbi(Observations of length T, Probabilistic F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:= number of states in F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probability matrix viterbi[R = N + 2, C = T + 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terbi[0, 0] := 1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time step (observation) t from 0 to T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state si from i = 0 to number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transition from si to sj in the Probabilistic FSM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-count := viterbi[si, t] x path[si, sj] x p(sj | s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(viterbi[sj, t + 1] = 0) or (new-count &gt; viterbi[sj, t + 1]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terbi[si, t + 1] := new-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end back-pointer [sj , t + 1] to back-pointer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viterbi[R, C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back-pointer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71160" y="6629400"/>
            <a:ext cx="554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502000" y="2389320"/>
            <a:ext cx="4140000" cy="2082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666880" y="6477120"/>
            <a:ext cx="563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47800" y="2573280"/>
            <a:ext cx="384840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819520" y="640080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463840" y="2071800"/>
            <a:ext cx="4216320" cy="2717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921040" y="6458040"/>
            <a:ext cx="554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324160" y="1563840"/>
            <a:ext cx="449568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971800" y="6400800"/>
            <a:ext cx="152280" cy="172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09480" y="2055960"/>
            <a:ext cx="8305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E F I N I T I 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ARKOV DECISION PROCESS, or 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arkov Decision Process is a tuple &lt;S, A, P, R&gt; whe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is a set of stat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is a set of 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(st , st+1) = p(st+1  | st , at = a) is the probability that if the agent exec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on a Œ A from state st at time t, it results in state st+1 at time t+1. Si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robability, pa Œ P is defined over the entire state-space of actions,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ten represented with a transition matri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s) is the reward received by the agent when in state 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743200" y="645804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09480" y="1584360"/>
            <a:ext cx="838224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E F I N I T I 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ARTIALLY OBSERVABLE MARKOV DECISION PROCESS, or PO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artially Observable Markov Decision Process is a tuple &lt;S, A, O, P, R&gt; wher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is a set of stat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is a set of a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 is the set of observations denoting what the agent can see about its wor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ce the agent cannot directly observe its current state, the observations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abilistically related to the underlying actual state of the wor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(st, o, st+1) = p(st+1 , ot = o | st , at = a) is the probability that when the ag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es action a from state st at time t, it results in an observation 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s to an underlying state st +1 at time t+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st, a, st+1) is the reward received by the agent when it executes action a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st and transitions to state st+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6880" y="6477120"/>
            <a:ext cx="632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381400" y="2268360"/>
            <a:ext cx="4381200" cy="2324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819520" y="645804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267440" cy="2438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819520" y="6553080"/>
            <a:ext cx="59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371600" y="746280"/>
            <a:ext cx="746748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E F I N I T I O N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MARKOV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aphical model is called a hidden Markov model (HMM) if it is a Markov model whose states are not directly observable but are hidden by a further stochastic system interpreting their output. More formally, given a set of states S =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given a set of state transition probabilities A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, ..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re is a set of observation likelihoods, O 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each expressing the probability of an observation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t time t) being generated by a sta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971800" y="6400800"/>
            <a:ext cx="59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895480" y="2057400"/>
            <a:ext cx="32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270160" y="1812960"/>
            <a:ext cx="474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685800"/>
          <a:ext cx="6476760" cy="39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647676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Box 7"/>
          <p:cNvSpPr/>
          <p:nvPr/>
        </p:nvSpPr>
        <p:spPr>
          <a:xfrm>
            <a:off x="2743200" y="6458040"/>
            <a:ext cx="567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600200" y="0"/>
          <a:ext cx="80010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8001000" cy="4267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" name="TextBox 2"/>
          <p:cNvSpPr/>
          <p:nvPr/>
        </p:nvSpPr>
        <p:spPr>
          <a:xfrm>
            <a:off x="2597040" y="6324480"/>
            <a:ext cx="56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676520" y="1981080"/>
            <a:ext cx="9144000" cy="335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971800" y="6477120"/>
            <a:ext cx="58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580360" cy="2781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590920" y="655308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992920" cy="3187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514600" y="6400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367000" y="1720800"/>
            <a:ext cx="4406760" cy="3416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919960" y="6477120"/>
            <a:ext cx="54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58960" y="2057400"/>
            <a:ext cx="382284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666880" y="6553080"/>
            <a:ext cx="563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5:07:40Z</dcterms:created>
  <dc:creator>Pearson Shared Services</dc:creator>
  <dc:description/>
  <dc:language>en-US</dc:language>
  <cp:lastModifiedBy>George Luger</cp:lastModifiedBy>
  <dcterms:modified xsi:type="dcterms:W3CDTF">2008-05-20T08:03:51Z</dcterms:modified>
  <cp:revision>27</cp:revision>
  <dc:subject/>
  <dc:title>PowerPoint Presentation</dc:title>
</cp:coreProperties>
</file>