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C92-B119-43B5-A838-C1FE78EC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4BCA-E70A-4D7A-A8AA-3DB37302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2CA-8B9A-4124-BE5D-313679C0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75E-6E95-456C-BA19-20015B05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878-8F33-4CFB-B089-1127DFD0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973-16B6-4EBD-B01E-0298EFFD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C7A-B6D5-41F2-9E31-149FA387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3F9-B42A-490F-A35C-D69AB2BC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48C-A2C9-49FD-ACF6-3A6D2794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CB0-EDB9-42C1-858D-F1AA6CFA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001-DFFF-4088-9772-8A310C26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EC0-91E2-4935-ACD6-1455F609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2674-B1E9-4B01-8D2C-D0C85E5EB8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057400" y="6858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earning: Social and Emer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80880" y="1817640"/>
            <a:ext cx="41148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2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cial and Emergent Models of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2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Genetic 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2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lassifier Systems and Ge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495680" y="1817640"/>
            <a:ext cx="44960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2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rtificial Life and Society-Base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2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2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933480" cy="904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0" y="441972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12.3 A set of fitness cases, with planetary data taken from Urey (1952). 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is Earth’s semi-major axis of orbit and P is in units of Earth-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800360" y="2138400"/>
            <a:ext cx="5543280" cy="2581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80880" y="304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arget program relating orbit to period for Kepler’s third la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267000" y="1719360"/>
            <a:ext cx="2610000" cy="3419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80880" y="30492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mbers from the initial population of programs to solve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bital period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976320" y="1276200"/>
            <a:ext cx="7191360" cy="4305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753320" cy="26859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304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haded region indicates the set of neighbors for the “game of lif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071880" y="1814400"/>
            <a:ext cx="3000240" cy="32292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0880" y="304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10 A set of neighbors generating the “blinking” light phenomen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0880" y="35053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11 What happens to these patterns at the next time cyc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495680" cy="216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2438280" y="4038480"/>
            <a:ext cx="4429080" cy="19051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80880" y="304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12 A “glider” moves across the displ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4920" y="3124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13 a “glider” is “consumed” by another “entity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29520" cy="1390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7229520" cy="1552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304920"/>
            <a:ext cx="876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14 Space-time diagrams showing the behavior of two As., discovered b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the genetic algorithm on different runs. They employ embedde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particles for the nonlocal computation of general emerging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patterns seen. Each space-time diagram iterates over a range of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time steps, with 1s given as black cells, 0s as white cells; tim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increases down the page, from Crutchfield and Mitchell (199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801200" cy="3895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80880" y="304920"/>
            <a:ext cx="8382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15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tration of a one-dimensional, binary-state, nearest-neighbor cellula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automaton with N = 11. Both the lattice and the rule table f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updating the lattice are illustrated. The lattice configuration is show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over one time step. The cellular automaton is circular in that the tw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end values are neighb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981840" cy="3876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80880" y="304920"/>
            <a:ext cx="838224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12.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alog of regular domains, particles (domain boundaries), partic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velocities (in parentheses), and particle interactions of the space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time behavior of the CA of Figure 11.14a. The notation p ~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means that p is  the particle forming the boundary between regular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domain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114880" cy="4352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_x000e_pg471_code.pct                                                 00026B37_x000c_Macintosh HD                   ABA78158:"/>
          <p:cNvPicPr/>
          <p:nvPr/>
        </p:nvPicPr>
        <p:blipFill>
          <a:blip r:embed="rId1"/>
          <a:stretch/>
        </p:blipFill>
        <p:spPr>
          <a:xfrm>
            <a:off x="179280" y="1631880"/>
            <a:ext cx="8785440" cy="3594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80880" y="304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general form of the genetic algorith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80880" y="30492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1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 of the emergent logic for density classification of 11.14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his CA has three domains, six particles, and six partic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iterations, as noted in Table 11.3. The domains have be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filtered out using an 18-state nonlinear transducer; adap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from Crutchfield and Mitchell (199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20000" cy="3457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304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of crossover on two bit strings of length eight. # is “don’t car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81680" cy="2238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304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12.1 The gray coded bit patterns for the binary numbers 0, 1, …, 1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186000" y="1285920"/>
            <a:ext cx="2772000" cy="4286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tic algorithms visualized as parallel hill climbing, adapted fro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lland (1986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519200" y="2147760"/>
            <a:ext cx="6105600" cy="2562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lassifier system interacting with the environment, adapted fro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lland (1986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67480" cy="43671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andom generation of a program to initialize. The circled nod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from the set of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071720" y="1171440"/>
            <a:ext cx="7000560" cy="4515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programs, selected on fitness for crossover. Point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|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rom a and b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randomly selected for crosso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438200" y="1366920"/>
            <a:ext cx="6267600" cy="4124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80880" y="304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2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hild programs produced by crossover of the points in Fig 12.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04800" y="1319040"/>
            <a:ext cx="6134400" cy="4219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4:54:42Z</dcterms:created>
  <dc:creator>Pearson Shared Services</dc:creator>
  <dc:description/>
  <dc:language>en-US</dc:language>
  <cp:lastModifiedBy>George Luger</cp:lastModifiedBy>
  <dcterms:modified xsi:type="dcterms:W3CDTF">2008-05-20T08:02:56Z</dcterms:modified>
  <cp:revision>15</cp:revision>
  <dc:subject/>
  <dc:title>PowerPoint Presentation</dc:title>
</cp:coreProperties>
</file>