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3F4-C1E1-4568-A956-03A9A46A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916-C817-47C7-8C88-BC02FF53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82B-AD83-4ACF-A909-E4923ED9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ADC-6C04-4524-84F2-20A3103A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AE8-B7B4-4731-A1B5-2754602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6C-64C0-41B4-84DA-ED5419DC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109-3487-4E21-AC5F-83EBC29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0A9-B630-4400-810A-2B5E9B60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097-7119-46D8-BF09-0F483EF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22B-463F-48B3-B2D1-CBFFCD8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4F1-039F-4DEA-BDE9-88C938F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4C5-6D83-4617-B452-F7C155DA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D09-20B5-4024-A9B4-B54B0F04D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57400" y="685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earning: Symbol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80880" y="1817640"/>
            <a:ext cx="4114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Framework for Symbol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ersion Space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ID3 Decision Tree Inductio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ductive Bias and Learn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495680" y="1817640"/>
            <a:ext cx="44960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ledge and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.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419720"/>
            <a:ext cx="197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ole of negative examples in preventing overgenera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4856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fic to gerneral search of the version space learning the concep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5073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lgorithm specializes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generalizes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til they converge on the target concept. The algorithm is def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_x000e_pg365_unl1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371600"/>
            <a:ext cx="7658280" cy="4794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to specific search of the version space learning the concep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66680" y="1330200"/>
            <a:ext cx="7086600" cy="4956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andidate elimination algorithm learning the concept “red ba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41988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0 Converging boundaries of the G and S sets in the candid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elimination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62120" y="14302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1 A portion of LEX’s hierarchy of symb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67800" cy="5349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2 A version space for OP2, adapted from Mitchell et al. (198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29360" cy="4981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10.1 Data from credit history of loan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76520" y="971640"/>
            <a:ext cx="5790960" cy="4914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3 A decision tree for credit risk assess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03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model of the learn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066680" y="1379520"/>
            <a:ext cx="6858000" cy="4888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14 a simplified decision tree for credit risk assess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80960" y="1442880"/>
            <a:ext cx="8182080" cy="3972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457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duction algorithm begins with a sample of correctly classified members of the target categories. ID3 constructs a decision tree according to the algorith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_x000e_pg376_code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187280" y="1600200"/>
            <a:ext cx="7956720" cy="4402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5 A partially constructed decision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3276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6 Another partially constructed decision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7077240" cy="1933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6629400" cy="289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10.2 The evaluation of ID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29640" cy="293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7 Specific and generalized proof that an object, X, is a c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172200" cy="5479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8 An explanation structure of the cup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228680" y="1057320"/>
            <a:ext cx="6686640" cy="474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19 An analogical ma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0 The steps of a CLUSTER/2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62120" y="1382760"/>
            <a:ext cx="8153280" cy="47512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1 A COBWEB clustering for four one-celled organisms, adap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rom Gennari et al. (198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07200" cy="5224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_x000e_pg404_code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822320" y="914400"/>
            <a:ext cx="5205600" cy="5653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BWEB algorithm is defi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and near misses for the concept “arch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04800" y="947880"/>
            <a:ext cx="6134400" cy="49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2 Merging and splitting of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0160" cy="5000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45720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3 A sequence of tic-tac-toe moves. Dashed arrows indic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ossible move choices, down solid arrows indicate selec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oves, up solid arrows indicate reward, when rew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unction changes state’s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133440" cy="4786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4 Backup diagrams for (a) V* and (b) Q*, adapted from Sutt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arto (199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414440" y="2300400"/>
            <a:ext cx="6315120" cy="2257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5 A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762120" y="3048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10.26 An example of a 4 x 4 grid world, adapted form Sutton and Bar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199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19480" cy="1390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229360" cy="2124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ization of descriptions to include multiple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605640" cy="4368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eneralization of descriptions to include multiple example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19920" cy="39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alization of a description to exclude a near miss. In 10.4c w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constraints to 10.4a so that it can’t match with 10.4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448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0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ncept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21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pecific to general search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hypothesis set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_x000e_pg362_unl1.pct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219320"/>
            <a:ext cx="7937640" cy="450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762120" y="4572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lgorithm, negative instances lead to the specialization of candidate concepts; the algorithm uses positive instances to eliminate overly specialized conce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&#13;pg363_unl.pct                                                  00026B0B_x000c_Macintosh HD                   ABA78158:"/>
          <p:cNvPicPr/>
          <p:nvPr/>
        </p:nvPicPr>
        <p:blipFill>
          <a:blip r:embed="rId1"/>
          <a:stretch/>
        </p:blipFill>
        <p:spPr>
          <a:xfrm>
            <a:off x="988920" y="1676520"/>
            <a:ext cx="8155080" cy="4397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2:26:06Z</dcterms:created>
  <dc:creator>Pearson Shared Services</dc:creator>
  <dc:description/>
  <dc:language>en-US</dc:language>
  <cp:lastModifiedBy>George Luger</cp:lastModifiedBy>
  <dcterms:modified xsi:type="dcterms:W3CDTF">2008-05-20T08:00:50Z</dcterms:modified>
  <cp:revision>19</cp:revision>
  <dc:subject/>
  <dc:title>PowerPoint Presentation</dc:title>
</cp:coreProperties>
</file>