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E9D-E5A7-40E3-BF73-EDF0530B21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E8A-E69D-44B6-A80C-0A49B08DA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WEN: Insert chapt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A404-7B05-4E66-8430-A3D372D41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77E-0B4B-4E26-ABFA-A1813343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EE0-BC1A-45E8-8FDA-39F7933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CDE-B4D2-4E4C-B764-09E6C18A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E59-8CB9-4DDD-A9F4-F26D5EF4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F27-FCE9-4F9E-81F1-1C5B92F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02E-9899-4DD2-B4EF-6102A64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24C-53C0-40BA-8F02-19E9E9D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F8F-A165-4272-AEF1-5B9B83B6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BE7-959A-4A6D-83A1-952746E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77D-360D-4904-8A8D-E936FD5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8EC-2DBE-4798-9EE7-76B648F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98C-AD75-4FC8-BF16-815ABCE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CEB-73D0-4AD7-853F-D0FDEAB81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37A-7AF9-45FE-91A4-1A3E55229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0" y="4648320"/>
            <a:ext cx="6629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orge F L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RTIFICIAL INTELLIGENC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6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uctures and Strategies for Complex Problem Sol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133720" y="4648320"/>
            <a:ext cx="6781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133720" y="60199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05740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tificial Intellig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57400" y="838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s Roots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80880" y="1828800"/>
            <a:ext cx="396252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om Eden to ENIAC: Att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ward Intelligence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nowledge, and Human Arti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verview of AI Application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876920" y="182880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rtificial Intelligence – A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pilogue and 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5256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over.jpeg"/>
          <p:cNvPicPr/>
          <p:nvPr/>
        </p:nvPicPr>
        <p:blipFill>
          <a:blip r:embed="rId2"/>
          <a:stretch/>
        </p:blipFill>
        <p:spPr>
          <a:xfrm>
            <a:off x="0" y="41911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179-8D68-4D63-B823-424DC229C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557360" y="1714680"/>
            <a:ext cx="60292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5335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g 1.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uring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95E-BC0A-4670-BB7D-0A3E6A558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304920"/>
            <a:ext cx="609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Important Research and Application Ar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762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me Pl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ed Reasoning and Theorem P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ural Language Understanding and Semantic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ing Huma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ning and Robo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guages and Environments for 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ive Representations: Neural Nets and Gene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.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 and Philoso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0D0-6843-403B-8B1C-FDD30DD719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808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mportant Features of Artifici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80880" y="762120"/>
            <a:ext cx="8229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computers to do reasoning, pattern recognition, learning, or some other form of in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focus on problems that do not respond to algorithmic solutions. This underlies the reliance on heuristic search as an AI problem-solving techn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concern with problem-solving using inexact, missing, or poorly defined information and the use of representational formalisms that enable the programmer to compensate for these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soning about the significant qualitative features of a sit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 attempt to deal with issues of semantic meaning as well as syntactic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swers that are neither exact nor optimal, but are in some sense “sufficient”. This is a result of the essential reliance on heuristic problem-solving methods in situations where optimal or exact results are either too expensive or not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large amounts of domain-specific knowledge in solving problems. This is the basis of expert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use of meta-level knowledge to effect more sophisticated control of problem-solving strategies. Although this is a very difficult problem, addressed in relatively few current systems, it is emerging as an essential are of resear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200400" y="6583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ger: Artificial Intelligence, 6th edition. © Pearson Education Limited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7:17:57Z</dcterms:created>
  <dc:creator>Pearson Shared Services</dc:creator>
  <dc:description/>
  <dc:language>en-US</dc:language>
  <cp:lastModifiedBy>George Luger</cp:lastModifiedBy>
  <dcterms:modified xsi:type="dcterms:W3CDTF">2008-05-20T07:49:51Z</dcterms:modified>
  <cp:revision>21</cp:revision>
  <dc:subject/>
  <dc:title>PowerPoint Presentation</dc:title>
</cp:coreProperties>
</file>